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media/image24.png" ContentType="image/png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26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media/image30.png" ContentType="image/png"/>
  <Override PartName="/ppt/media/image9.wmf" ContentType="image/x-wmf"/>
  <Override PartName="/ppt/media/image27.png" ContentType="image/png"/>
  <Override PartName="/ppt/media/image12.wmf" ContentType="image/x-wmf"/>
  <Override PartName="/ppt/media/image31.png" ContentType="image/png"/>
  <Override PartName="/ppt/media/image14.wmf" ContentType="image/x-wmf"/>
  <Override PartName="/ppt/media/image29.png" ContentType="image/png"/>
  <Override PartName="/ppt/media/image33.png" ContentType="image/png"/>
  <Override PartName="/ppt/media/image16.wmf" ContentType="image/x-wmf"/>
  <Override PartName="/ppt/media/image34.png" ContentType="image/png"/>
  <Override PartName="/ppt/media/image36.png" ContentType="image/png"/>
  <Override PartName="/ppt/media/image37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5.wmf" ContentType="image/x-wmf"/>
  <Override PartName="/ppt/media/image35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8.png" ContentType="image/png"/>
  <Override PartName="/ppt/media/image7.jpeg" ContentType="image/jpeg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CE6C-8AF6-4C69-99A5-C824C499E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CDBD-055C-40EA-8EB7-5E3C713C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9205-3D3C-4AC4-8542-1430D036C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79EF-CBCC-4F3D-ADD8-A01D582CC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F7FE-1D9A-4E0D-BBE7-F77C7EA2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B77D-8D1E-4646-95EC-4D1C1B22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574B-DB52-4821-9412-8093D203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44A8-6B0A-42B0-98F4-7AD893E2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66E3-0157-4044-8C99-C2E48CBE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B754-1504-47F5-978F-7194E714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8849-D328-4336-B30C-1EC8E3C2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4D38-2B33-4637-BEB1-45CDC14C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0BCA-F71E-4A8E-8925-FAF3387A80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2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13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7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0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1.wmf"/><Relationship Id="rId7" Type="http://schemas.openxmlformats.org/officeDocument/2006/relationships/image" Target="../media/image22.png"/><Relationship Id="rId8" Type="http://schemas.openxmlformats.org/officeDocument/2006/relationships/package" Target="../embeddings/oleObject4.docx"/><Relationship Id="rId9" Type="http://schemas.openxmlformats.org/officeDocument/2006/relationships/image" Target="../media/image23.wmf"/><Relationship Id="rId10" Type="http://schemas.openxmlformats.org/officeDocument/2006/relationships/image" Target="../media/image24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9480" y="0"/>
          <a:ext cx="8047080" cy="172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0"/>
                    <a:ext cx="8047080" cy="17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95i_f" descr=""/>
          <p:cNvPicPr/>
          <p:nvPr/>
        </p:nvPicPr>
        <p:blipFill>
          <a:blip r:embed="rId3"/>
          <a:stretch/>
        </p:blipFill>
        <p:spPr>
          <a:xfrm>
            <a:off x="152280" y="1811160"/>
            <a:ext cx="4496040" cy="3883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4724280" y="1828800"/>
          <a:ext cx="4389480" cy="4479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4280" y="1828800"/>
                    <a:ext cx="4389480" cy="44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430800" y="15228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ВЫВОД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609480"/>
            <a:ext cx="8610480" cy="49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  Cтатистически значимые доминантные ориентации термических контрастов (ДОТК) связаны с основными мезомасштабными объектами на поверхности океана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хрями, течениями и струя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 Пространственно-временное осреднение – композиция -позволяет выделить наиболее устойчивые во времени ДОТК. (Около 20% ДОТК с высокой статистической значимостью теряют устойчивость в течении суток.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позиционные ДОТК,  рассматриваемые как аналоги векторов скоростей течений, позволяет в автоматическом режиме оценивать параметры вихревых структур поверхности океа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4464000" y="630360"/>
          <a:ext cx="4299120" cy="592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4000" y="630360"/>
                    <a:ext cx="4299120" cy="59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152280" y="457200"/>
          <a:ext cx="4334040" cy="6821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57200"/>
                    <a:ext cx="4334040" cy="682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0" y="0"/>
          <a:ext cx="9186840" cy="5745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8684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562720" y="604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cc"/>
                </a:solidFill>
                <a:uFillTx/>
                <a:latin typeface="Times New Roman"/>
              </a:rPr>
              <a:t>Основные свойства (ДОТК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53080" y="609480"/>
            <a:ext cx="25909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Сравнения с полем скоростей поверхностных течений показали, чт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ДОТК хорошо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коррелируют с направлениям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скоростей поверхностных течени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Тем выше скорости, тем выше коэффициенты корреляц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corr_l" descr=""/>
          <p:cNvPicPr/>
          <p:nvPr/>
        </p:nvPicPr>
        <p:blipFill>
          <a:blip r:embed="rId1"/>
          <a:stretch/>
        </p:blipFill>
        <p:spPr>
          <a:xfrm>
            <a:off x="0" y="609480"/>
            <a:ext cx="6629400" cy="5529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4724280" y="5211720"/>
          <a:ext cx="4008600" cy="1447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5211720"/>
                    <a:ext cx="40086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52280" y="152280"/>
          <a:ext cx="2438640" cy="240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243864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2590920" y="152280"/>
          <a:ext cx="2666880" cy="235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152280"/>
                    <a:ext cx="2666880" cy="23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152280" y="2971800"/>
          <a:ext cx="4648320" cy="3733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2971800"/>
                    <a:ext cx="464832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2743200" y="2514600"/>
          <a:ext cx="2835360" cy="4572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2514600"/>
                    <a:ext cx="2835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152280" y="2514600"/>
          <a:ext cx="2727360" cy="45720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280" y="2514600"/>
                    <a:ext cx="2727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5638680" y="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cc"/>
                </a:solidFill>
                <a:uFillTx/>
                <a:latin typeface="Times New Roman"/>
              </a:rPr>
              <a:t>Основные свойства (ДОТК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524560" y="380880"/>
          <a:ext cx="3619440" cy="624852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24560" y="380880"/>
                    <a:ext cx="361944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0" y="0"/>
          <a:ext cx="4711680" cy="57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71168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6167520" y="76320"/>
          <a:ext cx="2840040" cy="6553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67520" y="76320"/>
                    <a:ext cx="284004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76320" y="457200"/>
          <a:ext cx="6019560" cy="50943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320" y="457200"/>
                    <a:ext cx="6019560" cy="50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304920" y="5562720"/>
          <a:ext cx="5486400" cy="12189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5562720"/>
                    <a:ext cx="548640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019920" y="3657600"/>
          <a:ext cx="2741400" cy="282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3657600"/>
                    <a:ext cx="274140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52280" y="5715000"/>
          <a:ext cx="5197680" cy="898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5715000"/>
                    <a:ext cx="519768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0" y="304920"/>
          <a:ext cx="8869320" cy="8683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04920"/>
                    <a:ext cx="886932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UN_D_RUS" descr=""/>
          <p:cNvPicPr/>
          <p:nvPr/>
        </p:nvPicPr>
        <p:blipFill>
          <a:blip r:embed="rId7"/>
          <a:stretch/>
        </p:blipFill>
        <p:spPr>
          <a:xfrm>
            <a:off x="5486400" y="1143000"/>
            <a:ext cx="3657600" cy="274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0" y="0"/>
          <a:ext cx="6446880" cy="5493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0"/>
                    <a:ext cx="644688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" name="pd915_2006" descr=""/>
          <p:cNvPicPr/>
          <p:nvPr/>
        </p:nvPicPr>
        <p:blipFill>
          <a:blip r:embed="rId10"/>
          <a:stretch/>
        </p:blipFill>
        <p:spPr>
          <a:xfrm>
            <a:off x="0" y="1219320"/>
            <a:ext cx="579132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213009" descr=""/>
          <p:cNvPicPr/>
          <p:nvPr/>
        </p:nvPicPr>
        <p:blipFill>
          <a:blip r:embed="rId1"/>
          <a:stretch/>
        </p:blipFill>
        <p:spPr>
          <a:xfrm>
            <a:off x="1616040" y="380880"/>
            <a:ext cx="6080040" cy="5145120"/>
          </a:xfrm>
          <a:prstGeom prst="rect">
            <a:avLst/>
          </a:prstGeom>
          <a:ln w="0">
            <a:noFill/>
          </a:ln>
        </p:spPr>
      </p:pic>
      <p:pic>
        <p:nvPicPr>
          <p:cNvPr id="89" name="0921p_ct" descr=""/>
          <p:cNvPicPr/>
          <p:nvPr/>
        </p:nvPicPr>
        <p:blipFill>
          <a:blip r:embed="rId2"/>
          <a:stretch/>
        </p:blipFill>
        <p:spPr>
          <a:xfrm>
            <a:off x="0" y="0"/>
            <a:ext cx="2057400" cy="1743120"/>
          </a:xfrm>
          <a:prstGeom prst="rect">
            <a:avLst/>
          </a:prstGeom>
          <a:ln w="0">
            <a:noFill/>
          </a:ln>
        </p:spPr>
      </p:pic>
      <p:pic>
        <p:nvPicPr>
          <p:cNvPr id="90" name="0922p_ct" descr=""/>
          <p:cNvPicPr/>
          <p:nvPr/>
        </p:nvPicPr>
        <p:blipFill>
          <a:blip r:embed="rId3"/>
          <a:stretch/>
        </p:blipFill>
        <p:spPr>
          <a:xfrm>
            <a:off x="0" y="1752480"/>
            <a:ext cx="2057400" cy="1741680"/>
          </a:xfrm>
          <a:prstGeom prst="rect">
            <a:avLst/>
          </a:prstGeom>
          <a:ln w="0">
            <a:noFill/>
          </a:ln>
        </p:spPr>
      </p:pic>
      <p:pic>
        <p:nvPicPr>
          <p:cNvPr id="91" name="0923cpct" descr=""/>
          <p:cNvPicPr/>
          <p:nvPr/>
        </p:nvPicPr>
        <p:blipFill>
          <a:blip r:embed="rId4"/>
          <a:stretch/>
        </p:blipFill>
        <p:spPr>
          <a:xfrm>
            <a:off x="0" y="3352680"/>
            <a:ext cx="1981080" cy="1675080"/>
          </a:xfrm>
          <a:prstGeom prst="rect">
            <a:avLst/>
          </a:prstGeom>
          <a:ln w="0">
            <a:noFill/>
          </a:ln>
        </p:spPr>
      </p:pic>
      <p:pic>
        <p:nvPicPr>
          <p:cNvPr id="92" name="0924bpct" descr=""/>
          <p:cNvPicPr/>
          <p:nvPr/>
        </p:nvPicPr>
        <p:blipFill>
          <a:blip r:embed="rId5"/>
          <a:stretch/>
        </p:blipFill>
        <p:spPr>
          <a:xfrm>
            <a:off x="0" y="5029200"/>
            <a:ext cx="2057400" cy="1743120"/>
          </a:xfrm>
          <a:prstGeom prst="rect">
            <a:avLst/>
          </a:prstGeom>
          <a:ln w="0">
            <a:noFill/>
          </a:ln>
        </p:spPr>
      </p:pic>
      <p:pic>
        <p:nvPicPr>
          <p:cNvPr id="93" name="0926p_ct" descr=""/>
          <p:cNvPicPr/>
          <p:nvPr/>
        </p:nvPicPr>
        <p:blipFill>
          <a:blip r:embed="rId6"/>
          <a:stretch/>
        </p:blipFill>
        <p:spPr>
          <a:xfrm>
            <a:off x="2133720" y="5051520"/>
            <a:ext cx="2133360" cy="1806480"/>
          </a:xfrm>
          <a:prstGeom prst="rect">
            <a:avLst/>
          </a:prstGeom>
          <a:ln w="0">
            <a:noFill/>
          </a:ln>
        </p:spPr>
      </p:pic>
      <p:pic>
        <p:nvPicPr>
          <p:cNvPr id="94" name="0927p_ct" descr=""/>
          <p:cNvPicPr/>
          <p:nvPr/>
        </p:nvPicPr>
        <p:blipFill>
          <a:blip r:embed="rId7"/>
          <a:stretch/>
        </p:blipFill>
        <p:spPr>
          <a:xfrm>
            <a:off x="4419720" y="5029200"/>
            <a:ext cx="2133360" cy="1808280"/>
          </a:xfrm>
          <a:prstGeom prst="rect">
            <a:avLst/>
          </a:prstGeom>
          <a:ln w="0">
            <a:noFill/>
          </a:ln>
        </p:spPr>
      </p:pic>
      <p:pic>
        <p:nvPicPr>
          <p:cNvPr id="95" name="0929bpct" descr=""/>
          <p:cNvPicPr/>
          <p:nvPr/>
        </p:nvPicPr>
        <p:blipFill>
          <a:blip r:embed="rId8"/>
          <a:stretch/>
        </p:blipFill>
        <p:spPr>
          <a:xfrm>
            <a:off x="7162920" y="3657600"/>
            <a:ext cx="1981080" cy="1676520"/>
          </a:xfrm>
          <a:prstGeom prst="rect">
            <a:avLst/>
          </a:prstGeom>
          <a:ln w="0">
            <a:noFill/>
          </a:ln>
        </p:spPr>
      </p:pic>
      <p:pic>
        <p:nvPicPr>
          <p:cNvPr id="96" name="0930p_ct" descr=""/>
          <p:cNvPicPr/>
          <p:nvPr/>
        </p:nvPicPr>
        <p:blipFill>
          <a:blip r:embed="rId9"/>
          <a:stretch/>
        </p:blipFill>
        <p:spPr>
          <a:xfrm>
            <a:off x="7162920" y="1981080"/>
            <a:ext cx="1981080" cy="1676520"/>
          </a:xfrm>
          <a:prstGeom prst="rect">
            <a:avLst/>
          </a:prstGeom>
          <a:ln w="0">
            <a:noFill/>
          </a:ln>
        </p:spPr>
      </p:pic>
      <p:pic>
        <p:nvPicPr>
          <p:cNvPr id="97" name="0928p_ct" descr=""/>
          <p:cNvPicPr/>
          <p:nvPr/>
        </p:nvPicPr>
        <p:blipFill>
          <a:blip r:embed="rId10"/>
          <a:stretch/>
        </p:blipFill>
        <p:spPr>
          <a:xfrm>
            <a:off x="6629400" y="5040360"/>
            <a:ext cx="2057400" cy="17413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209680" y="0"/>
            <a:ext cx="488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Композиция ДОТК за 21-30.09.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(позволяет восстановить циркуляцию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на всей поверхности акватории за 10 дне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152280"/>
            <a:ext cx="19810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равнения приведены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дельные изображения с21 по 30 сентября 2003 г.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спользованные для построения композици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52280" y="152280"/>
          <a:ext cx="8809200" cy="56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80920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28600" y="609480"/>
            <a:ext cx="8534520" cy="64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1. Определение центров вихр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).Для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(x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для каждого из K секторов вычисляетс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min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|Dj-DMj||,   J: ||X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X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|&lt;R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D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ДОТК в точке X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DM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оценка линейной модели D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DM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 D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+D'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 arctg(x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b). Критерий отбор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&lt; 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D'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gt; 0 for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Оценка параметров формы вихр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диус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={[(x-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(y-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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 [-(x-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(y-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}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0.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,   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араметры вихря G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{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R,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}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– центр вихр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 – масштаб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ксцентрисите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угол отностительно большей ос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оцедура оценки параметро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mi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|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|,   где 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нормальная составляющая ДОТ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   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9920" y="76320"/>
            <a:ext cx="44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Результаты работы алгорит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f2_44003" descr=""/>
          <p:cNvPicPr/>
          <p:nvPr/>
        </p:nvPicPr>
        <p:blipFill>
          <a:blip r:embed="rId1"/>
          <a:stretch/>
        </p:blipFill>
        <p:spPr>
          <a:xfrm>
            <a:off x="4686480" y="838080"/>
            <a:ext cx="4457520" cy="3911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28600" y="5105520"/>
            <a:ext cx="417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корости поверхностных течен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 10.10.95, полученные метод морских маркер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98280" y="5029200"/>
            <a:ext cx="4187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елые квадратик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потенциальные центры вихр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нешние эллипсы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границы вихрей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елые 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ценка в первом приближени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ерные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ценка с оптимизаци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vel_str95" descr=""/>
          <p:cNvPicPr/>
          <p:nvPr/>
        </p:nvPicPr>
        <p:blipFill>
          <a:blip r:embed="rId2"/>
          <a:stretch/>
        </p:blipFill>
        <p:spPr>
          <a:xfrm>
            <a:off x="76320" y="914400"/>
            <a:ext cx="449568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7:43:30Z</dcterms:created>
  <dc:creator>Aleksanina</dc:creator>
  <dc:description/>
  <dc:language>en-US</dc:language>
  <cp:lastModifiedBy>Aleksanina</cp:lastModifiedBy>
  <cp:lastPrinted>2003-11-06T03:07:27Z</cp:lastPrinted>
  <dcterms:modified xsi:type="dcterms:W3CDTF">2003-11-06T05:52:03Z</dcterms:modified>
  <cp:revision>48</cp:revision>
  <dc:subject/>
  <dc:title>Заголовок слайда отсутствует</dc:title>
</cp:coreProperties>
</file>