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54B-E411-43DB-95E6-1CE9D05D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2BD-C7BE-46D2-834D-3095862B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659-3A02-4AAE-A246-2ACE8D08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BAE-25BB-4DE5-8643-9C6847C8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CFB-74D1-40FA-B17C-E69067CE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A6E-19DD-4C1D-95AF-9EA33F34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A08-50F3-4BE9-95C9-90F4AED1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786-84EC-4C0C-964F-AB070760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08B-3F3C-4F37-92C0-43DA89DE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8CE-A84C-48A5-AF78-02ADD4E5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3A7-2757-4E0B-B1CC-B4270C9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53B-BB6B-4898-AFE0-D93C0EED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73A4-54A9-43D0-A489-BF79CDDE9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920" y="539640"/>
            <a:ext cx="8989920" cy="57024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зультаты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 регионального космомониторинга атмосферного аэрозоля по данным NOAA/AVHR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елов В.В., Афонин С.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Институт оптики атмосферы СО Р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634055,Томск, пр.Академический,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Тел.:(8-3822)259237, e-mail:belov@iao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(грант РФФИ № 01-05-6549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870" t="4419" r="3870" b="4419"/>
          <a:stretch/>
        </p:blipFill>
        <p:spPr>
          <a:xfrm>
            <a:off x="539640" y="-108000"/>
            <a:ext cx="8277480" cy="7162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69200" y="0"/>
            <a:ext cx="2673360" cy="1373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Среднее, СК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10.91,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3.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3.43,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4.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8920" y="179280"/>
            <a:ext cx="848196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827424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898560"/>
            <a:ext cx="9144000" cy="4786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Этап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ведение статистического анализа временных рядов спутниковых снимков и получение сезонных карт альбед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A(x,y)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дстилающей поверхности в заданном регион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7270751-1" descr=""/>
          <p:cNvPicPr/>
          <p:nvPr/>
        </p:nvPicPr>
        <p:blipFill>
          <a:blip r:embed="rId1"/>
          <a:stretch/>
        </p:blipFill>
        <p:spPr>
          <a:xfrm>
            <a:off x="539640" y="125280"/>
            <a:ext cx="819792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66680"/>
            <a:ext cx="9144000" cy="39650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Этап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ение аппроксимаци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er = f(J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E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ля восстановления по спутниковым снимкам пространственного распределения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aer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заданном регион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7270751-3" descr=""/>
          <p:cNvPicPr/>
          <p:nvPr/>
        </p:nvPicPr>
        <p:blipFill>
          <a:blip r:embed="rId1"/>
          <a:stretch/>
        </p:blipFill>
        <p:spPr>
          <a:xfrm>
            <a:off x="539640" y="125280"/>
            <a:ext cx="81946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7300857-3" descr=""/>
          <p:cNvPicPr/>
          <p:nvPr/>
        </p:nvPicPr>
        <p:blipFill>
          <a:blip r:embed="rId1"/>
          <a:stretch/>
        </p:blipFill>
        <p:spPr>
          <a:xfrm>
            <a:off x="539640" y="125280"/>
            <a:ext cx="81946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1280" y="358920"/>
            <a:ext cx="9036360" cy="5823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Этап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атистический анализ карт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aer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временная изменчивость (по дням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статистические характеристики (для каждого месяца и за весь сезон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частотные распределения и зависимость их типа от оптических ситуаци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остранственные распределения частоты возникновения полупрозрачных оптических ситуаций в регио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812" t="6396" r="3812" b="6396"/>
          <a:stretch/>
        </p:blipFill>
        <p:spPr>
          <a:xfrm>
            <a:off x="539640" y="0"/>
            <a:ext cx="7853400" cy="618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50920" y="6116760"/>
            <a:ext cx="7315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ременные (по дням) вариации значений А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3760" y="1028880"/>
            <a:ext cx="8475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-  раннее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 + F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&gt;  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A 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обнару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лесных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1 лаб.)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пож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xel : (S + F)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003 г.: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(3 ла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ВОЙСТВА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мосф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МЕРИТЕЛИ,    базы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191120" y="1752120"/>
            <a:ext cx="2209680" cy="1676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3733920"/>
            <a:ext cx="2133360" cy="129528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209680" y="21333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50800" y="1397160"/>
            <a:ext cx="6242400" cy="4063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40" y="1798560"/>
            <a:ext cx="9220320" cy="2581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80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Статистические данные о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лупрозрачных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оптических ситуациях в атмосфер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(АОТ&lt;1,0 в канале 0,63 мкм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8560" y="421020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вая строка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– средние значения и СКО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аэрозольной оптической толщи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торая строка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– частота возникновения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олупрозрачных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оптических ситуаций при проведении спутниковых измер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4673" t="4854" r="4673" b="4854"/>
          <a:stretch/>
        </p:blipFill>
        <p:spPr>
          <a:xfrm>
            <a:off x="1295280" y="0"/>
            <a:ext cx="6456600" cy="6191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6116760"/>
            <a:ext cx="815328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Частотное распределение АОТ в Томском реги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6598" r="0" b="6598"/>
          <a:stretch/>
        </p:blipFill>
        <p:spPr>
          <a:xfrm>
            <a:off x="250920" y="0"/>
            <a:ext cx="8788320" cy="613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6045120"/>
            <a:ext cx="838188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Трансформация частотного распределения А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и прохождении дымового шлейф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990720" y="0"/>
          <a:ext cx="7621560" cy="57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7621560" cy="57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5684760"/>
            <a:ext cx="838188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Пространственное распределение частоты (%) возникновения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полупрозрачных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00"/>
                </a:solidFill>
                <a:latin typeface="Arial"/>
              </a:rPr>
              <a:t>оптических </a:t>
            </a:r>
            <a:r>
              <a:rPr b="1" lang="ru-RU" sz="2200" spc="-1" strike="noStrike">
                <a:solidFill>
                  <a:srgbClr val="990000"/>
                </a:solidFill>
                <a:latin typeface="Arial"/>
              </a:rPr>
              <a:t>ситуаций  в Томском регион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211720" cy="383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1440" y="5486400"/>
            <a:ext cx="88660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280"/>
            <a:ext cx="9144000" cy="66135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Решаемые 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проведение исследован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егиональных свойств атмосферного аэрозоля и дымов, развитие спутниковых методов мониторинга аэрозоля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статистический анализ региональных данных об оптических условиях спутниковых наблюдений поверхности и лесных пожаров из космоса; основная цель решения второй задач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повышение качеств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ниторинга земной поверхности из космоса за счет оперативной атмосферной коррекции спутниковых измерени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0"/>
            <a:ext cx="8763120" cy="71524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изводятся спутниковые измерения интенсивности восходящего излуч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SAT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) = 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SCT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) + 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RFL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ag,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A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RFL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A,x,y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) 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)×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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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) =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RFL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ag,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A=1)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SCT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RF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интенсивности потоков рассеянного атмосферой и отраженного ПП солнечного излучения,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x,y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альбедо ПП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{ag}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совокупность характеристик оптико- геометрических условий космомониторин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бходимо восстановить пространственное поле аэрозольной характеристики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9280"/>
            <a:ext cx="9144000" cy="49712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Этап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учение аппроксим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er = f(J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E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на основе результатов сравнительного анализа наземных измерений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и данных об “аэрозольной составляющей”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утниковых измерени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719280"/>
            <a:ext cx="8915400" cy="5409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0000"/>
                </a:solidFill>
                <a:uFillTx/>
                <a:latin typeface="Times New Roman"/>
              </a:rPr>
              <a:t>Определение аэрозольной составляюще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AER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утниковых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рений AVHRR на основе "молекулярных" LUT проводится с использованием соотноше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AER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)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= 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SAT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)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– 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SCT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mol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– A(x,y,Θ,H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Courier New"/>
              </a:rPr>
              <a:t>S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)×J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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x,y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mol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A(x,y,Θ,H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)=A(x,y)×g(Θ,H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- угол сканирования 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угловая высота Солн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80" y="0"/>
            <a:ext cx="899172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Коэффициенты корреляц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ER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между наземными измерениями аэрозольных характерист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и спутниковыми данным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AT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ER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4440" cy="4063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0000" y="1222200"/>
            <a:ext cx="8686800" cy="56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4721" r="0" b="4721"/>
          <a:stretch/>
        </p:blipFill>
        <p:spPr>
          <a:xfrm>
            <a:off x="719280" y="0"/>
            <a:ext cx="806112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9280"/>
            <a:ext cx="9144000" cy="4878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</a:rPr>
              <a:t>Этап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счет таблиц (Look-Up-Table, LUT)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начений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ru-RU" sz="4400" spc="-1" strike="noStrike" baseline="-25000">
                <a:solidFill>
                  <a:srgbClr val="ff0000"/>
                </a:solidFill>
                <a:latin typeface="Times New Roman"/>
              </a:rPr>
              <a:t>SCT</a:t>
            </a: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1" lang="ru-RU" sz="4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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на основе данных о метеопараметрах атмосферы и геометрии наблюдений в момент проведения спутниковых измерени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09:28:05Z</dcterms:created>
  <dc:creator>user</dc:creator>
  <dc:description/>
  <dc:language>en-US</dc:language>
  <cp:lastModifiedBy>Белов В.В.</cp:lastModifiedBy>
  <dcterms:modified xsi:type="dcterms:W3CDTF">2003-11-06T05:48:34Z</dcterms:modified>
  <cp:revision>97</cp:revision>
  <dc:subject/>
  <dc:title>Заголовок слайда отсутствует</dc:title>
</cp:coreProperties>
</file>