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A5F-FE1F-40E0-AA40-58B5C126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28B-7882-4B3B-A246-B4DC9F6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68B-3C77-419D-965A-0785C673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9A1-5E75-4541-8E84-0409742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F32-61DF-49C4-BD09-57D0F823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268-1794-492E-B70A-457F8072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7FC-E0FC-47BF-9F08-B074335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F4B-4787-4097-B76E-E0D409A4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717-5B67-4C48-8B52-8E28098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670-E640-4383-B98F-6EA4B640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C34-EF0D-4BE1-9368-FC52EDC4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407-4CCF-40F8-AE6F-5DA2650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FC28-48D8-4E99-A8EE-DF605788A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baavp@ooi.sscc.ru" TargetMode="External"/><Relationship Id="rId2" Type="http://schemas.openxmlformats.org/officeDocument/2006/relationships/hyperlink" Target="mailto:pbaavp@ooi.sscc.ru" TargetMode="External"/><Relationship Id="rId3" Type="http://schemas.openxmlformats.org/officeDocument/2006/relationships/hyperlink" Target="mailto:pbaavp@ooi.sscc.ru" TargetMode="External"/><Relationship Id="rId4" Type="http://schemas.openxmlformats.org/officeDocument/2006/relationships/hyperlink" Target="mailto:pbaavp@ooi.sscc.ru" TargetMode="External"/><Relationship Id="rId5" Type="http://schemas.openxmlformats.org/officeDocument/2006/relationships/hyperlink" Target="mailto:pbaavp@ooi.sscc.ru" TargetMode="External"/><Relationship Id="rId6" Type="http://schemas.openxmlformats.org/officeDocument/2006/relationships/hyperlink" Target="mailto:pbaavp@ooi.sscc.ru" TargetMode="External"/><Relationship Id="rId7" Type="http://schemas.openxmlformats.org/officeDocument/2006/relationships/hyperlink" Target="mailto:pbaavp@ooi.sscc.ru" TargetMode="External"/><Relationship Id="rId8" Type="http://schemas.openxmlformats.org/officeDocument/2006/relationships/hyperlink" Target="mailto:pbaavp@ooi.sscc.ru" TargetMode="External"/><Relationship Id="rId9" Type="http://schemas.openxmlformats.org/officeDocument/2006/relationships/hyperlink" Target="mailto:pbaavp@ooi.sscc.ru" TargetMode="External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КОТОРЫЕ ВОПРОСЫ ПАРАЛЛЕЛЬНОЙ ОБРАБОТКИ ГИПЕРСПЕКТРАЛЬНЫХ АЭРОКОСМИЧЕСКИХ ИЗОБРАЖЕНИЙ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.А. Бучнев, В.П. Пяткин</a:t>
            </a:r>
            <a:br>
              <a:rPr sz="36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ail: 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baa 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@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ooi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5"/>
              </a:rPr>
              <a:t>sscc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ru</a:t>
            </a:r>
            <a:r>
              <a:rPr b="0" i="1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8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9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@ooi.sscc.ru,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ebsit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loi.sscc.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атистики  Манна-Уит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GE2_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033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ходное изображение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утник РЕСУРС-0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U-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ер витка : 493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: 6 октября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4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ное изобра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AKAD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308640" cy="5121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714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обнаружения линейных структу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kad_1" descr="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5505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05280" y="6324120"/>
            <a:ext cx="815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 линейных структур по направления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kad_3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400800" cy="5497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ртографическое отображение аэрокосмических изображ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ва метода картографического отобра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Триангуляция (Делоне или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“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жадная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”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олиномиальные отоб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4008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ображение ледовой обстано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615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5715000"/>
            <a:ext cx="823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терогенная вычислительная се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ris2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502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ункциональная    специализац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сетевых  компоне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минальная рабочая стан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еспечивающая взаимодействие с пользователями, реализуется на ЭВМ ти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 управлением О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ndows 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еспечивающий равномерную загрузку компонент комплекса, реализуется на ЭВМ тип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P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правлением О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eeBS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числитель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еспечивающий выполнение наиболее длительных операций, реализуется на многопроцессорной ЭВ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M6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управлением О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изводительность компоненты «Вычислитель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компьюте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ntium-4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частота 2.4 Ггц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ешения  задачи выделения  ЛЭ на фрагменте исходного снимка 1200х800 пикселов требуется 4.2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процесс   – 162 с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процесса  –  81,16 с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процесса  –  40,86 с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процессов -  21,13 с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процессов -  28,43 с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Times New Roman"/>
              </a:rPr>
              <a:t>Некоторые задачи аэрокосмического мониторинг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Об алгоритмах обнаружения объектов заданной формы на аэрокосмических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изображениях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Функциональные возможности программного обеспечения по отображению аэрокосмических изображений на кар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ализация параллельных версий некоторых алгоритмов обработки аэрокосмических изображений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ЗАДАЧИ ДИСТАНЦИОННОГО ЗОНДИРОВАНИЯ ЗЕМЛ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Геологический  анали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ерритории на перспективность поиска полезных ископаем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Изучение и картиров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йсмоопасных регио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Выделе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актных  кратеров на поверхности Зем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Times New Roman"/>
              </a:rPr>
              <a:t>Анали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намики пространственной структуры ль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akutsk" descr=""/>
          <p:cNvPicPr/>
          <p:nvPr/>
        </p:nvPicPr>
        <p:blipFill>
          <a:blip r:embed="rId1"/>
          <a:stretch/>
        </p:blipFill>
        <p:spPr>
          <a:xfrm>
            <a:off x="1447920" y="0"/>
            <a:ext cx="55674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38080" y="6019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оны разрывных нарушений трёх ти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pitak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45360" cy="430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6200" y="4952880"/>
            <a:ext cx="44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ъюнктивные зоны райо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такского землетряс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4400" y="601992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актные структуры 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mpkrat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ineam1" descr=""/>
          <p:cNvPicPr/>
          <p:nvPr/>
        </p:nvPicPr>
        <p:blipFill>
          <a:blip r:embed="rId1"/>
          <a:stretch/>
        </p:blipFill>
        <p:spPr>
          <a:xfrm>
            <a:off x="6480" y="6480"/>
            <a:ext cx="913104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ig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295280" y="1143000"/>
            <a:ext cx="7848720" cy="460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75760" y="5562720"/>
            <a:ext cx="49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хема обнаружения объ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вместное обнаружение противолежащих контуров объекта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IS3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848720" cy="3504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3:08:37Z</dcterms:created>
  <dc:creator>Alex</dc:creator>
  <dc:description/>
  <dc:language>en-US</dc:language>
  <cp:lastModifiedBy>Alex</cp:lastModifiedBy>
  <dcterms:modified xsi:type="dcterms:W3CDTF">2003-11-05T13:24:21Z</dcterms:modified>
  <cp:revision>3</cp:revision>
  <dc:subject/>
  <dc:title>НЕКОТОРЫЕ ВОПРОСЫ ПАРАЛЛЕЛЬНОЙ ОБРАБОТКИ ГИПЕРСПЕКТРАЛЬНЫХ АЭРОКОСМИЧЕСКИХ ИЗОБРАЖЕНИЙ    А.А. Бучнев, В.П. Пяткин email: baa @ooi.sscc.ru , pvp@ooi.sscc.ru, website: http://loi.sscc.ru </dc:title>
</cp:coreProperties>
</file>