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4.wmf" ContentType="image/x-wmf"/>
  <Override PartName="/ppt/media/image1.jpeg" ContentType="image/jpeg"/>
  <Override PartName="/ppt/media/image2.jpeg" ContentType="image/jpeg"/>
  <Override PartName="/ppt/media/image15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13.wmf" ContentType="image/x-wmf"/>
  <Override PartName="/ppt/media/image27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35.png" ContentType="image/png"/>
  <Override PartName="/ppt/media/image20.wmf" ContentType="image/x-wmf"/>
  <Override PartName="/ppt/media/image36.png" ContentType="image/png"/>
  <Override PartName="/ppt/media/image37.png" ContentType="image/png"/>
  <Override PartName="/ppt/media/image39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30.png" ContentType="image/png"/>
  <Override PartName="/ppt/media/image3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6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BA3-D870-4350-B628-99019BF2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44A3-639F-4B02-A686-E84EB6E8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398-65A8-4308-B311-029CD607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CA8-67CA-411D-9629-E94A4692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48A-D1F8-4CD9-9F79-6238F4B8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B50-9095-4AA6-B5B7-2CD62810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ADE-8EA3-4851-8F2E-F5C00C90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03B-5A4C-4AC5-8021-34BA72A2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FBF-4A2D-48D2-9B93-263BD12C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663-FBF2-4FE0-902F-CBF3C00D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2E7-4BA3-4E5D-B895-FCE92F01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F06-8D3D-458D-8E1E-E18378CD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21F1-DA9A-40C7-B7C3-38730A667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package" Target="../embeddings/oleObject5.docx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методам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Ч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диолокации и радиотеплолокации утечек газа из подводных трубопроводов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.Г. Булатов, Ю.А. Кравцов, М.Д. Раев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.Г. Пунгин, К.Д. Сабинин, Е.И. Скворц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1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977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Москва, Профсоюзная 84/32, ИКИ Р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л. 333-35-33, Fax 333-10-56, E-mai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latov@iki.rssi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Радиометрические измерени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H=1.7 </a:t>
            </a:r>
            <a:r>
              <a:rPr b="0" lang="ru-RU" sz="3200" spc="-1" strike="noStrike">
                <a:solidFill>
                  <a:srgbClr val="808000"/>
                </a:solidFill>
                <a:latin typeface="Times New Roman"/>
              </a:rPr>
              <a:t>м</a:t>
            </a:r>
            <a:br>
              <a:rPr sz="3200"/>
            </a:br>
            <a:r>
              <a:rPr b="0" lang="ru-RU" sz="3200" spc="-1" strike="noStrike">
                <a:solidFill>
                  <a:srgbClr val="808000"/>
                </a:solidFill>
                <a:latin typeface="Times New Roman"/>
              </a:rPr>
              <a:t>0.8 см                           1.5 см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1828800"/>
          <a:ext cx="401472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01472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00600" y="1752480"/>
          <a:ext cx="4138560" cy="420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752480"/>
                    <a:ext cx="413856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H=9 </a:t>
            </a:r>
            <a:r>
              <a:rPr b="0" lang="ru-RU" sz="3200" spc="-1" strike="noStrike">
                <a:solidFill>
                  <a:srgbClr val="808000"/>
                </a:solidFill>
                <a:latin typeface="Times New Roman"/>
              </a:rPr>
              <a:t>м</a:t>
            </a:r>
            <a:br>
              <a:rPr sz="3200"/>
            </a:br>
            <a:r>
              <a:rPr b="0" lang="ru-RU" sz="3200" spc="-1" strike="noStrike">
                <a:solidFill>
                  <a:srgbClr val="808000"/>
                </a:solidFill>
                <a:latin typeface="Times New Roman"/>
              </a:rPr>
              <a:t>0.8 см                              1.5 см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1752480"/>
          <a:ext cx="404640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40464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800600" y="1828800"/>
          <a:ext cx="4008600" cy="41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828800"/>
                    <a:ext cx="400860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каттерометрические измерени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Зависимость коэффициента обратного рассеяния от поток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и количества всплывающих пузырей</a:t>
            </a:r>
            <a:br>
              <a:rPr sz="3200"/>
            </a:b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2209680"/>
          <a:ext cx="416088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09680"/>
                    <a:ext cx="416088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572000" y="2209680"/>
          <a:ext cx="4221000" cy="398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422100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00"/>
                </a:solidFill>
                <a:latin typeface="Times New Roman"/>
              </a:rPr>
              <a:t>Допплеровские спектры, полученные при двух значениях расход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 - 4.1д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2 - 10,2 д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2438280"/>
          <a:ext cx="4228920" cy="427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4228920" cy="42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800600" y="2438280"/>
          <a:ext cx="4132440" cy="417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438280"/>
                    <a:ext cx="413244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93640" y="168120"/>
          <a:ext cx="9247320" cy="648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68120"/>
                    <a:ext cx="9247320" cy="648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Результаты апрксимации формы спектров </a:t>
            </a:r>
            <a:br>
              <a:rPr sz="2800"/>
            </a:b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двумя функциями Лоренца и одной функцией Гаусса</a:t>
            </a: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1447920"/>
          <a:ext cx="421812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421812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724280" y="1447920"/>
          <a:ext cx="4218120" cy="426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447920"/>
                    <a:ext cx="421812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52480" y="5867280"/>
          <a:ext cx="6083280" cy="4054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5867280"/>
                    <a:ext cx="608328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2520" y="736560"/>
          <a:ext cx="8226360" cy="57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736560"/>
                    <a:ext cx="822636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Радиолокационные измерени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Bookman Old Style"/>
              </a:rPr>
              <a:t>Цели работ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получение новых экспериментальных данных о физических и статистических характеристиках морской поверхности, возмущаемой потоком газовых пузыр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разработка на основе этих данных электрогидродинамической модели рассеяния и излучения  волн в СВЧ диапазон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разработка методики микроволнового зондирования, позволяющей методами активной и пассивной радиолокации выделять на фоне взволнованной морской поверхности области возмущения, вызванные выходом пото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33-1" descr=""/>
          <p:cNvPicPr/>
          <p:nvPr/>
        </p:nvPicPr>
        <p:blipFill>
          <a:blip r:embed="rId1"/>
          <a:stretch/>
        </p:blipFill>
        <p:spPr>
          <a:xfrm>
            <a:off x="179280" y="2517840"/>
            <a:ext cx="4318200" cy="24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0160" y="518148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др 33, мах= 13,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94-1" descr=""/>
          <p:cNvPicPr/>
          <p:nvPr/>
        </p:nvPicPr>
        <p:blipFill>
          <a:blip r:embed="rId2"/>
          <a:stretch/>
        </p:blipFill>
        <p:spPr>
          <a:xfrm>
            <a:off x="4678200" y="2517840"/>
            <a:ext cx="4318200" cy="2489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0960" y="51814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др 194, мах = 4,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720" y="179856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ртикальная поляр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5040" y="1798560"/>
            <a:ext cx="39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ризонтальная поляр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76680" y="101592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Расход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69-1" descr=""/>
          <p:cNvPicPr/>
          <p:nvPr/>
        </p:nvPicPr>
        <p:blipFill>
          <a:blip r:embed="rId1"/>
          <a:stretch/>
        </p:blipFill>
        <p:spPr>
          <a:xfrm>
            <a:off x="179280" y="2517840"/>
            <a:ext cx="4318200" cy="2489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368360" y="51814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др 69, мах = 15,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232-1" descr=""/>
          <p:cNvPicPr/>
          <p:nvPr/>
        </p:nvPicPr>
        <p:blipFill>
          <a:blip r:embed="rId2"/>
          <a:stretch/>
        </p:blipFill>
        <p:spPr>
          <a:xfrm>
            <a:off x="4678200" y="2517840"/>
            <a:ext cx="4318200" cy="2489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790960" y="51814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др 232, мах = 6,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47720" y="106668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Расход 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0720" y="179856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ртикальная поляр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1440" y="1798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9080" y="1828800"/>
            <a:ext cx="39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изонтальная поляр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диолокационные изображения поверхностных возмущений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здаваемых выходом газ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5" name="Пузыри-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960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ВЫВОДЫ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езультаты исследования показывают, что микроволновые методы могут быть эффективно использованы для определения подводных потоков газовых пузыр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олученные данные позволяют установить связь радиояркостных контрастов и мощности обратного рассеяния с расходом газа и статистическими параметрами ансамбля газовых пузыр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Установлено, что на поверхности, возмущенноц потоком газа, существуют два типа рассеивателей злектромагнитных волн. Эта особенность спектра рассеянного сигнала можетбыть использована для идентификации области выхода газа на фоне взволнованной морской поверх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93600" y="5565600"/>
          <a:ext cx="7440840" cy="129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565600"/>
                    <a:ext cx="744084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er-1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73880" cy="5727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8360" y="228600"/>
            <a:ext cx="75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Комплекс радиометрической и радиолокационной аппара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catterometr-2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35448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Radiometer" descr=""/>
          <p:cNvPicPr/>
          <p:nvPr/>
        </p:nvPicPr>
        <p:blipFill>
          <a:blip r:embed="rId2"/>
          <a:stretch/>
        </p:blipFill>
        <p:spPr>
          <a:xfrm>
            <a:off x="5410080" y="609480"/>
            <a:ext cx="29624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Radar-2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40784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-1523880" y="1143000"/>
          <a:ext cx="12092040" cy="726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3880" y="1143000"/>
                    <a:ext cx="12092040" cy="726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хема эксперимент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3" name="Scheme" descr=""/>
          <p:cNvPicPr/>
          <p:nvPr/>
        </p:nvPicPr>
        <p:blipFill>
          <a:blip r:embed="rId1"/>
          <a:stretch/>
        </p:blipFill>
        <p:spPr>
          <a:xfrm>
            <a:off x="1085760" y="1081080"/>
            <a:ext cx="6972480" cy="469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7200" y="5791320"/>
          <a:ext cx="8423280" cy="70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84232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Подводный 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Спектры морского</a:t>
            </a:r>
            <a:br>
              <a:rPr sz="2800"/>
            </a:b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 газовый факел 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        волнения 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фо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возмущенная поверхность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191120" y="1905120"/>
          <a:ext cx="4495680" cy="43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905120"/>
                    <a:ext cx="4495680" cy="43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68440" y="1752480"/>
          <a:ext cx="3068640" cy="3962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8440" y="1752480"/>
                    <a:ext cx="30686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143000"/>
          <a:ext cx="29718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29718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09600" y="4265640"/>
          <a:ext cx="3641760" cy="4692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600" y="4265640"/>
                    <a:ext cx="364176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648320" y="4724280"/>
          <a:ext cx="3835440" cy="1560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724280"/>
                    <a:ext cx="38354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-606600" y="530280"/>
          <a:ext cx="5191200" cy="36021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-606600" y="530280"/>
                    <a:ext cx="5191200" cy="36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105520" y="1219320"/>
          <a:ext cx="2971800" cy="198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1219320"/>
                    <a:ext cx="29718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419720" y="380880"/>
          <a:ext cx="4302000" cy="4119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380880"/>
                    <a:ext cx="4302000" cy="41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280" y="152280"/>
          <a:ext cx="472464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472464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0" y="4959360"/>
          <a:ext cx="4908600" cy="112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959360"/>
                    <a:ext cx="49086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410080" y="152280"/>
          <a:ext cx="3289320" cy="268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152280"/>
                    <a:ext cx="328932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257800" y="2971800"/>
          <a:ext cx="3613320" cy="272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2971800"/>
                    <a:ext cx="36133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340160" y="5864400"/>
          <a:ext cx="5256360" cy="812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0160" y="5864400"/>
                    <a:ext cx="52563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9:11:01Z</dcterms:created>
  <dc:creator>M Raev</dc:creator>
  <dc:description/>
  <dc:language>en-US</dc:language>
  <cp:lastModifiedBy>MBulatov</cp:lastModifiedBy>
  <dcterms:modified xsi:type="dcterms:W3CDTF">2003-11-05T15:18:44Z</dcterms:modified>
  <cp:revision>43</cp:revision>
  <dc:subject/>
  <dc:title>ПУЗЫРИ НА ВОДЕ</dc:title>
</cp:coreProperties>
</file>