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8.jpeg" ContentType="image/jpeg"/>
  <Override PartName="/ppt/media/image12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33EA-8484-4F3F-A42E-0CD986F248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микроволновые измер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истик снежного покров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осмоса являются единственным средством, альтернативным наземным измерениям, и позволяют восстанавливать информацию о сезонном снеге с такой точностью, которая приемлема для гидрологических расчетов в локальных, даже очень небольших бассейнах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нализа информации используются статистические модели и не требуется присутствие эксперта-аналитика, что исключает субъективный взгляд человека на восстановленные характеристики и дает возможность организовать автоматизированные системы обработки информац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мониторинг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кольку зимы отличаются одна от другой, то для каждой зимы нужно или адаптировать модели, или разрабатывать обучающийся алгоритм, использующий информацию о предшествующих зимах и выбирающий некие критерии сходства для текущей зи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линомом каждой модели формировалась матрица и  методом наименьших квадратов находились  искомые коэффициент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й метеостанции вычислялась среднеквадратическое отклонение  невязки между измеренным значением высоты снежного покрова  и вычисленным по полиному модели, оценивалось среднее значение и  среднеквадратическое отклонение  по всем метеостанциям и строилась гистограмма распределения среднеквадратических отклонений. По бассейну Оки среднеквадратическое отклонение модельной глубины снежного покрова  по сравнению с измеренными на метеостанциях значениями равно 2.8 см по зиме 2001-2002 г.г. (было использовано 2003 измерения на 42 станциях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же оценка для всей территории России составила 5-6см (несколько различаются результаты по восходящим и нисходящис витка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В расчетах участвовало 115076 измерений на 987 станция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я в промежуточных пикселах интерполируются с некоторым весовым коэффициентом в зависимости от значения коэффициентов 4-х соседних станций. Такой подход хорош там, где функция Нс монотонна в промежутках между станциями и не изменяется плотность ле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эффициенты полинома зависят от доли леса и, возможно, от других ландшафтных характеристик [4,6] в пикселе станции – чем меньше леса, тем точнее оценка Нс по модели, т. е. необходимо найти эффективный метод учета доли леса в пикселе в полиноме модел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опытались построить карту леса для территории России только на основании дан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сли из данных радиометра выделить только зимние дни и оценить средние значения разности поляризаций по каждому каналу, то можно  получить статистику, косвенно характеризующую плотность леса в каждом пикселе. На этом основана попытка оценки плотности леса с помощью исключительно дан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получены оценки средних и среднеквадратических отклонений поляризационных разностей по зимнему периоду как с использование грубых данных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), так и данных по точному каналу за 2003г.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). Проведено сравнение полученных результатов с топографическими картами и данными дистанционного зондирования в видимом диапазоне для нашего тестового бассейна. Связь оказалась линейной, коэффициент корреляции для каналов был в диапазоне 0.85-0.95. В дальнейшем мы собираемся расширить работу в этом направле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               Использование данных пассивных радиометров позволяют восстанавливать характеристики снежного покро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             Высота снежного покрова определена  с точностью до 3см для сухого холодного сне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              После первой оттепели следует подбирать другие модели или использовать более сложный алгорит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ый момент на орбите на борту спутников сер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S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находятся датчик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получают информацию в трех каналах 19, 22, 37, 85 Ггц. На  спутник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овлен приб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SR-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еще не вышел на штатный режим передачи данных, на нашем спутнике “Метеор-3М ” находится радиометр МТВЗА-ОК, который, к сожалению, неисправен. Все эти  радиометры являются пассивными датчиками  и измеряют естественное излучение земной поверх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мы используем радиояркостные температуры со спутник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как в грубых (с разрешением 50км), так и в точных каналах (12,5км) для территории всей России (табл. 2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канальные разности отслеживают начальный период накопления снега (3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ктябрь-декабрь), основной период (1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екабрь-апрель) и начало таяния (апрель-май). Для визуального анализа изменения канальных температур и их разностей от высоты снежного покрова Нс разработана программа, позволяющая в диалоговом режиме отобразить заданные каналы и разности для любой точки территории РФ, указываемой курсором на кар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ены различные опубликованные алгоритмы распознавания снежного покрова и разработана программа определения границ снежного покров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исследован характер изменения разностей температур (поляризационных и межканальных) в 10-ти дневном переходе от осени (5 дней до выпадения снега) к зиме (5 дней первого снега). В среднем, выпадению снега соответствует температура –2.5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Высота снежного покрова за  первые два  дня в среднем составляет 3 см. Максимальный градиент межканальных разностей яркостных температур (от 0.5 до 2.5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) приходится на первые два дня после выпадения сне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алгоритмов распознавания СП проверялось по данным метеостанций. Большие ошибки в европейской части – 0.4. Причина, вероятно, в мокром снеге и теплой зиме. За Уралом ошибки в 2 раза меньш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ключения наземной температуры из яркостных канальных температур можно перейти к относительному коэффициенту излуч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олученных результатов привел к следующим основным вывод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менения высоты снежного покрова идентифицируется канала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лько до высоты 80см, при Нс &gt; 80см яркостные температуры каналов достоверно не изменяют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висимость яркостных температур Тк всех каналов от высоты носит нелинейный характер - кривые разностей имеют явно выраженный максимум, который потребует вторых и, возможно третьих, степеней яркостных температур в полиноме модели снежного покро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яризационные разности каналов менее чувствительны к вариациям высоты снега Нс, чем межканальные (19-37 и 37-85) разност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жканальные разности 37-85 наиболее чувствительны к слабому (Нс &lt; 20см) СП, а разности 19-37 почти линейно возрастают до Нс= 40с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волновые характеристики влажного снега существенно отличаются от сухого снега из-за изменения структуры. Чем тоньше слой снега, тем быстрее происходит изменения структуры снега, связанные с изменением поверхностной температуры. Значительные ошибки требуют предварительной оценки структуры снега в каждом пикселе и более тонких алгоритмов распознавания сухого и влажного сне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наших  исследований - поиск модели оценки высоты снежного покрова по яркостным температура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ыл проверен ряд линейных полиномов как с яркостными температурами, так и с их разностями. Критерием выбора лучшей модели из числа рассмотренных был минимум оценки среднеквадратического отклонения  невязки между измерениями снежного покрова на метеостанциях и результатами расчета по модели. Модели представляли собой передаточные функции “черного ящика” без какой-либо интерпретации физического значения полученных коэффициентов. В качестве критерия оценки качества принималось среднеквадратическое отклонение  невязки оценки высоты снежного покрова  модели и измерения  этой высоты на метеостанц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оценки качества полиномов для разных моделей состояла в следующем. По каждой метеостанции выбирались все измерения высоты снежного покрова  за 2 года, определялись начало  и конец каждого зимнего периода. При этом, вероятно, в качестве “конца зимы”следует рассматривать первую глубокую оттепель, во время которой в снежном покрове образуется вода, а затем и ледяные включения, полностью изменяющие характер излучения – рассеяния. На рис.2 показаны графики изменения межканальных разностей, температуры поверхности и высоты снежного покрова для одной из  метеостанций бассейна О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791-D18E-462F-B023-524F6B84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1ECE-B5AF-4CBA-9884-D5FEC879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160-BE79-4573-AB74-3C943046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16A-A874-405B-9D59-438EB661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919F-5B99-49BD-903B-FDE1F5A8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D43-EBF4-426C-AE76-78D4FB88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923E-B8AB-45D4-9039-3A09149D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B9B-6654-46A7-9A6A-AC867EA3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BB1-7E3F-4A2E-903B-7F21DCFE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B246-1314-456A-9A82-41DEDF02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0B6D-3D66-48B2-81D6-D38014DE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69B-697A-4B82-8CC3-4E443EE4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F16A-0977-4DFA-A5BA-2BE553E05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спользование данных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SM/I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для определения границы и высоты снежного покрова с целью мониторинга опасных гидрологических процессов на реках Европейской части России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488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 rot="10800000">
          <a:off x="0" y="228600"/>
          <a:ext cx="115416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0" y="228600"/>
                    <a:ext cx="11541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80988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600" y="6019920"/>
            <a:ext cx="907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Центр космических информационных систем и технологий наблюдений Росавиакосмоса 2003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48800" y="6615000"/>
            <a:ext cx="2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04840" y="11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oka6750" descr=""/>
          <p:cNvPicPr/>
          <p:nvPr/>
        </p:nvPicPr>
        <p:blipFill>
          <a:blip r:embed="rId3"/>
          <a:stretch/>
        </p:blipFill>
        <p:spPr>
          <a:xfrm>
            <a:off x="6400800" y="1295280"/>
            <a:ext cx="2602080" cy="4648320"/>
          </a:xfrm>
          <a:prstGeom prst="rect">
            <a:avLst/>
          </a:prstGeom>
          <a:ln w="0">
            <a:noFill/>
          </a:ln>
        </p:spPr>
      </p:pic>
      <p:pic>
        <p:nvPicPr>
          <p:cNvPr id="57" name="zapas_field" descr=""/>
          <p:cNvPicPr/>
          <p:nvPr/>
        </p:nvPicPr>
        <p:blipFill>
          <a:blip r:embed="rId4"/>
          <a:stretch/>
        </p:blipFill>
        <p:spPr>
          <a:xfrm>
            <a:off x="685800" y="1295280"/>
            <a:ext cx="56386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.3a.%20Измеренные%20и%20модельные%20значения%20Нс%20по%202-й%20зиме%20(2001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526600" cy="5765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спользование одного полинома для определения высоты снежного покрова для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рех зи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Туточаны_%202_for_all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93" name="Туточаны_3poly" descr=""/>
          <p:cNvPicPr/>
          <p:nvPr/>
        </p:nvPicPr>
        <p:blipFill>
          <a:blip r:embed="rId2"/>
          <a:stretch/>
        </p:blipFill>
        <p:spPr>
          <a:xfrm>
            <a:off x="990720" y="4876920"/>
            <a:ext cx="7467480" cy="1814400"/>
          </a:xfrm>
          <a:prstGeom prst="rect">
            <a:avLst/>
          </a:prstGeom>
          <a:ln w="0">
            <a:noFill/>
          </a:ln>
        </p:spPr>
      </p:pic>
      <p:pic>
        <p:nvPicPr>
          <p:cNvPr id="94" name="Туточаны_all" descr=""/>
          <p:cNvPicPr/>
          <p:nvPr/>
        </p:nvPicPr>
        <p:blipFill>
          <a:blip r:embed="rId3"/>
          <a:stretch/>
        </p:blipFill>
        <p:spPr>
          <a:xfrm>
            <a:off x="914400" y="2895480"/>
            <a:ext cx="7543800" cy="1913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спользование полиномов для определения высоты снежного покрова по каждой из   трех зим  в отдельности дает минимальные среднеквадратические ошиб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08_01_2002rms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381880" cy="5145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6720" y="228600"/>
            <a:ext cx="830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равнени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ескольких моделей восстановления высоты снежного покр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гистограмма среднеквадратических отклонений для региона Ок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ля первой модели по зиме 2001-2002г.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.3.1.%20СКО%20оценок%20и%20гистограмма%20по%202-й%20зиме%20(2001-2002гг)" descr=""/>
          <p:cNvPicPr/>
          <p:nvPr/>
        </p:nvPicPr>
        <p:blipFill>
          <a:blip r:embed="rId1"/>
          <a:stretch/>
        </p:blipFill>
        <p:spPr>
          <a:xfrm>
            <a:off x="236520" y="1219320"/>
            <a:ext cx="8678880" cy="5460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1522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равнени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оделей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ценк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ысоты снежного покрова и гистограмма среднеквадратических отклонени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для первой модели по зиме 2001-2002г.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9560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.20a. Интерполяция по расстоянию от 4-х станций.Сытомино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153280" cy="570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120" y="22860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поляция высоты снежного покрова в промежуточных между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нциями пиксел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562720" y="3580920"/>
            <a:ext cx="358128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Вычисление коэффициентов модели высоты снежного покрова для точки курсора с использование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коэффициентов ближайших  стан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6933960" y="2133360"/>
            <a:ext cx="533160" cy="14475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581280"/>
            <a:ext cx="1650960" cy="855720"/>
          </a:xfrm>
          <a:custGeom>
            <a:avLst/>
            <a:gdLst/>
            <a:ahLst/>
            <a:rect l="l" t="t" r="r" b="b"/>
            <a:pathLst>
              <a:path w="1040" h="539">
                <a:moveTo>
                  <a:pt x="1040" y="0"/>
                </a:moveTo>
                <a:lnTo>
                  <a:pt x="0" y="539"/>
                </a:lnTo>
                <a:lnTo>
                  <a:pt x="12" y="539"/>
                </a:lnTo>
                <a:lnTo>
                  <a:pt x="20" y="532"/>
                </a:lnTo>
              </a:path>
            </a:pathLst>
          </a:custGeom>
          <a:noFill/>
          <a:ln w="316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.4.4.График%20по%20станции%20КУСТАНАЙ%20по%202-й%20зиме" descr=""/>
          <p:cNvPicPr/>
          <p:nvPr/>
        </p:nvPicPr>
        <p:blipFill>
          <a:blip r:embed="rId1"/>
          <a:stretch/>
        </p:blipFill>
        <p:spPr>
          <a:xfrm>
            <a:off x="0" y="990720"/>
            <a:ext cx="4495680" cy="5333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.4.5.График%20по%20станции%20ЧЕРВЯНКА%20по%202-й%20зиме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457880" cy="5333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0760" y="228600"/>
            <a:ext cx="732672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фики изменения температур для степи (Кустанай) и тайги (Червян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5000"/>
              </a:lnSpc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нки средних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ляризационных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ностей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ля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-х каналов по зимнему периоду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плотность лес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13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Рис.10_5.%20Оценки%20V-H%20и%20карты%20леса%20.Калибр-ка%20по%20КустанаюЗима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05920" cy="56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.11_85k_а.Оценка%20плотности%20леса%20по%20средним.Зима%201-3г" descr=""/>
          <p:cNvPicPr/>
          <p:nvPr/>
        </p:nvPicPr>
        <p:blipFill>
          <a:blip r:embed="rId1"/>
          <a:stretch/>
        </p:blipFill>
        <p:spPr>
          <a:xfrm>
            <a:off x="77760" y="825480"/>
            <a:ext cx="9066240" cy="6032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040760" y="228600"/>
            <a:ext cx="722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реляция плотности леса по карте и по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бым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ным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SM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3050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2888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85_W_rms_new" descr=""/>
          <p:cNvPicPr/>
          <p:nvPr/>
        </p:nvPicPr>
        <p:blipFill>
          <a:blip r:embed="rId1"/>
          <a:stretch/>
        </p:blipFill>
        <p:spPr>
          <a:xfrm>
            <a:off x="762120" y="938160"/>
            <a:ext cx="7467480" cy="5743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15228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икселы, в которых ошибка между оценкой плотности леса по грубым данным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SM/I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плотностью леса по карте М1:200000 более 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.18a.Карта%20плотности%20леса%20по%20средним%20зимы%2019k.F15" descr=""/>
          <p:cNvPicPr/>
          <p:nvPr/>
        </p:nvPicPr>
        <p:blipFill>
          <a:blip r:embed="rId1"/>
          <a:stretch/>
        </p:blipFill>
        <p:spPr>
          <a:xfrm>
            <a:off x="609480" y="801720"/>
            <a:ext cx="8075880" cy="6056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759200" y="228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8840" y="152280"/>
            <a:ext cx="43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арта плотности леса по каналу 19гг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Исходные данны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убые и точные файлы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SM/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 3 год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иноптические данные ГМЦ за 2 год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ифровые карты на бассейн реки О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ритерий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нимум СКО невязок между оценками и наземными измерени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Метод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татистика и МНК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Инструмент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зы данных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pInfo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ual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адач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ценить границы и высоту снежного покров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 данным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SM/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реляция плотности леса по карте и по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чным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ным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SM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9560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Рис.11c.Оценка пл. леса по СКО зимы.Рыб+Ока.F15(85h)" descr=""/>
          <p:cNvPicPr/>
          <p:nvPr/>
        </p:nvPicPr>
        <p:blipFill>
          <a:blip r:embed="rId1"/>
          <a:stretch/>
        </p:blipFill>
        <p:spPr>
          <a:xfrm>
            <a:off x="228600" y="1135080"/>
            <a:ext cx="8439120" cy="51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52280" y="1219320"/>
          <a:ext cx="8839440" cy="55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19320"/>
                    <a:ext cx="8839440" cy="55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696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5000"/>
              </a:lnSpc>
              <a:spcBef>
                <a:spcPts val="876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95 пикселов, 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бк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 которых по точным данным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е 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48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7176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leg_85w_av" descr=""/>
          <p:cNvPicPr/>
          <p:nvPr/>
        </p:nvPicPr>
        <p:blipFill>
          <a:blip r:embed="rId3"/>
          <a:stretch/>
        </p:blipFill>
        <p:spPr>
          <a:xfrm>
            <a:off x="6095880" y="5486400"/>
            <a:ext cx="2400480" cy="107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60488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59000" y="102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winter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098960" cy="4267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0020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92200" y="139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for_err" descr=""/>
          <p:cNvPicPr/>
          <p:nvPr/>
        </p:nvPicPr>
        <p:blipFill>
          <a:blip r:embed="rId2"/>
          <a:stretch/>
        </p:blipFill>
        <p:spPr>
          <a:xfrm>
            <a:off x="4572000" y="1066680"/>
            <a:ext cx="4114800" cy="4267440"/>
          </a:xfrm>
          <a:prstGeom prst="rect">
            <a:avLst/>
          </a:prstGeom>
          <a:ln w="0">
            <a:noFill/>
          </a:ln>
        </p:spPr>
      </p:pic>
      <p:pic>
        <p:nvPicPr>
          <p:cNvPr id="138" name="winter_browser" descr=""/>
          <p:cNvPicPr/>
          <p:nvPr/>
        </p:nvPicPr>
        <p:blipFill>
          <a:blip r:embed="rId3"/>
          <a:stretch/>
        </p:blipFill>
        <p:spPr>
          <a:xfrm>
            <a:off x="1828800" y="5410080"/>
            <a:ext cx="5927760" cy="1287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781680" y="2438280"/>
            <a:ext cx="2286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228600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г.Серпух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териалы видеоданных МСУ-Э и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TER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использованные для анализа пикселов, в которых ошибка превышает 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279p_brawser" descr=""/>
          <p:cNvPicPr/>
          <p:nvPr/>
        </p:nvPicPr>
        <p:blipFill>
          <a:blip r:embed="rId1"/>
          <a:stretch/>
        </p:blipFill>
        <p:spPr>
          <a:xfrm>
            <a:off x="1066680" y="5867280"/>
            <a:ext cx="5927760" cy="594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376440" y="172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279p_aster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2178000" cy="3102120"/>
          </a:xfrm>
          <a:prstGeom prst="rect">
            <a:avLst/>
          </a:prstGeom>
          <a:ln w="0">
            <a:noFill/>
          </a:ln>
        </p:spPr>
      </p:pic>
      <p:pic>
        <p:nvPicPr>
          <p:cNvPr id="145" name="279p_map_aster" descr=""/>
          <p:cNvPicPr/>
          <p:nvPr/>
        </p:nvPicPr>
        <p:blipFill>
          <a:blip r:embed="rId3"/>
          <a:stretch/>
        </p:blipFill>
        <p:spPr>
          <a:xfrm>
            <a:off x="2590920" y="1981080"/>
            <a:ext cx="2179440" cy="3124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538360" y="115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for_town_err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4068720" cy="4541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30372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812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228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мер использования данных МСУ-Э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TER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для проверки пикселов с большими ошибк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5640" y="3048120"/>
            <a:ext cx="28954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5715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152280"/>
            <a:ext cx="714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становленная высота снежного покрова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 влагозапаса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ассейне Оки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01.2002г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д началом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ервой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тепел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Рис.3d.%20Значения%20Нс%20по%20Оке%20по%202-й%20зиме" descr=""/>
          <p:cNvPicPr/>
          <p:nvPr/>
        </p:nvPicPr>
        <p:blipFill>
          <a:blip r:embed="rId1"/>
          <a:stretch/>
        </p:blipFill>
        <p:spPr>
          <a:xfrm>
            <a:off x="152280" y="987480"/>
            <a:ext cx="8609040" cy="58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snow_f13_02008_up_okrugl_borsh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791320"/>
          </a:xfrm>
          <a:prstGeom prst="rect">
            <a:avLst/>
          </a:prstGeom>
          <a:ln w="0">
            <a:noFill/>
          </a:ln>
        </p:spPr>
      </p:pic>
      <p:pic>
        <p:nvPicPr>
          <p:cNvPr id="156" name="legend_02008" descr=""/>
          <p:cNvPicPr/>
          <p:nvPr/>
        </p:nvPicPr>
        <p:blipFill>
          <a:blip r:embed="rId2"/>
          <a:stretch/>
        </p:blipFill>
        <p:spPr>
          <a:xfrm>
            <a:off x="6858000" y="4267080"/>
            <a:ext cx="1865160" cy="11052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сота снежного покрова в бассейне Оки 09.01.2002г. По данным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SM/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 Гидрометцент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28600" y="838080"/>
          <a:ext cx="8458200" cy="1726920"/>
        </p:xfrm>
        <a:graphic>
          <a:graphicData uri="http://schemas.openxmlformats.org/drawingml/2006/table">
            <a:tbl>
              <a:tblPr/>
              <a:tblGrid>
                <a:gridCol w="1524240"/>
                <a:gridCol w="609480"/>
                <a:gridCol w="609480"/>
                <a:gridCol w="533520"/>
                <a:gridCol w="533520"/>
                <a:gridCol w="533160"/>
                <a:gridCol w="524160"/>
                <a:gridCol w="566640"/>
                <a:gridCol w="569880"/>
                <a:gridCol w="565200"/>
                <a:gridCol w="568080"/>
                <a:gridCol w="565200"/>
                <a:gridCol w="755640"/>
              </a:tblGrid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диом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отные каналы, ГГ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ТВЗА-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.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SR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9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M/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28600" y="3276720"/>
          <a:ext cx="8458200" cy="277812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88760"/>
                <a:gridCol w="1692360"/>
                <a:gridCol w="169236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ешение вдоль полета,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ешение вдоль скана,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мер пиксел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волны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Гг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Гг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 Гг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 Гг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1451520" y="22860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равнительные характеристики радиомет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6920" y="2666880"/>
            <a:ext cx="47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арактеристики радиометр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SM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670960" y="64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авнительные характеристики радиомет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92360" y="155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9056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Рис.2a. Динамика Тя и разностей от Нс.Большой Порог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534520" cy="594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6600" y="152280"/>
            <a:ext cx="757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зменения высоты снежного покрова, радиояркостных температу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 межканальных разностей температу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ля метеостанции Большой Порог за период 2001-2002г.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Изменение разностей радиояркостных температур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чальный период зимы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980720"/>
            <a:ext cx="5943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Рис.8. Разности каналов в начале зимы.5 дней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763120" cy="53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.9а.%20Вероятности%20ошибок%20распознавания%20снега.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2280" y="1447920"/>
            <a:ext cx="88156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3360" y="228600"/>
            <a:ext cx="86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исимость средних значений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ляризационных и межканальных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ност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ркостных температур каналов от высоты снежного покр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Рис.1b. Оценки разностей каналов и их коэфф.излучения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458200" cy="5251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747280" y="64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 rot="10800000">
            <a:off x="609480" y="456480"/>
            <a:ext cx="763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исимость средних значений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яризационных и межканальных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ностей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ркостных температур каналов от высоты снежного покр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764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дение температуры поверхности, высоты снега и радиояркостных межканальных разностей зимой 2001.2002г.г. для нескольких метеостанций бассейна Ок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Рис.4.2.%20Ока.Графики%2016-30%20станций.региона%20по%202-й%20зиме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670960" y="6210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.4.3.%20Ока.График%20по%20станции%20МОЖАЙСК%20по%202-й%20зиме" descr=""/>
          <p:cNvPicPr/>
          <p:nvPr/>
        </p:nvPicPr>
        <p:blipFill>
          <a:blip r:embed="rId1"/>
          <a:stretch/>
        </p:blipFill>
        <p:spPr>
          <a:xfrm>
            <a:off x="266760" y="1143000"/>
            <a:ext cx="8877240" cy="5473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810440" y="38160"/>
            <a:ext cx="64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менение наземной температуры и высоты снежного покрова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меренных на метеостанции, и межканальных разностей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SM/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течение зимы 2001-2002г.г. для метеостанции Можайс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5791320"/>
            <a:ext cx="1828800" cy="5806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Установл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снежного окро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990720" y="5638680"/>
            <a:ext cx="1676160" cy="4572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38680" y="3363840"/>
            <a:ext cx="293760" cy="271440"/>
          </a:xfrm>
          <a:custGeom>
            <a:avLst/>
            <a:gdLst/>
            <a:ahLst/>
            <a:rect l="l" t="t" r="r" b="b"/>
            <a:pathLst>
              <a:path w="185" h="171">
                <a:moveTo>
                  <a:pt x="185" y="171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3505320"/>
            <a:ext cx="2743200" cy="82404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Первая глубокая оттепель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разность 19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v-37v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реагируе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на появление во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6933960" y="5866920"/>
            <a:ext cx="22860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71200" y="6095880"/>
            <a:ext cx="182808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Отсутствие сне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07:49:24Z</dcterms:created>
  <dc:creator>Artem</dc:creator>
  <dc:description/>
  <dc:language>en-US</dc:language>
  <cp:lastModifiedBy>А.И.</cp:lastModifiedBy>
  <dcterms:modified xsi:type="dcterms:W3CDTF">2003-11-09T17:27:58Z</dcterms:modified>
  <cp:revision>250</cp:revision>
  <dc:subject/>
  <dc:title> Начало весеннего разлива Нерли, бассейн реки Оки (фрагмент снимка ASTER  11.04.2001г. </dc:title>
</cp:coreProperties>
</file>