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11.png" ContentType="image/png"/>
  <Override PartName="/ppt/media/image44.png" ContentType="image/png"/>
  <Override PartName="/ppt/media/image32.wmf" ContentType="image/x-wmf"/>
  <Override PartName="/ppt/media/image45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D46-9184-408C-A028-368E07B2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C6A-20BB-49BB-AC0A-9B3AFD22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968-B55E-4E07-A0BF-487C9762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86F-7A7C-43F2-9020-BC1F802C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36E-C8C9-4725-8029-5BA86A1B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DBDF-3029-4B87-B5A1-52240C4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47E4-DF59-4989-ADD6-B154468C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F292-58FE-4051-9288-BB479ED3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ED51-AF74-4FE1-8B2C-D438590F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A77-1A0E-4418-B423-0F71B5D0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3A0-2EA7-48D1-BE6B-F78CBC9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5E0-8A97-490A-B716-60435D3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AD08-3B84-4E82-B955-2F0D2EA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3793-599B-4CB0-BDDC-FA8E037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630A-96F8-45F3-ACF2-3B698D40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D593-2B9B-449C-BC21-967EDB59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1373-1FF5-4B03-AA41-D2D5DF59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394-0266-4707-83C7-3F791490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9B4-6EB4-4A00-A133-C86738B9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0BE-D49F-43FD-8FDD-A2AA4E41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583-5F58-4B65-B9C7-916F879B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D2B-3251-4430-9571-6930C555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E39-2891-405D-8DA1-045C74F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859-BA9C-4B37-A5D2-C41243F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671E-C6C3-495C-B121-FF0829ABB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0" y="620640"/>
          <a:ext cx="9144000" cy="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0640"/>
                    <a:ext cx="9144000" cy="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2FF0-6470-4E2F-B2F0-1F597F1BE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65360"/>
            <a:ext cx="914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НФОРМАЦИОННАЯ ТЕХНОЛОГИЯ ДИСТАНЦИОННОГО ОПРЕДЕЛЕНИЯ ПАРАМЕТРОВ ПЕРВИЧНОЙ ПРОДУКТИВНОС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 СИСТЕМАХ МОНИТОРИНГА ОКЕА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739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российский научно-исследовательский и проектно-конструкторский институ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ономики, информации и автоматизированных систем управлен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бного хозяйст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749880"/>
            <a:ext cx="87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филов Юрий Вадимович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39880" y="4428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Биооптические мод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3080" y="1125360"/>
                <a:ext cx="903600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l</m:t>
                            </m:r>
                          </m:e>
                          <m:sup/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476360" y="2060640"/>
                <a:ext cx="61927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,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700360" y="4508640"/>
                <a:ext cx="360036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492360" y="5373720"/>
                <a:ext cx="2087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40000" y="3573360"/>
                <a:ext cx="4248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b>
                      <m:e>
                        <m:r>
                          <m:t xml:space="preserve">∗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43480" y="44280"/>
            <a:ext cx="59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егрессионные алгорит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9640" y="1125360"/>
                <a:ext cx="78487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920" y="2781360"/>
                <a:ext cx="90741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h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5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843280" y="4581360"/>
                <a:ext cx="331128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5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42560" y="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лгоритм ОС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462640" cy="583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643280" y="4653000"/>
            <a:ext cx="914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74160" y="-49320"/>
            <a:ext cx="75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Подспутниковый экспериме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86440" cy="57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71280" y="66600"/>
            <a:ext cx="92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танд. алгоритм завышает знач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731880"/>
          <a:ext cx="914400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1880"/>
                    <a:ext cx="914400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405080" y="932040"/>
          <a:ext cx="5903640" cy="576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5080" y="932040"/>
                    <a:ext cx="5903640" cy="57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69840" y="57240"/>
            <a:ext cx="58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оотношения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R35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731880"/>
          <a:ext cx="914400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1880"/>
                    <a:ext cx="914400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79280" y="1523880"/>
          <a:ext cx="4394160" cy="421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23880"/>
                    <a:ext cx="439416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427640" y="1523880"/>
          <a:ext cx="4394160" cy="421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523880"/>
                    <a:ext cx="439416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571040" y="66600"/>
            <a:ext cx="65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огрешности алгоритм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73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34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10476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авнительная точность восстановления концентрации хлорофилла «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использованием стандартного алгоритм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WiFS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регионального алгорит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731880"/>
          <a:ext cx="914400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1880"/>
                    <a:ext cx="914400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203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08000" y="1773360"/>
          <a:ext cx="8893080" cy="4636800"/>
        </p:xfrm>
        <a:graphic>
          <a:graphicData uri="http://schemas.openxmlformats.org/drawingml/2006/table">
            <a:tbl>
              <a:tblPr/>
              <a:tblGrid>
                <a:gridCol w="1482840"/>
                <a:gridCol w="1481040"/>
                <a:gridCol w="1482480"/>
                <a:gridCol w="1482840"/>
                <a:gridCol w="1481040"/>
                <a:gridCol w="1482840"/>
              </a:tblGrid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та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онтактные измер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[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г/м</a:t>
                      </a:r>
                      <a:r>
                        <a:rPr b="1" lang="ru-RU" sz="16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лгоритм SeaWi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[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г/м</a:t>
                      </a:r>
                      <a:r>
                        <a:rPr b="1" lang="ru-RU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Погреш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aWi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егион. Алгорит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[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мг/м</a:t>
                      </a:r>
                      <a:r>
                        <a:rPr b="1" lang="ru-RU" sz="1600" spc="-1" strike="noStrike" baseline="30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грешность регион. алгорит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.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.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25640" y="106200"/>
            <a:ext cx="50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равнение алгорит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731880"/>
          <a:ext cx="914400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1880"/>
                    <a:ext cx="914400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68320" y="836640"/>
          <a:ext cx="5558040" cy="576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8320" y="836640"/>
                    <a:ext cx="55580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17080" y="0"/>
            <a:ext cx="66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Технология обработки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4360" y="907920"/>
            <a:ext cx="7848360" cy="5531040"/>
            <a:chOff x="684360" y="907920"/>
            <a:chExt cx="7848360" cy="5531040"/>
          </a:xfrm>
        </p:grpSpPr>
        <p:sp>
          <p:nvSpPr>
            <p:cNvPr id="282" name=""/>
            <p:cNvSpPr/>
            <p:nvPr/>
          </p:nvSpPr>
          <p:spPr>
            <a:xfrm>
              <a:off x="684360" y="907920"/>
              <a:ext cx="376704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Данные спутниковых сенсор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50120" y="907920"/>
              <a:ext cx="298224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Данные in sit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508480"/>
              <a:ext cx="627876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Восстановление концентрации хлорофилл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09640" y="1708200"/>
              <a:ext cx="502308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Региональные модел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4360" y="3308760"/>
              <a:ext cx="3816720" cy="53352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Карты в графических форматах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5640" y="3308760"/>
              <a:ext cx="3816720" cy="53352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Значения параметров в текстовом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или бинарном виде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2200" y="5042880"/>
              <a:ext cx="659268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Математическое, статистическое и геоинформационное ПО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10920" y="4242600"/>
              <a:ext cx="4394880" cy="39996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Конвертер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67880" y="1307880"/>
              <a:ext cx="0" cy="12002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67880" y="290880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9200" y="290880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0080" y="130788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21000" y="210816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37480" y="130788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7880" y="384228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9200" y="384228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4360" y="5843160"/>
              <a:ext cx="7848360" cy="59580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Отраслевая система мониторинга водных биологических ресурс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Arial"/>
                </a:rPr>
                <a:t>и контроля за деятельностью промысловых судов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8360" y="464256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08360" y="5442840"/>
              <a:ext cx="0" cy="39996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836000" y="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хема обработки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39640" y="819000"/>
            <a:ext cx="8136000" cy="5923080"/>
            <a:chOff x="539640" y="819000"/>
            <a:chExt cx="8136000" cy="5923080"/>
          </a:xfrm>
        </p:grpSpPr>
        <p:sp>
          <p:nvSpPr>
            <p:cNvPr id="303" name=""/>
            <p:cNvSpPr txBox="1"/>
            <p:nvPr/>
          </p:nvSpPr>
          <p:spPr>
            <a:xfrm>
              <a:off x="539640" y="819000"/>
              <a:ext cx="8136000" cy="592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640" y="1981080"/>
              <a:ext cx="2099520" cy="4888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Выделение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заданного региона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73960" y="1981080"/>
              <a:ext cx="2101320" cy="488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рограмма работы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с архивам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56800" y="973800"/>
              <a:ext cx="2100600" cy="487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рограмма работы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с магнитной лентой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56800" y="2988360"/>
              <a:ext cx="2100600" cy="48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лгоритм атмосферной коррекци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73960" y="5079600"/>
              <a:ext cx="2100240" cy="487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Создание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артографич. проекци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73960" y="2988360"/>
              <a:ext cx="2100240" cy="487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Региональный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иооптический алгоритм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640" y="819000"/>
              <a:ext cx="2099520" cy="731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анные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на магнитной ленте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56800" y="1825920"/>
              <a:ext cx="2098800" cy="7315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анные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формата L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73960" y="819000"/>
              <a:ext cx="2101320" cy="731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Архивированные спутниковые данные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9640" y="2910960"/>
              <a:ext cx="2099520" cy="731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анные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формата L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(регион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56800" y="4227840"/>
              <a:ext cx="2099880" cy="7329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анные по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метеорологи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73960" y="3917880"/>
              <a:ext cx="2100240" cy="731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анные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формата L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56800" y="6165000"/>
              <a:ext cx="2098800" cy="4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Программа работы с метеоданным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9640" y="6009840"/>
              <a:ext cx="2099520" cy="7318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арты +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ые данные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66040" y="6006600"/>
              <a:ext cx="2101320" cy="7329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арты концентрации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хлорофилла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61920" y="1128240"/>
              <a:ext cx="636840" cy="156240"/>
            </a:xfrm>
            <a:prstGeom prst="rightArrow">
              <a:avLst>
                <a:gd name="adj1" fmla="val 50000"/>
                <a:gd name="adj2" fmla="val 1019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80160" y="1128240"/>
              <a:ext cx="636840" cy="157320"/>
            </a:xfrm>
            <a:prstGeom prst="rightArrow">
              <a:avLst>
                <a:gd name="adj1" fmla="val 50000"/>
                <a:gd name="adj2" fmla="val 1012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1920" y="3143160"/>
              <a:ext cx="637560" cy="156960"/>
            </a:xfrm>
            <a:prstGeom prst="rightArrow">
              <a:avLst>
                <a:gd name="adj1" fmla="val 50000"/>
                <a:gd name="adj2" fmla="val 101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80160" y="3143160"/>
              <a:ext cx="636840" cy="156960"/>
            </a:xfrm>
            <a:prstGeom prst="rightArrow">
              <a:avLst>
                <a:gd name="adj1" fmla="val 50000"/>
                <a:gd name="adj2" fmla="val 1014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0800000">
              <a:off x="5779800" y="2135880"/>
              <a:ext cx="636840" cy="156240"/>
            </a:xfrm>
            <a:prstGeom prst="rightArrow">
              <a:avLst>
                <a:gd name="adj1" fmla="val 50000"/>
                <a:gd name="adj2" fmla="val 1019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0800000">
              <a:off x="2761560" y="2135880"/>
              <a:ext cx="637560" cy="156240"/>
            </a:xfrm>
            <a:prstGeom prst="rightArrow">
              <a:avLst>
                <a:gd name="adj1" fmla="val 50000"/>
                <a:gd name="adj2" fmla="val 1020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0800000">
              <a:off x="5779800" y="6319440"/>
              <a:ext cx="636840" cy="156960"/>
            </a:xfrm>
            <a:prstGeom prst="rightArrow">
              <a:avLst>
                <a:gd name="adj1" fmla="val 50000"/>
                <a:gd name="adj2" fmla="val 1014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800000">
              <a:off x="2761560" y="6319440"/>
              <a:ext cx="637560" cy="156960"/>
            </a:xfrm>
            <a:prstGeom prst="rightArrow">
              <a:avLst>
                <a:gd name="adj1" fmla="val 50000"/>
                <a:gd name="adj2" fmla="val 1015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373160" y="1588680"/>
              <a:ext cx="310680" cy="321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1338120" y="2518200"/>
              <a:ext cx="310680" cy="320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5400000">
              <a:off x="7373160" y="3525480"/>
              <a:ext cx="310680" cy="321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5400000">
              <a:off x="7373160" y="4687560"/>
              <a:ext cx="310680" cy="321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5400000">
              <a:off x="7373160" y="5617080"/>
              <a:ext cx="310680" cy="3211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5400000">
              <a:off x="4091760" y="5364000"/>
              <a:ext cx="1018800" cy="451440"/>
            </a:xfrm>
            <a:custGeom>
              <a:avLst/>
              <a:gdLst>
                <a:gd name="textAreaLeft" fmla="*/ 159120 w 1018800"/>
                <a:gd name="textAreaRight" fmla="*/ 891720 w 1018800"/>
                <a:gd name="textAreaTop" fmla="*/ 112680 h 451440"/>
                <a:gd name="textAreaBottom" fmla="*/ 338760 h 45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4279320" y="3601800"/>
              <a:ext cx="618840" cy="476280"/>
            </a:xfrm>
            <a:custGeom>
              <a:avLst/>
              <a:gdLst>
                <a:gd name="textAreaLeft" fmla="*/ 96480 w 618840"/>
                <a:gd name="textAreaRight" fmla="*/ 541800 w 618840"/>
                <a:gd name="textAreaTop" fmla="*/ 119160 h 476280"/>
                <a:gd name="textAreaBottom" fmla="*/ 3574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48400" y="950760"/>
            <a:ext cx="735120" cy="454320"/>
          </a:xfrm>
          <a:prstGeom prst="rect">
            <a:avLst/>
          </a:prstGeom>
          <a:solidFill>
            <a:srgbClr val="33cc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859040"/>
            <a:ext cx="1101960" cy="33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56600" y="1925640"/>
            <a:ext cx="735120" cy="20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0320" y="192564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404200" y="836640"/>
            <a:ext cx="411120" cy="4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329680" y="1177920"/>
            <a:ext cx="51444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16120" y="905040"/>
            <a:ext cx="1101600" cy="66672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1600" y="973080"/>
            <a:ext cx="1103040" cy="66672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68520" y="1125360"/>
            <a:ext cx="1103400" cy="667080"/>
          </a:xfrm>
          <a:custGeom>
            <a:avLst/>
            <a:gdLst/>
            <a:ahLst/>
            <a:rect l="l" t="t" r="r" b="b"/>
            <a:pathLst>
              <a:path w="384" h="470">
                <a:moveTo>
                  <a:pt x="0" y="432"/>
                </a:moveTo>
                <a:lnTo>
                  <a:pt x="0" y="0"/>
                </a:lnTo>
                <a:lnTo>
                  <a:pt x="384" y="0"/>
                </a:lnTo>
                <a:lnTo>
                  <a:pt x="384" y="402"/>
                </a:lnTo>
                <a:cubicBezTo>
                  <a:pt x="334" y="420"/>
                  <a:pt x="330" y="414"/>
                  <a:pt x="286" y="406"/>
                </a:cubicBezTo>
                <a:cubicBezTo>
                  <a:pt x="258" y="404"/>
                  <a:pt x="208" y="404"/>
                  <a:pt x="172" y="424"/>
                </a:cubicBezTo>
                <a:cubicBezTo>
                  <a:pt x="142" y="438"/>
                  <a:pt x="146" y="458"/>
                  <a:pt x="114" y="462"/>
                </a:cubicBezTo>
                <a:cubicBezTo>
                  <a:pt x="82" y="470"/>
                  <a:pt x="80" y="466"/>
                  <a:pt x="40" y="458"/>
                </a:cubicBezTo>
                <a:cubicBezTo>
                  <a:pt x="16" y="440"/>
                  <a:pt x="0" y="432"/>
                  <a:pt x="0" y="432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1600" y="1150920"/>
            <a:ext cx="985680" cy="550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ы научных рейс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0" y="836640"/>
            <a:ext cx="735120" cy="227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1517760"/>
            <a:ext cx="137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ниторинг характеристик сре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479760" y="1244520"/>
            <a:ext cx="2792520" cy="43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52840" y="131292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допустимый ул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130480"/>
            <a:ext cx="1911240" cy="4777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6600" y="2198520"/>
            <a:ext cx="1911240" cy="476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52840" y="2266920"/>
            <a:ext cx="1911240" cy="47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2335320"/>
            <a:ext cx="16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воты выло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7400" y="2403360"/>
            <a:ext cx="1984320" cy="1293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07400" y="2473200"/>
            <a:ext cx="1617480" cy="459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ff"/>
                </a:solidFill>
                <a:latin typeface="Arial"/>
              </a:rPr>
              <a:t>Учетные данные предприят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29520" y="2948040"/>
            <a:ext cx="1614600" cy="55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ценз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естр фло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87240" y="1244520"/>
            <a:ext cx="847800" cy="716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744640" y="3220920"/>
            <a:ext cx="3969000" cy="1190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817720" y="3629160"/>
            <a:ext cx="37483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НАЛИЗ  ИНФОРМАЦИИ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568520" y="4241520"/>
            <a:ext cx="1176120" cy="477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492600" y="4241880"/>
            <a:ext cx="1469880" cy="156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84760" y="4446720"/>
            <a:ext cx="0" cy="612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94200" y="4446360"/>
            <a:ext cx="0" cy="476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56240" y="2811600"/>
            <a:ext cx="0" cy="40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419880" y="2948040"/>
            <a:ext cx="587520" cy="407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9880" y="2811600"/>
            <a:ext cx="880920" cy="544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4640" y="1312920"/>
            <a:ext cx="735120" cy="1364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271920" y="1244520"/>
            <a:ext cx="1176120" cy="20484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81000" y="2540160"/>
            <a:ext cx="955800" cy="1293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6480" y="2471760"/>
            <a:ext cx="955800" cy="1293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3400" y="2403360"/>
            <a:ext cx="955800" cy="1293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0320" y="2403360"/>
            <a:ext cx="110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мысел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95440" y="3424320"/>
            <a:ext cx="220680" cy="20484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06680"/>
            <a:ext cx="173160" cy="238320"/>
          </a:xfrm>
          <a:custGeom>
            <a:avLst/>
            <a:gdLst/>
            <a:ahLst/>
            <a:rect l="l" t="t" r="r" b="b"/>
            <a:pathLst>
              <a:path w="113" h="168">
                <a:moveTo>
                  <a:pt x="23" y="67"/>
                </a:moveTo>
                <a:cubicBezTo>
                  <a:pt x="40" y="93"/>
                  <a:pt x="28" y="107"/>
                  <a:pt x="59" y="97"/>
                </a:cubicBezTo>
                <a:cubicBezTo>
                  <a:pt x="63" y="91"/>
                  <a:pt x="73" y="86"/>
                  <a:pt x="71" y="79"/>
                </a:cubicBezTo>
                <a:cubicBezTo>
                  <a:pt x="69" y="73"/>
                  <a:pt x="56" y="67"/>
                  <a:pt x="53" y="73"/>
                </a:cubicBezTo>
                <a:cubicBezTo>
                  <a:pt x="41" y="97"/>
                  <a:pt x="64" y="107"/>
                  <a:pt x="77" y="115"/>
                </a:cubicBezTo>
                <a:cubicBezTo>
                  <a:pt x="87" y="109"/>
                  <a:pt x="105" y="108"/>
                  <a:pt x="107" y="97"/>
                </a:cubicBezTo>
                <a:cubicBezTo>
                  <a:pt x="108" y="90"/>
                  <a:pt x="61" y="80"/>
                  <a:pt x="59" y="79"/>
                </a:cubicBezTo>
                <a:cubicBezTo>
                  <a:pt x="61" y="71"/>
                  <a:pt x="57" y="58"/>
                  <a:pt x="65" y="55"/>
                </a:cubicBezTo>
                <a:cubicBezTo>
                  <a:pt x="72" y="53"/>
                  <a:pt x="78" y="66"/>
                  <a:pt x="77" y="73"/>
                </a:cubicBezTo>
                <a:cubicBezTo>
                  <a:pt x="73" y="92"/>
                  <a:pt x="23" y="97"/>
                  <a:pt x="23" y="97"/>
                </a:cubicBezTo>
                <a:cubicBezTo>
                  <a:pt x="25" y="111"/>
                  <a:pt x="19" y="129"/>
                  <a:pt x="29" y="139"/>
                </a:cubicBezTo>
                <a:cubicBezTo>
                  <a:pt x="35" y="145"/>
                  <a:pt x="41" y="127"/>
                  <a:pt x="47" y="121"/>
                </a:cubicBezTo>
                <a:cubicBezTo>
                  <a:pt x="58" y="108"/>
                  <a:pt x="68" y="93"/>
                  <a:pt x="77" y="79"/>
                </a:cubicBezTo>
                <a:cubicBezTo>
                  <a:pt x="61" y="74"/>
                  <a:pt x="41" y="79"/>
                  <a:pt x="29" y="67"/>
                </a:cubicBezTo>
                <a:cubicBezTo>
                  <a:pt x="25" y="63"/>
                  <a:pt x="41" y="62"/>
                  <a:pt x="47" y="61"/>
                </a:cubicBezTo>
                <a:cubicBezTo>
                  <a:pt x="69" y="58"/>
                  <a:pt x="91" y="57"/>
                  <a:pt x="113" y="55"/>
                </a:cubicBezTo>
                <a:cubicBezTo>
                  <a:pt x="101" y="63"/>
                  <a:pt x="89" y="71"/>
                  <a:pt x="77" y="79"/>
                </a:cubicBezTo>
                <a:cubicBezTo>
                  <a:pt x="71" y="83"/>
                  <a:pt x="59" y="91"/>
                  <a:pt x="59" y="91"/>
                </a:cubicBezTo>
                <a:cubicBezTo>
                  <a:pt x="57" y="97"/>
                  <a:pt x="49" y="105"/>
                  <a:pt x="53" y="109"/>
                </a:cubicBezTo>
                <a:cubicBezTo>
                  <a:pt x="57" y="113"/>
                  <a:pt x="67" y="98"/>
                  <a:pt x="71" y="103"/>
                </a:cubicBezTo>
                <a:cubicBezTo>
                  <a:pt x="76" y="110"/>
                  <a:pt x="67" y="119"/>
                  <a:pt x="65" y="127"/>
                </a:cubicBezTo>
                <a:cubicBezTo>
                  <a:pt x="61" y="121"/>
                  <a:pt x="59" y="113"/>
                  <a:pt x="53" y="109"/>
                </a:cubicBezTo>
                <a:cubicBezTo>
                  <a:pt x="44" y="104"/>
                  <a:pt x="29" y="111"/>
                  <a:pt x="23" y="103"/>
                </a:cubicBezTo>
                <a:cubicBezTo>
                  <a:pt x="10" y="86"/>
                  <a:pt x="41" y="71"/>
                  <a:pt x="47" y="67"/>
                </a:cubicBezTo>
                <a:cubicBezTo>
                  <a:pt x="14" y="56"/>
                  <a:pt x="4" y="54"/>
                  <a:pt x="23" y="91"/>
                </a:cubicBezTo>
                <a:cubicBezTo>
                  <a:pt x="19" y="97"/>
                  <a:pt x="18" y="109"/>
                  <a:pt x="11" y="109"/>
                </a:cubicBezTo>
                <a:cubicBezTo>
                  <a:pt x="5" y="109"/>
                  <a:pt x="3" y="97"/>
                  <a:pt x="5" y="91"/>
                </a:cubicBezTo>
                <a:cubicBezTo>
                  <a:pt x="9" y="82"/>
                  <a:pt x="33" y="76"/>
                  <a:pt x="41" y="73"/>
                </a:cubicBezTo>
                <a:cubicBezTo>
                  <a:pt x="45" y="67"/>
                  <a:pt x="57" y="61"/>
                  <a:pt x="53" y="55"/>
                </a:cubicBezTo>
                <a:cubicBezTo>
                  <a:pt x="37" y="34"/>
                  <a:pt x="0" y="65"/>
                  <a:pt x="41" y="37"/>
                </a:cubicBezTo>
                <a:cubicBezTo>
                  <a:pt x="49" y="41"/>
                  <a:pt x="56" y="50"/>
                  <a:pt x="65" y="49"/>
                </a:cubicBezTo>
                <a:cubicBezTo>
                  <a:pt x="78" y="47"/>
                  <a:pt x="99" y="0"/>
                  <a:pt x="71" y="55"/>
                </a:cubicBezTo>
                <a:cubicBezTo>
                  <a:pt x="78" y="88"/>
                  <a:pt x="82" y="102"/>
                  <a:pt x="53" y="121"/>
                </a:cubicBezTo>
                <a:cubicBezTo>
                  <a:pt x="45" y="132"/>
                  <a:pt x="15" y="168"/>
                  <a:pt x="77" y="133"/>
                </a:cubicBezTo>
                <a:cubicBezTo>
                  <a:pt x="91" y="125"/>
                  <a:pt x="83" y="91"/>
                  <a:pt x="95" y="79"/>
                </a:cubicBezTo>
              </a:path>
            </a:pathLst>
          </a:custGeom>
          <a:solidFill>
            <a:srgbClr val="33cccc"/>
          </a:solidFill>
          <a:ln w="1260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6480" y="3084480"/>
            <a:ext cx="735120" cy="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6480" y="3220920"/>
            <a:ext cx="735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1000" y="3355920"/>
            <a:ext cx="735120" cy="0"/>
          </a:xfrm>
          <a:prstGeom prst="line">
            <a:avLst/>
          </a:prstGeom>
          <a:ln w="381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82960" y="2540160"/>
            <a:ext cx="1396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56240" y="1654200"/>
            <a:ext cx="0" cy="544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978520" y="2540160"/>
            <a:ext cx="10288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7815240" y="6216480"/>
            <a:ext cx="735120" cy="20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29520" y="4691160"/>
            <a:ext cx="1541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н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пекторски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вер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2157480" y="6324480"/>
            <a:ext cx="1249200" cy="27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7889760" y="5780160"/>
            <a:ext cx="587520" cy="612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981000" y="4759200"/>
            <a:ext cx="917640" cy="30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3552840" y="5099040"/>
            <a:ext cx="662040" cy="4525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095800" y="5099040"/>
            <a:ext cx="1249200" cy="802800"/>
            <a:chOff x="5095800" y="5099040"/>
            <a:chExt cx="1249200" cy="802800"/>
          </a:xfrm>
        </p:grpSpPr>
        <p:sp>
          <p:nvSpPr>
            <p:cNvPr id="144" name=""/>
            <p:cNvSpPr/>
            <p:nvPr/>
          </p:nvSpPr>
          <p:spPr>
            <a:xfrm>
              <a:off x="5242680" y="5099040"/>
              <a:ext cx="1102320" cy="66672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69240" y="5166720"/>
              <a:ext cx="1102320" cy="66672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5235120"/>
              <a:ext cx="1102320" cy="666720"/>
            </a:xfrm>
            <a:custGeom>
              <a:avLst/>
              <a:gdLst/>
              <a:ahLst/>
              <a:rect l="l" t="t" r="r" b="b"/>
              <a:pathLst>
                <a:path w="384" h="470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02"/>
                  </a:lnTo>
                  <a:cubicBezTo>
                    <a:pt x="334" y="420"/>
                    <a:pt x="330" y="414"/>
                    <a:pt x="286" y="406"/>
                  </a:cubicBezTo>
                  <a:cubicBezTo>
                    <a:pt x="258" y="404"/>
                    <a:pt x="208" y="404"/>
                    <a:pt x="172" y="424"/>
                  </a:cubicBezTo>
                  <a:cubicBezTo>
                    <a:pt x="142" y="438"/>
                    <a:pt x="146" y="458"/>
                    <a:pt x="114" y="462"/>
                  </a:cubicBezTo>
                  <a:cubicBezTo>
                    <a:pt x="82" y="470"/>
                    <a:pt x="80" y="466"/>
                    <a:pt x="40" y="458"/>
                  </a:cubicBezTo>
                  <a:cubicBezTo>
                    <a:pt x="16" y="440"/>
                    <a:pt x="0" y="432"/>
                    <a:pt x="0" y="432"/>
                  </a:cubicBez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95800" y="5235120"/>
              <a:ext cx="1175760" cy="398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тчеты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едприяти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2864400">
            <a:off x="1348200" y="5475960"/>
            <a:ext cx="1351080" cy="133560"/>
          </a:xfrm>
          <a:custGeom>
            <a:avLst/>
            <a:gdLst/>
            <a:ahLst/>
            <a:rect l="l" t="t" r="r" b="b"/>
            <a:pathLst>
              <a:path w="4656" h="240">
                <a:moveTo>
                  <a:pt x="0" y="240"/>
                </a:moveTo>
                <a:cubicBezTo>
                  <a:pt x="64" y="120"/>
                  <a:pt x="128" y="0"/>
                  <a:pt x="192" y="0"/>
                </a:cubicBezTo>
                <a:cubicBezTo>
                  <a:pt x="256" y="0"/>
                  <a:pt x="320" y="240"/>
                  <a:pt x="384" y="240"/>
                </a:cubicBezTo>
                <a:cubicBezTo>
                  <a:pt x="448" y="240"/>
                  <a:pt x="504" y="0"/>
                  <a:pt x="576" y="0"/>
                </a:cubicBezTo>
                <a:cubicBezTo>
                  <a:pt x="648" y="0"/>
                  <a:pt x="744" y="240"/>
                  <a:pt x="816" y="240"/>
                </a:cubicBezTo>
                <a:cubicBezTo>
                  <a:pt x="888" y="240"/>
                  <a:pt x="936" y="0"/>
                  <a:pt x="1008" y="0"/>
                </a:cubicBezTo>
                <a:cubicBezTo>
                  <a:pt x="1080" y="0"/>
                  <a:pt x="1168" y="240"/>
                  <a:pt x="1248" y="240"/>
                </a:cubicBezTo>
                <a:cubicBezTo>
                  <a:pt x="1328" y="240"/>
                  <a:pt x="1408" y="0"/>
                  <a:pt x="1488" y="0"/>
                </a:cubicBezTo>
                <a:cubicBezTo>
                  <a:pt x="1568" y="0"/>
                  <a:pt x="1656" y="240"/>
                  <a:pt x="1728" y="240"/>
                </a:cubicBezTo>
                <a:cubicBezTo>
                  <a:pt x="1800" y="240"/>
                  <a:pt x="1848" y="0"/>
                  <a:pt x="1920" y="0"/>
                </a:cubicBezTo>
                <a:cubicBezTo>
                  <a:pt x="1992" y="0"/>
                  <a:pt x="2088" y="240"/>
                  <a:pt x="2160" y="240"/>
                </a:cubicBezTo>
                <a:cubicBezTo>
                  <a:pt x="2232" y="240"/>
                  <a:pt x="2280" y="0"/>
                  <a:pt x="2352" y="0"/>
                </a:cubicBezTo>
                <a:cubicBezTo>
                  <a:pt x="2424" y="0"/>
                  <a:pt x="2520" y="240"/>
                  <a:pt x="2592" y="240"/>
                </a:cubicBezTo>
                <a:cubicBezTo>
                  <a:pt x="2664" y="240"/>
                  <a:pt x="2712" y="0"/>
                  <a:pt x="2784" y="0"/>
                </a:cubicBezTo>
                <a:cubicBezTo>
                  <a:pt x="2856" y="0"/>
                  <a:pt x="2952" y="240"/>
                  <a:pt x="3024" y="240"/>
                </a:cubicBezTo>
                <a:cubicBezTo>
                  <a:pt x="3096" y="240"/>
                  <a:pt x="3152" y="0"/>
                  <a:pt x="3216" y="0"/>
                </a:cubicBezTo>
                <a:cubicBezTo>
                  <a:pt x="3280" y="0"/>
                  <a:pt x="3344" y="240"/>
                  <a:pt x="3408" y="240"/>
                </a:cubicBezTo>
                <a:cubicBezTo>
                  <a:pt x="3472" y="240"/>
                  <a:pt x="3536" y="0"/>
                  <a:pt x="3600" y="0"/>
                </a:cubicBezTo>
                <a:cubicBezTo>
                  <a:pt x="3664" y="0"/>
                  <a:pt x="3728" y="240"/>
                  <a:pt x="3792" y="240"/>
                </a:cubicBezTo>
                <a:cubicBezTo>
                  <a:pt x="3856" y="240"/>
                  <a:pt x="3904" y="0"/>
                  <a:pt x="3984" y="0"/>
                </a:cubicBezTo>
                <a:cubicBezTo>
                  <a:pt x="4064" y="0"/>
                  <a:pt x="4192" y="240"/>
                  <a:pt x="4272" y="240"/>
                </a:cubicBezTo>
                <a:cubicBezTo>
                  <a:pt x="4352" y="240"/>
                  <a:pt x="4400" y="0"/>
                  <a:pt x="4464" y="0"/>
                </a:cubicBezTo>
                <a:cubicBezTo>
                  <a:pt x="4528" y="0"/>
                  <a:pt x="4592" y="120"/>
                  <a:pt x="4656" y="240"/>
                </a:cubicBezTo>
              </a:path>
            </a:pathLst>
          </a:custGeom>
          <a:noFill/>
          <a:ln w="19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6480" y="5440320"/>
            <a:ext cx="10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иции су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06680" y="5575320"/>
            <a:ext cx="514440" cy="6811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25920" y="59850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С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2160" y="49608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И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30560" y="6013440"/>
          <a:ext cx="110160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30560" y="6013440"/>
                    <a:ext cx="11016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437600" y="1255680"/>
            <a:ext cx="734760" cy="227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5364000" y="5950080"/>
            <a:ext cx="8636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9280" y="115920"/>
            <a:ext cx="609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труктурная схема ОС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833120" y="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ограммное обеспе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933800" cy="5619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948360" y="836640"/>
            <a:ext cx="2076480" cy="33242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2881440" cy="1911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79280" y="1844640"/>
            <a:ext cx="3056040" cy="3672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rot="16200000">
            <a:off x="5733000" y="322920"/>
            <a:ext cx="486000" cy="1655640"/>
          </a:xfrm>
          <a:prstGeom prst="downArrow">
            <a:avLst>
              <a:gd name="adj1" fmla="val 50000"/>
              <a:gd name="adj2" fmla="val 851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16200000">
            <a:off x="6888960" y="4425120"/>
            <a:ext cx="852480" cy="733680"/>
          </a:xfrm>
          <a:custGeom>
            <a:avLst/>
            <a:gdLst>
              <a:gd name="textAreaLeft" fmla="*/ 326520 w 852480"/>
              <a:gd name="textAreaRight" fmla="*/ 730440 w 852480"/>
              <a:gd name="textAreaTop" fmla="*/ 41796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407"/>
                </a:moveTo>
                <a:lnTo>
                  <a:pt x="12309" y="15407"/>
                </a:lnTo>
                <a:lnTo>
                  <a:pt x="12309" y="8275"/>
                </a:lnTo>
                <a:lnTo>
                  <a:pt x="9211" y="8275"/>
                </a:lnTo>
                <a:lnTo>
                  <a:pt x="15406" y="0"/>
                </a:lnTo>
                <a:lnTo>
                  <a:pt x="21600" y="8275"/>
                </a:lnTo>
                <a:lnTo>
                  <a:pt x="18502" y="8275"/>
                </a:lnTo>
                <a:lnTo>
                  <a:pt x="185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16360" y="5589720"/>
            <a:ext cx="852480" cy="733320"/>
          </a:xfrm>
          <a:custGeom>
            <a:avLst/>
            <a:gdLst>
              <a:gd name="textAreaLeft" fmla="*/ 326520 w 852480"/>
              <a:gd name="textAreaRight" fmla="*/ 730440 w 852480"/>
              <a:gd name="textAreaTop" fmla="*/ 41796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407"/>
                </a:moveTo>
                <a:lnTo>
                  <a:pt x="12309" y="15407"/>
                </a:lnTo>
                <a:lnTo>
                  <a:pt x="12309" y="8275"/>
                </a:lnTo>
                <a:lnTo>
                  <a:pt x="9211" y="8275"/>
                </a:lnTo>
                <a:lnTo>
                  <a:pt x="15406" y="0"/>
                </a:lnTo>
                <a:lnTo>
                  <a:pt x="21600" y="8275"/>
                </a:lnTo>
                <a:lnTo>
                  <a:pt x="18502" y="8275"/>
                </a:lnTo>
                <a:lnTo>
                  <a:pt x="185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2920" y="134136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авное мен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25080" y="2133720"/>
            <a:ext cx="11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ор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ио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33080" y="5877000"/>
            <a:ext cx="20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ходе рабо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551664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9440" y="106200"/>
            <a:ext cx="89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равнение результатов восстано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4560" y="634536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ложенный алгорит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83160" y="634212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андартный алгорит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330200" y="836640"/>
            <a:ext cx="2521080" cy="5400720"/>
          </a:xfrm>
          <a:prstGeom prst="rect">
            <a:avLst/>
          </a:prstGeom>
          <a:ln w="22320">
            <a:solidFill>
              <a:srgbClr val="ff0033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180040" y="907920"/>
            <a:ext cx="2487600" cy="5329440"/>
          </a:xfrm>
          <a:prstGeom prst="rect">
            <a:avLst/>
          </a:prstGeom>
          <a:ln w="22320">
            <a:solidFill>
              <a:srgbClr val="ff0033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60360" cy="4495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04920" y="927000"/>
            <a:ext cx="7273800" cy="5397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8101080" y="2276640"/>
            <a:ext cx="482400" cy="406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684360" y="106200"/>
            <a:ext cx="80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арта концентрации хлорофилла «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875640" y="765000"/>
            <a:ext cx="2268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28600" y="920880"/>
            <a:ext cx="7283520" cy="5403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028000" y="2637000"/>
            <a:ext cx="53352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1091160" y="1062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Карта динамической топограф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804000" y="960480"/>
            <a:ext cx="214488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95200" y="914400"/>
            <a:ext cx="7172280" cy="541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7620120" y="2514600"/>
            <a:ext cx="133956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2" name=""/>
          <p:cNvSpPr/>
          <p:nvPr/>
        </p:nvSpPr>
        <p:spPr>
          <a:xfrm>
            <a:off x="151560" y="10620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татистическая информация по вылов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62120" y="887400"/>
            <a:ext cx="7543800" cy="5513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761400" y="10620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овместное использование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2640" y="115920"/>
            <a:ext cx="820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Спутниковый мониторинг океа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908760" y="2548080"/>
            <a:ext cx="2268720" cy="1541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20000" y="1052640"/>
            <a:ext cx="1855800" cy="106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5877000"/>
            <a:ext cx="3529080" cy="98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122600" y="21337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ex/Poseid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9440" y="40053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aWi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26160" y="22050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24720" y="53481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60" y="1763640"/>
            <a:ext cx="52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ТП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Концентрация хлорофилл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инамическая топограф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Радиолокационное изобра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Ледовая обстанов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 rot="2255400">
            <a:off x="250560" y="4940280"/>
            <a:ext cx="1296720" cy="10414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 rot="2339400">
            <a:off x="971280" y="4652640"/>
            <a:ext cx="1224000" cy="10303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5364000" y="2565360"/>
            <a:ext cx="1729080" cy="1487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81080" y="40766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S -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 rot="2282400">
            <a:off x="1692000" y="4508280"/>
            <a:ext cx="1272960" cy="10746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 rot="2307000">
            <a:off x="2410920" y="4365720"/>
            <a:ext cx="1311480" cy="11062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 rot="2368200">
            <a:off x="3276360" y="4365360"/>
            <a:ext cx="1357200" cy="1135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5076720" y="836640"/>
            <a:ext cx="2232000" cy="137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164360" y="4221000"/>
            <a:ext cx="432000" cy="1656000"/>
          </a:xfrm>
          <a:prstGeom prst="downArrow">
            <a:avLst>
              <a:gd name="adj1" fmla="val 50000"/>
              <a:gd name="adj2" fmla="val 9583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7688400">
            <a:off x="5023440" y="5066280"/>
            <a:ext cx="431640" cy="1046160"/>
          </a:xfrm>
          <a:prstGeom prst="downArrow">
            <a:avLst>
              <a:gd name="adj1" fmla="val 50000"/>
              <a:gd name="adj2" fmla="val 6059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44360" y="115920"/>
            <a:ext cx="334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Цель рабо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8000" y="681840"/>
            <a:ext cx="87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работка и реализац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формационной технолог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я параметр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вичной продуктивност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основе спутниковых данных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воляющей повысить точность восстановления концентрации хлорофилла «а»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ля региона Дальнего Восток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эффективность обработки спутниковых данны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37640" y="115920"/>
            <a:ext cx="433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Решаемые 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765000"/>
            <a:ext cx="87487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анализ задач мониторинга и прогнозирования океанографических и гидробиологических параметров морских акваторий на основе спутниковых данных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работка программы и проведение подспутникового эксперимента по верификации данных спутникового сканера SeaWiFS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исследование погрешностей аналитических и эмпирических алгоритмов восстановления концентрации хлорофилла «а» для региона Дальнего Восток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работка региональных алгоритмов восстановления концентрации хлорофилла «а» по спутниковым данным, учитывающих особенности атмосферы и биооптического состояния вод для данного регио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работка и создание методики комплексного усвоения спутниковых данных и данных </a:t>
            </a:r>
            <a:r>
              <a:rPr b="1" i="1" lang="ru-RU" sz="1900" spc="-1" strike="noStrike">
                <a:solidFill>
                  <a:srgbClr val="ffffff"/>
                </a:solidFill>
                <a:latin typeface="Arial"/>
              </a:rPr>
              <a:t>in situ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для задач определения параметров первичной продуктивност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работка программного обеспечения для реализации методик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7380360" cy="4221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Дистанционные опт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методы исследования океа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04280"/>
            <a:ext cx="5796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ичной продуктивностью принято называть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корость новообразования органического веществ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тоавтотрофными организмами за счет поглощенно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ечной энерги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 процесс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иологического превращ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ргии света в химически связанную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виде органических веществ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ргию называется фотосинтез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9920" y="1268280"/>
            <a:ext cx="7081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 +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ве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(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6669000"/>
            <a:ext cx="136692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4946760"/>
            <a:ext cx="3384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лорофилл «а» является одним из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гментов фитопланктона и имее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арактерный спектр поглощ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16360" y="5954760"/>
            <a:ext cx="4392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мимо хлорофилла «а» на цвет морской воды влияют растворённое органическое вещество и неорганические взвес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395280" y="1098720"/>
          <a:ext cx="820908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098720"/>
                    <a:ext cx="82090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0" y="619200"/>
          <a:ext cx="9144000" cy="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9200"/>
                    <a:ext cx="914400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1764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Тенденции развит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276720" y="4724280"/>
            <a:ext cx="936360" cy="636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4788000" y="3141720"/>
            <a:ext cx="1079280" cy="733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1908000" y="5084640"/>
            <a:ext cx="792360" cy="5367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6084720" y="1125360"/>
            <a:ext cx="158436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73160" y="5330880"/>
            <a:ext cx="7169040" cy="642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центрация хлорофилл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1052640"/>
            <a:ext cx="7110360" cy="642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егистрируемое излуч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66840" y="2593800"/>
            <a:ext cx="667224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тмосферная коррек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66840" y="3895560"/>
            <a:ext cx="6672240" cy="632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иооптические алгорит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7800" y="1878120"/>
            <a:ext cx="561960" cy="636480"/>
          </a:xfrm>
          <a:prstGeom prst="downArrow">
            <a:avLst>
              <a:gd name="adj1" fmla="val 50000"/>
              <a:gd name="adj2" fmla="val 28315"/>
            </a:avLst>
          </a:prstGeom>
          <a:solidFill>
            <a:srgbClr val="cc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7800" y="4603680"/>
            <a:ext cx="561960" cy="636480"/>
          </a:xfrm>
          <a:prstGeom prst="downArrow">
            <a:avLst>
              <a:gd name="adj1" fmla="val 50000"/>
              <a:gd name="adj2" fmla="val 28315"/>
            </a:avLst>
          </a:prstGeom>
          <a:solidFill>
            <a:srgbClr val="cc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57800" y="3241800"/>
            <a:ext cx="561960" cy="635040"/>
          </a:xfrm>
          <a:prstGeom prst="downArrow">
            <a:avLst>
              <a:gd name="adj1" fmla="val 50000"/>
              <a:gd name="adj2" fmla="val 28251"/>
            </a:avLst>
          </a:prstGeom>
          <a:solidFill>
            <a:srgbClr val="cc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442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Основные этапы обработ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35280" y="4428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тмосферная корре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42920" y="3284640"/>
                <a:ext cx="6993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01520" y="1916280"/>
                <a:ext cx="9042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492360" y="4543200"/>
            <a:ext cx="237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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ru-RU" sz="3600" spc="-1" strike="noStrike" baseline="30000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600" spc="-1" strike="noStrike" baseline="30000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8:28:00Z</dcterms:created>
  <dc:creator>default</dc:creator>
  <dc:description/>
  <dc:language>en-US</dc:language>
  <cp:lastModifiedBy>Yuri V. Fefilov</cp:lastModifiedBy>
  <dcterms:modified xsi:type="dcterms:W3CDTF">2003-11-09T13:03:13Z</dcterms:modified>
  <cp:revision>223</cp:revision>
  <dc:subject/>
  <dc:title>Об информационном обеспечении управления отраслью</dc:title>
</cp:coreProperties>
</file>