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59FC-E124-46A5-8186-95DD47EF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B007-70EE-4057-8573-49F6BD87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F06B-37E1-43E6-8710-EA267149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AC2D-6AEF-4D9B-8C17-FC5B1A33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345B-24F0-4BBE-AF7F-37F2A1E1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297A-47F8-406F-82E0-C2720613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029C-A2A7-423E-98AD-6B0A610A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E8C3-090A-4CF5-91CE-1C484C2C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64C2-B8B1-4AE5-BA0B-E558FDB7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E878-7335-4359-9F02-CFABE4B4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3829-C1A1-46CC-B54C-FBAD6B7B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D826-E3F8-4B85-885E-9B259222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77CE-19CE-4093-8FFC-03219EB2E8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312408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ДИАГНОСТИКА И ПРОГНОЗ ВЛИЯНИЯ ГЛОБАЛЬНЫХ КЛИМАТИЧЕСКИХ ОСЦИЛЛЯЦИЙ НА АКТИВНОСТ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ДАЛЬНЕВОСТОЧНЫХ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УРАГАН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3573360"/>
            <a:ext cx="87138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А. Головко, И.Л. Ром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ероссийская научная конфер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временные проблемы дистанционного зондирования Земли из космо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сква, 10-12 ноября 200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189000"/>
            <a:ext cx="6408720" cy="4597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Иерархический байесовский под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3359520"/>
            <a:ext cx="871380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атистический анализ климатологии тропических ураганов должен учитывать пространственную изменчивость частоты их появления, авторегрессионные члены, и полный набор климатических факторов, влияющих на возникновение и эволюцию этих природных явлений (характеристики уходящего излучения, индексы основных осцилляций климата и т.п.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759600"/>
            <a:ext cx="8713800" cy="22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инципиальная идея подхода к построению иерархической модели заключается в поэтапном решении сложной статистической зада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и этом подходе сложные структуры описания процесса представлены набором условных моделей, формально связанных между собой вероятностными правилами.                   Байесовский формализм позволяет оценить характеристики пространственно-временной изменчивости скрытого динамического процесса, ответственного за частоту появления урага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айесовские модели позволяют успешно интегрировать данные различных информационных источников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4871880"/>
            <a:ext cx="8642160" cy="17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 результате иерархическая модель дает апостериорное распределение пространственно-временных характеристик ураганов. Вычисление апостериорного распределения для сложной модели сопряжено со значительными вычислительными трудностями в связи большой размерностью задачи. И хотя непосредственно вычислить апостериорное распределение часто не представляется возможным, результат можно получить путем моделирования, используя вычислительный алгоритм цепей Маркова - Монте-Карло (МСМС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7561440" cy="554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476360" y="3284640"/>
            <a:ext cx="5999040" cy="318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746280" y="1050480"/>
            <a:ext cx="5972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ервый уровень: модель данных [данные | процесс, параметры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торой уровень: модель процесса [процесс | параметры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ретий уровень: модель параметров [параметры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763640" y="1341360"/>
                <a:ext cx="245124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|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POI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763640" y="1989000"/>
                <a:ext cx="5010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763640" y="2708280"/>
                <a:ext cx="92412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987640" y="2708280"/>
                <a:ext cx="98100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113360" y="2724120"/>
                <a:ext cx="56196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,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930920" y="2708280"/>
                <a:ext cx="102852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763640" y="2997360"/>
                <a:ext cx="1019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I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843280" y="2997360"/>
                <a:ext cx="1171440" cy="24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I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095720" y="2997360"/>
                <a:ext cx="56196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,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932360" y="2997360"/>
                <a:ext cx="99072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ε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I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2050920" y="333360"/>
            <a:ext cx="5042160" cy="4597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Иерархическая мод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68360" y="3860640"/>
            <a:ext cx="3988080" cy="26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39640" y="692280"/>
            <a:ext cx="3998880" cy="285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643280" y="692280"/>
            <a:ext cx="4000680" cy="285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5364000" y="3500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грешность оц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38172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странственное расположение значимых значений (с вероятностью 9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189000"/>
            <a:ext cx="8785440" cy="39888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Пространственные характеристики основных параметров 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3500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вторегре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411280" y="3933720"/>
            <a:ext cx="3988080" cy="260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95280" y="765000"/>
            <a:ext cx="4000680" cy="285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633920" y="725400"/>
            <a:ext cx="4000320" cy="285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179280" y="189000"/>
            <a:ext cx="8785440" cy="39888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Пространственные характеристики основных параметров 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0" y="3500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грешность оц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649116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странственное расположение значимых значений (с вероятностью 9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357336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декс Южного колеб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89000" y="706320"/>
            <a:ext cx="4000320" cy="285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653000" y="706320"/>
            <a:ext cx="4000320" cy="285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411280" y="3860640"/>
            <a:ext cx="3992760" cy="262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79280" y="189000"/>
            <a:ext cx="8785440" cy="39888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Пространственные характеристики основных параметров 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64000" y="3500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грешность оц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649116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странственное расположение значимых значений (с вероятностью 9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50028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декс Северо-Атлантического колеб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076720" y="3789360"/>
            <a:ext cx="3868920" cy="271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1187280" y="4437000"/>
            <a:ext cx="3598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гноз интегральной характеристики УДР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области зарождения тайфунов с помощью  метода главных осциллирующих образов (Р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260280"/>
            <a:ext cx="6337440" cy="4597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Прогноз годового количества тайфу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95280" y="836640"/>
            <a:ext cx="4608360" cy="3208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076720" y="937080"/>
            <a:ext cx="388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ля выделенной области зарождения тайфунов в западной части Тихого океана была установлена статистическая значимость региональных характеристик УДР, как оптимальных предикторов годового количества тайфунов в исследуем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00720" y="580536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гноз количества тайфунов на ближайшие 5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260280"/>
            <a:ext cx="6337440" cy="4597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Прогноз годового количества тайфу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4038480" cy="27576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635280" y="765000"/>
            <a:ext cx="5219640" cy="4559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68360" y="765720"/>
            <a:ext cx="316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лидация полученных результатов прогноза количества тайфунов на основе сопоставления с данными независимых наблюдений за трехлетний период показывает, что средняя относительная точность прогноза составляет около 1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498760" y="5745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0920" y="333360"/>
            <a:ext cx="5257800" cy="4597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860040"/>
            <a:ext cx="8569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 На основе 18-летнего ряда космических радиационных наблюдений выявлены пространственно-временные структуры аномалий УДР, описывающие динамику основных процессов в радиационном поле Зем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 Исследована возможность среднесрочного прогноза пространственного распределения аномалий УДР статистическими методами в различных широтных зонах. Относительная средняя точность среднесрочного прогноза УДР в пространственной ячейке 2.5° на 2.5° составляет около 3%, относительная точность интегрального значения УДР в заданной широтно-долготной зоне не превышает 0.5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 Построена Байесовская иерархическая статистическая модель, связывающая пространственное распределение годового количества наблюдений тайфунов с характеристиками поля УДР и основными осциллирующими климатическими индекс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 Для выделенной области зарождения тайфунов в западной части Тихого океана была установлена статистическая значимость интегральной характеристики уходящего длинноволнового излучения, как оптимального предиктора годового количества тайфунов в исследуемой области. Подтверждена статистически значимая связь индекса Южного колебания с пространственным распределением годового количества тайфунов. Отвергнута гипотеза о наличии статистически значимой связи с индексом Северно-Атлантического колеб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 На основе прогнозируемых значений поля УДР в области зарождения тайфунов с помощью одномерной иерархической модели получены оценки среднегодового количества тайфунов до 2008 года. Средняя относительная точность прогноза на три года составляет около 10 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5745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333360"/>
            <a:ext cx="8064720" cy="4597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Актуальность и научная новизна решаемых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564000" y="907920"/>
            <a:ext cx="527688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6200" y="830160"/>
            <a:ext cx="3116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898560"/>
            <a:ext cx="3421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◊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первые экспериментальные данные, накопленные за период около 20 лет, позволяют выявить основные особенности короткопериодных изменений климата Земли, связанных с аномалиями глобального перераспределения составляющих радиационного балан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◊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основе анализа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арактеристик уходящего излучения Земли и основных осциллирующих компонентов климата может быть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сследована возможность решения одной из наиболее актуальных задач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построения математической пространственно-временной модели, позволяющей осуществлять диагностику и прогноз аномальных природных явлений и, в первую очередь, мощных тропических циклонов (тайфуно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98760" y="5745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333360"/>
            <a:ext cx="5257800" cy="82548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Аномальные климатические изменения в конце ХХ 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62080" y="1290600"/>
            <a:ext cx="8619840" cy="4276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280" y="5695560"/>
            <a:ext cx="871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конструированный временной ход длинноволновой составляющей радиационного баланса Земли в экваториальной зоне (± 20°) за последние 18 ле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основные аномальные природные явления за этот пери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98760" y="5745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79640" y="115920"/>
            <a:ext cx="5257800" cy="82548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Аномальные климатические изменения в конце ХХ 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92360" y="981000"/>
            <a:ext cx="5790960" cy="5181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609228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овместная эволюция аномалий коротковолновой и длинноволновой составляющих РБЗ относительно базового периода 1984-1989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498760" y="5745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0920" y="333360"/>
            <a:ext cx="5257800" cy="82548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Аномальные климатические изменения в конце ХХ 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62197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498760" y="5745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333360"/>
            <a:ext cx="8642160" cy="4291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Times New Roman"/>
              </a:rPr>
              <a:t>Особенности  циклогенеза северо-западной акватории Тихого океа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19280" y="836640"/>
            <a:ext cx="5184720" cy="2793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619280" y="3600360"/>
            <a:ext cx="5184720" cy="3025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48360" y="1628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чальная стадия развития Т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48360" y="436572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ключительная стадия существования Т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98760" y="5745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260280"/>
            <a:ext cx="7417080" cy="82548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Особенности  циклогенеза северо-западной акватории Тихого оке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8001000" cy="55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498760" y="57456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89000"/>
            <a:ext cx="8569080" cy="4291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Times New Roman"/>
              </a:rPr>
              <a:t>Особенности  циклогенеза северо-западной акватории Тихого океа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258920" y="692280"/>
            <a:ext cx="6192720" cy="3000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258920" y="3645000"/>
            <a:ext cx="61945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9280" y="5445000"/>
            <a:ext cx="842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личество наблюдений тайфунов с 1945 по 2002 год в каждой пространственной ячейке разрешения (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×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547640" y="692280"/>
            <a:ext cx="609624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50920" y="189000"/>
            <a:ext cx="8642160" cy="4291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Times New Roman"/>
              </a:rPr>
              <a:t>Особенности  циклогенеза северо-западной акватории Тихого океа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01:31:54Z</dcterms:created>
  <dc:creator>Vladimir Golovko</dc:creator>
  <dc:description/>
  <dc:language>en-US</dc:language>
  <cp:lastModifiedBy>Vladimir Golovko</cp:lastModifiedBy>
  <dcterms:modified xsi:type="dcterms:W3CDTF">2003-11-10T00:00:33Z</dcterms:modified>
  <cp:revision>15</cp:revision>
  <dc:subject/>
  <dc:title>Диагностика и прогноз влияния глобальных климатических осцилляций на активность дальневосточных ураганов </dc:title>
</cp:coreProperties>
</file>