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9.jpeg" ContentType="image/jpeg"/>
  <Override PartName="/ppt/media/image11.jpeg" ContentType="image/jpeg"/>
  <Override PartName="/ppt/media/image1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CE5-3D76-4884-BE18-0141670B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5BB-1CB4-4BF3-B4BE-E3C4D484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06D-0B0B-4793-8A21-E5678C20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745-F884-476A-84FD-FE3645E1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AF61-0689-45F0-A7A9-F2EB522D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D92E-B5A1-435D-B591-9D7A6FEB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5FAD-D754-45E7-A7B7-89C8DE8E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EB2B-77EE-4474-A2E6-BB165A1E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8E97-6C5C-476E-9056-BADEC70E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6CEE-9572-4795-949D-E4A1FC13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4C17-F9E2-4DAE-943A-729C447F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C4A-554A-4F45-9B47-3338D8FE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29F9-D9DC-4034-A8C5-18E4D7C0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6A8E-2FEC-461D-967B-8D492F8A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9221-C7CE-447B-A6E1-C52BD5B0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2389-80FB-44BB-84DA-5F7C830A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0082-7380-4108-8B7C-5DE77FF5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35B-FA25-40BE-A9FB-A9B417AA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294-531F-4FF2-93DE-23006335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466-9DE8-4A60-A32A-55BC3B8F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2E4-B171-44FD-A688-E758913D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F02-16CA-4B90-A144-DD73C285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6B1-6E5E-4F0F-9DF6-E7B80BE1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07C-585A-431D-97A4-1FF0A4F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B4F1-9E0A-48A2-857C-8036C6D447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5985-0791-472C-878D-A14A5C00F8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411480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16765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33520"/>
            <a:ext cx="7921800" cy="62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Cyr"/>
              </a:rPr>
              <a:t>Космические измерительные мето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Cyr"/>
              </a:rPr>
              <a:t>ИК теплового диапазо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Cyr"/>
              </a:rPr>
              <a:t>при мониторинг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Cyr"/>
              </a:rPr>
              <a:t>потенциально опасных явлений и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В.И. Гор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8000"/>
                </a:solidFill>
                <a:latin typeface="Times New Roman"/>
              </a:rPr>
              <a:t>НАУЧНО-ИССЛЕДОВАТЕЛЬСКИЙ ЦЕНТ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8000"/>
                </a:solidFill>
                <a:latin typeface="Times New Roman"/>
              </a:rPr>
              <a:t>ЭКОЛОГИЧЕСКОЙ БЕЗОПАСНО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8000"/>
                </a:solidFill>
                <a:latin typeface="Times New Roman"/>
              </a:rPr>
              <a:t>РОССИЙСКОЙ АКАДЕМИИ НАУ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E-mail: img@at1895.spb.ed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80880"/>
            <a:ext cx="8153280" cy="594360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1" descr=""/>
          <p:cNvPicPr/>
          <p:nvPr/>
        </p:nvPicPr>
        <p:blipFill>
          <a:blip r:embed="rId1"/>
          <a:stretch/>
        </p:blipFill>
        <p:spPr>
          <a:xfrm>
            <a:off x="0" y="1620720"/>
            <a:ext cx="9144000" cy="5237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9480" y="838080"/>
            <a:ext cx="77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арты температуры воды в районе АЭС Оскарсхам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11680" y="15228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Шве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1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971880" cy="5257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09480" y="838080"/>
            <a:ext cx="77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арты температуры воды в районе АЭС Олькилуо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1320" y="152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Финлянд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1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990960" cy="5334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арты температуры воды в районе Ленинградской АЭ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21320" y="1522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оссийская Федер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7400" y="990720"/>
            <a:ext cx="4876920" cy="5867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0" y="990720"/>
          <a:ext cx="460548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46054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365760" y="11592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авнение теплоотдачи шлейфов АЭС и шлейфов ре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падающих в Балти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5960" y="2362320"/>
            <a:ext cx="82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Космический мониторинг городских теплопоте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1" descr=""/>
          <p:cNvPicPr/>
          <p:nvPr/>
        </p:nvPicPr>
        <p:blipFill>
          <a:blip r:embed="rId1"/>
          <a:stretch/>
        </p:blipFill>
        <p:spPr>
          <a:xfrm>
            <a:off x="57240" y="1752480"/>
            <a:ext cx="9086760" cy="4015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219320" y="533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равнение теплопотерь С-Петербурга и Хельсин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1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9144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892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0880" y="3049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Характеристика теплопотерь С-Петербурга и Хельсин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пливно-э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ергетический баланс Ленинградской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1" descr=""/>
          <p:cNvPicPr/>
          <p:nvPr/>
        </p:nvPicPr>
        <p:blipFill>
          <a:blip r:embed="rId1"/>
          <a:stretch/>
        </p:blipFill>
        <p:spPr>
          <a:xfrm>
            <a:off x="304920" y="776160"/>
            <a:ext cx="8534160" cy="6081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85200" y="1371600"/>
            <a:ext cx="182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Проект поддержан фондом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Дж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К. Макартуров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85800"/>
            <a:ext cx="85341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Карта плотности теплового потока городов Ленинградской обла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по данным измерений со спутн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AA(AVHR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685800"/>
            <a:ext cx="8534160" cy="6172200"/>
          </a:xfrm>
          <a:prstGeom prst="rect">
            <a:avLst/>
          </a:prstGeom>
          <a:noFill/>
          <a:ln cap="sq"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7320" y="0"/>
            <a:ext cx="853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арта состояния лесов Всеволожского райо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Ленинградской области (по данным повторных съемок спутником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dsat T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1" descr=""/>
          <p:cNvPicPr/>
          <p:nvPr/>
        </p:nvPicPr>
        <p:blipFill>
          <a:blip r:embed="rId1"/>
          <a:stretch/>
        </p:blipFill>
        <p:spPr>
          <a:xfrm>
            <a:off x="2281320" y="798480"/>
            <a:ext cx="4726080" cy="609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0" y="838080"/>
            <a:ext cx="4724280" cy="6019920"/>
          </a:xfrm>
          <a:prstGeom prst="rect">
            <a:avLst/>
          </a:prstGeom>
          <a:noFill/>
          <a:ln cap="sq"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" descr=""/>
          <p:cNvPicPr/>
          <p:nvPr/>
        </p:nvPicPr>
        <p:blipFill>
          <a:blip r:embed="rId1"/>
          <a:stretch/>
        </p:blipFill>
        <p:spPr>
          <a:xfrm>
            <a:off x="0" y="1895400"/>
            <a:ext cx="9144000" cy="229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38080" y="878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ропускание электромагнитных волн атмосферой Зем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905120"/>
            <a:ext cx="380880" cy="914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-128520" y="21754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Видимы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2209680"/>
            <a:ext cx="83844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4080" y="2209680"/>
            <a:ext cx="165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Инфра-красный (ИК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2438280"/>
            <a:ext cx="99036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440" y="2362320"/>
            <a:ext cx="118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Пропуска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на 1км столб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1981080"/>
            <a:ext cx="121932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1981080"/>
            <a:ext cx="12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СВЧ диапазо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2362320"/>
            <a:ext cx="327636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514600"/>
            <a:ext cx="99072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05920" y="2438280"/>
            <a:ext cx="76176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4200" y="236232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Частота, Гц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3886200"/>
            <a:ext cx="83808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24400" y="388620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Длина волн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962520"/>
            <a:ext cx="2286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962520"/>
            <a:ext cx="2286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" descr=""/>
          <p:cNvPicPr/>
          <p:nvPr/>
        </p:nvPicPr>
        <p:blipFill>
          <a:blip r:embed="rId1"/>
          <a:stretch/>
        </p:blipFill>
        <p:spPr>
          <a:xfrm>
            <a:off x="2990880" y="762120"/>
            <a:ext cx="3886200" cy="6095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04640" y="228600"/>
            <a:ext cx="47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епловой баланс земной поверх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1" descr=""/>
          <p:cNvPicPr/>
          <p:nvPr/>
        </p:nvPicPr>
        <p:blipFill>
          <a:blip r:embed="rId1"/>
          <a:stretch/>
        </p:blipFill>
        <p:spPr>
          <a:xfrm>
            <a:off x="6480" y="882720"/>
            <a:ext cx="9131040" cy="5975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00" y="152280"/>
            <a:ext cx="91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Закономерности суточной динамики температуры поверх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Fig_1" descr=""/>
          <p:cNvPicPr/>
          <p:nvPr/>
        </p:nvPicPr>
        <p:blipFill>
          <a:blip r:embed="rId1"/>
          <a:stretch/>
        </p:blipFill>
        <p:spPr>
          <a:xfrm>
            <a:off x="3494160" y="1600200"/>
            <a:ext cx="3397320" cy="5257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0960" y="1922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800" y="2068560"/>
            <a:ext cx="3326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ffff"/>
                </a:solidFill>
                <a:uFillTx/>
                <a:latin typeface="Arial"/>
              </a:rPr>
              <a:t>Исходные материал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 многократная теплова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ИК аэро-космическая съемка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 срочные данные метеонаблюден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ffff"/>
                </a:solidFill>
                <a:uFillTx/>
                <a:latin typeface="Arial"/>
              </a:rPr>
              <a:t>Измеряемые характеристики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 тепловой поток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Вт/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i="1" lang="en-GB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 тепловая инерция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ЕТИ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* скорость испарения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мм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сут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0960" y="78732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танционное определение теплового потока, тепловой инерц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скорости испарения влаги с дневной поверх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1" descr=""/>
          <p:cNvPicPr/>
          <p:nvPr/>
        </p:nvPicPr>
        <p:blipFill>
          <a:blip r:embed="rId1"/>
          <a:stretch/>
        </p:blipFill>
        <p:spPr>
          <a:xfrm>
            <a:off x="0" y="762120"/>
            <a:ext cx="4692600" cy="6095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19720" y="4038480"/>
            <a:ext cx="47242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115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грешности мет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65640" y="186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32920" y="1676520"/>
            <a:ext cx="393588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По результатм повторных наблюдени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в марте и апреле 1998г  ср. кв. ошиб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определения теплового пото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одиночного пикселя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составила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10 </a:t>
            </a:r>
            <a:r>
              <a:rPr b="0" i="1" lang="en-GB" sz="2400" spc="-1" strike="noStrike">
                <a:solidFill>
                  <a:srgbClr val="ff9933"/>
                </a:solidFill>
                <a:latin typeface="Arial"/>
              </a:rPr>
              <a:t>Вт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/</a:t>
            </a:r>
            <a:r>
              <a:rPr b="0" i="1" lang="ru-RU" sz="2400" spc="-1" strike="noStrike">
                <a:solidFill>
                  <a:srgbClr val="ff9933"/>
                </a:solidFill>
                <a:latin typeface="Arial"/>
              </a:rPr>
              <a:t>м</a:t>
            </a:r>
            <a:r>
              <a:rPr b="0" i="1" lang="ru-RU" sz="2400" spc="-1" strike="noStrike" baseline="30000">
                <a:solidFill>
                  <a:srgbClr val="ff99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6320" y="556272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Систематическ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2640" y="601992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Случайная -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7640" y="5029200"/>
            <a:ext cx="264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ТП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С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Вт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5240" y="5562720"/>
            <a:ext cx="229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1.5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3.0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4267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шибки алгоритм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191120"/>
            <a:ext cx="4419720" cy="23619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1523880"/>
            <a:ext cx="8763120" cy="4114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286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ременные космические системы сбора цифровой измерительной информации ДЗЗ, использующи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-тепловой диапаз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60360" y="1828800"/>
          <a:ext cx="8859960" cy="425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1828800"/>
                    <a:ext cx="885996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73400" y="2158920"/>
            <a:ext cx="65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атомных электростан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тепловой баланс Балтийского мо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1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4648320" cy="5943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95640" y="0"/>
            <a:ext cx="671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хема размещения атомных электростанц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а побережье Балтийского мор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7:48:42Z</dcterms:created>
  <dc:creator>Andrew A. Tronin</dc:creator>
  <dc:description/>
  <dc:language>en-US</dc:language>
  <cp:lastModifiedBy>gorny</cp:lastModifiedBy>
  <dcterms:modified xsi:type="dcterms:W3CDTF">2003-11-05T13:11:51Z</dcterms:modified>
  <cp:revision>529</cp:revision>
  <dc:subject/>
  <dc:title>Victor I.Gorny Remote sensing of plate drift, mantle convection, terrestrial heat flow for GEOHAZARD  project</dc:title>
</cp:coreProperties>
</file>