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3DB6-DB06-49E3-9676-E7FE08C3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440E-9E1F-45BE-B96D-054E68D2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891F-CEBD-4394-AB6A-E0089006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5641-A301-4407-B979-07D249A6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7C2B-E200-4AA1-9A12-8B75F5EE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B9C8-129A-4FCC-A125-B846F69D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5BBD-250B-4AFD-B243-97981EA6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7F5A-6A25-470C-81D2-B7E5F453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B190-5F80-48CA-ABA1-C1F080A5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322F-49EB-421B-85CF-7B138039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B712-C0FB-4815-8569-D8E64221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A83D-BBD1-4C15-842F-9006A40D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7570"/>
            </a:gs>
            <a:gs pos="100000">
              <a:srgbClr val="f3f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7935-89BC-4EAA-B46E-B21B3B5C38B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7209-1890-416E-B69A-0573307BF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pn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7570"/>
            </a:gs>
            <a:gs pos="100000">
              <a:srgbClr val="f3f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28600"/>
            <a:ext cx="7620120" cy="3385800"/>
          </a:xfrm>
          <a:prstGeom prst="rect">
            <a:avLst/>
          </a:prstGeom>
          <a:solidFill>
            <a:srgbClr val="f3fff3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боты с архивными данными дистанционного зондирования Земли  раздела Госфонд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НИИГМИ-МЦ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ttp://www.meteo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ВНИИГМИ-МЦД"/>
          <p:cNvPicPr/>
          <p:nvPr/>
        </p:nvPicPr>
        <p:blipFill>
          <a:blip r:embed="rId1"/>
          <a:stretch/>
        </p:blipFill>
        <p:spPr>
          <a:xfrm>
            <a:off x="533520" y="3048120"/>
            <a:ext cx="2971800" cy="17334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2057400" y="510552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Хохлова А.В.,      Георгиева Л.А, Гонтарь Н.И.,    Тимофеев А.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153-977A-4037-A1E6-53027BEA17E7}" type="slidenum">
              <a:t>1</a:t>
            </a:fld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7570"/>
            </a:gs>
            <a:gs pos="100000">
              <a:srgbClr val="f3f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192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6553440" cy="1447920"/>
          </a:xfrm>
          <a:prstGeom prst="rect">
            <a:avLst/>
          </a:prstGeom>
          <a:solidFill>
            <a:srgbClr val="f3fff3"/>
          </a:solid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аРаБ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ПО 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становление температуры поверхности океана (ТП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36560" y="2057400"/>
            <a:ext cx="586908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1E74-12AD-497F-972B-A5D5C21E36CA}" type="slidenum">
              <a:t>10</a:t>
            </a:fld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7570"/>
            </a:gs>
            <a:gs pos="100000">
              <a:srgbClr val="f3f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3600"/>
            <a:ext cx="7848720" cy="1388880"/>
          </a:xfrm>
          <a:prstGeom prst="rect">
            <a:avLst/>
          </a:prstGeom>
          <a:solidFill>
            <a:srgbClr val="f3fff3"/>
          </a:solid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аРа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 ТПО + атмосфера  -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внение измеренных и рассчитанных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R, L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3886200" cy="274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1219320" y="4267080"/>
          <a:ext cx="7391160" cy="2286000"/>
        </p:xfrm>
        <a:graphic>
          <a:graphicData uri="http://schemas.openxmlformats.org/drawingml/2006/table">
            <a:tbl>
              <a:tblPr/>
              <a:tblGrid>
                <a:gridCol w="2438280"/>
                <a:gridCol w="787320"/>
                <a:gridCol w="1041480"/>
                <a:gridCol w="1041480"/>
                <a:gridCol w="1041480"/>
                <a:gridCol w="10411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T,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,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LW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/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D (DLW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/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E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клим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HMI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клим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HMI, LOWTRAN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.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3886200" y="335268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дние и среднеквадратичные ошиб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2209680"/>
            <a:ext cx="44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иксели, по  которым производилось сравн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D6D5-A659-423E-BC2B-817E687EF14E}" type="slidenum">
              <a:t>11</a:t>
            </a:fld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7570"/>
            </a:gs>
            <a:gs pos="100000">
              <a:srgbClr val="f3f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1525680"/>
          </a:xfrm>
          <a:prstGeom prst="rect">
            <a:avLst/>
          </a:prstGeom>
          <a:solidFill>
            <a:srgbClr val="f3fff3"/>
          </a:solid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аРаБ + ТПО + атмосфера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шибки расче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R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W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иксел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дентифицированных как безоблачные и частично облач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219320" y="1905120"/>
          <a:ext cx="67244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05120"/>
                    <a:ext cx="67244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F667-79DE-4BF0-B91D-77102AADE9E4}" type="slidenum">
              <a:t>12</a:t>
            </a:fld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7570"/>
            </a:gs>
            <a:gs pos="100000">
              <a:srgbClr val="f3f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3fff3"/>
          </a:solid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AA POES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станция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RPT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Якутс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3fff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нные  с 1995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ный комплекс для обработ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гиональный проект РФФИ – Республика Сах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2001 г.  - создание базы данных по  лесным пожарам на основе данных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A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ля территории Якут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6E9D-85D3-48B5-9BD5-D13BC2B2E161}" type="slidenum">
              <a:t>13</a:t>
            </a:fld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7570"/>
            </a:gs>
            <a:gs pos="100000">
              <a:srgbClr val="f3f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523880"/>
          </a:xfrm>
          <a:prstGeom prst="rect">
            <a:avLst/>
          </a:prstGeom>
          <a:solidFill>
            <a:srgbClr val="f3fff3"/>
          </a:solid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AA POES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горитмы для обнаружения пожаров по архивным данны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772400" cy="3886200"/>
          </a:xfrm>
          <a:prstGeom prst="rect">
            <a:avLst/>
          </a:prstGeom>
          <a:solidFill>
            <a:srgbClr val="f3fff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T3 &gt; 311 K, T3 - T4 &gt;12 K, T4 &gt; 290 K, A1 &lt; 10%, A2 - A1 &gt; 2%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IGB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T3 &gt; 315 K, T3 - T4 &gt;8 K, NDVI &gt;0.05, тест на облачность и блик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Ti и Ai - значение температуры или альбедо i-кана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024-0974-49FC-AD93-E0ECC454EA9F}" type="slidenum">
              <a:t>14</a:t>
            </a:fld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7570"/>
            </a:gs>
            <a:gs pos="100000">
              <a:srgbClr val="f3f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18880"/>
            <a:ext cx="7086600" cy="1076040"/>
          </a:xfrm>
          <a:prstGeom prst="rect">
            <a:avLst/>
          </a:prstGeom>
          <a:solidFill>
            <a:srgbClr val="f3fff3"/>
          </a:solid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AA 14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жары за 23.06.2000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гион 48-53 N и 130-133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04920" y="1447920"/>
          <a:ext cx="3809880" cy="32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3809880" cy="32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334120" y="1447920"/>
          <a:ext cx="3809880" cy="370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1447920"/>
                    <a:ext cx="380988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133720" y="3886200"/>
          <a:ext cx="3800520" cy="267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3886200"/>
                    <a:ext cx="380052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3339-7475-4B91-AF76-2D7FC2705752}" type="slidenum">
              <a:t>15</a:t>
            </a:fld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7570"/>
            </a:gs>
            <a:gs pos="100000">
              <a:srgbClr val="f3f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1928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solidFill>
            <a:srgbClr val="f3fff3"/>
          </a:solid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AA 14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жары за июль 2000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0-65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, 120-140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2286000"/>
          <a:ext cx="772632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2103480"/>
                <a:gridCol w="1295280"/>
                <a:gridCol w="1219320"/>
                <a:gridCol w="1554120"/>
              </a:tblGrid>
              <a:tr h="13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пожа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жор. оценка общей сгоревшей площади, кв. к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1,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3, 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3-Т4, 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9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4DDE-0FF0-43B2-B6A0-B60648531336}" type="slidenum">
              <a:t>16</a:t>
            </a:fld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7570"/>
            </a:gs>
            <a:gs pos="100000">
              <a:srgbClr val="f3f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086600" cy="1143000"/>
          </a:xfrm>
          <a:prstGeom prst="rect">
            <a:avLst/>
          </a:prstGeom>
          <a:solidFill>
            <a:srgbClr val="f3fff3"/>
          </a:solid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SM/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яркостная температура в полярных регион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solidFill>
            <a:srgbClr val="f3fff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нны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яркостные температуры на сетке в полярных регионах, спутник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8, F11, F13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1987 г., производятся и распространяютс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IDC US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 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ПО для формирования временных ряд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из временных рядов яркостной температуры, осредненной по заданной  площад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EC05-C73E-4505-8DCD-4F54E2A25C91}" type="slidenum">
              <a:t>17</a:t>
            </a:fld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7570"/>
            </a:gs>
            <a:gs pos="100000">
              <a:srgbClr val="f3f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2133360"/>
          </a:xfrm>
          <a:prstGeom prst="rect">
            <a:avLst/>
          </a:prstGeom>
          <a:solidFill>
            <a:srgbClr val="f3fff3"/>
          </a:solid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SM/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временной ход яркостной температуры в 7 каналах для полярных регион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600х600, 12.5 к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300x300, 25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м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Арктик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Антарктика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2819520"/>
          <a:ext cx="364824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364824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724280" y="2819520"/>
          <a:ext cx="3762360" cy="302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762360" cy="30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43AD-60E0-40FC-A2CD-066F425B9E37}" type="slidenum">
              <a:t>18</a:t>
            </a:fld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7570"/>
            </a:gs>
            <a:gs pos="100000">
              <a:srgbClr val="f3f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600200"/>
          </a:xfrm>
          <a:prstGeom prst="rect">
            <a:avLst/>
          </a:prstGeom>
          <a:solidFill>
            <a:srgbClr val="f3fff3"/>
          </a:solid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SM/I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тистик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ркостной температуры в 7 каналах для полярных регионов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600х600, 12.5 к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300x300, 25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м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2133720"/>
          <a:ext cx="7772400" cy="4179600"/>
        </p:xfrm>
        <a:graphic>
          <a:graphicData uri="http://schemas.openxmlformats.org/drawingml/2006/table">
            <a:tbl>
              <a:tblPr/>
              <a:tblGrid>
                <a:gridCol w="971640"/>
                <a:gridCol w="971640"/>
                <a:gridCol w="971280"/>
                <a:gridCol w="971640"/>
                <a:gridCol w="971640"/>
                <a:gridCol w="971640"/>
                <a:gridCol w="971280"/>
                <a:gridCol w="971640"/>
              </a:tblGrid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, 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3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,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2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, 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,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D6A8-CB9A-48B6-A6DB-9F25383B4D65}" type="slidenum">
              <a:t>19</a:t>
            </a:fld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7570"/>
            </a:gs>
            <a:gs pos="100000">
              <a:srgbClr val="f3f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solidFill>
            <a:srgbClr val="f3fff3"/>
          </a:solid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осфонд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solidFill>
            <a:srgbClr val="f3fff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рядочен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стоянно пополня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окупность документированной информации о состоянии окружающей природной среды, ее загрязнении, получаемой в результате деятельности Федеральной службы России по гидрометеорологии и мониторингу окружающей сре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овная задача - накопление и сохранение информации о состоянии окружающей природной среды и ее загрязне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A679-D6A8-443E-B656-321155F54759}" type="slidenum">
              <a:t>2</a:t>
            </a:fld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7570"/>
            </a:gs>
            <a:gs pos="100000">
              <a:srgbClr val="f3f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33480" y="18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524240"/>
          </a:xfrm>
          <a:prstGeom prst="rect">
            <a:avLst/>
          </a:prstGeom>
          <a:solidFill>
            <a:srgbClr val="f3fff3"/>
          </a:solid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SM/I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омалии среднегодовых яркостных температур 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ктика                              Антарк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4920" y="2590920"/>
          <a:ext cx="3809880" cy="30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3809880" cy="30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648320" y="2448000"/>
          <a:ext cx="3809880" cy="317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448000"/>
                    <a:ext cx="3809880" cy="31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7FD-03BE-4555-8BF2-CB5AC750A80D}" type="slidenum">
              <a:t>20</a:t>
            </a:fld>
          </a:p>
        </p:txBody>
      </p: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7570"/>
            </a:gs>
            <a:gs pos="100000">
              <a:srgbClr val="f3f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1371600"/>
          </a:xfrm>
          <a:prstGeom prst="rect">
            <a:avLst/>
          </a:prstGeom>
          <a:solidFill>
            <a:srgbClr val="f3fff3"/>
          </a:solid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SM/I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омалии годовых среднеквадратичных отклонений 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ктика                          Антарк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2473200"/>
          <a:ext cx="380988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73200"/>
                    <a:ext cx="380988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648320" y="2451240"/>
          <a:ext cx="3809880" cy="317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451240"/>
                    <a:ext cx="3809880" cy="31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27B-C6CB-463C-AD8D-308F655A8758}" type="slidenum">
              <a:t>21</a:t>
            </a:fld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7570"/>
            </a:gs>
            <a:gs pos="100000">
              <a:srgbClr val="f3f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6782040" cy="2209680"/>
          </a:xfrm>
          <a:prstGeom prst="rect">
            <a:avLst/>
          </a:prstGeom>
          <a:solidFill>
            <a:srgbClr val="f3fff3"/>
          </a:solid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M/I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нденции годовых значений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ни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   N 0.24 K/1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лет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0.15 K/10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неквадратичные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0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K/1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лет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12 K/1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т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ектры временных ря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40" y="4986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" y="49863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292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292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3276720"/>
          <a:ext cx="183816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183816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58128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514600" y="3276720"/>
          <a:ext cx="198108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276720"/>
                    <a:ext cx="19810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60036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495680" y="3276720"/>
          <a:ext cx="1943280" cy="220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276720"/>
                    <a:ext cx="194328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61476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477120" y="3276720"/>
          <a:ext cx="1914480" cy="213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3276720"/>
                    <a:ext cx="191448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52E2-6A5C-40B7-9B53-B941DCA8579D}" type="slidenum">
              <a:t>22</a:t>
            </a:fld>
          </a:p>
        </p:txBody>
      </p: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7570"/>
            </a:gs>
            <a:gs pos="100000">
              <a:srgbClr val="f3f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11480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-1143000"/>
          <a:ext cx="434340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143000"/>
                    <a:ext cx="4343400" cy="4172040"/>
                  </a:xfrm>
                  <a:prstGeom prst="rect">
                    <a:avLst/>
                  </a:prstGeom>
                  <a:ln w="936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860640" y="-1143000"/>
          <a:ext cx="5283360" cy="457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60640" y="-1143000"/>
                    <a:ext cx="528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0" y="3124080"/>
          <a:ext cx="6095880" cy="457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124080"/>
                    <a:ext cx="6095880" cy="4572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89808" dir="4916091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-2043000" y="-18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2043000" y="7040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877000" y="3429000"/>
          <a:ext cx="3267000" cy="533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77000" y="3429000"/>
                    <a:ext cx="3267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logo" descr="ВНИИГМИ-МЦД"/>
          <p:cNvPicPr/>
          <p:nvPr/>
        </p:nvPicPr>
        <p:blipFill>
          <a:blip r:embed="rId9"/>
          <a:stretch/>
        </p:blipFill>
        <p:spPr>
          <a:xfrm>
            <a:off x="2743200" y="2438280"/>
            <a:ext cx="3886200" cy="2266920"/>
          </a:xfrm>
          <a:prstGeom prst="rect">
            <a:avLst/>
          </a:prstGeom>
          <a:ln w="63360">
            <a:solidFill>
              <a:srgbClr val="00ff00"/>
            </a:solidFill>
            <a:miter/>
          </a:ln>
          <a:effectLst>
            <a:outerShdw dist="144956" dir="2270252" blurRad="0" rotWithShape="0">
              <a:srgbClr val="006600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A37A-176A-4B1F-B6FA-8A03803A3B1E}" type="slidenum">
              <a:t>23</a:t>
            </a:fld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7570"/>
            </a:gs>
            <a:gs pos="100000">
              <a:srgbClr val="f3f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solidFill>
            <a:srgbClr val="f3fff3"/>
          </a:solid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рхивы спутниковых данных на технических носителя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Госфонд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НИИГМИ-МЦ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3fff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ий объем – более 500 Г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чники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реждения Росгидромета, международный обмен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: несколько видов данных, в цифровом и графическом формат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сители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 ROM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Л, МЛ ЕС ЭВМ, картридж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занесения данных в Госфонд ВНИИГМИ-МЦД: описание массива, описание носителей, а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F37D-6AF5-4EFA-B715-583123F5E56D}" type="slidenum">
              <a:t>3</a:t>
            </a:fld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7570"/>
            </a:gs>
            <a:gs pos="100000">
              <a:srgbClr val="f3f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848720" cy="762120"/>
          </a:xfrm>
          <a:prstGeom prst="rect">
            <a:avLst/>
          </a:prstGeom>
          <a:solidFill>
            <a:srgbClr val="f3fff3"/>
          </a:solid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сточники данных и состав архив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solidFill>
            <a:srgbClr val="f3fff3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&gt;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Ц Планета – графическая информация в форма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g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w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данным полярно-орбитальных и геостационарных спутник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ПГ – данные о проникающей радиации со спутников Мете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ИИГМИ-МЦД – радиометрические данные со спутников Мете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ранция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NES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радиометрические данные прибора Скараб разного уровня обработки, спутник Мете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&gt;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Ш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SID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данные по яркостным температурам в полярных регионах, прибо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M/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M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&gt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кутия – США, данные полярно-орбитальных спутнико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A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R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2230-C3B4-4E42-B19E-60BB2458AB6B}" type="slidenum">
              <a:t>4</a:t>
            </a:fld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7570"/>
            </a:gs>
            <a:gs pos="100000">
              <a:srgbClr val="f3f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3fff3"/>
          </a:solid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талогизация и описание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solidFill>
            <a:srgbClr val="f3fff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аданные для технических носител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ат метаданны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EO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путник, прибор, уровень обработки, пространственно-временные характеристики, источник данных и т.д., всего 15 поле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талог - база метаданных 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талог - база метаданных 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нет-каталог (статически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исание массивов, перечень носител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1C35-8830-416F-A777-22E06BF5549E}" type="slidenum">
              <a:t>5</a:t>
            </a:fld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7570"/>
            </a:gs>
            <a:gs pos="100000">
              <a:srgbClr val="f3f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543800" cy="990720"/>
          </a:xfrm>
          <a:prstGeom prst="rect">
            <a:avLst/>
          </a:prstGeom>
          <a:solidFill>
            <a:srgbClr val="f3fff3"/>
          </a:solid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талог метаданны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http://www.meteo.ru/rihmi/oa.ht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table" descr=""/>
          <p:cNvPicPr/>
          <p:nvPr/>
        </p:nvPicPr>
        <p:blipFill>
          <a:blip r:embed="rId1"/>
          <a:stretch/>
        </p:blipFill>
        <p:spPr>
          <a:xfrm>
            <a:off x="1066680" y="1550880"/>
            <a:ext cx="7315200" cy="530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BE9B-DA8D-444E-96FC-1B4E2C828585}" type="slidenum">
              <a:t>6</a:t>
            </a:fld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7570"/>
            </a:gs>
            <a:gs pos="100000">
              <a:srgbClr val="f3f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5486400" cy="1143000"/>
          </a:xfrm>
          <a:prstGeom prst="rect">
            <a:avLst/>
          </a:prstGeom>
          <a:solidFill>
            <a:srgbClr val="f3fff3"/>
          </a:solid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81640"/>
          </a:xfrm>
          <a:prstGeom prst="rect">
            <a:avLst/>
          </a:prstGeom>
          <a:solidFill>
            <a:srgbClr val="f3fff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хнические носител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ее 100, МЛ ЕС ЭВМ более 100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D RO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коло 1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нос данных в роботизированную библиотеку -  в стадии технологической отработ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B38B-9405-4EA1-B034-4A3B3E2A64A7}" type="slidenum">
              <a:t>7</a:t>
            </a:fld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7570"/>
            </a:gs>
            <a:gs pos="100000">
              <a:srgbClr val="f3f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3fff3"/>
          </a:solid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дачи, решаемые на архивных данны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2438640"/>
          </a:xfrm>
          <a:prstGeom prst="rect">
            <a:avLst/>
          </a:prstGeom>
          <a:solidFill>
            <a:srgbClr val="f3fff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работка и отладка методик расчета и восстановления поверхностных парамет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иматические исследования, мониторинг окружающей среды, анализ временной изменчив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2F5F-86FB-4136-920E-EC3392C6841C}" type="slidenum">
              <a:t>8</a:t>
            </a:fld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7570"/>
            </a:gs>
            <a:gs pos="100000">
              <a:srgbClr val="f3ff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3fff3"/>
          </a:solidFill>
          <a:ln w="93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зор научных работ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водимых  на архивных данны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3fff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аРа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теор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, 1994-95 гг.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nner for Radiance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нала (0.5 – 0.7 мкм, 0.2 – 0.4 мкм, 0.2 –50 мкм, 10.5 – 12.5 мк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р пикселя 60 х 60 кв.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личество пикселей в строке  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работка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NE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Франция, ВНИИГМИ-МЦ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сстановление ТП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R, LW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авнение рассчитанных и измеренн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9839-465B-40AB-AAC1-A9B46542887E}" type="slidenum">
              <a:t>9</a:t>
            </a:fld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06:42:00Z</dcterms:created>
  <dc:creator>XX</dc:creator>
  <dc:description/>
  <dc:language>en-US</dc:language>
  <cp:lastModifiedBy>XX</cp:lastModifiedBy>
  <dcterms:modified xsi:type="dcterms:W3CDTF">2003-11-06T06:16:08Z</dcterms:modified>
  <cp:revision>65</cp:revision>
  <dc:subject/>
  <dc:title>Работы с архивными данными дистанционного зондирования Земли Госфонда ВНИИГМИ-МЦД</dc:title>
</cp:coreProperties>
</file>