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9.png" ContentType="image/png"/>
  <Override PartName="/ppt/media/image6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699-E45D-4A30-BF9E-7ADDFC5E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768-C016-40EA-B626-3C2A5131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ECC-108A-4404-9F90-27BF4B6D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153-11A7-48BF-8850-0C89F9D4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D6D2-87EE-48DC-8FA1-214FA498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73F5C-1690-4ECB-8E87-69046EE7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CB0F9-54CF-4C60-A322-489055F4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43E8D-3EE0-4806-A3BA-FF4164A5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F6742-8178-43CD-A0E4-05D3C464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E6ACF-989C-45D2-8CA9-8C5A82F3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B0F3B-6272-4DD4-BF4F-CBC453B0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FAD-7C6F-4E1E-9DAD-F39E522B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9459B-D80D-43F8-944B-99764CF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E57E3-67CE-41DE-9F94-A8EE2B1F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1E09A-52E5-422A-80FA-930838B3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6636E-07F3-4662-9E92-5C8A7B44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864CD-5CF9-4CCB-A224-EEE07F78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864-B26F-4862-BF2A-B2488518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074-23ED-4C5D-85BC-BDA15BE4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BC0-E1B1-4CA5-880C-8243AA08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D69-EC15-4BB8-BDD8-4CF0E88E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B27-5BD6-4F80-B718-F71FA299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4CA-326D-4CCC-88A7-BECADB1A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2C5-488D-4410-8CE6-7143DE71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7AC2-58AC-4988-BC0E-9C0D4BD39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239-4029-48D8-87BD-476543DEC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Использование новых информационных технологий в отраслевой системе мониторинга Госкомрыболовства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4292280"/>
            <a:ext cx="9144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.А.Романов, директор ФГУП «ВНИЭРХ», д.т.н., професс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ел.+7(095)928-00-8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Е-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il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manov@vnierkh.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07880" y="189000"/>
            <a:ext cx="83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сударственный комитет Российской Федерации по рыболовст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ГОСКОМРЫБОЛОВСТВО РОССИ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835200" cy="936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874800"/>
            <a:ext cx="845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ФГУП "Всероссийский научно – исследовательский и проектно – конструкторский институт экономики, информации и автоматизированных систем управления рыбного хозяйства" ( ФГУП "ВНИЭРХ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080" y="5613480"/>
            <a:ext cx="8574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600"/>
                </a:solidFill>
                <a:latin typeface="Tahoma"/>
              </a:rPr>
              <a:t>Доклад на Всероссийской конференции "Современные проблемы дистанцион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600"/>
                </a:solidFill>
                <a:latin typeface="Tahoma"/>
              </a:rPr>
              <a:t>зондирования Земли из космоса (Физические основы, методы и технолог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600"/>
                </a:solidFill>
                <a:latin typeface="Tahoma"/>
              </a:rPr>
              <a:t>Мониторинга окружающей среды, потенциально опасных явлений и  объектов)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600"/>
                </a:solidFill>
                <a:latin typeface="Tahoma"/>
              </a:rPr>
              <a:t>Москва, 10 – 12 ноября 2003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Планирование рейса на НИС «Академик Борис Петров» (1997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822840" cy="26942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3816360" cy="2744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572000" y="2349360"/>
            <a:ext cx="43210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ТПО по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NOA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0" y="1440000"/>
            <a:ext cx="9144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Сравнение со спутниковой альтиметри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57200" y="2536920"/>
            <a:ext cx="4038480" cy="2851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4648320" y="2536920"/>
            <a:ext cx="4038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Мозаика изображений ERS-2 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от 19 и 22 июля и г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идроакустической съем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501920" y="1905120"/>
            <a:ext cx="613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Совмещение данных цвета и спутниковой альтиметр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2489040"/>
            <a:ext cx="4643280" cy="3210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716360" y="2492280"/>
            <a:ext cx="4427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Совмещение данных спутниковой альтиметрии и промысловых СС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Проблемы использования ДДЗ океа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сутствие единого органа, координирующего мониторинговую деятельность различных министерств и ведом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сутствие отечественных ИСЗ для мониторинга оке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сутствие возможности оперативного использования на НИС данных современных ИСЗ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ra, Aqua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ason, Envis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сутствие методической поддержки отраслевых работ институтами Р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очная межведомственная интеграция при проведении подспутниковых экспери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Возможные пути реш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грация с мировыми центрами да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специализированных архивов данных спутниковых съемок оке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ведение межведомственных подспутниковых верификационных эксперимент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7520" y="1484280"/>
            <a:ext cx="3348000" cy="1008000"/>
          </a:xfrm>
          <a:prstGeom prst="roundRect">
            <a:avLst>
              <a:gd name="adj" fmla="val 16667"/>
            </a:avLst>
          </a:prstGeom>
          <a:solidFill>
            <a:srgbClr val="ffcc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65760" y="1004760"/>
            <a:ext cx="1439640" cy="100836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64000" y="2060640"/>
            <a:ext cx="1439640" cy="10080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1320" y="3068640"/>
            <a:ext cx="1439640" cy="100800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4149720"/>
            <a:ext cx="1944720" cy="144144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10368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Схема информационных потоков с использованием локальн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141560" y="4846680"/>
            <a:ext cx="583920" cy="655560"/>
          </a:xfrm>
          <a:prstGeom prst="rect">
            <a:avLst/>
          </a:prstGeom>
          <a:ln w="0">
            <a:noFill/>
          </a:ln>
        </p:spPr>
      </p:pic>
      <p:sp>
        <p:nvSpPr>
          <p:cNvPr id="323" name="computr2"/>
          <p:cNvSpPr/>
          <p:nvPr/>
        </p:nvSpPr>
        <p:spPr>
          <a:xfrm>
            <a:off x="2639880" y="3500280"/>
            <a:ext cx="617760" cy="54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computr2"/>
          <p:cNvSpPr/>
          <p:nvPr/>
        </p:nvSpPr>
        <p:spPr>
          <a:xfrm>
            <a:off x="3922560" y="2487600"/>
            <a:ext cx="617760" cy="54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computr2"/>
          <p:cNvSpPr/>
          <p:nvPr/>
        </p:nvSpPr>
        <p:spPr>
          <a:xfrm>
            <a:off x="5226120" y="1436760"/>
            <a:ext cx="617400" cy="544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843280" y="5300640"/>
            <a:ext cx="2241360" cy="144612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computr2"/>
          <p:cNvSpPr/>
          <p:nvPr/>
        </p:nvSpPr>
        <p:spPr>
          <a:xfrm>
            <a:off x="3132000" y="6165720"/>
            <a:ext cx="617760" cy="54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computr2"/>
          <p:cNvSpPr/>
          <p:nvPr/>
        </p:nvSpPr>
        <p:spPr>
          <a:xfrm>
            <a:off x="395280" y="5013360"/>
            <a:ext cx="617400" cy="544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971640" y="1699920"/>
            <a:ext cx="5832360" cy="482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403280" y="1699920"/>
            <a:ext cx="5832720" cy="482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440" y="157176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лекоммуник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а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47640" y="2565360"/>
            <a:ext cx="1165320" cy="2735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2760" y="414504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С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+список адреса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+цифровая подпис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720000" y="584028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74480" y="941400"/>
            <a:ext cx="121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траслев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рган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90720" y="2013120"/>
            <a:ext cx="12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ассейнов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ыбв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54640" y="2048040"/>
            <a:ext cx="287280" cy="647640"/>
          </a:xfrm>
          <a:prstGeom prst="upDownArrow">
            <a:avLst>
              <a:gd name="adj1" fmla="val 50000"/>
              <a:gd name="adj2" fmla="val 44879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84600" y="4149720"/>
            <a:ext cx="287280" cy="695160"/>
          </a:xfrm>
          <a:prstGeom prst="upDownArrow">
            <a:avLst>
              <a:gd name="adj1" fmla="val 50000"/>
              <a:gd name="adj2" fmla="val 48172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84560" y="3103560"/>
            <a:ext cx="287280" cy="647640"/>
          </a:xfrm>
          <a:prstGeom prst="upDownArrow">
            <a:avLst>
              <a:gd name="adj1" fmla="val 50000"/>
              <a:gd name="adj2" fmla="val 44879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39640" y="301464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егиональ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рган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25720" y="5262480"/>
            <a:ext cx="25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ператив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татистическая отчет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список адреса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цифровая подпис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2109600" y="589068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232680" y="4959360"/>
            <a:ext cx="1660320" cy="1822320"/>
            <a:chOff x="6232680" y="4959360"/>
            <a:chExt cx="1660320" cy="1822320"/>
          </a:xfrm>
        </p:grpSpPr>
        <p:sp>
          <p:nvSpPr>
            <p:cNvPr id="344" name=""/>
            <p:cNvSpPr/>
            <p:nvPr/>
          </p:nvSpPr>
          <p:spPr>
            <a:xfrm>
              <a:off x="6232680" y="4981680"/>
              <a:ext cx="1655640" cy="1800000"/>
            </a:xfrm>
            <a:custGeom>
              <a:avLst/>
              <a:gdLst>
                <a:gd name="textAreaLeft" fmla="*/ 80640 w 1655640"/>
                <a:gd name="textAreaRight" fmla="*/ 1575000 w 1655640"/>
                <a:gd name="textAreaTop" fmla="*/ 80640 h 1800000"/>
                <a:gd name="textAreaBottom" fmla="*/ 1719360 h 1800000"/>
              </a:gdLst>
              <a:ahLst/>
              <a:rect l="textAreaLeft" t="textAreaTop" r="textAreaRight" b="textAreaBottom"/>
              <a:pathLst>
                <a:path w="21600" h="23483">
                  <a:moveTo>
                    <a:pt x="3600" y="0"/>
                  </a:moveTo>
                  <a:arcTo wR="3600" hR="3600" stAng="16200000" swAng="-5400000"/>
                  <a:lnTo>
                    <a:pt x="0" y="19883"/>
                  </a:lnTo>
                  <a:arcTo wR="3600" hR="3600" stAng="10800000" swAng="-5400000"/>
                  <a:lnTo>
                    <a:pt x="18000" y="23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>
                <a:alpha val="7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computr2"/>
            <p:cNvSpPr/>
            <p:nvPr/>
          </p:nvSpPr>
          <p:spPr>
            <a:xfrm>
              <a:off x="6775560" y="6197760"/>
              <a:ext cx="617400" cy="544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30240" y="495936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НИЭР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34480" y="5413320"/>
              <a:ext cx="1567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Отраслев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удостоверяющ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цент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7360" y="5407200"/>
              <a:ext cx="165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37360" y="6165720"/>
              <a:ext cx="165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596360" y="1424160"/>
            <a:ext cx="1439640" cy="1068120"/>
            <a:chOff x="7596360" y="1424160"/>
            <a:chExt cx="1439640" cy="1068120"/>
          </a:xfrm>
        </p:grpSpPr>
        <p:grpSp>
          <p:nvGrpSpPr>
            <p:cNvPr id="351" name=""/>
            <p:cNvGrpSpPr/>
            <p:nvPr/>
          </p:nvGrpSpPr>
          <p:grpSpPr>
            <a:xfrm>
              <a:off x="7596360" y="1484280"/>
              <a:ext cx="1439640" cy="1008000"/>
              <a:chOff x="7596360" y="1484280"/>
              <a:chExt cx="1439640" cy="1008000"/>
            </a:xfrm>
          </p:grpSpPr>
          <p:sp>
            <p:nvSpPr>
              <p:cNvPr id="352" name=""/>
              <p:cNvSpPr/>
              <p:nvPr/>
            </p:nvSpPr>
            <p:spPr>
              <a:xfrm>
                <a:off x="7596360" y="1484280"/>
                <a:ext cx="1439640" cy="100800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3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computr2"/>
              <p:cNvSpPr/>
              <p:nvPr/>
            </p:nvSpPr>
            <p:spPr>
              <a:xfrm>
                <a:off x="8022960" y="1906560"/>
                <a:ext cx="617400" cy="54432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7740720" y="1424160"/>
              <a:ext cx="120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Федераль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организ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695280" y="2606760"/>
            <a:ext cx="1727640" cy="1081080"/>
            <a:chOff x="6695280" y="2606760"/>
            <a:chExt cx="1727640" cy="1081080"/>
          </a:xfrm>
        </p:grpSpPr>
        <p:sp>
          <p:nvSpPr>
            <p:cNvPr id="356" name=""/>
            <p:cNvSpPr/>
            <p:nvPr/>
          </p:nvSpPr>
          <p:spPr>
            <a:xfrm>
              <a:off x="6721560" y="2608560"/>
              <a:ext cx="1657440" cy="1079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computr2"/>
            <p:cNvSpPr/>
            <p:nvPr/>
          </p:nvSpPr>
          <p:spPr>
            <a:xfrm>
              <a:off x="7226280" y="3111840"/>
              <a:ext cx="617760" cy="544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95280" y="2606760"/>
              <a:ext cx="1727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Госкомрыболов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Росс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465880" y="3708360"/>
            <a:ext cx="1439640" cy="1069560"/>
            <a:chOff x="5465880" y="3708360"/>
            <a:chExt cx="1439640" cy="1069560"/>
          </a:xfrm>
        </p:grpSpPr>
        <p:sp>
          <p:nvSpPr>
            <p:cNvPr id="360" name=""/>
            <p:cNvSpPr/>
            <p:nvPr/>
          </p:nvSpPr>
          <p:spPr>
            <a:xfrm>
              <a:off x="5465880" y="3769920"/>
              <a:ext cx="1439640" cy="10080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computr2"/>
            <p:cNvSpPr/>
            <p:nvPr/>
          </p:nvSpPr>
          <p:spPr>
            <a:xfrm>
              <a:off x="5897520" y="4187520"/>
              <a:ext cx="617040" cy="544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08800" y="3708360"/>
              <a:ext cx="114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Отраслев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организ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851280" y="4365720"/>
            <a:ext cx="2305080" cy="158436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3995640" y="4221000"/>
            <a:ext cx="2160720" cy="1440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24480" y="4091040"/>
            <a:ext cx="863640" cy="288720"/>
          </a:xfrm>
          <a:prstGeom prst="rightArrow">
            <a:avLst>
              <a:gd name="adj1" fmla="val 50000"/>
              <a:gd name="adj2" fmla="val 74782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6000" y="2997360"/>
            <a:ext cx="863640" cy="288720"/>
          </a:xfrm>
          <a:prstGeom prst="rightArrow">
            <a:avLst>
              <a:gd name="adj1" fmla="val 50000"/>
              <a:gd name="adj2" fmla="val 74782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1916280"/>
            <a:ext cx="504720" cy="288720"/>
          </a:xfrm>
          <a:prstGeom prst="rightArrow">
            <a:avLst>
              <a:gd name="adj1" fmla="val 50000"/>
              <a:gd name="adj2" fmla="val 43703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4140360" y="6146640"/>
            <a:ext cx="718920" cy="5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26920" y="404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Интегрированная панель рада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Структура докла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ременное состояние О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ниторинговые характеристики О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блемы информационного обеспечения О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ь и место ДДЗ океана в О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мплексное усвоение разнородных данных на основе ДДЗ океана – путь повышения эффективности О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Участие в программе ЕСИ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2205000"/>
            <a:ext cx="691344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писание информационных 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оскомрыболовст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2963880"/>
            <a:ext cx="691344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истематизация словарей и кодифика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4979880"/>
            <a:ext cx="691344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дение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b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-сай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4202280"/>
            <a:ext cx="691344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зработка проектов нормативно-методичес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окументов по ведению информационных 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3429000"/>
            <a:ext cx="691344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оставление порейсовых каталогов океанограф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 морских биологических да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51640" y="2203560"/>
            <a:ext cx="1297080" cy="3165480"/>
          </a:xfrm>
          <a:prstGeom prst="ellipse">
            <a:avLst/>
          </a:prstGeom>
          <a:solidFill>
            <a:srgbClr val="ccec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87280" y="692280"/>
            <a:ext cx="6624720" cy="865080"/>
          </a:xfrm>
          <a:prstGeom prst="flowChartMultidocument">
            <a:avLst/>
          </a:prstGeom>
          <a:solidFill>
            <a:srgbClr val="99ccff"/>
          </a:solidFill>
          <a:ln w="316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формационные ресурсы отра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5952960"/>
            <a:ext cx="8642160" cy="752040"/>
          </a:xfrm>
          <a:prstGeom prst="rect">
            <a:avLst/>
          </a:prstGeom>
          <a:solidFill>
            <a:srgbClr val="cc99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Единая система информации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б обстановке в Мировом оке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50920" y="2131920"/>
            <a:ext cx="8642160" cy="3313080"/>
          </a:xfrm>
          <a:prstGeom prst="rect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80360" y="133992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16000" y="155592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27640" y="155592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5516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00720" y="5516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7080" y="5516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Подсистема контроля рыбопромысловых судов в ФСМ 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343400" y="198288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181480" y="1905120"/>
            <a:ext cx="1676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lbertus Medium"/>
              </a:rPr>
              <a:t>Орбитальная группировка КА «Гонец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1341360"/>
            <a:ext cx="4191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lbertus Medium"/>
              </a:rPr>
              <a:t>Корабельный сег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32120" y="2999520"/>
            <a:ext cx="3360600" cy="3566520"/>
            <a:chOff x="5532120" y="2999520"/>
            <a:chExt cx="3360600" cy="3566520"/>
          </a:xfrm>
        </p:grpSpPr>
        <p:sp>
          <p:nvSpPr>
            <p:cNvPr id="392" name=""/>
            <p:cNvSpPr/>
            <p:nvPr/>
          </p:nvSpPr>
          <p:spPr>
            <a:xfrm>
              <a:off x="6414840" y="4052880"/>
              <a:ext cx="2477880" cy="2513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25560" y="5099040"/>
              <a:ext cx="1162800" cy="471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lbertus Medium"/>
                </a:rPr>
                <a:t>ПЛК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lbertus Medium"/>
                </a:rPr>
                <a:t>«Гейзер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99360" y="6035760"/>
              <a:ext cx="1046160" cy="36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lbertus Medium"/>
                </a:rPr>
                <a:t>приёмни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Albertus Medium"/>
                </a:rPr>
                <a:t>GPS</a:t>
              </a:r>
              <a:r>
                <a:rPr b="1" lang="ru-RU" sz="1000" spc="-1" strike="noStrike">
                  <a:solidFill>
                    <a:srgbClr val="000000"/>
                  </a:solidFill>
                  <a:latin typeface="Albertus Medium"/>
                </a:rPr>
                <a:t>/Глонасс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7821720" y="5565600"/>
              <a:ext cx="0" cy="469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85360" y="4681440"/>
              <a:ext cx="0" cy="438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525360" y="5834160"/>
              <a:ext cx="524880" cy="685800"/>
              <a:chOff x="6525360" y="5834160"/>
              <a:chExt cx="524880" cy="685800"/>
            </a:xfrm>
          </p:grpSpPr>
          <p:sp>
            <p:nvSpPr>
              <p:cNvPr id="398" name=""/>
              <p:cNvSpPr/>
              <p:nvPr/>
            </p:nvSpPr>
            <p:spPr>
              <a:xfrm>
                <a:off x="6543000" y="6121440"/>
                <a:ext cx="227160" cy="398520"/>
              </a:xfrm>
              <a:custGeom>
                <a:avLst/>
                <a:gdLst/>
                <a:ahLst/>
                <a:rect l="l" t="t" r="r" b="b"/>
                <a:pathLst>
                  <a:path w="553" h="1254">
                    <a:moveTo>
                      <a:pt x="218" y="1150"/>
                    </a:moveTo>
                    <a:lnTo>
                      <a:pt x="0" y="402"/>
                    </a:lnTo>
                    <a:lnTo>
                      <a:pt x="464" y="34"/>
                    </a:lnTo>
                    <a:lnTo>
                      <a:pt x="507" y="0"/>
                    </a:lnTo>
                    <a:lnTo>
                      <a:pt x="553" y="0"/>
                    </a:lnTo>
                    <a:lnTo>
                      <a:pt x="553" y="1254"/>
                    </a:lnTo>
                    <a:lnTo>
                      <a:pt x="218" y="115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806880" y="6121440"/>
                <a:ext cx="225360" cy="398520"/>
              </a:xfrm>
              <a:custGeom>
                <a:avLst/>
                <a:gdLst/>
                <a:ahLst/>
                <a:rect l="l" t="t" r="r" b="b"/>
                <a:pathLst>
                  <a:path w="552" h="1254">
                    <a:moveTo>
                      <a:pt x="334" y="1150"/>
                    </a:moveTo>
                    <a:lnTo>
                      <a:pt x="552" y="402"/>
                    </a:lnTo>
                    <a:lnTo>
                      <a:pt x="88" y="34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254"/>
                    </a:lnTo>
                    <a:lnTo>
                      <a:pt x="334" y="115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525360" y="6077160"/>
                <a:ext cx="524880" cy="155520"/>
              </a:xfrm>
              <a:custGeom>
                <a:avLst/>
                <a:gdLst/>
                <a:ahLst/>
                <a:rect l="l" t="t" r="r" b="b"/>
                <a:pathLst>
                  <a:path w="1276" h="487">
                    <a:moveTo>
                      <a:pt x="667" y="53"/>
                    </a:moveTo>
                    <a:lnTo>
                      <a:pt x="695" y="53"/>
                    </a:lnTo>
                    <a:lnTo>
                      <a:pt x="740" y="70"/>
                    </a:lnTo>
                    <a:lnTo>
                      <a:pt x="1261" y="487"/>
                    </a:lnTo>
                    <a:lnTo>
                      <a:pt x="1276" y="454"/>
                    </a:lnTo>
                    <a:lnTo>
                      <a:pt x="768" y="37"/>
                    </a:lnTo>
                    <a:lnTo>
                      <a:pt x="695" y="0"/>
                    </a:lnTo>
                    <a:lnTo>
                      <a:pt x="581" y="0"/>
                    </a:lnTo>
                    <a:lnTo>
                      <a:pt x="508" y="37"/>
                    </a:lnTo>
                    <a:lnTo>
                      <a:pt x="0" y="454"/>
                    </a:lnTo>
                    <a:lnTo>
                      <a:pt x="16" y="487"/>
                    </a:lnTo>
                    <a:lnTo>
                      <a:pt x="535" y="70"/>
                    </a:lnTo>
                    <a:lnTo>
                      <a:pt x="581" y="53"/>
                    </a:lnTo>
                    <a:lnTo>
                      <a:pt x="608" y="53"/>
                    </a:lnTo>
                    <a:lnTo>
                      <a:pt x="667" y="53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27680" y="5878800"/>
                <a:ext cx="120240" cy="93600"/>
              </a:xfrm>
              <a:custGeom>
                <a:avLst/>
                <a:gdLst/>
                <a:ahLst/>
                <a:rect l="l" t="t" r="r" b="b"/>
                <a:pathLst>
                  <a:path w="290" h="295">
                    <a:moveTo>
                      <a:pt x="290" y="295"/>
                    </a:moveTo>
                    <a:lnTo>
                      <a:pt x="290" y="119"/>
                    </a:lnTo>
                    <a:lnTo>
                      <a:pt x="280" y="98"/>
                    </a:lnTo>
                    <a:lnTo>
                      <a:pt x="270" y="78"/>
                    </a:lnTo>
                    <a:lnTo>
                      <a:pt x="258" y="59"/>
                    </a:lnTo>
                    <a:lnTo>
                      <a:pt x="244" y="43"/>
                    </a:lnTo>
                    <a:lnTo>
                      <a:pt x="228" y="28"/>
                    </a:lnTo>
                    <a:lnTo>
                      <a:pt x="209" y="16"/>
                    </a:lnTo>
                    <a:lnTo>
                      <a:pt x="191" y="8"/>
                    </a:lnTo>
                    <a:lnTo>
                      <a:pt x="171" y="1"/>
                    </a:lnTo>
                    <a:lnTo>
                      <a:pt x="151" y="0"/>
                    </a:lnTo>
                    <a:lnTo>
                      <a:pt x="130" y="0"/>
                    </a:lnTo>
                    <a:lnTo>
                      <a:pt x="111" y="4"/>
                    </a:lnTo>
                    <a:lnTo>
                      <a:pt x="92" y="10"/>
                    </a:lnTo>
                    <a:lnTo>
                      <a:pt x="73" y="20"/>
                    </a:lnTo>
                    <a:lnTo>
                      <a:pt x="57" y="32"/>
                    </a:lnTo>
                    <a:lnTo>
                      <a:pt x="42" y="49"/>
                    </a:lnTo>
                    <a:lnTo>
                      <a:pt x="26" y="65"/>
                    </a:lnTo>
                    <a:lnTo>
                      <a:pt x="14" y="86"/>
                    </a:lnTo>
                    <a:lnTo>
                      <a:pt x="7" y="106"/>
                    </a:lnTo>
                    <a:lnTo>
                      <a:pt x="0" y="119"/>
                    </a:lnTo>
                    <a:lnTo>
                      <a:pt x="0" y="295"/>
                    </a:lnTo>
                    <a:lnTo>
                      <a:pt x="290" y="295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27680" y="5834160"/>
                <a:ext cx="120240" cy="55440"/>
              </a:xfrm>
              <a:custGeom>
                <a:avLst/>
                <a:gdLst/>
                <a:ahLst/>
                <a:rect l="l" t="t" r="r" b="b"/>
                <a:pathLst>
                  <a:path w="290" h="175">
                    <a:moveTo>
                      <a:pt x="0" y="123"/>
                    </a:moveTo>
                    <a:lnTo>
                      <a:pt x="7" y="104"/>
                    </a:lnTo>
                    <a:lnTo>
                      <a:pt x="14" y="84"/>
                    </a:lnTo>
                    <a:lnTo>
                      <a:pt x="26" y="66"/>
                    </a:lnTo>
                    <a:lnTo>
                      <a:pt x="42" y="49"/>
                    </a:lnTo>
                    <a:lnTo>
                      <a:pt x="57" y="32"/>
                    </a:lnTo>
                    <a:lnTo>
                      <a:pt x="73" y="21"/>
                    </a:lnTo>
                    <a:lnTo>
                      <a:pt x="92" y="10"/>
                    </a:lnTo>
                    <a:lnTo>
                      <a:pt x="111" y="4"/>
                    </a:lnTo>
                    <a:lnTo>
                      <a:pt x="130" y="0"/>
                    </a:lnTo>
                    <a:lnTo>
                      <a:pt x="151" y="0"/>
                    </a:lnTo>
                    <a:lnTo>
                      <a:pt x="171" y="0"/>
                    </a:lnTo>
                    <a:lnTo>
                      <a:pt x="191" y="6"/>
                    </a:lnTo>
                    <a:lnTo>
                      <a:pt x="209" y="16"/>
                    </a:lnTo>
                    <a:lnTo>
                      <a:pt x="228" y="28"/>
                    </a:lnTo>
                    <a:lnTo>
                      <a:pt x="244" y="41"/>
                    </a:lnTo>
                    <a:lnTo>
                      <a:pt x="258" y="59"/>
                    </a:lnTo>
                    <a:lnTo>
                      <a:pt x="270" y="79"/>
                    </a:lnTo>
                    <a:lnTo>
                      <a:pt x="280" y="97"/>
                    </a:lnTo>
                    <a:lnTo>
                      <a:pt x="290" y="123"/>
                    </a:lnTo>
                    <a:lnTo>
                      <a:pt x="290" y="175"/>
                    </a:lnTo>
                    <a:lnTo>
                      <a:pt x="280" y="152"/>
                    </a:lnTo>
                    <a:lnTo>
                      <a:pt x="270" y="129"/>
                    </a:lnTo>
                    <a:lnTo>
                      <a:pt x="258" y="111"/>
                    </a:lnTo>
                    <a:lnTo>
                      <a:pt x="244" y="96"/>
                    </a:lnTo>
                    <a:lnTo>
                      <a:pt x="228" y="81"/>
                    </a:lnTo>
                    <a:lnTo>
                      <a:pt x="209" y="68"/>
                    </a:lnTo>
                    <a:lnTo>
                      <a:pt x="191" y="59"/>
                    </a:lnTo>
                    <a:lnTo>
                      <a:pt x="171" y="55"/>
                    </a:lnTo>
                    <a:lnTo>
                      <a:pt x="151" y="53"/>
                    </a:lnTo>
                    <a:lnTo>
                      <a:pt x="130" y="53"/>
                    </a:lnTo>
                    <a:lnTo>
                      <a:pt x="111" y="55"/>
                    </a:lnTo>
                    <a:lnTo>
                      <a:pt x="92" y="63"/>
                    </a:lnTo>
                    <a:lnTo>
                      <a:pt x="73" y="71"/>
                    </a:lnTo>
                    <a:lnTo>
                      <a:pt x="57" y="84"/>
                    </a:lnTo>
                    <a:lnTo>
                      <a:pt x="42" y="101"/>
                    </a:lnTo>
                    <a:lnTo>
                      <a:pt x="26" y="117"/>
                    </a:lnTo>
                    <a:lnTo>
                      <a:pt x="14" y="136"/>
                    </a:lnTo>
                    <a:lnTo>
                      <a:pt x="7" y="159"/>
                    </a:lnTo>
                    <a:lnTo>
                      <a:pt x="0" y="175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90880" y="5967360"/>
                <a:ext cx="209160" cy="193680"/>
              </a:xfrm>
              <a:custGeom>
                <a:avLst/>
                <a:gdLst/>
                <a:ahLst/>
                <a:rect l="l" t="t" r="r" b="b"/>
                <a:pathLst>
                  <a:path w="507" h="610">
                    <a:moveTo>
                      <a:pt x="117" y="610"/>
                    </a:moveTo>
                    <a:lnTo>
                      <a:pt x="117" y="418"/>
                    </a:lnTo>
                    <a:lnTo>
                      <a:pt x="0" y="418"/>
                    </a:lnTo>
                    <a:lnTo>
                      <a:pt x="0" y="245"/>
                    </a:lnTo>
                    <a:lnTo>
                      <a:pt x="247" y="245"/>
                    </a:lnTo>
                    <a:lnTo>
                      <a:pt x="247" y="140"/>
                    </a:lnTo>
                    <a:lnTo>
                      <a:pt x="117" y="140"/>
                    </a:lnTo>
                    <a:lnTo>
                      <a:pt x="117" y="0"/>
                    </a:lnTo>
                    <a:lnTo>
                      <a:pt x="507" y="0"/>
                    </a:lnTo>
                    <a:lnTo>
                      <a:pt x="507" y="34"/>
                    </a:lnTo>
                    <a:lnTo>
                      <a:pt x="158" y="34"/>
                    </a:lnTo>
                    <a:lnTo>
                      <a:pt x="158" y="104"/>
                    </a:lnTo>
                    <a:lnTo>
                      <a:pt x="507" y="104"/>
                    </a:lnTo>
                    <a:lnTo>
                      <a:pt x="507" y="140"/>
                    </a:lnTo>
                    <a:lnTo>
                      <a:pt x="291" y="140"/>
                    </a:lnTo>
                    <a:lnTo>
                      <a:pt x="291" y="245"/>
                    </a:lnTo>
                    <a:lnTo>
                      <a:pt x="507" y="245"/>
                    </a:lnTo>
                    <a:lnTo>
                      <a:pt x="507" y="296"/>
                    </a:lnTo>
                    <a:lnTo>
                      <a:pt x="44" y="296"/>
                    </a:lnTo>
                    <a:lnTo>
                      <a:pt x="44" y="366"/>
                    </a:lnTo>
                    <a:lnTo>
                      <a:pt x="158" y="366"/>
                    </a:lnTo>
                    <a:lnTo>
                      <a:pt x="158" y="558"/>
                    </a:lnTo>
                    <a:lnTo>
                      <a:pt x="117" y="61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75560" y="5967360"/>
                <a:ext cx="209160" cy="193680"/>
              </a:xfrm>
              <a:custGeom>
                <a:avLst/>
                <a:gdLst/>
                <a:ahLst/>
                <a:rect l="l" t="t" r="r" b="b"/>
                <a:pathLst>
                  <a:path w="508" h="610">
                    <a:moveTo>
                      <a:pt x="391" y="610"/>
                    </a:moveTo>
                    <a:lnTo>
                      <a:pt x="391" y="418"/>
                    </a:lnTo>
                    <a:lnTo>
                      <a:pt x="508" y="418"/>
                    </a:lnTo>
                    <a:lnTo>
                      <a:pt x="508" y="245"/>
                    </a:lnTo>
                    <a:lnTo>
                      <a:pt x="261" y="245"/>
                    </a:lnTo>
                    <a:lnTo>
                      <a:pt x="261" y="140"/>
                    </a:lnTo>
                    <a:lnTo>
                      <a:pt x="391" y="140"/>
                    </a:lnTo>
                    <a:lnTo>
                      <a:pt x="391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49" y="34"/>
                    </a:lnTo>
                    <a:lnTo>
                      <a:pt x="349" y="104"/>
                    </a:lnTo>
                    <a:lnTo>
                      <a:pt x="0" y="104"/>
                    </a:lnTo>
                    <a:lnTo>
                      <a:pt x="0" y="140"/>
                    </a:lnTo>
                    <a:lnTo>
                      <a:pt x="217" y="140"/>
                    </a:lnTo>
                    <a:lnTo>
                      <a:pt x="217" y="245"/>
                    </a:lnTo>
                    <a:lnTo>
                      <a:pt x="0" y="245"/>
                    </a:lnTo>
                    <a:lnTo>
                      <a:pt x="0" y="296"/>
                    </a:lnTo>
                    <a:lnTo>
                      <a:pt x="464" y="296"/>
                    </a:lnTo>
                    <a:lnTo>
                      <a:pt x="464" y="366"/>
                    </a:lnTo>
                    <a:lnTo>
                      <a:pt x="349" y="366"/>
                    </a:lnTo>
                    <a:lnTo>
                      <a:pt x="349" y="558"/>
                    </a:lnTo>
                    <a:lnTo>
                      <a:pt x="391" y="61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 rot="12775200">
              <a:off x="5363640" y="3715920"/>
              <a:ext cx="2688480" cy="174960"/>
            </a:xfrm>
            <a:prstGeom prst="rightArrow">
              <a:avLst>
                <a:gd name="adj1" fmla="val 56250"/>
                <a:gd name="adj2" fmla="val 221601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360" y="4314960"/>
              <a:ext cx="169956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lbertus Medium"/>
                </a:rPr>
                <a:t>АТ «Гонец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77480" y="6107400"/>
              <a:ext cx="37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419640" y="2997000"/>
            <a:ext cx="2438280" cy="3061080"/>
            <a:chOff x="3419640" y="2997000"/>
            <a:chExt cx="2438280" cy="3061080"/>
          </a:xfrm>
        </p:grpSpPr>
        <p:sp>
          <p:nvSpPr>
            <p:cNvPr id="409" name=""/>
            <p:cNvSpPr/>
            <p:nvPr/>
          </p:nvSpPr>
          <p:spPr>
            <a:xfrm>
              <a:off x="3419640" y="4076640"/>
              <a:ext cx="2438280" cy="1981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13440" y="5300640"/>
              <a:ext cx="1079280" cy="504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lbertus Medium"/>
                </a:rPr>
                <a:t>ПЛК «Элерон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92720" y="4365720"/>
              <a:ext cx="838080" cy="530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lbertus Medium"/>
                </a:rPr>
                <a:t>приём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Albertus Medium"/>
                </a:rPr>
                <a:t>G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726080" y="4878360"/>
              <a:ext cx="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492720" y="5157720"/>
              <a:ext cx="515880" cy="685800"/>
              <a:chOff x="3492720" y="5157720"/>
              <a:chExt cx="515880" cy="685800"/>
            </a:xfrm>
          </p:grpSpPr>
          <p:sp>
            <p:nvSpPr>
              <p:cNvPr id="414" name=""/>
              <p:cNvSpPr/>
              <p:nvPr/>
            </p:nvSpPr>
            <p:spPr>
              <a:xfrm>
                <a:off x="3510360" y="544536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563" h="1254">
                    <a:moveTo>
                      <a:pt x="222" y="1150"/>
                    </a:moveTo>
                    <a:lnTo>
                      <a:pt x="0" y="402"/>
                    </a:lnTo>
                    <a:lnTo>
                      <a:pt x="473" y="34"/>
                    </a:lnTo>
                    <a:lnTo>
                      <a:pt x="517" y="0"/>
                    </a:lnTo>
                    <a:lnTo>
                      <a:pt x="563" y="0"/>
                    </a:lnTo>
                    <a:lnTo>
                      <a:pt x="563" y="1254"/>
                    </a:lnTo>
                    <a:lnTo>
                      <a:pt x="222" y="115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69200" y="5445360"/>
                <a:ext cx="222120" cy="398160"/>
              </a:xfrm>
              <a:custGeom>
                <a:avLst/>
                <a:gdLst/>
                <a:ahLst/>
                <a:rect l="l" t="t" r="r" b="b"/>
                <a:pathLst>
                  <a:path w="562" h="1254">
                    <a:moveTo>
                      <a:pt x="340" y="1150"/>
                    </a:moveTo>
                    <a:lnTo>
                      <a:pt x="562" y="402"/>
                    </a:lnTo>
                    <a:lnTo>
                      <a:pt x="89" y="34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254"/>
                    </a:lnTo>
                    <a:lnTo>
                      <a:pt x="340" y="115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492720" y="5400720"/>
                <a:ext cx="515880" cy="155520"/>
              </a:xfrm>
              <a:custGeom>
                <a:avLst/>
                <a:gdLst/>
                <a:ahLst/>
                <a:rect l="l" t="t" r="r" b="b"/>
                <a:pathLst>
                  <a:path w="1300" h="487">
                    <a:moveTo>
                      <a:pt x="680" y="53"/>
                    </a:moveTo>
                    <a:lnTo>
                      <a:pt x="708" y="53"/>
                    </a:lnTo>
                    <a:lnTo>
                      <a:pt x="754" y="70"/>
                    </a:lnTo>
                    <a:lnTo>
                      <a:pt x="1285" y="487"/>
                    </a:lnTo>
                    <a:lnTo>
                      <a:pt x="1300" y="454"/>
                    </a:lnTo>
                    <a:lnTo>
                      <a:pt x="782" y="37"/>
                    </a:lnTo>
                    <a:lnTo>
                      <a:pt x="708" y="0"/>
                    </a:lnTo>
                    <a:lnTo>
                      <a:pt x="592" y="0"/>
                    </a:lnTo>
                    <a:lnTo>
                      <a:pt x="518" y="37"/>
                    </a:lnTo>
                    <a:lnTo>
                      <a:pt x="0" y="454"/>
                    </a:lnTo>
                    <a:lnTo>
                      <a:pt x="16" y="487"/>
                    </a:lnTo>
                    <a:lnTo>
                      <a:pt x="545" y="70"/>
                    </a:lnTo>
                    <a:lnTo>
                      <a:pt x="592" y="53"/>
                    </a:lnTo>
                    <a:lnTo>
                      <a:pt x="619" y="53"/>
                    </a:lnTo>
                    <a:lnTo>
                      <a:pt x="680" y="53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92880" y="5202360"/>
                <a:ext cx="115920" cy="93600"/>
              </a:xfrm>
              <a:custGeom>
                <a:avLst/>
                <a:gdLst/>
                <a:ahLst/>
                <a:rect l="l" t="t" r="r" b="b"/>
                <a:pathLst>
                  <a:path w="296" h="295">
                    <a:moveTo>
                      <a:pt x="296" y="295"/>
                    </a:moveTo>
                    <a:lnTo>
                      <a:pt x="296" y="119"/>
                    </a:lnTo>
                    <a:lnTo>
                      <a:pt x="285" y="98"/>
                    </a:lnTo>
                    <a:lnTo>
                      <a:pt x="275" y="78"/>
                    </a:lnTo>
                    <a:lnTo>
                      <a:pt x="263" y="59"/>
                    </a:lnTo>
                    <a:lnTo>
                      <a:pt x="248" y="43"/>
                    </a:lnTo>
                    <a:lnTo>
                      <a:pt x="232" y="28"/>
                    </a:lnTo>
                    <a:lnTo>
                      <a:pt x="214" y="16"/>
                    </a:lnTo>
                    <a:lnTo>
                      <a:pt x="195" y="8"/>
                    </a:lnTo>
                    <a:lnTo>
                      <a:pt x="175" y="1"/>
                    </a:lnTo>
                    <a:lnTo>
                      <a:pt x="154" y="0"/>
                    </a:lnTo>
                    <a:lnTo>
                      <a:pt x="133" y="0"/>
                    </a:lnTo>
                    <a:lnTo>
                      <a:pt x="113" y="4"/>
                    </a:lnTo>
                    <a:lnTo>
                      <a:pt x="94" y="10"/>
                    </a:lnTo>
                    <a:lnTo>
                      <a:pt x="74" y="20"/>
                    </a:lnTo>
                    <a:lnTo>
                      <a:pt x="59" y="32"/>
                    </a:lnTo>
                    <a:lnTo>
                      <a:pt x="43" y="49"/>
                    </a:lnTo>
                    <a:lnTo>
                      <a:pt x="27" y="65"/>
                    </a:lnTo>
                    <a:lnTo>
                      <a:pt x="15" y="86"/>
                    </a:lnTo>
                    <a:lnTo>
                      <a:pt x="8" y="106"/>
                    </a:lnTo>
                    <a:lnTo>
                      <a:pt x="0" y="119"/>
                    </a:lnTo>
                    <a:lnTo>
                      <a:pt x="0" y="295"/>
                    </a:lnTo>
                    <a:lnTo>
                      <a:pt x="296" y="295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692880" y="5157720"/>
                <a:ext cx="115920" cy="55800"/>
              </a:xfrm>
              <a:custGeom>
                <a:avLst/>
                <a:gdLst/>
                <a:ahLst/>
                <a:rect l="l" t="t" r="r" b="b"/>
                <a:pathLst>
                  <a:path w="296" h="175">
                    <a:moveTo>
                      <a:pt x="0" y="123"/>
                    </a:moveTo>
                    <a:lnTo>
                      <a:pt x="8" y="104"/>
                    </a:lnTo>
                    <a:lnTo>
                      <a:pt x="15" y="84"/>
                    </a:lnTo>
                    <a:lnTo>
                      <a:pt x="27" y="66"/>
                    </a:lnTo>
                    <a:lnTo>
                      <a:pt x="43" y="49"/>
                    </a:lnTo>
                    <a:lnTo>
                      <a:pt x="59" y="32"/>
                    </a:lnTo>
                    <a:lnTo>
                      <a:pt x="74" y="21"/>
                    </a:lnTo>
                    <a:lnTo>
                      <a:pt x="94" y="10"/>
                    </a:lnTo>
                    <a:lnTo>
                      <a:pt x="113" y="4"/>
                    </a:lnTo>
                    <a:lnTo>
                      <a:pt x="133" y="0"/>
                    </a:lnTo>
                    <a:lnTo>
                      <a:pt x="154" y="0"/>
                    </a:lnTo>
                    <a:lnTo>
                      <a:pt x="175" y="0"/>
                    </a:lnTo>
                    <a:lnTo>
                      <a:pt x="195" y="6"/>
                    </a:lnTo>
                    <a:lnTo>
                      <a:pt x="214" y="16"/>
                    </a:lnTo>
                    <a:lnTo>
                      <a:pt x="232" y="28"/>
                    </a:lnTo>
                    <a:lnTo>
                      <a:pt x="248" y="41"/>
                    </a:lnTo>
                    <a:lnTo>
                      <a:pt x="263" y="59"/>
                    </a:lnTo>
                    <a:lnTo>
                      <a:pt x="275" y="79"/>
                    </a:lnTo>
                    <a:lnTo>
                      <a:pt x="285" y="97"/>
                    </a:lnTo>
                    <a:lnTo>
                      <a:pt x="296" y="123"/>
                    </a:lnTo>
                    <a:lnTo>
                      <a:pt x="296" y="175"/>
                    </a:lnTo>
                    <a:lnTo>
                      <a:pt x="285" y="152"/>
                    </a:lnTo>
                    <a:lnTo>
                      <a:pt x="275" y="129"/>
                    </a:lnTo>
                    <a:lnTo>
                      <a:pt x="263" y="111"/>
                    </a:lnTo>
                    <a:lnTo>
                      <a:pt x="248" y="96"/>
                    </a:lnTo>
                    <a:lnTo>
                      <a:pt x="232" y="81"/>
                    </a:lnTo>
                    <a:lnTo>
                      <a:pt x="214" y="68"/>
                    </a:lnTo>
                    <a:lnTo>
                      <a:pt x="195" y="59"/>
                    </a:lnTo>
                    <a:lnTo>
                      <a:pt x="175" y="55"/>
                    </a:lnTo>
                    <a:lnTo>
                      <a:pt x="154" y="53"/>
                    </a:lnTo>
                    <a:lnTo>
                      <a:pt x="133" y="53"/>
                    </a:lnTo>
                    <a:lnTo>
                      <a:pt x="113" y="55"/>
                    </a:lnTo>
                    <a:lnTo>
                      <a:pt x="94" y="63"/>
                    </a:lnTo>
                    <a:lnTo>
                      <a:pt x="74" y="71"/>
                    </a:lnTo>
                    <a:lnTo>
                      <a:pt x="59" y="84"/>
                    </a:lnTo>
                    <a:lnTo>
                      <a:pt x="43" y="101"/>
                    </a:lnTo>
                    <a:lnTo>
                      <a:pt x="27" y="117"/>
                    </a:lnTo>
                    <a:lnTo>
                      <a:pt x="15" y="136"/>
                    </a:lnTo>
                    <a:lnTo>
                      <a:pt x="8" y="159"/>
                    </a:lnTo>
                    <a:lnTo>
                      <a:pt x="0" y="175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57880" y="5291280"/>
                <a:ext cx="204840" cy="193680"/>
              </a:xfrm>
              <a:custGeom>
                <a:avLst/>
                <a:gdLst/>
                <a:ahLst/>
                <a:rect l="l" t="t" r="r" b="b"/>
                <a:pathLst>
                  <a:path w="517" h="610">
                    <a:moveTo>
                      <a:pt x="119" y="610"/>
                    </a:moveTo>
                    <a:lnTo>
                      <a:pt x="119" y="418"/>
                    </a:lnTo>
                    <a:lnTo>
                      <a:pt x="0" y="418"/>
                    </a:lnTo>
                    <a:lnTo>
                      <a:pt x="0" y="245"/>
                    </a:lnTo>
                    <a:lnTo>
                      <a:pt x="251" y="245"/>
                    </a:lnTo>
                    <a:lnTo>
                      <a:pt x="251" y="140"/>
                    </a:lnTo>
                    <a:lnTo>
                      <a:pt x="119" y="140"/>
                    </a:lnTo>
                    <a:lnTo>
                      <a:pt x="119" y="0"/>
                    </a:lnTo>
                    <a:lnTo>
                      <a:pt x="517" y="0"/>
                    </a:lnTo>
                    <a:lnTo>
                      <a:pt x="517" y="34"/>
                    </a:lnTo>
                    <a:lnTo>
                      <a:pt x="161" y="34"/>
                    </a:lnTo>
                    <a:lnTo>
                      <a:pt x="161" y="104"/>
                    </a:lnTo>
                    <a:lnTo>
                      <a:pt x="517" y="104"/>
                    </a:lnTo>
                    <a:lnTo>
                      <a:pt x="517" y="140"/>
                    </a:lnTo>
                    <a:lnTo>
                      <a:pt x="296" y="140"/>
                    </a:lnTo>
                    <a:lnTo>
                      <a:pt x="296" y="245"/>
                    </a:lnTo>
                    <a:lnTo>
                      <a:pt x="517" y="245"/>
                    </a:lnTo>
                    <a:lnTo>
                      <a:pt x="517" y="296"/>
                    </a:lnTo>
                    <a:lnTo>
                      <a:pt x="45" y="296"/>
                    </a:lnTo>
                    <a:lnTo>
                      <a:pt x="45" y="366"/>
                    </a:lnTo>
                    <a:lnTo>
                      <a:pt x="161" y="366"/>
                    </a:lnTo>
                    <a:lnTo>
                      <a:pt x="161" y="558"/>
                    </a:lnTo>
                    <a:lnTo>
                      <a:pt x="119" y="61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38960" y="5291280"/>
                <a:ext cx="204840" cy="193680"/>
              </a:xfrm>
              <a:custGeom>
                <a:avLst/>
                <a:gdLst/>
                <a:ahLst/>
                <a:rect l="l" t="t" r="r" b="b"/>
                <a:pathLst>
                  <a:path w="518" h="610">
                    <a:moveTo>
                      <a:pt x="399" y="610"/>
                    </a:moveTo>
                    <a:lnTo>
                      <a:pt x="399" y="418"/>
                    </a:lnTo>
                    <a:lnTo>
                      <a:pt x="518" y="418"/>
                    </a:lnTo>
                    <a:lnTo>
                      <a:pt x="518" y="245"/>
                    </a:lnTo>
                    <a:lnTo>
                      <a:pt x="267" y="245"/>
                    </a:lnTo>
                    <a:lnTo>
                      <a:pt x="267" y="140"/>
                    </a:lnTo>
                    <a:lnTo>
                      <a:pt x="399" y="140"/>
                    </a:lnTo>
                    <a:lnTo>
                      <a:pt x="39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56" y="34"/>
                    </a:lnTo>
                    <a:lnTo>
                      <a:pt x="356" y="104"/>
                    </a:lnTo>
                    <a:lnTo>
                      <a:pt x="0" y="104"/>
                    </a:lnTo>
                    <a:lnTo>
                      <a:pt x="0" y="140"/>
                    </a:lnTo>
                    <a:lnTo>
                      <a:pt x="222" y="140"/>
                    </a:lnTo>
                    <a:lnTo>
                      <a:pt x="222" y="245"/>
                    </a:lnTo>
                    <a:lnTo>
                      <a:pt x="0" y="245"/>
                    </a:lnTo>
                    <a:lnTo>
                      <a:pt x="0" y="296"/>
                    </a:lnTo>
                    <a:lnTo>
                      <a:pt x="473" y="296"/>
                    </a:lnTo>
                    <a:lnTo>
                      <a:pt x="473" y="366"/>
                    </a:lnTo>
                    <a:lnTo>
                      <a:pt x="356" y="366"/>
                    </a:lnTo>
                    <a:lnTo>
                      <a:pt x="356" y="558"/>
                    </a:lnTo>
                    <a:lnTo>
                      <a:pt x="399" y="61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 rot="16200000">
              <a:off x="4103640" y="3609720"/>
              <a:ext cx="1368360" cy="142560"/>
            </a:xfrm>
            <a:prstGeom prst="rightArrow">
              <a:avLst>
                <a:gd name="adj1" fmla="val 56250"/>
                <a:gd name="adj2" fmla="val 138423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30800" y="4365720"/>
              <a:ext cx="1419120" cy="530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lbertus Medium"/>
                </a:rPr>
                <a:t>АТ «Гонец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92720" y="544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24000" y="2897280"/>
            <a:ext cx="3851640" cy="3625920"/>
            <a:chOff x="324000" y="2897280"/>
            <a:chExt cx="3851640" cy="3625920"/>
          </a:xfrm>
        </p:grpSpPr>
        <p:sp>
          <p:nvSpPr>
            <p:cNvPr id="425" name=""/>
            <p:cNvSpPr/>
            <p:nvPr/>
          </p:nvSpPr>
          <p:spPr>
            <a:xfrm>
              <a:off x="324000" y="4076640"/>
              <a:ext cx="2438280" cy="244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332000" y="5659200"/>
              <a:ext cx="0" cy="469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44720" y="5154480"/>
              <a:ext cx="1508040" cy="5176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lbertus Medium"/>
                </a:rPr>
                <a:t>ПЛК «Элерон»/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lbertus Medium"/>
                </a:rPr>
                <a:t>ВНИРО/ВНИЭР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9960" y="4235400"/>
              <a:ext cx="83844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lbertus Medium"/>
                </a:rPr>
                <a:t>приём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Albertus Medium"/>
                </a:rPr>
                <a:t>G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1765440" y="4722480"/>
              <a:ext cx="0" cy="431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99960" y="5140440"/>
              <a:ext cx="515880" cy="698040"/>
              <a:chOff x="399960" y="5140440"/>
              <a:chExt cx="515880" cy="698040"/>
            </a:xfrm>
          </p:grpSpPr>
          <p:sp>
            <p:nvSpPr>
              <p:cNvPr id="431" name=""/>
              <p:cNvSpPr/>
              <p:nvPr/>
            </p:nvSpPr>
            <p:spPr>
              <a:xfrm>
                <a:off x="417600" y="5433120"/>
                <a:ext cx="223920" cy="405360"/>
              </a:xfrm>
              <a:custGeom>
                <a:avLst/>
                <a:gdLst/>
                <a:ahLst/>
                <a:rect l="l" t="t" r="r" b="b"/>
                <a:pathLst>
                  <a:path w="563" h="1254">
                    <a:moveTo>
                      <a:pt x="222" y="1150"/>
                    </a:moveTo>
                    <a:lnTo>
                      <a:pt x="0" y="402"/>
                    </a:lnTo>
                    <a:lnTo>
                      <a:pt x="473" y="34"/>
                    </a:lnTo>
                    <a:lnTo>
                      <a:pt x="517" y="0"/>
                    </a:lnTo>
                    <a:lnTo>
                      <a:pt x="563" y="0"/>
                    </a:lnTo>
                    <a:lnTo>
                      <a:pt x="563" y="1254"/>
                    </a:lnTo>
                    <a:lnTo>
                      <a:pt x="222" y="115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6440" y="5433120"/>
                <a:ext cx="222120" cy="405360"/>
              </a:xfrm>
              <a:custGeom>
                <a:avLst/>
                <a:gdLst/>
                <a:ahLst/>
                <a:rect l="l" t="t" r="r" b="b"/>
                <a:pathLst>
                  <a:path w="562" h="1254">
                    <a:moveTo>
                      <a:pt x="340" y="1150"/>
                    </a:moveTo>
                    <a:lnTo>
                      <a:pt x="562" y="402"/>
                    </a:lnTo>
                    <a:lnTo>
                      <a:pt x="89" y="34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254"/>
                    </a:lnTo>
                    <a:lnTo>
                      <a:pt x="340" y="115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99960" y="5387760"/>
                <a:ext cx="515880" cy="158040"/>
              </a:xfrm>
              <a:custGeom>
                <a:avLst/>
                <a:gdLst/>
                <a:ahLst/>
                <a:rect l="l" t="t" r="r" b="b"/>
                <a:pathLst>
                  <a:path w="1300" h="487">
                    <a:moveTo>
                      <a:pt x="680" y="53"/>
                    </a:moveTo>
                    <a:lnTo>
                      <a:pt x="708" y="53"/>
                    </a:lnTo>
                    <a:lnTo>
                      <a:pt x="754" y="70"/>
                    </a:lnTo>
                    <a:lnTo>
                      <a:pt x="1285" y="487"/>
                    </a:lnTo>
                    <a:lnTo>
                      <a:pt x="1300" y="454"/>
                    </a:lnTo>
                    <a:lnTo>
                      <a:pt x="782" y="37"/>
                    </a:lnTo>
                    <a:lnTo>
                      <a:pt x="708" y="0"/>
                    </a:lnTo>
                    <a:lnTo>
                      <a:pt x="592" y="0"/>
                    </a:lnTo>
                    <a:lnTo>
                      <a:pt x="518" y="37"/>
                    </a:lnTo>
                    <a:lnTo>
                      <a:pt x="0" y="454"/>
                    </a:lnTo>
                    <a:lnTo>
                      <a:pt x="16" y="487"/>
                    </a:lnTo>
                    <a:lnTo>
                      <a:pt x="545" y="70"/>
                    </a:lnTo>
                    <a:lnTo>
                      <a:pt x="592" y="53"/>
                    </a:lnTo>
                    <a:lnTo>
                      <a:pt x="619" y="53"/>
                    </a:lnTo>
                    <a:lnTo>
                      <a:pt x="680" y="53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0120" y="5185800"/>
                <a:ext cx="115920" cy="95040"/>
              </a:xfrm>
              <a:custGeom>
                <a:avLst/>
                <a:gdLst/>
                <a:ahLst/>
                <a:rect l="l" t="t" r="r" b="b"/>
                <a:pathLst>
                  <a:path w="296" h="295">
                    <a:moveTo>
                      <a:pt x="296" y="295"/>
                    </a:moveTo>
                    <a:lnTo>
                      <a:pt x="296" y="119"/>
                    </a:lnTo>
                    <a:lnTo>
                      <a:pt x="285" y="98"/>
                    </a:lnTo>
                    <a:lnTo>
                      <a:pt x="275" y="78"/>
                    </a:lnTo>
                    <a:lnTo>
                      <a:pt x="263" y="59"/>
                    </a:lnTo>
                    <a:lnTo>
                      <a:pt x="248" y="43"/>
                    </a:lnTo>
                    <a:lnTo>
                      <a:pt x="232" y="28"/>
                    </a:lnTo>
                    <a:lnTo>
                      <a:pt x="214" y="16"/>
                    </a:lnTo>
                    <a:lnTo>
                      <a:pt x="195" y="8"/>
                    </a:lnTo>
                    <a:lnTo>
                      <a:pt x="175" y="1"/>
                    </a:lnTo>
                    <a:lnTo>
                      <a:pt x="154" y="0"/>
                    </a:lnTo>
                    <a:lnTo>
                      <a:pt x="133" y="0"/>
                    </a:lnTo>
                    <a:lnTo>
                      <a:pt x="113" y="4"/>
                    </a:lnTo>
                    <a:lnTo>
                      <a:pt x="94" y="10"/>
                    </a:lnTo>
                    <a:lnTo>
                      <a:pt x="74" y="20"/>
                    </a:lnTo>
                    <a:lnTo>
                      <a:pt x="59" y="32"/>
                    </a:lnTo>
                    <a:lnTo>
                      <a:pt x="43" y="49"/>
                    </a:lnTo>
                    <a:lnTo>
                      <a:pt x="27" y="65"/>
                    </a:lnTo>
                    <a:lnTo>
                      <a:pt x="15" y="86"/>
                    </a:lnTo>
                    <a:lnTo>
                      <a:pt x="8" y="106"/>
                    </a:lnTo>
                    <a:lnTo>
                      <a:pt x="0" y="119"/>
                    </a:lnTo>
                    <a:lnTo>
                      <a:pt x="0" y="295"/>
                    </a:lnTo>
                    <a:lnTo>
                      <a:pt x="296" y="295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00120" y="5140440"/>
                <a:ext cx="115920" cy="56520"/>
              </a:xfrm>
              <a:custGeom>
                <a:avLst/>
                <a:gdLst/>
                <a:ahLst/>
                <a:rect l="l" t="t" r="r" b="b"/>
                <a:pathLst>
                  <a:path w="296" h="175">
                    <a:moveTo>
                      <a:pt x="0" y="123"/>
                    </a:moveTo>
                    <a:lnTo>
                      <a:pt x="8" y="104"/>
                    </a:lnTo>
                    <a:lnTo>
                      <a:pt x="15" y="84"/>
                    </a:lnTo>
                    <a:lnTo>
                      <a:pt x="27" y="66"/>
                    </a:lnTo>
                    <a:lnTo>
                      <a:pt x="43" y="49"/>
                    </a:lnTo>
                    <a:lnTo>
                      <a:pt x="59" y="32"/>
                    </a:lnTo>
                    <a:lnTo>
                      <a:pt x="74" y="21"/>
                    </a:lnTo>
                    <a:lnTo>
                      <a:pt x="94" y="10"/>
                    </a:lnTo>
                    <a:lnTo>
                      <a:pt x="113" y="4"/>
                    </a:lnTo>
                    <a:lnTo>
                      <a:pt x="133" y="0"/>
                    </a:lnTo>
                    <a:lnTo>
                      <a:pt x="154" y="0"/>
                    </a:lnTo>
                    <a:lnTo>
                      <a:pt x="175" y="0"/>
                    </a:lnTo>
                    <a:lnTo>
                      <a:pt x="195" y="6"/>
                    </a:lnTo>
                    <a:lnTo>
                      <a:pt x="214" y="16"/>
                    </a:lnTo>
                    <a:lnTo>
                      <a:pt x="232" y="28"/>
                    </a:lnTo>
                    <a:lnTo>
                      <a:pt x="248" y="41"/>
                    </a:lnTo>
                    <a:lnTo>
                      <a:pt x="263" y="59"/>
                    </a:lnTo>
                    <a:lnTo>
                      <a:pt x="275" y="79"/>
                    </a:lnTo>
                    <a:lnTo>
                      <a:pt x="285" y="97"/>
                    </a:lnTo>
                    <a:lnTo>
                      <a:pt x="296" y="123"/>
                    </a:lnTo>
                    <a:lnTo>
                      <a:pt x="296" y="175"/>
                    </a:lnTo>
                    <a:lnTo>
                      <a:pt x="285" y="152"/>
                    </a:lnTo>
                    <a:lnTo>
                      <a:pt x="275" y="129"/>
                    </a:lnTo>
                    <a:lnTo>
                      <a:pt x="263" y="111"/>
                    </a:lnTo>
                    <a:lnTo>
                      <a:pt x="248" y="96"/>
                    </a:lnTo>
                    <a:lnTo>
                      <a:pt x="232" y="81"/>
                    </a:lnTo>
                    <a:lnTo>
                      <a:pt x="214" y="68"/>
                    </a:lnTo>
                    <a:lnTo>
                      <a:pt x="195" y="59"/>
                    </a:lnTo>
                    <a:lnTo>
                      <a:pt x="175" y="55"/>
                    </a:lnTo>
                    <a:lnTo>
                      <a:pt x="154" y="53"/>
                    </a:lnTo>
                    <a:lnTo>
                      <a:pt x="133" y="53"/>
                    </a:lnTo>
                    <a:lnTo>
                      <a:pt x="113" y="55"/>
                    </a:lnTo>
                    <a:lnTo>
                      <a:pt x="94" y="63"/>
                    </a:lnTo>
                    <a:lnTo>
                      <a:pt x="74" y="71"/>
                    </a:lnTo>
                    <a:lnTo>
                      <a:pt x="59" y="84"/>
                    </a:lnTo>
                    <a:lnTo>
                      <a:pt x="43" y="101"/>
                    </a:lnTo>
                    <a:lnTo>
                      <a:pt x="27" y="117"/>
                    </a:lnTo>
                    <a:lnTo>
                      <a:pt x="15" y="136"/>
                    </a:lnTo>
                    <a:lnTo>
                      <a:pt x="8" y="159"/>
                    </a:lnTo>
                    <a:lnTo>
                      <a:pt x="0" y="175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5120" y="5276160"/>
                <a:ext cx="204840" cy="196920"/>
              </a:xfrm>
              <a:custGeom>
                <a:avLst/>
                <a:gdLst/>
                <a:ahLst/>
                <a:rect l="l" t="t" r="r" b="b"/>
                <a:pathLst>
                  <a:path w="517" h="610">
                    <a:moveTo>
                      <a:pt x="119" y="610"/>
                    </a:moveTo>
                    <a:lnTo>
                      <a:pt x="119" y="418"/>
                    </a:lnTo>
                    <a:lnTo>
                      <a:pt x="0" y="418"/>
                    </a:lnTo>
                    <a:lnTo>
                      <a:pt x="0" y="245"/>
                    </a:lnTo>
                    <a:lnTo>
                      <a:pt x="251" y="245"/>
                    </a:lnTo>
                    <a:lnTo>
                      <a:pt x="251" y="140"/>
                    </a:lnTo>
                    <a:lnTo>
                      <a:pt x="119" y="140"/>
                    </a:lnTo>
                    <a:lnTo>
                      <a:pt x="119" y="0"/>
                    </a:lnTo>
                    <a:lnTo>
                      <a:pt x="517" y="0"/>
                    </a:lnTo>
                    <a:lnTo>
                      <a:pt x="517" y="34"/>
                    </a:lnTo>
                    <a:lnTo>
                      <a:pt x="161" y="34"/>
                    </a:lnTo>
                    <a:lnTo>
                      <a:pt x="161" y="104"/>
                    </a:lnTo>
                    <a:lnTo>
                      <a:pt x="517" y="104"/>
                    </a:lnTo>
                    <a:lnTo>
                      <a:pt x="517" y="140"/>
                    </a:lnTo>
                    <a:lnTo>
                      <a:pt x="296" y="140"/>
                    </a:lnTo>
                    <a:lnTo>
                      <a:pt x="296" y="245"/>
                    </a:lnTo>
                    <a:lnTo>
                      <a:pt x="517" y="245"/>
                    </a:lnTo>
                    <a:lnTo>
                      <a:pt x="517" y="296"/>
                    </a:lnTo>
                    <a:lnTo>
                      <a:pt x="45" y="296"/>
                    </a:lnTo>
                    <a:lnTo>
                      <a:pt x="45" y="366"/>
                    </a:lnTo>
                    <a:lnTo>
                      <a:pt x="161" y="366"/>
                    </a:lnTo>
                    <a:lnTo>
                      <a:pt x="161" y="558"/>
                    </a:lnTo>
                    <a:lnTo>
                      <a:pt x="119" y="61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6200" y="5276160"/>
                <a:ext cx="204840" cy="196920"/>
              </a:xfrm>
              <a:custGeom>
                <a:avLst/>
                <a:gdLst/>
                <a:ahLst/>
                <a:rect l="l" t="t" r="r" b="b"/>
                <a:pathLst>
                  <a:path w="518" h="610">
                    <a:moveTo>
                      <a:pt x="399" y="610"/>
                    </a:moveTo>
                    <a:lnTo>
                      <a:pt x="399" y="418"/>
                    </a:lnTo>
                    <a:lnTo>
                      <a:pt x="518" y="418"/>
                    </a:lnTo>
                    <a:lnTo>
                      <a:pt x="518" y="245"/>
                    </a:lnTo>
                    <a:lnTo>
                      <a:pt x="267" y="245"/>
                    </a:lnTo>
                    <a:lnTo>
                      <a:pt x="267" y="140"/>
                    </a:lnTo>
                    <a:lnTo>
                      <a:pt x="399" y="140"/>
                    </a:lnTo>
                    <a:lnTo>
                      <a:pt x="399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56" y="34"/>
                    </a:lnTo>
                    <a:lnTo>
                      <a:pt x="356" y="104"/>
                    </a:lnTo>
                    <a:lnTo>
                      <a:pt x="0" y="104"/>
                    </a:lnTo>
                    <a:lnTo>
                      <a:pt x="0" y="140"/>
                    </a:lnTo>
                    <a:lnTo>
                      <a:pt x="222" y="140"/>
                    </a:lnTo>
                    <a:lnTo>
                      <a:pt x="222" y="245"/>
                    </a:lnTo>
                    <a:lnTo>
                      <a:pt x="0" y="245"/>
                    </a:lnTo>
                    <a:lnTo>
                      <a:pt x="0" y="296"/>
                    </a:lnTo>
                    <a:lnTo>
                      <a:pt x="473" y="296"/>
                    </a:lnTo>
                    <a:lnTo>
                      <a:pt x="473" y="366"/>
                    </a:lnTo>
                    <a:lnTo>
                      <a:pt x="356" y="366"/>
                    </a:lnTo>
                    <a:lnTo>
                      <a:pt x="356" y="558"/>
                    </a:lnTo>
                    <a:lnTo>
                      <a:pt x="399" y="61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 flipV="1">
              <a:off x="1620720" y="5659200"/>
              <a:ext cx="0" cy="469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908000" y="5659200"/>
              <a:ext cx="0" cy="469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197080" y="5659200"/>
              <a:ext cx="0" cy="469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6720" y="6093000"/>
              <a:ext cx="1584360" cy="36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lbertus Medium"/>
                </a:rPr>
                <a:t>комбинированный датчик Т, Р, Н воздух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52720" y="6093000"/>
              <a:ext cx="647640" cy="358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lbertus Medium"/>
                </a:rPr>
                <a:t>датчик ток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9740600">
              <a:off x="1447560" y="3631680"/>
              <a:ext cx="2895480" cy="150840"/>
            </a:xfrm>
            <a:prstGeom prst="rightArrow">
              <a:avLst>
                <a:gd name="adj1" fmla="val 56250"/>
                <a:gd name="adj2" fmla="val 27682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8400" y="4235400"/>
              <a:ext cx="1419120" cy="48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lbertus Medium"/>
                </a:rPr>
                <a:t>АТ «Гонец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445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79280" y="1197000"/>
            <a:ext cx="4241160" cy="2513160"/>
            <a:chOff x="179280" y="1197000"/>
            <a:chExt cx="4241160" cy="2513160"/>
          </a:xfrm>
        </p:grpSpPr>
        <p:sp>
          <p:nvSpPr>
            <p:cNvPr id="447" name=""/>
            <p:cNvSpPr/>
            <p:nvPr/>
          </p:nvSpPr>
          <p:spPr>
            <a:xfrm>
              <a:off x="179280" y="1197000"/>
              <a:ext cx="2387880" cy="2513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71640" y="2421000"/>
              <a:ext cx="792000" cy="295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lbertus Medium"/>
                </a:rPr>
                <a:t>ПЛК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32000" y="3286080"/>
              <a:ext cx="1158840" cy="36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lbertus Medium"/>
                </a:rPr>
                <a:t>приёмни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Albertus Medium"/>
                </a:rPr>
                <a:t>GPS</a:t>
              </a:r>
              <a:r>
                <a:rPr b="1" lang="ru-RU" sz="1000" spc="-1" strike="noStrike">
                  <a:solidFill>
                    <a:srgbClr val="000000"/>
                  </a:solidFill>
                  <a:latin typeface="Albertus Medium"/>
                </a:rPr>
                <a:t>/ГЛОНАСС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619280" y="2709360"/>
              <a:ext cx="0" cy="5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332000" y="1915920"/>
              <a:ext cx="0" cy="5094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24000" y="2278080"/>
              <a:ext cx="506160" cy="685800"/>
              <a:chOff x="324000" y="2278080"/>
              <a:chExt cx="506160" cy="685800"/>
            </a:xfrm>
          </p:grpSpPr>
          <p:sp>
            <p:nvSpPr>
              <p:cNvPr id="453" name=""/>
              <p:cNvSpPr/>
              <p:nvPr/>
            </p:nvSpPr>
            <p:spPr>
              <a:xfrm>
                <a:off x="341280" y="2565360"/>
                <a:ext cx="219240" cy="398520"/>
              </a:xfrm>
              <a:custGeom>
                <a:avLst/>
                <a:gdLst/>
                <a:ahLst/>
                <a:rect l="l" t="t" r="r" b="b"/>
                <a:pathLst>
                  <a:path w="553" h="1254">
                    <a:moveTo>
                      <a:pt x="218" y="1150"/>
                    </a:moveTo>
                    <a:lnTo>
                      <a:pt x="0" y="402"/>
                    </a:lnTo>
                    <a:lnTo>
                      <a:pt x="464" y="34"/>
                    </a:lnTo>
                    <a:lnTo>
                      <a:pt x="507" y="0"/>
                    </a:lnTo>
                    <a:lnTo>
                      <a:pt x="553" y="0"/>
                    </a:lnTo>
                    <a:lnTo>
                      <a:pt x="553" y="1254"/>
                    </a:lnTo>
                    <a:lnTo>
                      <a:pt x="218" y="115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95440" y="2565360"/>
                <a:ext cx="217440" cy="398520"/>
              </a:xfrm>
              <a:custGeom>
                <a:avLst/>
                <a:gdLst/>
                <a:ahLst/>
                <a:rect l="l" t="t" r="r" b="b"/>
                <a:pathLst>
                  <a:path w="552" h="1254">
                    <a:moveTo>
                      <a:pt x="334" y="1150"/>
                    </a:moveTo>
                    <a:lnTo>
                      <a:pt x="552" y="402"/>
                    </a:lnTo>
                    <a:lnTo>
                      <a:pt x="88" y="34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1254"/>
                    </a:lnTo>
                    <a:lnTo>
                      <a:pt x="334" y="115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4000" y="2521080"/>
                <a:ext cx="506160" cy="155520"/>
              </a:xfrm>
              <a:custGeom>
                <a:avLst/>
                <a:gdLst/>
                <a:ahLst/>
                <a:rect l="l" t="t" r="r" b="b"/>
                <a:pathLst>
                  <a:path w="1276" h="487">
                    <a:moveTo>
                      <a:pt x="667" y="53"/>
                    </a:moveTo>
                    <a:lnTo>
                      <a:pt x="695" y="53"/>
                    </a:lnTo>
                    <a:lnTo>
                      <a:pt x="740" y="70"/>
                    </a:lnTo>
                    <a:lnTo>
                      <a:pt x="1261" y="487"/>
                    </a:lnTo>
                    <a:lnTo>
                      <a:pt x="1276" y="454"/>
                    </a:lnTo>
                    <a:lnTo>
                      <a:pt x="768" y="37"/>
                    </a:lnTo>
                    <a:lnTo>
                      <a:pt x="695" y="0"/>
                    </a:lnTo>
                    <a:lnTo>
                      <a:pt x="581" y="0"/>
                    </a:lnTo>
                    <a:lnTo>
                      <a:pt x="508" y="37"/>
                    </a:lnTo>
                    <a:lnTo>
                      <a:pt x="0" y="454"/>
                    </a:lnTo>
                    <a:lnTo>
                      <a:pt x="16" y="487"/>
                    </a:lnTo>
                    <a:lnTo>
                      <a:pt x="535" y="70"/>
                    </a:lnTo>
                    <a:lnTo>
                      <a:pt x="581" y="53"/>
                    </a:lnTo>
                    <a:lnTo>
                      <a:pt x="608" y="53"/>
                    </a:lnTo>
                    <a:lnTo>
                      <a:pt x="667" y="53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9120" y="2322720"/>
                <a:ext cx="115920" cy="93600"/>
              </a:xfrm>
              <a:custGeom>
                <a:avLst/>
                <a:gdLst/>
                <a:ahLst/>
                <a:rect l="l" t="t" r="r" b="b"/>
                <a:pathLst>
                  <a:path w="290" h="295">
                    <a:moveTo>
                      <a:pt x="290" y="295"/>
                    </a:moveTo>
                    <a:lnTo>
                      <a:pt x="290" y="119"/>
                    </a:lnTo>
                    <a:lnTo>
                      <a:pt x="280" y="98"/>
                    </a:lnTo>
                    <a:lnTo>
                      <a:pt x="270" y="78"/>
                    </a:lnTo>
                    <a:lnTo>
                      <a:pt x="258" y="59"/>
                    </a:lnTo>
                    <a:lnTo>
                      <a:pt x="244" y="43"/>
                    </a:lnTo>
                    <a:lnTo>
                      <a:pt x="228" y="28"/>
                    </a:lnTo>
                    <a:lnTo>
                      <a:pt x="209" y="16"/>
                    </a:lnTo>
                    <a:lnTo>
                      <a:pt x="191" y="8"/>
                    </a:lnTo>
                    <a:lnTo>
                      <a:pt x="171" y="1"/>
                    </a:lnTo>
                    <a:lnTo>
                      <a:pt x="151" y="0"/>
                    </a:lnTo>
                    <a:lnTo>
                      <a:pt x="130" y="0"/>
                    </a:lnTo>
                    <a:lnTo>
                      <a:pt x="111" y="4"/>
                    </a:lnTo>
                    <a:lnTo>
                      <a:pt x="92" y="10"/>
                    </a:lnTo>
                    <a:lnTo>
                      <a:pt x="73" y="20"/>
                    </a:lnTo>
                    <a:lnTo>
                      <a:pt x="57" y="32"/>
                    </a:lnTo>
                    <a:lnTo>
                      <a:pt x="42" y="49"/>
                    </a:lnTo>
                    <a:lnTo>
                      <a:pt x="26" y="65"/>
                    </a:lnTo>
                    <a:lnTo>
                      <a:pt x="14" y="86"/>
                    </a:lnTo>
                    <a:lnTo>
                      <a:pt x="7" y="106"/>
                    </a:lnTo>
                    <a:lnTo>
                      <a:pt x="0" y="119"/>
                    </a:lnTo>
                    <a:lnTo>
                      <a:pt x="0" y="295"/>
                    </a:lnTo>
                    <a:lnTo>
                      <a:pt x="290" y="295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19120" y="2278080"/>
                <a:ext cx="115920" cy="55440"/>
              </a:xfrm>
              <a:custGeom>
                <a:avLst/>
                <a:gdLst/>
                <a:ahLst/>
                <a:rect l="l" t="t" r="r" b="b"/>
                <a:pathLst>
                  <a:path w="290" h="175">
                    <a:moveTo>
                      <a:pt x="0" y="123"/>
                    </a:moveTo>
                    <a:lnTo>
                      <a:pt x="7" y="104"/>
                    </a:lnTo>
                    <a:lnTo>
                      <a:pt x="14" y="84"/>
                    </a:lnTo>
                    <a:lnTo>
                      <a:pt x="26" y="66"/>
                    </a:lnTo>
                    <a:lnTo>
                      <a:pt x="42" y="49"/>
                    </a:lnTo>
                    <a:lnTo>
                      <a:pt x="57" y="32"/>
                    </a:lnTo>
                    <a:lnTo>
                      <a:pt x="73" y="21"/>
                    </a:lnTo>
                    <a:lnTo>
                      <a:pt x="92" y="10"/>
                    </a:lnTo>
                    <a:lnTo>
                      <a:pt x="111" y="4"/>
                    </a:lnTo>
                    <a:lnTo>
                      <a:pt x="130" y="0"/>
                    </a:lnTo>
                    <a:lnTo>
                      <a:pt x="151" y="0"/>
                    </a:lnTo>
                    <a:lnTo>
                      <a:pt x="171" y="0"/>
                    </a:lnTo>
                    <a:lnTo>
                      <a:pt x="191" y="6"/>
                    </a:lnTo>
                    <a:lnTo>
                      <a:pt x="209" y="16"/>
                    </a:lnTo>
                    <a:lnTo>
                      <a:pt x="228" y="28"/>
                    </a:lnTo>
                    <a:lnTo>
                      <a:pt x="244" y="41"/>
                    </a:lnTo>
                    <a:lnTo>
                      <a:pt x="258" y="59"/>
                    </a:lnTo>
                    <a:lnTo>
                      <a:pt x="270" y="79"/>
                    </a:lnTo>
                    <a:lnTo>
                      <a:pt x="280" y="97"/>
                    </a:lnTo>
                    <a:lnTo>
                      <a:pt x="290" y="123"/>
                    </a:lnTo>
                    <a:lnTo>
                      <a:pt x="290" y="175"/>
                    </a:lnTo>
                    <a:lnTo>
                      <a:pt x="280" y="152"/>
                    </a:lnTo>
                    <a:lnTo>
                      <a:pt x="270" y="129"/>
                    </a:lnTo>
                    <a:lnTo>
                      <a:pt x="258" y="111"/>
                    </a:lnTo>
                    <a:lnTo>
                      <a:pt x="244" y="96"/>
                    </a:lnTo>
                    <a:lnTo>
                      <a:pt x="228" y="81"/>
                    </a:lnTo>
                    <a:lnTo>
                      <a:pt x="209" y="68"/>
                    </a:lnTo>
                    <a:lnTo>
                      <a:pt x="191" y="59"/>
                    </a:lnTo>
                    <a:lnTo>
                      <a:pt x="171" y="55"/>
                    </a:lnTo>
                    <a:lnTo>
                      <a:pt x="151" y="53"/>
                    </a:lnTo>
                    <a:lnTo>
                      <a:pt x="130" y="53"/>
                    </a:lnTo>
                    <a:lnTo>
                      <a:pt x="111" y="55"/>
                    </a:lnTo>
                    <a:lnTo>
                      <a:pt x="92" y="63"/>
                    </a:lnTo>
                    <a:lnTo>
                      <a:pt x="73" y="71"/>
                    </a:lnTo>
                    <a:lnTo>
                      <a:pt x="57" y="84"/>
                    </a:lnTo>
                    <a:lnTo>
                      <a:pt x="42" y="101"/>
                    </a:lnTo>
                    <a:lnTo>
                      <a:pt x="26" y="117"/>
                    </a:lnTo>
                    <a:lnTo>
                      <a:pt x="14" y="136"/>
                    </a:lnTo>
                    <a:lnTo>
                      <a:pt x="7" y="159"/>
                    </a:lnTo>
                    <a:lnTo>
                      <a:pt x="0" y="175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87360" y="2411280"/>
                <a:ext cx="201600" cy="193680"/>
              </a:xfrm>
              <a:custGeom>
                <a:avLst/>
                <a:gdLst/>
                <a:ahLst/>
                <a:rect l="l" t="t" r="r" b="b"/>
                <a:pathLst>
                  <a:path w="507" h="610">
                    <a:moveTo>
                      <a:pt x="117" y="610"/>
                    </a:moveTo>
                    <a:lnTo>
                      <a:pt x="117" y="418"/>
                    </a:lnTo>
                    <a:lnTo>
                      <a:pt x="0" y="418"/>
                    </a:lnTo>
                    <a:lnTo>
                      <a:pt x="0" y="245"/>
                    </a:lnTo>
                    <a:lnTo>
                      <a:pt x="247" y="245"/>
                    </a:lnTo>
                    <a:lnTo>
                      <a:pt x="247" y="140"/>
                    </a:lnTo>
                    <a:lnTo>
                      <a:pt x="117" y="140"/>
                    </a:lnTo>
                    <a:lnTo>
                      <a:pt x="117" y="0"/>
                    </a:lnTo>
                    <a:lnTo>
                      <a:pt x="507" y="0"/>
                    </a:lnTo>
                    <a:lnTo>
                      <a:pt x="507" y="34"/>
                    </a:lnTo>
                    <a:lnTo>
                      <a:pt x="158" y="34"/>
                    </a:lnTo>
                    <a:lnTo>
                      <a:pt x="158" y="104"/>
                    </a:lnTo>
                    <a:lnTo>
                      <a:pt x="507" y="104"/>
                    </a:lnTo>
                    <a:lnTo>
                      <a:pt x="507" y="140"/>
                    </a:lnTo>
                    <a:lnTo>
                      <a:pt x="291" y="140"/>
                    </a:lnTo>
                    <a:lnTo>
                      <a:pt x="291" y="245"/>
                    </a:lnTo>
                    <a:lnTo>
                      <a:pt x="507" y="245"/>
                    </a:lnTo>
                    <a:lnTo>
                      <a:pt x="507" y="296"/>
                    </a:lnTo>
                    <a:lnTo>
                      <a:pt x="44" y="296"/>
                    </a:lnTo>
                    <a:lnTo>
                      <a:pt x="44" y="366"/>
                    </a:lnTo>
                    <a:lnTo>
                      <a:pt x="158" y="366"/>
                    </a:lnTo>
                    <a:lnTo>
                      <a:pt x="158" y="558"/>
                    </a:lnTo>
                    <a:lnTo>
                      <a:pt x="117" y="61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5200" y="2411280"/>
                <a:ext cx="201600" cy="193680"/>
              </a:xfrm>
              <a:custGeom>
                <a:avLst/>
                <a:gdLst/>
                <a:ahLst/>
                <a:rect l="l" t="t" r="r" b="b"/>
                <a:pathLst>
                  <a:path w="508" h="610">
                    <a:moveTo>
                      <a:pt x="391" y="610"/>
                    </a:moveTo>
                    <a:lnTo>
                      <a:pt x="391" y="418"/>
                    </a:lnTo>
                    <a:lnTo>
                      <a:pt x="508" y="418"/>
                    </a:lnTo>
                    <a:lnTo>
                      <a:pt x="508" y="245"/>
                    </a:lnTo>
                    <a:lnTo>
                      <a:pt x="261" y="245"/>
                    </a:lnTo>
                    <a:lnTo>
                      <a:pt x="261" y="140"/>
                    </a:lnTo>
                    <a:lnTo>
                      <a:pt x="391" y="140"/>
                    </a:lnTo>
                    <a:lnTo>
                      <a:pt x="391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49" y="34"/>
                    </a:lnTo>
                    <a:lnTo>
                      <a:pt x="349" y="104"/>
                    </a:lnTo>
                    <a:lnTo>
                      <a:pt x="0" y="104"/>
                    </a:lnTo>
                    <a:lnTo>
                      <a:pt x="0" y="140"/>
                    </a:lnTo>
                    <a:lnTo>
                      <a:pt x="217" y="140"/>
                    </a:lnTo>
                    <a:lnTo>
                      <a:pt x="217" y="245"/>
                    </a:lnTo>
                    <a:lnTo>
                      <a:pt x="0" y="245"/>
                    </a:lnTo>
                    <a:lnTo>
                      <a:pt x="0" y="296"/>
                    </a:lnTo>
                    <a:lnTo>
                      <a:pt x="464" y="296"/>
                    </a:lnTo>
                    <a:lnTo>
                      <a:pt x="464" y="366"/>
                    </a:lnTo>
                    <a:lnTo>
                      <a:pt x="349" y="366"/>
                    </a:lnTo>
                    <a:lnTo>
                      <a:pt x="349" y="558"/>
                    </a:lnTo>
                    <a:lnTo>
                      <a:pt x="391" y="610"/>
                    </a:lnTo>
                    <a:close/>
                  </a:path>
                </a:pathLst>
              </a:custGeom>
              <a:solidFill>
                <a:srgbClr val="00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611280" y="3286080"/>
              <a:ext cx="647640" cy="358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lbertus Medium"/>
                </a:rPr>
                <a:t>датчик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114560" y="2709360"/>
              <a:ext cx="0" cy="576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2" name="" descr=""/>
            <p:cNvPicPr/>
            <p:nvPr/>
          </p:nvPicPr>
          <p:blipFill>
            <a:blip r:embed="rId3"/>
            <a:stretch/>
          </p:blipFill>
          <p:spPr>
            <a:xfrm>
              <a:off x="1979640" y="2349360"/>
              <a:ext cx="54612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 flipH="1">
              <a:off x="1763640" y="2565360"/>
              <a:ext cx="287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328400">
              <a:off x="2222280" y="1990440"/>
              <a:ext cx="2246040" cy="183960"/>
            </a:xfrm>
            <a:prstGeom prst="rightArrow">
              <a:avLst>
                <a:gd name="adj1" fmla="val 56250"/>
                <a:gd name="adj2" fmla="val 176075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0920" y="1486080"/>
              <a:ext cx="216036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lbertus Medium"/>
                </a:rPr>
                <a:t>АТ «Гонец»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lbertus Medium"/>
                </a:rPr>
                <a:t>(обслуживаемый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00" y="256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7293240" y="2708280"/>
            <a:ext cx="193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1- действ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2- июнь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3- июль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4- октябрь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Использование ДДЗ океана позволяет принципиально изменить планирование и проведение морских экспедиционных исследований в рамках государственного мониторинга водных биоресур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нтеграция с мировыми центрами данных, а также создание специализированных архивов данных спутниковых съемок океана позволят восполнить отсутствие отечественных ИСЗ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еализация предлагаемы мероприятий обеспечивае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рост объемов финансовых поступлений в бюджеты всех уровней и внебюджетные фонды за счет тотального надзора за рациональным использованием ресурс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Отраслевая система мониторин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70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ts val="25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М Госкомрыболовства России представляет собой  инфраструктуру, включающую в себя следующие три компонент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2500"/>
              </a:lnSpc>
              <a:spcAft>
                <a:spcPts val="1199"/>
              </a:spcAft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Мониторинг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рерывный сбор и анализ данных о состоянии водных биоресурсов, среды их обитания и производственной деятельности предприятий отрасли с целью поддержки принятия управленческих ре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2500"/>
              </a:lnSpc>
              <a:spcAft>
                <a:spcPts val="1199"/>
              </a:spcAft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Управлени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законодательных правил, нормативно – правовой базы и механизма управления рыбохозяйственным комплексом, обеспечивающих достижение установленных экономических показателей работы отрас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2500"/>
              </a:lnSpc>
              <a:spcAft>
                <a:spcPts val="1199"/>
              </a:spcAft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Регулировани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охранных, инспекционных и силовых методов, реализующих соответствие рыболовной деятельности действующему законодательству и установленным правилам рыболов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ts val="2999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059280" y="1125360"/>
            <a:ext cx="2895480" cy="482760"/>
            <a:chOff x="3059280" y="1125360"/>
            <a:chExt cx="2895480" cy="48276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3059280" y="1125360"/>
              <a:ext cx="28954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135240" y="120168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Общий допустимый уло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84360" y="3429000"/>
            <a:ext cx="4114800" cy="1333440"/>
            <a:chOff x="2484360" y="3429000"/>
            <a:chExt cx="4114800" cy="133344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2484360" y="3429000"/>
              <a:ext cx="411480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2560680" y="3886200"/>
              <a:ext cx="3886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25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"/>
                </a:rPr>
                <a:t>АНАЛИЗ  ИНФОРМАЦИИ</a:t>
              </a:r>
              <a:endPara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114300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8101080" y="2133720"/>
            <a:ext cx="761760" cy="228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20606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8388360" y="692280"/>
            <a:ext cx="426960" cy="44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8244000" y="1125360"/>
            <a:ext cx="533160" cy="99072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1116000" y="836640"/>
            <a:ext cx="1294920" cy="898560"/>
            <a:chOff x="1116000" y="836640"/>
            <a:chExt cx="1294920" cy="898560"/>
          </a:xfrm>
        </p:grpSpPr>
        <p:sp>
          <p:nvSpPr>
            <p:cNvPr id="105" name=""/>
            <p:cNvSpPr/>
            <p:nvPr/>
          </p:nvSpPr>
          <p:spPr>
            <a:xfrm>
              <a:off x="1268280" y="836640"/>
              <a:ext cx="1142640" cy="746280"/>
            </a:xfrm>
            <a:custGeom>
              <a:avLst/>
              <a:gdLst/>
              <a:ahLst/>
              <a:rect l="l" t="t" r="r" b="b"/>
              <a:pathLst>
                <a:path w="384" h="470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02"/>
                  </a:lnTo>
                  <a:cubicBezTo>
                    <a:pt x="334" y="420"/>
                    <a:pt x="330" y="414"/>
                    <a:pt x="286" y="406"/>
                  </a:cubicBezTo>
                  <a:cubicBezTo>
                    <a:pt x="258" y="404"/>
                    <a:pt x="208" y="404"/>
                    <a:pt x="172" y="424"/>
                  </a:cubicBezTo>
                  <a:cubicBezTo>
                    <a:pt x="142" y="438"/>
                    <a:pt x="146" y="458"/>
                    <a:pt x="114" y="462"/>
                  </a:cubicBezTo>
                  <a:cubicBezTo>
                    <a:pt x="82" y="470"/>
                    <a:pt x="80" y="466"/>
                    <a:pt x="40" y="458"/>
                  </a:cubicBezTo>
                  <a:cubicBezTo>
                    <a:pt x="16" y="440"/>
                    <a:pt x="0" y="432"/>
                    <a:pt x="0" y="432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91960" y="912960"/>
              <a:ext cx="1142640" cy="745920"/>
            </a:xfrm>
            <a:custGeom>
              <a:avLst/>
              <a:gdLst/>
              <a:ahLst/>
              <a:rect l="l" t="t" r="r" b="b"/>
              <a:pathLst>
                <a:path w="384" h="470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02"/>
                  </a:lnTo>
                  <a:cubicBezTo>
                    <a:pt x="334" y="420"/>
                    <a:pt x="330" y="414"/>
                    <a:pt x="286" y="406"/>
                  </a:cubicBezTo>
                  <a:cubicBezTo>
                    <a:pt x="258" y="404"/>
                    <a:pt x="208" y="404"/>
                    <a:pt x="172" y="424"/>
                  </a:cubicBezTo>
                  <a:cubicBezTo>
                    <a:pt x="142" y="438"/>
                    <a:pt x="146" y="458"/>
                    <a:pt x="114" y="462"/>
                  </a:cubicBezTo>
                  <a:cubicBezTo>
                    <a:pt x="82" y="470"/>
                    <a:pt x="80" y="466"/>
                    <a:pt x="40" y="458"/>
                  </a:cubicBezTo>
                  <a:cubicBezTo>
                    <a:pt x="16" y="440"/>
                    <a:pt x="0" y="432"/>
                    <a:pt x="0" y="432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16000" y="988920"/>
              <a:ext cx="1142640" cy="746280"/>
            </a:xfrm>
            <a:custGeom>
              <a:avLst/>
              <a:gdLst/>
              <a:ahLst/>
              <a:rect l="l" t="t" r="r" b="b"/>
              <a:pathLst>
                <a:path w="384" h="470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02"/>
                  </a:lnTo>
                  <a:cubicBezTo>
                    <a:pt x="334" y="420"/>
                    <a:pt x="330" y="414"/>
                    <a:pt x="286" y="406"/>
                  </a:cubicBezTo>
                  <a:cubicBezTo>
                    <a:pt x="258" y="404"/>
                    <a:pt x="208" y="404"/>
                    <a:pt x="172" y="424"/>
                  </a:cubicBezTo>
                  <a:cubicBezTo>
                    <a:pt x="142" y="438"/>
                    <a:pt x="146" y="458"/>
                    <a:pt x="114" y="462"/>
                  </a:cubicBezTo>
                  <a:cubicBezTo>
                    <a:pt x="82" y="470"/>
                    <a:pt x="80" y="466"/>
                    <a:pt x="40" y="458"/>
                  </a:cubicBezTo>
                  <a:cubicBezTo>
                    <a:pt x="16" y="440"/>
                    <a:pt x="0" y="432"/>
                    <a:pt x="0" y="432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116000" y="9810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Arial"/>
              </a:rPr>
              <a:t>Результаты научных рей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765000"/>
            <a:ext cx="761760" cy="762120"/>
            <a:chOff x="7093080" y="765000"/>
            <a:chExt cx="761760" cy="762120"/>
          </a:xfrm>
        </p:grpSpPr>
        <p:sp>
          <p:nvSpPr>
            <p:cNvPr id="110" name=""/>
            <p:cNvSpPr/>
            <p:nvPr/>
          </p:nvSpPr>
          <p:spPr>
            <a:xfrm>
              <a:off x="7093080" y="1272960"/>
              <a:ext cx="761760" cy="2541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93080" y="892080"/>
              <a:ext cx="761760" cy="507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3080" y="765000"/>
              <a:ext cx="761760" cy="2541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04000" y="177336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ониторинг характеристик сре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348000" y="2133720"/>
            <a:ext cx="2514600" cy="685800"/>
            <a:chOff x="3348000" y="2133720"/>
            <a:chExt cx="2514600" cy="685800"/>
          </a:xfrm>
        </p:grpSpPr>
        <p:sp>
          <p:nvSpPr>
            <p:cNvPr id="115" name=""/>
            <p:cNvSpPr/>
            <p:nvPr/>
          </p:nvSpPr>
          <p:spPr>
            <a:xfrm>
              <a:off x="3881520" y="2133720"/>
              <a:ext cx="1981080" cy="53352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2920" y="2210040"/>
              <a:ext cx="1981080" cy="53352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2286360"/>
              <a:ext cx="1981080" cy="53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0280" y="2362320"/>
              <a:ext cx="17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Квоты вылов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877080" y="2565360"/>
            <a:ext cx="2057400" cy="1447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27082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600"/>
                </a:solidFill>
                <a:latin typeface="Arial"/>
              </a:rPr>
              <a:t>Учетные данные предприят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3429000"/>
            <a:ext cx="1676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10199"/>
                </a:solidFill>
                <a:latin typeface="Arial"/>
              </a:rPr>
              <a:t>Лиценз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10199"/>
                </a:solidFill>
                <a:latin typeface="Arial"/>
              </a:rPr>
              <a:t>Реестр ф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324000" y="1268280"/>
            <a:ext cx="880920" cy="8002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1332000" y="2924280"/>
            <a:ext cx="6629040" cy="3352680"/>
            <a:chOff x="1332000" y="2924280"/>
            <a:chExt cx="6629040" cy="3352680"/>
          </a:xfrm>
        </p:grpSpPr>
        <p:sp>
          <p:nvSpPr>
            <p:cNvPr id="124" name=""/>
            <p:cNvSpPr/>
            <p:nvPr/>
          </p:nvSpPr>
          <p:spPr>
            <a:xfrm flipV="1">
              <a:off x="1332000" y="4524120"/>
              <a:ext cx="1219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6437160" y="4524480"/>
              <a:ext cx="1523880" cy="1752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599440" y="4752720"/>
              <a:ext cx="0" cy="685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846600" y="47527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2400" y="292428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361200" y="3076560"/>
              <a:ext cx="60984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89200" y="2924280"/>
              <a:ext cx="914400" cy="609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411280" y="981000"/>
            <a:ext cx="4660560" cy="228600"/>
            <a:chOff x="2411280" y="981000"/>
            <a:chExt cx="4660560" cy="228600"/>
          </a:xfrm>
        </p:grpSpPr>
        <p:sp>
          <p:nvSpPr>
            <p:cNvPr id="132" name=""/>
            <p:cNvSpPr/>
            <p:nvPr/>
          </p:nvSpPr>
          <p:spPr>
            <a:xfrm>
              <a:off x="2411280" y="1057320"/>
              <a:ext cx="728280" cy="15228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906520" y="981000"/>
              <a:ext cx="1165320" cy="22860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39640" y="2565360"/>
            <a:ext cx="1143000" cy="1600200"/>
            <a:chOff x="539640" y="2565360"/>
            <a:chExt cx="1143000" cy="1600200"/>
          </a:xfrm>
        </p:grpSpPr>
        <p:sp>
          <p:nvSpPr>
            <p:cNvPr id="135" name=""/>
            <p:cNvSpPr/>
            <p:nvPr/>
          </p:nvSpPr>
          <p:spPr>
            <a:xfrm>
              <a:off x="691920" y="2717640"/>
              <a:ext cx="990720" cy="1447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5600" y="2641320"/>
              <a:ext cx="990720" cy="1447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640" y="2565360"/>
              <a:ext cx="990360" cy="1447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8360" y="335772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Arial"/>
              </a:rPr>
              <a:t>Разреш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Arial"/>
              </a:rPr>
              <a:t>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Arial"/>
              </a:rPr>
              <a:t>промыс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048120"/>
            <a:ext cx="228600" cy="22860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49200" y="3027240"/>
            <a:ext cx="179640" cy="266760"/>
          </a:xfrm>
          <a:custGeom>
            <a:avLst/>
            <a:gdLst/>
            <a:ahLst/>
            <a:rect l="l" t="t" r="r" b="b"/>
            <a:pathLst>
              <a:path w="113" h="168">
                <a:moveTo>
                  <a:pt x="23" y="67"/>
                </a:moveTo>
                <a:cubicBezTo>
                  <a:pt x="40" y="93"/>
                  <a:pt x="28" y="107"/>
                  <a:pt x="59" y="97"/>
                </a:cubicBezTo>
                <a:cubicBezTo>
                  <a:pt x="63" y="91"/>
                  <a:pt x="73" y="86"/>
                  <a:pt x="71" y="79"/>
                </a:cubicBezTo>
                <a:cubicBezTo>
                  <a:pt x="69" y="73"/>
                  <a:pt x="56" y="67"/>
                  <a:pt x="53" y="73"/>
                </a:cubicBezTo>
                <a:cubicBezTo>
                  <a:pt x="41" y="97"/>
                  <a:pt x="64" y="107"/>
                  <a:pt x="77" y="115"/>
                </a:cubicBezTo>
                <a:cubicBezTo>
                  <a:pt x="87" y="109"/>
                  <a:pt x="105" y="108"/>
                  <a:pt x="107" y="97"/>
                </a:cubicBezTo>
                <a:cubicBezTo>
                  <a:pt x="108" y="90"/>
                  <a:pt x="61" y="80"/>
                  <a:pt x="59" y="79"/>
                </a:cubicBezTo>
                <a:cubicBezTo>
                  <a:pt x="61" y="71"/>
                  <a:pt x="57" y="58"/>
                  <a:pt x="65" y="55"/>
                </a:cubicBezTo>
                <a:cubicBezTo>
                  <a:pt x="72" y="53"/>
                  <a:pt x="78" y="66"/>
                  <a:pt x="77" y="73"/>
                </a:cubicBezTo>
                <a:cubicBezTo>
                  <a:pt x="73" y="92"/>
                  <a:pt x="23" y="97"/>
                  <a:pt x="23" y="97"/>
                </a:cubicBezTo>
                <a:cubicBezTo>
                  <a:pt x="25" y="111"/>
                  <a:pt x="19" y="129"/>
                  <a:pt x="29" y="139"/>
                </a:cubicBezTo>
                <a:cubicBezTo>
                  <a:pt x="35" y="145"/>
                  <a:pt x="41" y="127"/>
                  <a:pt x="47" y="121"/>
                </a:cubicBezTo>
                <a:cubicBezTo>
                  <a:pt x="58" y="108"/>
                  <a:pt x="68" y="93"/>
                  <a:pt x="77" y="79"/>
                </a:cubicBezTo>
                <a:cubicBezTo>
                  <a:pt x="61" y="74"/>
                  <a:pt x="41" y="79"/>
                  <a:pt x="29" y="67"/>
                </a:cubicBezTo>
                <a:cubicBezTo>
                  <a:pt x="25" y="63"/>
                  <a:pt x="41" y="62"/>
                  <a:pt x="47" y="61"/>
                </a:cubicBezTo>
                <a:cubicBezTo>
                  <a:pt x="69" y="58"/>
                  <a:pt x="91" y="57"/>
                  <a:pt x="113" y="55"/>
                </a:cubicBezTo>
                <a:cubicBezTo>
                  <a:pt x="101" y="63"/>
                  <a:pt x="89" y="71"/>
                  <a:pt x="77" y="79"/>
                </a:cubicBezTo>
                <a:cubicBezTo>
                  <a:pt x="71" y="83"/>
                  <a:pt x="59" y="91"/>
                  <a:pt x="59" y="91"/>
                </a:cubicBezTo>
                <a:cubicBezTo>
                  <a:pt x="57" y="97"/>
                  <a:pt x="49" y="105"/>
                  <a:pt x="53" y="109"/>
                </a:cubicBezTo>
                <a:cubicBezTo>
                  <a:pt x="57" y="113"/>
                  <a:pt x="67" y="98"/>
                  <a:pt x="71" y="103"/>
                </a:cubicBezTo>
                <a:cubicBezTo>
                  <a:pt x="76" y="110"/>
                  <a:pt x="67" y="119"/>
                  <a:pt x="65" y="127"/>
                </a:cubicBezTo>
                <a:cubicBezTo>
                  <a:pt x="61" y="121"/>
                  <a:pt x="59" y="113"/>
                  <a:pt x="53" y="109"/>
                </a:cubicBezTo>
                <a:cubicBezTo>
                  <a:pt x="44" y="104"/>
                  <a:pt x="29" y="111"/>
                  <a:pt x="23" y="103"/>
                </a:cubicBezTo>
                <a:cubicBezTo>
                  <a:pt x="10" y="86"/>
                  <a:pt x="41" y="71"/>
                  <a:pt x="47" y="67"/>
                </a:cubicBezTo>
                <a:cubicBezTo>
                  <a:pt x="14" y="56"/>
                  <a:pt x="4" y="54"/>
                  <a:pt x="23" y="91"/>
                </a:cubicBezTo>
                <a:cubicBezTo>
                  <a:pt x="19" y="97"/>
                  <a:pt x="18" y="109"/>
                  <a:pt x="11" y="109"/>
                </a:cubicBezTo>
                <a:cubicBezTo>
                  <a:pt x="5" y="109"/>
                  <a:pt x="3" y="97"/>
                  <a:pt x="5" y="91"/>
                </a:cubicBezTo>
                <a:cubicBezTo>
                  <a:pt x="9" y="82"/>
                  <a:pt x="33" y="76"/>
                  <a:pt x="41" y="73"/>
                </a:cubicBezTo>
                <a:cubicBezTo>
                  <a:pt x="45" y="67"/>
                  <a:pt x="57" y="61"/>
                  <a:pt x="53" y="55"/>
                </a:cubicBezTo>
                <a:cubicBezTo>
                  <a:pt x="37" y="34"/>
                  <a:pt x="0" y="65"/>
                  <a:pt x="41" y="37"/>
                </a:cubicBezTo>
                <a:cubicBezTo>
                  <a:pt x="49" y="41"/>
                  <a:pt x="56" y="50"/>
                  <a:pt x="65" y="49"/>
                </a:cubicBezTo>
                <a:cubicBezTo>
                  <a:pt x="78" y="47"/>
                  <a:pt x="99" y="0"/>
                  <a:pt x="71" y="55"/>
                </a:cubicBezTo>
                <a:cubicBezTo>
                  <a:pt x="78" y="88"/>
                  <a:pt x="82" y="102"/>
                  <a:pt x="53" y="121"/>
                </a:cubicBezTo>
                <a:cubicBezTo>
                  <a:pt x="45" y="132"/>
                  <a:pt x="15" y="168"/>
                  <a:pt x="77" y="133"/>
                </a:cubicBezTo>
                <a:cubicBezTo>
                  <a:pt x="91" y="125"/>
                  <a:pt x="83" y="91"/>
                  <a:pt x="95" y="79"/>
                </a:cubicBezTo>
              </a:path>
            </a:pathLst>
          </a:custGeom>
          <a:solidFill>
            <a:srgbClr val="33cccc"/>
          </a:solidFill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2666880"/>
            <a:ext cx="838440" cy="304920"/>
            <a:chOff x="609480" y="2666880"/>
            <a:chExt cx="838440" cy="304920"/>
          </a:xfrm>
        </p:grpSpPr>
        <p:sp>
          <p:nvSpPr>
            <p:cNvPr id="142" name=""/>
            <p:cNvSpPr/>
            <p:nvPr/>
          </p:nvSpPr>
          <p:spPr>
            <a:xfrm>
              <a:off x="609480" y="2666880"/>
              <a:ext cx="762120" cy="0"/>
            </a:xfrm>
            <a:prstGeom prst="line">
              <a:avLst/>
            </a:prstGeom>
            <a:ln w="38160">
              <a:solidFill>
                <a:srgbClr val="010199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480" y="2819520"/>
              <a:ext cx="762120" cy="0"/>
            </a:xfrm>
            <a:prstGeom prst="line">
              <a:avLst/>
            </a:prstGeom>
            <a:ln w="38160">
              <a:solidFill>
                <a:srgbClr val="0101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2971800"/>
              <a:ext cx="762120" cy="0"/>
            </a:xfrm>
            <a:prstGeom prst="line">
              <a:avLst/>
            </a:prstGeom>
            <a:ln w="38160">
              <a:solidFill>
                <a:srgbClr val="0101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1908000" y="2781360"/>
            <a:ext cx="14479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1628640"/>
            <a:ext cx="0" cy="60984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7772400" y="6172200"/>
            <a:ext cx="762120" cy="228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162920" y="4419720"/>
            <a:ext cx="1600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нспекторск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вер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1905120" y="6248520"/>
            <a:ext cx="129528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7848720" y="563868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250920" y="4797360"/>
            <a:ext cx="950760" cy="338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3276720" y="5229360"/>
            <a:ext cx="685800" cy="506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219640" y="5445000"/>
            <a:ext cx="1143000" cy="746280"/>
          </a:xfrm>
          <a:custGeom>
            <a:avLst/>
            <a:gdLst/>
            <a:ahLst/>
            <a:rect l="l" t="t" r="r" b="b"/>
            <a:pathLst>
              <a:path w="384" h="470">
                <a:moveTo>
                  <a:pt x="0" y="432"/>
                </a:moveTo>
                <a:lnTo>
                  <a:pt x="0" y="0"/>
                </a:lnTo>
                <a:lnTo>
                  <a:pt x="384" y="0"/>
                </a:lnTo>
                <a:lnTo>
                  <a:pt x="384" y="402"/>
                </a:lnTo>
                <a:cubicBezTo>
                  <a:pt x="334" y="420"/>
                  <a:pt x="330" y="414"/>
                  <a:pt x="286" y="406"/>
                </a:cubicBezTo>
                <a:cubicBezTo>
                  <a:pt x="258" y="404"/>
                  <a:pt x="208" y="404"/>
                  <a:pt x="172" y="424"/>
                </a:cubicBezTo>
                <a:cubicBezTo>
                  <a:pt x="142" y="438"/>
                  <a:pt x="146" y="458"/>
                  <a:pt x="114" y="462"/>
                </a:cubicBezTo>
                <a:cubicBezTo>
                  <a:pt x="82" y="470"/>
                  <a:pt x="80" y="466"/>
                  <a:pt x="40" y="458"/>
                </a:cubicBezTo>
                <a:cubicBezTo>
                  <a:pt x="16" y="440"/>
                  <a:pt x="0" y="432"/>
                  <a:pt x="0" y="432"/>
                </a:cubicBez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5516640"/>
            <a:ext cx="1143000" cy="745920"/>
          </a:xfrm>
          <a:custGeom>
            <a:avLst/>
            <a:gdLst/>
            <a:ahLst/>
            <a:rect l="l" t="t" r="r" b="b"/>
            <a:pathLst>
              <a:path w="384" h="470">
                <a:moveTo>
                  <a:pt x="0" y="432"/>
                </a:moveTo>
                <a:lnTo>
                  <a:pt x="0" y="0"/>
                </a:lnTo>
                <a:lnTo>
                  <a:pt x="384" y="0"/>
                </a:lnTo>
                <a:lnTo>
                  <a:pt x="384" y="402"/>
                </a:lnTo>
                <a:cubicBezTo>
                  <a:pt x="334" y="420"/>
                  <a:pt x="330" y="414"/>
                  <a:pt x="286" y="406"/>
                </a:cubicBezTo>
                <a:cubicBezTo>
                  <a:pt x="258" y="404"/>
                  <a:pt x="208" y="404"/>
                  <a:pt x="172" y="424"/>
                </a:cubicBezTo>
                <a:cubicBezTo>
                  <a:pt x="142" y="438"/>
                  <a:pt x="146" y="458"/>
                  <a:pt x="114" y="462"/>
                </a:cubicBezTo>
                <a:cubicBezTo>
                  <a:pt x="82" y="470"/>
                  <a:pt x="80" y="466"/>
                  <a:pt x="40" y="458"/>
                </a:cubicBezTo>
                <a:cubicBezTo>
                  <a:pt x="16" y="440"/>
                  <a:pt x="0" y="432"/>
                  <a:pt x="0" y="432"/>
                </a:cubicBez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32360" y="5589720"/>
            <a:ext cx="1143000" cy="745920"/>
          </a:xfrm>
          <a:custGeom>
            <a:avLst/>
            <a:gdLst/>
            <a:ahLst/>
            <a:rect l="l" t="t" r="r" b="b"/>
            <a:pathLst>
              <a:path w="384" h="470">
                <a:moveTo>
                  <a:pt x="0" y="432"/>
                </a:moveTo>
                <a:lnTo>
                  <a:pt x="0" y="0"/>
                </a:lnTo>
                <a:lnTo>
                  <a:pt x="384" y="0"/>
                </a:lnTo>
                <a:lnTo>
                  <a:pt x="384" y="402"/>
                </a:lnTo>
                <a:cubicBezTo>
                  <a:pt x="334" y="420"/>
                  <a:pt x="330" y="414"/>
                  <a:pt x="286" y="406"/>
                </a:cubicBezTo>
                <a:cubicBezTo>
                  <a:pt x="258" y="404"/>
                  <a:pt x="208" y="404"/>
                  <a:pt x="172" y="424"/>
                </a:cubicBezTo>
                <a:cubicBezTo>
                  <a:pt x="142" y="438"/>
                  <a:pt x="146" y="458"/>
                  <a:pt x="114" y="462"/>
                </a:cubicBezTo>
                <a:cubicBezTo>
                  <a:pt x="82" y="470"/>
                  <a:pt x="80" y="466"/>
                  <a:pt x="40" y="458"/>
                </a:cubicBezTo>
                <a:cubicBezTo>
                  <a:pt x="16" y="440"/>
                  <a:pt x="0" y="432"/>
                  <a:pt x="0" y="432"/>
                </a:cubicBez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57340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Arial"/>
              </a:rPr>
              <a:t>Отчет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Arial"/>
              </a:rPr>
              <a:t>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864400">
            <a:off x="715320" y="5556240"/>
            <a:ext cx="1511280" cy="136440"/>
          </a:xfrm>
          <a:custGeom>
            <a:avLst/>
            <a:gdLst/>
            <a:ahLst/>
            <a:rect l="l" t="t" r="r" b="b"/>
            <a:pathLst>
              <a:path w="4656" h="240">
                <a:moveTo>
                  <a:pt x="0" y="240"/>
                </a:moveTo>
                <a:cubicBezTo>
                  <a:pt x="64" y="120"/>
                  <a:pt x="128" y="0"/>
                  <a:pt x="192" y="0"/>
                </a:cubicBezTo>
                <a:cubicBezTo>
                  <a:pt x="256" y="0"/>
                  <a:pt x="320" y="240"/>
                  <a:pt x="384" y="240"/>
                </a:cubicBezTo>
                <a:cubicBezTo>
                  <a:pt x="448" y="240"/>
                  <a:pt x="504" y="0"/>
                  <a:pt x="576" y="0"/>
                </a:cubicBezTo>
                <a:cubicBezTo>
                  <a:pt x="648" y="0"/>
                  <a:pt x="744" y="240"/>
                  <a:pt x="816" y="240"/>
                </a:cubicBezTo>
                <a:cubicBezTo>
                  <a:pt x="888" y="240"/>
                  <a:pt x="936" y="0"/>
                  <a:pt x="1008" y="0"/>
                </a:cubicBezTo>
                <a:cubicBezTo>
                  <a:pt x="1080" y="0"/>
                  <a:pt x="1168" y="240"/>
                  <a:pt x="1248" y="240"/>
                </a:cubicBezTo>
                <a:cubicBezTo>
                  <a:pt x="1328" y="240"/>
                  <a:pt x="1408" y="0"/>
                  <a:pt x="1488" y="0"/>
                </a:cubicBezTo>
                <a:cubicBezTo>
                  <a:pt x="1568" y="0"/>
                  <a:pt x="1656" y="240"/>
                  <a:pt x="1728" y="240"/>
                </a:cubicBezTo>
                <a:cubicBezTo>
                  <a:pt x="1800" y="240"/>
                  <a:pt x="1848" y="0"/>
                  <a:pt x="1920" y="0"/>
                </a:cubicBezTo>
                <a:cubicBezTo>
                  <a:pt x="1992" y="0"/>
                  <a:pt x="2088" y="240"/>
                  <a:pt x="2160" y="240"/>
                </a:cubicBezTo>
                <a:cubicBezTo>
                  <a:pt x="2232" y="240"/>
                  <a:pt x="2280" y="0"/>
                  <a:pt x="2352" y="0"/>
                </a:cubicBezTo>
                <a:cubicBezTo>
                  <a:pt x="2424" y="0"/>
                  <a:pt x="2520" y="240"/>
                  <a:pt x="2592" y="240"/>
                </a:cubicBezTo>
                <a:cubicBezTo>
                  <a:pt x="2664" y="240"/>
                  <a:pt x="2712" y="0"/>
                  <a:pt x="2784" y="0"/>
                </a:cubicBezTo>
                <a:cubicBezTo>
                  <a:pt x="2856" y="0"/>
                  <a:pt x="2952" y="240"/>
                  <a:pt x="3024" y="240"/>
                </a:cubicBezTo>
                <a:cubicBezTo>
                  <a:pt x="3096" y="240"/>
                  <a:pt x="3152" y="0"/>
                  <a:pt x="3216" y="0"/>
                </a:cubicBezTo>
                <a:cubicBezTo>
                  <a:pt x="3280" y="0"/>
                  <a:pt x="3344" y="240"/>
                  <a:pt x="3408" y="240"/>
                </a:cubicBezTo>
                <a:cubicBezTo>
                  <a:pt x="3472" y="240"/>
                  <a:pt x="3536" y="0"/>
                  <a:pt x="3600" y="0"/>
                </a:cubicBezTo>
                <a:cubicBezTo>
                  <a:pt x="3664" y="0"/>
                  <a:pt x="3728" y="240"/>
                  <a:pt x="3792" y="240"/>
                </a:cubicBezTo>
                <a:cubicBezTo>
                  <a:pt x="3856" y="240"/>
                  <a:pt x="3904" y="0"/>
                  <a:pt x="3984" y="0"/>
                </a:cubicBezTo>
                <a:cubicBezTo>
                  <a:pt x="4064" y="0"/>
                  <a:pt x="4192" y="240"/>
                  <a:pt x="4272" y="240"/>
                </a:cubicBezTo>
                <a:cubicBezTo>
                  <a:pt x="4352" y="240"/>
                  <a:pt x="4400" y="0"/>
                  <a:pt x="4464" y="0"/>
                </a:cubicBezTo>
                <a:cubicBezTo>
                  <a:pt x="4528" y="0"/>
                  <a:pt x="4592" y="120"/>
                  <a:pt x="4656" y="240"/>
                </a:cubicBezTo>
              </a:path>
            </a:pathLst>
          </a:custGeom>
          <a:noFill/>
          <a:ln w="19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551664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зиции су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00400" y="5661000"/>
            <a:ext cx="363600" cy="5112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5867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С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6360" y="50846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5943600"/>
          <a:ext cx="1143000" cy="473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81080" y="5943600"/>
                    <a:ext cx="1143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H="1">
            <a:off x="5724360" y="2781360"/>
            <a:ext cx="10670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2852640"/>
            <a:ext cx="304920" cy="647640"/>
          </a:xfrm>
          <a:prstGeom prst="upArrow">
            <a:avLst>
              <a:gd name="adj1" fmla="val 50000"/>
              <a:gd name="adj2" fmla="val 53099"/>
            </a:avLst>
          </a:prstGeom>
          <a:solidFill>
            <a:srgbClr val="33cc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3475800">
            <a:off x="6805440" y="3422520"/>
            <a:ext cx="304920" cy="774720"/>
          </a:xfrm>
          <a:prstGeom prst="upArrow">
            <a:avLst>
              <a:gd name="adj1" fmla="val 50000"/>
              <a:gd name="adj2" fmla="val 63518"/>
            </a:avLst>
          </a:prstGeom>
          <a:solidFill>
            <a:srgbClr val="33cc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rot="18124200">
            <a:off x="1863360" y="2970000"/>
            <a:ext cx="304560" cy="1079640"/>
          </a:xfrm>
          <a:prstGeom prst="upArrow">
            <a:avLst>
              <a:gd name="adj1" fmla="val 50000"/>
              <a:gd name="adj2" fmla="val 88623"/>
            </a:avLst>
          </a:prstGeom>
          <a:solidFill>
            <a:srgbClr val="33cccc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8900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Инфраструктура О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31960" y="1089000"/>
            <a:ext cx="1620720" cy="1349280"/>
          </a:xfrm>
          <a:prstGeom prst="flowChartMultidocument">
            <a:avLst/>
          </a:prstGeom>
          <a:solidFill>
            <a:srgbClr val="ff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 СС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ЭР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31960" y="4518000"/>
            <a:ext cx="1620720" cy="1349280"/>
          </a:xfrm>
          <a:prstGeom prst="flowChartMultidocument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Результа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науч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рей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Р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4518000"/>
            <a:ext cx="1623960" cy="1349280"/>
          </a:xfrm>
          <a:prstGeom prst="flowChartMultidocument">
            <a:avLst/>
          </a:prstGeom>
          <a:solidFill>
            <a:srgbClr val="cc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Мониторин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характерист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сре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не определён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2819520"/>
            <a:ext cx="1623960" cy="1349280"/>
          </a:xfrm>
          <a:prstGeom prst="flowChartMultidocument">
            <a:avLst/>
          </a:prstGeom>
          <a:solidFill>
            <a:srgbClr val="ff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О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ЭР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4518000"/>
            <a:ext cx="1623960" cy="1349280"/>
          </a:xfrm>
          <a:prstGeom prst="flowChartMultidocument">
            <a:avLst/>
          </a:prstGeom>
          <a:solidFill>
            <a:srgbClr val="ff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Информацион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справоч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ЭР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4495680"/>
            <a:ext cx="1623960" cy="1349640"/>
          </a:xfrm>
          <a:prstGeom prst="flowChartMultidocument">
            <a:avLst/>
          </a:prstGeom>
          <a:solidFill>
            <a:srgbClr val="ff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Нормати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правов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докуме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ЭР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1066680"/>
            <a:ext cx="1623960" cy="1349640"/>
          </a:xfrm>
          <a:prstGeom prst="flowChartMultidocument">
            <a:avLst/>
          </a:prstGeom>
          <a:solidFill>
            <a:srgbClr val="ccff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Спутник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позицион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су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НЦМС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1089000"/>
            <a:ext cx="1623960" cy="1349280"/>
          </a:xfrm>
          <a:prstGeom prst="flowChartMultidocument">
            <a:avLst/>
          </a:prstGeom>
          <a:solidFill>
            <a:srgbClr val="ff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Реес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фло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ЭР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2819520"/>
            <a:ext cx="1623960" cy="1349280"/>
          </a:xfrm>
          <a:prstGeom prst="flowChartMultidocument">
            <a:avLst/>
          </a:prstGeom>
          <a:solidFill>
            <a:srgbClr val="ff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Лицензир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ЭР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066680"/>
            <a:ext cx="990720" cy="533520"/>
          </a:xfrm>
          <a:prstGeom prst="rect">
            <a:avLst/>
          </a:prstGeom>
          <a:solidFill>
            <a:srgbClr val="bebbf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РИЦ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191120"/>
            <a:ext cx="990720" cy="1676160"/>
          </a:xfrm>
          <a:prstGeom prst="rect">
            <a:avLst/>
          </a:prstGeom>
          <a:solidFill>
            <a:srgbClr val="bebbf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ВНИР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ПИНР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АтлНИР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ТИНР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Цен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СахНИР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Камчат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НИР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КаспНИР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752480"/>
            <a:ext cx="990720" cy="533520"/>
          </a:xfrm>
          <a:prstGeom prst="rect">
            <a:avLst/>
          </a:prstGeom>
          <a:solidFill>
            <a:srgbClr val="bebbf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РЦ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6095880"/>
            <a:ext cx="1523880" cy="609840"/>
          </a:xfrm>
          <a:prstGeom prst="rect">
            <a:avLst/>
          </a:prstGeom>
          <a:solidFill>
            <a:srgbClr val="bebbf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Гипрорыбфл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6095880"/>
            <a:ext cx="2057400" cy="609840"/>
          </a:xfrm>
          <a:prstGeom prst="rect">
            <a:avLst/>
          </a:prstGeom>
          <a:solidFill>
            <a:srgbClr val="bebbf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Госкомрыболовство Росс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(юридический отде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438280"/>
            <a:ext cx="990720" cy="533520"/>
          </a:xfrm>
          <a:prstGeom prst="rect">
            <a:avLst/>
          </a:prstGeom>
          <a:solidFill>
            <a:srgbClr val="bebbf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ГА МР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913680" y="5333760"/>
            <a:ext cx="609840" cy="2133720"/>
          </a:xfrm>
          <a:prstGeom prst="rect">
            <a:avLst/>
          </a:prstGeom>
          <a:solidFill>
            <a:srgbClr val="bebbf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Бассейнов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рыбохозяй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сове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7467480" y="5181480"/>
            <a:ext cx="609840" cy="2438640"/>
          </a:xfrm>
          <a:prstGeom prst="rect">
            <a:avLst/>
          </a:prstGeom>
          <a:solidFill>
            <a:srgbClr val="bebbf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ВНИРО, ВНИЭРХ, ИКИ 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РЦМы, НПО «Планета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42720" y="3162240"/>
            <a:ext cx="609840" cy="990720"/>
          </a:xfrm>
          <a:prstGeom prst="rect">
            <a:avLst/>
          </a:prstGeom>
          <a:solidFill>
            <a:srgbClr val="bebbf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Рыб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41480"/>
            <a:ext cx="1623960" cy="1349640"/>
          </a:xfrm>
          <a:prstGeom prst="flowChartMultidocument">
            <a:avLst/>
          </a:prstGeom>
          <a:solidFill>
            <a:srgbClr val="ff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Разре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на промыс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ЭР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31960" y="2895480"/>
            <a:ext cx="1620720" cy="1349640"/>
          </a:xfrm>
          <a:prstGeom prst="flowChartMultidocument">
            <a:avLst/>
          </a:prstGeom>
          <a:solidFill>
            <a:srgbClr val="ff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Кв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ЭР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1089000"/>
            <a:ext cx="1623960" cy="1349280"/>
          </a:xfrm>
          <a:prstGeom prst="flowChartMultidocument">
            <a:avLst/>
          </a:prstGeom>
          <a:solidFill>
            <a:srgbClr val="ff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Б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Реес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(ВНИЭРХ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305920" y="5715000"/>
            <a:ext cx="0" cy="3808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943600" y="5866920"/>
            <a:ext cx="0" cy="2286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62520" y="5866920"/>
            <a:ext cx="0" cy="2286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952880"/>
            <a:ext cx="6094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4419720"/>
            <a:ext cx="70866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229600" y="3962520"/>
            <a:ext cx="0" cy="4572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2666880"/>
            <a:ext cx="51055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447920" y="3505320"/>
            <a:ext cx="0" cy="25905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3505320"/>
            <a:ext cx="30456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4343400"/>
            <a:ext cx="50292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4114440"/>
            <a:ext cx="0" cy="22860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324480" y="4038120"/>
            <a:ext cx="0" cy="3049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295280" y="3657240"/>
            <a:ext cx="0" cy="685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3657600"/>
            <a:ext cx="1522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248520" y="2286000"/>
            <a:ext cx="0" cy="38088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2590920"/>
            <a:ext cx="3048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1981080"/>
            <a:ext cx="0" cy="6098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981080"/>
            <a:ext cx="22860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419720" y="2285640"/>
            <a:ext cx="0" cy="3049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1371600"/>
            <a:ext cx="60948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Основные базы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данных ЕИР ОС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8000" y="4941720"/>
            <a:ext cx="2376360" cy="1800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елекоммуникационная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 среда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98560" y="1219320"/>
            <a:ext cx="950760" cy="338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31920" y="2809800"/>
            <a:ext cx="1887480" cy="79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199"/>
                </a:solidFill>
                <a:latin typeface="Times New Roman"/>
              </a:rPr>
              <a:t>РЦ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imes New Roman"/>
              </a:rPr>
              <a:t>РИ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г. Мурманс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33960" y="114300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нмарсат-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8640" y="10666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NOA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1641600" y="1523520"/>
            <a:ext cx="4154400" cy="12574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867280" y="1676160"/>
            <a:ext cx="1552680" cy="1104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962440" y="1523880"/>
            <a:ext cx="4656960" cy="3581280"/>
            <a:chOff x="2962440" y="1523880"/>
            <a:chExt cx="4656960" cy="3581280"/>
          </a:xfrm>
        </p:grpSpPr>
        <p:sp>
          <p:nvSpPr>
            <p:cNvPr id="221" name=""/>
            <p:cNvSpPr/>
            <p:nvPr/>
          </p:nvSpPr>
          <p:spPr>
            <a:xfrm flipV="1">
              <a:off x="2962440" y="1523880"/>
              <a:ext cx="4085640" cy="1910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802560" y="1762560"/>
              <a:ext cx="816840" cy="334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 rot="1257000">
            <a:off x="818640" y="2152440"/>
            <a:ext cx="2778120" cy="74520"/>
          </a:xfrm>
          <a:custGeom>
            <a:avLst/>
            <a:gdLst/>
            <a:ahLst/>
            <a:rect l="l" t="t" r="r" b="b"/>
            <a:pathLst>
              <a:path w="4656" h="240">
                <a:moveTo>
                  <a:pt x="0" y="240"/>
                </a:moveTo>
                <a:cubicBezTo>
                  <a:pt x="64" y="120"/>
                  <a:pt x="128" y="0"/>
                  <a:pt x="192" y="0"/>
                </a:cubicBezTo>
                <a:cubicBezTo>
                  <a:pt x="256" y="0"/>
                  <a:pt x="320" y="240"/>
                  <a:pt x="384" y="240"/>
                </a:cubicBezTo>
                <a:cubicBezTo>
                  <a:pt x="448" y="240"/>
                  <a:pt x="504" y="0"/>
                  <a:pt x="576" y="0"/>
                </a:cubicBezTo>
                <a:cubicBezTo>
                  <a:pt x="648" y="0"/>
                  <a:pt x="744" y="240"/>
                  <a:pt x="816" y="240"/>
                </a:cubicBezTo>
                <a:cubicBezTo>
                  <a:pt x="888" y="240"/>
                  <a:pt x="936" y="0"/>
                  <a:pt x="1008" y="0"/>
                </a:cubicBezTo>
                <a:cubicBezTo>
                  <a:pt x="1080" y="0"/>
                  <a:pt x="1168" y="240"/>
                  <a:pt x="1248" y="240"/>
                </a:cubicBezTo>
                <a:cubicBezTo>
                  <a:pt x="1328" y="240"/>
                  <a:pt x="1408" y="0"/>
                  <a:pt x="1488" y="0"/>
                </a:cubicBezTo>
                <a:cubicBezTo>
                  <a:pt x="1568" y="0"/>
                  <a:pt x="1656" y="240"/>
                  <a:pt x="1728" y="240"/>
                </a:cubicBezTo>
                <a:cubicBezTo>
                  <a:pt x="1800" y="240"/>
                  <a:pt x="1848" y="0"/>
                  <a:pt x="1920" y="0"/>
                </a:cubicBezTo>
                <a:cubicBezTo>
                  <a:pt x="1992" y="0"/>
                  <a:pt x="2088" y="240"/>
                  <a:pt x="2160" y="240"/>
                </a:cubicBezTo>
                <a:cubicBezTo>
                  <a:pt x="2232" y="240"/>
                  <a:pt x="2280" y="0"/>
                  <a:pt x="2352" y="0"/>
                </a:cubicBezTo>
                <a:cubicBezTo>
                  <a:pt x="2424" y="0"/>
                  <a:pt x="2520" y="240"/>
                  <a:pt x="2592" y="240"/>
                </a:cubicBezTo>
                <a:cubicBezTo>
                  <a:pt x="2664" y="240"/>
                  <a:pt x="2712" y="0"/>
                  <a:pt x="2784" y="0"/>
                </a:cubicBezTo>
                <a:cubicBezTo>
                  <a:pt x="2856" y="0"/>
                  <a:pt x="2952" y="240"/>
                  <a:pt x="3024" y="240"/>
                </a:cubicBezTo>
                <a:cubicBezTo>
                  <a:pt x="3096" y="240"/>
                  <a:pt x="3152" y="0"/>
                  <a:pt x="3216" y="0"/>
                </a:cubicBezTo>
                <a:cubicBezTo>
                  <a:pt x="3280" y="0"/>
                  <a:pt x="3344" y="240"/>
                  <a:pt x="3408" y="240"/>
                </a:cubicBezTo>
                <a:cubicBezTo>
                  <a:pt x="3472" y="240"/>
                  <a:pt x="3536" y="0"/>
                  <a:pt x="3600" y="0"/>
                </a:cubicBezTo>
                <a:cubicBezTo>
                  <a:pt x="3664" y="0"/>
                  <a:pt x="3728" y="240"/>
                  <a:pt x="3792" y="240"/>
                </a:cubicBezTo>
                <a:cubicBezTo>
                  <a:pt x="3856" y="240"/>
                  <a:pt x="3904" y="0"/>
                  <a:pt x="3984" y="0"/>
                </a:cubicBezTo>
                <a:cubicBezTo>
                  <a:pt x="4064" y="0"/>
                  <a:pt x="4192" y="240"/>
                  <a:pt x="4272" y="240"/>
                </a:cubicBezTo>
                <a:cubicBezTo>
                  <a:pt x="4352" y="240"/>
                  <a:pt x="4400" y="0"/>
                  <a:pt x="4464" y="0"/>
                </a:cubicBezTo>
                <a:cubicBezTo>
                  <a:pt x="4528" y="0"/>
                  <a:pt x="4592" y="120"/>
                  <a:pt x="4656" y="240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1920" y="2378160"/>
            <a:ext cx="1887480" cy="390600"/>
          </a:xfrm>
          <a:prstGeom prst="rect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imes New Roman"/>
              </a:rPr>
              <a:t>Радиоцент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54720" y="2666880"/>
            <a:ext cx="1889280" cy="1228680"/>
          </a:xfrm>
          <a:prstGeom prst="rect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199"/>
                </a:solidFill>
                <a:latin typeface="Times New Roman"/>
              </a:rPr>
              <a:t>РЦ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imes New Roman"/>
              </a:rPr>
              <a:t>Радиоцент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imes New Roman"/>
              </a:rPr>
              <a:t>РИ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г. П.-Камчат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007400" y="2743200"/>
            <a:ext cx="228600" cy="281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512720" y="3844800"/>
            <a:ext cx="1036800" cy="524160"/>
          </a:xfrm>
          <a:prstGeom prst="rect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БЗ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г. Буру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1320" y="5867280"/>
            <a:ext cx="660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2287440" y="2413080"/>
            <a:ext cx="192240" cy="279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V="1">
            <a:off x="1262160" y="3606840"/>
            <a:ext cx="0" cy="457200"/>
          </a:xfrm>
          <a:prstGeom prst="line">
            <a:avLst/>
          </a:prstGeom>
          <a:ln w="414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36600" y="4054320"/>
            <a:ext cx="2826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rcRect l="3506" t="5462" r="4006" b="7068"/>
          <a:stretch/>
        </p:blipFill>
        <p:spPr>
          <a:xfrm>
            <a:off x="2484360" y="2928960"/>
            <a:ext cx="4103640" cy="387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2471760" y="3338640"/>
            <a:ext cx="399960" cy="466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6924600" y="1143000"/>
            <a:ext cx="1509840" cy="606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8327880" y="1828800"/>
            <a:ext cx="416160" cy="914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568440" y="1523880"/>
            <a:ext cx="41580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594480" y="5562720"/>
            <a:ext cx="1038240" cy="541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imes New Roman"/>
              </a:rPr>
              <a:t>БЗ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199"/>
                </a:solidFill>
                <a:latin typeface="Times New Roman"/>
              </a:rPr>
              <a:t>г. Пе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8224920" y="3885840"/>
            <a:ext cx="0" cy="1981080"/>
          </a:xfrm>
          <a:prstGeom prst="line">
            <a:avLst/>
          </a:prstGeom>
          <a:ln w="414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705120" y="2862360"/>
          <a:ext cx="1650960" cy="62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05120" y="2862360"/>
                    <a:ext cx="16509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12"/>
          <a:stretch/>
        </p:blipFill>
        <p:spPr>
          <a:xfrm>
            <a:off x="6408720" y="5024520"/>
            <a:ext cx="398520" cy="46656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1558800" y="1447920"/>
            <a:ext cx="5365080" cy="1371600"/>
            <a:chOff x="1558800" y="1447920"/>
            <a:chExt cx="5365080" cy="1371600"/>
          </a:xfrm>
        </p:grpSpPr>
        <p:sp>
          <p:nvSpPr>
            <p:cNvPr id="243" name=""/>
            <p:cNvSpPr/>
            <p:nvPr/>
          </p:nvSpPr>
          <p:spPr>
            <a:xfrm>
              <a:off x="1558800" y="1600200"/>
              <a:ext cx="837720" cy="7873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6120" y="1447920"/>
              <a:ext cx="5117760" cy="13716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292720" y="2781360"/>
            <a:ext cx="952200" cy="341640"/>
            <a:chOff x="5292720" y="2781360"/>
            <a:chExt cx="952200" cy="341640"/>
          </a:xfrm>
        </p:grpSpPr>
        <p:sp>
          <p:nvSpPr>
            <p:cNvPr id="246" name=""/>
            <p:cNvSpPr/>
            <p:nvPr/>
          </p:nvSpPr>
          <p:spPr>
            <a:xfrm>
              <a:off x="5385240" y="2781360"/>
              <a:ext cx="859680" cy="2462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92720" y="2876760"/>
              <a:ext cx="859680" cy="2462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199"/>
                  </a:solidFill>
                  <a:latin typeface="Times New Roman"/>
                </a:rPr>
                <a:t>Позици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540240" y="2438280"/>
            <a:ext cx="931320" cy="322560"/>
            <a:chOff x="3540240" y="2438280"/>
            <a:chExt cx="931320" cy="322560"/>
          </a:xfrm>
        </p:grpSpPr>
        <p:sp>
          <p:nvSpPr>
            <p:cNvPr id="249" name=""/>
            <p:cNvSpPr/>
            <p:nvPr/>
          </p:nvSpPr>
          <p:spPr>
            <a:xfrm>
              <a:off x="3622680" y="2438280"/>
              <a:ext cx="848880" cy="2462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199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40240" y="2514600"/>
              <a:ext cx="849240" cy="2462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10199"/>
                  </a:solidFill>
                  <a:latin typeface="Times New Roman"/>
                </a:rPr>
                <a:t>ССД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 rot="20781000">
            <a:off x="4500360" y="2132640"/>
            <a:ext cx="3860640" cy="69840"/>
          </a:xfrm>
          <a:custGeom>
            <a:avLst/>
            <a:gdLst/>
            <a:ahLst/>
            <a:rect l="l" t="t" r="r" b="b"/>
            <a:pathLst>
              <a:path w="4656" h="240">
                <a:moveTo>
                  <a:pt x="0" y="240"/>
                </a:moveTo>
                <a:cubicBezTo>
                  <a:pt x="64" y="120"/>
                  <a:pt x="128" y="0"/>
                  <a:pt x="192" y="0"/>
                </a:cubicBezTo>
                <a:cubicBezTo>
                  <a:pt x="256" y="0"/>
                  <a:pt x="320" y="240"/>
                  <a:pt x="384" y="240"/>
                </a:cubicBezTo>
                <a:cubicBezTo>
                  <a:pt x="448" y="240"/>
                  <a:pt x="504" y="0"/>
                  <a:pt x="576" y="0"/>
                </a:cubicBezTo>
                <a:cubicBezTo>
                  <a:pt x="648" y="0"/>
                  <a:pt x="744" y="240"/>
                  <a:pt x="816" y="240"/>
                </a:cubicBezTo>
                <a:cubicBezTo>
                  <a:pt x="888" y="240"/>
                  <a:pt x="936" y="0"/>
                  <a:pt x="1008" y="0"/>
                </a:cubicBezTo>
                <a:cubicBezTo>
                  <a:pt x="1080" y="0"/>
                  <a:pt x="1168" y="240"/>
                  <a:pt x="1248" y="240"/>
                </a:cubicBezTo>
                <a:cubicBezTo>
                  <a:pt x="1328" y="240"/>
                  <a:pt x="1408" y="0"/>
                  <a:pt x="1488" y="0"/>
                </a:cubicBezTo>
                <a:cubicBezTo>
                  <a:pt x="1568" y="0"/>
                  <a:pt x="1656" y="240"/>
                  <a:pt x="1728" y="240"/>
                </a:cubicBezTo>
                <a:cubicBezTo>
                  <a:pt x="1800" y="240"/>
                  <a:pt x="1848" y="0"/>
                  <a:pt x="1920" y="0"/>
                </a:cubicBezTo>
                <a:cubicBezTo>
                  <a:pt x="1992" y="0"/>
                  <a:pt x="2088" y="240"/>
                  <a:pt x="2160" y="240"/>
                </a:cubicBezTo>
                <a:cubicBezTo>
                  <a:pt x="2232" y="240"/>
                  <a:pt x="2280" y="0"/>
                  <a:pt x="2352" y="0"/>
                </a:cubicBezTo>
                <a:cubicBezTo>
                  <a:pt x="2424" y="0"/>
                  <a:pt x="2520" y="240"/>
                  <a:pt x="2592" y="240"/>
                </a:cubicBezTo>
                <a:cubicBezTo>
                  <a:pt x="2664" y="240"/>
                  <a:pt x="2712" y="0"/>
                  <a:pt x="2784" y="0"/>
                </a:cubicBezTo>
                <a:cubicBezTo>
                  <a:pt x="2856" y="0"/>
                  <a:pt x="2952" y="240"/>
                  <a:pt x="3024" y="240"/>
                </a:cubicBezTo>
                <a:cubicBezTo>
                  <a:pt x="3096" y="240"/>
                  <a:pt x="3152" y="0"/>
                  <a:pt x="3216" y="0"/>
                </a:cubicBezTo>
                <a:cubicBezTo>
                  <a:pt x="3280" y="0"/>
                  <a:pt x="3344" y="240"/>
                  <a:pt x="3408" y="240"/>
                </a:cubicBezTo>
                <a:cubicBezTo>
                  <a:pt x="3472" y="240"/>
                  <a:pt x="3536" y="0"/>
                  <a:pt x="3600" y="0"/>
                </a:cubicBezTo>
                <a:cubicBezTo>
                  <a:pt x="3664" y="0"/>
                  <a:pt x="3728" y="240"/>
                  <a:pt x="3792" y="240"/>
                </a:cubicBezTo>
                <a:cubicBezTo>
                  <a:pt x="3856" y="240"/>
                  <a:pt x="3904" y="0"/>
                  <a:pt x="3984" y="0"/>
                </a:cubicBezTo>
                <a:cubicBezTo>
                  <a:pt x="4064" y="0"/>
                  <a:pt x="4192" y="240"/>
                  <a:pt x="4272" y="240"/>
                </a:cubicBezTo>
                <a:cubicBezTo>
                  <a:pt x="4352" y="240"/>
                  <a:pt x="4400" y="0"/>
                  <a:pt x="4464" y="0"/>
                </a:cubicBezTo>
                <a:cubicBezTo>
                  <a:pt x="4528" y="0"/>
                  <a:pt x="4592" y="120"/>
                  <a:pt x="4656" y="240"/>
                </a:cubicBezTo>
              </a:path>
            </a:pathLst>
          </a:custGeom>
          <a:noFill/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3"/>
          <a:stretch/>
        </p:blipFill>
        <p:spPr>
          <a:xfrm>
            <a:off x="568440" y="1523880"/>
            <a:ext cx="41580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4"/>
          <a:stretch/>
        </p:blipFill>
        <p:spPr>
          <a:xfrm>
            <a:off x="568440" y="1523880"/>
            <a:ext cx="41580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5"/>
          <a:stretch/>
        </p:blipFill>
        <p:spPr>
          <a:xfrm>
            <a:off x="8327880" y="1828800"/>
            <a:ext cx="416160" cy="9144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6"/>
          <a:stretch/>
        </p:blipFill>
        <p:spPr>
          <a:xfrm>
            <a:off x="8327880" y="1828800"/>
            <a:ext cx="41616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7"/>
          <a:stretch/>
        </p:blipFill>
        <p:spPr>
          <a:xfrm>
            <a:off x="898560" y="1219320"/>
            <a:ext cx="950760" cy="3380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8"/>
          <a:stretch/>
        </p:blipFill>
        <p:spPr>
          <a:xfrm>
            <a:off x="898560" y="1219320"/>
            <a:ext cx="950760" cy="338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9"/>
          <a:stretch/>
        </p:blipFill>
        <p:spPr>
          <a:xfrm>
            <a:off x="6924600" y="1143000"/>
            <a:ext cx="1509840" cy="606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0"/>
          <a:stretch/>
        </p:blipFill>
        <p:spPr>
          <a:xfrm>
            <a:off x="6934320" y="1143000"/>
            <a:ext cx="1509480" cy="606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10960" y="6145200"/>
            <a:ext cx="568440" cy="3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0960" y="5713560"/>
            <a:ext cx="568440" cy="215640"/>
          </a:xfrm>
          <a:custGeom>
            <a:avLst/>
            <a:gdLst/>
            <a:ahLst/>
            <a:rect l="l" t="t" r="r" b="b"/>
            <a:pathLst>
              <a:path w="449" h="227">
                <a:moveTo>
                  <a:pt x="0" y="227"/>
                </a:moveTo>
                <a:cubicBezTo>
                  <a:pt x="19" y="114"/>
                  <a:pt x="39" y="0"/>
                  <a:pt x="58" y="0"/>
                </a:cubicBezTo>
                <a:cubicBezTo>
                  <a:pt x="77" y="0"/>
                  <a:pt x="97" y="227"/>
                  <a:pt x="116" y="227"/>
                </a:cubicBezTo>
                <a:cubicBezTo>
                  <a:pt x="135" y="227"/>
                  <a:pt x="152" y="0"/>
                  <a:pt x="174" y="0"/>
                </a:cubicBezTo>
                <a:cubicBezTo>
                  <a:pt x="196" y="0"/>
                  <a:pt x="225" y="227"/>
                  <a:pt x="246" y="227"/>
                </a:cubicBezTo>
                <a:cubicBezTo>
                  <a:pt x="268" y="227"/>
                  <a:pt x="283" y="0"/>
                  <a:pt x="304" y="0"/>
                </a:cubicBezTo>
                <a:cubicBezTo>
                  <a:pt x="326" y="0"/>
                  <a:pt x="353" y="227"/>
                  <a:pt x="377" y="227"/>
                </a:cubicBezTo>
                <a:cubicBezTo>
                  <a:pt x="401" y="227"/>
                  <a:pt x="437" y="38"/>
                  <a:pt x="449" y="0"/>
                </a:cubicBezTo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0960" y="5497560"/>
            <a:ext cx="568440" cy="3240"/>
          </a:xfrm>
          <a:prstGeom prst="line">
            <a:avLst/>
          </a:prstGeom>
          <a:ln w="76320">
            <a:solidFill>
              <a:srgbClr val="ffcc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0960" y="5137200"/>
            <a:ext cx="568440" cy="3240"/>
          </a:xfrm>
          <a:prstGeom prst="line">
            <a:avLst/>
          </a:prstGeom>
          <a:ln w="76320">
            <a:solidFill>
              <a:srgbClr val="00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0960" y="6505560"/>
            <a:ext cx="568440" cy="324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02240" y="494172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Арг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00800" y="52815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Инмарс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02600" y="5641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01880" y="59292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х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01160" y="6289560"/>
            <a:ext cx="15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924360" y="3573000"/>
            <a:ext cx="1800000" cy="3603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3933720"/>
            <a:ext cx="19429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24360" y="3933720"/>
            <a:ext cx="1871640" cy="144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24360" y="393372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635280" y="3933360"/>
            <a:ext cx="289080" cy="3589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64000" y="3860640"/>
            <a:ext cx="360360" cy="144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779640" y="3789000"/>
            <a:ext cx="144360" cy="1443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924360" y="3573000"/>
            <a:ext cx="69840" cy="3603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51640" y="3537000"/>
            <a:ext cx="107640" cy="108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6000" y="4041720"/>
            <a:ext cx="108000" cy="108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96000" y="3860640"/>
            <a:ext cx="108000" cy="108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9280" y="3500280"/>
            <a:ext cx="108000" cy="108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87640" y="4221000"/>
            <a:ext cx="108000" cy="108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0360" y="4221000"/>
            <a:ext cx="108000" cy="108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3716280"/>
            <a:ext cx="108000" cy="108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92360" y="3789360"/>
            <a:ext cx="108000" cy="108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51280" y="3860640"/>
            <a:ext cx="216000" cy="216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6453360"/>
            <a:ext cx="108000" cy="10764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6381720"/>
            <a:ext cx="216000" cy="2160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Новые информационные 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75000"/>
              </a:lnSpc>
              <a:spcBef>
                <a:spcPts val="11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Комплексирование технологий дистанционного зондирования океана с данными судовых измерен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11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рименение распределенной технологии локальных рабочих мес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11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Унификация мониторинга морских и сухопутных объектов (бригады берегового лова, транспортировка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11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овмещение данных судовых и спутниковых радиолокаторов с данными ОС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11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бор данных объективного контроля состояния и деятельности судна с использованием технологий "черного ящика" и ЭЦП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11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нтеграция в ЕИР ОСМ дополнительных баз данных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спользование технологий информационно – аналитической поддержки принятия управленческих решений, в  том числе распределения кво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Использование ДДЗ океа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еративный мониторинг состояния среды обитания гидробио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анирование и проведение научных рейсов (обнаружение мезомасштабных явлений на поверхности и исследование их связей с рыбными скоплениям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анирование промысловой активности на основе ДДЗ и СС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спользование данных РСА для целей мониторинга нелегальных судов в закрытых для промысла районах в закрытые сезо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Схема эксперимента и снимки РС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299880" y="1905120"/>
            <a:ext cx="3830760" cy="476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14756" t="0" r="14756" b="0"/>
          <a:stretch/>
        </p:blipFill>
        <p:spPr>
          <a:xfrm>
            <a:off x="4648320" y="1919160"/>
            <a:ext cx="40384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08:41:24Z</dcterms:created>
  <dc:creator>Romanov Alexey Alexandrovich</dc:creator>
  <dc:description/>
  <dc:language>en-US</dc:language>
  <cp:lastModifiedBy>Winnie</cp:lastModifiedBy>
  <dcterms:modified xsi:type="dcterms:W3CDTF">2003-11-09T14:58:32Z</dcterms:modified>
  <cp:revision>27</cp:revision>
  <dc:subject/>
  <dc:title>Слайд 1</dc:title>
</cp:coreProperties>
</file>