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6.jpeg" ContentType="image/jpeg"/>
  <Override PartName="/ppt/media/image33.jpeg" ContentType="image/jpeg"/>
  <Override PartName="/ppt/media/image28.wmf" ContentType="image/x-wmf"/>
  <Override PartName="/ppt/media/image30.png" ContentType="image/png"/>
  <Override PartName="/ppt/media/image8.jpeg" ContentType="image/jpeg"/>
  <Override PartName="/ppt/media/image10.jpeg" ContentType="image/jpeg"/>
  <Override PartName="/ppt/media/image13.wmf" ContentType="image/x-wmf"/>
  <Override PartName="/ppt/media/image7.jpeg" ContentType="image/jpeg"/>
  <Override PartName="/ppt/media/image3.png" ContentType="image/png"/>
  <Override PartName="/ppt/media/image20.jpeg" ContentType="image/jpeg"/>
  <Override PartName="/ppt/media/image12.png" ContentType="image/png"/>
  <Override PartName="/ppt/media/image32.jpeg" ContentType="image/jpeg"/>
  <Override PartName="/ppt/media/image11.wmf" ContentType="image/x-wmf"/>
  <Override PartName="/ppt/media/image5.jpeg" ContentType="image/jpeg"/>
  <Override PartName="/ppt/media/image26.jpeg" ContentType="image/jpeg"/>
  <Override PartName="/ppt/media/image4.png" ContentType="image/png"/>
  <Override PartName="/ppt/media/image9.jpeg" ContentType="image/jpeg"/>
  <Override PartName="/ppt/media/image2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16.jpeg" ContentType="image/jpeg"/>
  <Override PartName="/ppt/media/image17.wmf" ContentType="image/x-wmf"/>
  <Override PartName="/ppt/media/image18.jpeg" ContentType="image/jpeg"/>
  <Override PartName="/ppt/media/image25.png" ContentType="image/png"/>
  <Override PartName="/ppt/media/image19.jpeg" ContentType="image/jpeg"/>
  <Override PartName="/ppt/media/image31.png" ContentType="image/png"/>
  <Override PartName="/ppt/media/image29.wmf" ContentType="image/x-wmf"/>
  <Override PartName="/ppt/media/image21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FA4-A35A-4C31-AA98-DB2527A1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F34D-0CE7-4FAF-AF24-76CE274D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FB4-84E0-4D13-9AE8-CD25D9C5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CEC-BE12-490A-ABD1-6DD057DA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CEFA-0600-4CE3-BB52-9FEFA354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AE8-972A-44A7-982C-28FF9DB6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0288-E129-4990-9F58-472ECE71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08B-26AB-4F20-A10B-096446C1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FE8-E1E4-4D99-99EC-461527DB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A15-ABDE-4296-B82D-639665B2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E8F-B537-44C8-934E-DF6F46C8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4DA-6DE0-40EA-BDBB-204D997F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4F53-2411-4440-95F2-539795BDC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28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29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9810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кспериментальные исследования  аэрозолей тектонических разломов с помощью микролидар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А.Алексеев, А.Н.Ляш,  С.М.Перш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ИНИТИ,   ИКИ РАН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ЦВИ ИОФР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дарный сигнал  при зондировании вертикально ввер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80880" y="762120"/>
          <a:ext cx="8534520" cy="58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8534520" cy="58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ючевые требования, реализованные в лидарной систе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акт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лое энергопотреб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окая надеж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говечность лазера  и других элементов приб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бильность  параметров лид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бованиям удовлетворяет система,  использующая излучение полупроводникового лазера, одноквантовые лавинные фотодиоды, технику счета фотонов</a:t>
            </a:r>
            <a:r>
              <a:rPr b="0" lang="ru-RU" sz="2000" spc="-1" strike="noStrike">
                <a:solidFill>
                  <a:srgbClr val="cccc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дар «ФИЛИН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29040" y="1142640"/>
            <a:ext cx="2514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с –   1200 г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требление -  5 В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 раб =  –50    +50 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альность (по аэрозолю)   350 метр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lada2a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28600" y="1308240"/>
          <a:ext cx="8724960" cy="509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08240"/>
                    <a:ext cx="8724960" cy="50925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050840" y="41400"/>
            <a:ext cx="359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"/>
            <a:ext cx="42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аметры лида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lada3a" descr=""/>
          <p:cNvPicPr/>
          <p:nvPr/>
        </p:nvPicPr>
        <p:blipFill>
          <a:blip r:embed="rId1"/>
          <a:stretch/>
        </p:blipFill>
        <p:spPr>
          <a:xfrm>
            <a:off x="0" y="1600200"/>
            <a:ext cx="4191120" cy="3973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дар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lid2" descr=""/>
          <p:cNvPicPr/>
          <p:nvPr/>
        </p:nvPicPr>
        <p:blipFill>
          <a:blip r:embed="rId2"/>
          <a:stretch/>
        </p:blipFill>
        <p:spPr>
          <a:xfrm>
            <a:off x="4243320" y="1600200"/>
            <a:ext cx="4900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foto624a" descr=""/>
          <p:cNvPicPr/>
          <p:nvPr/>
        </p:nvPicPr>
        <p:blipFill>
          <a:blip r:embed="rId1"/>
          <a:stretch/>
        </p:blipFill>
        <p:spPr>
          <a:xfrm>
            <a:off x="0" y="1265400"/>
            <a:ext cx="4419720" cy="3992400"/>
          </a:xfrm>
          <a:prstGeom prst="rect">
            <a:avLst/>
          </a:prstGeom>
          <a:ln w="0">
            <a:noFill/>
          </a:ln>
        </p:spPr>
      </p:pic>
      <p:pic>
        <p:nvPicPr>
          <p:cNvPr id="96" name="lidarwork" descr=""/>
          <p:cNvPicPr/>
          <p:nvPr/>
        </p:nvPicPr>
        <p:blipFill>
          <a:blip r:embed="rId2"/>
          <a:stretch/>
        </p:blipFill>
        <p:spPr>
          <a:xfrm>
            <a:off x="4419720" y="1255680"/>
            <a:ext cx="4724280" cy="3956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7080" y="304920"/>
            <a:ext cx="422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бота с Лидаром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571680" y="433440"/>
          <a:ext cx="8001000" cy="59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433440"/>
                    <a:ext cx="8001000" cy="59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380880" y="0"/>
          <a:ext cx="60962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60962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80880" y="3581280"/>
          <a:ext cx="609624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581280"/>
                    <a:ext cx="60962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705720" y="457200"/>
            <a:ext cx="198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авнительные данные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дымам лесных пожар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дарного сигнала и нефилометра (щтат Айдах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MP4" descr=""/>
          <p:cNvPicPr/>
          <p:nvPr/>
        </p:nvPicPr>
        <p:blipFill>
          <a:blip r:embed="rId1"/>
          <a:stretch/>
        </p:blipFill>
        <p:spPr>
          <a:xfrm>
            <a:off x="228600" y="0"/>
            <a:ext cx="54151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15000" y="838080"/>
            <a:ext cx="313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ъемка из космо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есных пожаров в районе проведения полевых раб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ондирование лидаром городского аэроз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DSCF0097" descr=""/>
          <p:cNvPicPr/>
          <p:nvPr/>
        </p:nvPicPr>
        <p:blipFill>
          <a:blip r:embed="rId1"/>
          <a:stretch/>
        </p:blipFill>
        <p:spPr>
          <a:xfrm>
            <a:off x="152280" y="595440"/>
            <a:ext cx="883944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ста проведения полевых работ а районе грязевых вулканов Таманского полуострова в зоне геологического разлом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result3" descr=""/>
          <p:cNvPicPr/>
          <p:nvPr/>
        </p:nvPicPr>
        <p:blipFill>
          <a:blip r:embed="rId1"/>
          <a:stretch/>
        </p:blipFill>
        <p:spPr>
          <a:xfrm>
            <a:off x="0" y="573120"/>
            <a:ext cx="914400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191040" y="762120"/>
          <a:ext cx="595296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1040" y="762120"/>
                    <a:ext cx="5952960" cy="2971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ры лидарного зондирован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971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изонтальная трас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истая Атмосф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гловое скан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3429000"/>
          <a:ext cx="685800" cy="3859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429000"/>
                    <a:ext cx="685800" cy="38592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04920" y="5486400"/>
          <a:ext cx="1047600" cy="59040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486400"/>
                    <a:ext cx="10476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33520" y="1981080"/>
          <a:ext cx="914400" cy="38124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1981080"/>
                    <a:ext cx="9144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ba" descr=""/>
          <p:cNvPicPr/>
          <p:nvPr/>
        </p:nvPicPr>
        <p:blipFill>
          <a:blip r:embed="rId9"/>
          <a:stretch/>
        </p:blipFill>
        <p:spPr>
          <a:xfrm>
            <a:off x="3200400" y="3897360"/>
            <a:ext cx="5943600" cy="296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дар LIMS посадочного аппара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Mars Lander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оекта NASA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Mars Surveyor Program – 9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29040" y="1142640"/>
            <a:ext cx="2514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с –   940 г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требление -  5 В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 раб =  –100    +50 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ъем 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кбайта сеан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6 кБ/12 сеансов сут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льность  750 метр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lid1" descr=""/>
          <p:cNvPicPr/>
          <p:nvPr/>
        </p:nvPicPr>
        <p:blipFill>
          <a:blip r:embed="rId1"/>
          <a:stretch/>
        </p:blipFill>
        <p:spPr>
          <a:xfrm>
            <a:off x="0" y="1219320"/>
            <a:ext cx="6629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lander61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391520" y="6400800"/>
            <a:ext cx="1447560" cy="457200"/>
          </a:xfrm>
          <a:solidFill>
            <a:srgbClr val="0000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848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хема зондирования аэрозоля грязевого вулка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хема зондирования аэрозол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вентиляционном штреке ртутной шахты “Сахалин” (поселок Ново-Ахтырский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76520"/>
          <a:ext cx="8229600" cy="40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229600" cy="40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3760" y="3124080"/>
            <a:ext cx="3809880" cy="41148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4800600" y="762120"/>
            <a:ext cx="4343400" cy="2895480"/>
            <a:chOff x="4800600" y="762120"/>
            <a:chExt cx="4343400" cy="2895480"/>
          </a:xfrm>
        </p:grpSpPr>
        <p:pic>
          <p:nvPicPr>
            <p:cNvPr id="53" name="005" descr=""/>
            <p:cNvPicPr/>
            <p:nvPr/>
          </p:nvPicPr>
          <p:blipFill>
            <a:blip r:embed="rId2"/>
            <a:stretch/>
          </p:blipFill>
          <p:spPr>
            <a:xfrm>
              <a:off x="4800600" y="762120"/>
              <a:ext cx="43434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721280" y="3388320"/>
              <a:ext cx="594000" cy="26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Рис.2г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0" y="762120"/>
            <a:ext cx="4724280" cy="2895480"/>
            <a:chOff x="0" y="762120"/>
            <a:chExt cx="4724280" cy="2895480"/>
          </a:xfrm>
        </p:grpSpPr>
        <p:pic>
          <p:nvPicPr>
            <p:cNvPr id="56" name="007" descr=""/>
            <p:cNvPicPr/>
            <p:nvPr/>
          </p:nvPicPr>
          <p:blipFill>
            <a:blip r:embed="rId3"/>
            <a:stretch/>
          </p:blipFill>
          <p:spPr>
            <a:xfrm>
              <a:off x="0" y="762120"/>
              <a:ext cx="472428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210480" y="3383280"/>
              <a:ext cx="606240" cy="25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Рис.2 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3886200"/>
            <a:ext cx="4724280" cy="2971800"/>
            <a:chOff x="0" y="3886200"/>
            <a:chExt cx="4724280" cy="2971800"/>
          </a:xfrm>
        </p:grpSpPr>
        <p:pic>
          <p:nvPicPr>
            <p:cNvPr id="59" name="002" descr=""/>
            <p:cNvPicPr/>
            <p:nvPr/>
          </p:nvPicPr>
          <p:blipFill>
            <a:blip r:embed="rId4"/>
            <a:stretch/>
          </p:blipFill>
          <p:spPr>
            <a:xfrm>
              <a:off x="0" y="3886200"/>
              <a:ext cx="472428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199320" y="6594120"/>
              <a:ext cx="628560" cy="26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Рис2а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800600" y="3886200"/>
            <a:ext cx="4343400" cy="2971800"/>
            <a:chOff x="4800600" y="3886200"/>
            <a:chExt cx="4343400" cy="2971800"/>
          </a:xfrm>
        </p:grpSpPr>
        <p:pic>
          <p:nvPicPr>
            <p:cNvPr id="62" name="003" descr=""/>
            <p:cNvPicPr/>
            <p:nvPr/>
          </p:nvPicPr>
          <p:blipFill>
            <a:blip r:embed="rId5"/>
            <a:stretch/>
          </p:blipFill>
          <p:spPr>
            <a:xfrm>
              <a:off x="4800600" y="3886200"/>
              <a:ext cx="434340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734240" y="6595920"/>
              <a:ext cx="571320" cy="2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Рис2б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риментальные гистограмм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Graph2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Graph3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6916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нные датчика водорода в районе грязевых вулкано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3520" y="2133720"/>
          <a:ext cx="8420040" cy="427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420040" cy="427968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5390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5390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ое лидарное уравн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8600" y="2362320"/>
          <a:ext cx="8477280" cy="224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62320"/>
                    <a:ext cx="84772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914400" y="1143000"/>
          <a:ext cx="7296120" cy="104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143000"/>
                    <a:ext cx="729612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762120" y="4800600"/>
          <a:ext cx="7791480" cy="12574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800600"/>
                    <a:ext cx="779148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4:47:04Z</dcterms:created>
  <dc:creator>Липатов</dc:creator>
  <dc:description/>
  <dc:language>en-US</dc:language>
  <cp:lastModifiedBy>lyash</cp:lastModifiedBy>
  <dcterms:modified xsi:type="dcterms:W3CDTF">2003-11-10T09:17:40Z</dcterms:modified>
  <cp:revision>88</cp:revision>
  <dc:subject/>
  <dc:title>Микро - лидар для исследования приземных слоев атмосферы планет </dc:title>
</cp:coreProperties>
</file>