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8A0-C799-490E-8B54-C1CC581F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5CF-1C57-4B2D-9C82-0136912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DBE-1D7B-4D2F-A82B-6E8829ED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707-9529-4169-BBCD-EBBC977A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110D1-984A-48D4-94CE-FAF680C6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301A5-2C40-4CA7-99C3-95EFA8DB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E8452-306A-4568-A336-7EF5E49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AD25B-54B2-4251-B593-4FE363F0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DC81-C6DC-41EA-9C99-8FBEAB0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09F8-0CFF-4265-97F5-73FF8A3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A90B1-E7C5-4D77-8B7E-214AC0D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7DD-8C28-4602-A121-76AC55E2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AEC61-188A-46A4-9BE8-DFB2242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FBCB3-2C9E-4AAB-A9E4-4423E45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C6246-ECE1-428A-8C07-E7DCFB54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58CC7-C857-4F23-997F-21ADB5B9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3AC98-98AF-430C-927F-D7C6C756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051-B37A-43D5-8CA3-C5E7085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558-9187-4084-9392-6BA8DCC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902-998D-43E6-AFA5-C084D36B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7F9-6915-427A-B013-36F02B04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5C9-1349-4651-B594-350F142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C5C-795F-4AF1-BCA9-2D80EC6F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0FA-7D84-497F-A37D-F05F543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2C1-593B-4918-BD66-35D14239D7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0D63-D0B9-4932-82EC-CD5837D0F4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avor@ire.rssi.ru" TargetMode="External"/><Relationship Id="rId3" Type="http://schemas.openxmlformats.org/officeDocument/2006/relationships/hyperlink" Target="mailto:savor@ire.rssi.ru" TargetMode="External"/><Relationship Id="rId4" Type="http://schemas.openxmlformats.org/officeDocument/2006/relationships/hyperlink" Target="mailto:savor@ire.rssi.ru" TargetMode="External"/><Relationship Id="rId5" Type="http://schemas.openxmlformats.org/officeDocument/2006/relationships/hyperlink" Target="mailto:savor@ire.rssi.ru" TargetMode="External"/><Relationship Id="rId6" Type="http://schemas.openxmlformats.org/officeDocument/2006/relationships/hyperlink" Target="mailto:savor@ire.rssi.ru" TargetMode="External"/><Relationship Id="rId7" Type="http://schemas.openxmlformats.org/officeDocument/2006/relationships/hyperlink" Target="mailto:savor@ire.rssi.ru" TargetMode="External"/><Relationship Id="rId8" Type="http://schemas.openxmlformats.org/officeDocument/2006/relationships/hyperlink" Target="mailto:savor@ire.rssi.ru" TargetMode="External"/><Relationship Id="rId9" Type="http://schemas.openxmlformats.org/officeDocument/2006/relationships/hyperlink" Target="mailto:tishchen@ire.rssi.ru" TargetMode="External"/><Relationship Id="rId10" Type="http://schemas.openxmlformats.org/officeDocument/2006/relationships/hyperlink" Target="mailto:tishchen@ire.rssi.ru" TargetMode="External"/><Relationship Id="rId11" Type="http://schemas.openxmlformats.org/officeDocument/2006/relationships/hyperlink" Target="mailto:tishchen@ire.rssi.ru" TargetMode="External"/><Relationship Id="rId12" Type="http://schemas.openxmlformats.org/officeDocument/2006/relationships/hyperlink" Target="mailto:tishchen@ire.rssi.ru" TargetMode="External"/><Relationship Id="rId13" Type="http://schemas.openxmlformats.org/officeDocument/2006/relationships/hyperlink" Target="mailto:tishchen@ire.rssi.ru" TargetMode="External"/><Relationship Id="rId14" Type="http://schemas.openxmlformats.org/officeDocument/2006/relationships/hyperlink" Target="mailto:tishchen@ire.rssi.ru" TargetMode="External"/><Relationship Id="rId15" Type="http://schemas.openxmlformats.org/officeDocument/2006/relationships/hyperlink" Target="mailto:tishchen@ire.rssi.ru" TargetMode="External"/><Relationship Id="rId16" Type="http://schemas.openxmlformats.org/officeDocument/2006/relationships/hyperlink" Target="mailto:evgeny@d902.iki.rssi.ru" TargetMode="External"/><Relationship Id="rId17" Type="http://schemas.openxmlformats.org/officeDocument/2006/relationships/hyperlink" Target="mailto:evgeny@d902.iki.rssi.ru" TargetMode="External"/><Relationship Id="rId18" Type="http://schemas.openxmlformats.org/officeDocument/2006/relationships/hyperlink" Target="mailto:evgeny@d902.iki.rssi.ru" TargetMode="External"/><Relationship Id="rId19" Type="http://schemas.openxmlformats.org/officeDocument/2006/relationships/hyperlink" Target="mailto:evgeny@d902.iki.rssi.ru" TargetMode="External"/><Relationship Id="rId20" Type="http://schemas.openxmlformats.org/officeDocument/2006/relationships/hyperlink" Target="mailto:evgeny@d902.iki.rssi.ru" TargetMode="External"/><Relationship Id="rId21" Type="http://schemas.openxmlformats.org/officeDocument/2006/relationships/hyperlink" Target="mailto:evgeny@d902.iki.rssi.ru" TargetMode="External"/><Relationship Id="rId22" Type="http://schemas.openxmlformats.org/officeDocument/2006/relationships/hyperlink" Target="mailto:evgeny@d902.iki.rssi.ru" TargetMode="External"/><Relationship Id="rId23" Type="http://schemas.openxmlformats.org/officeDocument/2006/relationships/hyperlink" Target="mailto:evgeny@d902.iki.rssi.ru" TargetMode="External"/><Relationship Id="rId24" Type="http://schemas.openxmlformats.org/officeDocument/2006/relationships/hyperlink" Target="mailto:evgeny@d902.iki.rssi.ru" TargetMode="External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азовые спецификации запросов, обслуживаемых информационной системой космических данных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аворский В.П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Лупян Е.А., Тищенко Ю.Г.</a:t>
            </a:r>
            <a:br>
              <a:rPr sz="24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РЭ РАН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КИ РАН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avor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@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ire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rss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r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tishchen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@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ire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rss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r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evgeny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@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d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902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ik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rss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.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r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0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тивация использования категории коллекций в ИС К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авинообразное нарастание объема и разнообразия д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тественное структурирование данных (по проектам) существенно обличается от логического (по объектам исследова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ость введения виртуальных коллекц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77C-CE2E-4993-9FD3-CFCA2D9D9C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нцептуальная схема ИС К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921440" cy="638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3F6-20BD-429D-9772-004DFEEF7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6421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Базовая модель дескриптора ИС КД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A4E-F0A6-46AD-9DC8-2F2A8980D9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исковая система ЦОХКИ ФИРЭ 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893080" cy="590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361-1DF0-4241-AA08-A27DD888AB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иск наборов дан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822960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709-B925-47CA-B2FE-87BE3463AA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иск данных в архиве ЦОХКИ ИРЭ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692280"/>
            <a:ext cx="8229600" cy="56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B5B-8DC6-4063-9D69-D8121A3A3B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бор сцены в каталоге ЦОХКИ ФИРЭ 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70000"/>
            <a:ext cx="864216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12F-2234-4FB0-B2B5-C3C4B0338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0"/>
            <a:ext cx="85899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формление заказа в ЦОХКИ ФИРЭ 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7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954-52F3-4D1A-9928-367912B004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257800" y="838080"/>
            <a:ext cx="3733920" cy="5562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ользовательские </a:t>
            </a:r>
            <a:r>
              <a:rPr b="1" lang="en-US" sz="1600" spc="-1" strike="noStrike">
                <a:solidFill>
                  <a:srgbClr val="010199"/>
                </a:solidFill>
                <a:latin typeface="Tahoma"/>
              </a:rPr>
              <a:t>WEB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интерфей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Каталог архи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оиск данных в архи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осмотр выбранных да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Заказ дан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Регистрация пользова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Анализ наложения выбранных фрагментов на кар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Служебные </a:t>
            </a:r>
            <a:r>
              <a:rPr b="1" lang="en-US" sz="1600" spc="-1" strike="noStrike">
                <a:solidFill>
                  <a:srgbClr val="010199"/>
                </a:solidFill>
                <a:latin typeface="Tahoma"/>
              </a:rPr>
              <a:t>WEB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интерфей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осмотр статистики по архив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Визуальная оценка сним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982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Регистрация пользователей архи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Автоматизированная процедура предоставления доступа к данным в долговременном архи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едоставление данных системам обработ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48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еспечение доступа к спутниковым данны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пользова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995400"/>
            <a:ext cx="2514600" cy="177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276640" y="1287360"/>
            <a:ext cx="2752560" cy="214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1295280" y="2209680"/>
          <a:ext cx="2286000" cy="156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209680"/>
                    <a:ext cx="228600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8388360" y="6564240"/>
            <a:ext cx="503280" cy="1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228600" y="3859200"/>
          <a:ext cx="2819520" cy="190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859200"/>
                    <a:ext cx="281952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165400" y="4241880"/>
          <a:ext cx="2940120" cy="21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5400" y="4241880"/>
                    <a:ext cx="29401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482-3C80-4AD5-B448-36756BFF7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2743200" cy="1741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505320" y="755640"/>
            <a:ext cx="2590560" cy="1857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64216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стема хранения данных спутник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AA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ИКИ Р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838080"/>
            <a:ext cx="3025800" cy="5257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ьзовательски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талог архива телемет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талог региональных дан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данных в архи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мотр и получение фрагмента исходной телеметр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ужебные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истика по архив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уальная оценка облачности снимк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90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8388360" y="6480000"/>
            <a:ext cx="503280" cy="141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00600" y="403848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6324480" y="4565520"/>
            <a:ext cx="2286000" cy="175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800600" y="137484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400800" y="201312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823-0985-4DA2-A3D9-A76D1F214B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тегории пользователей ИС К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сследователи природных объектов Зем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работчики методов и средств ДЗЗ в ча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дения дистанционных измерен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сстановления параметров состояния наблюдаемых объектов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формационного обеспечения  дистанционных исследов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ераторы природоохранных организаций и органов государственного упра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чащиеся, студенты и аспиран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5A6-30D6-4598-A828-F8B1C61AFA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азовые цели клиента ИС К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лучение достоверной информации о состоянии исследуемых физических объектов Земли, включа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значную идентификацию объ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учение набора значений физических параметров, достаточного для нетривиального анализа состава и состояния исследуемого объ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учения доступа к набору точных определений терминов и атрибутов, используемых для описания состава и состояния исследуемого объ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3DE-6F54-4CAE-84CD-C224833529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 архивных данных ИС К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инимальны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гистрируемые (восстановленные) данные и атрибуты (коэффициенты) калибровки</a:t>
            </a:r>
            <a:br>
              <a:rPr sz="24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казания дистанционных датчиков или результаты восстановления геофизических параметров и необходимые для абсолютной калибровки атрибу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транственно-временные атрибуты съемки</a:t>
            </a:r>
            <a:br>
              <a:rPr sz="24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спортная адресная информация, позволяющая однозначно привязать измерения к наблюдаемому объек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трибуты интерпретации данных</a:t>
            </a:r>
            <a:br>
              <a:rPr sz="24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трибуты, описывающие характеристики процесса измерения (параметры измерительной аппаратуры, режимы ее работы, характеристики платформы, с которой проведены съемки) и условия наблюдений (условия освещенности, характеристики облачност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трибуты качества данных</a:t>
            </a:r>
            <a:br>
              <a:rPr sz="14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трибуты, характеризующие наличие сбойной и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ли нефизичной информации в потоке данных (помехи, зашкалы, выход за пределы физически допустимых значени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694-74E1-4DEE-813D-69F35FE082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рвисы клиента ИС К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ъективны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915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иповой сценар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иск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ценка качества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формление заказа на да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учение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учение справок по всем сервисам и  терминам, поддерживаемым 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9E2-7999-4281-BD0A-2E8E10B768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тивация использования метаданных КД в каталогах ИС К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лабое структурирование исходных данных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ъем данных существенно превышает объем атрибутов, их описывающ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личие в самих архивных данных атрибутов, однозначно характеризующих объекты наблюд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странственно-временные атрибуты съем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личие в атрибутах КД контекстной информации, позволяющей оценить качество данных и однозначно проинтерпретировать 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трибуты интерпретации и качества дан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62E-9088-4151-9AF6-294869FAA7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 метаданных ИС К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инимальны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странственно-временные атрибуты съемки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спортная адресная информация, позволяющая однозначно привязать измерения к наблюдаемому объек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трибуты однозначной интерпретации данных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рибуты, описывающие характеристики процесса измерения (параметры измерительной аппаратуры, режимы ее работы, характеристики платформы) и условия наблюдений (условия освещенности, характеристики облач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трибуты качества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рибуты, характеризующие наличие сбойной 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нефизичной информации в потоке данных (помехи, зашкалы, выход за пределы допустимых значен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трибуты локализации данных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рибуты, описывающие местонахождение данных в архиве: имя файла и его размер, имя директории, ленты,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R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ве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03B-2CEF-4E55-8170-5B82F9A8D1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тивация использования обзорных изображений ИС К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иальная невозможность свести описание КД к набору строго определенных атрибутов  и их знач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зорные изображения  (ОИ) – это источник информации для визуального анализа неполно (или нестрого) описанных наборов данн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зорные изображения – это возможность предоставить клиентам возможность визуально оценить данные в режим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993-35D3-444A-AF08-A438E9FCDE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зорные изображения в ИС КД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инимальные треб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на ОИ атрибутов или графических символов, позволяющих представить географическое расположение  места съем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ение ОИ в виде, обеспечивающем визуальную оценку качества наблюдений зондируемого объек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ставление ОИ в стандартной географической проекции (для обеспечения совместимости с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MS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C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сква, ИКИ РАН,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6F7-8C0D-48D1-A971-72F88FD0C9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5:53:36Z</dcterms:created>
  <dc:creator>VictorS</dc:creator>
  <dc:description/>
  <dc:language>en-US</dc:language>
  <cp:lastModifiedBy>VictorS</cp:lastModifiedBy>
  <dcterms:modified xsi:type="dcterms:W3CDTF">2003-11-05T08:42:47Z</dcterms:modified>
  <cp:revision>23</cp:revision>
  <dc:subject/>
  <dc:title>Базовые спецификации запросов, обслуживаемых информационной системой  космических данных   Саворский В.П., Лупян Е.А., Тищенко Ю.Г.             ФИРЭ РАН                          ИКИ РАН  savor@ire.rssi.ru tishchen@ire.rssi.ru evgeny@d902.iki.rssi.ru  </dc:title>
</cp:coreProperties>
</file>