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606-165A-496A-BBE3-F2EEFCF8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6F8-3A32-4A7E-9B6A-ACBA29C7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516-0818-4A82-9750-2709844D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2B4-088A-4D67-A036-4A701620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B72-EB77-4BE5-8A44-573A6E01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464-F85B-47FB-8390-4F016F2D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C4B-7971-41B3-BF2C-EC4388B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C6E-13A9-46EF-BFE8-3C6B11C9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DC8-F644-4387-A617-E3CC0575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D98-E138-4729-9A33-8A75B3D1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437-6A3C-4709-A0BD-30FBCBC2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ECF-3D03-4BFC-9C88-7F60CB5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C25E-852F-4D7C-985C-02E26F26DF07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9F65-90D7-4EDE-96A0-7E38BBB70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ассивное микроволновое зондирование Земли : прошлое, настоящее и планы на будуще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. А. Шарк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ститут космических исследований  Р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: esharkov@iki.rssi.ru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B36-6894-4AEC-8F6F-888CC8F719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1C809-90D3-47ED-91D0-505EB61784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отенциальные направления развития систем микроволнового зон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514600"/>
            <a:ext cx="2209680" cy="1752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неров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дировщ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2362320" cy="1752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роволнов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роантен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514600"/>
            <a:ext cx="2286000" cy="1752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ровол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ертур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4800600"/>
            <a:ext cx="2438280" cy="16765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мбов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роволнов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д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4724280"/>
            <a:ext cx="2133720" cy="16765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нте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ических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и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скоп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2514600"/>
            <a:ext cx="2819520" cy="1828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волнов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яриметр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140-A820-4449-9EFF-6CF6EA661FF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D7973-30F4-47DE-9D2B-14BC5ADD74C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0288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тенциальные мисс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8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ТВЗА-ОК  ( РФ,  ИСЗ  Сич 1М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8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IS  (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ША, програм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OESS 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8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MS (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ША, программа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ES 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8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( ESA/NOA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8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HA-TROPIQUES  (CNES/ISR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04920"/>
            <a:ext cx="617220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тез сканеров и зондировщ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742-2DFD-4461-AC17-29D526784E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3F6AE-1393-4A2F-8CA6-C50285D701C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ссия  МТВЗА-ОК  ( РФ,  ИСЗ  Сич 1М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тные каналы ( сканерного типа )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, 10.6, 18.7, 23.8, 31, 36.5, 42, 48, 8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Гц. Каждый канал с двумя поляризац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тные каналы измерительного типа -  10 каналов в полосе поглощения кислорода  5 мм,  3 канала в полосе поглощения водяного пара ( 183 ГГц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ая апертура антенны – 60 с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са конического обзора – 20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 разрешения -  от 7 до 20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наблюдения  ( на поверхности Земли ) - 6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F80-D5A9-4B87-900D-EEE62E7278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2ADE-B4EF-41AF-A568-8E7EA4381A9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волновый сенсор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ical Microwave Imager/Sounder (CMIS ) (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143000"/>
            <a:ext cx="3047760" cy="3429000"/>
          </a:xfrm>
          <a:custGeom>
            <a:avLst/>
            <a:gdLst>
              <a:gd name="textAreaLeft" fmla="*/ 148680 w 3047760"/>
              <a:gd name="textAreaRight" fmla="*/ 2899080 w 3047760"/>
              <a:gd name="textAreaTop" fmla="*/ 148680 h 3429000"/>
              <a:gd name="textAreaBottom" fmla="*/ 3280320 h 3429000"/>
            </a:gdLst>
            <a:ahLst/>
            <a:rect l="textAreaLeft" t="textAreaTop" r="textAreaRight" b="textAreaBottom"/>
            <a:pathLst>
              <a:path w="21600" h="24302">
                <a:moveTo>
                  <a:pt x="3600" y="0"/>
                </a:moveTo>
                <a:arcTo wR="3600" hR="3600" stAng="16200000" swAng="-5400000"/>
                <a:lnTo>
                  <a:pt x="0" y="20702"/>
                </a:lnTo>
                <a:arcTo wR="3600" hR="3600" stAng="10800000" swAng="-5400000"/>
                <a:lnTo>
                  <a:pt x="18000" y="243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-orb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 ( NPOE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00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A, NOAA, D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1981080"/>
            <a:ext cx="2286000" cy="1828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1752480" cy="1219320"/>
          </a:xfrm>
          <a:prstGeom prst="leftArrow">
            <a:avLst>
              <a:gd name="adj1" fmla="val 50000"/>
              <a:gd name="adj2" fmla="val 3593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648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410080"/>
            <a:ext cx="18288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6D6-C7D8-4014-8FAE-A9EAE9A9CC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8B999-9D0B-46AC-9A7C-6E5BEA03A95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волновый сенсор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ical Microwave Imager/Sounder (CMIS ) (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тные каналы ( сканерного типа )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 10, 18, 23, 36,  8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Гц. Каждый канал с двумя поляризац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тные каналы измерительного типа -  в полосе поглощения кислорода  5 мм,  и  в полосе поглощения водяного пара ( 183 ГГц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метрический канал (параметры Стокса ) 18 ГГ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рительные каналы – 7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а рефлектора с апертурами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70 с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са конического обзора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 разрешения -  от 7 до 20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наблюдения  ( на поверхности Земли ) – 53 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591-9A62-4F46-A7DA-30707FF078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95C0D-5D4E-4FC1-9882-7BD59B21C4C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волюция микроволновых сис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295280"/>
          <a:ext cx="7543800" cy="4714920"/>
        </p:xfrm>
        <a:graphic>
          <a:graphicData uri="http://schemas.openxmlformats.org/drawingml/2006/table">
            <a:tbl>
              <a:tblPr/>
              <a:tblGrid>
                <a:gridCol w="1878120"/>
                <a:gridCol w="855720"/>
                <a:gridCol w="1184040"/>
                <a:gridCol w="1187640"/>
                <a:gridCol w="1120680"/>
                <a:gridCol w="1317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M/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SR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м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е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измерительных 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 к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щ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536-D887-4E23-B50F-6DC24EDD973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3B86-7E78-4655-9C8D-6E165A317F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and Radiation monitoring satellite  (CLOUD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c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)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проекта-  разработка нового поколения спутниковых систем для детального и долговременного мониторинга  облачных систем и связанных с ними радиационных проце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4114800" cy="39625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Ic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-vapour Sub-mm Ima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meter (CIWS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ты- 150, 183 (три канала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20, 462, 682, 874 ГГц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мент разрешения- 10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тенна: две апертуры- 40 и 16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са обзора – 1400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анирование-коническое ( 5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2133720"/>
            <a:ext cx="4038840" cy="4038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Liquid-water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wave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meter (CLAPMIR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сканер-зондировщи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ты- 6,9; 10; 18; 23; 36; 89ГГ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ыре канала поляриметриче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4 канала в линиях кислор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55 и 118 ГГц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D60-99E2-4A23-9521-02E5FA6FF0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D3045-9987-4F68-AEBA-E019E346CD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HA-TROPIQUES project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ES/ISRPO)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проекта-  разработка нового поколения спутниковых систем для быстрого мониторинга конвективных тропических облачных систем и связанных с ними массо и энергообмена в тропика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наклонение орбиты-2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ремя обзора- до 2 час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057400"/>
            <a:ext cx="3886200" cy="3733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deur Atmospher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 Profil d’Humidite Intertropi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 Radiometrie ( SAPHIR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сть каналов в линии 183 ГГ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мент разрешения –10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ность измерения содерж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дяного пара 10-20% на 6 уровн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ропосфере от 2 км до 12 к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2133720"/>
            <a:ext cx="4267440" cy="3581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wave   Analysis   and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ain &amp; Atmosphe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RA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ты – 10,6; 18; 23; 36; 89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7 ГГ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менты разрешения –от 6 до 50 к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AAA-3B00-4710-9350-949AA2D02D8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5FF9A-2885-4C8B-A1FF-D4215BDC6F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49400" indent="-10494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Moisture and Ocean Salinity (SMOS) mission(E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а 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A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пространственное разрешение от 30-60 км для диапазона 21 см 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band 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ебования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ап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-10494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/SAMS Mission ( NASA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hetic thinned array radiometry ( STAR)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енна – решетка облучателей в виде  букв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енна – случайное поле  небольших антенн ( ли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9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ксированных , либо перемещающих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аотическим  образом в пространстве ( покрытие плоскост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V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12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343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0"/>
            <a:ext cx="7315200" cy="10666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волновые системы апертурного синт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392-A756-495D-81E7-8CC8285CA3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7501B-89C9-4B98-A749-5717F9A78D1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an-salinity  Soil-moisture Integrated Radiometer-radar Imaging System  ( OSIRIS 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0880"/>
            <a:ext cx="7315200" cy="11430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кроволновые активно-пассивны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акроантенн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7619760" cy="3809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ты радиометра – 1,41 и 2,69 ГГ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зации – В и Г  ( для 1,41 ГГц -  реж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метрический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та  радара  - 1,26 ГГ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зации  радара – ГГ, ВВ, ГВ, В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пертура антенны – 600 см ( 1200 см )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 разрешения – 35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45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наблюдения- 4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са сканирования – 9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1D6-69D8-4581-B083-C6D9D7468D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D0E74-F5A8-40D9-ADD9-F67E9FC48A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ельное внедрение за последние 10-15 лет методов и средств микроволновой  диагностики в аэрокосмические наблюдения  явилось следствием   принципиально новой  ( по отношению к оптическому и  инфракрасному диапазонам)  физической информативности   микроволнового  зондирования при  изучении   земных объектов ( поверхности  и  атмосферы ). Развитие и эволюция приборного парка и научно-исследовательских проектов микроволнового зондирования происходило, разумеется, весьма  неоднородным и неравномерным  образом.  Тем не менее на сегодняшний день ни одна  потенциальная крупная  спутниковая миссия  по исследованию Земли  не обходится  без включения в нее  пассивных  радиофизических  приборов  в той или иной конфигурации. В настоящ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общен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нализируется  некоторые исторические  элементы развития микроволновых миссий (включая вопросы  развития приборного парка), современное состояние и некоторые планы на будущее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7FD-F912-4F69-91A9-82EF3FA567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4AA01-E968-481A-8C73-F54192BD6D5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ugene A. Shark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 Passive Microwave  Remote Sensing of the Earth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Foundations.  Springer/PRAXIS,  ISBN 3-540-43946-3. London, Berlin, New York, Singapore, Tokyo. 2003, 605p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08680" y="4914000"/>
            <a:ext cx="6326640" cy="68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pringeronlin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1AE-5475-4346-8C6F-F4A5B614B76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0CD1E-C039-4FBC-A47F-2FCF73646B6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Элементы истории развития  микроволновой радиометрии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6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микроволновые исследования  радиоизлучения  атмосфе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проф. Дике) 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1,5 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8 K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космического корабля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 для  исследования  структуры и физико-химического состава облачных слоев Венеры   при помощи  двух-частотной методи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1,35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,9 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 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362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5812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47B-9DA4-4497-97B0-0757BA5038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757B1-CE71-4678-A980-EAC50FFE532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8г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197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З  «Космос –243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«Космос-384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частот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рт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иотепл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мплек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0,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,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0,7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 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Ограничения -  трассовый режим, отсутствие информации по пространственным полям излучения, поляризационным свойствам поверхностей и по атмосферным профилям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2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b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рам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анирующего радиотеплового комплекс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M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1,55 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,5К). Антен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ЭАР. 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отепл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ндировщ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 канала в 5-мм линии кислорода и два канала для зондирования по  двух-частотной метод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,3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8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335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00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40C-AA92-4091-9651-50B8D8775F8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D9B18-8351-493A-A73F-B27E9D137D7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990720"/>
            <a:ext cx="64008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стемы  микроволнового зонд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3276720"/>
            <a:ext cx="2209680" cy="1904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ссер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76720"/>
            <a:ext cx="21337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орам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скан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3276720"/>
            <a:ext cx="2514600" cy="175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рите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зондировщик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A6D-9140-4548-BBE5-E9CF0783B50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7AF93-7444-4BF8-BAC3-FFB08A610E1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3г. – К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ylab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ометр дециметрового диапазона ( длина волны 21 см 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Антенна – ФР (диаметр- 100 см ) . 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отепловой комплекс сантиметрового диапазона с  антенной системой  параболического типа  со значительной  апертурой  ( диаметр 117 см ) и механическим сканирова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 полоса – 180 км 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5г. – ИС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bus-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рам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анирующего радиотеплового комплекс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M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,5К). Антен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ЭА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е поляризации . 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отепло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ндировщ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не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M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 канала в 5-мм линии кислорода и два канала для зондирования по  двух-частотной метод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,3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,8 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 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838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226-2DB9-4608-88E7-33B2C43CC0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67E49-D3F3-41FC-8535-3BA05D3F83D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5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3" marL="1112400" indent="2073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8, 1979гг.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-5 , 6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дировщик – сканер (четыр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нала в 5-мм линии кислор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2400" indent="2073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8г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bus-7 ( 198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 К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sat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0 суток).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частотный (5 частот ) и двух-поляризационный (вертикальная и горизонтальная)  панорамный комплекс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M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Коническое сканирование с фиксированным углом наблюдения ( 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2400" indent="2073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9г. КС Салют-6.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че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кладывающ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й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диотелескоп  КРТ-10  с диаметром антенного зеркала 10 м и на  длинах волн  72 и 12 с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2400" indent="2073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ты (1978-1982гг.) космических радиоантенн с апертурами    100 м – 10000 м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24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24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85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976320" cy="609480"/>
          </a:xfrm>
          <a:prstGeom prst="rightArrow">
            <a:avLst>
              <a:gd name="adj1" fmla="val 50000"/>
              <a:gd name="adj2" fmla="val 400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6AC-23CD-481F-902E-0B37528BCF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5FA2E-CC86-4CC5-8656-9997DC1C849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Современное состояние микроволновой радиометр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09680"/>
            <a:ext cx="16761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209680"/>
            <a:ext cx="16002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209680"/>
            <a:ext cx="144756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209680"/>
            <a:ext cx="17528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OS-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429000"/>
            <a:ext cx="485640" cy="442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962520"/>
            <a:ext cx="1904760" cy="213336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133360"/>
              <a:gd name="textAreaBottom" fmla="*/ 2040480 h 2133360"/>
            </a:gdLst>
            <a:ahLst/>
            <a:rect l="textAreaLeft" t="textAreaTop" r="textAreaRight" b="textAreaBottom"/>
            <a:pathLst>
              <a:path w="21600" h="24192">
                <a:moveTo>
                  <a:pt x="3600" y="0"/>
                </a:moveTo>
                <a:arcTo wR="3600" hR="3600" stAng="16200000" swAng="-5400000"/>
                <a:lnTo>
                  <a:pt x="0" y="20592"/>
                </a:lnTo>
                <a:arcTo wR="3600" hR="3600" stAng="10800000" swAng="-5400000"/>
                <a:lnTo>
                  <a:pt x="18000" y="241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M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дировщ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M/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3526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962520"/>
            <a:ext cx="1600200" cy="1295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33526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962520"/>
            <a:ext cx="1981080" cy="228600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2286000"/>
              <a:gd name="textAreaBottom" fmla="*/ 2189520 h 2286000"/>
            </a:gdLst>
            <a:ahLst/>
            <a:rect l="textAreaLeft" t="textAreaTop" r="textAreaRight" b="textAreaBottom"/>
            <a:pathLst>
              <a:path w="21600" h="24924">
                <a:moveTo>
                  <a:pt x="3600" y="0"/>
                </a:moveTo>
                <a:arcTo wR="3600" hR="3600" stAng="16200000" swAng="-5400000"/>
                <a:lnTo>
                  <a:pt x="0" y="21324"/>
                </a:lnTo>
                <a:arcTo wR="3600" hR="3600" stAng="10800000" swAng="-5400000"/>
                <a:lnTo>
                  <a:pt x="18000" y="24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R-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е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ндировщ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SU-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3526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3962520"/>
            <a:ext cx="1447560" cy="1600200"/>
          </a:xfrm>
          <a:custGeom>
            <a:avLst/>
            <a:gdLst>
              <a:gd name="textAreaLeft" fmla="*/ 70560 w 1447560"/>
              <a:gd name="textAreaRight" fmla="*/ 1377000 w 1447560"/>
              <a:gd name="textAreaTop" fmla="*/ 70560 h 1600200"/>
              <a:gd name="textAreaBottom" fmla="*/ 1529640 h 1600200"/>
            </a:gdLst>
            <a:ahLst/>
            <a:rect l="textAreaLeft" t="textAreaTop" r="textAreaRight" b="textAreaBottom"/>
            <a:pathLst>
              <a:path w="21600" h="23877">
                <a:moveTo>
                  <a:pt x="3600" y="0"/>
                </a:moveTo>
                <a:arcTo wR="3600" hR="3600" stAng="16200000" swAng="-5400000"/>
                <a:lnTo>
                  <a:pt x="0" y="20277"/>
                </a:lnTo>
                <a:arcTo wR="3600" hR="3600" stAng="10800000" swAng="-5400000"/>
                <a:lnTo>
                  <a:pt x="18000" y="238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046-FBA9-4242-88F6-724B35311FC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1C84F-23B9-4C54-AE9F-D66F2142D16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и спутниковых микроволновых сис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523880"/>
          <a:ext cx="8305560" cy="4648320"/>
        </p:xfrm>
        <a:graphic>
          <a:graphicData uri="http://schemas.openxmlformats.org/drawingml/2006/table">
            <a:tbl>
              <a:tblPr/>
              <a:tblGrid>
                <a:gridCol w="1578960"/>
                <a:gridCol w="1235520"/>
                <a:gridCol w="1235880"/>
                <a:gridCol w="1440360"/>
                <a:gridCol w="1442160"/>
                <a:gridCol w="137268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M/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SU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SR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зора,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т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Г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3-8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7-8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9 – 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9 – 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 запуск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у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M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7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EOS-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22C-D864-4A21-81C7-17DCDD0FB89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3FE5D-F667-49F4-B249-FBBC5134F01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7:55:45Z</dcterms:created>
  <dc:creator>E.Sharkov</dc:creator>
  <dc:description/>
  <dc:language>en-US</dc:language>
  <cp:lastModifiedBy>E.Sharkov</cp:lastModifiedBy>
  <dcterms:modified xsi:type="dcterms:W3CDTF">2003-11-09T12:55:25Z</dcterms:modified>
  <cp:revision>47</cp:revision>
  <dc:subject/>
  <dc:title>Пассивное микроволновое зондирование Земли : прошлое, настоящее и планы на будущее</dc:title>
</cp:coreProperties>
</file>