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7B4-6D8C-4CBF-85F2-A824A9CD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25F-AB66-4DF2-B0D6-F769ADC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8B1-F66D-4AE7-9A3C-B9E5836E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434-99D2-4190-A36E-8F970D62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56B-C2FA-4525-ADF0-B475A6C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2D5-474B-4EAA-A9F3-729ACFB2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CC1-4E8C-4FC8-ACE4-DAB8618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0DA-CE20-4C61-88BF-DF776E49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D95-06AD-4B2C-B9B9-78952742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D1D-FF0B-40C2-8B8C-A13F672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6DB-2437-4C73-98DD-9EAD61F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8A2-6EE6-4D8F-A6D5-C730C4A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374F-A8AE-4921-B79F-91CFCF0BF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ортовая аппаратура космических аппаратов мониторинга предвестников землетряс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е измерения атмосферного электрическ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измерений аномального атмосферного поля перед сильными землетрясениями: а – измерения в обсерватории Швидер (Польша) перед землетрясением 30.08.86 [2]; б – измерения на Камчатском полуострове 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юне 1996г. перед землетрясением с магнитудой М=7. Стрелками показаны моменты землетряс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.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full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отклонения электронной плотности от среднего уровня в максиму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оя ионо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3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72464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30640" y="6324480"/>
            <a:ext cx="88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ис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дная таблица предвестник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219320"/>
          <a:ext cx="7772400" cy="509256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естни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до землетрясени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уда землетряс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ические пол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часов до 2-3 дне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&gt;4.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ко частотное излучени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8 часов до 10 дне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&gt;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ормации земной к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 дне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=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ки заряженных час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 час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&gt;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блица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данные о приборах, приведенных класс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3880" y="1600200"/>
          <a:ext cx="6096240" cy="4664160"/>
        </p:xfrm>
        <a:graphic>
          <a:graphicData uri="http://schemas.openxmlformats.org/drawingml/2006/table">
            <a:tbl>
              <a:tblPr/>
              <a:tblGrid>
                <a:gridCol w="1600200"/>
                <a:gridCol w="1447920"/>
                <a:gridCol w="1295280"/>
                <a:gridCol w="17528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приборо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, к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потре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ние, В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нструк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онозонд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3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крупногабаритных антенн (до 50 м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передатч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анте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томет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носная штанга 2-4 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новые низкочастотные комплекс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кторы заряженных части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мет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пектромет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3:56:11Z</dcterms:created>
  <dc:creator>Отдел15</dc:creator>
  <dc:description/>
  <dc:language>en-US</dc:language>
  <cp:lastModifiedBy>Отдел15</cp:lastModifiedBy>
  <dcterms:modified xsi:type="dcterms:W3CDTF">2003-11-04T11:29:44Z</dcterms:modified>
  <cp:revision>9</cp:revision>
  <dc:subject/>
  <dc:title>Бортовая аппаратура космических аппаратов мониторинга предвестников землетрясений</dc:title>
</cp:coreProperties>
</file>