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954-BB42-49E9-AAD0-D5643385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733-65F3-41C6-BDFF-5A8C573E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9B0-8538-4361-8950-2E7C51E7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E7F-81C4-4DF8-9D91-1E52D8A0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B42-3590-43DC-8579-B828EED6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A52-31F1-4965-8ABE-CD60FF2C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F87-6CB1-4222-8B48-A8460E42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26B8-E283-4BAD-9739-A8001570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E05-182F-4962-A620-B8BF97A3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991-56C1-4405-8E9D-F3D53D17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A27-0AAD-4154-ABCC-20B07320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410-7CF0-4888-BE8C-F43CEF8E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9C60-8B6B-4E75-A40E-6B67EF183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1480680"/>
            <a:ext cx="814392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вышение 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т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чности 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к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ординатной 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ивязки 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л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ных 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т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хногенных 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жаров, 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н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блюдаемых 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с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ысокоорбитальных КА, 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с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пользованием реперных 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о</a:t>
            </a:r>
            <a:r>
              <a:rPr b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мет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6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хема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проведения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космического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эксперимента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по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обнаружению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лесных пожаров с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КА 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на стационарной орб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8600" y="4730760"/>
            <a:ext cx="14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35000" y="146160"/>
            <a:ext cx="8783280" cy="5491080"/>
            <a:chOff x="135000" y="146160"/>
            <a:chExt cx="8783280" cy="5491080"/>
          </a:xfrm>
        </p:grpSpPr>
        <p:grpSp>
          <p:nvGrpSpPr>
            <p:cNvPr id="45" name=""/>
            <p:cNvGrpSpPr/>
            <p:nvPr/>
          </p:nvGrpSpPr>
          <p:grpSpPr>
            <a:xfrm>
              <a:off x="176040" y="146160"/>
              <a:ext cx="8742240" cy="5491080"/>
              <a:chOff x="176040" y="146160"/>
              <a:chExt cx="8742240" cy="549108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4977360" y="707400"/>
                <a:ext cx="3940920" cy="1841760"/>
                <a:chOff x="4977360" y="707400"/>
                <a:chExt cx="3940920" cy="184176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4977360" y="707400"/>
                  <a:ext cx="3940920" cy="184176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" name=""/>
                <p:cNvGrpSpPr/>
                <p:nvPr/>
              </p:nvGrpSpPr>
              <p:grpSpPr>
                <a:xfrm>
                  <a:off x="5028480" y="745200"/>
                  <a:ext cx="3888360" cy="1755360"/>
                  <a:chOff x="5028480" y="745200"/>
                  <a:chExt cx="3888360" cy="17553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5038200" y="745200"/>
                    <a:ext cx="3808800" cy="327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Центр космических наблюдений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5028480" y="1118160"/>
                    <a:ext cx="1840320" cy="138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бработка информации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)Тематическая обработка: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) Ведение баз данных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6867000" y="1118160"/>
                    <a:ext cx="2049840" cy="138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10800" bIns="10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Управление информационной системой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) Формирование заявок на проведение съемок;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) Оперативная поддержка работ ИС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) Организация взаимодействия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2" name=""/>
              <p:cNvSpPr/>
              <p:nvPr/>
            </p:nvSpPr>
            <p:spPr>
              <a:xfrm>
                <a:off x="2725560" y="552960"/>
                <a:ext cx="1737720" cy="19598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58440" y="700920"/>
                <a:ext cx="1474920" cy="180180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КП КС «Око»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Прием данных, запись сигнальной информации в сеансе наблюдения лесных пожар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481040" y="3031920"/>
                <a:ext cx="2134080" cy="10544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prstDash val="dash"/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КИ РАН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ПО обработки данных. Поддержка работы ИС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467320" y="3241440"/>
                <a:ext cx="2291040" cy="799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«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Центральная база Авиалесоохраны»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ИС «Авиалесоохраны»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772320" y="2572200"/>
                <a:ext cx="1128960" cy="669240"/>
              </a:xfrm>
              <a:prstGeom prst="upArrow">
                <a:avLst>
                  <a:gd name="adj1" fmla="val 76444"/>
                  <a:gd name="adj2" fmla="val 26972"/>
                </a:avLst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937480" y="4060440"/>
                <a:ext cx="595440" cy="1132200"/>
              </a:xfrm>
              <a:prstGeom prst="downArrow">
                <a:avLst>
                  <a:gd name="adj1" fmla="val 77028"/>
                  <a:gd name="adj2" fmla="val 47536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837480" y="4060440"/>
                <a:ext cx="720720" cy="1149120"/>
              </a:xfrm>
              <a:prstGeom prst="upArrow">
                <a:avLst>
                  <a:gd name="adj1" fmla="val 55065"/>
                  <a:gd name="adj2" fmla="val 26337"/>
                </a:avLst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002080" y="2612160"/>
                <a:ext cx="652680" cy="2996640"/>
              </a:xfrm>
              <a:prstGeom prst="downArrow">
                <a:avLst>
                  <a:gd name="adj1" fmla="val 55296"/>
                  <a:gd name="adj2" fmla="val 33946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786440" y="3421800"/>
                <a:ext cx="352800" cy="477360"/>
              </a:xfrm>
              <a:prstGeom prst="leftArrow">
                <a:avLst>
                  <a:gd name="adj1" fmla="val 72824"/>
                  <a:gd name="adj2" fmla="val 29171"/>
                </a:avLst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103240" y="3506040"/>
                <a:ext cx="80640" cy="30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20640" y="2682720"/>
                <a:ext cx="901080" cy="65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Наземные и спутниковые наблюдения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64080" y="3638520"/>
                <a:ext cx="1793880" cy="514080"/>
              </a:xfrm>
              <a:prstGeom prst="rightArrow">
                <a:avLst>
                  <a:gd name="adj1" fmla="val 50000"/>
                  <a:gd name="adj2" fmla="val 87237"/>
                </a:avLst>
              </a:prstGeom>
              <a:solidFill>
                <a:srgbClr val="ffffff"/>
              </a:solidFill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676320" y="3751560"/>
                <a:ext cx="1420560" cy="3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Данные по ФЦ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658320" y="2556360"/>
                <a:ext cx="1915920" cy="846360"/>
              </a:xfrm>
              <a:custGeom>
                <a:avLst/>
                <a:gdLst>
                  <a:gd name="textAreaLeft" fmla="*/ 826920 w 1915920"/>
                  <a:gd name="textAreaRight" fmla="*/ 1632600 w 1915920"/>
                  <a:gd name="textAreaTop" fmla="*/ 490680 h 846360"/>
                  <a:gd name="textAreaBottom" fmla="*/ 721080 h 84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717"/>
                    </a:moveTo>
                    <a:lnTo>
                      <a:pt x="12520" y="15717"/>
                    </a:lnTo>
                    <a:lnTo>
                      <a:pt x="12520" y="9323"/>
                    </a:lnTo>
                    <a:lnTo>
                      <a:pt x="9323" y="9323"/>
                    </a:lnTo>
                    <a:lnTo>
                      <a:pt x="15462" y="0"/>
                    </a:lnTo>
                    <a:lnTo>
                      <a:pt x="21600" y="9323"/>
                    </a:lnTo>
                    <a:lnTo>
                      <a:pt x="18403" y="9323"/>
                    </a:lnTo>
                    <a:lnTo>
                      <a:pt x="1840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46160" y="3121560"/>
                <a:ext cx="1350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Данные по ФЦ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436080" y="146160"/>
                <a:ext cx="1188000" cy="538920"/>
              </a:xfrm>
              <a:prstGeom prst="downArrowCallout">
                <a:avLst>
                  <a:gd name="adj1" fmla="val 72405"/>
                  <a:gd name="adj2" fmla="val 55110"/>
                  <a:gd name="adj3" fmla="val 16694"/>
                  <a:gd name="adj4" fmla="val 71778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551280" y="204480"/>
                <a:ext cx="93132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Спутниковые наблюдения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103240" y="3836520"/>
                <a:ext cx="452880" cy="1800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126640" y="3839760"/>
                <a:ext cx="382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515920" y="2572200"/>
                <a:ext cx="1129680" cy="669240"/>
              </a:xfrm>
              <a:prstGeom prst="upArrow">
                <a:avLst>
                  <a:gd name="adj1" fmla="val 76444"/>
                  <a:gd name="adj2" fmla="val 26972"/>
                </a:avLst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08520" y="2765160"/>
                <a:ext cx="72756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Карта погоды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30720" y="5222160"/>
                <a:ext cx="3552840" cy="271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Региональные службы охраны лесов от пожаров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2208600" y="934560"/>
                <a:ext cx="2756880" cy="775080"/>
                <a:chOff x="2208600" y="934560"/>
                <a:chExt cx="2756880" cy="775080"/>
              </a:xfrm>
            </p:grpSpPr>
            <p:grpSp>
              <p:nvGrpSpPr>
                <p:cNvPr id="75" name=""/>
                <p:cNvGrpSpPr/>
                <p:nvPr/>
              </p:nvGrpSpPr>
              <p:grpSpPr>
                <a:xfrm>
                  <a:off x="2873880" y="934560"/>
                  <a:ext cx="2091600" cy="775080"/>
                  <a:chOff x="2873880" y="934560"/>
                  <a:chExt cx="2091600" cy="775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2873880" y="939600"/>
                    <a:ext cx="2091600" cy="667800"/>
                  </a:xfrm>
                  <a:prstGeom prst="rightArrowCallout">
                    <a:avLst>
                      <a:gd name="adj1" fmla="val 25002"/>
                      <a:gd name="adj2" fmla="val 25000"/>
                      <a:gd name="adj3" fmla="val 52201"/>
                      <a:gd name="adj4" fmla="val 66667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2873880" y="934560"/>
                    <a:ext cx="1336320" cy="775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ЦНИИ «Комета»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бработка информации о ЛП.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>
                  <a:off x="2208600" y="1111320"/>
                  <a:ext cx="619920" cy="302760"/>
                </a:xfrm>
                <a:prstGeom prst="rightArrow">
                  <a:avLst>
                    <a:gd name="adj1" fmla="val 55000"/>
                    <a:gd name="adj2" fmla="val 79978"/>
                  </a:avLst>
                </a:prstGeom>
                <a:solidFill>
                  <a:srgbClr val="ffff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201400" y="1695600"/>
                <a:ext cx="2740680" cy="756000"/>
                <a:chOff x="2201400" y="1695600"/>
                <a:chExt cx="2740680" cy="756000"/>
              </a:xfrm>
            </p:grpSpPr>
            <p:sp>
              <p:nvSpPr>
                <p:cNvPr id="80" name=""/>
                <p:cNvSpPr/>
                <p:nvPr/>
              </p:nvSpPr>
              <p:spPr>
                <a:xfrm rot="10800000">
                  <a:off x="2201400" y="1695600"/>
                  <a:ext cx="2091240" cy="755640"/>
                </a:xfrm>
                <a:prstGeom prst="rightArrowCallout">
                  <a:avLst>
                    <a:gd name="adj1" fmla="val 25002"/>
                    <a:gd name="adj2" fmla="val 25000"/>
                    <a:gd name="adj3" fmla="val 46125"/>
                    <a:gd name="adj4" fmla="val 66667"/>
                  </a:avLst>
                </a:prstGeom>
                <a:solidFill>
                  <a:srgbClr val="ffffff"/>
                </a:solidFill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874240" y="1752120"/>
                  <a:ext cx="1336320" cy="6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НПО им.Лавочкина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Управление наведением КА на район ЛП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319280" y="1906920"/>
                  <a:ext cx="622800" cy="342720"/>
                </a:xfrm>
                <a:prstGeom prst="leftArrow">
                  <a:avLst>
                    <a:gd name="adj1" fmla="val 50120"/>
                    <a:gd name="adj2" fmla="val 71427"/>
                  </a:avLst>
                </a:prstGeom>
                <a:solidFill>
                  <a:srgbClr val="ffffff"/>
                </a:solidFill>
                <a:ln w="284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2758680" y="552960"/>
                <a:ext cx="172080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Оперативная группа управления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6200000">
                <a:off x="-188280" y="1429920"/>
                <a:ext cx="1194840" cy="465840"/>
              </a:xfrm>
              <a:prstGeom prst="downArrowCallout">
                <a:avLst>
                  <a:gd name="adj1" fmla="val 84246"/>
                  <a:gd name="adj2" fmla="val 64123"/>
                  <a:gd name="adj3" fmla="val 16694"/>
                  <a:gd name="adj4" fmla="val 71778"/>
                </a:avLst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rot="10804200">
              <a:off x="8008920" y="2500200"/>
              <a:ext cx="54612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ординаты ЛП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5400">
              <a:off x="5653080" y="4276440"/>
              <a:ext cx="1389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анные о пожарах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6680880" y="4503960"/>
              <a:ext cx="84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земны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6705000" y="444672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блюдени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-169560" y="1442880"/>
              <a:ext cx="1008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утниковые наблюдени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56383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заимное положение геоцентрической системы координат, связанной системы координат и ц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97240" y="5200560"/>
            <a:ext cx="349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371600" y="304920"/>
            <a:ext cx="6781680" cy="5014800"/>
            <a:chOff x="1371600" y="304920"/>
            <a:chExt cx="6781680" cy="5014800"/>
          </a:xfrm>
        </p:grpSpPr>
        <p:grpSp>
          <p:nvGrpSpPr>
            <p:cNvPr id="93" name=""/>
            <p:cNvGrpSpPr/>
            <p:nvPr/>
          </p:nvGrpSpPr>
          <p:grpSpPr>
            <a:xfrm>
              <a:off x="3228840" y="1601640"/>
              <a:ext cx="2086200" cy="3373560"/>
              <a:chOff x="3228840" y="1601640"/>
              <a:chExt cx="2086200" cy="3373560"/>
            </a:xfrm>
          </p:grpSpPr>
          <p:sp>
            <p:nvSpPr>
              <p:cNvPr id="94" name=""/>
              <p:cNvSpPr/>
              <p:nvPr/>
            </p:nvSpPr>
            <p:spPr>
              <a:xfrm>
                <a:off x="3228840" y="1601640"/>
                <a:ext cx="2086200" cy="3373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228840" y="1601640"/>
                <a:ext cx="1031400" cy="33559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603520" y="1608120"/>
              <a:ext cx="3424320" cy="3375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75240" y="1608120"/>
              <a:ext cx="1230120" cy="3375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334040" y="412560"/>
              <a:ext cx="0" cy="30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819080" y="3417840"/>
              <a:ext cx="2514600" cy="158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34040" y="3417840"/>
              <a:ext cx="358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03520" y="2697120"/>
              <a:ext cx="3425760" cy="1406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603160" y="3417840"/>
              <a:ext cx="1730520" cy="188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34040" y="3417840"/>
              <a:ext cx="50004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34040" y="3417840"/>
              <a:ext cx="87444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990800">
              <a:off x="3976200" y="3119400"/>
              <a:ext cx="668880" cy="71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9884400">
              <a:off x="3829680" y="3537000"/>
              <a:ext cx="256680" cy="31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02" y="1391"/>
                  </a:moveTo>
                  <a:arcTo wR="10800" hR="10800" stAng="-3635944" swAng="37255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02" y="1391"/>
                  </a:moveTo>
                  <a:arcTo wR="10800" hR="10800" stAng="-3635944" swAng="372558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334040" y="2913120"/>
              <a:ext cx="54900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 rot="14443200">
              <a:off x="3547440" y="2870640"/>
              <a:ext cx="1158840" cy="98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36" y="71"/>
                  </a:moveTo>
                  <a:arcTo wR="10800" hR="10800" stAng="-5005865" swAng="35044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36" y="71"/>
                  </a:moveTo>
                  <a:arcTo wR="10800" hR="10800" stAng="-5005865" swAng="3504461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334040" y="3133440"/>
              <a:ext cx="97308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78320" y="3071880"/>
              <a:ext cx="66960" cy="6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56040" y="2886120"/>
              <a:ext cx="669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334040" y="1956960"/>
              <a:ext cx="2763720" cy="144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083360" y="1417320"/>
              <a:ext cx="0" cy="53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81920" y="196524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6597000" y="1965960"/>
              <a:ext cx="4813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896000" y="1951200"/>
              <a:ext cx="2199960" cy="9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305320" y="1957320"/>
              <a:ext cx="181152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694560" y="1951920"/>
              <a:ext cx="399240" cy="25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80000" y="3873600"/>
              <a:ext cx="81756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56360" y="193032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4937040"/>
              <a:ext cx="627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и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(γ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83280" y="4183200"/>
              <a:ext cx="884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Эквато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65720" y="3033720"/>
              <a:ext cx="6508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Ц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05880" y="3406680"/>
              <a:ext cx="3474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86360" y="3257640"/>
              <a:ext cx="3650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27560" y="304920"/>
              <a:ext cx="365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6680" y="3424320"/>
              <a:ext cx="3650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49680" y="3722760"/>
              <a:ext cx="3650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94000" y="3749760"/>
              <a:ext cx="2937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985000" y="212544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70520" y="1913040"/>
              <a:ext cx="3920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089840" y="1687680"/>
              <a:ext cx="13320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12040" y="1868400"/>
              <a:ext cx="3124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07240" y="2089080"/>
              <a:ext cx="328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r>
                <a:rPr b="0" lang="ru-RU" sz="800" spc="-1" strike="noStrike" baseline="-25000">
                  <a:solidFill>
                    <a:srgbClr val="000000"/>
                  </a:solidFill>
                  <a:latin typeface="Times New Roman"/>
                </a:rPr>
                <a:t>цв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45280" y="1544760"/>
              <a:ext cx="39204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87760" y="2887560"/>
              <a:ext cx="3034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6040" y="565740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крупненная блок-схема привязки координат лесных пожаров к  отметкам от реперных образо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57040" y="291960"/>
            <a:ext cx="8552160" cy="5105160"/>
            <a:chOff x="257040" y="291960"/>
            <a:chExt cx="8552160" cy="5105160"/>
          </a:xfrm>
        </p:grpSpPr>
        <p:sp>
          <p:nvSpPr>
            <p:cNvPr id="139" name=""/>
            <p:cNvSpPr/>
            <p:nvPr/>
          </p:nvSpPr>
          <p:spPr>
            <a:xfrm>
              <a:off x="257040" y="1473840"/>
              <a:ext cx="15062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. База данных по лесным пожарам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7040" y="2531520"/>
              <a:ext cx="15062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. Расчёт положения лесного пожара в геоцентрической системе координат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7040" y="3641400"/>
              <a:ext cx="15062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. Расчёт условий наблюдения  нового лесного пожара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7040" y="4726080"/>
              <a:ext cx="15062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4. Модельпрозрачности атмосферы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77080" y="1473840"/>
              <a:ext cx="15062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5. Расчёт положения реперных отметок в геоцентрической системе координат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77080" y="2531520"/>
              <a:ext cx="15062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. Пересчёт из геоцентрической системы в визирную систему координат (ВСК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77080" y="3641400"/>
              <a:ext cx="15062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. Расчёт вектора положения КА космической системы наблюдени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77080" y="4726080"/>
              <a:ext cx="15062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. Расчёт амплитуды сигнала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09440" y="4726080"/>
              <a:ext cx="15062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2. Формирование эталонных координат изображений реперов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09440" y="3641400"/>
              <a:ext cx="15062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1. Формирование текущих координат изображений реперов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09440" y="2531520"/>
              <a:ext cx="15062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. Пересчёт из угловых  координат ВСК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в  приборную систему БАО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45880" y="4726080"/>
              <a:ext cx="15062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4. Алгоритм совмещения текущих и эталонных изображений реперов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02960" y="3095640"/>
              <a:ext cx="15062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6. Алгоритм оценки параметров координат привязк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09440" y="1473840"/>
              <a:ext cx="15062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9. Алгоритм оценки колебаний КА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45880" y="1473840"/>
              <a:ext cx="15062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3. Алгоритм обнаружения отметки от ЛП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97760" y="291960"/>
              <a:ext cx="15062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5. Подтвеждение обнаружения нового ЛП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054440" y="616320"/>
              <a:ext cx="24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54800" y="616320"/>
              <a:ext cx="0" cy="85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998960" y="616320"/>
              <a:ext cx="224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47520" y="616320"/>
              <a:ext cx="0" cy="85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8200" y="1805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1240" y="2147400"/>
              <a:ext cx="0" cy="38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65960" y="2147400"/>
              <a:ext cx="0" cy="38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44360" y="4316760"/>
              <a:ext cx="0" cy="40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4000" y="28411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763640" y="39866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64000" y="5010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15800" y="2147400"/>
              <a:ext cx="0" cy="38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104640" y="3204360"/>
              <a:ext cx="0" cy="44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80080" y="2885400"/>
              <a:ext cx="73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80080" y="3975480"/>
              <a:ext cx="73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80080" y="5076720"/>
              <a:ext cx="2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090320" y="2995200"/>
              <a:ext cx="0" cy="20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90320" y="2995560"/>
              <a:ext cx="52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75880" y="4316760"/>
              <a:ext cx="0" cy="40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18200" y="396468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05640" y="3964680"/>
              <a:ext cx="0" cy="75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06680" y="5022000"/>
              <a:ext cx="44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804720" y="2147400"/>
              <a:ext cx="0" cy="257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04720" y="334764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47320" y="2147400"/>
              <a:ext cx="0" cy="9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300520" y="1112040"/>
              <a:ext cx="0" cy="19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376280" y="1112040"/>
              <a:ext cx="69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76640" y="1112040"/>
              <a:ext cx="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18200" y="2863080"/>
              <a:ext cx="50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627600" y="2147040"/>
              <a:ext cx="0" cy="71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121000" y="4316760"/>
              <a:ext cx="0" cy="40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550044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ерсидский зали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3760" y="298440"/>
          <a:ext cx="8497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298440"/>
                    <a:ext cx="8497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65040" y="368280"/>
          <a:ext cx="8374320" cy="49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368280"/>
                    <a:ext cx="837432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471600" y="560088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еверная Афр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6:09:02Z</dcterms:created>
  <dc:creator>Зубков Игорь Анатольевич</dc:creator>
  <dc:description/>
  <dc:language>en-US</dc:language>
  <cp:lastModifiedBy>Зубков Игорь Анатольевич</cp:lastModifiedBy>
  <dcterms:modified xsi:type="dcterms:W3CDTF">2003-11-11T09:43:50Z</dcterms:modified>
  <cp:revision>3</cp:revision>
  <dc:subject/>
  <dc:title>Титульный лист</dc:title>
</cp:coreProperties>
</file>