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4.wmf" ContentType="image/x-wmf"/>
  <Override PartName="/ppt/media/image3.wmf" ContentType="image/x-wmf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96080" y="6526080"/>
            <a:ext cx="2210400" cy="255600"/>
            <a:chOff x="6796080" y="6526080"/>
            <a:chExt cx="2210400" cy="2556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6796080" y="6526080"/>
              <a:ext cx="32508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155360" y="6530760"/>
              <a:ext cx="185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Verdana"/>
                </a:rPr>
                <a:t>ГКНПЦ им. М.В. Хруничев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3.jpeg"/><Relationship Id="rId7" Type="http://schemas.openxmlformats.org/officeDocument/2006/relationships/image" Target="../media/image5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20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21.png"/><Relationship Id="rId21" Type="http://schemas.openxmlformats.org/officeDocument/2006/relationships/oleObject" Target="../embeddings/oleObject1.bin"/><Relationship Id="rId22" Type="http://schemas.openxmlformats.org/officeDocument/2006/relationships/image" Target="../media/image10.wmf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4649760"/>
            <a:ext cx="8686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сударственный космический научно-производственный центр им. М.В. Хрунич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ефанский М. А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левцов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8600"/>
            <a:ext cx="9144000" cy="29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Gothic"/>
              </a:rPr>
              <a:t>Пробле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Gothic"/>
              </a:rPr>
              <a:t>архивирования и сжатия данных дистанционного зондирования Земли в перспективной  системе «Монитор»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t1" descr=""/>
          <p:cNvPicPr/>
          <p:nvPr/>
        </p:nvPicPr>
        <p:blipFill>
          <a:blip r:embed="rId1"/>
          <a:stretch/>
        </p:blipFill>
        <p:spPr>
          <a:xfrm>
            <a:off x="2417760" y="2152800"/>
            <a:ext cx="1165320" cy="126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87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КОСМИЧЕСКИЙ АППАРАТ «МОНИТОР-Э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7040" y="1162080"/>
            <a:ext cx="1800" cy="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798720" y="914400"/>
          <a:ext cx="5134320" cy="2720880"/>
        </p:xfrm>
        <a:graphic>
          <a:graphicData uri="http://schemas.openxmlformats.org/drawingml/2006/table">
            <a:tbl>
              <a:tblPr/>
              <a:tblGrid>
                <a:gridCol w="3235320"/>
                <a:gridCol w="1899000"/>
              </a:tblGrid>
              <a:tr h="251640">
                <a:tc gridSpan="2"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Характеристики 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 орб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ысота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Наклонение, 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КА, 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 активного функционирования,                                                                    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о вы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Н “Рокот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ориентации, 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 стабилизации, град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щность, 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98720" y="3581280"/>
          <a:ext cx="5345280" cy="3189240"/>
        </p:xfrm>
        <a:graphic>
          <a:graphicData uri="http://schemas.openxmlformats.org/drawingml/2006/table">
            <a:tbl>
              <a:tblPr/>
              <a:tblGrid>
                <a:gridCol w="3305520"/>
                <a:gridCol w="1055520"/>
                <a:gridCol w="984240"/>
              </a:tblGrid>
              <a:tr h="46476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Характеристики</a:t>
                      </a: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целевой аппа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птико-электронный компле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 rowSpan="2">
                  <a:txBody>
                    <a:bodyPr lIns="38160" rIns="3816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ктральные диапазоны, м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нхр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4-0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-0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-0,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анственное разрешение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64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 захвата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са обзора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76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передачи информации, Мбит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19080" bIns="19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6/61,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760">
                <a:tc>
                  <a:txBody>
                    <a:bodyPr lIns="38160" rIns="3816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ременное запоминающие устройство, Гб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50" name=""/>
          <p:cNvGrpSpPr/>
          <p:nvPr/>
        </p:nvGrpSpPr>
        <p:grpSpPr>
          <a:xfrm>
            <a:off x="2703600" y="5186520"/>
            <a:ext cx="601200" cy="694800"/>
            <a:chOff x="2703600" y="5186520"/>
            <a:chExt cx="601200" cy="6948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2703600" y="5186520"/>
              <a:ext cx="371160" cy="5353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2825640" y="5281200"/>
              <a:ext cx="371160" cy="535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2933640" y="5346000"/>
              <a:ext cx="371160" cy="5353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733840" y="4646520"/>
            <a:ext cx="537840" cy="43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2898720" y="4267080"/>
            <a:ext cx="212760" cy="228600"/>
          </a:xfrm>
          <a:prstGeom prst="downArrow">
            <a:avLst>
              <a:gd name="adj1" fmla="val 50000"/>
              <a:gd name="adj2" fmla="val 2686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8720" y="3429000"/>
            <a:ext cx="212760" cy="228600"/>
          </a:xfrm>
          <a:prstGeom prst="downArrow">
            <a:avLst>
              <a:gd name="adj1" fmla="val 50000"/>
              <a:gd name="adj2" fmla="val 2686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rot="19236000">
            <a:off x="2389680" y="2133360"/>
            <a:ext cx="209520" cy="228600"/>
          </a:xfrm>
          <a:prstGeom prst="downArrow">
            <a:avLst>
              <a:gd name="adj1" fmla="val 50000"/>
              <a:gd name="adj2" fmla="val 2727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8760" y="4495680"/>
            <a:ext cx="2251080" cy="1676520"/>
            <a:chOff x="158760" y="4495680"/>
            <a:chExt cx="2251080" cy="1676520"/>
          </a:xfrm>
        </p:grpSpPr>
        <p:pic>
          <p:nvPicPr>
            <p:cNvPr id="59" name="" descr=""/>
            <p:cNvPicPr/>
            <p:nvPr/>
          </p:nvPicPr>
          <p:blipFill>
            <a:blip r:embed="rId7">
              <a:lum bright="24000"/>
            </a:blip>
            <a:stretch/>
          </p:blipFill>
          <p:spPr>
            <a:xfrm>
              <a:off x="158760" y="4495680"/>
              <a:ext cx="22510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852480" y="4886640"/>
              <a:ext cx="1385280" cy="11754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273960" y="4550040"/>
              <a:ext cx="1213200" cy="10288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  <p:sp>
        <p:nvSpPr>
          <p:cNvPr id="62" name=""/>
          <p:cNvSpPr/>
          <p:nvPr/>
        </p:nvSpPr>
        <p:spPr>
          <a:xfrm>
            <a:off x="29160" y="2590920"/>
            <a:ext cx="251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Прием данных ДЗЗ станци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федерального, рег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и местн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733920"/>
            <a:ext cx="25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Многоуровневая цифр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99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548080" y="3656160"/>
            <a:ext cx="909000" cy="546120"/>
            <a:chOff x="2548080" y="3656160"/>
            <a:chExt cx="909000" cy="546120"/>
          </a:xfrm>
        </p:grpSpPr>
        <p:pic>
          <p:nvPicPr>
            <p:cNvPr id="65" name="" descr=""/>
            <p:cNvPicPr/>
            <p:nvPr/>
          </p:nvPicPr>
          <p:blipFill>
            <a:blip r:embed="rId10"/>
            <a:stretch/>
          </p:blipFill>
          <p:spPr>
            <a:xfrm>
              <a:off x="2548080" y="3656160"/>
              <a:ext cx="5270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1"/>
            <a:stretch/>
          </p:blipFill>
          <p:spPr>
            <a:xfrm>
              <a:off x="3016440" y="3724200"/>
              <a:ext cx="44064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снимки1" descr=""/>
            <p:cNvPicPr/>
            <p:nvPr/>
          </p:nvPicPr>
          <p:blipFill>
            <a:blip r:embed="rId12"/>
            <a:stretch/>
          </p:blipFill>
          <p:spPr>
            <a:xfrm>
              <a:off x="3099960" y="3809880"/>
              <a:ext cx="281160" cy="244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8" name=""/>
          <p:cNvGraphicFramePr/>
          <p:nvPr/>
        </p:nvGraphicFramePr>
        <p:xfrm>
          <a:off x="587520" y="1066680"/>
          <a:ext cx="3031920" cy="779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7520" y="1066680"/>
                    <a:ext cx="30319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nt1" descr=""/>
          <p:cNvPicPr/>
          <p:nvPr/>
        </p:nvPicPr>
        <p:blipFill>
          <a:blip r:embed="rId1"/>
          <a:stretch/>
        </p:blipFill>
        <p:spPr>
          <a:xfrm>
            <a:off x="9360" y="1552680"/>
            <a:ext cx="3105360" cy="338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52280"/>
            <a:ext cx="914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АЗЕМНЫЙ КОМПЛЕКС ПРИ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 ОБРАБОТКИ ИНФОРМАЦИИ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КА ДЗЗ (НКПО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1066680"/>
            <a:ext cx="6823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ип антенны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Параболическое зеркал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аметр антенн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     9 м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апазон часто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8000-8400 Мгц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бочая частота прием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Перестраиваема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личество каналов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2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корость передач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каждому каналу    15,36; 61,44; 122,88 Мби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ксимальная скорость передачи             2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2,88 Мбит / с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апазон углов поворота антенной системы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по азимуту                                        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270</a:t>
            </a: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по углу места                                   от -2</a:t>
            </a: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о 92 </a:t>
            </a: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наклон азимутальной оси             7</a:t>
            </a:r>
            <a:r>
              <a:rPr b="0" lang="ru-RU" sz="15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ирина диаграммы направленност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тенн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                         16 угл. мину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эффициент усиления антенн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54,6 дб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9400" y="2666880"/>
            <a:ext cx="6632280" cy="4077000"/>
          </a:xfrm>
          <a:prstGeom prst="rect">
            <a:avLst/>
          </a:prstGeom>
          <a:solidFill>
            <a:srgbClr val="99ccff"/>
          </a:solidFill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24560" y="4438800"/>
            <a:ext cx="1396800" cy="2056680"/>
            <a:chOff x="7324560" y="4438800"/>
            <a:chExt cx="1396800" cy="2056680"/>
          </a:xfrm>
        </p:grpSpPr>
        <p:sp>
          <p:nvSpPr>
            <p:cNvPr id="75" name=""/>
            <p:cNvSpPr/>
            <p:nvPr/>
          </p:nvSpPr>
          <p:spPr>
            <a:xfrm>
              <a:off x="7456320" y="4771800"/>
              <a:ext cx="1265040" cy="172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87560" y="4615560"/>
              <a:ext cx="1263960" cy="172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05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24560" y="4438800"/>
              <a:ext cx="1265040" cy="1723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6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245360" y="46188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едеральные и региональные станции приема космическ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762280"/>
            <a:ext cx="2066760" cy="173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5c60"/>
                </a:solidFill>
                <a:latin typeface="Times New Roman"/>
              </a:rPr>
              <a:t>Комплек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5c60"/>
                </a:solidFill>
                <a:latin typeface="Times New Roman"/>
              </a:rPr>
              <a:t>цифровой</a:t>
            </a: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65c60"/>
                </a:solidFill>
                <a:latin typeface="Times New Roman"/>
              </a:rPr>
              <a:t>обрабо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ROD0001_softBU" descr=""/>
          <p:cNvPicPr/>
          <p:nvPr/>
        </p:nvPicPr>
        <p:blipFill>
          <a:blip r:embed="rId1"/>
          <a:srcRect l="0" t="0" r="13648" b="0"/>
          <a:stretch/>
        </p:blipFill>
        <p:spPr>
          <a:xfrm>
            <a:off x="219240" y="3505320"/>
            <a:ext cx="630000" cy="588960"/>
          </a:xfrm>
          <a:prstGeom prst="rect">
            <a:avLst/>
          </a:prstGeom>
          <a:ln w="0">
            <a:noFill/>
          </a:ln>
        </p:spPr>
      </p:pic>
      <p:pic>
        <p:nvPicPr>
          <p:cNvPr id="81" name="PROD0001_softBU" descr=""/>
          <p:cNvPicPr/>
          <p:nvPr/>
        </p:nvPicPr>
        <p:blipFill>
          <a:blip r:embed="rId2"/>
          <a:srcRect l="0" t="0" r="13648" b="0"/>
          <a:stretch/>
        </p:blipFill>
        <p:spPr>
          <a:xfrm>
            <a:off x="665280" y="3830760"/>
            <a:ext cx="630000" cy="58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43680" y="1441440"/>
            <a:ext cx="1409400" cy="762120"/>
          </a:xfrm>
          <a:prstGeom prst="rect">
            <a:avLst/>
          </a:prstGeom>
          <a:solidFill>
            <a:srgbClr val="cfefd1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ЦЕНТР УПРАВЛЕНИЯ ПОЛЕТ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16560" y="2333520"/>
            <a:ext cx="1575000" cy="1447560"/>
            <a:chOff x="7216560" y="2333520"/>
            <a:chExt cx="1575000" cy="1447560"/>
          </a:xfrm>
        </p:grpSpPr>
        <p:sp>
          <p:nvSpPr>
            <p:cNvPr id="84" name=""/>
            <p:cNvSpPr/>
            <p:nvPr/>
          </p:nvSpPr>
          <p:spPr>
            <a:xfrm>
              <a:off x="7245360" y="2333520"/>
              <a:ext cx="1546200" cy="1447560"/>
            </a:xfrm>
            <a:prstGeom prst="flowChartMultidocument">
              <a:avLst/>
            </a:prstGeom>
            <a:solidFill>
              <a:srgbClr val="fcfdfe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16560" y="2606400"/>
              <a:ext cx="138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Потребител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BD07160_" descr=""/>
            <p:cNvPicPr/>
            <p:nvPr/>
          </p:nvPicPr>
          <p:blipFill>
            <a:blip r:embed="rId3"/>
            <a:stretch/>
          </p:blipFill>
          <p:spPr>
            <a:xfrm>
              <a:off x="7315200" y="2943000"/>
              <a:ext cx="707040" cy="73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2927520" y="4229280"/>
            <a:ext cx="492120" cy="890280"/>
          </a:xfrm>
          <a:prstGeom prst="upDownArrow">
            <a:avLst>
              <a:gd name="adj1" fmla="val 50000"/>
              <a:gd name="adj2" fmla="val 36014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95760" y="4380840"/>
            <a:ext cx="492120" cy="762120"/>
          </a:xfrm>
          <a:prstGeom prst="downArrow">
            <a:avLst>
              <a:gd name="adj1" fmla="val 50000"/>
              <a:gd name="adj2" fmla="val 38716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9040" y="2766960"/>
            <a:ext cx="1812960" cy="13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Комплекс архив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822840" y="2811600"/>
            <a:ext cx="377640" cy="1082520"/>
          </a:xfrm>
          <a:prstGeom prst="rect">
            <a:avLst/>
          </a:prstGeom>
          <a:ln w="0">
            <a:noFill/>
          </a:ln>
        </p:spPr>
      </p:pic>
      <p:pic>
        <p:nvPicPr>
          <p:cNvPr id="91" name="downloaddesk" descr=""/>
          <p:cNvPicPr/>
          <p:nvPr/>
        </p:nvPicPr>
        <p:blipFill>
          <a:blip r:embed="rId5"/>
          <a:stretch/>
        </p:blipFill>
        <p:spPr>
          <a:xfrm>
            <a:off x="2803680" y="2819520"/>
            <a:ext cx="500040" cy="555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971960" y="3454560"/>
            <a:ext cx="16574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5c60"/>
                </a:solidFill>
                <a:latin typeface="Times New Roman"/>
              </a:rPr>
              <a:t>Комплек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5c60"/>
                </a:solidFill>
                <a:latin typeface="Times New Roman"/>
              </a:rPr>
              <a:t>метеообеспеч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45160" y="2766960"/>
            <a:ext cx="1619280" cy="109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Комплекс план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13120" y="5167440"/>
            <a:ext cx="1697040" cy="13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Комплек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маркетин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nt1" descr=""/>
          <p:cNvPicPr/>
          <p:nvPr/>
        </p:nvPicPr>
        <p:blipFill>
          <a:blip r:embed="rId6"/>
          <a:stretch/>
        </p:blipFill>
        <p:spPr>
          <a:xfrm>
            <a:off x="378000" y="457200"/>
            <a:ext cx="1118880" cy="1219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sp>
        <p:nvSpPr>
          <p:cNvPr id="96" name=""/>
          <p:cNvSpPr/>
          <p:nvPr/>
        </p:nvSpPr>
        <p:spPr>
          <a:xfrm>
            <a:off x="369720" y="1638360"/>
            <a:ext cx="1406520" cy="762120"/>
          </a:xfrm>
          <a:prstGeom prst="rect">
            <a:avLst/>
          </a:prstGeom>
          <a:solidFill>
            <a:srgbClr val="cfefd1"/>
          </a:solid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НАЗЕМНЫЙ КОМПЛЕКС ПРИЕМА И ОБРАБОТКИ ИНФОРМА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2351400">
            <a:off x="3960360" y="4470120"/>
            <a:ext cx="1059120" cy="457200"/>
          </a:xfrm>
          <a:prstGeom prst="leftRightArrow">
            <a:avLst>
              <a:gd name="adj1" fmla="val 55880"/>
              <a:gd name="adj2" fmla="val 42448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5000" y="3219480"/>
            <a:ext cx="547560" cy="457200"/>
          </a:xfrm>
          <a:prstGeom prst="leftRightArrow">
            <a:avLst>
              <a:gd name="adj1" fmla="val 50000"/>
              <a:gd name="adj2" fmla="val 31992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351400">
            <a:off x="1898280" y="2133720"/>
            <a:ext cx="976320" cy="457200"/>
          </a:xfrm>
          <a:prstGeom prst="leftRightArrow">
            <a:avLst>
              <a:gd name="adj1" fmla="val 55880"/>
              <a:gd name="adj2" fmla="val 39130"/>
            </a:avLst>
          </a:prstGeom>
          <a:solidFill>
            <a:srgbClr val="b7e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45280" y="2286000"/>
            <a:ext cx="492120" cy="468360"/>
          </a:xfrm>
          <a:prstGeom prst="upDownArrow">
            <a:avLst>
              <a:gd name="adj1" fmla="val 46861"/>
              <a:gd name="adj2" fmla="val 25806"/>
            </a:avLst>
          </a:prstGeom>
          <a:solidFill>
            <a:srgbClr val="b7e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18483000">
            <a:off x="5845680" y="4289400"/>
            <a:ext cx="1616040" cy="422280"/>
          </a:xfrm>
          <a:prstGeom prst="leftRightArrow">
            <a:avLst>
              <a:gd name="adj1" fmla="val 53417"/>
              <a:gd name="adj2" fmla="val 60150"/>
            </a:avLst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0640" y="5486400"/>
            <a:ext cx="774720" cy="457200"/>
          </a:xfrm>
          <a:prstGeom prst="leftRightArrow">
            <a:avLst>
              <a:gd name="adj1" fmla="val 53472"/>
              <a:gd name="adj2" fmla="val 36910"/>
            </a:avLst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92640" y="1419120"/>
            <a:ext cx="771480" cy="457200"/>
          </a:xfrm>
          <a:prstGeom prst="leftRightArrow">
            <a:avLst>
              <a:gd name="adj1" fmla="val 50000"/>
              <a:gd name="adj2" fmla="val 45075"/>
            </a:avLst>
          </a:prstGeom>
          <a:solidFill>
            <a:srgbClr val="b7e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5754600" y="5950080"/>
            <a:ext cx="538200" cy="43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" name=""/>
          <p:cNvSpPr/>
          <p:nvPr/>
        </p:nvSpPr>
        <p:spPr>
          <a:xfrm>
            <a:off x="7667640" y="3762360"/>
            <a:ext cx="490680" cy="628560"/>
          </a:xfrm>
          <a:prstGeom prst="upDownArrow">
            <a:avLst>
              <a:gd name="adj1" fmla="val 46426"/>
              <a:gd name="adj2" fmla="val 30542"/>
            </a:avLst>
          </a:prstGeom>
          <a:solidFill>
            <a:srgbClr val="f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71720" y="1419120"/>
            <a:ext cx="608040" cy="447840"/>
          </a:xfrm>
          <a:prstGeom prst="leftArrow">
            <a:avLst>
              <a:gd name="adj1" fmla="val 50000"/>
              <a:gd name="adj2" fmla="val 33943"/>
            </a:avLst>
          </a:prstGeom>
          <a:solidFill>
            <a:srgbClr val="b7e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Безымянный" descr=""/>
          <p:cNvPicPr/>
          <p:nvPr/>
        </p:nvPicPr>
        <p:blipFill>
          <a:blip r:embed="rId8"/>
          <a:stretch/>
        </p:blipFill>
        <p:spPr>
          <a:xfrm>
            <a:off x="5556240" y="914400"/>
            <a:ext cx="754200" cy="7221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792680" y="3238560"/>
            <a:ext cx="590400" cy="685800"/>
            <a:chOff x="4792680" y="3238560"/>
            <a:chExt cx="590400" cy="685800"/>
          </a:xfrm>
        </p:grpSpPr>
        <p:pic>
          <p:nvPicPr>
            <p:cNvPr id="109" name="INDY" descr=""/>
            <p:cNvPicPr/>
            <p:nvPr/>
          </p:nvPicPr>
          <p:blipFill>
            <a:blip r:embed="rId9"/>
            <a:stretch/>
          </p:blipFill>
          <p:spPr>
            <a:xfrm>
              <a:off x="4792680" y="3238560"/>
              <a:ext cx="5904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975200" y="3395880"/>
              <a:ext cx="205920" cy="174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75440" y="3238560"/>
            <a:ext cx="591840" cy="685800"/>
            <a:chOff x="5275440" y="3238560"/>
            <a:chExt cx="591840" cy="685800"/>
          </a:xfrm>
        </p:grpSpPr>
        <p:pic>
          <p:nvPicPr>
            <p:cNvPr id="112" name="INDY" descr=""/>
            <p:cNvPicPr/>
            <p:nvPr/>
          </p:nvPicPr>
          <p:blipFill>
            <a:blip r:embed="rId10"/>
            <a:stretch/>
          </p:blipFill>
          <p:spPr>
            <a:xfrm>
              <a:off x="5275440" y="3238560"/>
              <a:ext cx="5918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458680" y="3395880"/>
              <a:ext cx="206280" cy="174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757840" y="3238560"/>
            <a:ext cx="593640" cy="685800"/>
            <a:chOff x="5757840" y="3238560"/>
            <a:chExt cx="593640" cy="685800"/>
          </a:xfrm>
        </p:grpSpPr>
        <p:pic>
          <p:nvPicPr>
            <p:cNvPr id="115" name="INDY" descr=""/>
            <p:cNvPicPr/>
            <p:nvPr/>
          </p:nvPicPr>
          <p:blipFill>
            <a:blip r:embed="rId11"/>
            <a:stretch/>
          </p:blipFill>
          <p:spPr>
            <a:xfrm>
              <a:off x="5757840" y="3238560"/>
              <a:ext cx="59364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941440" y="3395880"/>
              <a:ext cx="207000" cy="174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09960" y="5172120"/>
            <a:ext cx="18288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Комплекс анали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5c60"/>
                </a:solidFill>
                <a:latin typeface="Times New Roman"/>
              </a:rPr>
              <a:t>и оценки кач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05120" y="4952880"/>
            <a:ext cx="730080" cy="847800"/>
            <a:chOff x="1905120" y="4952880"/>
            <a:chExt cx="730080" cy="847800"/>
          </a:xfrm>
        </p:grpSpPr>
        <p:pic>
          <p:nvPicPr>
            <p:cNvPr id="119" name="INDY" descr=""/>
            <p:cNvPicPr/>
            <p:nvPr/>
          </p:nvPicPr>
          <p:blipFill>
            <a:blip r:embed="rId12"/>
            <a:stretch/>
          </p:blipFill>
          <p:spPr>
            <a:xfrm>
              <a:off x="1905120" y="4952880"/>
              <a:ext cx="730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130840" y="5147280"/>
              <a:ext cx="254520" cy="2163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downloaddesk" descr=""/>
          <p:cNvPicPr/>
          <p:nvPr/>
        </p:nvPicPr>
        <p:blipFill>
          <a:blip r:embed="rId13"/>
          <a:stretch/>
        </p:blipFill>
        <p:spPr>
          <a:xfrm>
            <a:off x="3235320" y="2819520"/>
            <a:ext cx="500040" cy="555480"/>
          </a:xfrm>
          <a:prstGeom prst="rect">
            <a:avLst/>
          </a:prstGeom>
          <a:ln w="0">
            <a:noFill/>
          </a:ln>
        </p:spPr>
      </p:pic>
      <p:pic>
        <p:nvPicPr>
          <p:cNvPr id="122" name="Безымянный" descr=""/>
          <p:cNvPicPr/>
          <p:nvPr/>
        </p:nvPicPr>
        <p:blipFill>
          <a:blip r:embed="rId14"/>
          <a:stretch/>
        </p:blipFill>
        <p:spPr>
          <a:xfrm>
            <a:off x="8510760" y="4800600"/>
            <a:ext cx="542880" cy="520560"/>
          </a:xfrm>
          <a:prstGeom prst="rect">
            <a:avLst/>
          </a:prstGeom>
          <a:ln w="0">
            <a:noFill/>
          </a:ln>
        </p:spPr>
      </p:pic>
      <p:pic>
        <p:nvPicPr>
          <p:cNvPr id="123" name="Безымянный" descr=""/>
          <p:cNvPicPr/>
          <p:nvPr/>
        </p:nvPicPr>
        <p:blipFill>
          <a:blip r:embed="rId15"/>
          <a:stretch/>
        </p:blipFill>
        <p:spPr>
          <a:xfrm>
            <a:off x="8247240" y="4048200"/>
            <a:ext cx="542880" cy="520560"/>
          </a:xfrm>
          <a:prstGeom prst="rect">
            <a:avLst/>
          </a:prstGeom>
          <a:ln w="0">
            <a:noFill/>
          </a:ln>
        </p:spPr>
      </p:pic>
      <p:pic>
        <p:nvPicPr>
          <p:cNvPr id="124" name="Безымянный" descr=""/>
          <p:cNvPicPr/>
          <p:nvPr/>
        </p:nvPicPr>
        <p:blipFill>
          <a:blip r:embed="rId16"/>
          <a:stretch/>
        </p:blipFill>
        <p:spPr>
          <a:xfrm>
            <a:off x="8431200" y="4419720"/>
            <a:ext cx="542880" cy="520560"/>
          </a:xfrm>
          <a:prstGeom prst="rect">
            <a:avLst/>
          </a:prstGeom>
          <a:ln w="0">
            <a:noFill/>
          </a:ln>
        </p:spPr>
      </p:pic>
      <p:pic>
        <p:nvPicPr>
          <p:cNvPr id="125" name="Монитор-Э" descr=""/>
          <p:cNvPicPr/>
          <p:nvPr/>
        </p:nvPicPr>
        <p:blipFill>
          <a:blip r:embed="rId17"/>
          <a:stretch/>
        </p:blipFill>
        <p:spPr>
          <a:xfrm>
            <a:off x="2133720" y="838080"/>
            <a:ext cx="2165400" cy="852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9400" y="5562720"/>
            <a:ext cx="1969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ЦЕНТР ПЛАНИРОВАНИЯ, АРХИВИРОВАНИЯ И ОБРАБОТ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7840" y="76320"/>
            <a:ext cx="7456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ЦЕНТР ПЛАНИРОВАНИЯ, АРХИВИРОВАНИЯ И ОБРАБОТКИ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73600" y="5715000"/>
            <a:ext cx="592200" cy="685800"/>
            <a:chOff x="4773600" y="5715000"/>
            <a:chExt cx="592200" cy="685800"/>
          </a:xfrm>
        </p:grpSpPr>
        <p:pic>
          <p:nvPicPr>
            <p:cNvPr id="129" name="INDY" descr=""/>
            <p:cNvPicPr/>
            <p:nvPr/>
          </p:nvPicPr>
          <p:blipFill>
            <a:blip r:embed="rId18"/>
            <a:stretch/>
          </p:blipFill>
          <p:spPr>
            <a:xfrm>
              <a:off x="4773600" y="5715000"/>
              <a:ext cx="592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956840" y="5872320"/>
              <a:ext cx="206280" cy="174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138640" y="5829480"/>
            <a:ext cx="592200" cy="685800"/>
            <a:chOff x="5138640" y="5829480"/>
            <a:chExt cx="592200" cy="685800"/>
          </a:xfrm>
        </p:grpSpPr>
        <p:pic>
          <p:nvPicPr>
            <p:cNvPr id="132" name="INDY" descr=""/>
            <p:cNvPicPr/>
            <p:nvPr/>
          </p:nvPicPr>
          <p:blipFill>
            <a:blip r:embed="rId19"/>
            <a:stretch/>
          </p:blipFill>
          <p:spPr>
            <a:xfrm>
              <a:off x="5138640" y="5829480"/>
              <a:ext cx="5922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321880" y="5986800"/>
              <a:ext cx="206280" cy="174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снимки" descr=""/>
          <p:cNvPicPr/>
          <p:nvPr/>
        </p:nvPicPr>
        <p:blipFill>
          <a:blip r:embed="rId20"/>
          <a:stretch/>
        </p:blipFill>
        <p:spPr>
          <a:xfrm>
            <a:off x="3454560" y="5181480"/>
            <a:ext cx="8125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295280" y="3295800"/>
            <a:ext cx="838440" cy="701640"/>
            <a:chOff x="1295280" y="3295800"/>
            <a:chExt cx="838440" cy="701640"/>
          </a:xfrm>
        </p:grpSpPr>
        <p:graphicFrame>
          <p:nvGraphicFramePr>
            <p:cNvPr id="136" name=""/>
            <p:cNvGraphicFramePr/>
            <p:nvPr/>
          </p:nvGraphicFramePr>
          <p:xfrm>
            <a:off x="1295280" y="3295800"/>
            <a:ext cx="838440" cy="701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295280" y="3295800"/>
                      <a:ext cx="838440" cy="70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8" name="снимки1" descr=""/>
            <p:cNvPicPr/>
            <p:nvPr/>
          </p:nvPicPr>
          <p:blipFill>
            <a:blip r:embed="rId23"/>
            <a:stretch/>
          </p:blipFill>
          <p:spPr>
            <a:xfrm>
              <a:off x="1427040" y="3429000"/>
              <a:ext cx="558360" cy="40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ЗАДАЧИ КОМПЛЕКСА  АРХИВИРОВАНИЯ КОСМИЧЕСК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914400"/>
            <a:ext cx="914400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ативное хранение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одготовка к архивированию  информации принятой от НКПО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хивирование информации прошедшую предварительную обработк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в комплексе цифровой обработки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КЦО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мирование единого  каталога информации, хранящейся в архи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доставляет по запросам потребителей внутри КАЦ изобра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метаданные из базы данных и арх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рхивирование и каталогизация продуктов КЦО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бновление информации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We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серве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  несанкционированного доступа и разрушения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1522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ТЕХНОЛОГИИ ИСПОЛЬЗУЕМЫЕ ДЛЯ ХРАНЕНИЯ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3235320"/>
            <a:ext cx="8991720" cy="22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I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ред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блок данных по N дискам  массив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озмож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дновремен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читы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них информац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данные передаются параллельно, это архитектурное решение называется массивом с параллельным доступ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ndant Arrays of Independent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7631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цепция иерархической системы хранения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вокуп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копителей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й систе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ется в единое виртуальное хранилище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кладные программы, всегда имеют доступ к данным, независимо от того, где они находятся: либо в дисковой файловой системе, либо на носителях библиоте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Hierarchical Storag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334120"/>
            <a:ext cx="891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цепция Nea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р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и, извлекаем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запрос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ормационной системы в автоматическом режи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352680" y="2209680"/>
            <a:ext cx="6324840" cy="4367880"/>
            <a:chOff x="3352680" y="2209680"/>
            <a:chExt cx="6324840" cy="4367880"/>
          </a:xfrm>
        </p:grpSpPr>
        <p:grpSp>
          <p:nvGrpSpPr>
            <p:cNvPr id="146" name=""/>
            <p:cNvGrpSpPr/>
            <p:nvPr/>
          </p:nvGrpSpPr>
          <p:grpSpPr>
            <a:xfrm>
              <a:off x="3352680" y="2994120"/>
              <a:ext cx="914400" cy="914400"/>
              <a:chOff x="3352680" y="2994120"/>
              <a:chExt cx="914400" cy="914400"/>
            </a:xfrm>
          </p:grpSpPr>
          <p:pic>
            <p:nvPicPr>
              <p:cNvPr id="147" name="INDY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29941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635640" y="3204000"/>
                <a:ext cx="318600" cy="23328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9" name="downloaddesk" descr=""/>
            <p:cNvPicPr/>
            <p:nvPr/>
          </p:nvPicPr>
          <p:blipFill>
            <a:blip r:embed="rId2"/>
            <a:stretch/>
          </p:blipFill>
          <p:spPr>
            <a:xfrm>
              <a:off x="6019920" y="2209680"/>
              <a:ext cx="114300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untitled" descr=""/>
            <p:cNvPicPr/>
            <p:nvPr/>
          </p:nvPicPr>
          <p:blipFill>
            <a:blip r:embed="rId3"/>
            <a:stretch/>
          </p:blipFill>
          <p:spPr>
            <a:xfrm>
              <a:off x="4267080" y="4137120"/>
              <a:ext cx="2971800" cy="118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3352680" y="4213080"/>
              <a:ext cx="914400" cy="914400"/>
              <a:chOff x="3352680" y="4213080"/>
              <a:chExt cx="914400" cy="914400"/>
            </a:xfrm>
          </p:grpSpPr>
          <p:pic>
            <p:nvPicPr>
              <p:cNvPr id="152" name="INDY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2680" y="421308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635640" y="4422960"/>
                <a:ext cx="318600" cy="23328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352680" y="5508720"/>
              <a:ext cx="914400" cy="914400"/>
              <a:chOff x="3352680" y="5508720"/>
              <a:chExt cx="914400" cy="914400"/>
            </a:xfrm>
          </p:grpSpPr>
          <p:pic>
            <p:nvPicPr>
              <p:cNvPr id="155" name="INDY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2680" y="5508720"/>
                <a:ext cx="9144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3635640" y="5718600"/>
                <a:ext cx="318600" cy="233280"/>
              </a:xfrm>
              <a:prstGeom prst="rect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400" rIns="954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324320" y="3578040"/>
              <a:ext cx="0" cy="246384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62520" y="6041880"/>
              <a:ext cx="361800" cy="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62520" y="4746600"/>
              <a:ext cx="352440" cy="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4320" y="3578040"/>
              <a:ext cx="6480" cy="71136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L180" descr=""/>
            <p:cNvPicPr/>
            <p:nvPr/>
          </p:nvPicPr>
          <p:blipFill>
            <a:blip r:embed="rId6"/>
            <a:stretch/>
          </p:blipFill>
          <p:spPr>
            <a:xfrm>
              <a:off x="7010280" y="2689200"/>
              <a:ext cx="1892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000680" y="3578040"/>
              <a:ext cx="3124080" cy="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96120" y="3274920"/>
              <a:ext cx="4680" cy="309600"/>
            </a:xfrm>
            <a:prstGeom prst="line">
              <a:avLst/>
            </a:prstGeom>
            <a:ln w="19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29200" y="505152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Times New Roman"/>
                </a:rPr>
                <a:t>Серве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52680" y="6270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Times New Roman"/>
                </a:rPr>
                <a:t>Клиен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86600" y="54324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Times New Roman"/>
                </a:rPr>
                <a:t>Ленточная библиоте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0" y="23083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Times New Roman"/>
                </a:rPr>
                <a:t>RA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2860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АППАРАТНЫЕ СРЕДСТВА ХРАНЕНИЯ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8580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GI Orig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ключает 2 микро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тактовой частотой 180 МГц и внешним кэшем емкостью по 1 Мбайт, работающим на частоте микропроцессор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73664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ив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объем 800 Гбайт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я обеспечения высокой пропускной способности дис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дсис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дсоедин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 серве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рез интерфейс Fibr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367080"/>
            <a:ext cx="342900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зированная ленточная библиотека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начальном этапе обеспечивается физическое пространство объемом 3,5 Тбай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15:50:44Z</dcterms:created>
  <dc:creator>semenov</dc:creator>
  <dc:description/>
  <dc:language>en-US</dc:language>
  <cp:lastModifiedBy>semenov</cp:lastModifiedBy>
  <dcterms:modified xsi:type="dcterms:W3CDTF">2003-11-11T20:05:39Z</dcterms:modified>
  <cp:revision>11</cp:revision>
  <dc:subject/>
  <dc:title>Презентация PowerPoint</dc:title>
</cp:coreProperties>
</file>