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DF0-92E3-491B-A7C9-7CECFD7C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43C-7335-4242-ABC9-FCAAFDA2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E3E-22E8-4E58-B674-2DFBFAA0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98F-2435-4079-B95A-3C96B4EA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3F46-9590-4D85-8B55-CB2E42B1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191C-E16E-4CEA-99BD-01A70832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5A4B-641B-4B51-B679-E5324CE0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C141-9455-495F-A725-975DAD80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7FFF-3A86-466C-8B98-C9345885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E470-E9D9-4592-948F-8DAF67CC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87F8-CECF-4B30-8814-885DA4F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EA8-E8FB-41D3-9E7D-005E17E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4A6E-7F47-474B-98D7-23929980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E99A-B956-4F28-AA6A-87718D39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5008-2603-42CC-A10B-F579DAF1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7474-FBB4-466D-BF40-2AAEB714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4C93-943E-4D70-8D34-60D2AFA9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CA0-ED8E-4453-A40C-17FEAD40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C1D-8A3A-4FDB-ADBA-46D3087E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C8A-C266-4613-AFF1-F9DC3153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26E-88D4-40EC-9070-6F526FEA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7EF-1FB9-4D09-BD3A-32D5937D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8B0-5976-4248-AFA6-4CAADC7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D7C-3365-4290-A2BB-0AF88810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0072-1CFF-4748-91A2-DA6DDDBE85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8BFE-5D64-4FB3-BCC9-FE2E79F54F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Новый подход к параметризации полуэмпирических гамильтонианов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с учетом химического окружения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для быстрого моделирования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больших био- и наноструктур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-181440" y="306828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А. Аникин, А.С. Мендкович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Б. Кузьминский, А.М. Андреев, В.Л. Буга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Х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боратория компьютерного обеспечения хим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427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Рис. 8.</a:t>
            </a: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Учет специфики окружения атомов и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индексы химического окружения атомов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68680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ксы окружения атомов - сходно  с ATDL 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Atom-Type Description Language: a universal language for recognize atom types implemented in the VEGA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.Pedretti,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Villa, G. Vistoli, Theor. Chem. Acc.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9 (2003) 229-2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24000" y="4075920"/>
            <a:ext cx="4319640" cy="2017080"/>
            <a:chOff x="2124000" y="4075920"/>
            <a:chExt cx="4319640" cy="2017080"/>
          </a:xfrm>
        </p:grpSpPr>
        <p:sp>
          <p:nvSpPr>
            <p:cNvPr id="187" name=""/>
            <p:cNvSpPr/>
            <p:nvPr/>
          </p:nvSpPr>
          <p:spPr>
            <a:xfrm>
              <a:off x="2700360" y="47242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76720" y="47242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48000" y="4221000"/>
              <a:ext cx="1728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. . .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987640" y="4149720"/>
              <a:ext cx="14436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2987280" y="5444640"/>
              <a:ext cx="144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124000" y="4581360"/>
              <a:ext cx="50328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124000" y="5227560"/>
              <a:ext cx="50328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64000" y="40759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3280" y="5445000"/>
              <a:ext cx="360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651640" y="5084280"/>
              <a:ext cx="792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8100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тимизация параметров : 151 пара атомов , 14 тысячам расчетам 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5 типов димеров из моном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H4 , C2H4 , C2H2 , CH3F , CH3Cl , H2O , NH3 ,  H2S , CH2O , HCOOH , HCONH2 , HCN , H2CNH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взвешенная точность нашего метода 0.31 ккал/моль,  а исходного полуэмпирического метода PM3 - 0.65 ккал/м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ичные энергии межмолекулярных взаимодейств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кал/м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вый набор на переносимость :  14 тысячам расчетов , 189 других типов димеров из мономер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2H6 , CH2=CH-CH=CH2 , CH2F2 , CH2Cl2 , CH2FCl , C2H3Cl , CH3OH , H2C=CHOH, H3C-O-CH3 , CH3CHO , (CH3)2CO , H2S2 , CH3SH ,  (CH3)2S , CH3NH2 , (CH3)2NH , CH3CONH2 , CH3CN , CH4 , C2H4 , C2H2 , CH3F , CH3Cl , H2O , NH3 , H2S , CH2O , HCOOH , HCONH2 , HCN ,  H2CNH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взвешенная точность нашего метода 0.38 ккал/моль,  а  PM3 - 0.71 ккал/м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ярные фрагменты всех мономеров аналогичны фрагментам докинг-компле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404640"/>
            <a:ext cx="748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9999"/>
                </a:solidFill>
                <a:latin typeface="Arial"/>
              </a:rPr>
              <a:t>Рис. 9. Оптимизация межмолекулярных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Рис. 10. Многоуровневая система детализации   </a:t>
            </a:r>
            <a:br>
              <a:rPr sz="2400"/>
            </a:b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              параметров МНК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овые рас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аппроксимация via МНК  без глубокой детализации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овый статистический анализ погреш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повышенных систематических погрешностей для отдельных видов химического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ализация параметризации МНК для этих видов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алее - то же на более высоком уровне детализации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11. Крупномасштабное квантовохимическое   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  моделирование строения гигантских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  нано- и нано-био-структур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нтовые эффекты (квантовые ямы, квантовые контакты, спин-туннельные структуры, квазичастиц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ноструктуры с заданным электронным строением (задачи зонной инженерии и инженерии волновых функций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но(био)сенсоры, квантовые точки (CdSe), нанотрубка - основа интегральной схемы,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ллерены или бакеболы, нанотрубки, углеродные торы, и их сложные комби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9999"/>
                </a:solidFill>
                <a:latin typeface="Arial"/>
              </a:rPr>
              <a:t>Рис. 12. Методы расчета больших молекулярных нано- и нано-био-систем, особенно метод SCC-DFTB :  достоинства и недостатки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 Методы функционала плотно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( DFT , Density Functional Theory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Современные полуэмпирические квантовохимические методы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( АМ1, РМ3, RM1, PM6  и т.д.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Современные методы классической механики типа М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( Force Field, FF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Гибридные методы типа QM/MM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В последние годы : метод SCC-DFTB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( Self-Consistent-Charge Density-Functional-Tight-Binding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355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13. Возможное улучшение метода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  SCC-DFTB для нано- нано-био-структур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48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 мер для улучшения как быстродейств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точности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- выше, чем  SCC-DFTB (приближаясь к эталонному неэмпирическому DF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действие - большее, чем у SCC-DFTB и полуэмпирики (тем более - радикально быстрее DFT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ыстрого и точного моделиров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FT-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гамильтониана + там где над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т индексов химического окружения ат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2924280"/>
            <a:ext cx="6443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0066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en-US" sz="6000" spc="-1" strike="noStrike">
                <a:solidFill>
                  <a:srgbClr val="330066"/>
                </a:solidFill>
                <a:latin typeface="Arial"/>
              </a:rPr>
              <a:t>за внимание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7308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Новый быстрый метод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для массовых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квантовохимических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расчетов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докинг-комплексов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836640"/>
            <a:ext cx="5729040" cy="5637240"/>
            <a:chOff x="0" y="836640"/>
            <a:chExt cx="5729040" cy="5637240"/>
          </a:xfrm>
        </p:grpSpPr>
        <p:sp>
          <p:nvSpPr>
            <p:cNvPr id="153" name=""/>
            <p:cNvSpPr/>
            <p:nvPr/>
          </p:nvSpPr>
          <p:spPr>
            <a:xfrm>
              <a:off x="0" y="836640"/>
              <a:ext cx="5729040" cy="5637240"/>
            </a:xfrm>
            <a:custGeom>
              <a:avLst/>
              <a:gdLst/>
              <a:ahLst/>
              <a:rect l="l" t="t" r="r" b="b"/>
              <a:pathLst>
                <a:path w="3609" h="3551">
                  <a:moveTo>
                    <a:pt x="3164" y="222"/>
                  </a:moveTo>
                  <a:cubicBezTo>
                    <a:pt x="3130" y="210"/>
                    <a:pt x="3103" y="191"/>
                    <a:pt x="3072" y="176"/>
                  </a:cubicBezTo>
                  <a:cubicBezTo>
                    <a:pt x="3031" y="156"/>
                    <a:pt x="2979" y="151"/>
                    <a:pt x="2935" y="139"/>
                  </a:cubicBezTo>
                  <a:cubicBezTo>
                    <a:pt x="2872" y="121"/>
                    <a:pt x="2807" y="99"/>
                    <a:pt x="2743" y="84"/>
                  </a:cubicBezTo>
                  <a:cubicBezTo>
                    <a:pt x="2656" y="64"/>
                    <a:pt x="2566" y="62"/>
                    <a:pt x="2478" y="48"/>
                  </a:cubicBezTo>
                  <a:cubicBezTo>
                    <a:pt x="2374" y="32"/>
                    <a:pt x="2271" y="17"/>
                    <a:pt x="2167" y="2"/>
                  </a:cubicBezTo>
                  <a:cubicBezTo>
                    <a:pt x="1542" y="8"/>
                    <a:pt x="1420" y="0"/>
                    <a:pt x="988" y="30"/>
                  </a:cubicBezTo>
                  <a:cubicBezTo>
                    <a:pt x="913" y="55"/>
                    <a:pt x="952" y="45"/>
                    <a:pt x="869" y="57"/>
                  </a:cubicBezTo>
                  <a:cubicBezTo>
                    <a:pt x="842" y="66"/>
                    <a:pt x="813" y="66"/>
                    <a:pt x="787" y="75"/>
                  </a:cubicBezTo>
                  <a:cubicBezTo>
                    <a:pt x="750" y="88"/>
                    <a:pt x="658" y="189"/>
                    <a:pt x="631" y="222"/>
                  </a:cubicBezTo>
                  <a:cubicBezTo>
                    <a:pt x="603" y="256"/>
                    <a:pt x="571" y="291"/>
                    <a:pt x="540" y="322"/>
                  </a:cubicBezTo>
                  <a:cubicBezTo>
                    <a:pt x="534" y="328"/>
                    <a:pt x="521" y="340"/>
                    <a:pt x="521" y="340"/>
                  </a:cubicBezTo>
                  <a:cubicBezTo>
                    <a:pt x="498" y="411"/>
                    <a:pt x="532" y="326"/>
                    <a:pt x="485" y="386"/>
                  </a:cubicBezTo>
                  <a:cubicBezTo>
                    <a:pt x="479" y="394"/>
                    <a:pt x="481" y="406"/>
                    <a:pt x="476" y="414"/>
                  </a:cubicBezTo>
                  <a:cubicBezTo>
                    <a:pt x="471" y="421"/>
                    <a:pt x="463" y="426"/>
                    <a:pt x="457" y="432"/>
                  </a:cubicBezTo>
                  <a:cubicBezTo>
                    <a:pt x="445" y="467"/>
                    <a:pt x="419" y="482"/>
                    <a:pt x="403" y="514"/>
                  </a:cubicBezTo>
                  <a:cubicBezTo>
                    <a:pt x="368" y="582"/>
                    <a:pt x="335" y="633"/>
                    <a:pt x="311" y="706"/>
                  </a:cubicBezTo>
                  <a:cubicBezTo>
                    <a:pt x="302" y="734"/>
                    <a:pt x="289" y="763"/>
                    <a:pt x="275" y="788"/>
                  </a:cubicBezTo>
                  <a:cubicBezTo>
                    <a:pt x="264" y="807"/>
                    <a:pt x="238" y="843"/>
                    <a:pt x="238" y="843"/>
                  </a:cubicBezTo>
                  <a:cubicBezTo>
                    <a:pt x="224" y="901"/>
                    <a:pt x="213" y="927"/>
                    <a:pt x="192" y="980"/>
                  </a:cubicBezTo>
                  <a:cubicBezTo>
                    <a:pt x="172" y="1029"/>
                    <a:pt x="166" y="1075"/>
                    <a:pt x="137" y="1118"/>
                  </a:cubicBezTo>
                  <a:cubicBezTo>
                    <a:pt x="119" y="1173"/>
                    <a:pt x="140" y="1117"/>
                    <a:pt x="110" y="1172"/>
                  </a:cubicBezTo>
                  <a:cubicBezTo>
                    <a:pt x="97" y="1196"/>
                    <a:pt x="73" y="1246"/>
                    <a:pt x="73" y="1246"/>
                  </a:cubicBezTo>
                  <a:cubicBezTo>
                    <a:pt x="70" y="1258"/>
                    <a:pt x="69" y="1271"/>
                    <a:pt x="64" y="1282"/>
                  </a:cubicBezTo>
                  <a:cubicBezTo>
                    <a:pt x="60" y="1292"/>
                    <a:pt x="50" y="1300"/>
                    <a:pt x="46" y="1310"/>
                  </a:cubicBezTo>
                  <a:cubicBezTo>
                    <a:pt x="39" y="1329"/>
                    <a:pt x="30" y="1407"/>
                    <a:pt x="28" y="1419"/>
                  </a:cubicBezTo>
                  <a:cubicBezTo>
                    <a:pt x="22" y="1450"/>
                    <a:pt x="9" y="1511"/>
                    <a:pt x="9" y="1511"/>
                  </a:cubicBezTo>
                  <a:cubicBezTo>
                    <a:pt x="6" y="1557"/>
                    <a:pt x="0" y="1602"/>
                    <a:pt x="0" y="1648"/>
                  </a:cubicBezTo>
                  <a:cubicBezTo>
                    <a:pt x="0" y="1895"/>
                    <a:pt x="0" y="2141"/>
                    <a:pt x="9" y="2388"/>
                  </a:cubicBezTo>
                  <a:cubicBezTo>
                    <a:pt x="10" y="2415"/>
                    <a:pt x="53" y="2464"/>
                    <a:pt x="64" y="2489"/>
                  </a:cubicBezTo>
                  <a:cubicBezTo>
                    <a:pt x="95" y="2563"/>
                    <a:pt x="39" y="2448"/>
                    <a:pt x="83" y="2571"/>
                  </a:cubicBezTo>
                  <a:cubicBezTo>
                    <a:pt x="129" y="2699"/>
                    <a:pt x="197" y="2806"/>
                    <a:pt x="311" y="2882"/>
                  </a:cubicBezTo>
                  <a:cubicBezTo>
                    <a:pt x="330" y="2912"/>
                    <a:pt x="363" y="2945"/>
                    <a:pt x="393" y="2964"/>
                  </a:cubicBezTo>
                  <a:cubicBezTo>
                    <a:pt x="422" y="2982"/>
                    <a:pt x="485" y="3010"/>
                    <a:pt x="485" y="3010"/>
                  </a:cubicBezTo>
                  <a:cubicBezTo>
                    <a:pt x="537" y="3063"/>
                    <a:pt x="531" y="3039"/>
                    <a:pt x="585" y="3074"/>
                  </a:cubicBezTo>
                  <a:cubicBezTo>
                    <a:pt x="632" y="3105"/>
                    <a:pt x="599" y="3107"/>
                    <a:pt x="668" y="3120"/>
                  </a:cubicBezTo>
                  <a:cubicBezTo>
                    <a:pt x="711" y="3152"/>
                    <a:pt x="749" y="3151"/>
                    <a:pt x="796" y="3175"/>
                  </a:cubicBezTo>
                  <a:cubicBezTo>
                    <a:pt x="836" y="3195"/>
                    <a:pt x="882" y="3222"/>
                    <a:pt x="924" y="3239"/>
                  </a:cubicBezTo>
                  <a:cubicBezTo>
                    <a:pt x="991" y="3266"/>
                    <a:pt x="1110" y="3286"/>
                    <a:pt x="1180" y="3294"/>
                  </a:cubicBezTo>
                  <a:cubicBezTo>
                    <a:pt x="1264" y="3322"/>
                    <a:pt x="1122" y="3277"/>
                    <a:pt x="1335" y="3312"/>
                  </a:cubicBezTo>
                  <a:cubicBezTo>
                    <a:pt x="1349" y="3314"/>
                    <a:pt x="1359" y="3326"/>
                    <a:pt x="1372" y="3330"/>
                  </a:cubicBezTo>
                  <a:cubicBezTo>
                    <a:pt x="1396" y="3338"/>
                    <a:pt x="1420" y="3346"/>
                    <a:pt x="1445" y="3348"/>
                  </a:cubicBezTo>
                  <a:cubicBezTo>
                    <a:pt x="1494" y="3351"/>
                    <a:pt x="1542" y="3355"/>
                    <a:pt x="1591" y="3358"/>
                  </a:cubicBezTo>
                  <a:cubicBezTo>
                    <a:pt x="1688" y="3405"/>
                    <a:pt x="1551" y="3343"/>
                    <a:pt x="1692" y="3385"/>
                  </a:cubicBezTo>
                  <a:cubicBezTo>
                    <a:pt x="1702" y="3388"/>
                    <a:pt x="1709" y="3399"/>
                    <a:pt x="1719" y="3403"/>
                  </a:cubicBezTo>
                  <a:cubicBezTo>
                    <a:pt x="1805" y="3439"/>
                    <a:pt x="1805" y="3431"/>
                    <a:pt x="1902" y="3440"/>
                  </a:cubicBezTo>
                  <a:cubicBezTo>
                    <a:pt x="1987" y="3481"/>
                    <a:pt x="2105" y="3470"/>
                    <a:pt x="2195" y="3476"/>
                  </a:cubicBezTo>
                  <a:cubicBezTo>
                    <a:pt x="2324" y="3484"/>
                    <a:pt x="2308" y="3483"/>
                    <a:pt x="2414" y="3495"/>
                  </a:cubicBezTo>
                  <a:cubicBezTo>
                    <a:pt x="2645" y="3551"/>
                    <a:pt x="3105" y="3506"/>
                    <a:pt x="3219" y="3504"/>
                  </a:cubicBezTo>
                  <a:cubicBezTo>
                    <a:pt x="3262" y="3493"/>
                    <a:pt x="3305" y="3481"/>
                    <a:pt x="3347" y="3467"/>
                  </a:cubicBezTo>
                  <a:cubicBezTo>
                    <a:pt x="3390" y="3438"/>
                    <a:pt x="3357" y="3456"/>
                    <a:pt x="3411" y="3440"/>
                  </a:cubicBezTo>
                  <a:cubicBezTo>
                    <a:pt x="3429" y="3435"/>
                    <a:pt x="3465" y="3422"/>
                    <a:pt x="3465" y="3422"/>
                  </a:cubicBezTo>
                  <a:cubicBezTo>
                    <a:pt x="3479" y="3408"/>
                    <a:pt x="3501" y="3402"/>
                    <a:pt x="3511" y="3385"/>
                  </a:cubicBezTo>
                  <a:cubicBezTo>
                    <a:pt x="3576" y="3280"/>
                    <a:pt x="3495" y="3362"/>
                    <a:pt x="3548" y="3312"/>
                  </a:cubicBezTo>
                  <a:cubicBezTo>
                    <a:pt x="3551" y="3300"/>
                    <a:pt x="3553" y="3287"/>
                    <a:pt x="3557" y="3275"/>
                  </a:cubicBezTo>
                  <a:cubicBezTo>
                    <a:pt x="3562" y="3256"/>
                    <a:pt x="3575" y="3220"/>
                    <a:pt x="3575" y="3220"/>
                  </a:cubicBezTo>
                  <a:cubicBezTo>
                    <a:pt x="3569" y="3083"/>
                    <a:pt x="3581" y="3077"/>
                    <a:pt x="3557" y="2992"/>
                  </a:cubicBezTo>
                  <a:cubicBezTo>
                    <a:pt x="3549" y="2962"/>
                    <a:pt x="3511" y="2910"/>
                    <a:pt x="3511" y="2910"/>
                  </a:cubicBezTo>
                  <a:cubicBezTo>
                    <a:pt x="3496" y="2864"/>
                    <a:pt x="3437" y="2814"/>
                    <a:pt x="3392" y="2800"/>
                  </a:cubicBezTo>
                  <a:cubicBezTo>
                    <a:pt x="3213" y="2681"/>
                    <a:pt x="2879" y="2765"/>
                    <a:pt x="2743" y="2763"/>
                  </a:cubicBezTo>
                  <a:cubicBezTo>
                    <a:pt x="2615" y="2750"/>
                    <a:pt x="2492" y="2720"/>
                    <a:pt x="2368" y="2690"/>
                  </a:cubicBezTo>
                  <a:cubicBezTo>
                    <a:pt x="2359" y="2684"/>
                    <a:pt x="2351" y="2677"/>
                    <a:pt x="2341" y="2672"/>
                  </a:cubicBezTo>
                  <a:cubicBezTo>
                    <a:pt x="2332" y="2668"/>
                    <a:pt x="2322" y="2668"/>
                    <a:pt x="2313" y="2663"/>
                  </a:cubicBezTo>
                  <a:cubicBezTo>
                    <a:pt x="2276" y="2642"/>
                    <a:pt x="2252" y="2612"/>
                    <a:pt x="2213" y="2599"/>
                  </a:cubicBezTo>
                  <a:cubicBezTo>
                    <a:pt x="2161" y="2545"/>
                    <a:pt x="2233" y="2615"/>
                    <a:pt x="2167" y="2571"/>
                  </a:cubicBezTo>
                  <a:cubicBezTo>
                    <a:pt x="2098" y="2526"/>
                    <a:pt x="2179" y="2557"/>
                    <a:pt x="2112" y="2535"/>
                  </a:cubicBezTo>
                  <a:cubicBezTo>
                    <a:pt x="2083" y="2504"/>
                    <a:pt x="2072" y="2476"/>
                    <a:pt x="2030" y="2462"/>
                  </a:cubicBezTo>
                  <a:cubicBezTo>
                    <a:pt x="1997" y="2427"/>
                    <a:pt x="1964" y="2394"/>
                    <a:pt x="1929" y="2361"/>
                  </a:cubicBezTo>
                  <a:cubicBezTo>
                    <a:pt x="1910" y="2302"/>
                    <a:pt x="1896" y="2170"/>
                    <a:pt x="1957" y="2132"/>
                  </a:cubicBezTo>
                  <a:cubicBezTo>
                    <a:pt x="1982" y="2116"/>
                    <a:pt x="2075" y="2114"/>
                    <a:pt x="2076" y="2114"/>
                  </a:cubicBezTo>
                  <a:cubicBezTo>
                    <a:pt x="2155" y="2088"/>
                    <a:pt x="2210" y="2005"/>
                    <a:pt x="2268" y="1950"/>
                  </a:cubicBezTo>
                  <a:cubicBezTo>
                    <a:pt x="2288" y="1888"/>
                    <a:pt x="2287" y="1821"/>
                    <a:pt x="2249" y="1767"/>
                  </a:cubicBezTo>
                  <a:cubicBezTo>
                    <a:pt x="2232" y="1714"/>
                    <a:pt x="2252" y="1762"/>
                    <a:pt x="2213" y="1712"/>
                  </a:cubicBezTo>
                  <a:cubicBezTo>
                    <a:pt x="2180" y="1670"/>
                    <a:pt x="2159" y="1629"/>
                    <a:pt x="2121" y="1593"/>
                  </a:cubicBezTo>
                  <a:cubicBezTo>
                    <a:pt x="2109" y="1558"/>
                    <a:pt x="2092" y="1519"/>
                    <a:pt x="2067" y="1492"/>
                  </a:cubicBezTo>
                  <a:cubicBezTo>
                    <a:pt x="2050" y="1415"/>
                    <a:pt x="2052" y="1445"/>
                    <a:pt x="2067" y="1328"/>
                  </a:cubicBezTo>
                  <a:cubicBezTo>
                    <a:pt x="2068" y="1318"/>
                    <a:pt x="2068" y="1306"/>
                    <a:pt x="2076" y="1300"/>
                  </a:cubicBezTo>
                  <a:cubicBezTo>
                    <a:pt x="2093" y="1286"/>
                    <a:pt x="2119" y="1289"/>
                    <a:pt x="2140" y="1282"/>
                  </a:cubicBezTo>
                  <a:cubicBezTo>
                    <a:pt x="2480" y="1312"/>
                    <a:pt x="2274" y="1301"/>
                    <a:pt x="2761" y="1291"/>
                  </a:cubicBezTo>
                  <a:cubicBezTo>
                    <a:pt x="2801" y="1253"/>
                    <a:pt x="2843" y="1213"/>
                    <a:pt x="2889" y="1182"/>
                  </a:cubicBezTo>
                  <a:cubicBezTo>
                    <a:pt x="2895" y="1164"/>
                    <a:pt x="2902" y="1145"/>
                    <a:pt x="2908" y="1127"/>
                  </a:cubicBezTo>
                  <a:cubicBezTo>
                    <a:pt x="2911" y="1118"/>
                    <a:pt x="2917" y="1099"/>
                    <a:pt x="2917" y="1099"/>
                  </a:cubicBezTo>
                  <a:cubicBezTo>
                    <a:pt x="2930" y="1006"/>
                    <a:pt x="2934" y="1012"/>
                    <a:pt x="2917" y="889"/>
                  </a:cubicBezTo>
                  <a:cubicBezTo>
                    <a:pt x="2907" y="812"/>
                    <a:pt x="2908" y="854"/>
                    <a:pt x="2880" y="816"/>
                  </a:cubicBezTo>
                  <a:cubicBezTo>
                    <a:pt x="2867" y="798"/>
                    <a:pt x="2844" y="761"/>
                    <a:pt x="2844" y="761"/>
                  </a:cubicBezTo>
                  <a:cubicBezTo>
                    <a:pt x="2847" y="737"/>
                    <a:pt x="2845" y="711"/>
                    <a:pt x="2853" y="688"/>
                  </a:cubicBezTo>
                  <a:cubicBezTo>
                    <a:pt x="2867" y="647"/>
                    <a:pt x="2929" y="644"/>
                    <a:pt x="2963" y="633"/>
                  </a:cubicBezTo>
                  <a:cubicBezTo>
                    <a:pt x="3154" y="571"/>
                    <a:pt x="3365" y="627"/>
                    <a:pt x="3566" y="624"/>
                  </a:cubicBezTo>
                  <a:cubicBezTo>
                    <a:pt x="3572" y="615"/>
                    <a:pt x="3579" y="606"/>
                    <a:pt x="3584" y="596"/>
                  </a:cubicBezTo>
                  <a:cubicBezTo>
                    <a:pt x="3592" y="579"/>
                    <a:pt x="3603" y="542"/>
                    <a:pt x="3603" y="542"/>
                  </a:cubicBezTo>
                  <a:cubicBezTo>
                    <a:pt x="3600" y="484"/>
                    <a:pt x="3609" y="424"/>
                    <a:pt x="3593" y="368"/>
                  </a:cubicBezTo>
                  <a:cubicBezTo>
                    <a:pt x="3586" y="343"/>
                    <a:pt x="3557" y="331"/>
                    <a:pt x="3539" y="313"/>
                  </a:cubicBezTo>
                  <a:cubicBezTo>
                    <a:pt x="3435" y="209"/>
                    <a:pt x="3303" y="222"/>
                    <a:pt x="3164" y="222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596200">
              <a:off x="3573000" y="3009600"/>
              <a:ext cx="1220760" cy="815760"/>
            </a:xfrm>
            <a:custGeom>
              <a:avLst/>
              <a:gdLst/>
              <a:ahLst/>
              <a:rect l="l" t="t" r="r" b="b"/>
              <a:pathLst>
                <a:path w="769" h="514">
                  <a:moveTo>
                    <a:pt x="674" y="358"/>
                  </a:moveTo>
                  <a:cubicBezTo>
                    <a:pt x="706" y="342"/>
                    <a:pt x="731" y="329"/>
                    <a:pt x="756" y="303"/>
                  </a:cubicBezTo>
                  <a:cubicBezTo>
                    <a:pt x="759" y="294"/>
                    <a:pt x="769" y="285"/>
                    <a:pt x="765" y="276"/>
                  </a:cubicBezTo>
                  <a:cubicBezTo>
                    <a:pt x="761" y="266"/>
                    <a:pt x="748" y="263"/>
                    <a:pt x="738" y="258"/>
                  </a:cubicBezTo>
                  <a:cubicBezTo>
                    <a:pt x="706" y="242"/>
                    <a:pt x="661" y="232"/>
                    <a:pt x="628" y="221"/>
                  </a:cubicBezTo>
                  <a:cubicBezTo>
                    <a:pt x="610" y="215"/>
                    <a:pt x="573" y="203"/>
                    <a:pt x="573" y="203"/>
                  </a:cubicBezTo>
                  <a:cubicBezTo>
                    <a:pt x="523" y="170"/>
                    <a:pt x="507" y="97"/>
                    <a:pt x="473" y="75"/>
                  </a:cubicBezTo>
                  <a:cubicBezTo>
                    <a:pt x="404" y="31"/>
                    <a:pt x="490" y="85"/>
                    <a:pt x="409" y="38"/>
                  </a:cubicBezTo>
                  <a:cubicBezTo>
                    <a:pt x="399" y="32"/>
                    <a:pt x="392" y="21"/>
                    <a:pt x="381" y="20"/>
                  </a:cubicBezTo>
                  <a:cubicBezTo>
                    <a:pt x="317" y="12"/>
                    <a:pt x="253" y="14"/>
                    <a:pt x="189" y="11"/>
                  </a:cubicBezTo>
                  <a:cubicBezTo>
                    <a:pt x="144" y="0"/>
                    <a:pt x="118" y="4"/>
                    <a:pt x="79" y="29"/>
                  </a:cubicBezTo>
                  <a:cubicBezTo>
                    <a:pt x="61" y="57"/>
                    <a:pt x="52" y="84"/>
                    <a:pt x="34" y="111"/>
                  </a:cubicBezTo>
                  <a:cubicBezTo>
                    <a:pt x="19" y="169"/>
                    <a:pt x="0" y="200"/>
                    <a:pt x="43" y="249"/>
                  </a:cubicBezTo>
                  <a:cubicBezTo>
                    <a:pt x="57" y="265"/>
                    <a:pt x="74" y="279"/>
                    <a:pt x="89" y="294"/>
                  </a:cubicBezTo>
                  <a:cubicBezTo>
                    <a:pt x="149" y="354"/>
                    <a:pt x="83" y="290"/>
                    <a:pt x="143" y="349"/>
                  </a:cubicBezTo>
                  <a:cubicBezTo>
                    <a:pt x="149" y="355"/>
                    <a:pt x="162" y="367"/>
                    <a:pt x="162" y="367"/>
                  </a:cubicBezTo>
                  <a:cubicBezTo>
                    <a:pt x="149" y="433"/>
                    <a:pt x="147" y="408"/>
                    <a:pt x="107" y="450"/>
                  </a:cubicBezTo>
                  <a:cubicBezTo>
                    <a:pt x="86" y="514"/>
                    <a:pt x="71" y="499"/>
                    <a:pt x="116" y="514"/>
                  </a:cubicBezTo>
                  <a:cubicBezTo>
                    <a:pt x="150" y="511"/>
                    <a:pt x="184" y="514"/>
                    <a:pt x="217" y="505"/>
                  </a:cubicBezTo>
                  <a:cubicBezTo>
                    <a:pt x="281" y="488"/>
                    <a:pt x="313" y="433"/>
                    <a:pt x="372" y="413"/>
                  </a:cubicBezTo>
                  <a:cubicBezTo>
                    <a:pt x="415" y="421"/>
                    <a:pt x="438" y="426"/>
                    <a:pt x="473" y="450"/>
                  </a:cubicBezTo>
                  <a:cubicBezTo>
                    <a:pt x="479" y="459"/>
                    <a:pt x="480" y="475"/>
                    <a:pt x="491" y="477"/>
                  </a:cubicBezTo>
                  <a:cubicBezTo>
                    <a:pt x="512" y="482"/>
                    <a:pt x="555" y="468"/>
                    <a:pt x="555" y="468"/>
                  </a:cubicBezTo>
                  <a:lnTo>
                    <a:pt x="674" y="35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8440" y="2361960"/>
              <a:ext cx="1982520" cy="1746360"/>
            </a:xfrm>
            <a:custGeom>
              <a:avLst/>
              <a:gdLst/>
              <a:ahLst/>
              <a:rect l="l" t="t" r="r" b="b"/>
              <a:pathLst>
                <a:path w="1249" h="1100">
                  <a:moveTo>
                    <a:pt x="527" y="1100"/>
                  </a:moveTo>
                  <a:cubicBezTo>
                    <a:pt x="535" y="1094"/>
                    <a:pt x="543" y="1091"/>
                    <a:pt x="551" y="1086"/>
                  </a:cubicBezTo>
                  <a:cubicBezTo>
                    <a:pt x="554" y="1078"/>
                    <a:pt x="556" y="1075"/>
                    <a:pt x="563" y="1070"/>
                  </a:cubicBezTo>
                  <a:cubicBezTo>
                    <a:pt x="570" y="1059"/>
                    <a:pt x="571" y="1056"/>
                    <a:pt x="583" y="1052"/>
                  </a:cubicBezTo>
                  <a:cubicBezTo>
                    <a:pt x="589" y="1043"/>
                    <a:pt x="587" y="1037"/>
                    <a:pt x="591" y="1028"/>
                  </a:cubicBezTo>
                  <a:cubicBezTo>
                    <a:pt x="593" y="1023"/>
                    <a:pt x="606" y="1019"/>
                    <a:pt x="611" y="1016"/>
                  </a:cubicBezTo>
                  <a:cubicBezTo>
                    <a:pt x="616" y="1009"/>
                    <a:pt x="620" y="1005"/>
                    <a:pt x="627" y="1000"/>
                  </a:cubicBezTo>
                  <a:cubicBezTo>
                    <a:pt x="631" y="983"/>
                    <a:pt x="631" y="967"/>
                    <a:pt x="635" y="950"/>
                  </a:cubicBezTo>
                  <a:cubicBezTo>
                    <a:pt x="634" y="916"/>
                    <a:pt x="634" y="882"/>
                    <a:pt x="633" y="848"/>
                  </a:cubicBezTo>
                  <a:cubicBezTo>
                    <a:pt x="633" y="841"/>
                    <a:pt x="625" y="835"/>
                    <a:pt x="623" y="830"/>
                  </a:cubicBezTo>
                  <a:cubicBezTo>
                    <a:pt x="617" y="813"/>
                    <a:pt x="614" y="786"/>
                    <a:pt x="595" y="780"/>
                  </a:cubicBezTo>
                  <a:cubicBezTo>
                    <a:pt x="592" y="771"/>
                    <a:pt x="585" y="763"/>
                    <a:pt x="577" y="758"/>
                  </a:cubicBezTo>
                  <a:cubicBezTo>
                    <a:pt x="574" y="749"/>
                    <a:pt x="570" y="741"/>
                    <a:pt x="563" y="736"/>
                  </a:cubicBezTo>
                  <a:cubicBezTo>
                    <a:pt x="553" y="721"/>
                    <a:pt x="542" y="700"/>
                    <a:pt x="527" y="690"/>
                  </a:cubicBezTo>
                  <a:cubicBezTo>
                    <a:pt x="519" y="679"/>
                    <a:pt x="512" y="672"/>
                    <a:pt x="501" y="664"/>
                  </a:cubicBezTo>
                  <a:cubicBezTo>
                    <a:pt x="495" y="655"/>
                    <a:pt x="490" y="647"/>
                    <a:pt x="483" y="640"/>
                  </a:cubicBezTo>
                  <a:cubicBezTo>
                    <a:pt x="474" y="612"/>
                    <a:pt x="460" y="586"/>
                    <a:pt x="447" y="560"/>
                  </a:cubicBezTo>
                  <a:cubicBezTo>
                    <a:pt x="442" y="550"/>
                    <a:pt x="431" y="546"/>
                    <a:pt x="427" y="536"/>
                  </a:cubicBezTo>
                  <a:cubicBezTo>
                    <a:pt x="418" y="516"/>
                    <a:pt x="417" y="491"/>
                    <a:pt x="415" y="470"/>
                  </a:cubicBezTo>
                  <a:cubicBezTo>
                    <a:pt x="416" y="443"/>
                    <a:pt x="415" y="415"/>
                    <a:pt x="417" y="388"/>
                  </a:cubicBezTo>
                  <a:cubicBezTo>
                    <a:pt x="417" y="386"/>
                    <a:pt x="420" y="384"/>
                    <a:pt x="421" y="382"/>
                  </a:cubicBezTo>
                  <a:cubicBezTo>
                    <a:pt x="424" y="376"/>
                    <a:pt x="421" y="368"/>
                    <a:pt x="425" y="362"/>
                  </a:cubicBezTo>
                  <a:cubicBezTo>
                    <a:pt x="426" y="360"/>
                    <a:pt x="445" y="347"/>
                    <a:pt x="449" y="346"/>
                  </a:cubicBezTo>
                  <a:cubicBezTo>
                    <a:pt x="455" y="344"/>
                    <a:pt x="467" y="340"/>
                    <a:pt x="467" y="340"/>
                  </a:cubicBezTo>
                  <a:cubicBezTo>
                    <a:pt x="482" y="325"/>
                    <a:pt x="507" y="333"/>
                    <a:pt x="527" y="330"/>
                  </a:cubicBezTo>
                  <a:cubicBezTo>
                    <a:pt x="563" y="331"/>
                    <a:pt x="595" y="329"/>
                    <a:pt x="629" y="338"/>
                  </a:cubicBezTo>
                  <a:cubicBezTo>
                    <a:pt x="649" y="352"/>
                    <a:pt x="700" y="345"/>
                    <a:pt x="727" y="346"/>
                  </a:cubicBezTo>
                  <a:cubicBezTo>
                    <a:pt x="791" y="367"/>
                    <a:pt x="735" y="350"/>
                    <a:pt x="903" y="348"/>
                  </a:cubicBezTo>
                  <a:cubicBezTo>
                    <a:pt x="949" y="333"/>
                    <a:pt x="1097" y="338"/>
                    <a:pt x="1123" y="338"/>
                  </a:cubicBezTo>
                  <a:cubicBezTo>
                    <a:pt x="1141" y="332"/>
                    <a:pt x="1132" y="320"/>
                    <a:pt x="1145" y="316"/>
                  </a:cubicBezTo>
                  <a:cubicBezTo>
                    <a:pt x="1153" y="308"/>
                    <a:pt x="1165" y="303"/>
                    <a:pt x="1175" y="296"/>
                  </a:cubicBezTo>
                  <a:cubicBezTo>
                    <a:pt x="1181" y="292"/>
                    <a:pt x="1193" y="284"/>
                    <a:pt x="1193" y="284"/>
                  </a:cubicBezTo>
                  <a:cubicBezTo>
                    <a:pt x="1199" y="275"/>
                    <a:pt x="1212" y="266"/>
                    <a:pt x="1221" y="260"/>
                  </a:cubicBezTo>
                  <a:cubicBezTo>
                    <a:pt x="1222" y="258"/>
                    <a:pt x="1225" y="254"/>
                    <a:pt x="1225" y="254"/>
                  </a:cubicBezTo>
                  <a:lnTo>
                    <a:pt x="1249" y="232"/>
                  </a:lnTo>
                  <a:cubicBezTo>
                    <a:pt x="1238" y="214"/>
                    <a:pt x="1219" y="197"/>
                    <a:pt x="1199" y="192"/>
                  </a:cubicBezTo>
                  <a:cubicBezTo>
                    <a:pt x="1168" y="171"/>
                    <a:pt x="1127" y="173"/>
                    <a:pt x="1091" y="164"/>
                  </a:cubicBezTo>
                  <a:cubicBezTo>
                    <a:pt x="1046" y="134"/>
                    <a:pt x="981" y="129"/>
                    <a:pt x="929" y="122"/>
                  </a:cubicBezTo>
                  <a:cubicBezTo>
                    <a:pt x="867" y="101"/>
                    <a:pt x="804" y="98"/>
                    <a:pt x="739" y="90"/>
                  </a:cubicBezTo>
                  <a:cubicBezTo>
                    <a:pt x="678" y="83"/>
                    <a:pt x="616" y="73"/>
                    <a:pt x="555" y="68"/>
                  </a:cubicBezTo>
                  <a:cubicBezTo>
                    <a:pt x="419" y="69"/>
                    <a:pt x="245" y="0"/>
                    <a:pt x="149" y="96"/>
                  </a:cubicBezTo>
                  <a:cubicBezTo>
                    <a:pt x="143" y="113"/>
                    <a:pt x="132" y="131"/>
                    <a:pt x="119" y="144"/>
                  </a:cubicBezTo>
                  <a:cubicBezTo>
                    <a:pt x="114" y="158"/>
                    <a:pt x="110" y="172"/>
                    <a:pt x="105" y="186"/>
                  </a:cubicBezTo>
                  <a:cubicBezTo>
                    <a:pt x="103" y="193"/>
                    <a:pt x="99" y="206"/>
                    <a:pt x="99" y="206"/>
                  </a:cubicBezTo>
                  <a:cubicBezTo>
                    <a:pt x="97" y="224"/>
                    <a:pt x="92" y="241"/>
                    <a:pt x="87" y="258"/>
                  </a:cubicBezTo>
                  <a:cubicBezTo>
                    <a:pt x="85" y="264"/>
                    <a:pt x="83" y="270"/>
                    <a:pt x="81" y="276"/>
                  </a:cubicBezTo>
                  <a:cubicBezTo>
                    <a:pt x="80" y="280"/>
                    <a:pt x="77" y="288"/>
                    <a:pt x="77" y="288"/>
                  </a:cubicBezTo>
                  <a:cubicBezTo>
                    <a:pt x="71" y="425"/>
                    <a:pt x="0" y="676"/>
                    <a:pt x="87" y="734"/>
                  </a:cubicBezTo>
                  <a:cubicBezTo>
                    <a:pt x="99" y="752"/>
                    <a:pt x="86" y="778"/>
                    <a:pt x="97" y="796"/>
                  </a:cubicBezTo>
                  <a:cubicBezTo>
                    <a:pt x="101" y="803"/>
                    <a:pt x="113" y="814"/>
                    <a:pt x="113" y="814"/>
                  </a:cubicBezTo>
                  <a:cubicBezTo>
                    <a:pt x="120" y="865"/>
                    <a:pt x="123" y="874"/>
                    <a:pt x="161" y="906"/>
                  </a:cubicBezTo>
                  <a:cubicBezTo>
                    <a:pt x="168" y="912"/>
                    <a:pt x="170" y="919"/>
                    <a:pt x="179" y="922"/>
                  </a:cubicBezTo>
                  <a:cubicBezTo>
                    <a:pt x="180" y="924"/>
                    <a:pt x="181" y="926"/>
                    <a:pt x="183" y="928"/>
                  </a:cubicBezTo>
                  <a:cubicBezTo>
                    <a:pt x="185" y="929"/>
                    <a:pt x="188" y="929"/>
                    <a:pt x="189" y="930"/>
                  </a:cubicBezTo>
                  <a:cubicBezTo>
                    <a:pt x="198" y="939"/>
                    <a:pt x="207" y="956"/>
                    <a:pt x="211" y="968"/>
                  </a:cubicBezTo>
                  <a:cubicBezTo>
                    <a:pt x="214" y="991"/>
                    <a:pt x="223" y="1000"/>
                    <a:pt x="245" y="1004"/>
                  </a:cubicBezTo>
                  <a:cubicBezTo>
                    <a:pt x="266" y="1015"/>
                    <a:pt x="286" y="1025"/>
                    <a:pt x="309" y="1030"/>
                  </a:cubicBezTo>
                  <a:cubicBezTo>
                    <a:pt x="318" y="1032"/>
                    <a:pt x="335" y="1042"/>
                    <a:pt x="335" y="1042"/>
                  </a:cubicBezTo>
                  <a:cubicBezTo>
                    <a:pt x="341" y="1050"/>
                    <a:pt x="346" y="1050"/>
                    <a:pt x="353" y="1056"/>
                  </a:cubicBezTo>
                  <a:cubicBezTo>
                    <a:pt x="404" y="1097"/>
                    <a:pt x="364" y="1085"/>
                    <a:pt x="463" y="1088"/>
                  </a:cubicBezTo>
                  <a:cubicBezTo>
                    <a:pt x="487" y="1091"/>
                    <a:pt x="502" y="1098"/>
                    <a:pt x="527" y="11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7028600">
              <a:off x="3015000" y="2591280"/>
              <a:ext cx="1285920" cy="144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ктивная часть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47520" y="322560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иган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 rot="17028600">
              <a:off x="97920" y="2667600"/>
              <a:ext cx="3429000" cy="80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амороженная часть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896000" y="1836720"/>
            <a:ext cx="424800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нтовый уровен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делокализ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яризация (протеин, лиган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жмолекулярный перенос заря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Квантов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уровен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поляризованные кулоновск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заимодейств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льватац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89000"/>
            <a:ext cx="734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1.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Докинг-комплексы протеин-лиг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-26280" y="1197000"/>
            <a:ext cx="9364680" cy="5444640"/>
            <a:chOff x="-26280" y="1197000"/>
            <a:chExt cx="9364680" cy="54446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-26280" y="1197000"/>
              <a:ext cx="9364680" cy="54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260520" y="2477520"/>
              <a:ext cx="3530520" cy="2926800"/>
            </a:xfrm>
            <a:custGeom>
              <a:avLst/>
              <a:gdLst/>
              <a:ahLst/>
              <a:rect l="l" t="t" r="r" b="b"/>
              <a:pathLst>
                <a:path w="1655" h="1392">
                  <a:moveTo>
                    <a:pt x="710" y="1112"/>
                  </a:moveTo>
                  <a:cubicBezTo>
                    <a:pt x="589" y="1142"/>
                    <a:pt x="544" y="1392"/>
                    <a:pt x="438" y="1294"/>
                  </a:cubicBezTo>
                  <a:cubicBezTo>
                    <a:pt x="332" y="1196"/>
                    <a:pt x="0" y="734"/>
                    <a:pt x="75" y="522"/>
                  </a:cubicBezTo>
                  <a:cubicBezTo>
                    <a:pt x="150" y="310"/>
                    <a:pt x="672" y="46"/>
                    <a:pt x="891" y="23"/>
                  </a:cubicBezTo>
                  <a:cubicBezTo>
                    <a:pt x="1110" y="0"/>
                    <a:pt x="1269" y="235"/>
                    <a:pt x="1390" y="386"/>
                  </a:cubicBezTo>
                  <a:cubicBezTo>
                    <a:pt x="1511" y="537"/>
                    <a:pt x="1655" y="810"/>
                    <a:pt x="1617" y="931"/>
                  </a:cubicBezTo>
                  <a:cubicBezTo>
                    <a:pt x="1579" y="1052"/>
                    <a:pt x="1315" y="1082"/>
                    <a:pt x="1164" y="1112"/>
                  </a:cubicBezTo>
                  <a:cubicBezTo>
                    <a:pt x="1013" y="1142"/>
                    <a:pt x="831" y="1082"/>
                    <a:pt x="710" y="1112"/>
                  </a:cubicBez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24360" y="227664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3608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Рис.2. Активная часть докинг-комплекса 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человеческого иммуноглобулина с иммунным 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супрессором IMMUNOPHILIN FKBP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76320"/>
            <a:ext cx="79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9999"/>
                </a:solidFill>
                <a:latin typeface="Arial"/>
              </a:rPr>
              <a:t>Рис. 3. Замороженная и активная части докинг-компле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572240" cy="5392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4120" y="4343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8560" y="4308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76320"/>
            <a:ext cx="765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4. Наложение ренгеноструктурной и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полуэмпирической гео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1566720"/>
          <a:ext cx="7672320" cy="52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66720"/>
                    <a:ext cx="767232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362320" y="5126040"/>
            <a:ext cx="182880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0920" y="1484280"/>
          <a:ext cx="8497800" cy="4915080"/>
        </p:xfrm>
        <a:graphic>
          <a:graphicData uri="http://schemas.openxmlformats.org/drawingml/2006/table">
            <a:tbl>
              <a:tblPr/>
              <a:tblGrid>
                <a:gridCol w="1028520"/>
                <a:gridCol w="2025720"/>
                <a:gridCol w="934920"/>
                <a:gridCol w="1052640"/>
                <a:gridCol w="1731960"/>
                <a:gridCol w="798480"/>
                <a:gridCol w="925560"/>
              </a:tblGrid>
              <a:tr h="501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га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том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расчета, сек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по сравнению с другими метод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ая диагон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G-D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C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1H79NO13 (5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ормеро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-1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-3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H16N2O4S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2H14N2O5Br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1H11N4O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H27N7O20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H29N8O19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H29N8O20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H29N7O20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H29N7O21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3H23N3O9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H24P2S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4H14N5O4Cl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-60120" y="6582600"/>
            <a:ext cx="33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*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AthlonXP 3000+/2,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Г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0"/>
            <a:ext cx="59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Рис. 5. Результаты для комплексов протеинов 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 FKB (1663 атома) и QHC (1852 ато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8360" y="1341360"/>
          <a:ext cx="8304120" cy="4973400"/>
        </p:xfrm>
        <a:graphic>
          <a:graphicData uri="http://schemas.openxmlformats.org/drawingml/2006/table">
            <a:tbl>
              <a:tblPr/>
              <a:tblGrid>
                <a:gridCol w="395280"/>
                <a:gridCol w="6513480"/>
                <a:gridCol w="139536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лиган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решность, ккал/моль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л-2-метил-1-фенил-5-(фенилсульфонамидо)-1H-индол-3-карбоксил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Бром-2H-хромен-2-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Амино-2-оксо-2H-хромен-4-илбензолсульфон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(2,5-Диметил-1H-индол-3-ил)пропан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((2E,4E)-5-(6-Гидрокси-4-оксо-2-тиоксо-1,2,3,4-тетрагидропиримидин-5-ил)пента-2,4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нилиден)-2-тиоксо-дигидропиримидин-4,6(1H,5H)-ди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Гидрокси-6-фенил-6H-пироно[3,2-c]хинолин-2,5-ди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0-Дигидро-9,10[9',10']-бензолоантрацен-2-карбальдегид (триптице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S,6S)-Метил-6-(1H-индол-3-карбонил)циклогекс-3-енкарбоксил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(2-(1-Гидрокси-6-метил-1,6-дигидропиридин-3-ил)этил)-N-метилацет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Этил-N-фенилпиридин-2-карботио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(2-Гидроксиэтил)-9,10-дигидро-9,10(1',2')бензолоантрацен (триптице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Метил-N-(2-(6-метилпиридин-3-ил)этил)анил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Бензилпиридин-2-карботио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)-N-(1-Фенилэтил)пиридин-4-карботио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)-N-(1-Фенилэтил)пиколин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Бензилпиколин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0" y="6400080"/>
            <a:ext cx="860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*) Погрешность – разность величин энергии, полученных при использовании стандартной процедуры диагонализации и вычисленной предлагаемым методом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333360"/>
            <a:ext cx="601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Рис. 6. Точность описания энергии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 докинг-комплекса протеин-лиг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9640" y="638280"/>
          <a:ext cx="6515280" cy="62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38280"/>
                    <a:ext cx="651528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0"/>
            <a:ext cx="705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99"/>
                </a:solidFill>
                <a:latin typeface="Arial"/>
              </a:rPr>
              <a:t>Рис. 7. </a:t>
            </a: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Межмолекулярные гидрофобные взаимодействия</a:t>
            </a:r>
            <a:br>
              <a:rPr sz="1800"/>
            </a:br>
            <a:r>
              <a:rPr b="0" lang="en-US" sz="1800" spc="-1" strike="noStrike">
                <a:solidFill>
                  <a:srgbClr val="669999"/>
                </a:solidFill>
                <a:latin typeface="Arial"/>
              </a:rPr>
              <a:t>H3CH... H3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54:56Z</dcterms:created>
  <dc:creator>kus</dc:creator>
  <dc:description/>
  <dc:language>en-US</dc:language>
  <cp:lastModifiedBy>kus</cp:lastModifiedBy>
  <dcterms:modified xsi:type="dcterms:W3CDTF">2009-06-02T17:48:11Z</dcterms:modified>
  <cp:revision>87</cp:revision>
  <dc:subject/>
  <dc:title>Слайд 1</dc:title>
</cp:coreProperties>
</file>