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57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27.wmf" ContentType="image/x-wmf"/>
  <Override PartName="/ppt/media/image4.wmf" ContentType="image/x-wmf"/>
  <Override PartName="/ppt/media/image34.wmf" ContentType="image/x-wmf"/>
  <Override PartName="/ppt/media/image28.png" ContentType="image/png"/>
  <Override PartName="/ppt/media/image5.png" ContentType="image/png"/>
  <Override PartName="/ppt/media/image10.png" ContentType="image/png"/>
  <Override PartName="/ppt/media/image50.wmf" ContentType="image/x-wmf"/>
  <Override PartName="/ppt/media/image38.wmf" ContentType="image/x-wmf"/>
  <Override PartName="/ppt/media/image55.png" ContentType="image/png"/>
  <Override PartName="/ppt/media/image7.png" ContentType="image/png"/>
  <Override PartName="/ppt/media/image40.wmf" ContentType="image/x-wmf"/>
  <Override PartName="/ppt/media/image39.wmf" ContentType="image/x-wmf"/>
  <Override PartName="/ppt/media/image56.png" ContentType="image/png"/>
  <Override PartName="/ppt/media/image45.png" ContentType="image/png"/>
  <Override PartName="/ppt/media/image46.wmf" ContentType="image/x-wmf"/>
  <Override PartName="/ppt/media/image47.wmf" ContentType="image/x-wmf"/>
  <Override PartName="/ppt/media/image48.wmf" ContentType="image/x-wmf"/>
  <Override PartName="/ppt/media/image30.png" ContentType="image/png"/>
  <Override PartName="/ppt/media/image37.wmf" ContentType="image/x-wmf"/>
  <Override PartName="/ppt/media/image54.png" ContentType="image/png"/>
  <Override PartName="/ppt/media/image49.wmf" ContentType="image/x-wmf"/>
  <Override PartName="/ppt/media/image43.png" ContentType="image/png"/>
  <Override PartName="/ppt/media/image44.png" ContentType="image/png"/>
  <Override PartName="/ppt/media/image35.wmf" ContentType="image/x-wmf"/>
  <Override PartName="/ppt/media/image33.wmf" ContentType="image/x-wmf"/>
  <Override PartName="/ppt/media/image51.wmf" ContentType="image/x-wmf"/>
  <Override PartName="/ppt/media/image11.png" ContentType="image/png"/>
  <Override PartName="/ppt/media/image6.wmf" ContentType="image/x-wmf"/>
  <Override PartName="/ppt/media/image36.wmf" ContentType="image/x-wmf"/>
  <Override PartName="/ppt/media/image42.wmf" ContentType="image/x-wmf"/>
  <Override PartName="/ppt/media/image9.png" ContentType="image/png"/>
  <Override PartName="/ppt/media/image13.png" ContentType="image/png"/>
  <Override PartName="/ppt/media/image53.wmf" ContentType="image/x-wmf"/>
  <Override PartName="/ppt/media/image41.wmf" ContentType="image/x-wmf"/>
  <Override PartName="/ppt/media/image8.png" ContentType="image/png"/>
  <Override PartName="/ppt/media/image52.wmf" ContentType="image/x-wmf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0CD9-A2F0-412A-8878-597243E3D8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-shaped poly(acrylic acid) having various numbers of arms (5, 8, and 21) and a strong cationic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electrolyte, viz., poly(N-ethyl-4-vinylpyridinium brom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8462-D822-4761-AFD8-A0241584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7CE1-7D93-45A3-9EC1-D9DC7AF4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7380-C730-48B3-B791-AFBE5E86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F3F4-DFDA-4BEC-BBF7-47ECB319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E4B9-6DBF-4422-B8AE-318A107A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C4B1-B86E-44BE-8902-9F714430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7AEA-454D-4EF6-A572-1E5F7656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7A65-45CE-4FEC-A76F-881DBFC7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6F38-76F8-4309-9C97-9EA0641B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7A20-F62D-4E2B-980D-B9D965DA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2C6E-B0CC-4729-AB30-768F7FC8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811B-D95F-4D41-980E-C15C1C7D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CC89-B951-43F4-BF41-BF21A40FBA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5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png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image" Target="../media/image5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7777080" cy="1522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280" y="2419200"/>
            <a:ext cx="86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Компьютерное моделирование  комплексов линей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полиэлектролитов с разветвлен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макромолекулами  в раств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0560" y="3573360"/>
            <a:ext cx="426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А.А.Даринский, С.В.Люлин, С.В.Ла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50160" y="4437000"/>
            <a:ext cx="570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Институт Высокомолекулярных Соединений 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Большой пр.31 С.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950080"/>
            <a:ext cx="16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аруса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220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3024360" cy="2652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76720" y="549360"/>
            <a:ext cx="2998800" cy="3068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288120" y="907920"/>
            <a:ext cx="2855880" cy="2881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0" y="3284640"/>
            <a:ext cx="3816360" cy="2787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3995640" y="3284640"/>
            <a:ext cx="5148360" cy="2995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09548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69280" y="3089160"/>
            <a:ext cx="9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h=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77280" y="3016080"/>
            <a:ext cx="9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h=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90360" y="3521160"/>
            <a:ext cx="9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h=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61280" y="6040440"/>
            <a:ext cx="9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h=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22000" y="6040440"/>
            <a:ext cx="9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h=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44000" y="333360"/>
            <a:ext cx="42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Звезда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6X8 +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линейный П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3024000" cy="2610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72000" y="692280"/>
            <a:ext cx="3241800" cy="2820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0" y="3141720"/>
            <a:ext cx="5111640" cy="2477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4068720" y="4149720"/>
            <a:ext cx="5075280" cy="2070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178720" y="294480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h=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66720" y="330516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h=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69280" y="575316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h=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54000" y="604044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h=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17080" y="260280"/>
            <a:ext cx="429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Звезда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9X5 +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линейный П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25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16000" y="765000"/>
          <a:ext cx="6408720" cy="44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765000"/>
                    <a:ext cx="6408720" cy="44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387000" y="5157720"/>
            <a:ext cx="845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пень перезарядк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(Nads-No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к функция избыточной длины цеп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(Nch-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62064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Qch&gt; Q macro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79080" y="6137280"/>
            <a:ext cx="415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No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- число заряженных групп в макроио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71600" y="136224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98240" y="2971800"/>
            <a:ext cx="5604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Заметная перезаря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Один «хвост» при больших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лабая зависимость от топ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емонотонная зависимость от длины П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ет резкого изменения степени перезаря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10560" y="331920"/>
            <a:ext cx="27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Qch&gt; Q macro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040360" y="692280"/>
            <a:ext cx="410364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Qch&lt; Q macro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Интеполимерные комплексы со звездами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414520" y="1670040"/>
            <a:ext cx="4462560" cy="4206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94640" y="6014880"/>
            <a:ext cx="76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имен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Pergusho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.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Bab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Plamp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ezin A., Müller A. //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Langmui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79840" y="107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Qch&lt; Q macro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руктура комплекс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708280" y="1560600"/>
            <a:ext cx="3303720" cy="2589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588000" y="3500280"/>
            <a:ext cx="2184480" cy="21844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24000" y="3645000"/>
            <a:ext cx="2184120" cy="2184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069080" y="587232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"/>
          <p:cNvCxnSpPr>
            <a:stCxn id="162" idx="1"/>
            <a:endCxn id="164" idx="0"/>
          </p:cNvCxnSpPr>
          <p:nvPr/>
        </p:nvCxnSpPr>
        <p:spPr>
          <a:xfrm flipV="1" rot="10800000">
            <a:off x="1415160" y="2855520"/>
            <a:ext cx="1293120" cy="78984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67" name=""/>
          <p:cNvSpPr/>
          <p:nvPr/>
        </p:nvSpPr>
        <p:spPr>
          <a:xfrm>
            <a:off x="2630520" y="2637000"/>
            <a:ext cx="7308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2" idx="3"/>
            <a:endCxn id="163" idx="0"/>
          </p:cNvCxnSpPr>
          <p:nvPr/>
        </p:nvCxnSpPr>
        <p:spPr>
          <a:xfrm>
            <a:off x="6012000" y="2855880"/>
            <a:ext cx="1668960" cy="64512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69" name=""/>
          <p:cNvSpPr/>
          <p:nvPr/>
        </p:nvSpPr>
        <p:spPr>
          <a:xfrm>
            <a:off x="230040" y="5870520"/>
            <a:ext cx="26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 же число слегка поджатых лу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883120" y="5734080"/>
            <a:ext cx="326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ь лучей звезды коллапсирована в ядро, другая -вытяну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1599840"/>
            <a:ext cx="353844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067280" y="1599840"/>
            <a:ext cx="4619520" cy="37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ель цепи с жесткими связ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тенциал взаимодействия –тэта условия (П-л Леннарда-Джон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везда 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уча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(20-10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иц в каждо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пи ПЭ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3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аст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частицы заряж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вные противои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хастическая динами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явный р-тель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грамма разр.П.Г.Халату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26306" t="4468" r="26306" b="4468"/>
          <a:stretch/>
        </p:blipFill>
        <p:spPr>
          <a:xfrm>
            <a:off x="468360" y="1628640"/>
            <a:ext cx="3456000" cy="345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"/>
          <p:cNvGraphicFramePr/>
          <p:nvPr/>
        </p:nvGraphicFramePr>
        <p:xfrm>
          <a:off x="1692360" y="5373720"/>
          <a:ext cx="5400720" cy="103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5373720"/>
                    <a:ext cx="540072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1258920" y="2276640"/>
            <a:ext cx="1872720" cy="3094920"/>
            <a:chOff x="1258920" y="2276640"/>
            <a:chExt cx="1872720" cy="309492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rcRect l="29246" t="18335" r="28984" b="26121"/>
            <a:stretch/>
          </p:blipFill>
          <p:spPr>
            <a:xfrm>
              <a:off x="1258920" y="2739600"/>
              <a:ext cx="1871280" cy="26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258920" y="2276640"/>
              <a:ext cx="187272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Нейтральная звез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859280" y="2349360"/>
            <a:ext cx="3901320" cy="3672720"/>
            <a:chOff x="4859280" y="2349360"/>
            <a:chExt cx="3901320" cy="3672720"/>
          </a:xfrm>
        </p:grpSpPr>
        <p:pic>
          <p:nvPicPr>
            <p:cNvPr id="181" name="" descr=""/>
            <p:cNvPicPr/>
            <p:nvPr/>
          </p:nvPicPr>
          <p:blipFill>
            <a:blip r:embed="rId2"/>
            <a:srcRect l="18822" t="7039" r="29069" b="22781"/>
            <a:stretch/>
          </p:blipFill>
          <p:spPr>
            <a:xfrm>
              <a:off x="4859280" y="2349360"/>
              <a:ext cx="3901320" cy="367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5016960" y="2499840"/>
              <a:ext cx="68400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132000" y="333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Звезда без П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5280" y="981000"/>
            <a:ext cx="34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 луч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38520" y="177336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ряженная звез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 Black"/>
              </a:rPr>
              <a:t>Комплексы при разных степенях нейтрализации</a:t>
            </a:r>
            <a:r>
              <a:rPr b="1" lang="en-US" sz="28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Arial Black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18822" t="7039" r="29069" b="22781"/>
          <a:stretch/>
        </p:blipFill>
        <p:spPr>
          <a:xfrm>
            <a:off x="468360" y="1628640"/>
            <a:ext cx="2462040" cy="23558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rcRect l="22988" t="5461" r="26819" b="21415"/>
          <a:stretch/>
        </p:blipFill>
        <p:spPr>
          <a:xfrm>
            <a:off x="1979640" y="4076640"/>
            <a:ext cx="2363760" cy="2457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rcRect l="31350" t="20306" r="26971" b="12499"/>
          <a:stretch/>
        </p:blipFill>
        <p:spPr>
          <a:xfrm>
            <a:off x="3851280" y="1628640"/>
            <a:ext cx="1954080" cy="22510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rcRect l="35516" t="17192" r="18548" b="27644"/>
          <a:stretch/>
        </p:blipFill>
        <p:spPr>
          <a:xfrm>
            <a:off x="5148360" y="4437000"/>
            <a:ext cx="2170080" cy="18604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rcRect l="22988" t="19581" r="33083" b="22909"/>
          <a:stretch/>
        </p:blipFill>
        <p:spPr>
          <a:xfrm>
            <a:off x="6588000" y="1700280"/>
            <a:ext cx="2090880" cy="1957320"/>
          </a:xfrm>
          <a:prstGeom prst="rect">
            <a:avLst/>
          </a:prstGeom>
          <a:ln w="0">
            <a:noFill/>
          </a:ln>
        </p:spPr>
      </p:pic>
      <p:cxnSp>
        <p:nvCxnSpPr>
          <p:cNvPr id="192" name=""/>
          <p:cNvCxnSpPr>
            <a:stCxn id="187" idx="3"/>
            <a:endCxn id="188" idx="0"/>
          </p:cNvCxnSpPr>
          <p:nvPr/>
        </p:nvCxnSpPr>
        <p:spPr>
          <a:xfrm>
            <a:off x="2930400" y="2806560"/>
            <a:ext cx="232560" cy="127080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3" name=""/>
          <p:cNvCxnSpPr>
            <a:stCxn id="188" idx="3"/>
            <a:endCxn id="189" idx="2"/>
          </p:cNvCxnSpPr>
          <p:nvPr/>
        </p:nvCxnSpPr>
        <p:spPr>
          <a:xfrm flipV="1">
            <a:off x="4343040" y="3879360"/>
            <a:ext cx="486360" cy="142632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4" name=""/>
          <p:cNvCxnSpPr>
            <a:stCxn id="189" idx="3"/>
            <a:endCxn id="190" idx="0"/>
          </p:cNvCxnSpPr>
          <p:nvPr/>
        </p:nvCxnSpPr>
        <p:spPr>
          <a:xfrm>
            <a:off x="5805000" y="2754360"/>
            <a:ext cx="429480" cy="168336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5" name=""/>
          <p:cNvCxnSpPr>
            <a:stCxn id="190" idx="3"/>
            <a:endCxn id="191" idx="2"/>
          </p:cNvCxnSpPr>
          <p:nvPr/>
        </p:nvCxnSpPr>
        <p:spPr>
          <a:xfrm flipV="1">
            <a:off x="7318080" y="3656880"/>
            <a:ext cx="316440" cy="171036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6" name=""/>
          <p:cNvSpPr/>
          <p:nvPr/>
        </p:nvSpPr>
        <p:spPr>
          <a:xfrm>
            <a:off x="540360" y="1700280"/>
            <a:ext cx="684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20360" y="4149720"/>
            <a:ext cx="874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52000" y="1619280"/>
            <a:ext cx="874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44360" y="4508640"/>
            <a:ext cx="874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800120" y="3274920"/>
            <a:ext cx="874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-468360" y="836640"/>
          <a:ext cx="6300720" cy="43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8360" y="836640"/>
                    <a:ext cx="630072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177120" y="5084640"/>
            <a:ext cx="56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лучей по  расстоянию меж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ам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различной степени нейтрализаци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9620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31200" y="3429000"/>
            <a:ext cx="2905560" cy="1465560"/>
          </a:xfrm>
          <a:prstGeom prst="rect">
            <a:avLst/>
          </a:prstGeom>
          <a:solidFill>
            <a:srgbClr val="0099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асть лучей вытяну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асть подж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эффе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спропроционирова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ля поджатых луче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~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81240" y="14436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Qch&lt; Q macro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634920" y="364500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1907640" y="3860280"/>
            <a:ext cx="3816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6300720" y="981000"/>
            <a:ext cx="18734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-261720" y="457200"/>
            <a:ext cx="96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Почему интересны полимеры с ионизированными групп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556560" y="1454040"/>
            <a:ext cx="1063872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Технология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защита среды  -вода наиболее распространенный р-тель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агрохимия, нефтедобыча,косметика, продукты питания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,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Биомедицинские приложения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направленный транспорт лекар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и генов, диагностика, инженерия искусственных органов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Интересная физика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взаимосвязь полимерной </a:t>
            </a:r>
            <a:r>
              <a:rPr b="0" lang="ru-RU" sz="2000" spc="-1" strike="noStrike">
                <a:solidFill>
                  <a:srgbClr val="ff3300"/>
                </a:solidFill>
                <a:latin typeface="Tahoma"/>
              </a:rPr>
              <a:t>связности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с </a:t>
            </a:r>
            <a:r>
              <a:rPr b="0" lang="ru-RU" sz="2000" spc="-1" strike="noStrike">
                <a:solidFill>
                  <a:srgbClr val="ff3300"/>
                </a:solidFill>
                <a:latin typeface="Tahoma"/>
              </a:rPr>
              <a:t>дальнодействующи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ff3300"/>
                </a:solidFill>
                <a:latin typeface="Tahoma"/>
              </a:rPr>
              <a:t>Кулоновскими взаимодействиями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большое число независимо вариабельных факторов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влияние соли,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pH, T,…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электростатика,водородные связи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,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гидрофобные взаимодействия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,…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амоорганизация в </a:t>
            </a:r>
            <a:r>
              <a:rPr b="0" lang="ru-RU" sz="2000" spc="-1" strike="noStrike">
                <a:solidFill>
                  <a:srgbClr val="ff3300"/>
                </a:solidFill>
                <a:latin typeface="Tahoma"/>
              </a:rPr>
              <a:t>иерархические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структуры,</a:t>
            </a:r>
            <a:r>
              <a:rPr b="0" lang="ru-RU" sz="2000" spc="-1" strike="noStrike">
                <a:solidFill>
                  <a:srgbClr val="ff3300"/>
                </a:solidFill>
                <a:latin typeface="Tahoma"/>
              </a:rPr>
              <a:t>чувствительные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        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лабым внешним воздействиям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507520" cy="8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 Black"/>
              </a:rPr>
              <a:t>Комплексы ПЭ со звездами с разными длинами лучей</a:t>
            </a: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Arial Black"/>
              </a:rPr>
              <a:t>N</a:t>
            </a:r>
            <a:r>
              <a:rPr b="1" i="1" lang="en-US" sz="2400" spc="-1" strike="noStrike" baseline="-25000">
                <a:solidFill>
                  <a:srgbClr val="ff3300"/>
                </a:solidFill>
                <a:latin typeface="Arial Black"/>
              </a:rPr>
              <a:t>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15758" t="3797" r="8024" b="3421"/>
          <a:stretch/>
        </p:blipFill>
        <p:spPr>
          <a:xfrm>
            <a:off x="5148360" y="3357720"/>
            <a:ext cx="3671640" cy="31017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rcRect l="20865" t="13340" r="24911" b="4334"/>
          <a:stretch/>
        </p:blipFill>
        <p:spPr>
          <a:xfrm>
            <a:off x="2627280" y="1268280"/>
            <a:ext cx="2432160" cy="2563920"/>
          </a:xfrm>
          <a:prstGeom prst="rect">
            <a:avLst/>
          </a:prstGeom>
          <a:ln w="0">
            <a:noFill/>
          </a:ln>
        </p:spPr>
      </p:pic>
      <p:cxnSp>
        <p:nvCxnSpPr>
          <p:cNvPr id="213" name=""/>
          <p:cNvCxnSpPr>
            <a:stCxn id="214" idx="3"/>
            <a:endCxn id="215" idx="0"/>
          </p:cNvCxnSpPr>
          <p:nvPr/>
        </p:nvCxnSpPr>
        <p:spPr>
          <a:xfrm>
            <a:off x="2058840" y="2127240"/>
            <a:ext cx="178200" cy="1807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215" idx="3"/>
            <a:endCxn id="212" idx="2"/>
          </p:cNvCxnSpPr>
          <p:nvPr/>
        </p:nvCxnSpPr>
        <p:spPr>
          <a:xfrm flipV="1">
            <a:off x="3212640" y="3831480"/>
            <a:ext cx="631080" cy="12279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12" idx="3"/>
            <a:endCxn id="211" idx="0"/>
          </p:cNvCxnSpPr>
          <p:nvPr/>
        </p:nvCxnSpPr>
        <p:spPr>
          <a:xfrm>
            <a:off x="5059080" y="2550600"/>
            <a:ext cx="1926360" cy="8074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8" name=""/>
          <p:cNvGrpSpPr/>
          <p:nvPr/>
        </p:nvGrpSpPr>
        <p:grpSpPr>
          <a:xfrm>
            <a:off x="468360" y="1268280"/>
            <a:ext cx="1590480" cy="2061360"/>
            <a:chOff x="468360" y="1268280"/>
            <a:chExt cx="1590480" cy="2061360"/>
          </a:xfrm>
        </p:grpSpPr>
        <p:pic>
          <p:nvPicPr>
            <p:cNvPr id="219" name="" descr=""/>
            <p:cNvPicPr/>
            <p:nvPr/>
          </p:nvPicPr>
          <p:blipFill>
            <a:blip r:embed="rId3"/>
            <a:srcRect l="25986" t="32981" r="44884" b="22026"/>
            <a:stretch/>
          </p:blipFill>
          <p:spPr>
            <a:xfrm>
              <a:off x="468360" y="1268280"/>
              <a:ext cx="1590480" cy="17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468360" y="2923920"/>
              <a:ext cx="1589040" cy="40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fffff"/>
                  </a:solidFill>
                  <a:latin typeface="Arial"/>
                </a:rPr>
                <a:t>arm</a:t>
              </a: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258920" y="3933720"/>
            <a:ext cx="1954080" cy="2566080"/>
            <a:chOff x="1258920" y="3933720"/>
            <a:chExt cx="1954080" cy="2566080"/>
          </a:xfrm>
        </p:grpSpPr>
        <p:pic>
          <p:nvPicPr>
            <p:cNvPr id="222" name="" descr=""/>
            <p:cNvPicPr/>
            <p:nvPr/>
          </p:nvPicPr>
          <p:blipFill>
            <a:blip r:embed="rId4"/>
            <a:srcRect l="31350" t="20306" r="26971" b="12499"/>
            <a:stretch/>
          </p:blipFill>
          <p:spPr>
            <a:xfrm>
              <a:off x="1258920" y="3933720"/>
              <a:ext cx="1954080" cy="22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258920" y="6094080"/>
              <a:ext cx="1952640" cy="40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fffff"/>
                  </a:solidFill>
                  <a:latin typeface="Arial"/>
                </a:rPr>
                <a:t>arm</a:t>
              </a: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2646000" y="3421080"/>
            <a:ext cx="1087920" cy="40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rm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6021360"/>
            <a:ext cx="1214280" cy="40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rm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67480" y="157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52360" y="479736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=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30520" y="1413000"/>
            <a:ext cx="268020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Доля вытянутых луч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звезды в комплек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не зависит от их дл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2411280" y="2708280"/>
          <a:ext cx="4791240" cy="30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708280"/>
                    <a:ext cx="4791240" cy="30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1042920" y="1916280"/>
          <a:ext cx="1457280" cy="107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1916280"/>
                    <a:ext cx="1457280" cy="10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6732720" y="3500280"/>
          <a:ext cx="1228680" cy="168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32720" y="3500280"/>
                    <a:ext cx="1228680" cy="16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1187280" y="3933720"/>
          <a:ext cx="1229040" cy="1685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7280" y="3933720"/>
                    <a:ext cx="122904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3059280" y="5373720"/>
          <a:ext cx="1819080" cy="1047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59280" y="5373720"/>
                    <a:ext cx="181908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3780000" y="1628640"/>
          <a:ext cx="1819080" cy="104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80000" y="1628640"/>
                    <a:ext cx="1819080" cy="10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330480" y="1052640"/>
            <a:ext cx="84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Гребнеобразный полимер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+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линейная ПЭ цеп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6920" y="208080"/>
            <a:ext cx="257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Qch&lt; Q macro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69800" y="6516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rcRect l="10546" t="0" r="10662" b="0"/>
          <a:stretch/>
        </p:blipFill>
        <p:spPr>
          <a:xfrm>
            <a:off x="900000" y="1700280"/>
            <a:ext cx="5759640" cy="38178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-2244600" y="610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27640" y="5392800"/>
            <a:ext cx="61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ая цепь-100 част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ковых цепей п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омер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иц) в кажд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пи привиты к каждому второму мономе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95200" y="189000"/>
            <a:ext cx="73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Нейтральный гребнеобразный поли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rcRect l="10525" t="0" r="10614" b="0"/>
          <a:stretch/>
        </p:blipFill>
        <p:spPr>
          <a:xfrm>
            <a:off x="1692360" y="2133720"/>
            <a:ext cx="5840280" cy="38512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903680" y="307800"/>
            <a:ext cx="47984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Заряженный гребнеобразный поли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Все боковые цепи заряж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032560" y="1432080"/>
            <a:ext cx="27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= 0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 линейного П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rcRect l="11026" t="0" r="10852" b="0"/>
          <a:stretch/>
        </p:blipFill>
        <p:spPr>
          <a:xfrm>
            <a:off x="1835280" y="1628640"/>
            <a:ext cx="5937120" cy="39672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700360" y="69228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z =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0.2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7093080" y="765000"/>
          <a:ext cx="1439640" cy="58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93080" y="765000"/>
                    <a:ext cx="143964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2466720" y="5897520"/>
            <a:ext cx="480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ирование структуры типа «ожерель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rcRect l="10264" t="0" r="10131" b="0"/>
          <a:stretch/>
        </p:blipFill>
        <p:spPr>
          <a:xfrm>
            <a:off x="1979640" y="1916280"/>
            <a:ext cx="5950080" cy="38890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048200" y="92700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.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031840" y="604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76560" y="6113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rcRect l="10700" t="12662" r="10776" b="12657"/>
          <a:stretch/>
        </p:blipFill>
        <p:spPr>
          <a:xfrm>
            <a:off x="2124000" y="2133720"/>
            <a:ext cx="5943600" cy="40305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327840" y="784080"/>
            <a:ext cx="13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.7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22440" y="4941360"/>
            <a:ext cx="631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лекс при полной нейтрализации заряда зарядом П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глобу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5479920" cy="38052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611160" y="21744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z=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0" y="1341360"/>
          <a:ext cx="6048360" cy="42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6048360" cy="42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325080" y="5661000"/>
            <a:ext cx="595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боковых цепей по расстоянию меж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ами в комплексах с разными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"/>
          <a:srcRect l="11026" t="0" r="10852" b="0"/>
          <a:stretch/>
        </p:blipFill>
        <p:spPr>
          <a:xfrm>
            <a:off x="6443640" y="1989000"/>
            <a:ext cx="2306520" cy="15415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611280" y="404640"/>
            <a:ext cx="75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Эффект диспропорционирования в комплекс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Э с гребнеобразным полиме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253160" y="1100160"/>
            <a:ext cx="610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           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омплек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гребнеобразный полимер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+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линейная ПЭ цеп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537200" y="2131920"/>
            <a:ext cx="738108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ормируется структура типа «ожерелье» при малых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Эффект диспропорцион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84200" y="423720"/>
            <a:ext cx="261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Qch&lt; Qmacro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11026" t="0" r="10852" b="0"/>
          <a:stretch/>
        </p:blipFill>
        <p:spPr>
          <a:xfrm>
            <a:off x="5508720" y="4292640"/>
            <a:ext cx="28083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48360" y="404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Разветвленные заряженные макромолекул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звезды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ендримеры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гребнеобразные поли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5080" y="3213000"/>
            <a:ext cx="56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ая объмная плотность заря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ь образования комплексов с други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ряженными молекула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2720" y="5157720"/>
            <a:ext cx="391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рилож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вязу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Контейнеры для лекарств или Д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Флокулля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156360" y="1197000"/>
            <a:ext cx="2448000" cy="1547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851280" y="1268280"/>
            <a:ext cx="1617480" cy="157968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1547640" y="1268280"/>
            <a:ext cx="1306440" cy="1586160"/>
            <a:chOff x="1547640" y="1268280"/>
            <a:chExt cx="1306440" cy="1586160"/>
          </a:xfrm>
        </p:grpSpPr>
        <p:pic>
          <p:nvPicPr>
            <p:cNvPr id="62" name="" descr=""/>
            <p:cNvPicPr/>
            <p:nvPr/>
          </p:nvPicPr>
          <p:blipFill>
            <a:blip r:embed="rId3"/>
            <a:srcRect l="18822" t="7039" r="29069" b="22781"/>
            <a:stretch/>
          </p:blipFill>
          <p:spPr>
            <a:xfrm>
              <a:off x="1558800" y="1268280"/>
              <a:ext cx="1295280" cy="15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547640" y="1333080"/>
              <a:ext cx="18432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695240" y="2343240"/>
            <a:ext cx="52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Спасибо за внимание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1476360" y="2421000"/>
            <a:ext cx="5486400" cy="3200400"/>
            <a:chOff x="1476360" y="2421000"/>
            <a:chExt cx="5486400" cy="320040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rcRect l="21293" t="17908" r="23975" b="28329"/>
            <a:stretch/>
          </p:blipFill>
          <p:spPr>
            <a:xfrm>
              <a:off x="1476360" y="2494440"/>
              <a:ext cx="1796400" cy="125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"/>
            <a:srcRect l="13987" t="24742" r="6324" b="17234"/>
            <a:stretch/>
          </p:blipFill>
          <p:spPr>
            <a:xfrm>
              <a:off x="4195440" y="2421000"/>
              <a:ext cx="2670840" cy="138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3"/>
            <a:srcRect l="9730" t="24401" r="9396" b="41123"/>
            <a:stretch/>
          </p:blipFill>
          <p:spPr>
            <a:xfrm>
              <a:off x="1476360" y="3953880"/>
              <a:ext cx="5486400" cy="166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5248080" y="3564000"/>
              <a:ext cx="2286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76280" y="3678120"/>
              <a:ext cx="22824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19560" y="5392800"/>
              <a:ext cx="22824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3421800" y="5445000"/>
            <a:ext cx="15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h=110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960" y="260280"/>
            <a:ext cx="74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 Black"/>
              </a:rPr>
              <a:t>Комплекс одной ПЭ цепи с двумя дендримерами</a:t>
            </a:r>
            <a:r>
              <a:rPr b="0" lang="en-US" sz="2000" spc="-1" strike="noStrike">
                <a:solidFill>
                  <a:srgbClr val="ff3300"/>
                </a:solidFill>
                <a:latin typeface="Arial Black"/>
              </a:rPr>
              <a:t> (g=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7080" y="378936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79960" y="3645000"/>
            <a:ext cx="123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h=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98000" y="1000080"/>
            <a:ext cx="350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ряд одного денриме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2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971640" y="1197000"/>
          <a:ext cx="5327640" cy="37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97000"/>
                    <a:ext cx="532764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250920" y="494172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казания теории для зависимости числа адсорбированных мономеров цепи (на один макроион) от ее длины и числа мономеров в «мосте» или «хвосте» для комплексов гибкой цепи ПЭ с двумя или одним макроион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3"/>
          <a:srcRect l="0" t="33335" r="0" b="33335"/>
          <a:stretch/>
        </p:blipFill>
        <p:spPr>
          <a:xfrm>
            <a:off x="539640" y="189000"/>
            <a:ext cx="3745080" cy="9396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7020000" y="2349360"/>
            <a:ext cx="1297080" cy="12099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2987640" y="1125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03640" y="1125360"/>
            <a:ext cx="64764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 flipV="1">
            <a:off x="4211640" y="2060640"/>
            <a:ext cx="288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4284720" y="2924280"/>
            <a:ext cx="27352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643280" y="404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92240" y="326880"/>
            <a:ext cx="39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Одна ПЭ цепь и два макрои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128200" y="857160"/>
            <a:ext cx="22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Qch&gt;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Q macro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619280" y="0"/>
          <a:ext cx="547380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0"/>
                    <a:ext cx="547380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543960" y="4581360"/>
            <a:ext cx="8646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внение числа адсорбированных мономеров цеп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d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на один макроион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числа мономеров в «хвосте»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tai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«мос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редсказаниями те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сферических макрои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adsorbed chain monomer units in complexes form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dendrimer with LPE as well as theoretical predictions for such complex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also sh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293080" y="260280"/>
            <a:ext cx="332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 цепь и два дендрим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моделиров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8240" y="620640"/>
            <a:ext cx="825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Основные эффекты в комплексах разветвл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макроионов с линейными полиэлектроли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113400" y="2565360"/>
            <a:ext cx="1000764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바탕"/>
              </a:rPr>
              <a:t>1.Q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바탕"/>
              </a:rPr>
              <a:t>&gt; Q macroion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</a:rPr>
              <a:t>перезаря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.Q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lt; Q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acro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диспропорционирование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  <a:ea typeface="바탕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Arial Black"/>
              </a:rPr>
              <a:t>   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</a:rPr>
              <a:t>микроструктур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372360" y="1773360"/>
            <a:ext cx="2284200" cy="2305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27117" t="6992" r="22748" b="11220"/>
          <a:stretch/>
        </p:blipFill>
        <p:spPr>
          <a:xfrm>
            <a:off x="7020000" y="4005360"/>
            <a:ext cx="16542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4784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43280" y="907920"/>
            <a:ext cx="636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ряд цепи ПЭ больше, чем полный заряд макрои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3879720"/>
            <a:ext cx="839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 Black"/>
              </a:rPr>
              <a:t>Перезарядка- </a:t>
            </a: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заряд адсорбированной цепи ПЭ больше, чем  необходимо для нейтрализации заряда макрои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39480" y="2583000"/>
            <a:ext cx="27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Qch&gt; Q macro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 flipV="1">
            <a:off x="539640" y="2852280"/>
            <a:ext cx="0" cy="2592360"/>
          </a:xfrm>
          <a:prstGeom prst="line">
            <a:avLst/>
          </a:prstGeom>
          <a:ln w="93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5445000"/>
            <a:ext cx="3600360" cy="0"/>
          </a:xfrm>
          <a:prstGeom prst="line">
            <a:avLst/>
          </a:prstGeom>
          <a:ln w="93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755640" y="3068280"/>
            <a:ext cx="1728720" cy="215892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3139920"/>
            <a:ext cx="0" cy="57636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3716280"/>
            <a:ext cx="1511280" cy="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292720" y="2133720"/>
                <a:ext cx="345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2484360" y="3716280"/>
            <a:ext cx="0" cy="1800360"/>
          </a:xfrm>
          <a:prstGeom prst="line">
            <a:avLst/>
          </a:prstGeom>
          <a:ln w="9360">
            <a:solidFill>
              <a:srgbClr val="66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3068640"/>
            <a:ext cx="1944720" cy="0"/>
          </a:xfrm>
          <a:prstGeom prst="line">
            <a:avLst/>
          </a:prstGeom>
          <a:ln w="9360">
            <a:solidFill>
              <a:srgbClr val="66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124000" y="2276640"/>
                <a:ext cx="21956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sub>
                      <m: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ds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140360" y="5451480"/>
                <a:ext cx="5029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195640" y="5589720"/>
                <a:ext cx="50328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 flipH="1">
            <a:off x="539280" y="3716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50920" y="1870200"/>
                <a:ext cx="15843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50920" y="5516640"/>
                <a:ext cx="1008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 flipH="1">
            <a:off x="539640" y="5227560"/>
            <a:ext cx="216000" cy="28908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79280" y="5302080"/>
                <a:ext cx="2574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0" y="2852640"/>
                <a:ext cx="4888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324000" y="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Комплекс заряженной полимерной цепи с противоположно заряженной сферой. Перезаря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7200" y="1125360"/>
            <a:ext cx="3531960" cy="64260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Цепь образует упорядоченн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структуру на сф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282760" y="288936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6300720" y="3284640"/>
            <a:ext cx="28728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88880" y="419256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00cc"/>
                </a:solidFill>
                <a:latin typeface="Arial"/>
              </a:rPr>
              <a:t>Phase tran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2626920" y="3500280"/>
            <a:ext cx="647640" cy="720720"/>
          </a:xfrm>
          <a:prstGeom prst="line">
            <a:avLst/>
          </a:prstGeom>
          <a:ln w="93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7380360" y="1806480"/>
                <a:ext cx="8636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380360" y="2467080"/>
                <a:ext cx="10792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356000" y="981000"/>
            <a:ext cx="2425680" cy="2262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580000" y="4005360"/>
            <a:ext cx="2374920" cy="2108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341080" y="6165720"/>
            <a:ext cx="58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cc"/>
                </a:solidFill>
                <a:latin typeface="Arial"/>
              </a:rPr>
              <a:t>Теория-</a:t>
            </a:r>
            <a:r>
              <a:rPr b="0" lang="en-US" sz="1800" spc="-1" strike="noStrike">
                <a:solidFill>
                  <a:srgbClr val="3366cc"/>
                </a:solidFill>
                <a:latin typeface="Arial"/>
              </a:rPr>
              <a:t>Nguyen, T. T.; Shklovskii, B. I. </a:t>
            </a:r>
            <a:r>
              <a:rPr b="0" i="1" lang="en-US" sz="1800" spc="-1" strike="noStrike">
                <a:solidFill>
                  <a:srgbClr val="3366cc"/>
                </a:solidFill>
                <a:latin typeface="Arial"/>
              </a:rPr>
              <a:t>Physica A </a:t>
            </a: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2001</a:t>
            </a:r>
            <a:r>
              <a:rPr b="0" lang="en-US" sz="1800" spc="-1" strike="noStrike">
                <a:solidFill>
                  <a:srgbClr val="3366cc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63840" y="136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9640" y="1095480"/>
            <a:ext cx="8353440" cy="50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                     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«Крупно-зернистая» мод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мономеры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ennard –Jones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частицы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тталкивающий потенциал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вязи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ест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межчастичные взаимодейств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бъемные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электроста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неявный растворитель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язкая среда и источник случайных с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e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од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тохастическая динам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(Решение уравнений Ланжевена для всех частиц . Жесткие связи-через множители Лагранж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чики программы:Н.К.Балабаев, И.М.Неелов, А.В.Лю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971640" y="692280"/>
            <a:ext cx="5114880" cy="4177800"/>
            <a:chOff x="971640" y="692280"/>
            <a:chExt cx="5114880" cy="417780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971640" y="978120"/>
              <a:ext cx="1285920" cy="12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2505240" y="763200"/>
              <a:ext cx="143820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499400" y="2577960"/>
              <a:ext cx="230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08960" y="2577960"/>
              <a:ext cx="230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99760" y="2577960"/>
              <a:ext cx="230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4172040" y="692280"/>
              <a:ext cx="1914480" cy="18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1823040" y="3163680"/>
              <a:ext cx="1198800" cy="119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5"/>
            <a:stretch/>
          </p:blipFill>
          <p:spPr>
            <a:xfrm>
              <a:off x="3765960" y="3041640"/>
              <a:ext cx="1443240" cy="14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4372560" y="4641840"/>
              <a:ext cx="230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06880" y="4641840"/>
              <a:ext cx="230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839280" y="4941720"/>
            <a:ext cx="230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олекула «гость»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инейная ПЭ цеп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ch=48-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4160" y="4941720"/>
            <a:ext cx="656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Молекула «хозяин»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新細明體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=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)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新細明體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звезда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新細明體"/>
              </a:rPr>
              <a:t> 6x8, b) 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звезда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新細明體"/>
              </a:rPr>
              <a:t>5x9, c)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звезда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新細明體"/>
              </a:rPr>
              <a:t> 4x1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新細明體"/>
              </a:rPr>
              <a:t>d)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ендример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新細明體"/>
              </a:rPr>
              <a:t> 3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-ей генерации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新細明體"/>
              </a:rPr>
              <a:t>(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се частицы заряже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新細明體"/>
              </a:rPr>
              <a:t>e)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ендример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新細明體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-ой генер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新細明體"/>
              </a:rPr>
              <a:t>(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заряжены концевые групп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6948360" y="1557360"/>
            <a:ext cx="1017720" cy="2951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988280" y="-7920"/>
            <a:ext cx="14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Мод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859280" y="2924280"/>
            <a:ext cx="3529080" cy="3084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3097440" cy="2147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364000" y="0"/>
            <a:ext cx="3240360" cy="2413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395280" y="3433680"/>
            <a:ext cx="3889440" cy="2262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303600" y="6093000"/>
            <a:ext cx="123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h=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61800" y="2421000"/>
            <a:ext cx="123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h=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2520" y="234936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06360" y="5751360"/>
            <a:ext cx="123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h=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60360" y="260280"/>
            <a:ext cx="44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Звезда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4X12 +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линейный П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13:11:33Z</dcterms:created>
  <dc:creator>Toshiba</dc:creator>
  <dc:description/>
  <dc:language>en-US</dc:language>
  <cp:lastModifiedBy>владелец</cp:lastModifiedBy>
  <dcterms:modified xsi:type="dcterms:W3CDTF">2009-06-05T05:52:18Z</dcterms:modified>
  <cp:revision>71</cp:revision>
  <dc:subject/>
  <dc:title>Biarrit</dc:title>
</cp:coreProperties>
</file>