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8.wmf" ContentType="image/x-wmf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2D09F69-88C2-4B27-B92E-ECD740F1A0D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55EC2C46-2E07-4ADC-B8A2-EE4250E205E1}">
      <dgm:prSet phldrT="[Текст]"/>
      <dgm:spPr/>
      <dgm:t>
        <a:bodyPr/>
        <a:lstStyle/>
        <a:p>
          <a:r>
            <a:rPr lang="en-US" dirty="0" smtClean="0"/>
            <a:t>SPICE</a:t>
          </a:r>
          <a:endParaRPr lang="ru-RU" dirty="0"/>
        </a:p>
      </dgm:t>
    </dgm:pt>
    <dgm:pt modelId="{3F727440-028D-4FE8-BC6A-0E904746316D}" type="parTrans" cxnId="{1C5D8932-0E68-4DAD-BBA1-E994F32C204F}">
      <dgm:prSet/>
      <dgm:spPr/>
      <dgm:t>
        <a:bodyPr/>
        <a:lstStyle/>
        <a:p>
          <a:endParaRPr lang="ru-RU"/>
        </a:p>
      </dgm:t>
    </dgm:pt>
    <dgm:pt modelId="{73D226E4-1470-4365-91E7-FE9E4B436236}" type="sibTrans" cxnId="{1C5D8932-0E68-4DAD-BBA1-E994F32C204F}">
      <dgm:prSet/>
      <dgm:spPr/>
      <dgm:t>
        <a:bodyPr/>
        <a:lstStyle/>
        <a:p>
          <a:endParaRPr lang="ru-RU"/>
        </a:p>
      </dgm:t>
    </dgm:pt>
    <dgm:pt modelId="{5135050A-F844-4AE0-8F8C-7CE702E48361}">
      <dgm:prSet phldrT="[Текст]" custT="1"/>
      <dgm:spPr/>
      <dgm:t>
        <a:bodyPr/>
        <a:lstStyle/>
        <a:p>
          <a:r>
            <a:rPr lang="ru-RU" sz="2000" b="1" dirty="0" smtClean="0"/>
            <a:t>Вспомогательные данные</a:t>
          </a:r>
          <a:endParaRPr lang="ru-RU" sz="2000" b="1" dirty="0"/>
        </a:p>
      </dgm:t>
    </dgm:pt>
    <dgm:pt modelId="{3B8D4CCA-8A6F-4D0F-9CC8-2719A632624B}" type="parTrans" cxnId="{DC537EAA-4282-4A7F-B4ED-DCA841CFBA0B}">
      <dgm:prSet/>
      <dgm:spPr/>
      <dgm:t>
        <a:bodyPr/>
        <a:lstStyle/>
        <a:p>
          <a:endParaRPr lang="ru-RU"/>
        </a:p>
      </dgm:t>
    </dgm:pt>
    <dgm:pt modelId="{37F65BC7-DC31-4830-85BB-E485C8BF7489}" type="sibTrans" cxnId="{DC537EAA-4282-4A7F-B4ED-DCA841CFBA0B}">
      <dgm:prSet/>
      <dgm:spPr/>
      <dgm:t>
        <a:bodyPr/>
        <a:lstStyle/>
        <a:p>
          <a:endParaRPr lang="ru-RU"/>
        </a:p>
      </dgm:t>
    </dgm:pt>
    <dgm:pt modelId="{C419DF15-100B-4E89-9374-B701535DD939}">
      <dgm:prSet phldrT="[Текст]"/>
      <dgm:spPr/>
      <dgm:t>
        <a:bodyPr/>
        <a:lstStyle/>
        <a:p>
          <a:r>
            <a:rPr lang="ru-RU" dirty="0" smtClean="0"/>
            <a:t>ПО</a:t>
          </a:r>
          <a:endParaRPr lang="ru-RU" dirty="0"/>
        </a:p>
      </dgm:t>
    </dgm:pt>
    <dgm:pt modelId="{D950BC9A-8C9E-47CA-BE7D-89120217601B}" type="parTrans" cxnId="{90B2F7FE-7DB1-4D1F-BD98-81D95DEA3EEB}">
      <dgm:prSet/>
      <dgm:spPr/>
      <dgm:t>
        <a:bodyPr/>
        <a:lstStyle/>
        <a:p>
          <a:endParaRPr lang="ru-RU"/>
        </a:p>
      </dgm:t>
    </dgm:pt>
    <dgm:pt modelId="{45AC4C46-96F9-49E8-A49B-CAD4883D8DD7}" type="sibTrans" cxnId="{90B2F7FE-7DB1-4D1F-BD98-81D95DEA3EEB}">
      <dgm:prSet/>
      <dgm:spPr/>
      <dgm:t>
        <a:bodyPr/>
        <a:lstStyle/>
        <a:p>
          <a:endParaRPr lang="ru-RU"/>
        </a:p>
      </dgm:t>
    </dgm:pt>
    <dgm:pt modelId="{FA986692-B01C-4DD1-81AA-5F830F490309}" type="pres">
      <dgm:prSet presAssocID="{12D09F69-88C2-4B27-B92E-ECD740F1A0D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14988E5A-EAA9-41D6-92E7-029B58147E46}" type="pres">
      <dgm:prSet presAssocID="{55EC2C46-2E07-4ADC-B8A2-EE4250E205E1}" presName="hierRoot1" presStyleCnt="0">
        <dgm:presLayoutVars>
          <dgm:hierBranch val="init"/>
        </dgm:presLayoutVars>
      </dgm:prSet>
      <dgm:spPr/>
    </dgm:pt>
    <dgm:pt modelId="{7282F81F-1D73-42AB-BB7B-A2DB4FD145BC}" type="pres">
      <dgm:prSet presAssocID="{55EC2C46-2E07-4ADC-B8A2-EE4250E205E1}" presName="rootComposite1" presStyleCnt="0"/>
      <dgm:spPr/>
    </dgm:pt>
    <dgm:pt modelId="{04757500-1650-4CF3-A538-41CED2FBF196}" type="pres">
      <dgm:prSet presAssocID="{55EC2C46-2E07-4ADC-B8A2-EE4250E205E1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FD785FC-93DE-4AC4-8D58-CEA5CEC3C735}" type="pres">
      <dgm:prSet presAssocID="{55EC2C46-2E07-4ADC-B8A2-EE4250E205E1}" presName="rootConnector1" presStyleLbl="node1" presStyleIdx="0" presStyleCnt="0"/>
      <dgm:spPr/>
      <dgm:t>
        <a:bodyPr/>
        <a:lstStyle/>
        <a:p>
          <a:endParaRPr lang="ru-RU"/>
        </a:p>
      </dgm:t>
    </dgm:pt>
    <dgm:pt modelId="{3BB99A40-124E-45BE-8E0B-0A79217107A5}" type="pres">
      <dgm:prSet presAssocID="{55EC2C46-2E07-4ADC-B8A2-EE4250E205E1}" presName="hierChild2" presStyleCnt="0"/>
      <dgm:spPr/>
    </dgm:pt>
    <dgm:pt modelId="{3CBCA8BC-BD50-4FDD-A4DA-81B11AB67AB3}" type="pres">
      <dgm:prSet presAssocID="{3B8D4CCA-8A6F-4D0F-9CC8-2719A632624B}" presName="Name37" presStyleLbl="parChTrans1D2" presStyleIdx="0" presStyleCnt="2"/>
      <dgm:spPr/>
      <dgm:t>
        <a:bodyPr/>
        <a:lstStyle/>
        <a:p>
          <a:endParaRPr lang="ru-RU"/>
        </a:p>
      </dgm:t>
    </dgm:pt>
    <dgm:pt modelId="{F78A21CA-000F-4591-A184-9C54445661B9}" type="pres">
      <dgm:prSet presAssocID="{5135050A-F844-4AE0-8F8C-7CE702E48361}" presName="hierRoot2" presStyleCnt="0">
        <dgm:presLayoutVars>
          <dgm:hierBranch val="init"/>
        </dgm:presLayoutVars>
      </dgm:prSet>
      <dgm:spPr/>
    </dgm:pt>
    <dgm:pt modelId="{23338940-F61B-44E2-BFAA-BB8BED89FA39}" type="pres">
      <dgm:prSet presAssocID="{5135050A-F844-4AE0-8F8C-7CE702E48361}" presName="rootComposite" presStyleCnt="0"/>
      <dgm:spPr/>
    </dgm:pt>
    <dgm:pt modelId="{55BA5735-E4E7-4675-9017-67EA4869F85C}" type="pres">
      <dgm:prSet presAssocID="{5135050A-F844-4AE0-8F8C-7CE702E48361}" presName="rootText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E873F1FB-1F3F-4C7B-AEE0-1A776F61CF69}" type="pres">
      <dgm:prSet presAssocID="{5135050A-F844-4AE0-8F8C-7CE702E48361}" presName="rootConnector" presStyleLbl="node2" presStyleIdx="0" presStyleCnt="2"/>
      <dgm:spPr/>
      <dgm:t>
        <a:bodyPr/>
        <a:lstStyle/>
        <a:p>
          <a:endParaRPr lang="ru-RU"/>
        </a:p>
      </dgm:t>
    </dgm:pt>
    <dgm:pt modelId="{BEA327F8-BEBE-4F97-807C-E238AA59A562}" type="pres">
      <dgm:prSet presAssocID="{5135050A-F844-4AE0-8F8C-7CE702E48361}" presName="hierChild4" presStyleCnt="0"/>
      <dgm:spPr/>
    </dgm:pt>
    <dgm:pt modelId="{948C1E5A-99CE-46D2-A389-87B34AF9F87D}" type="pres">
      <dgm:prSet presAssocID="{5135050A-F844-4AE0-8F8C-7CE702E48361}" presName="hierChild5" presStyleCnt="0"/>
      <dgm:spPr/>
    </dgm:pt>
    <dgm:pt modelId="{DA08C6E7-57D4-4729-9603-8B4D9F16BFA1}" type="pres">
      <dgm:prSet presAssocID="{D950BC9A-8C9E-47CA-BE7D-89120217601B}" presName="Name37" presStyleLbl="parChTrans1D2" presStyleIdx="1" presStyleCnt="2"/>
      <dgm:spPr/>
      <dgm:t>
        <a:bodyPr/>
        <a:lstStyle/>
        <a:p>
          <a:endParaRPr lang="ru-RU"/>
        </a:p>
      </dgm:t>
    </dgm:pt>
    <dgm:pt modelId="{9D2072B3-0289-4CC0-B251-CFAD073DD94B}" type="pres">
      <dgm:prSet presAssocID="{C419DF15-100B-4E89-9374-B701535DD939}" presName="hierRoot2" presStyleCnt="0">
        <dgm:presLayoutVars>
          <dgm:hierBranch val="init"/>
        </dgm:presLayoutVars>
      </dgm:prSet>
      <dgm:spPr/>
    </dgm:pt>
    <dgm:pt modelId="{0B217616-CE62-465A-8DEF-9388F4DAA845}" type="pres">
      <dgm:prSet presAssocID="{C419DF15-100B-4E89-9374-B701535DD939}" presName="rootComposite" presStyleCnt="0"/>
      <dgm:spPr/>
    </dgm:pt>
    <dgm:pt modelId="{65C64101-EDA9-4D2A-B167-E9D63FBB8F9D}" type="pres">
      <dgm:prSet presAssocID="{C419DF15-100B-4E89-9374-B701535DD939}" presName="rootText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0445506-1747-4125-B231-827675E48275}" type="pres">
      <dgm:prSet presAssocID="{C419DF15-100B-4E89-9374-B701535DD939}" presName="rootConnector" presStyleLbl="node2" presStyleIdx="1" presStyleCnt="2"/>
      <dgm:spPr/>
      <dgm:t>
        <a:bodyPr/>
        <a:lstStyle/>
        <a:p>
          <a:endParaRPr lang="ru-RU"/>
        </a:p>
      </dgm:t>
    </dgm:pt>
    <dgm:pt modelId="{D88B80D6-A5F4-43A4-9EA7-8243A84D9ED8}" type="pres">
      <dgm:prSet presAssocID="{C419DF15-100B-4E89-9374-B701535DD939}" presName="hierChild4" presStyleCnt="0"/>
      <dgm:spPr/>
    </dgm:pt>
    <dgm:pt modelId="{8C5D8689-DAC6-4FE8-BEBC-2E0267679C39}" type="pres">
      <dgm:prSet presAssocID="{C419DF15-100B-4E89-9374-B701535DD939}" presName="hierChild5" presStyleCnt="0"/>
      <dgm:spPr/>
    </dgm:pt>
    <dgm:pt modelId="{9E6B0682-9D49-4207-B8CB-A411500A26B7}" type="pres">
      <dgm:prSet presAssocID="{55EC2C46-2E07-4ADC-B8A2-EE4250E205E1}" presName="hierChild3" presStyleCnt="0"/>
      <dgm:spPr/>
    </dgm:pt>
  </dgm:ptLst>
  <dgm:cxnLst>
    <dgm:cxn modelId="{6877F9E0-E5ED-41D4-8029-71A571A002EA}" type="presOf" srcId="{D950BC9A-8C9E-47CA-BE7D-89120217601B}" destId="{DA08C6E7-57D4-4729-9603-8B4D9F16BFA1}" srcOrd="0" destOrd="0" presId="urn:microsoft.com/office/officeart/2005/8/layout/orgChart1"/>
    <dgm:cxn modelId="{464367D8-CFDC-432D-9D1E-CD0FAFE36ABE}" type="presOf" srcId="{5135050A-F844-4AE0-8F8C-7CE702E48361}" destId="{E873F1FB-1F3F-4C7B-AEE0-1A776F61CF69}" srcOrd="1" destOrd="0" presId="urn:microsoft.com/office/officeart/2005/8/layout/orgChart1"/>
    <dgm:cxn modelId="{DC537EAA-4282-4A7F-B4ED-DCA841CFBA0B}" srcId="{55EC2C46-2E07-4ADC-B8A2-EE4250E205E1}" destId="{5135050A-F844-4AE0-8F8C-7CE702E48361}" srcOrd="0" destOrd="0" parTransId="{3B8D4CCA-8A6F-4D0F-9CC8-2719A632624B}" sibTransId="{37F65BC7-DC31-4830-85BB-E485C8BF7489}"/>
    <dgm:cxn modelId="{D06B84F5-4F24-482F-9B58-A637375AA1F4}" type="presOf" srcId="{55EC2C46-2E07-4ADC-B8A2-EE4250E205E1}" destId="{04757500-1650-4CF3-A538-41CED2FBF196}" srcOrd="0" destOrd="0" presId="urn:microsoft.com/office/officeart/2005/8/layout/orgChart1"/>
    <dgm:cxn modelId="{1C5D8932-0E68-4DAD-BBA1-E994F32C204F}" srcId="{12D09F69-88C2-4B27-B92E-ECD740F1A0D2}" destId="{55EC2C46-2E07-4ADC-B8A2-EE4250E205E1}" srcOrd="0" destOrd="0" parTransId="{3F727440-028D-4FE8-BC6A-0E904746316D}" sibTransId="{73D226E4-1470-4365-91E7-FE9E4B436236}"/>
    <dgm:cxn modelId="{613EBACE-22A3-4F59-B4E5-2AD90F45B88C}" type="presOf" srcId="{5135050A-F844-4AE0-8F8C-7CE702E48361}" destId="{55BA5735-E4E7-4675-9017-67EA4869F85C}" srcOrd="0" destOrd="0" presId="urn:microsoft.com/office/officeart/2005/8/layout/orgChart1"/>
    <dgm:cxn modelId="{BD4600CE-12C3-4A95-B837-DD3FBCBE8857}" type="presOf" srcId="{55EC2C46-2E07-4ADC-B8A2-EE4250E205E1}" destId="{1FD785FC-93DE-4AC4-8D58-CEA5CEC3C735}" srcOrd="1" destOrd="0" presId="urn:microsoft.com/office/officeart/2005/8/layout/orgChart1"/>
    <dgm:cxn modelId="{893A836D-13FE-4008-8952-052168A888BE}" type="presOf" srcId="{C419DF15-100B-4E89-9374-B701535DD939}" destId="{B0445506-1747-4125-B231-827675E48275}" srcOrd="1" destOrd="0" presId="urn:microsoft.com/office/officeart/2005/8/layout/orgChart1"/>
    <dgm:cxn modelId="{C4BED8A9-3C74-434B-81BE-1FD9F50AAC53}" type="presOf" srcId="{12D09F69-88C2-4B27-B92E-ECD740F1A0D2}" destId="{FA986692-B01C-4DD1-81AA-5F830F490309}" srcOrd="0" destOrd="0" presId="urn:microsoft.com/office/officeart/2005/8/layout/orgChart1"/>
    <dgm:cxn modelId="{90B2F7FE-7DB1-4D1F-BD98-81D95DEA3EEB}" srcId="{55EC2C46-2E07-4ADC-B8A2-EE4250E205E1}" destId="{C419DF15-100B-4E89-9374-B701535DD939}" srcOrd="1" destOrd="0" parTransId="{D950BC9A-8C9E-47CA-BE7D-89120217601B}" sibTransId="{45AC4C46-96F9-49E8-A49B-CAD4883D8DD7}"/>
    <dgm:cxn modelId="{885656CE-3ECC-4DCC-B1B3-D3F83B2401AD}" type="presOf" srcId="{C419DF15-100B-4E89-9374-B701535DD939}" destId="{65C64101-EDA9-4D2A-B167-E9D63FBB8F9D}" srcOrd="0" destOrd="0" presId="urn:microsoft.com/office/officeart/2005/8/layout/orgChart1"/>
    <dgm:cxn modelId="{1B9B9AC5-9B8F-4BC4-AA3E-AB96AAC7C37B}" type="presOf" srcId="{3B8D4CCA-8A6F-4D0F-9CC8-2719A632624B}" destId="{3CBCA8BC-BD50-4FDD-A4DA-81B11AB67AB3}" srcOrd="0" destOrd="0" presId="urn:microsoft.com/office/officeart/2005/8/layout/orgChart1"/>
    <dgm:cxn modelId="{5DF0CAA1-BEE6-4757-AE40-F62E97FAB0EF}" type="presParOf" srcId="{FA986692-B01C-4DD1-81AA-5F830F490309}" destId="{14988E5A-EAA9-41D6-92E7-029B58147E46}" srcOrd="0" destOrd="0" presId="urn:microsoft.com/office/officeart/2005/8/layout/orgChart1"/>
    <dgm:cxn modelId="{EF835F44-CE5D-401E-92D0-324E2667268C}" type="presParOf" srcId="{14988E5A-EAA9-41D6-92E7-029B58147E46}" destId="{7282F81F-1D73-42AB-BB7B-A2DB4FD145BC}" srcOrd="0" destOrd="0" presId="urn:microsoft.com/office/officeart/2005/8/layout/orgChart1"/>
    <dgm:cxn modelId="{1CC8114E-C0CC-4395-82BC-0F0AE2F0C9B5}" type="presParOf" srcId="{7282F81F-1D73-42AB-BB7B-A2DB4FD145BC}" destId="{04757500-1650-4CF3-A538-41CED2FBF196}" srcOrd="0" destOrd="0" presId="urn:microsoft.com/office/officeart/2005/8/layout/orgChart1"/>
    <dgm:cxn modelId="{223B34DA-638F-4F18-A8E6-E0377D0E545E}" type="presParOf" srcId="{7282F81F-1D73-42AB-BB7B-A2DB4FD145BC}" destId="{1FD785FC-93DE-4AC4-8D58-CEA5CEC3C735}" srcOrd="1" destOrd="0" presId="urn:microsoft.com/office/officeart/2005/8/layout/orgChart1"/>
    <dgm:cxn modelId="{F348EB67-0039-4982-8C3D-DE11FEBED7B6}" type="presParOf" srcId="{14988E5A-EAA9-41D6-92E7-029B58147E46}" destId="{3BB99A40-124E-45BE-8E0B-0A79217107A5}" srcOrd="1" destOrd="0" presId="urn:microsoft.com/office/officeart/2005/8/layout/orgChart1"/>
    <dgm:cxn modelId="{5371595A-71BC-4EA7-B3BA-710DDA7C4269}" type="presParOf" srcId="{3BB99A40-124E-45BE-8E0B-0A79217107A5}" destId="{3CBCA8BC-BD50-4FDD-A4DA-81B11AB67AB3}" srcOrd="0" destOrd="0" presId="urn:microsoft.com/office/officeart/2005/8/layout/orgChart1"/>
    <dgm:cxn modelId="{80A04959-BE06-4DA1-AC93-7EE071EF7950}" type="presParOf" srcId="{3BB99A40-124E-45BE-8E0B-0A79217107A5}" destId="{F78A21CA-000F-4591-A184-9C54445661B9}" srcOrd="1" destOrd="0" presId="urn:microsoft.com/office/officeart/2005/8/layout/orgChart1"/>
    <dgm:cxn modelId="{2583234F-F886-4942-A8CC-F634F28EA7AC}" type="presParOf" srcId="{F78A21CA-000F-4591-A184-9C54445661B9}" destId="{23338940-F61B-44E2-BFAA-BB8BED89FA39}" srcOrd="0" destOrd="0" presId="urn:microsoft.com/office/officeart/2005/8/layout/orgChart1"/>
    <dgm:cxn modelId="{1E41D8FB-6CE5-4845-9250-A2D0C61C3BB1}" type="presParOf" srcId="{23338940-F61B-44E2-BFAA-BB8BED89FA39}" destId="{55BA5735-E4E7-4675-9017-67EA4869F85C}" srcOrd="0" destOrd="0" presId="urn:microsoft.com/office/officeart/2005/8/layout/orgChart1"/>
    <dgm:cxn modelId="{4C2A1AFC-7447-48C6-AA45-F03D7487FA0F}" type="presParOf" srcId="{23338940-F61B-44E2-BFAA-BB8BED89FA39}" destId="{E873F1FB-1F3F-4C7B-AEE0-1A776F61CF69}" srcOrd="1" destOrd="0" presId="urn:microsoft.com/office/officeart/2005/8/layout/orgChart1"/>
    <dgm:cxn modelId="{91B509F6-405E-4A2A-BE2B-0B4CCC771BFE}" type="presParOf" srcId="{F78A21CA-000F-4591-A184-9C54445661B9}" destId="{BEA327F8-BEBE-4F97-807C-E238AA59A562}" srcOrd="1" destOrd="0" presId="urn:microsoft.com/office/officeart/2005/8/layout/orgChart1"/>
    <dgm:cxn modelId="{CEB905B2-7B76-48C4-A29C-4EBCCD1E5AAA}" type="presParOf" srcId="{F78A21CA-000F-4591-A184-9C54445661B9}" destId="{948C1E5A-99CE-46D2-A389-87B34AF9F87D}" srcOrd="2" destOrd="0" presId="urn:microsoft.com/office/officeart/2005/8/layout/orgChart1"/>
    <dgm:cxn modelId="{1390275A-99A0-49E6-9117-FF6616BC603C}" type="presParOf" srcId="{3BB99A40-124E-45BE-8E0B-0A79217107A5}" destId="{DA08C6E7-57D4-4729-9603-8B4D9F16BFA1}" srcOrd="2" destOrd="0" presId="urn:microsoft.com/office/officeart/2005/8/layout/orgChart1"/>
    <dgm:cxn modelId="{CE9A97EF-C73E-4257-8968-EE6310F5E5AB}" type="presParOf" srcId="{3BB99A40-124E-45BE-8E0B-0A79217107A5}" destId="{9D2072B3-0289-4CC0-B251-CFAD073DD94B}" srcOrd="3" destOrd="0" presId="urn:microsoft.com/office/officeart/2005/8/layout/orgChart1"/>
    <dgm:cxn modelId="{3F333F86-226D-43F9-A950-5709D829D470}" type="presParOf" srcId="{9D2072B3-0289-4CC0-B251-CFAD073DD94B}" destId="{0B217616-CE62-465A-8DEF-9388F4DAA845}" srcOrd="0" destOrd="0" presId="urn:microsoft.com/office/officeart/2005/8/layout/orgChart1"/>
    <dgm:cxn modelId="{75F4C660-7298-461A-88FC-924F01FEE2EE}" type="presParOf" srcId="{0B217616-CE62-465A-8DEF-9388F4DAA845}" destId="{65C64101-EDA9-4D2A-B167-E9D63FBB8F9D}" srcOrd="0" destOrd="0" presId="urn:microsoft.com/office/officeart/2005/8/layout/orgChart1"/>
    <dgm:cxn modelId="{C13E2751-D5A1-47CF-AA59-56269BE128F4}" type="presParOf" srcId="{0B217616-CE62-465A-8DEF-9388F4DAA845}" destId="{B0445506-1747-4125-B231-827675E48275}" srcOrd="1" destOrd="0" presId="urn:microsoft.com/office/officeart/2005/8/layout/orgChart1"/>
    <dgm:cxn modelId="{EF9C9CF0-B032-4297-B616-2FAC99F5C7DB}" type="presParOf" srcId="{9D2072B3-0289-4CC0-B251-CFAD073DD94B}" destId="{D88B80D6-A5F4-43A4-9EA7-8243A84D9ED8}" srcOrd="1" destOrd="0" presId="urn:microsoft.com/office/officeart/2005/8/layout/orgChart1"/>
    <dgm:cxn modelId="{225CDE59-C220-4A48-971A-9415E1D94C24}" type="presParOf" srcId="{9D2072B3-0289-4CC0-B251-CFAD073DD94B}" destId="{8C5D8689-DAC6-4FE8-BEBC-2E0267679C39}" srcOrd="2" destOrd="0" presId="urn:microsoft.com/office/officeart/2005/8/layout/orgChart1"/>
    <dgm:cxn modelId="{8C812A47-E74C-48FA-AF78-73743C8567A2}" type="presParOf" srcId="{14988E5A-EAA9-41D6-92E7-029B58147E46}" destId="{9E6B0682-9D49-4207-B8CB-A411500A26B7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6A54075-740C-435A-B3F3-BA067D8D17B5}" type="doc">
      <dgm:prSet loTypeId="urn:microsoft.com/office/officeart/2005/8/layout/radial6" loCatId="cycle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A9BCED3-B472-4A24-9FD6-DF1B179D1DEB}">
      <dgm:prSet phldrT="[Текст]"/>
      <dgm:spPr/>
      <dgm:t>
        <a:bodyPr/>
        <a:lstStyle/>
        <a:p>
          <a:r>
            <a:rPr lang="ru-RU" dirty="0" smtClean="0"/>
            <a:t>Описание проекта</a:t>
          </a:r>
          <a:endParaRPr lang="ru-RU" dirty="0"/>
        </a:p>
      </dgm:t>
    </dgm:pt>
    <dgm:pt modelId="{6D870893-CFFF-4C09-B083-68094F761B18}" type="parTrans" cxnId="{4852A72E-3C55-47E5-B334-1390D5684775}">
      <dgm:prSet/>
      <dgm:spPr/>
      <dgm:t>
        <a:bodyPr/>
        <a:lstStyle/>
        <a:p>
          <a:endParaRPr lang="ru-RU"/>
        </a:p>
      </dgm:t>
    </dgm:pt>
    <dgm:pt modelId="{C4008A55-4BA7-4FAC-B1DD-8838EBF4D1DC}" type="sibTrans" cxnId="{4852A72E-3C55-47E5-B334-1390D5684775}">
      <dgm:prSet/>
      <dgm:spPr/>
      <dgm:t>
        <a:bodyPr/>
        <a:lstStyle/>
        <a:p>
          <a:endParaRPr lang="ru-RU"/>
        </a:p>
      </dgm:t>
    </dgm:pt>
    <dgm:pt modelId="{CE9F9114-B748-4996-AED1-7DD0761A87F5}">
      <dgm:prSet phldrT="[Текст]"/>
      <dgm:spPr/>
      <dgm:t>
        <a:bodyPr/>
        <a:lstStyle/>
        <a:p>
          <a:r>
            <a:rPr lang="ru-RU" dirty="0" smtClean="0"/>
            <a:t>Служебная информация для </a:t>
          </a:r>
          <a:r>
            <a:rPr lang="en-US" dirty="0" smtClean="0"/>
            <a:t>SPICE</a:t>
          </a:r>
          <a:endParaRPr lang="ru-RU" dirty="0"/>
        </a:p>
      </dgm:t>
    </dgm:pt>
    <dgm:pt modelId="{9C8142DC-1082-4969-9407-BDD35D9F549C}" type="parTrans" cxnId="{381ADE5B-7473-4BA4-9900-399A9490894C}">
      <dgm:prSet/>
      <dgm:spPr/>
      <dgm:t>
        <a:bodyPr/>
        <a:lstStyle/>
        <a:p>
          <a:endParaRPr lang="ru-RU"/>
        </a:p>
      </dgm:t>
    </dgm:pt>
    <dgm:pt modelId="{395EBD78-207C-4FBC-8D6F-A1CAAB0818BB}" type="sibTrans" cxnId="{381ADE5B-7473-4BA4-9900-399A9490894C}">
      <dgm:prSet/>
      <dgm:spPr/>
      <dgm:t>
        <a:bodyPr/>
        <a:lstStyle/>
        <a:p>
          <a:endParaRPr lang="ru-RU"/>
        </a:p>
      </dgm:t>
    </dgm:pt>
    <dgm:pt modelId="{57E5E09E-6C32-4BD7-B304-6C6B21F085D5}">
      <dgm:prSet phldrT="[Текст]"/>
      <dgm:spPr/>
      <dgm:t>
        <a:bodyPr/>
        <a:lstStyle/>
        <a:p>
          <a:r>
            <a:rPr lang="ru-RU" dirty="0" smtClean="0"/>
            <a:t>Масштаб координат</a:t>
          </a:r>
          <a:endParaRPr lang="ru-RU" dirty="0"/>
        </a:p>
      </dgm:t>
    </dgm:pt>
    <dgm:pt modelId="{7477CA00-F581-4DE5-AE31-C5AF15BAB4E2}" type="parTrans" cxnId="{566FF587-366F-4E17-8662-42CBF5F27A3A}">
      <dgm:prSet/>
      <dgm:spPr/>
      <dgm:t>
        <a:bodyPr/>
        <a:lstStyle/>
        <a:p>
          <a:endParaRPr lang="ru-RU"/>
        </a:p>
      </dgm:t>
    </dgm:pt>
    <dgm:pt modelId="{CEF771D2-AFBD-4D93-A4E9-E1F6CA35B986}" type="sibTrans" cxnId="{566FF587-366F-4E17-8662-42CBF5F27A3A}">
      <dgm:prSet/>
      <dgm:spPr/>
      <dgm:t>
        <a:bodyPr/>
        <a:lstStyle/>
        <a:p>
          <a:endParaRPr lang="ru-RU"/>
        </a:p>
      </dgm:t>
    </dgm:pt>
    <dgm:pt modelId="{56510BDB-B18C-4286-AAE8-CDF7DDA5D304}">
      <dgm:prSet phldrT="[Текст]"/>
      <dgm:spPr/>
      <dgm:t>
        <a:bodyPr/>
        <a:lstStyle/>
        <a:p>
          <a:r>
            <a:rPr lang="ru-RU" dirty="0" smtClean="0"/>
            <a:t>Размеры объектов</a:t>
          </a:r>
          <a:endParaRPr lang="ru-RU" dirty="0"/>
        </a:p>
      </dgm:t>
    </dgm:pt>
    <dgm:pt modelId="{EB2EF5E8-1836-4E32-9476-317A99C19891}" type="parTrans" cxnId="{5450ED24-CA44-4BF8-B069-2ACCDA04838F}">
      <dgm:prSet/>
      <dgm:spPr/>
      <dgm:t>
        <a:bodyPr/>
        <a:lstStyle/>
        <a:p>
          <a:endParaRPr lang="ru-RU"/>
        </a:p>
      </dgm:t>
    </dgm:pt>
    <dgm:pt modelId="{E3BD970F-9ED5-4F53-B3E8-573FB9F2A0F8}" type="sibTrans" cxnId="{5450ED24-CA44-4BF8-B069-2ACCDA04838F}">
      <dgm:prSet/>
      <dgm:spPr/>
      <dgm:t>
        <a:bodyPr/>
        <a:lstStyle/>
        <a:p>
          <a:endParaRPr lang="ru-RU"/>
        </a:p>
      </dgm:t>
    </dgm:pt>
    <dgm:pt modelId="{CEAF5685-2B29-4639-A011-61135967AEF8}">
      <dgm:prSet phldrT="[Текст]"/>
      <dgm:spPr/>
      <dgm:t>
        <a:bodyPr/>
        <a:lstStyle/>
        <a:p>
          <a:r>
            <a:rPr lang="ru-RU" dirty="0" smtClean="0"/>
            <a:t>Настройки камеры просмотра</a:t>
          </a:r>
          <a:endParaRPr lang="ru-RU" dirty="0"/>
        </a:p>
      </dgm:t>
    </dgm:pt>
    <dgm:pt modelId="{FAE2288E-5E78-46CA-8DDC-57C22FF867CD}" type="parTrans" cxnId="{1A1FF0D1-4809-4B0D-9935-125AF8449586}">
      <dgm:prSet/>
      <dgm:spPr/>
      <dgm:t>
        <a:bodyPr/>
        <a:lstStyle/>
        <a:p>
          <a:endParaRPr lang="ru-RU"/>
        </a:p>
      </dgm:t>
    </dgm:pt>
    <dgm:pt modelId="{D0AB2630-0764-4105-9139-12AA3ADEC3DD}" type="sibTrans" cxnId="{1A1FF0D1-4809-4B0D-9935-125AF8449586}">
      <dgm:prSet/>
      <dgm:spPr/>
      <dgm:t>
        <a:bodyPr/>
        <a:lstStyle/>
        <a:p>
          <a:endParaRPr lang="ru-RU"/>
        </a:p>
      </dgm:t>
    </dgm:pt>
    <dgm:pt modelId="{747049FF-B5FD-4B2E-A036-F2E5C15EE7D2}" type="pres">
      <dgm:prSet presAssocID="{B6A54075-740C-435A-B3F3-BA067D8D17B5}" presName="Name0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C2DD1F9-BD24-413E-8523-AD26057B1C1D}" type="pres">
      <dgm:prSet presAssocID="{DA9BCED3-B472-4A24-9FD6-DF1B179D1DEB}" presName="centerShape" presStyleLbl="node0" presStyleIdx="0" presStyleCnt="1"/>
      <dgm:spPr/>
      <dgm:t>
        <a:bodyPr/>
        <a:lstStyle/>
        <a:p>
          <a:endParaRPr lang="ru-RU"/>
        </a:p>
      </dgm:t>
    </dgm:pt>
    <dgm:pt modelId="{7F09B5F5-A833-475D-99B9-073578159341}" type="pres">
      <dgm:prSet presAssocID="{CE9F9114-B748-4996-AED1-7DD0761A87F5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038A4A0-3F20-470E-9B08-576DF4C58BD0}" type="pres">
      <dgm:prSet presAssocID="{CE9F9114-B748-4996-AED1-7DD0761A87F5}" presName="dummy" presStyleCnt="0"/>
      <dgm:spPr/>
    </dgm:pt>
    <dgm:pt modelId="{DA6A8F54-861D-4C42-B6D4-ED3ACD5F7724}" type="pres">
      <dgm:prSet presAssocID="{395EBD78-207C-4FBC-8D6F-A1CAAB0818BB}" presName="sibTrans" presStyleLbl="sibTrans2D1" presStyleIdx="0" presStyleCnt="4"/>
      <dgm:spPr/>
      <dgm:t>
        <a:bodyPr/>
        <a:lstStyle/>
        <a:p>
          <a:endParaRPr lang="ru-RU"/>
        </a:p>
      </dgm:t>
    </dgm:pt>
    <dgm:pt modelId="{416CAFA2-34C2-4C6A-B6E3-56C58B88034B}" type="pres">
      <dgm:prSet presAssocID="{57E5E09E-6C32-4BD7-B304-6C6B21F085D5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E799BD3-3A8C-4DB4-89BD-21682C17B1D2}" type="pres">
      <dgm:prSet presAssocID="{57E5E09E-6C32-4BD7-B304-6C6B21F085D5}" presName="dummy" presStyleCnt="0"/>
      <dgm:spPr/>
    </dgm:pt>
    <dgm:pt modelId="{25B2FD9B-7C32-487C-A56C-3756816090BA}" type="pres">
      <dgm:prSet presAssocID="{CEF771D2-AFBD-4D93-A4E9-E1F6CA35B986}" presName="sibTrans" presStyleLbl="sibTrans2D1" presStyleIdx="1" presStyleCnt="4"/>
      <dgm:spPr/>
      <dgm:t>
        <a:bodyPr/>
        <a:lstStyle/>
        <a:p>
          <a:endParaRPr lang="ru-RU"/>
        </a:p>
      </dgm:t>
    </dgm:pt>
    <dgm:pt modelId="{FDECE774-D0D7-4A16-90E9-9F9AF1C6A6B5}" type="pres">
      <dgm:prSet presAssocID="{56510BDB-B18C-4286-AAE8-CDF7DDA5D304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DCA46B0-E2C7-4A68-B8AD-0F356657E8BC}" type="pres">
      <dgm:prSet presAssocID="{56510BDB-B18C-4286-AAE8-CDF7DDA5D304}" presName="dummy" presStyleCnt="0"/>
      <dgm:spPr/>
    </dgm:pt>
    <dgm:pt modelId="{F8AA476C-123A-438C-9699-FB9DD6A607A8}" type="pres">
      <dgm:prSet presAssocID="{E3BD970F-9ED5-4F53-B3E8-573FB9F2A0F8}" presName="sibTrans" presStyleLbl="sibTrans2D1" presStyleIdx="2" presStyleCnt="4"/>
      <dgm:spPr/>
      <dgm:t>
        <a:bodyPr/>
        <a:lstStyle/>
        <a:p>
          <a:endParaRPr lang="ru-RU"/>
        </a:p>
      </dgm:t>
    </dgm:pt>
    <dgm:pt modelId="{E2E3C58D-F4AB-4F09-9FE5-02E613B6BEEE}" type="pres">
      <dgm:prSet presAssocID="{CEAF5685-2B29-4639-A011-61135967AEF8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183199-2314-46A5-9F15-CB4FB2745F5E}" type="pres">
      <dgm:prSet presAssocID="{CEAF5685-2B29-4639-A011-61135967AEF8}" presName="dummy" presStyleCnt="0"/>
      <dgm:spPr/>
    </dgm:pt>
    <dgm:pt modelId="{61073455-AFCE-45FC-A6FD-B85533549E0E}" type="pres">
      <dgm:prSet presAssocID="{D0AB2630-0764-4105-9139-12AA3ADEC3DD}" presName="sibTrans" presStyleLbl="sibTrans2D1" presStyleIdx="3" presStyleCnt="4"/>
      <dgm:spPr/>
      <dgm:t>
        <a:bodyPr/>
        <a:lstStyle/>
        <a:p>
          <a:endParaRPr lang="ru-RU"/>
        </a:p>
      </dgm:t>
    </dgm:pt>
  </dgm:ptLst>
  <dgm:cxnLst>
    <dgm:cxn modelId="{96CF85FC-CD30-4F23-BF7A-CC7F5C572B50}" type="presOf" srcId="{D0AB2630-0764-4105-9139-12AA3ADEC3DD}" destId="{61073455-AFCE-45FC-A6FD-B85533549E0E}" srcOrd="0" destOrd="0" presId="urn:microsoft.com/office/officeart/2005/8/layout/radial6"/>
    <dgm:cxn modelId="{E8E1BEB3-64B0-485F-8A0D-DB654446F3C8}" type="presOf" srcId="{DA9BCED3-B472-4A24-9FD6-DF1B179D1DEB}" destId="{FC2DD1F9-BD24-413E-8523-AD26057B1C1D}" srcOrd="0" destOrd="0" presId="urn:microsoft.com/office/officeart/2005/8/layout/radial6"/>
    <dgm:cxn modelId="{7F83B4D2-6782-411E-822B-C9B1646AE9DB}" type="presOf" srcId="{395EBD78-207C-4FBC-8D6F-A1CAAB0818BB}" destId="{DA6A8F54-861D-4C42-B6D4-ED3ACD5F7724}" srcOrd="0" destOrd="0" presId="urn:microsoft.com/office/officeart/2005/8/layout/radial6"/>
    <dgm:cxn modelId="{561A60EB-48E2-4A98-BF14-ECB9F60DBF88}" type="presOf" srcId="{E3BD970F-9ED5-4F53-B3E8-573FB9F2A0F8}" destId="{F8AA476C-123A-438C-9699-FB9DD6A607A8}" srcOrd="0" destOrd="0" presId="urn:microsoft.com/office/officeart/2005/8/layout/radial6"/>
    <dgm:cxn modelId="{A2E329DC-04B7-4B94-9EFC-86239A907555}" type="presOf" srcId="{B6A54075-740C-435A-B3F3-BA067D8D17B5}" destId="{747049FF-B5FD-4B2E-A036-F2E5C15EE7D2}" srcOrd="0" destOrd="0" presId="urn:microsoft.com/office/officeart/2005/8/layout/radial6"/>
    <dgm:cxn modelId="{566FF587-366F-4E17-8662-42CBF5F27A3A}" srcId="{DA9BCED3-B472-4A24-9FD6-DF1B179D1DEB}" destId="{57E5E09E-6C32-4BD7-B304-6C6B21F085D5}" srcOrd="1" destOrd="0" parTransId="{7477CA00-F581-4DE5-AE31-C5AF15BAB4E2}" sibTransId="{CEF771D2-AFBD-4D93-A4E9-E1F6CA35B986}"/>
    <dgm:cxn modelId="{1A1FF0D1-4809-4B0D-9935-125AF8449586}" srcId="{DA9BCED3-B472-4A24-9FD6-DF1B179D1DEB}" destId="{CEAF5685-2B29-4639-A011-61135967AEF8}" srcOrd="3" destOrd="0" parTransId="{FAE2288E-5E78-46CA-8DDC-57C22FF867CD}" sibTransId="{D0AB2630-0764-4105-9139-12AA3ADEC3DD}"/>
    <dgm:cxn modelId="{5002B83A-5889-41F4-80EA-21769FDBBE0C}" type="presOf" srcId="{57E5E09E-6C32-4BD7-B304-6C6B21F085D5}" destId="{416CAFA2-34C2-4C6A-B6E3-56C58B88034B}" srcOrd="0" destOrd="0" presId="urn:microsoft.com/office/officeart/2005/8/layout/radial6"/>
    <dgm:cxn modelId="{957854D7-705E-4EC3-B4AB-B05B0049F87A}" type="presOf" srcId="{CEAF5685-2B29-4639-A011-61135967AEF8}" destId="{E2E3C58D-F4AB-4F09-9FE5-02E613B6BEEE}" srcOrd="0" destOrd="0" presId="urn:microsoft.com/office/officeart/2005/8/layout/radial6"/>
    <dgm:cxn modelId="{5450ED24-CA44-4BF8-B069-2ACCDA04838F}" srcId="{DA9BCED3-B472-4A24-9FD6-DF1B179D1DEB}" destId="{56510BDB-B18C-4286-AAE8-CDF7DDA5D304}" srcOrd="2" destOrd="0" parTransId="{EB2EF5E8-1836-4E32-9476-317A99C19891}" sibTransId="{E3BD970F-9ED5-4F53-B3E8-573FB9F2A0F8}"/>
    <dgm:cxn modelId="{457FE29C-8BE5-4662-974D-FB378F15824F}" type="presOf" srcId="{CEF771D2-AFBD-4D93-A4E9-E1F6CA35B986}" destId="{25B2FD9B-7C32-487C-A56C-3756816090BA}" srcOrd="0" destOrd="0" presId="urn:microsoft.com/office/officeart/2005/8/layout/radial6"/>
    <dgm:cxn modelId="{381ADE5B-7473-4BA4-9900-399A9490894C}" srcId="{DA9BCED3-B472-4A24-9FD6-DF1B179D1DEB}" destId="{CE9F9114-B748-4996-AED1-7DD0761A87F5}" srcOrd="0" destOrd="0" parTransId="{9C8142DC-1082-4969-9407-BDD35D9F549C}" sibTransId="{395EBD78-207C-4FBC-8D6F-A1CAAB0818BB}"/>
    <dgm:cxn modelId="{B00767A2-9704-4F45-9C7F-16A2B9EC0118}" type="presOf" srcId="{56510BDB-B18C-4286-AAE8-CDF7DDA5D304}" destId="{FDECE774-D0D7-4A16-90E9-9F9AF1C6A6B5}" srcOrd="0" destOrd="0" presId="urn:microsoft.com/office/officeart/2005/8/layout/radial6"/>
    <dgm:cxn modelId="{A5A32B8F-8030-41D1-BF2A-1AC1EBCB8245}" type="presOf" srcId="{CE9F9114-B748-4996-AED1-7DD0761A87F5}" destId="{7F09B5F5-A833-475D-99B9-073578159341}" srcOrd="0" destOrd="0" presId="urn:microsoft.com/office/officeart/2005/8/layout/radial6"/>
    <dgm:cxn modelId="{4852A72E-3C55-47E5-B334-1390D5684775}" srcId="{B6A54075-740C-435A-B3F3-BA067D8D17B5}" destId="{DA9BCED3-B472-4A24-9FD6-DF1B179D1DEB}" srcOrd="0" destOrd="0" parTransId="{6D870893-CFFF-4C09-B083-68094F761B18}" sibTransId="{C4008A55-4BA7-4FAC-B1DD-8838EBF4D1DC}"/>
    <dgm:cxn modelId="{6092BAF0-4DDC-4984-8438-FC307A4671FA}" type="presParOf" srcId="{747049FF-B5FD-4B2E-A036-F2E5C15EE7D2}" destId="{FC2DD1F9-BD24-413E-8523-AD26057B1C1D}" srcOrd="0" destOrd="0" presId="urn:microsoft.com/office/officeart/2005/8/layout/radial6"/>
    <dgm:cxn modelId="{EFB331FA-BB1A-4B2E-8417-5FD6F38B11B7}" type="presParOf" srcId="{747049FF-B5FD-4B2E-A036-F2E5C15EE7D2}" destId="{7F09B5F5-A833-475D-99B9-073578159341}" srcOrd="1" destOrd="0" presId="urn:microsoft.com/office/officeart/2005/8/layout/radial6"/>
    <dgm:cxn modelId="{667798B5-A07E-4193-94F8-874221010FA0}" type="presParOf" srcId="{747049FF-B5FD-4B2E-A036-F2E5C15EE7D2}" destId="{8038A4A0-3F20-470E-9B08-576DF4C58BD0}" srcOrd="2" destOrd="0" presId="urn:microsoft.com/office/officeart/2005/8/layout/radial6"/>
    <dgm:cxn modelId="{C881146D-CC50-46FF-B3F4-DF409D616840}" type="presParOf" srcId="{747049FF-B5FD-4B2E-A036-F2E5C15EE7D2}" destId="{DA6A8F54-861D-4C42-B6D4-ED3ACD5F7724}" srcOrd="3" destOrd="0" presId="urn:microsoft.com/office/officeart/2005/8/layout/radial6"/>
    <dgm:cxn modelId="{E8B67983-4282-4799-A0E0-B05970F432E7}" type="presParOf" srcId="{747049FF-B5FD-4B2E-A036-F2E5C15EE7D2}" destId="{416CAFA2-34C2-4C6A-B6E3-56C58B88034B}" srcOrd="4" destOrd="0" presId="urn:microsoft.com/office/officeart/2005/8/layout/radial6"/>
    <dgm:cxn modelId="{27B6415C-004F-4A45-9B68-8DF3AB2C597C}" type="presParOf" srcId="{747049FF-B5FD-4B2E-A036-F2E5C15EE7D2}" destId="{4E799BD3-3A8C-4DB4-89BD-21682C17B1D2}" srcOrd="5" destOrd="0" presId="urn:microsoft.com/office/officeart/2005/8/layout/radial6"/>
    <dgm:cxn modelId="{3A8E3352-2FD3-4EEA-A938-D84806D260E3}" type="presParOf" srcId="{747049FF-B5FD-4B2E-A036-F2E5C15EE7D2}" destId="{25B2FD9B-7C32-487C-A56C-3756816090BA}" srcOrd="6" destOrd="0" presId="urn:microsoft.com/office/officeart/2005/8/layout/radial6"/>
    <dgm:cxn modelId="{BAFD0B76-0FD9-4798-9059-5F92F531281A}" type="presParOf" srcId="{747049FF-B5FD-4B2E-A036-F2E5C15EE7D2}" destId="{FDECE774-D0D7-4A16-90E9-9F9AF1C6A6B5}" srcOrd="7" destOrd="0" presId="urn:microsoft.com/office/officeart/2005/8/layout/radial6"/>
    <dgm:cxn modelId="{55C246E0-0934-4E50-8754-990F2442B8C8}" type="presParOf" srcId="{747049FF-B5FD-4B2E-A036-F2E5C15EE7D2}" destId="{CDCA46B0-E2C7-4A68-B8AD-0F356657E8BC}" srcOrd="8" destOrd="0" presId="urn:microsoft.com/office/officeart/2005/8/layout/radial6"/>
    <dgm:cxn modelId="{2A862E51-4129-457F-90FA-0CA6C48066BB}" type="presParOf" srcId="{747049FF-B5FD-4B2E-A036-F2E5C15EE7D2}" destId="{F8AA476C-123A-438C-9699-FB9DD6A607A8}" srcOrd="9" destOrd="0" presId="urn:microsoft.com/office/officeart/2005/8/layout/radial6"/>
    <dgm:cxn modelId="{86545661-6231-492D-99B5-3C95F9786D1F}" type="presParOf" srcId="{747049FF-B5FD-4B2E-A036-F2E5C15EE7D2}" destId="{E2E3C58D-F4AB-4F09-9FE5-02E613B6BEEE}" srcOrd="10" destOrd="0" presId="urn:microsoft.com/office/officeart/2005/8/layout/radial6"/>
    <dgm:cxn modelId="{D059AB88-C122-459C-870D-CDE35892FDA9}" type="presParOf" srcId="{747049FF-B5FD-4B2E-A036-F2E5C15EE7D2}" destId="{43183199-2314-46A5-9F15-CB4FB2745F5E}" srcOrd="11" destOrd="0" presId="urn:microsoft.com/office/officeart/2005/8/layout/radial6"/>
    <dgm:cxn modelId="{00E1C1BF-FEDD-43E6-90D6-5F932EE8A22D}" type="presParOf" srcId="{747049FF-B5FD-4B2E-A036-F2E5C15EE7D2}" destId="{61073455-AFCE-45FC-A6FD-B85533549E0E}" srcOrd="12" destOrd="0" presId="urn:microsoft.com/office/officeart/2005/8/layout/radial6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A08C6E7-57D4-4729-9603-8B4D9F16BFA1}">
      <dsp:nvSpPr>
        <dsp:cNvPr id="0" name=""/>
        <dsp:cNvSpPr/>
      </dsp:nvSpPr>
      <dsp:spPr>
        <a:xfrm>
          <a:off x="2430269" y="1127218"/>
          <a:ext cx="1329958" cy="461638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30819"/>
              </a:lnTo>
              <a:lnTo>
                <a:pt x="1329958" y="230819"/>
              </a:lnTo>
              <a:lnTo>
                <a:pt x="1329958" y="461638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CBCA8BC-BD50-4FDD-A4DA-81B11AB67AB3}">
      <dsp:nvSpPr>
        <dsp:cNvPr id="0" name=""/>
        <dsp:cNvSpPr/>
      </dsp:nvSpPr>
      <dsp:spPr>
        <a:xfrm>
          <a:off x="1100311" y="1127218"/>
          <a:ext cx="1329958" cy="461638"/>
        </a:xfrm>
        <a:custGeom>
          <a:avLst/>
          <a:gdLst/>
          <a:ahLst/>
          <a:cxnLst/>
          <a:rect l="0" t="0" r="0" b="0"/>
          <a:pathLst>
            <a:path>
              <a:moveTo>
                <a:pt x="1329958" y="0"/>
              </a:moveTo>
              <a:lnTo>
                <a:pt x="1329958" y="230819"/>
              </a:lnTo>
              <a:lnTo>
                <a:pt x="0" y="230819"/>
              </a:lnTo>
              <a:lnTo>
                <a:pt x="0" y="461638"/>
              </a:lnTo>
            </a:path>
          </a:pathLst>
        </a:custGeom>
        <a:noFill/>
        <a:ln w="25400" cap="flat" cmpd="sng" algn="ctr">
          <a:solidFill>
            <a:schemeClr val="accent1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04757500-1650-4CF3-A538-41CED2FBF196}">
      <dsp:nvSpPr>
        <dsp:cNvPr id="0" name=""/>
        <dsp:cNvSpPr/>
      </dsp:nvSpPr>
      <dsp:spPr>
        <a:xfrm>
          <a:off x="1331130" y="28079"/>
          <a:ext cx="2198278" cy="1099139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" tIns="41275" rIns="41275" bIns="41275" numCol="1" spcCol="1270" anchor="ctr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6500" kern="1200" dirty="0" smtClean="0"/>
            <a:t>SPICE</a:t>
          </a:r>
          <a:endParaRPr lang="ru-RU" sz="6500" kern="1200" dirty="0"/>
        </a:p>
      </dsp:txBody>
      <dsp:txXfrm>
        <a:off x="1331130" y="28079"/>
        <a:ext cx="2198278" cy="1099139"/>
      </dsp:txXfrm>
    </dsp:sp>
    <dsp:sp modelId="{55BA5735-E4E7-4675-9017-67EA4869F85C}">
      <dsp:nvSpPr>
        <dsp:cNvPr id="0" name=""/>
        <dsp:cNvSpPr/>
      </dsp:nvSpPr>
      <dsp:spPr>
        <a:xfrm>
          <a:off x="1171" y="1588857"/>
          <a:ext cx="2198278" cy="1099139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b="1" kern="1200" dirty="0" smtClean="0"/>
            <a:t>Вспомогательные данные</a:t>
          </a:r>
          <a:endParaRPr lang="ru-RU" sz="2000" b="1" kern="1200" dirty="0"/>
        </a:p>
      </dsp:txBody>
      <dsp:txXfrm>
        <a:off x="1171" y="1588857"/>
        <a:ext cx="2198278" cy="1099139"/>
      </dsp:txXfrm>
    </dsp:sp>
    <dsp:sp modelId="{65C64101-EDA9-4D2A-B167-E9D63FBB8F9D}">
      <dsp:nvSpPr>
        <dsp:cNvPr id="0" name=""/>
        <dsp:cNvSpPr/>
      </dsp:nvSpPr>
      <dsp:spPr>
        <a:xfrm>
          <a:off x="2661089" y="1588857"/>
          <a:ext cx="2198278" cy="1099139"/>
        </a:xfrm>
        <a:prstGeom prst="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" tIns="41275" rIns="41275" bIns="41275" numCol="1" spcCol="1270" anchor="ctr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6500" kern="1200" dirty="0" smtClean="0"/>
            <a:t>ПО</a:t>
          </a:r>
          <a:endParaRPr lang="ru-RU" sz="6500" kern="1200" dirty="0"/>
        </a:p>
      </dsp:txBody>
      <dsp:txXfrm>
        <a:off x="2661089" y="1588857"/>
        <a:ext cx="2198278" cy="1099139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1073455-AFCE-45FC-A6FD-B85533549E0E}">
      <dsp:nvSpPr>
        <dsp:cNvPr id="0" name=""/>
        <dsp:cNvSpPr/>
      </dsp:nvSpPr>
      <dsp:spPr>
        <a:xfrm>
          <a:off x="2012089" y="633823"/>
          <a:ext cx="4220736" cy="4220736"/>
        </a:xfrm>
        <a:prstGeom prst="blockArc">
          <a:avLst>
            <a:gd name="adj1" fmla="val 10800000"/>
            <a:gd name="adj2" fmla="val 16200000"/>
            <a:gd name="adj3" fmla="val 4644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8AA476C-123A-438C-9699-FB9DD6A607A8}">
      <dsp:nvSpPr>
        <dsp:cNvPr id="0" name=""/>
        <dsp:cNvSpPr/>
      </dsp:nvSpPr>
      <dsp:spPr>
        <a:xfrm>
          <a:off x="2012089" y="633823"/>
          <a:ext cx="4220736" cy="4220736"/>
        </a:xfrm>
        <a:prstGeom prst="blockArc">
          <a:avLst>
            <a:gd name="adj1" fmla="val 5400000"/>
            <a:gd name="adj2" fmla="val 10800000"/>
            <a:gd name="adj3" fmla="val 4644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5B2FD9B-7C32-487C-A56C-3756816090BA}">
      <dsp:nvSpPr>
        <dsp:cNvPr id="0" name=""/>
        <dsp:cNvSpPr/>
      </dsp:nvSpPr>
      <dsp:spPr>
        <a:xfrm>
          <a:off x="2012089" y="633823"/>
          <a:ext cx="4220736" cy="4220736"/>
        </a:xfrm>
        <a:prstGeom prst="blockArc">
          <a:avLst>
            <a:gd name="adj1" fmla="val 0"/>
            <a:gd name="adj2" fmla="val 5400000"/>
            <a:gd name="adj3" fmla="val 4644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A6A8F54-861D-4C42-B6D4-ED3ACD5F7724}">
      <dsp:nvSpPr>
        <dsp:cNvPr id="0" name=""/>
        <dsp:cNvSpPr/>
      </dsp:nvSpPr>
      <dsp:spPr>
        <a:xfrm>
          <a:off x="2012089" y="633823"/>
          <a:ext cx="4220736" cy="4220736"/>
        </a:xfrm>
        <a:prstGeom prst="blockArc">
          <a:avLst>
            <a:gd name="adj1" fmla="val 16200000"/>
            <a:gd name="adj2" fmla="val 0"/>
            <a:gd name="adj3" fmla="val 4644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C2DD1F9-BD24-413E-8523-AD26057B1C1D}">
      <dsp:nvSpPr>
        <dsp:cNvPr id="0" name=""/>
        <dsp:cNvSpPr/>
      </dsp:nvSpPr>
      <dsp:spPr>
        <a:xfrm>
          <a:off x="3150218" y="1771952"/>
          <a:ext cx="1944479" cy="1944479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0480" tIns="30480" rIns="30480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Описание проекта</a:t>
          </a:r>
          <a:endParaRPr lang="ru-RU" sz="2400" kern="1200" dirty="0"/>
        </a:p>
      </dsp:txBody>
      <dsp:txXfrm>
        <a:off x="3150218" y="1771952"/>
        <a:ext cx="1944479" cy="1944479"/>
      </dsp:txXfrm>
    </dsp:sp>
    <dsp:sp modelId="{7F09B5F5-A833-475D-99B9-073578159341}">
      <dsp:nvSpPr>
        <dsp:cNvPr id="0" name=""/>
        <dsp:cNvSpPr/>
      </dsp:nvSpPr>
      <dsp:spPr>
        <a:xfrm>
          <a:off x="3441890" y="2256"/>
          <a:ext cx="1361135" cy="1361135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Служебная информация для </a:t>
          </a:r>
          <a:r>
            <a:rPr lang="en-US" sz="1300" kern="1200" dirty="0" smtClean="0"/>
            <a:t>SPICE</a:t>
          </a:r>
          <a:endParaRPr lang="ru-RU" sz="1300" kern="1200" dirty="0"/>
        </a:p>
      </dsp:txBody>
      <dsp:txXfrm>
        <a:off x="3441890" y="2256"/>
        <a:ext cx="1361135" cy="1361135"/>
      </dsp:txXfrm>
    </dsp:sp>
    <dsp:sp modelId="{416CAFA2-34C2-4C6A-B6E3-56C58B88034B}">
      <dsp:nvSpPr>
        <dsp:cNvPr id="0" name=""/>
        <dsp:cNvSpPr/>
      </dsp:nvSpPr>
      <dsp:spPr>
        <a:xfrm>
          <a:off x="5503257" y="2063624"/>
          <a:ext cx="1361135" cy="1361135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Масштаб координат</a:t>
          </a:r>
          <a:endParaRPr lang="ru-RU" sz="1300" kern="1200" dirty="0"/>
        </a:p>
      </dsp:txBody>
      <dsp:txXfrm>
        <a:off x="5503257" y="2063624"/>
        <a:ext cx="1361135" cy="1361135"/>
      </dsp:txXfrm>
    </dsp:sp>
    <dsp:sp modelId="{FDECE774-D0D7-4A16-90E9-9F9AF1C6A6B5}">
      <dsp:nvSpPr>
        <dsp:cNvPr id="0" name=""/>
        <dsp:cNvSpPr/>
      </dsp:nvSpPr>
      <dsp:spPr>
        <a:xfrm>
          <a:off x="3441890" y="4124991"/>
          <a:ext cx="1361135" cy="1361135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Размеры объектов</a:t>
          </a:r>
          <a:endParaRPr lang="ru-RU" sz="1300" kern="1200" dirty="0"/>
        </a:p>
      </dsp:txBody>
      <dsp:txXfrm>
        <a:off x="3441890" y="4124991"/>
        <a:ext cx="1361135" cy="1361135"/>
      </dsp:txXfrm>
    </dsp:sp>
    <dsp:sp modelId="{E2E3C58D-F4AB-4F09-9FE5-02E613B6BEEE}">
      <dsp:nvSpPr>
        <dsp:cNvPr id="0" name=""/>
        <dsp:cNvSpPr/>
      </dsp:nvSpPr>
      <dsp:spPr>
        <a:xfrm>
          <a:off x="1380522" y="2063624"/>
          <a:ext cx="1361135" cy="1361135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300" kern="1200" dirty="0" smtClean="0"/>
            <a:t>Настройки камеры просмотра</a:t>
          </a:r>
          <a:endParaRPr lang="ru-RU" sz="1300" kern="1200" dirty="0"/>
        </a:p>
      </dsp:txBody>
      <dsp:txXfrm>
        <a:off x="1380522" y="2063624"/>
        <a:ext cx="1361135" cy="136113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radial6">
  <dgm:title val=""/>
  <dgm:desc val=""/>
  <dgm:catLst>
    <dgm:cat type="cycle" pri="9000"/>
    <dgm:cat type="relationship" pri="2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Name0">
    <dgm:varLst>
      <dgm:chMax val="1"/>
      <dgm:dir/>
      <dgm:animLvl val="ctr"/>
      <dgm:resizeHandles val="exact"/>
    </dgm:varLst>
    <dgm:choose name="Name1">
      <dgm:if name="Name2" func="var" arg="dir" op="equ" val="norm">
        <dgm:choose name="Name3">
          <dgm:if name="Name4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5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6">
        <dgm:choose name="Name7">
          <dgm:if name="Name8" axis="ch ch" ptType="node node" st="1 1" cnt="1 0" func="cnt" op="lte" val="1">
            <dgm:alg type="cycle">
              <dgm:param type="stAng" val="-90"/>
              <dgm:param type="spanAng" val="360"/>
              <dgm:param type="ctrShpMap" val="fNode"/>
            </dgm:alg>
          </dgm:if>
          <dgm:else name="Name9">
            <dgm:alg type="cycle">
              <dgm:param type="stAng" val="0"/>
              <dgm:param type="spanAng" val="-360"/>
              <dgm:param type="ctrShpMap" val="fNode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10">
      <dgm:if name="Name11" func="var" arg="dir" op="equ" val="norm">
        <dgm:choose name="Name12">
          <dgm:if name="Name13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des" forName="oneNode" refType="primFontSz" refFor="ch" refForName="centerShape" op="lte" fact="0.95"/>
              <dgm:constr type="diam" for="ch" forName="singleconn" refType="diam" op="equ" fact="-1"/>
              <dgm:constr type="h" for="ch" forName="singleconn" refType="w" refFor="ch" refForName="oneComp" fact="0.24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4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forName="sibTrans" refType="diam" op="equ"/>
              <dgm:constr type="h" for="ch" forName="sibTrans" refType="w" refFor="ch" refForName="node" fact="0.24"/>
              <dgm:constr type="w" for="ch" forName="dummy" val="1"/>
            </dgm:constrLst>
          </dgm:else>
        </dgm:choose>
      </dgm:if>
      <dgm:else name="Name15">
        <dgm:choose name="Name16">
          <dgm:if name="Name17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ch" forName="oneNode" refType="primFontSz" refFor="ch" refForName="centerShape" op="lte" fact="0.95"/>
              <dgm:constr type="diam" for="ch" forName="singleconn" refType="diam"/>
              <dgm:constr type="h" for="ch" forName="singleconn" refType="w" refFor="ch" refForName="oneComp" fact="0.24"/>
              <dgm:constr type="diam" for="ch" refType="diam" op="equ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8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ptType="sibTrans" refType="diam" fact="-1"/>
              <dgm:constr type="h" for="ch" forName="sibTrans" refType="w" refFor="ch" refForName="node" fact="0.24"/>
              <dgm:constr type="diam" for="ch" refType="diam" op="equ" fact="-1"/>
              <dgm:constr type="w" for="ch" forName="dummy" val="1"/>
            </dgm:constrLst>
          </dgm:else>
        </dgm:choose>
      </dgm:else>
    </dgm:choose>
    <dgm:ruleLst>
      <dgm:rule type="diam" val="INF" fact="NaN" max="NaN"/>
    </dgm:ruleLst>
    <dgm:forEach name="Name19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Name20" axis="ch">
        <dgm:forEach name="Name21" axis="self" ptType="node">
          <dgm:choose name="Name22">
            <dgm:if name="Name23" axis="par ch" ptType="node node" func="cnt" op="gt" val="1">
              <dgm:layoutNode name="node" styleLbl="node1">
                <dgm:varLst>
                  <dgm:bulletEnabled val="1"/>
                </dgm:varLst>
                <dgm:alg type="tx">
                  <dgm:param type="txAnchorVertCh" val="mid"/>
                </dgm:alg>
                <dgm:shape xmlns:r="http://schemas.openxmlformats.org/officeDocument/2006/relationships" type="ellipse" r:blip="">
                  <dgm:adjLst/>
                </dgm:shape>
                <dgm:presOf axis="desOrSelf" ptType="node"/>
                <dgm:constrLst>
                  <dgm:constr type="h" refType="w"/>
                  <dgm:constr type="tMarg" refType="primFontSz" fact="0.1"/>
                  <dgm:constr type="bMarg" refType="primFontSz" fact="0.1"/>
                  <dgm:constr type="lMarg" refType="primFontSz" fact="0.1"/>
                  <dgm:constr type="rMarg" refType="primFontSz" fact="0.1"/>
                </dgm:constrLst>
                <dgm:ruleLst>
                  <dgm:rule type="primFontSz" val="5" fact="NaN" max="NaN"/>
                </dgm:ruleLst>
              </dgm:layoutNode>
              <dgm:layoutNode name="dummy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" axis="followSib" ptType="sibTrans" hideLastTrans="0" cnt="1">
                <dgm:layoutNode name="sibTrans" styleLbl="sibTrans2D1">
                  <dgm:alg type="conn">
                    <dgm:param type="connRout" val="curve"/>
                    <dgm:param type="begPts" val="ctr"/>
                    <dgm:param type="endPts" val="ctr"/>
                    <dgm:param type="begSty" val="noArr"/>
                    <dgm:param type="endSty" val="noArr"/>
                    <dgm:param type="dstNode" val="node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if name="Name24" axis="par ch" ptType="node node" func="cnt" op="equ" val="1">
              <dgm:layoutNode name="oneComp">
                <dgm:alg type="composite">
                  <dgm:param type="ar" val="1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  <dgm:constr type="l" for="ch" forName="dummyConnPt" refType="w" fact="0.5"/>
                  <dgm:constr type="t" for="ch" forName="dummyConnPt" refType="w" fact="0.5"/>
                  <dgm:constr type="l" for="ch" forName="oneNode"/>
                  <dgm:constr type="t" for="ch" forName="oneNode"/>
                  <dgm:constr type="h" for="ch" forName="oneNode" refType="h"/>
                  <dgm:constr type="w" for="ch" forName="oneNode" refType="w"/>
                </dgm:constrLst>
                <dgm:ruleLst/>
                <dgm:layoutNode name="dummyConnPt" styleLbl="node1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val="1"/>
                    <dgm:constr type="h" val="1"/>
                  </dgm:constrLst>
                  <dgm:ruleLst/>
                </dgm:layoutNode>
                <dgm:layoutNode name="oneNode" styleLbl="node1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h" refType="w"/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</dgm:layoutNode>
              <dgm:layoutNode name="dummya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b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c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1" axis="followSib" ptType="sibTrans" hideLastTrans="0" cnt="1">
                <dgm:layoutNode name="singleconn" styleLbl="sibTrans2D1">
                  <dgm:alg type="conn">
                    <dgm:param type="connRout" val="longCurve"/>
                    <dgm:param type="begPts" val="bCtr"/>
                    <dgm:param type="endPts" val="tCtr"/>
                    <dgm:param type="begSty" val="noArr"/>
                    <dgm:param type="endSty" val="noArr"/>
                    <dgm:param type="srcNode" val="dummyConnPt"/>
                    <dgm:param type="dstNode" val="dummyConnPt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else name="Name25"/>
          </dgm:choos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1A3F2-D687-441C-9F68-18B092E6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58DE6-36C2-409E-BCD5-FE178D96966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D9894F-8DB8-45B3-A1B0-6DFD13D7D1B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49B428-C3EB-4E31-8F90-8D36D9C86B9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882960" y="0"/>
            <a:ext cx="2985840" cy="450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882960" y="8653320"/>
            <a:ext cx="2985840" cy="45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8653320"/>
            <a:ext cx="2985840" cy="45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2985840" cy="450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+mn-lt"/>
              <a:ea typeface="+mn-e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3160" y="615960"/>
            <a:ext cx="4711320" cy="3534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FEBE9-1A6D-416B-BF5E-9CF630433E1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9AF367-0AF5-4777-8BD7-A3E26EC3340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FA541-6A34-4D21-A8C7-609898A9C63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114-005E-4C0E-9F11-A0E67E31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EE7-83DB-45BD-B9ED-BC7919D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2CA-062D-4AAE-AA49-E66D8C7D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DC3-36CD-4A90-B8FA-65F871A6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2CE6-EBCE-41E1-B09F-009653B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D85-CE90-4C02-8BF2-9E48D1EE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75D0-A0A4-4ECC-B2B5-BCE2F863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CD0-DF73-4651-B477-730DC970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23A0-0699-4E3C-ABA0-2A54365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ACA-5B55-4D48-A9D2-7A3D96FA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83FF-491A-4BA5-99A8-15CEA64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AA3-BDDE-4C11-B5E8-138947A6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9B36-7777-4D31-93BA-CA47EED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0ED9-9C46-41F6-A210-DF74CAC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4B3-09BB-482D-BA06-F896828F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84B8-5BEF-45A8-949D-15FCF44E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9AB-48F9-4A50-AE2D-4253DE16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6A24-11D1-4173-B726-6DE52062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7F0F-0089-4C60-88A2-C9A6FD84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1305-1E8A-4EE3-8FDE-6EEA2D2B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207B-42BF-4601-89B8-B31FCAE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666D-859D-4F92-9D30-148C8F6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433-D50B-4E84-9624-1BA70897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E1B2-B4E4-4C42-8036-EED7BC1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EAE9-8CB0-4B58-B6E5-4690CA4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D83B-7340-470C-ADEF-0A7A59C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39B4E-E850-42A6-94FE-BB28EF5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8846-E7F5-4E11-AFD5-B3BCFCA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2EFE-CB3E-4C23-91EC-61C249AD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64D4-EF8C-4D14-843C-B6FA7283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77C-EE9F-4BF0-B144-6F5CA794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96D-4FCA-43F6-9CAE-57272F16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20B-4FD2-41E3-8AA6-4E71943F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55E-7BF4-460C-AF0E-BE806E9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838-5C9F-4FD3-BC68-7D88C0F0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1C3-4B66-44FA-A442-22755AC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A25EAC-769E-4601-AD86-2901469507F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5D3E9C-770C-4E4F-809C-D64AD8F0799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E7D01-67B2-4E1E-A968-E436356DE3C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831960" y="1772640"/>
            <a:ext cx="7772040" cy="1088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ограммный комплекс визуализации для систем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371600" y="4605480"/>
            <a:ext cx="701640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дков А.А., Аббакумов А.С., Назаров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.Н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Институт Космически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оссийской Академии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Та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132" name="Прямая соединительная линия 15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133" name="Прямоугольник 6"/>
          <p:cNvSpPr/>
          <p:nvPr/>
        </p:nvSpPr>
        <p:spPr>
          <a:xfrm>
            <a:off x="142920" y="660312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БД и информация о про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76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pic>
        <p:nvPicPr>
          <p:cNvPr id="377" name="Picture 10" descr="D:\конференция\Таруса 09.07.2011\2.3.jpg"/>
          <p:cNvPicPr/>
          <p:nvPr/>
        </p:nvPicPr>
        <p:blipFill>
          <a:blip r:embed="rId2"/>
          <a:stretch/>
        </p:blipFill>
        <p:spPr>
          <a:xfrm>
            <a:off x="58680" y="2169000"/>
            <a:ext cx="9049320" cy="886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D:\конференция\Таруса 09.07.2011\2.1.jpg"/>
          <p:cNvPicPr/>
          <p:nvPr/>
        </p:nvPicPr>
        <p:blipFill>
          <a:blip r:embed="rId3"/>
          <a:stretch/>
        </p:blipFill>
        <p:spPr>
          <a:xfrm>
            <a:off x="0" y="2169000"/>
            <a:ext cx="9143640" cy="913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D:\конференция\Таруса 09.07.2011\2.4.jpg"/>
          <p:cNvPicPr/>
          <p:nvPr/>
        </p:nvPicPr>
        <p:blipFill>
          <a:blip r:embed="rId4"/>
          <a:stretch/>
        </p:blipFill>
        <p:spPr>
          <a:xfrm>
            <a:off x="35640" y="2205000"/>
            <a:ext cx="9085320" cy="1711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D:\конференция\Таруса 09.07.2011\2.2.jpg"/>
          <p:cNvPicPr/>
          <p:nvPr/>
        </p:nvPicPr>
        <p:blipFill>
          <a:blip r:embed="rId5"/>
          <a:stretch/>
        </p:blipFill>
        <p:spPr>
          <a:xfrm>
            <a:off x="0" y="2169000"/>
            <a:ext cx="9145800" cy="1836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D:\конференция\Таруса 09.07.2011\1.1.jpg"/>
          <p:cNvPicPr/>
          <p:nvPr/>
        </p:nvPicPr>
        <p:blipFill>
          <a:blip r:embed="rId6"/>
          <a:stretch/>
        </p:blipFill>
        <p:spPr>
          <a:xfrm>
            <a:off x="0" y="2169000"/>
            <a:ext cx="9143640" cy="2757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5" descr="D:\конференция\Таруса 09.07.2011\1.2.jpg"/>
          <p:cNvPicPr/>
          <p:nvPr/>
        </p:nvPicPr>
        <p:blipFill>
          <a:blip r:embed="rId7"/>
          <a:stretch/>
        </p:blipFill>
        <p:spPr>
          <a:xfrm>
            <a:off x="0" y="2205000"/>
            <a:ext cx="9143640" cy="2736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6" descr="D:\конференция\Таруса 09.07.2011\1.3.jpg"/>
          <p:cNvPicPr/>
          <p:nvPr/>
        </p:nvPicPr>
        <p:blipFill>
          <a:blip r:embed="rId8"/>
          <a:stretch/>
        </p:blipFill>
        <p:spPr>
          <a:xfrm>
            <a:off x="0" y="2277000"/>
            <a:ext cx="9191160" cy="2772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1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Пример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pic>
        <p:nvPicPr>
          <p:cNvPr id="388" name="Picture 2" descr="D:\конференция\Таруса 09.07.2011\2.jpg"/>
          <p:cNvPicPr/>
          <p:nvPr/>
        </p:nvPicPr>
        <p:blipFill>
          <a:blip r:embed="rId2"/>
          <a:stretch/>
        </p:blipFill>
        <p:spPr>
          <a:xfrm>
            <a:off x="-288720" y="1196640"/>
            <a:ext cx="5100480" cy="50029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6"/>
          <p:cNvSpPr/>
          <p:nvPr/>
        </p:nvSpPr>
        <p:spPr>
          <a:xfrm>
            <a:off x="621000" y="6093360"/>
            <a:ext cx="2480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Трехсуточная орб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D:\конференция\Таруса 09.07.2011\3.jpg"/>
          <p:cNvPicPr/>
          <p:nvPr/>
        </p:nvPicPr>
        <p:blipFill>
          <a:blip r:embed="rId3"/>
          <a:stretch/>
        </p:blipFill>
        <p:spPr>
          <a:xfrm>
            <a:off x="3886920" y="1376640"/>
            <a:ext cx="4789080" cy="46976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8"/>
          <p:cNvSpPr/>
          <p:nvPr/>
        </p:nvSpPr>
        <p:spPr>
          <a:xfrm>
            <a:off x="5010480" y="6089400"/>
            <a:ext cx="2967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Квазисинхронная орб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Arial"/>
            </a:endParaRPr>
          </a:p>
        </p:txBody>
      </p:sp>
      <p:pic>
        <p:nvPicPr>
          <p:cNvPr id="394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95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396" name="Rectangle 4"/>
          <p:cNvSpPr/>
          <p:nvPr/>
        </p:nvSpPr>
        <p:spPr>
          <a:xfrm>
            <a:off x="1115640" y="4509000"/>
            <a:ext cx="7016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дков А.А., Аббакумов А.С., Назаров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.Н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Институт Космически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оссийской Академии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Тару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75640" y="1520640"/>
            <a:ext cx="7884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пыт отработки первой версии программы показал ее высокую актуальность, большое количество экспериментаторов выразило заинтересованность в ее использовании, с их стороны был получен широкий список предложений по улучшению ее работы и расширению ее функциональных возможностей, которые учтены при разработке новой версии. Работы по которой продолжаются в настояще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1727640" y="135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9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единительная линия 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136" name="Rectangle 18"/>
          <p:cNvSpPr/>
          <p:nvPr/>
        </p:nvSpPr>
        <p:spPr>
          <a:xfrm>
            <a:off x="1847160" y="188640"/>
            <a:ext cx="636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1"/>
                </a:solidFill>
                <a:latin typeface="Arial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079640" y="1196640"/>
            <a:ext cx="7772040" cy="180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SPICE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– это система хранения навигационных и вспомогательных данных, необходимых для осуществления планирования наблюдений и обработки результатов экспериментов, проводимых научными приборами в космических прое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142920" y="660312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97969770"/>
              </p:ext>
            </p:extLst>
          </p:nvPr>
        </p:nvGraphicFramePr>
        <p:xfrm>
          <a:off x="2447640" y="3429000"/>
          <a:ext cx="4860360" cy="271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228600" y="1901880"/>
            <a:ext cx="8821440" cy="3099960"/>
          </a:xfrm>
          <a:prstGeom prst="parallelogram">
            <a:avLst>
              <a:gd name="adj" fmla="val 71134"/>
            </a:avLst>
          </a:prstGeom>
          <a:pattFill prst="openDmnd">
            <a:fgClr>
              <a:srgbClr val="dedddd"/>
            </a:fgClr>
            <a:bgClr>
              <a:srgbClr val="ffffff"/>
            </a:bgClr>
          </a:patt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1298520" y="1627200"/>
            <a:ext cx="7406640" cy="4390560"/>
            <a:chOff x="1298520" y="1627200"/>
            <a:chExt cx="7406640" cy="4390560"/>
          </a:xfrm>
        </p:grpSpPr>
        <p:sp>
          <p:nvSpPr>
            <p:cNvPr id="141" name="Freeform 4"/>
            <p:cNvSpPr/>
            <p:nvPr/>
          </p:nvSpPr>
          <p:spPr>
            <a:xfrm>
              <a:off x="1298520" y="1627200"/>
              <a:ext cx="3044520" cy="3452400"/>
            </a:xfrm>
            <a:custGeom>
              <a:avLst/>
              <a:gdLst>
                <a:gd name="textAreaLeft" fmla="*/ 0 w 3044520"/>
                <a:gd name="textAreaRight" fmla="*/ 3044880 w 3044520"/>
                <a:gd name="textAreaTop" fmla="*/ 0 h 3452400"/>
                <a:gd name="textAreaBottom" fmla="*/ 3452760 h 3452400"/>
              </a:gdLst>
              <a:ahLst/>
              <a:rect l="textAreaLeft" t="textAreaTop" r="textAreaRight" b="textAreaBottom"/>
              <a:pathLst>
                <a:path w="1875" h="2105">
                  <a:moveTo>
                    <a:pt x="960" y="695"/>
                  </a:moveTo>
                  <a:lnTo>
                    <a:pt x="1006" y="672"/>
                  </a:lnTo>
                  <a:lnTo>
                    <a:pt x="1120" y="765"/>
                  </a:lnTo>
                  <a:lnTo>
                    <a:pt x="1143" y="742"/>
                  </a:lnTo>
                  <a:lnTo>
                    <a:pt x="1052" y="464"/>
                  </a:lnTo>
                  <a:lnTo>
                    <a:pt x="1075" y="441"/>
                  </a:lnTo>
                  <a:lnTo>
                    <a:pt x="1120" y="441"/>
                  </a:lnTo>
                  <a:lnTo>
                    <a:pt x="1152" y="455"/>
                  </a:lnTo>
                  <a:lnTo>
                    <a:pt x="1183" y="468"/>
                  </a:lnTo>
                  <a:lnTo>
                    <a:pt x="1213" y="482"/>
                  </a:lnTo>
                  <a:lnTo>
                    <a:pt x="1243" y="496"/>
                  </a:lnTo>
                  <a:lnTo>
                    <a:pt x="1272" y="511"/>
                  </a:lnTo>
                  <a:lnTo>
                    <a:pt x="1300" y="526"/>
                  </a:lnTo>
                  <a:lnTo>
                    <a:pt x="1327" y="542"/>
                  </a:lnTo>
                  <a:lnTo>
                    <a:pt x="1354" y="557"/>
                  </a:lnTo>
                  <a:lnTo>
                    <a:pt x="1380" y="574"/>
                  </a:lnTo>
                  <a:lnTo>
                    <a:pt x="1406" y="590"/>
                  </a:lnTo>
                  <a:lnTo>
                    <a:pt x="1431" y="607"/>
                  </a:lnTo>
                  <a:lnTo>
                    <a:pt x="1456" y="624"/>
                  </a:lnTo>
                  <a:lnTo>
                    <a:pt x="1479" y="641"/>
                  </a:lnTo>
                  <a:lnTo>
                    <a:pt x="1503" y="659"/>
                  </a:lnTo>
                  <a:lnTo>
                    <a:pt x="1526" y="677"/>
                  </a:lnTo>
                  <a:lnTo>
                    <a:pt x="1549" y="695"/>
                  </a:lnTo>
                  <a:lnTo>
                    <a:pt x="1571" y="714"/>
                  </a:lnTo>
                  <a:lnTo>
                    <a:pt x="1593" y="733"/>
                  </a:lnTo>
                  <a:lnTo>
                    <a:pt x="1615" y="752"/>
                  </a:lnTo>
                  <a:lnTo>
                    <a:pt x="1636" y="771"/>
                  </a:lnTo>
                  <a:lnTo>
                    <a:pt x="1657" y="791"/>
                  </a:lnTo>
                  <a:lnTo>
                    <a:pt x="1678" y="811"/>
                  </a:lnTo>
                  <a:lnTo>
                    <a:pt x="1698" y="830"/>
                  </a:lnTo>
                  <a:lnTo>
                    <a:pt x="1718" y="851"/>
                  </a:lnTo>
                  <a:lnTo>
                    <a:pt x="1738" y="871"/>
                  </a:lnTo>
                  <a:lnTo>
                    <a:pt x="1758" y="892"/>
                  </a:lnTo>
                  <a:lnTo>
                    <a:pt x="1778" y="912"/>
                  </a:lnTo>
                  <a:lnTo>
                    <a:pt x="1797" y="933"/>
                  </a:lnTo>
                  <a:lnTo>
                    <a:pt x="1817" y="954"/>
                  </a:lnTo>
                  <a:lnTo>
                    <a:pt x="1836" y="976"/>
                  </a:lnTo>
                  <a:lnTo>
                    <a:pt x="1855" y="997"/>
                  </a:lnTo>
                  <a:lnTo>
                    <a:pt x="1875" y="1019"/>
                  </a:lnTo>
                  <a:lnTo>
                    <a:pt x="1875" y="1042"/>
                  </a:lnTo>
                  <a:lnTo>
                    <a:pt x="1852" y="1065"/>
                  </a:lnTo>
                  <a:lnTo>
                    <a:pt x="1578" y="1065"/>
                  </a:lnTo>
                  <a:lnTo>
                    <a:pt x="1555" y="1088"/>
                  </a:lnTo>
                  <a:lnTo>
                    <a:pt x="1623" y="1157"/>
                  </a:lnTo>
                  <a:lnTo>
                    <a:pt x="1555" y="1250"/>
                  </a:lnTo>
                  <a:lnTo>
                    <a:pt x="1486" y="1181"/>
                  </a:lnTo>
                  <a:lnTo>
                    <a:pt x="1486" y="1273"/>
                  </a:lnTo>
                  <a:lnTo>
                    <a:pt x="1488" y="1283"/>
                  </a:lnTo>
                  <a:lnTo>
                    <a:pt x="1555" y="1365"/>
                  </a:lnTo>
                  <a:lnTo>
                    <a:pt x="1509" y="1411"/>
                  </a:lnTo>
                  <a:lnTo>
                    <a:pt x="1463" y="1411"/>
                  </a:lnTo>
                  <a:lnTo>
                    <a:pt x="1417" y="1458"/>
                  </a:lnTo>
                  <a:lnTo>
                    <a:pt x="1326" y="1388"/>
                  </a:lnTo>
                  <a:lnTo>
                    <a:pt x="1280" y="1435"/>
                  </a:lnTo>
                  <a:lnTo>
                    <a:pt x="1280" y="1527"/>
                  </a:lnTo>
                  <a:lnTo>
                    <a:pt x="1258" y="1550"/>
                  </a:lnTo>
                  <a:lnTo>
                    <a:pt x="1263" y="1559"/>
                  </a:lnTo>
                  <a:lnTo>
                    <a:pt x="1269" y="1568"/>
                  </a:lnTo>
                  <a:lnTo>
                    <a:pt x="1273" y="1577"/>
                  </a:lnTo>
                  <a:lnTo>
                    <a:pt x="1276" y="1586"/>
                  </a:lnTo>
                  <a:lnTo>
                    <a:pt x="1279" y="1594"/>
                  </a:lnTo>
                  <a:lnTo>
                    <a:pt x="1280" y="1603"/>
                  </a:lnTo>
                  <a:lnTo>
                    <a:pt x="1281" y="1612"/>
                  </a:lnTo>
                  <a:lnTo>
                    <a:pt x="1282" y="1621"/>
                  </a:lnTo>
                  <a:lnTo>
                    <a:pt x="1281" y="1629"/>
                  </a:lnTo>
                  <a:lnTo>
                    <a:pt x="1280" y="1637"/>
                  </a:lnTo>
                  <a:lnTo>
                    <a:pt x="1278" y="1645"/>
                  </a:lnTo>
                  <a:lnTo>
                    <a:pt x="1276" y="1653"/>
                  </a:lnTo>
                  <a:lnTo>
                    <a:pt x="1273" y="1660"/>
                  </a:lnTo>
                  <a:lnTo>
                    <a:pt x="1269" y="1667"/>
                  </a:lnTo>
                  <a:lnTo>
                    <a:pt x="1265" y="1674"/>
                  </a:lnTo>
                  <a:lnTo>
                    <a:pt x="1260" y="1680"/>
                  </a:lnTo>
                  <a:lnTo>
                    <a:pt x="1255" y="1686"/>
                  </a:lnTo>
                  <a:lnTo>
                    <a:pt x="1250" y="1691"/>
                  </a:lnTo>
                  <a:lnTo>
                    <a:pt x="1244" y="1695"/>
                  </a:lnTo>
                  <a:lnTo>
                    <a:pt x="1238" y="1700"/>
                  </a:lnTo>
                  <a:lnTo>
                    <a:pt x="1231" y="1703"/>
                  </a:lnTo>
                  <a:lnTo>
                    <a:pt x="1224" y="1706"/>
                  </a:lnTo>
                  <a:lnTo>
                    <a:pt x="1217" y="1708"/>
                  </a:lnTo>
                  <a:lnTo>
                    <a:pt x="1209" y="1709"/>
                  </a:lnTo>
                  <a:lnTo>
                    <a:pt x="1202" y="1710"/>
                  </a:lnTo>
                  <a:lnTo>
                    <a:pt x="1194" y="1710"/>
                  </a:lnTo>
                  <a:lnTo>
                    <a:pt x="1185" y="1709"/>
                  </a:lnTo>
                  <a:lnTo>
                    <a:pt x="1177" y="1707"/>
                  </a:lnTo>
                  <a:lnTo>
                    <a:pt x="1169" y="1704"/>
                  </a:lnTo>
                  <a:lnTo>
                    <a:pt x="1160" y="1700"/>
                  </a:lnTo>
                  <a:lnTo>
                    <a:pt x="1152" y="1695"/>
                  </a:lnTo>
                  <a:lnTo>
                    <a:pt x="1143" y="1689"/>
                  </a:lnTo>
                  <a:lnTo>
                    <a:pt x="1052" y="1758"/>
                  </a:lnTo>
                  <a:lnTo>
                    <a:pt x="1075" y="1804"/>
                  </a:lnTo>
                  <a:lnTo>
                    <a:pt x="1280" y="1896"/>
                  </a:lnTo>
                  <a:lnTo>
                    <a:pt x="1280" y="1903"/>
                  </a:lnTo>
                  <a:lnTo>
                    <a:pt x="1280" y="1909"/>
                  </a:lnTo>
                  <a:lnTo>
                    <a:pt x="1280" y="1915"/>
                  </a:lnTo>
                  <a:lnTo>
                    <a:pt x="1279" y="1921"/>
                  </a:lnTo>
                  <a:lnTo>
                    <a:pt x="1279" y="1926"/>
                  </a:lnTo>
                  <a:lnTo>
                    <a:pt x="1278" y="1931"/>
                  </a:lnTo>
                  <a:lnTo>
                    <a:pt x="1277" y="1936"/>
                  </a:lnTo>
                  <a:lnTo>
                    <a:pt x="1276" y="1941"/>
                  </a:lnTo>
                  <a:lnTo>
                    <a:pt x="1275" y="1945"/>
                  </a:lnTo>
                  <a:lnTo>
                    <a:pt x="1274" y="1950"/>
                  </a:lnTo>
                  <a:lnTo>
                    <a:pt x="1272" y="1954"/>
                  </a:lnTo>
                  <a:lnTo>
                    <a:pt x="1271" y="1958"/>
                  </a:lnTo>
                  <a:lnTo>
                    <a:pt x="1269" y="1961"/>
                  </a:lnTo>
                  <a:lnTo>
                    <a:pt x="1267" y="1965"/>
                  </a:lnTo>
                  <a:lnTo>
                    <a:pt x="1265" y="1968"/>
                  </a:lnTo>
                  <a:lnTo>
                    <a:pt x="1263" y="1972"/>
                  </a:lnTo>
                  <a:lnTo>
                    <a:pt x="1261" y="1975"/>
                  </a:lnTo>
                  <a:lnTo>
                    <a:pt x="1259" y="1978"/>
                  </a:lnTo>
                  <a:lnTo>
                    <a:pt x="1256" y="1981"/>
                  </a:lnTo>
                  <a:lnTo>
                    <a:pt x="1254" y="1984"/>
                  </a:lnTo>
                  <a:lnTo>
                    <a:pt x="1251" y="1987"/>
                  </a:lnTo>
                  <a:lnTo>
                    <a:pt x="1248" y="1989"/>
                  </a:lnTo>
                  <a:lnTo>
                    <a:pt x="1245" y="1992"/>
                  </a:lnTo>
                  <a:lnTo>
                    <a:pt x="1242" y="1994"/>
                  </a:lnTo>
                  <a:lnTo>
                    <a:pt x="1235" y="1999"/>
                  </a:lnTo>
                  <a:lnTo>
                    <a:pt x="1228" y="2003"/>
                  </a:lnTo>
                  <a:lnTo>
                    <a:pt x="1220" y="2008"/>
                  </a:lnTo>
                  <a:lnTo>
                    <a:pt x="1212" y="2012"/>
                  </a:lnTo>
                  <a:lnTo>
                    <a:pt x="1189" y="1989"/>
                  </a:lnTo>
                  <a:lnTo>
                    <a:pt x="1189" y="1993"/>
                  </a:lnTo>
                  <a:lnTo>
                    <a:pt x="1189" y="1997"/>
                  </a:lnTo>
                  <a:lnTo>
                    <a:pt x="1188" y="2001"/>
                  </a:lnTo>
                  <a:lnTo>
                    <a:pt x="1188" y="2005"/>
                  </a:lnTo>
                  <a:lnTo>
                    <a:pt x="1187" y="2009"/>
                  </a:lnTo>
                  <a:lnTo>
                    <a:pt x="1187" y="2012"/>
                  </a:lnTo>
                  <a:lnTo>
                    <a:pt x="1186" y="2016"/>
                  </a:lnTo>
                  <a:lnTo>
                    <a:pt x="1185" y="2019"/>
                  </a:lnTo>
                  <a:lnTo>
                    <a:pt x="1184" y="2023"/>
                  </a:lnTo>
                  <a:lnTo>
                    <a:pt x="1183" y="2026"/>
                  </a:lnTo>
                  <a:lnTo>
                    <a:pt x="1182" y="2029"/>
                  </a:lnTo>
                  <a:lnTo>
                    <a:pt x="1180" y="2031"/>
                  </a:lnTo>
                  <a:lnTo>
                    <a:pt x="1179" y="2034"/>
                  </a:lnTo>
                  <a:lnTo>
                    <a:pt x="1178" y="2036"/>
                  </a:lnTo>
                  <a:lnTo>
                    <a:pt x="1176" y="2039"/>
                  </a:lnTo>
                  <a:lnTo>
                    <a:pt x="1175" y="2041"/>
                  </a:lnTo>
                  <a:lnTo>
                    <a:pt x="1173" y="2043"/>
                  </a:lnTo>
                  <a:lnTo>
                    <a:pt x="1171" y="2045"/>
                  </a:lnTo>
                  <a:lnTo>
                    <a:pt x="1169" y="2047"/>
                  </a:lnTo>
                  <a:lnTo>
                    <a:pt x="1168" y="2049"/>
                  </a:lnTo>
                  <a:lnTo>
                    <a:pt x="1166" y="2050"/>
                  </a:lnTo>
                  <a:lnTo>
                    <a:pt x="1164" y="2051"/>
                  </a:lnTo>
                  <a:lnTo>
                    <a:pt x="1162" y="2053"/>
                  </a:lnTo>
                  <a:lnTo>
                    <a:pt x="1160" y="2054"/>
                  </a:lnTo>
                  <a:lnTo>
                    <a:pt x="1158" y="2055"/>
                  </a:lnTo>
                  <a:lnTo>
                    <a:pt x="1156" y="2056"/>
                  </a:lnTo>
                  <a:lnTo>
                    <a:pt x="1154" y="2057"/>
                  </a:lnTo>
                  <a:lnTo>
                    <a:pt x="1152" y="2057"/>
                  </a:lnTo>
                  <a:lnTo>
                    <a:pt x="1150" y="2058"/>
                  </a:lnTo>
                  <a:lnTo>
                    <a:pt x="1148" y="2058"/>
                  </a:lnTo>
                  <a:lnTo>
                    <a:pt x="1145" y="2058"/>
                  </a:lnTo>
                  <a:lnTo>
                    <a:pt x="1143" y="2058"/>
                  </a:lnTo>
                  <a:lnTo>
                    <a:pt x="1120" y="2035"/>
                  </a:lnTo>
                  <a:lnTo>
                    <a:pt x="1098" y="2105"/>
                  </a:lnTo>
                  <a:lnTo>
                    <a:pt x="1029" y="2058"/>
                  </a:lnTo>
                  <a:lnTo>
                    <a:pt x="1029" y="1989"/>
                  </a:lnTo>
                  <a:lnTo>
                    <a:pt x="937" y="1850"/>
                  </a:lnTo>
                  <a:lnTo>
                    <a:pt x="893" y="1853"/>
                  </a:lnTo>
                  <a:lnTo>
                    <a:pt x="869" y="1874"/>
                  </a:lnTo>
                  <a:lnTo>
                    <a:pt x="847" y="1872"/>
                  </a:lnTo>
                  <a:lnTo>
                    <a:pt x="777" y="1874"/>
                  </a:lnTo>
                  <a:lnTo>
                    <a:pt x="754" y="1896"/>
                  </a:lnTo>
                  <a:lnTo>
                    <a:pt x="732" y="1896"/>
                  </a:lnTo>
                  <a:lnTo>
                    <a:pt x="686" y="1989"/>
                  </a:lnTo>
                  <a:lnTo>
                    <a:pt x="682" y="1989"/>
                  </a:lnTo>
                  <a:lnTo>
                    <a:pt x="677" y="1989"/>
                  </a:lnTo>
                  <a:lnTo>
                    <a:pt x="674" y="1988"/>
                  </a:lnTo>
                  <a:lnTo>
                    <a:pt x="670" y="1988"/>
                  </a:lnTo>
                  <a:lnTo>
                    <a:pt x="666" y="1987"/>
                  </a:lnTo>
                  <a:lnTo>
                    <a:pt x="663" y="1987"/>
                  </a:lnTo>
                  <a:lnTo>
                    <a:pt x="659" y="1986"/>
                  </a:lnTo>
                  <a:lnTo>
                    <a:pt x="656" y="1985"/>
                  </a:lnTo>
                  <a:lnTo>
                    <a:pt x="653" y="1984"/>
                  </a:lnTo>
                  <a:lnTo>
                    <a:pt x="650" y="1983"/>
                  </a:lnTo>
                  <a:lnTo>
                    <a:pt x="647" y="1982"/>
                  </a:lnTo>
                  <a:lnTo>
                    <a:pt x="644" y="1981"/>
                  </a:lnTo>
                  <a:lnTo>
                    <a:pt x="641" y="1979"/>
                  </a:lnTo>
                  <a:lnTo>
                    <a:pt x="639" y="1978"/>
                  </a:lnTo>
                  <a:lnTo>
                    <a:pt x="637" y="1976"/>
                  </a:lnTo>
                  <a:lnTo>
                    <a:pt x="634" y="1974"/>
                  </a:lnTo>
                  <a:lnTo>
                    <a:pt x="632" y="1973"/>
                  </a:lnTo>
                  <a:lnTo>
                    <a:pt x="630" y="1971"/>
                  </a:lnTo>
                  <a:lnTo>
                    <a:pt x="629" y="1969"/>
                  </a:lnTo>
                  <a:lnTo>
                    <a:pt x="627" y="1968"/>
                  </a:lnTo>
                  <a:lnTo>
                    <a:pt x="625" y="1966"/>
                  </a:lnTo>
                  <a:lnTo>
                    <a:pt x="624" y="1964"/>
                  </a:lnTo>
                  <a:lnTo>
                    <a:pt x="623" y="1962"/>
                  </a:lnTo>
                  <a:lnTo>
                    <a:pt x="622" y="1960"/>
                  </a:lnTo>
                  <a:lnTo>
                    <a:pt x="621" y="1958"/>
                  </a:lnTo>
                  <a:lnTo>
                    <a:pt x="620" y="1956"/>
                  </a:lnTo>
                  <a:lnTo>
                    <a:pt x="619" y="1954"/>
                  </a:lnTo>
                  <a:lnTo>
                    <a:pt x="618" y="1951"/>
                  </a:lnTo>
                  <a:lnTo>
                    <a:pt x="618" y="1949"/>
                  </a:lnTo>
                  <a:lnTo>
                    <a:pt x="617" y="1947"/>
                  </a:lnTo>
                  <a:lnTo>
                    <a:pt x="617" y="1945"/>
                  </a:lnTo>
                  <a:lnTo>
                    <a:pt x="617" y="1943"/>
                  </a:lnTo>
                  <a:lnTo>
                    <a:pt x="686" y="1874"/>
                  </a:lnTo>
                  <a:lnTo>
                    <a:pt x="640" y="1827"/>
                  </a:lnTo>
                  <a:lnTo>
                    <a:pt x="572" y="1920"/>
                  </a:lnTo>
                  <a:lnTo>
                    <a:pt x="569" y="1920"/>
                  </a:lnTo>
                  <a:lnTo>
                    <a:pt x="567" y="1919"/>
                  </a:lnTo>
                  <a:lnTo>
                    <a:pt x="565" y="1919"/>
                  </a:lnTo>
                  <a:lnTo>
                    <a:pt x="563" y="1919"/>
                  </a:lnTo>
                  <a:lnTo>
                    <a:pt x="561" y="1918"/>
                  </a:lnTo>
                  <a:lnTo>
                    <a:pt x="559" y="1917"/>
                  </a:lnTo>
                  <a:lnTo>
                    <a:pt x="557" y="1916"/>
                  </a:lnTo>
                  <a:lnTo>
                    <a:pt x="555" y="1915"/>
                  </a:lnTo>
                  <a:lnTo>
                    <a:pt x="553" y="1914"/>
                  </a:lnTo>
                  <a:lnTo>
                    <a:pt x="551" y="1913"/>
                  </a:lnTo>
                  <a:lnTo>
                    <a:pt x="549" y="1912"/>
                  </a:lnTo>
                  <a:lnTo>
                    <a:pt x="547" y="1910"/>
                  </a:lnTo>
                  <a:lnTo>
                    <a:pt x="545" y="1908"/>
                  </a:lnTo>
                  <a:lnTo>
                    <a:pt x="544" y="1907"/>
                  </a:lnTo>
                  <a:lnTo>
                    <a:pt x="542" y="1905"/>
                  </a:lnTo>
                  <a:lnTo>
                    <a:pt x="540" y="1902"/>
                  </a:lnTo>
                  <a:lnTo>
                    <a:pt x="539" y="1900"/>
                  </a:lnTo>
                  <a:lnTo>
                    <a:pt x="537" y="1898"/>
                  </a:lnTo>
                  <a:lnTo>
                    <a:pt x="536" y="1895"/>
                  </a:lnTo>
                  <a:lnTo>
                    <a:pt x="534" y="1893"/>
                  </a:lnTo>
                  <a:lnTo>
                    <a:pt x="533" y="1890"/>
                  </a:lnTo>
                  <a:lnTo>
                    <a:pt x="532" y="1887"/>
                  </a:lnTo>
                  <a:lnTo>
                    <a:pt x="531" y="1884"/>
                  </a:lnTo>
                  <a:lnTo>
                    <a:pt x="530" y="1881"/>
                  </a:lnTo>
                  <a:lnTo>
                    <a:pt x="529" y="1877"/>
                  </a:lnTo>
                  <a:lnTo>
                    <a:pt x="528" y="1874"/>
                  </a:lnTo>
                  <a:lnTo>
                    <a:pt x="527" y="1870"/>
                  </a:lnTo>
                  <a:lnTo>
                    <a:pt x="527" y="1867"/>
                  </a:lnTo>
                  <a:lnTo>
                    <a:pt x="526" y="1863"/>
                  </a:lnTo>
                  <a:lnTo>
                    <a:pt x="526" y="1859"/>
                  </a:lnTo>
                  <a:lnTo>
                    <a:pt x="526" y="1855"/>
                  </a:lnTo>
                  <a:lnTo>
                    <a:pt x="526" y="1850"/>
                  </a:lnTo>
                  <a:lnTo>
                    <a:pt x="617" y="1781"/>
                  </a:lnTo>
                  <a:lnTo>
                    <a:pt x="595" y="1712"/>
                  </a:lnTo>
                  <a:lnTo>
                    <a:pt x="480" y="1689"/>
                  </a:lnTo>
                  <a:lnTo>
                    <a:pt x="434" y="1666"/>
                  </a:lnTo>
                  <a:lnTo>
                    <a:pt x="434" y="1596"/>
                  </a:lnTo>
                  <a:lnTo>
                    <a:pt x="480" y="1550"/>
                  </a:lnTo>
                  <a:lnTo>
                    <a:pt x="412" y="1504"/>
                  </a:lnTo>
                  <a:lnTo>
                    <a:pt x="366" y="1550"/>
                  </a:lnTo>
                  <a:lnTo>
                    <a:pt x="320" y="1527"/>
                  </a:lnTo>
                  <a:lnTo>
                    <a:pt x="320" y="1458"/>
                  </a:lnTo>
                  <a:lnTo>
                    <a:pt x="366" y="1458"/>
                  </a:lnTo>
                  <a:lnTo>
                    <a:pt x="320" y="1411"/>
                  </a:lnTo>
                  <a:lnTo>
                    <a:pt x="320" y="1407"/>
                  </a:lnTo>
                  <a:lnTo>
                    <a:pt x="320" y="1403"/>
                  </a:lnTo>
                  <a:lnTo>
                    <a:pt x="321" y="1399"/>
                  </a:lnTo>
                  <a:lnTo>
                    <a:pt x="321" y="1395"/>
                  </a:lnTo>
                  <a:lnTo>
                    <a:pt x="322" y="1392"/>
                  </a:lnTo>
                  <a:lnTo>
                    <a:pt x="322" y="1388"/>
                  </a:lnTo>
                  <a:lnTo>
                    <a:pt x="323" y="1385"/>
                  </a:lnTo>
                  <a:lnTo>
                    <a:pt x="324" y="1381"/>
                  </a:lnTo>
                  <a:lnTo>
                    <a:pt x="325" y="1378"/>
                  </a:lnTo>
                  <a:lnTo>
                    <a:pt x="327" y="1375"/>
                  </a:lnTo>
                  <a:lnTo>
                    <a:pt x="328" y="1372"/>
                  </a:lnTo>
                  <a:lnTo>
                    <a:pt x="330" y="1369"/>
                  </a:lnTo>
                  <a:lnTo>
                    <a:pt x="331" y="1367"/>
                  </a:lnTo>
                  <a:lnTo>
                    <a:pt x="333" y="1364"/>
                  </a:lnTo>
                  <a:lnTo>
                    <a:pt x="335" y="1362"/>
                  </a:lnTo>
                  <a:lnTo>
                    <a:pt x="337" y="1359"/>
                  </a:lnTo>
                  <a:lnTo>
                    <a:pt x="339" y="1357"/>
                  </a:lnTo>
                  <a:lnTo>
                    <a:pt x="342" y="1355"/>
                  </a:lnTo>
                  <a:lnTo>
                    <a:pt x="344" y="1354"/>
                  </a:lnTo>
                  <a:lnTo>
                    <a:pt x="347" y="1352"/>
                  </a:lnTo>
                  <a:lnTo>
                    <a:pt x="350" y="1350"/>
                  </a:lnTo>
                  <a:lnTo>
                    <a:pt x="353" y="1349"/>
                  </a:lnTo>
                  <a:lnTo>
                    <a:pt x="356" y="1348"/>
                  </a:lnTo>
                  <a:lnTo>
                    <a:pt x="359" y="1347"/>
                  </a:lnTo>
                  <a:lnTo>
                    <a:pt x="362" y="1346"/>
                  </a:lnTo>
                  <a:lnTo>
                    <a:pt x="365" y="1345"/>
                  </a:lnTo>
                  <a:lnTo>
                    <a:pt x="369" y="1344"/>
                  </a:lnTo>
                  <a:lnTo>
                    <a:pt x="372" y="1343"/>
                  </a:lnTo>
                  <a:lnTo>
                    <a:pt x="376" y="1343"/>
                  </a:lnTo>
                  <a:lnTo>
                    <a:pt x="380" y="1343"/>
                  </a:lnTo>
                  <a:lnTo>
                    <a:pt x="384" y="1342"/>
                  </a:lnTo>
                  <a:lnTo>
                    <a:pt x="389" y="1342"/>
                  </a:lnTo>
                  <a:lnTo>
                    <a:pt x="366" y="1319"/>
                  </a:lnTo>
                  <a:lnTo>
                    <a:pt x="368" y="1315"/>
                  </a:lnTo>
                  <a:lnTo>
                    <a:pt x="370" y="1311"/>
                  </a:lnTo>
                  <a:lnTo>
                    <a:pt x="372" y="1307"/>
                  </a:lnTo>
                  <a:lnTo>
                    <a:pt x="374" y="1304"/>
                  </a:lnTo>
                  <a:lnTo>
                    <a:pt x="377" y="1301"/>
                  </a:lnTo>
                  <a:lnTo>
                    <a:pt x="379" y="1298"/>
                  </a:lnTo>
                  <a:lnTo>
                    <a:pt x="381" y="1295"/>
                  </a:lnTo>
                  <a:lnTo>
                    <a:pt x="383" y="1293"/>
                  </a:lnTo>
                  <a:lnTo>
                    <a:pt x="386" y="1290"/>
                  </a:lnTo>
                  <a:lnTo>
                    <a:pt x="388" y="1288"/>
                  </a:lnTo>
                  <a:lnTo>
                    <a:pt x="390" y="1286"/>
                  </a:lnTo>
                  <a:lnTo>
                    <a:pt x="393" y="1284"/>
                  </a:lnTo>
                  <a:lnTo>
                    <a:pt x="395" y="1283"/>
                  </a:lnTo>
                  <a:lnTo>
                    <a:pt x="398" y="1281"/>
                  </a:lnTo>
                  <a:lnTo>
                    <a:pt x="400" y="1280"/>
                  </a:lnTo>
                  <a:lnTo>
                    <a:pt x="403" y="1279"/>
                  </a:lnTo>
                  <a:lnTo>
                    <a:pt x="406" y="1278"/>
                  </a:lnTo>
                  <a:lnTo>
                    <a:pt x="409" y="1277"/>
                  </a:lnTo>
                  <a:lnTo>
                    <a:pt x="411" y="1276"/>
                  </a:lnTo>
                  <a:lnTo>
                    <a:pt x="414" y="1275"/>
                  </a:lnTo>
                  <a:lnTo>
                    <a:pt x="420" y="1274"/>
                  </a:lnTo>
                  <a:lnTo>
                    <a:pt x="427" y="1274"/>
                  </a:lnTo>
                  <a:lnTo>
                    <a:pt x="434" y="1273"/>
                  </a:lnTo>
                  <a:lnTo>
                    <a:pt x="441" y="1273"/>
                  </a:lnTo>
                  <a:lnTo>
                    <a:pt x="449" y="1273"/>
                  </a:lnTo>
                  <a:lnTo>
                    <a:pt x="457" y="1273"/>
                  </a:lnTo>
                  <a:lnTo>
                    <a:pt x="595" y="1435"/>
                  </a:lnTo>
                  <a:lnTo>
                    <a:pt x="640" y="1388"/>
                  </a:lnTo>
                  <a:lnTo>
                    <a:pt x="640" y="1319"/>
                  </a:lnTo>
                  <a:lnTo>
                    <a:pt x="800" y="1111"/>
                  </a:lnTo>
                  <a:lnTo>
                    <a:pt x="846" y="1111"/>
                  </a:lnTo>
                  <a:lnTo>
                    <a:pt x="823" y="1065"/>
                  </a:lnTo>
                  <a:lnTo>
                    <a:pt x="183" y="1250"/>
                  </a:lnTo>
                  <a:lnTo>
                    <a:pt x="183" y="1227"/>
                  </a:lnTo>
                  <a:lnTo>
                    <a:pt x="823" y="1042"/>
                  </a:lnTo>
                  <a:lnTo>
                    <a:pt x="846" y="973"/>
                  </a:lnTo>
                  <a:lnTo>
                    <a:pt x="480" y="118"/>
                  </a:lnTo>
                  <a:lnTo>
                    <a:pt x="503" y="118"/>
                  </a:lnTo>
                  <a:lnTo>
                    <a:pt x="869" y="973"/>
                  </a:lnTo>
                  <a:lnTo>
                    <a:pt x="800" y="279"/>
                  </a:lnTo>
                  <a:lnTo>
                    <a:pt x="823" y="279"/>
                  </a:lnTo>
                  <a:lnTo>
                    <a:pt x="892" y="950"/>
                  </a:lnTo>
                  <a:lnTo>
                    <a:pt x="960" y="973"/>
                  </a:lnTo>
                  <a:lnTo>
                    <a:pt x="1029" y="880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960" y="695"/>
                  </a:lnTo>
                  <a:close/>
                </a:path>
              </a:pathLst>
            </a:custGeom>
            <a:solidFill>
              <a:srgbClr val="c2c2c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2867040" y="3306600"/>
              <a:ext cx="333000" cy="342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206" h="208">
                  <a:moveTo>
                    <a:pt x="91" y="0"/>
                  </a:moveTo>
                  <a:lnTo>
                    <a:pt x="0" y="116"/>
                  </a:lnTo>
                  <a:lnTo>
                    <a:pt x="46" y="208"/>
                  </a:lnTo>
                  <a:lnTo>
                    <a:pt x="114" y="208"/>
                  </a:lnTo>
                  <a:lnTo>
                    <a:pt x="206" y="93"/>
                  </a:lnTo>
                  <a:lnTo>
                    <a:pt x="183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a9a9a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2944800" y="3406680"/>
              <a:ext cx="407520" cy="3805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52" h="231">
                  <a:moveTo>
                    <a:pt x="46" y="0"/>
                  </a:moveTo>
                  <a:lnTo>
                    <a:pt x="114" y="70"/>
                  </a:lnTo>
                  <a:lnTo>
                    <a:pt x="252" y="162"/>
                  </a:lnTo>
                  <a:lnTo>
                    <a:pt x="206" y="231"/>
                  </a:lnTo>
                  <a:lnTo>
                    <a:pt x="92" y="116"/>
                  </a:lnTo>
                  <a:lnTo>
                    <a:pt x="23" y="116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3828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2486880" y="2054160"/>
              <a:ext cx="1375200" cy="5302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см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ппа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"/>
            <p:cNvSpPr/>
            <p:nvPr/>
          </p:nvSpPr>
          <p:spPr>
            <a:xfrm>
              <a:off x="7239240" y="5700600"/>
              <a:ext cx="940680" cy="3171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лан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5005080" y="2387520"/>
              <a:ext cx="766800" cy="3171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ем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7155720" y="1862280"/>
              <a:ext cx="872280" cy="31716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лнц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6200640" y="4255920"/>
              <a:ext cx="1550520" cy="1577520"/>
            </a:xfrm>
            <a:custGeom>
              <a:avLst/>
              <a:gdLst>
                <a:gd name="textAreaLeft" fmla="*/ 0 w 1550520"/>
                <a:gd name="textAreaRight" fmla="*/ 1550880 w 1550520"/>
                <a:gd name="textAreaTop" fmla="*/ 0 h 1577520"/>
                <a:gd name="textAreaBottom" fmla="*/ 1577880 h 1577520"/>
              </a:gdLst>
              <a:ahLst/>
              <a:rect l="textAreaLeft" t="textAreaTop" r="textAreaRight" b="textAreaBottom"/>
              <a:pathLst>
                <a:path w="954" h="963">
                  <a:moveTo>
                    <a:pt x="477" y="963"/>
                  </a:moveTo>
                  <a:lnTo>
                    <a:pt x="501" y="962"/>
                  </a:lnTo>
                  <a:lnTo>
                    <a:pt x="526" y="960"/>
                  </a:lnTo>
                  <a:lnTo>
                    <a:pt x="549" y="957"/>
                  </a:lnTo>
                  <a:lnTo>
                    <a:pt x="573" y="953"/>
                  </a:lnTo>
                  <a:lnTo>
                    <a:pt x="596" y="948"/>
                  </a:lnTo>
                  <a:lnTo>
                    <a:pt x="618" y="941"/>
                  </a:lnTo>
                  <a:lnTo>
                    <a:pt x="640" y="934"/>
                  </a:lnTo>
                  <a:lnTo>
                    <a:pt x="662" y="925"/>
                  </a:lnTo>
                  <a:lnTo>
                    <a:pt x="683" y="915"/>
                  </a:lnTo>
                  <a:lnTo>
                    <a:pt x="704" y="904"/>
                  </a:lnTo>
                  <a:lnTo>
                    <a:pt x="724" y="893"/>
                  </a:lnTo>
                  <a:lnTo>
                    <a:pt x="743" y="880"/>
                  </a:lnTo>
                  <a:lnTo>
                    <a:pt x="762" y="867"/>
                  </a:lnTo>
                  <a:lnTo>
                    <a:pt x="780" y="853"/>
                  </a:lnTo>
                  <a:lnTo>
                    <a:pt x="797" y="837"/>
                  </a:lnTo>
                  <a:lnTo>
                    <a:pt x="814" y="821"/>
                  </a:lnTo>
                  <a:lnTo>
                    <a:pt x="829" y="805"/>
                  </a:lnTo>
                  <a:lnTo>
                    <a:pt x="844" y="787"/>
                  </a:lnTo>
                  <a:lnTo>
                    <a:pt x="858" y="769"/>
                  </a:lnTo>
                  <a:lnTo>
                    <a:pt x="872" y="750"/>
                  </a:lnTo>
                  <a:lnTo>
                    <a:pt x="884" y="731"/>
                  </a:lnTo>
                  <a:lnTo>
                    <a:pt x="896" y="710"/>
                  </a:lnTo>
                  <a:lnTo>
                    <a:pt x="906" y="690"/>
                  </a:lnTo>
                  <a:lnTo>
                    <a:pt x="916" y="668"/>
                  </a:lnTo>
                  <a:lnTo>
                    <a:pt x="924" y="647"/>
                  </a:lnTo>
                  <a:lnTo>
                    <a:pt x="932" y="624"/>
                  </a:lnTo>
                  <a:lnTo>
                    <a:pt x="938" y="601"/>
                  </a:lnTo>
                  <a:lnTo>
                    <a:pt x="944" y="578"/>
                  </a:lnTo>
                  <a:lnTo>
                    <a:pt x="948" y="554"/>
                  </a:lnTo>
                  <a:lnTo>
                    <a:pt x="951" y="530"/>
                  </a:lnTo>
                  <a:lnTo>
                    <a:pt x="953" y="506"/>
                  </a:lnTo>
                  <a:lnTo>
                    <a:pt x="954" y="481"/>
                  </a:lnTo>
                  <a:lnTo>
                    <a:pt x="953" y="456"/>
                  </a:lnTo>
                  <a:lnTo>
                    <a:pt x="951" y="432"/>
                  </a:lnTo>
                  <a:lnTo>
                    <a:pt x="948" y="408"/>
                  </a:lnTo>
                  <a:lnTo>
                    <a:pt x="944" y="384"/>
                  </a:lnTo>
                  <a:lnTo>
                    <a:pt x="938" y="361"/>
                  </a:lnTo>
                  <a:lnTo>
                    <a:pt x="932" y="338"/>
                  </a:lnTo>
                  <a:lnTo>
                    <a:pt x="924" y="316"/>
                  </a:lnTo>
                  <a:lnTo>
                    <a:pt x="916" y="294"/>
                  </a:lnTo>
                  <a:lnTo>
                    <a:pt x="906" y="273"/>
                  </a:lnTo>
                  <a:lnTo>
                    <a:pt x="896" y="252"/>
                  </a:lnTo>
                  <a:lnTo>
                    <a:pt x="884" y="232"/>
                  </a:lnTo>
                  <a:lnTo>
                    <a:pt x="872" y="212"/>
                  </a:lnTo>
                  <a:lnTo>
                    <a:pt x="858" y="193"/>
                  </a:lnTo>
                  <a:lnTo>
                    <a:pt x="844" y="175"/>
                  </a:lnTo>
                  <a:lnTo>
                    <a:pt x="829" y="158"/>
                  </a:lnTo>
                  <a:lnTo>
                    <a:pt x="814" y="141"/>
                  </a:lnTo>
                  <a:lnTo>
                    <a:pt x="797" y="125"/>
                  </a:lnTo>
                  <a:lnTo>
                    <a:pt x="780" y="110"/>
                  </a:lnTo>
                  <a:lnTo>
                    <a:pt x="762" y="95"/>
                  </a:lnTo>
                  <a:lnTo>
                    <a:pt x="743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3" y="47"/>
                  </a:lnTo>
                  <a:lnTo>
                    <a:pt x="662" y="38"/>
                  </a:lnTo>
                  <a:lnTo>
                    <a:pt x="640" y="29"/>
                  </a:lnTo>
                  <a:lnTo>
                    <a:pt x="618" y="21"/>
                  </a:lnTo>
                  <a:lnTo>
                    <a:pt x="596" y="15"/>
                  </a:lnTo>
                  <a:lnTo>
                    <a:pt x="573" y="9"/>
                  </a:lnTo>
                  <a:lnTo>
                    <a:pt x="549" y="5"/>
                  </a:lnTo>
                  <a:lnTo>
                    <a:pt x="526" y="2"/>
                  </a:lnTo>
                  <a:lnTo>
                    <a:pt x="501" y="0"/>
                  </a:lnTo>
                  <a:lnTo>
                    <a:pt x="477" y="0"/>
                  </a:lnTo>
                  <a:lnTo>
                    <a:pt x="452" y="0"/>
                  </a:lnTo>
                  <a:lnTo>
                    <a:pt x="428" y="2"/>
                  </a:lnTo>
                  <a:lnTo>
                    <a:pt x="404" y="5"/>
                  </a:lnTo>
                  <a:lnTo>
                    <a:pt x="381" y="9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1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1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5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3"/>
                  </a:lnTo>
                  <a:lnTo>
                    <a:pt x="82" y="212"/>
                  </a:lnTo>
                  <a:lnTo>
                    <a:pt x="69" y="232"/>
                  </a:lnTo>
                  <a:lnTo>
                    <a:pt x="58" y="252"/>
                  </a:lnTo>
                  <a:lnTo>
                    <a:pt x="47" y="273"/>
                  </a:lnTo>
                  <a:lnTo>
                    <a:pt x="38" y="294"/>
                  </a:lnTo>
                  <a:lnTo>
                    <a:pt x="29" y="316"/>
                  </a:lnTo>
                  <a:lnTo>
                    <a:pt x="22" y="338"/>
                  </a:lnTo>
                  <a:lnTo>
                    <a:pt x="15" y="361"/>
                  </a:lnTo>
                  <a:lnTo>
                    <a:pt x="10" y="384"/>
                  </a:lnTo>
                  <a:lnTo>
                    <a:pt x="6" y="408"/>
                  </a:lnTo>
                  <a:lnTo>
                    <a:pt x="3" y="432"/>
                  </a:lnTo>
                  <a:lnTo>
                    <a:pt x="1" y="456"/>
                  </a:lnTo>
                  <a:lnTo>
                    <a:pt x="0" y="481"/>
                  </a:lnTo>
                  <a:lnTo>
                    <a:pt x="1" y="506"/>
                  </a:lnTo>
                  <a:lnTo>
                    <a:pt x="3" y="530"/>
                  </a:lnTo>
                  <a:lnTo>
                    <a:pt x="6" y="554"/>
                  </a:lnTo>
                  <a:lnTo>
                    <a:pt x="10" y="578"/>
                  </a:lnTo>
                  <a:lnTo>
                    <a:pt x="15" y="601"/>
                  </a:lnTo>
                  <a:lnTo>
                    <a:pt x="22" y="624"/>
                  </a:lnTo>
                  <a:lnTo>
                    <a:pt x="29" y="647"/>
                  </a:lnTo>
                  <a:lnTo>
                    <a:pt x="38" y="668"/>
                  </a:lnTo>
                  <a:lnTo>
                    <a:pt x="47" y="690"/>
                  </a:lnTo>
                  <a:lnTo>
                    <a:pt x="58" y="710"/>
                  </a:lnTo>
                  <a:lnTo>
                    <a:pt x="69" y="731"/>
                  </a:lnTo>
                  <a:lnTo>
                    <a:pt x="82" y="750"/>
                  </a:lnTo>
                  <a:lnTo>
                    <a:pt x="95" y="769"/>
                  </a:lnTo>
                  <a:lnTo>
                    <a:pt x="109" y="787"/>
                  </a:lnTo>
                  <a:lnTo>
                    <a:pt x="124" y="805"/>
                  </a:lnTo>
                  <a:lnTo>
                    <a:pt x="140" y="821"/>
                  </a:lnTo>
                  <a:lnTo>
                    <a:pt x="157" y="837"/>
                  </a:lnTo>
                  <a:lnTo>
                    <a:pt x="174" y="853"/>
                  </a:lnTo>
                  <a:lnTo>
                    <a:pt x="192" y="867"/>
                  </a:lnTo>
                  <a:lnTo>
                    <a:pt x="211" y="880"/>
                  </a:lnTo>
                  <a:lnTo>
                    <a:pt x="230" y="893"/>
                  </a:lnTo>
                  <a:lnTo>
                    <a:pt x="250" y="904"/>
                  </a:lnTo>
                  <a:lnTo>
                    <a:pt x="271" y="915"/>
                  </a:lnTo>
                  <a:lnTo>
                    <a:pt x="291" y="925"/>
                  </a:lnTo>
                  <a:lnTo>
                    <a:pt x="313" y="934"/>
                  </a:lnTo>
                  <a:lnTo>
                    <a:pt x="335" y="941"/>
                  </a:lnTo>
                  <a:lnTo>
                    <a:pt x="358" y="948"/>
                  </a:lnTo>
                  <a:lnTo>
                    <a:pt x="381" y="953"/>
                  </a:lnTo>
                  <a:lnTo>
                    <a:pt x="404" y="957"/>
                  </a:lnTo>
                  <a:lnTo>
                    <a:pt x="428" y="960"/>
                  </a:lnTo>
                  <a:lnTo>
                    <a:pt x="452" y="962"/>
                  </a:lnTo>
                  <a:lnTo>
                    <a:pt x="477" y="963"/>
                  </a:lnTo>
                  <a:close/>
                </a:path>
              </a:pathLst>
            </a:custGeom>
            <a:gradFill rotWithShape="0">
              <a:gsLst>
                <a:gs pos="0">
                  <a:srgbClr val="e8665b"/>
                </a:gs>
                <a:gs pos="100000">
                  <a:srgbClr val="6b2f2a"/>
                </a:gs>
              </a:gsLst>
              <a:path path="rect">
                <a:fillToRect l="0" t="0" r="100000" b="10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540480" y="1862280"/>
              <a:ext cx="614160" cy="62820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628200"/>
                <a:gd name="textAreaBottom" fmla="*/ 628560 h 628200"/>
              </a:gdLst>
              <a:ahLst/>
              <a:rect l="textAreaLeft" t="textAreaTop" r="textAreaRight" b="textAreaBottom"/>
              <a:pathLst>
                <a:path w="326" h="329">
                  <a:moveTo>
                    <a:pt x="114" y="51"/>
                  </a:moveTo>
                  <a:lnTo>
                    <a:pt x="110" y="50"/>
                  </a:lnTo>
                  <a:lnTo>
                    <a:pt x="106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93" y="47"/>
                  </a:lnTo>
                  <a:lnTo>
                    <a:pt x="89" y="46"/>
                  </a:lnTo>
                  <a:lnTo>
                    <a:pt x="85" y="46"/>
                  </a:lnTo>
                  <a:lnTo>
                    <a:pt x="81" y="46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41"/>
                  </a:lnTo>
                  <a:lnTo>
                    <a:pt x="74" y="39"/>
                  </a:lnTo>
                  <a:lnTo>
                    <a:pt x="68" y="36"/>
                  </a:lnTo>
                  <a:lnTo>
                    <a:pt x="62" y="34"/>
                  </a:lnTo>
                  <a:lnTo>
                    <a:pt x="59" y="33"/>
                  </a:lnTo>
                  <a:lnTo>
                    <a:pt x="56" y="31"/>
                  </a:lnTo>
                  <a:lnTo>
                    <a:pt x="53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7"/>
                  </a:lnTo>
                  <a:lnTo>
                    <a:pt x="43" y="31"/>
                  </a:lnTo>
                  <a:lnTo>
                    <a:pt x="43" y="36"/>
                  </a:lnTo>
                  <a:lnTo>
                    <a:pt x="44" y="41"/>
                  </a:lnTo>
                  <a:lnTo>
                    <a:pt x="45" y="47"/>
                  </a:lnTo>
                  <a:lnTo>
                    <a:pt x="46" y="53"/>
                  </a:lnTo>
                  <a:lnTo>
                    <a:pt x="47" y="59"/>
                  </a:lnTo>
                  <a:lnTo>
                    <a:pt x="49" y="65"/>
                  </a:lnTo>
                  <a:lnTo>
                    <a:pt x="50" y="71"/>
                  </a:lnTo>
                  <a:lnTo>
                    <a:pt x="52" y="76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7" y="85"/>
                  </a:lnTo>
                  <a:lnTo>
                    <a:pt x="58" y="87"/>
                  </a:lnTo>
                  <a:lnTo>
                    <a:pt x="60" y="89"/>
                  </a:lnTo>
                  <a:lnTo>
                    <a:pt x="61" y="91"/>
                  </a:lnTo>
                  <a:lnTo>
                    <a:pt x="63" y="92"/>
                  </a:lnTo>
                  <a:lnTo>
                    <a:pt x="64" y="93"/>
                  </a:lnTo>
                  <a:lnTo>
                    <a:pt x="66" y="94"/>
                  </a:lnTo>
                  <a:lnTo>
                    <a:pt x="66" y="95"/>
                  </a:lnTo>
                  <a:lnTo>
                    <a:pt x="66" y="96"/>
                  </a:lnTo>
                  <a:lnTo>
                    <a:pt x="67" y="97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68" y="100"/>
                  </a:lnTo>
                  <a:lnTo>
                    <a:pt x="68" y="101"/>
                  </a:lnTo>
                  <a:lnTo>
                    <a:pt x="68" y="102"/>
                  </a:lnTo>
                  <a:lnTo>
                    <a:pt x="67" y="103"/>
                  </a:lnTo>
                  <a:lnTo>
                    <a:pt x="66" y="104"/>
                  </a:lnTo>
                  <a:lnTo>
                    <a:pt x="65" y="106"/>
                  </a:lnTo>
                  <a:lnTo>
                    <a:pt x="64" y="107"/>
                  </a:lnTo>
                  <a:lnTo>
                    <a:pt x="63" y="108"/>
                  </a:lnTo>
                  <a:lnTo>
                    <a:pt x="62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58" y="112"/>
                  </a:lnTo>
                  <a:lnTo>
                    <a:pt x="55" y="113"/>
                  </a:lnTo>
                  <a:lnTo>
                    <a:pt x="52" y="114"/>
                  </a:lnTo>
                  <a:lnTo>
                    <a:pt x="49" y="115"/>
                  </a:lnTo>
                  <a:lnTo>
                    <a:pt x="42" y="118"/>
                  </a:lnTo>
                  <a:lnTo>
                    <a:pt x="35" y="121"/>
                  </a:lnTo>
                  <a:lnTo>
                    <a:pt x="28" y="124"/>
                  </a:lnTo>
                  <a:lnTo>
                    <a:pt x="20" y="127"/>
                  </a:lnTo>
                  <a:lnTo>
                    <a:pt x="17" y="128"/>
                  </a:lnTo>
                  <a:lnTo>
                    <a:pt x="13" y="129"/>
                  </a:lnTo>
                  <a:lnTo>
                    <a:pt x="9" y="130"/>
                  </a:lnTo>
                  <a:lnTo>
                    <a:pt x="5" y="130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5" y="133"/>
                  </a:lnTo>
                  <a:lnTo>
                    <a:pt x="4" y="135"/>
                  </a:lnTo>
                  <a:lnTo>
                    <a:pt x="4" y="136"/>
                  </a:lnTo>
                  <a:lnTo>
                    <a:pt x="3" y="138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6" y="141"/>
                  </a:lnTo>
                  <a:lnTo>
                    <a:pt x="12" y="143"/>
                  </a:lnTo>
                  <a:lnTo>
                    <a:pt x="18" y="144"/>
                  </a:lnTo>
                  <a:lnTo>
                    <a:pt x="25" y="146"/>
                  </a:lnTo>
                  <a:lnTo>
                    <a:pt x="32" y="148"/>
                  </a:lnTo>
                  <a:lnTo>
                    <a:pt x="39" y="149"/>
                  </a:lnTo>
                  <a:lnTo>
                    <a:pt x="44" y="150"/>
                  </a:lnTo>
                  <a:lnTo>
                    <a:pt x="48" y="150"/>
                  </a:lnTo>
                  <a:lnTo>
                    <a:pt x="49" y="152"/>
                  </a:lnTo>
                  <a:lnTo>
                    <a:pt x="50" y="153"/>
                  </a:lnTo>
                  <a:lnTo>
                    <a:pt x="50" y="154"/>
                  </a:lnTo>
                  <a:lnTo>
                    <a:pt x="51" y="156"/>
                  </a:lnTo>
                  <a:lnTo>
                    <a:pt x="53" y="158"/>
                  </a:lnTo>
                  <a:lnTo>
                    <a:pt x="56" y="161"/>
                  </a:lnTo>
                  <a:lnTo>
                    <a:pt x="58" y="164"/>
                  </a:lnTo>
                  <a:lnTo>
                    <a:pt x="59" y="167"/>
                  </a:lnTo>
                  <a:lnTo>
                    <a:pt x="60" y="169"/>
                  </a:lnTo>
                  <a:lnTo>
                    <a:pt x="60" y="171"/>
                  </a:lnTo>
                  <a:lnTo>
                    <a:pt x="61" y="173"/>
                  </a:lnTo>
                  <a:lnTo>
                    <a:pt x="61" y="176"/>
                  </a:lnTo>
                  <a:lnTo>
                    <a:pt x="58" y="176"/>
                  </a:lnTo>
                  <a:lnTo>
                    <a:pt x="55" y="177"/>
                  </a:lnTo>
                  <a:lnTo>
                    <a:pt x="52" y="178"/>
                  </a:lnTo>
                  <a:lnTo>
                    <a:pt x="50" y="180"/>
                  </a:lnTo>
                  <a:lnTo>
                    <a:pt x="48" y="182"/>
                  </a:lnTo>
                  <a:lnTo>
                    <a:pt x="45" y="184"/>
                  </a:lnTo>
                  <a:lnTo>
                    <a:pt x="43" y="187"/>
                  </a:lnTo>
                  <a:lnTo>
                    <a:pt x="41" y="190"/>
                  </a:lnTo>
                  <a:lnTo>
                    <a:pt x="40" y="194"/>
                  </a:lnTo>
                  <a:lnTo>
                    <a:pt x="38" y="197"/>
                  </a:lnTo>
                  <a:lnTo>
                    <a:pt x="36" y="201"/>
                  </a:lnTo>
                  <a:lnTo>
                    <a:pt x="35" y="205"/>
                  </a:lnTo>
                  <a:lnTo>
                    <a:pt x="31" y="213"/>
                  </a:lnTo>
                  <a:lnTo>
                    <a:pt x="29" y="222"/>
                  </a:lnTo>
                  <a:lnTo>
                    <a:pt x="26" y="230"/>
                  </a:lnTo>
                  <a:lnTo>
                    <a:pt x="23" y="239"/>
                  </a:lnTo>
                  <a:lnTo>
                    <a:pt x="21" y="242"/>
                  </a:lnTo>
                  <a:lnTo>
                    <a:pt x="20" y="246"/>
                  </a:lnTo>
                  <a:lnTo>
                    <a:pt x="18" y="250"/>
                  </a:lnTo>
                  <a:lnTo>
                    <a:pt x="17" y="253"/>
                  </a:lnTo>
                  <a:lnTo>
                    <a:pt x="15" y="256"/>
                  </a:lnTo>
                  <a:lnTo>
                    <a:pt x="13" y="259"/>
                  </a:lnTo>
                  <a:lnTo>
                    <a:pt x="11" y="261"/>
                  </a:lnTo>
                  <a:lnTo>
                    <a:pt x="9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67"/>
                  </a:lnTo>
                  <a:lnTo>
                    <a:pt x="0" y="268"/>
                  </a:lnTo>
                  <a:lnTo>
                    <a:pt x="6" y="267"/>
                  </a:lnTo>
                  <a:lnTo>
                    <a:pt x="16" y="265"/>
                  </a:lnTo>
                  <a:lnTo>
                    <a:pt x="30" y="262"/>
                  </a:lnTo>
                  <a:lnTo>
                    <a:pt x="45" y="259"/>
                  </a:lnTo>
                  <a:lnTo>
                    <a:pt x="52" y="257"/>
                  </a:lnTo>
                  <a:lnTo>
                    <a:pt x="59" y="255"/>
                  </a:lnTo>
                  <a:lnTo>
                    <a:pt x="66" y="253"/>
                  </a:lnTo>
                  <a:lnTo>
                    <a:pt x="71" y="251"/>
                  </a:lnTo>
                  <a:lnTo>
                    <a:pt x="76" y="250"/>
                  </a:lnTo>
                  <a:lnTo>
                    <a:pt x="80" y="248"/>
                  </a:lnTo>
                  <a:lnTo>
                    <a:pt x="82" y="247"/>
                  </a:lnTo>
                  <a:lnTo>
                    <a:pt x="83" y="246"/>
                  </a:lnTo>
                  <a:lnTo>
                    <a:pt x="83" y="245"/>
                  </a:lnTo>
                  <a:lnTo>
                    <a:pt x="84" y="245"/>
                  </a:lnTo>
                  <a:lnTo>
                    <a:pt x="85" y="246"/>
                  </a:lnTo>
                  <a:lnTo>
                    <a:pt x="85" y="248"/>
                  </a:lnTo>
                  <a:lnTo>
                    <a:pt x="86" y="249"/>
                  </a:lnTo>
                  <a:lnTo>
                    <a:pt x="87" y="252"/>
                  </a:lnTo>
                  <a:lnTo>
                    <a:pt x="87" y="256"/>
                  </a:lnTo>
                  <a:lnTo>
                    <a:pt x="87" y="261"/>
                  </a:lnTo>
                  <a:lnTo>
                    <a:pt x="88" y="266"/>
                  </a:lnTo>
                  <a:lnTo>
                    <a:pt x="88" y="271"/>
                  </a:lnTo>
                  <a:lnTo>
                    <a:pt x="88" y="277"/>
                  </a:lnTo>
                  <a:lnTo>
                    <a:pt x="87" y="288"/>
                  </a:lnTo>
                  <a:lnTo>
                    <a:pt x="87" y="298"/>
                  </a:lnTo>
                  <a:lnTo>
                    <a:pt x="86" y="308"/>
                  </a:lnTo>
                  <a:lnTo>
                    <a:pt x="86" y="316"/>
                  </a:lnTo>
                  <a:lnTo>
                    <a:pt x="85" y="317"/>
                  </a:lnTo>
                  <a:lnTo>
                    <a:pt x="84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80" y="324"/>
                  </a:lnTo>
                  <a:lnTo>
                    <a:pt x="79" y="326"/>
                  </a:lnTo>
                  <a:lnTo>
                    <a:pt x="79" y="328"/>
                  </a:lnTo>
                  <a:lnTo>
                    <a:pt x="78" y="329"/>
                  </a:lnTo>
                  <a:lnTo>
                    <a:pt x="83" y="324"/>
                  </a:lnTo>
                  <a:lnTo>
                    <a:pt x="88" y="319"/>
                  </a:lnTo>
                  <a:lnTo>
                    <a:pt x="93" y="313"/>
                  </a:lnTo>
                  <a:lnTo>
                    <a:pt x="99" y="307"/>
                  </a:lnTo>
                  <a:lnTo>
                    <a:pt x="102" y="304"/>
                  </a:lnTo>
                  <a:lnTo>
                    <a:pt x="106" y="302"/>
                  </a:lnTo>
                  <a:lnTo>
                    <a:pt x="109" y="299"/>
                  </a:lnTo>
                  <a:lnTo>
                    <a:pt x="112" y="297"/>
                  </a:lnTo>
                  <a:lnTo>
                    <a:pt x="115" y="295"/>
                  </a:lnTo>
                  <a:lnTo>
                    <a:pt x="118" y="294"/>
                  </a:lnTo>
                  <a:lnTo>
                    <a:pt x="120" y="294"/>
                  </a:lnTo>
                  <a:lnTo>
                    <a:pt x="121" y="293"/>
                  </a:lnTo>
                  <a:lnTo>
                    <a:pt x="123" y="293"/>
                  </a:lnTo>
                  <a:lnTo>
                    <a:pt x="124" y="293"/>
                  </a:lnTo>
                  <a:lnTo>
                    <a:pt x="124" y="291"/>
                  </a:lnTo>
                  <a:lnTo>
                    <a:pt x="125" y="289"/>
                  </a:lnTo>
                  <a:lnTo>
                    <a:pt x="125" y="287"/>
                  </a:lnTo>
                  <a:lnTo>
                    <a:pt x="126" y="285"/>
                  </a:lnTo>
                  <a:lnTo>
                    <a:pt x="128" y="280"/>
                  </a:lnTo>
                  <a:lnTo>
                    <a:pt x="130" y="275"/>
                  </a:lnTo>
                  <a:lnTo>
                    <a:pt x="132" y="270"/>
                  </a:lnTo>
                  <a:lnTo>
                    <a:pt x="135" y="265"/>
                  </a:lnTo>
                  <a:lnTo>
                    <a:pt x="135" y="262"/>
                  </a:lnTo>
                  <a:lnTo>
                    <a:pt x="136" y="260"/>
                  </a:lnTo>
                  <a:lnTo>
                    <a:pt x="136" y="257"/>
                  </a:lnTo>
                  <a:lnTo>
                    <a:pt x="137" y="255"/>
                  </a:lnTo>
                  <a:lnTo>
                    <a:pt x="139" y="255"/>
                  </a:lnTo>
                  <a:lnTo>
                    <a:pt x="142" y="255"/>
                  </a:lnTo>
                  <a:lnTo>
                    <a:pt x="143" y="258"/>
                  </a:lnTo>
                  <a:lnTo>
                    <a:pt x="146" y="263"/>
                  </a:lnTo>
                  <a:lnTo>
                    <a:pt x="150" y="270"/>
                  </a:lnTo>
                  <a:lnTo>
                    <a:pt x="155" y="277"/>
                  </a:lnTo>
                  <a:lnTo>
                    <a:pt x="157" y="281"/>
                  </a:lnTo>
                  <a:lnTo>
                    <a:pt x="160" y="284"/>
                  </a:lnTo>
                  <a:lnTo>
                    <a:pt x="162" y="287"/>
                  </a:lnTo>
                  <a:lnTo>
                    <a:pt x="164" y="290"/>
                  </a:lnTo>
                  <a:lnTo>
                    <a:pt x="167" y="292"/>
                  </a:lnTo>
                  <a:lnTo>
                    <a:pt x="169" y="294"/>
                  </a:lnTo>
                  <a:lnTo>
                    <a:pt x="170" y="295"/>
                  </a:lnTo>
                  <a:lnTo>
                    <a:pt x="171" y="295"/>
                  </a:lnTo>
                  <a:lnTo>
                    <a:pt x="172" y="296"/>
                  </a:lnTo>
                  <a:lnTo>
                    <a:pt x="172" y="300"/>
                  </a:lnTo>
                  <a:lnTo>
                    <a:pt x="172" y="304"/>
                  </a:lnTo>
                  <a:lnTo>
                    <a:pt x="171" y="309"/>
                  </a:lnTo>
                  <a:lnTo>
                    <a:pt x="171" y="313"/>
                  </a:lnTo>
                  <a:lnTo>
                    <a:pt x="170" y="318"/>
                  </a:lnTo>
                  <a:lnTo>
                    <a:pt x="170" y="322"/>
                  </a:lnTo>
                  <a:lnTo>
                    <a:pt x="170" y="326"/>
                  </a:lnTo>
                  <a:lnTo>
                    <a:pt x="169" y="329"/>
                  </a:lnTo>
                  <a:lnTo>
                    <a:pt x="175" y="326"/>
                  </a:lnTo>
                  <a:lnTo>
                    <a:pt x="180" y="323"/>
                  </a:lnTo>
                  <a:lnTo>
                    <a:pt x="185" y="320"/>
                  </a:lnTo>
                  <a:lnTo>
                    <a:pt x="188" y="316"/>
                  </a:lnTo>
                  <a:lnTo>
                    <a:pt x="192" y="313"/>
                  </a:lnTo>
                  <a:lnTo>
                    <a:pt x="195" y="309"/>
                  </a:lnTo>
                  <a:lnTo>
                    <a:pt x="198" y="305"/>
                  </a:lnTo>
                  <a:lnTo>
                    <a:pt x="201" y="301"/>
                  </a:lnTo>
                  <a:lnTo>
                    <a:pt x="203" y="297"/>
                  </a:lnTo>
                  <a:lnTo>
                    <a:pt x="205" y="292"/>
                  </a:lnTo>
                  <a:lnTo>
                    <a:pt x="207" y="288"/>
                  </a:lnTo>
                  <a:lnTo>
                    <a:pt x="208" y="283"/>
                  </a:lnTo>
                  <a:lnTo>
                    <a:pt x="209" y="277"/>
                  </a:lnTo>
                  <a:lnTo>
                    <a:pt x="209" y="272"/>
                  </a:lnTo>
                  <a:lnTo>
                    <a:pt x="210" y="266"/>
                  </a:lnTo>
                  <a:lnTo>
                    <a:pt x="210" y="260"/>
                  </a:lnTo>
                  <a:lnTo>
                    <a:pt x="220" y="250"/>
                  </a:lnTo>
                  <a:lnTo>
                    <a:pt x="223" y="250"/>
                  </a:lnTo>
                  <a:lnTo>
                    <a:pt x="226" y="250"/>
                  </a:lnTo>
                  <a:lnTo>
                    <a:pt x="230" y="251"/>
                  </a:lnTo>
                  <a:lnTo>
                    <a:pt x="234" y="252"/>
                  </a:lnTo>
                  <a:lnTo>
                    <a:pt x="244" y="255"/>
                  </a:lnTo>
                  <a:lnTo>
                    <a:pt x="253" y="258"/>
                  </a:lnTo>
                  <a:lnTo>
                    <a:pt x="263" y="262"/>
                  </a:lnTo>
                  <a:lnTo>
                    <a:pt x="272" y="266"/>
                  </a:lnTo>
                  <a:lnTo>
                    <a:pt x="275" y="268"/>
                  </a:lnTo>
                  <a:lnTo>
                    <a:pt x="279" y="270"/>
                  </a:lnTo>
                  <a:lnTo>
                    <a:pt x="281" y="271"/>
                  </a:lnTo>
                  <a:lnTo>
                    <a:pt x="283" y="273"/>
                  </a:lnTo>
                  <a:lnTo>
                    <a:pt x="283" y="252"/>
                  </a:lnTo>
                  <a:lnTo>
                    <a:pt x="282" y="252"/>
                  </a:lnTo>
                  <a:lnTo>
                    <a:pt x="280" y="251"/>
                  </a:lnTo>
                  <a:lnTo>
                    <a:pt x="278" y="250"/>
                  </a:lnTo>
                  <a:lnTo>
                    <a:pt x="277" y="249"/>
                  </a:lnTo>
                  <a:lnTo>
                    <a:pt x="273" y="245"/>
                  </a:lnTo>
                  <a:lnTo>
                    <a:pt x="269" y="241"/>
                  </a:lnTo>
                  <a:lnTo>
                    <a:pt x="265" y="237"/>
                  </a:lnTo>
                  <a:lnTo>
                    <a:pt x="261" y="233"/>
                  </a:lnTo>
                  <a:lnTo>
                    <a:pt x="259" y="232"/>
                  </a:lnTo>
                  <a:lnTo>
                    <a:pt x="257" y="230"/>
                  </a:lnTo>
                  <a:lnTo>
                    <a:pt x="255" y="230"/>
                  </a:lnTo>
                  <a:lnTo>
                    <a:pt x="253" y="229"/>
                  </a:lnTo>
                  <a:lnTo>
                    <a:pt x="252" y="227"/>
                  </a:lnTo>
                  <a:lnTo>
                    <a:pt x="252" y="225"/>
                  </a:lnTo>
                  <a:lnTo>
                    <a:pt x="251" y="223"/>
                  </a:lnTo>
                  <a:lnTo>
                    <a:pt x="250" y="221"/>
                  </a:lnTo>
                  <a:lnTo>
                    <a:pt x="249" y="219"/>
                  </a:lnTo>
                  <a:lnTo>
                    <a:pt x="249" y="218"/>
                  </a:lnTo>
                  <a:lnTo>
                    <a:pt x="248" y="217"/>
                  </a:lnTo>
                  <a:lnTo>
                    <a:pt x="248" y="216"/>
                  </a:lnTo>
                  <a:lnTo>
                    <a:pt x="248" y="215"/>
                  </a:lnTo>
                  <a:lnTo>
                    <a:pt x="249" y="213"/>
                  </a:lnTo>
                  <a:lnTo>
                    <a:pt x="249" y="212"/>
                  </a:lnTo>
                  <a:lnTo>
                    <a:pt x="250" y="211"/>
                  </a:lnTo>
                  <a:lnTo>
                    <a:pt x="250" y="210"/>
                  </a:lnTo>
                  <a:lnTo>
                    <a:pt x="250" y="208"/>
                  </a:lnTo>
                  <a:lnTo>
                    <a:pt x="250" y="206"/>
                  </a:lnTo>
                  <a:lnTo>
                    <a:pt x="257" y="206"/>
                  </a:lnTo>
                  <a:lnTo>
                    <a:pt x="265" y="205"/>
                  </a:lnTo>
                  <a:lnTo>
                    <a:pt x="275" y="204"/>
                  </a:lnTo>
                  <a:lnTo>
                    <a:pt x="286" y="202"/>
                  </a:lnTo>
                  <a:lnTo>
                    <a:pt x="296" y="199"/>
                  </a:lnTo>
                  <a:lnTo>
                    <a:pt x="306" y="197"/>
                  </a:lnTo>
                  <a:lnTo>
                    <a:pt x="310" y="195"/>
                  </a:lnTo>
                  <a:lnTo>
                    <a:pt x="314" y="194"/>
                  </a:lnTo>
                  <a:lnTo>
                    <a:pt x="318" y="193"/>
                  </a:lnTo>
                  <a:lnTo>
                    <a:pt x="321" y="191"/>
                  </a:lnTo>
                  <a:lnTo>
                    <a:pt x="321" y="190"/>
                  </a:lnTo>
                  <a:lnTo>
                    <a:pt x="322" y="189"/>
                  </a:lnTo>
                  <a:lnTo>
                    <a:pt x="322" y="187"/>
                  </a:lnTo>
                  <a:lnTo>
                    <a:pt x="323" y="186"/>
                  </a:lnTo>
                  <a:lnTo>
                    <a:pt x="324" y="185"/>
                  </a:lnTo>
                  <a:lnTo>
                    <a:pt x="325" y="183"/>
                  </a:lnTo>
                  <a:lnTo>
                    <a:pt x="326" y="182"/>
                  </a:lnTo>
                  <a:lnTo>
                    <a:pt x="326" y="181"/>
                  </a:lnTo>
                  <a:lnTo>
                    <a:pt x="301" y="181"/>
                  </a:lnTo>
                  <a:lnTo>
                    <a:pt x="299" y="179"/>
                  </a:lnTo>
                  <a:lnTo>
                    <a:pt x="296" y="177"/>
                  </a:lnTo>
                  <a:lnTo>
                    <a:pt x="293" y="175"/>
                  </a:lnTo>
                  <a:lnTo>
                    <a:pt x="289" y="173"/>
                  </a:lnTo>
                  <a:lnTo>
                    <a:pt x="281" y="169"/>
                  </a:lnTo>
                  <a:lnTo>
                    <a:pt x="273" y="165"/>
                  </a:lnTo>
                  <a:lnTo>
                    <a:pt x="264" y="161"/>
                  </a:lnTo>
                  <a:lnTo>
                    <a:pt x="256" y="158"/>
                  </a:lnTo>
                  <a:lnTo>
                    <a:pt x="248" y="155"/>
                  </a:lnTo>
                  <a:lnTo>
                    <a:pt x="243" y="153"/>
                  </a:lnTo>
                  <a:lnTo>
                    <a:pt x="244" y="151"/>
                  </a:lnTo>
                  <a:lnTo>
                    <a:pt x="246" y="149"/>
                  </a:lnTo>
                  <a:lnTo>
                    <a:pt x="247" y="147"/>
                  </a:lnTo>
                  <a:lnTo>
                    <a:pt x="249" y="145"/>
                  </a:lnTo>
                  <a:lnTo>
                    <a:pt x="254" y="141"/>
                  </a:lnTo>
                  <a:lnTo>
                    <a:pt x="259" y="137"/>
                  </a:lnTo>
                  <a:lnTo>
                    <a:pt x="271" y="130"/>
                  </a:lnTo>
                  <a:lnTo>
                    <a:pt x="283" y="122"/>
                  </a:lnTo>
                  <a:lnTo>
                    <a:pt x="289" y="118"/>
                  </a:lnTo>
                  <a:lnTo>
                    <a:pt x="294" y="114"/>
                  </a:lnTo>
                  <a:lnTo>
                    <a:pt x="300" y="110"/>
                  </a:lnTo>
                  <a:lnTo>
                    <a:pt x="304" y="106"/>
                  </a:lnTo>
                  <a:lnTo>
                    <a:pt x="306" y="104"/>
                  </a:lnTo>
                  <a:lnTo>
                    <a:pt x="308" y="102"/>
                  </a:lnTo>
                  <a:lnTo>
                    <a:pt x="310" y="99"/>
                  </a:lnTo>
                  <a:lnTo>
                    <a:pt x="311" y="97"/>
                  </a:lnTo>
                  <a:lnTo>
                    <a:pt x="312" y="95"/>
                  </a:lnTo>
                  <a:lnTo>
                    <a:pt x="313" y="93"/>
                  </a:lnTo>
                  <a:lnTo>
                    <a:pt x="313" y="91"/>
                  </a:lnTo>
                  <a:lnTo>
                    <a:pt x="313" y="89"/>
                  </a:lnTo>
                  <a:lnTo>
                    <a:pt x="311" y="89"/>
                  </a:lnTo>
                  <a:lnTo>
                    <a:pt x="309" y="89"/>
                  </a:lnTo>
                  <a:lnTo>
                    <a:pt x="307" y="90"/>
                  </a:lnTo>
                  <a:lnTo>
                    <a:pt x="304" y="91"/>
                  </a:lnTo>
                  <a:lnTo>
                    <a:pt x="300" y="92"/>
                  </a:lnTo>
                  <a:lnTo>
                    <a:pt x="296" y="94"/>
                  </a:lnTo>
                  <a:lnTo>
                    <a:pt x="292" y="96"/>
                  </a:lnTo>
                  <a:lnTo>
                    <a:pt x="288" y="99"/>
                  </a:lnTo>
                  <a:lnTo>
                    <a:pt x="284" y="100"/>
                  </a:lnTo>
                  <a:lnTo>
                    <a:pt x="281" y="102"/>
                  </a:lnTo>
                  <a:lnTo>
                    <a:pt x="277" y="103"/>
                  </a:lnTo>
                  <a:lnTo>
                    <a:pt x="273" y="104"/>
                  </a:lnTo>
                  <a:lnTo>
                    <a:pt x="270" y="104"/>
                  </a:lnTo>
                  <a:lnTo>
                    <a:pt x="266" y="103"/>
                  </a:lnTo>
                  <a:lnTo>
                    <a:pt x="263" y="103"/>
                  </a:lnTo>
                  <a:lnTo>
                    <a:pt x="260" y="102"/>
                  </a:lnTo>
                  <a:lnTo>
                    <a:pt x="256" y="101"/>
                  </a:lnTo>
                  <a:lnTo>
                    <a:pt x="253" y="99"/>
                  </a:lnTo>
                  <a:lnTo>
                    <a:pt x="247" y="97"/>
                  </a:lnTo>
                  <a:lnTo>
                    <a:pt x="242" y="94"/>
                  </a:lnTo>
                  <a:lnTo>
                    <a:pt x="239" y="93"/>
                  </a:lnTo>
                  <a:lnTo>
                    <a:pt x="236" y="92"/>
                  </a:lnTo>
                  <a:lnTo>
                    <a:pt x="233" y="92"/>
                  </a:lnTo>
                  <a:lnTo>
                    <a:pt x="230" y="91"/>
                  </a:lnTo>
                  <a:lnTo>
                    <a:pt x="229" y="87"/>
                  </a:lnTo>
                  <a:lnTo>
                    <a:pt x="228" y="83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28" y="69"/>
                  </a:lnTo>
                  <a:lnTo>
                    <a:pt x="229" y="64"/>
                  </a:lnTo>
                  <a:lnTo>
                    <a:pt x="230" y="59"/>
                  </a:lnTo>
                  <a:lnTo>
                    <a:pt x="231" y="54"/>
                  </a:lnTo>
                  <a:lnTo>
                    <a:pt x="233" y="44"/>
                  </a:lnTo>
                  <a:lnTo>
                    <a:pt x="235" y="35"/>
                  </a:lnTo>
                  <a:lnTo>
                    <a:pt x="236" y="30"/>
                  </a:lnTo>
                  <a:lnTo>
                    <a:pt x="237" y="25"/>
                  </a:lnTo>
                  <a:lnTo>
                    <a:pt x="238" y="20"/>
                  </a:lnTo>
                  <a:lnTo>
                    <a:pt x="238" y="15"/>
                  </a:lnTo>
                  <a:lnTo>
                    <a:pt x="233" y="10"/>
                  </a:lnTo>
                  <a:lnTo>
                    <a:pt x="217" y="10"/>
                  </a:lnTo>
                  <a:lnTo>
                    <a:pt x="216" y="11"/>
                  </a:lnTo>
                  <a:lnTo>
                    <a:pt x="215" y="13"/>
                  </a:lnTo>
                  <a:lnTo>
                    <a:pt x="214" y="14"/>
                  </a:lnTo>
                  <a:lnTo>
                    <a:pt x="213" y="16"/>
                  </a:lnTo>
                  <a:lnTo>
                    <a:pt x="211" y="20"/>
                  </a:lnTo>
                  <a:lnTo>
                    <a:pt x="210" y="23"/>
                  </a:lnTo>
                  <a:lnTo>
                    <a:pt x="209" y="27"/>
                  </a:lnTo>
                  <a:lnTo>
                    <a:pt x="208" y="31"/>
                  </a:lnTo>
                  <a:lnTo>
                    <a:pt x="208" y="35"/>
                  </a:lnTo>
                  <a:lnTo>
                    <a:pt x="207" y="39"/>
                  </a:lnTo>
                  <a:lnTo>
                    <a:pt x="207" y="43"/>
                  </a:lnTo>
                  <a:lnTo>
                    <a:pt x="206" y="47"/>
                  </a:lnTo>
                  <a:lnTo>
                    <a:pt x="205" y="51"/>
                  </a:lnTo>
                  <a:lnTo>
                    <a:pt x="205" y="55"/>
                  </a:lnTo>
                  <a:lnTo>
                    <a:pt x="203" y="59"/>
                  </a:lnTo>
                  <a:lnTo>
                    <a:pt x="202" y="62"/>
                  </a:lnTo>
                  <a:lnTo>
                    <a:pt x="201" y="64"/>
                  </a:lnTo>
                  <a:lnTo>
                    <a:pt x="200" y="66"/>
                  </a:lnTo>
                  <a:lnTo>
                    <a:pt x="198" y="67"/>
                  </a:lnTo>
                  <a:lnTo>
                    <a:pt x="197" y="69"/>
                  </a:lnTo>
                  <a:lnTo>
                    <a:pt x="195" y="69"/>
                  </a:lnTo>
                  <a:lnTo>
                    <a:pt x="193" y="68"/>
                  </a:lnTo>
                  <a:lnTo>
                    <a:pt x="191" y="67"/>
                  </a:lnTo>
                  <a:lnTo>
                    <a:pt x="188" y="67"/>
                  </a:lnTo>
                  <a:lnTo>
                    <a:pt x="186" y="65"/>
                  </a:lnTo>
                  <a:lnTo>
                    <a:pt x="184" y="64"/>
                  </a:lnTo>
                  <a:lnTo>
                    <a:pt x="182" y="63"/>
                  </a:lnTo>
                  <a:lnTo>
                    <a:pt x="180" y="61"/>
                  </a:lnTo>
                  <a:lnTo>
                    <a:pt x="175" y="57"/>
                  </a:lnTo>
                  <a:lnTo>
                    <a:pt x="171" y="52"/>
                  </a:lnTo>
                  <a:lnTo>
                    <a:pt x="166" y="47"/>
                  </a:lnTo>
                  <a:lnTo>
                    <a:pt x="162" y="42"/>
                  </a:lnTo>
                  <a:lnTo>
                    <a:pt x="158" y="37"/>
                  </a:lnTo>
                  <a:lnTo>
                    <a:pt x="154" y="31"/>
                  </a:lnTo>
                  <a:lnTo>
                    <a:pt x="150" y="26"/>
                  </a:lnTo>
                  <a:lnTo>
                    <a:pt x="146" y="20"/>
                  </a:lnTo>
                  <a:lnTo>
                    <a:pt x="139" y="10"/>
                  </a:lnTo>
                  <a:lnTo>
                    <a:pt x="134" y="2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27" y="10"/>
                  </a:lnTo>
                  <a:lnTo>
                    <a:pt x="127" y="16"/>
                  </a:lnTo>
                  <a:lnTo>
                    <a:pt x="127" y="23"/>
                  </a:lnTo>
                  <a:lnTo>
                    <a:pt x="127" y="29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6" y="41"/>
                  </a:lnTo>
                  <a:lnTo>
                    <a:pt x="125" y="43"/>
                  </a:lnTo>
                  <a:lnTo>
                    <a:pt x="124" y="46"/>
                  </a:lnTo>
                  <a:lnTo>
                    <a:pt x="122" y="46"/>
                  </a:lnTo>
                  <a:lnTo>
                    <a:pt x="121" y="47"/>
                  </a:lnTo>
                  <a:lnTo>
                    <a:pt x="121" y="48"/>
                  </a:lnTo>
                  <a:lnTo>
                    <a:pt x="120" y="50"/>
                  </a:lnTo>
                  <a:lnTo>
                    <a:pt x="119" y="51"/>
                  </a:lnTo>
                  <a:lnTo>
                    <a:pt x="118" y="52"/>
                  </a:lnTo>
                  <a:lnTo>
                    <a:pt x="117" y="52"/>
                  </a:lnTo>
                  <a:lnTo>
                    <a:pt x="116" y="52"/>
                  </a:lnTo>
                  <a:lnTo>
                    <a:pt x="115" y="52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dfc68"/>
            </a:solidFill>
            <a:ln w="3175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val 13"/>
            <p:cNvSpPr/>
            <p:nvPr/>
          </p:nvSpPr>
          <p:spPr>
            <a:xfrm>
              <a:off x="5037120" y="1911240"/>
              <a:ext cx="469440" cy="472680"/>
            </a:xfrm>
            <a:prstGeom prst="ellipse">
              <a:avLst/>
            </a:prstGeom>
            <a:solidFill>
              <a:srgbClr val="b85148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AutoShape 14"/>
            <p:cNvSpPr/>
            <p:nvPr/>
          </p:nvSpPr>
          <p:spPr>
            <a:xfrm rot="17824200">
              <a:off x="4975200" y="1886040"/>
              <a:ext cx="77400" cy="155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38880" bIns="3888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4803840" y="1833480"/>
              <a:ext cx="167760" cy="1695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04" h="104">
                  <a:moveTo>
                    <a:pt x="0" y="8"/>
                  </a:moveTo>
                  <a:cubicBezTo>
                    <a:pt x="16" y="4"/>
                    <a:pt x="32" y="0"/>
                    <a:pt x="48" y="8"/>
                  </a:cubicBezTo>
                  <a:cubicBezTo>
                    <a:pt x="64" y="16"/>
                    <a:pt x="88" y="40"/>
                    <a:pt x="96" y="56"/>
                  </a:cubicBezTo>
                  <a:cubicBezTo>
                    <a:pt x="104" y="72"/>
                    <a:pt x="96" y="96"/>
                    <a:pt x="96" y="104"/>
                  </a:cubicBezTo>
                </a:path>
              </a:pathLst>
            </a:cu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6961320" y="2532240"/>
              <a:ext cx="1743840" cy="5302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2200" bIns="52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 солнеч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6926400" y="2585880"/>
              <a:ext cx="74160" cy="75960"/>
            </a:xfrm>
            <a:prstGeom prst="ellipse">
              <a:avLst/>
            </a:prstGeom>
            <a:solidFill>
              <a:srgbClr val="379966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26640" bIns="2664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Rectangle 18"/>
          <p:cNvSpPr/>
          <p:nvPr/>
        </p:nvSpPr>
        <p:spPr>
          <a:xfrm>
            <a:off x="1691640" y="188640"/>
            <a:ext cx="636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Вспомогате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4641840" y="2805120"/>
            <a:ext cx="186840" cy="3074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20"/>
          <p:cNvGrpSpPr/>
          <p:nvPr/>
        </p:nvGrpSpPr>
        <p:grpSpPr>
          <a:xfrm>
            <a:off x="0" y="1413000"/>
            <a:ext cx="6875280" cy="1936800"/>
            <a:chOff x="0" y="1413000"/>
            <a:chExt cx="6875280" cy="1936800"/>
          </a:xfrm>
        </p:grpSpPr>
        <p:sp>
          <p:nvSpPr>
            <p:cNvPr id="158" name="Text Box 22"/>
            <p:cNvSpPr/>
            <p:nvPr/>
          </p:nvSpPr>
          <p:spPr>
            <a:xfrm>
              <a:off x="5462640" y="1413000"/>
              <a:ext cx="1412640" cy="5551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ff0000"/>
                  </a:solidFill>
                  <a:latin typeface="Arial"/>
                </a:rPr>
                <a:t>Ориентация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ffc000"/>
                  </a:solidFill>
                  <a:latin typeface="Arial"/>
                </a:rPr>
                <a:t>Размер и форм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0" y="3038400"/>
              <a:ext cx="1752120" cy="311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ru-RU" sz="1400" spc="-1" strike="noStrike">
                  <a:solidFill>
                    <a:srgbClr val="ffc000"/>
                  </a:solidFill>
                  <a:latin typeface="Arial"/>
                </a:rPr>
                <a:t>Размер и 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5400" y="1580760"/>
            <a:ext cx="9085320" cy="2189520"/>
            <a:chOff x="5400" y="1580760"/>
            <a:chExt cx="9085320" cy="2189520"/>
          </a:xfrm>
        </p:grpSpPr>
        <p:grpSp>
          <p:nvGrpSpPr>
            <p:cNvPr id="161" name="Group 25"/>
            <p:cNvGrpSpPr/>
            <p:nvPr/>
          </p:nvGrpSpPr>
          <p:grpSpPr>
            <a:xfrm>
              <a:off x="8655480" y="1580760"/>
              <a:ext cx="307080" cy="546840"/>
              <a:chOff x="8655480" y="1580760"/>
              <a:chExt cx="307080" cy="546840"/>
            </a:xfrm>
          </p:grpSpPr>
          <p:sp>
            <p:nvSpPr>
              <p:cNvPr id="162" name="Line 26"/>
              <p:cNvSpPr/>
              <p:nvPr/>
            </p:nvSpPr>
            <p:spPr>
              <a:xfrm flipH="1">
                <a:off x="8829720" y="1919160"/>
                <a:ext cx="124920" cy="20844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27"/>
              <p:cNvSpPr/>
              <p:nvPr/>
            </p:nvSpPr>
            <p:spPr>
              <a:xfrm flipH="1" flipV="1">
                <a:off x="8655480" y="1913400"/>
                <a:ext cx="298800" cy="468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28"/>
              <p:cNvSpPr/>
              <p:nvPr/>
            </p:nvSpPr>
            <p:spPr>
              <a:xfrm flipV="1">
                <a:off x="8955000" y="1580760"/>
                <a:ext cx="7560" cy="33876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Text Box 29"/>
            <p:cNvSpPr/>
            <p:nvPr/>
          </p:nvSpPr>
          <p:spPr>
            <a:xfrm>
              <a:off x="1683000" y="3152880"/>
              <a:ext cx="1007280" cy="55800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Систем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координа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инструмен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0"/>
            <p:cNvGrpSpPr/>
            <p:nvPr/>
          </p:nvGrpSpPr>
          <p:grpSpPr>
            <a:xfrm>
              <a:off x="2828880" y="3306600"/>
              <a:ext cx="428400" cy="463680"/>
              <a:chOff x="2828880" y="3306600"/>
              <a:chExt cx="428400" cy="463680"/>
            </a:xfrm>
          </p:grpSpPr>
          <p:sp>
            <p:nvSpPr>
              <p:cNvPr id="167" name="Line 31"/>
              <p:cNvSpPr/>
              <p:nvPr/>
            </p:nvSpPr>
            <p:spPr>
              <a:xfrm>
                <a:off x="2982240" y="3538440"/>
                <a:ext cx="275040" cy="20268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32"/>
              <p:cNvSpPr/>
              <p:nvPr/>
            </p:nvSpPr>
            <p:spPr>
              <a:xfrm flipH="1">
                <a:off x="2828880" y="3538440"/>
                <a:ext cx="153360" cy="23184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33"/>
              <p:cNvSpPr/>
              <p:nvPr/>
            </p:nvSpPr>
            <p:spPr>
              <a:xfrm flipH="1" flipV="1">
                <a:off x="2905560" y="3306600"/>
                <a:ext cx="76680" cy="23184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34"/>
            <p:cNvGrpSpPr/>
            <p:nvPr/>
          </p:nvGrpSpPr>
          <p:grpSpPr>
            <a:xfrm>
              <a:off x="4786200" y="1865160"/>
              <a:ext cx="376200" cy="339840"/>
              <a:chOff x="4786200" y="1865160"/>
              <a:chExt cx="376200" cy="339840"/>
            </a:xfrm>
          </p:grpSpPr>
          <p:sp>
            <p:nvSpPr>
              <p:cNvPr id="171" name="Line 35"/>
              <p:cNvSpPr/>
              <p:nvPr/>
            </p:nvSpPr>
            <p:spPr>
              <a:xfrm>
                <a:off x="4938120" y="2035080"/>
                <a:ext cx="224280" cy="1584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Line 36"/>
              <p:cNvSpPr/>
              <p:nvPr/>
            </p:nvSpPr>
            <p:spPr>
              <a:xfrm flipH="1">
                <a:off x="4786200" y="2035080"/>
                <a:ext cx="145800" cy="16992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Line 37"/>
              <p:cNvSpPr/>
              <p:nvPr/>
            </p:nvSpPr>
            <p:spPr>
              <a:xfrm flipH="1" flipV="1">
                <a:off x="4795560" y="1865160"/>
                <a:ext cx="142560" cy="169920"/>
              </a:xfrm>
              <a:prstGeom prst="line">
                <a:avLst/>
              </a:prstGeom>
              <a:ln w="12700">
                <a:solidFill>
                  <a:srgbClr val="3333cc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4" name="Text Box 38"/>
            <p:cNvSpPr/>
            <p:nvPr/>
          </p:nvSpPr>
          <p:spPr>
            <a:xfrm>
              <a:off x="3975120" y="1608120"/>
              <a:ext cx="879120" cy="55800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Систем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Координа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антенн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9"/>
            <p:cNvSpPr/>
            <p:nvPr/>
          </p:nvSpPr>
          <p:spPr>
            <a:xfrm>
              <a:off x="7606440" y="2154240"/>
              <a:ext cx="1484280" cy="40572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Система координа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3333cc"/>
                  </a:solidFill>
                  <a:latin typeface="Arial"/>
                </a:rPr>
                <a:t>Солнечной сист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0"/>
            <p:cNvSpPr/>
            <p:nvPr/>
          </p:nvSpPr>
          <p:spPr>
            <a:xfrm>
              <a:off x="5400" y="2198520"/>
              <a:ext cx="1985760" cy="31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ru-RU" sz="1400" spc="-1" strike="noStrike">
                  <a:solidFill>
                    <a:srgbClr val="3333cc"/>
                  </a:solidFill>
                  <a:latin typeface="Arial"/>
                </a:rPr>
                <a:t>Системы коорди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1"/>
          <p:cNvGrpSpPr/>
          <p:nvPr/>
        </p:nvGrpSpPr>
        <p:grpSpPr>
          <a:xfrm>
            <a:off x="3600" y="1951920"/>
            <a:ext cx="7225200" cy="3229560"/>
            <a:chOff x="3600" y="1951920"/>
            <a:chExt cx="7225200" cy="3229560"/>
          </a:xfrm>
        </p:grpSpPr>
        <p:sp>
          <p:nvSpPr>
            <p:cNvPr id="178" name="Text Box 42"/>
            <p:cNvSpPr/>
            <p:nvPr/>
          </p:nvSpPr>
          <p:spPr>
            <a:xfrm>
              <a:off x="1473840" y="3920400"/>
              <a:ext cx="1113840" cy="2534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000" spc="-1" strike="noStrike">
                  <a:solidFill>
                    <a:srgbClr val="ff0000"/>
                  </a:solidFill>
                  <a:latin typeface="Arial"/>
                </a:rPr>
                <a:t>Ориентация 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43"/>
            <p:cNvGrpSpPr/>
            <p:nvPr/>
          </p:nvGrpSpPr>
          <p:grpSpPr>
            <a:xfrm>
              <a:off x="2456640" y="3865320"/>
              <a:ext cx="416880" cy="496080"/>
              <a:chOff x="2456640" y="3865320"/>
              <a:chExt cx="416880" cy="496080"/>
            </a:xfrm>
          </p:grpSpPr>
          <p:sp>
            <p:nvSpPr>
              <p:cNvPr id="180" name="Line 44"/>
              <p:cNvSpPr/>
              <p:nvPr/>
            </p:nvSpPr>
            <p:spPr>
              <a:xfrm>
                <a:off x="2704320" y="4075560"/>
                <a:ext cx="169200" cy="285840"/>
              </a:xfrm>
              <a:prstGeom prst="line">
                <a:avLst/>
              </a:prstGeom>
              <a:ln w="1270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45"/>
              <p:cNvSpPr/>
              <p:nvPr/>
            </p:nvSpPr>
            <p:spPr>
              <a:xfrm flipH="1">
                <a:off x="2456640" y="4075560"/>
                <a:ext cx="247680" cy="101880"/>
              </a:xfrm>
              <a:prstGeom prst="line">
                <a:avLst/>
              </a:prstGeom>
              <a:ln w="1270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46"/>
              <p:cNvSpPr/>
              <p:nvPr/>
            </p:nvSpPr>
            <p:spPr>
              <a:xfrm flipV="1">
                <a:off x="2704320" y="3865320"/>
                <a:ext cx="133200" cy="210240"/>
              </a:xfrm>
              <a:prstGeom prst="line">
                <a:avLst/>
              </a:prstGeom>
              <a:ln w="1270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Group 47"/>
            <p:cNvGrpSpPr/>
            <p:nvPr/>
          </p:nvGrpSpPr>
          <p:grpSpPr>
            <a:xfrm>
              <a:off x="6761520" y="4707360"/>
              <a:ext cx="467280" cy="474120"/>
              <a:chOff x="6761520" y="4707360"/>
              <a:chExt cx="467280" cy="474120"/>
            </a:xfrm>
          </p:grpSpPr>
          <p:sp>
            <p:nvSpPr>
              <p:cNvPr id="184" name="Line 48"/>
              <p:cNvSpPr/>
              <p:nvPr/>
            </p:nvSpPr>
            <p:spPr>
              <a:xfrm>
                <a:off x="6977520" y="5022360"/>
                <a:ext cx="251280" cy="78840"/>
              </a:xfrm>
              <a:prstGeom prst="line">
                <a:avLst/>
              </a:prstGeom>
              <a:ln w="12700">
                <a:solidFill>
                  <a:srgbClr val="4f81bd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49"/>
              <p:cNvSpPr/>
              <p:nvPr/>
            </p:nvSpPr>
            <p:spPr>
              <a:xfrm flipH="1">
                <a:off x="6761520" y="5022360"/>
                <a:ext cx="216000" cy="159120"/>
              </a:xfrm>
              <a:prstGeom prst="line">
                <a:avLst/>
              </a:prstGeom>
              <a:ln w="12700">
                <a:solidFill>
                  <a:srgbClr val="4f81bd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50"/>
              <p:cNvSpPr/>
              <p:nvPr/>
            </p:nvSpPr>
            <p:spPr>
              <a:xfrm flipH="1" flipV="1">
                <a:off x="6839640" y="4707360"/>
                <a:ext cx="137880" cy="315000"/>
              </a:xfrm>
              <a:prstGeom prst="line">
                <a:avLst/>
              </a:prstGeom>
              <a:ln w="12700">
                <a:solidFill>
                  <a:srgbClr val="4f81bd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oup 51"/>
            <p:cNvGrpSpPr/>
            <p:nvPr/>
          </p:nvGrpSpPr>
          <p:grpSpPr>
            <a:xfrm>
              <a:off x="5157000" y="1951920"/>
              <a:ext cx="280800" cy="315000"/>
              <a:chOff x="5157000" y="1951920"/>
              <a:chExt cx="280800" cy="315000"/>
            </a:xfrm>
          </p:grpSpPr>
          <p:sp>
            <p:nvSpPr>
              <p:cNvPr id="188" name="Line 52"/>
              <p:cNvSpPr/>
              <p:nvPr/>
            </p:nvSpPr>
            <p:spPr>
              <a:xfrm>
                <a:off x="5281920" y="2109240"/>
                <a:ext cx="155880" cy="157680"/>
              </a:xfrm>
              <a:prstGeom prst="line">
                <a:avLst/>
              </a:prstGeom>
              <a:ln w="635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Line 53"/>
              <p:cNvSpPr/>
              <p:nvPr/>
            </p:nvSpPr>
            <p:spPr>
              <a:xfrm flipH="1">
                <a:off x="5157000" y="2109240"/>
                <a:ext cx="124920" cy="98640"/>
              </a:xfrm>
              <a:prstGeom prst="line">
                <a:avLst/>
              </a:prstGeom>
              <a:ln w="635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54"/>
              <p:cNvSpPr/>
              <p:nvPr/>
            </p:nvSpPr>
            <p:spPr>
              <a:xfrm flipV="1">
                <a:off x="5281920" y="1951920"/>
                <a:ext cx="78120" cy="157320"/>
              </a:xfrm>
              <a:prstGeom prst="line">
                <a:avLst/>
              </a:prstGeom>
              <a:ln w="6350">
                <a:solidFill>
                  <a:srgbClr val="ff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1" name="Text Box 55"/>
            <p:cNvSpPr/>
            <p:nvPr/>
          </p:nvSpPr>
          <p:spPr>
            <a:xfrm>
              <a:off x="3600" y="2737800"/>
              <a:ext cx="1276920" cy="314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Ориент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58"/>
          <p:cNvGrpSpPr/>
          <p:nvPr/>
        </p:nvGrpSpPr>
        <p:grpSpPr>
          <a:xfrm>
            <a:off x="0" y="1903320"/>
            <a:ext cx="6997680" cy="3070080"/>
            <a:chOff x="0" y="1903320"/>
            <a:chExt cx="6997680" cy="3070080"/>
          </a:xfrm>
        </p:grpSpPr>
        <p:sp>
          <p:nvSpPr>
            <p:cNvPr id="193" name="Line 59"/>
            <p:cNvSpPr/>
            <p:nvPr/>
          </p:nvSpPr>
          <p:spPr>
            <a:xfrm flipV="1">
              <a:off x="3180960" y="2611800"/>
              <a:ext cx="3816720" cy="86580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60"/>
            <p:cNvSpPr/>
            <p:nvPr/>
          </p:nvSpPr>
          <p:spPr>
            <a:xfrm>
              <a:off x="3103200" y="3477600"/>
              <a:ext cx="3839400" cy="149580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61"/>
            <p:cNvSpPr/>
            <p:nvPr/>
          </p:nvSpPr>
          <p:spPr>
            <a:xfrm>
              <a:off x="6975000" y="2634840"/>
              <a:ext cx="19440" cy="232704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720" bIns="72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4427280" y="3320640"/>
              <a:ext cx="2493720" cy="643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3e952e"/>
                  </a:solidFill>
                  <a:latin typeface="Arial"/>
                </a:rPr>
                <a:t>Взаимное располож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3e952e"/>
                  </a:solidFill>
                  <a:latin typeface="Arial"/>
                </a:rPr>
                <a:t>тел солнечной систем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3e952e"/>
                  </a:solidFill>
                  <a:latin typeface="Arial"/>
                </a:rPr>
                <a:t>КА, антенны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3"/>
            <p:cNvSpPr/>
            <p:nvPr/>
          </p:nvSpPr>
          <p:spPr>
            <a:xfrm flipH="1">
              <a:off x="3103200" y="1903320"/>
              <a:ext cx="1790640" cy="157428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64"/>
            <p:cNvSpPr/>
            <p:nvPr/>
          </p:nvSpPr>
          <p:spPr>
            <a:xfrm flipH="1" flipV="1">
              <a:off x="5284440" y="2094840"/>
              <a:ext cx="1680840" cy="50544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65"/>
            <p:cNvSpPr/>
            <p:nvPr/>
          </p:nvSpPr>
          <p:spPr>
            <a:xfrm flipH="1" flipV="1">
              <a:off x="5106240" y="1970280"/>
              <a:ext cx="178200" cy="12456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66"/>
            <p:cNvSpPr/>
            <p:nvPr/>
          </p:nvSpPr>
          <p:spPr>
            <a:xfrm>
              <a:off x="0" y="2461320"/>
              <a:ext cx="1245960" cy="30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ru-RU" sz="1400" spc="-1" strike="noStrike">
                  <a:solidFill>
                    <a:srgbClr val="43c04a"/>
                  </a:solidFill>
                  <a:latin typeface="Arial"/>
                </a:rPr>
                <a:t>Поло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7"/>
            <p:cNvSpPr/>
            <p:nvPr/>
          </p:nvSpPr>
          <p:spPr>
            <a:xfrm flipH="1" flipV="1">
              <a:off x="6850080" y="2163600"/>
              <a:ext cx="105480" cy="425520"/>
            </a:xfrm>
            <a:prstGeom prst="line">
              <a:avLst/>
            </a:prstGeom>
            <a:ln w="12700">
              <a:solidFill>
                <a:srgbClr val="3e952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Text Box 69"/>
          <p:cNvSpPr/>
          <p:nvPr/>
        </p:nvSpPr>
        <p:spPr>
          <a:xfrm>
            <a:off x="9360" y="6348240"/>
            <a:ext cx="2301120" cy="2653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</a:pPr>
            <a:r>
              <a:rPr b="1" lang="ru-RU" sz="1200" spc="-1" strike="noStrike">
                <a:solidFill>
                  <a:srgbClr val="4f1945"/>
                </a:solidFill>
                <a:latin typeface="Arial"/>
              </a:rPr>
              <a:t>Система перевода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4680" y="3672000"/>
            <a:ext cx="1779840" cy="31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ru-RU" sz="1400" spc="-1" strike="noStrike">
                <a:solidFill>
                  <a:srgbClr val="4f1945"/>
                </a:solidFill>
                <a:latin typeface="Arial"/>
              </a:rPr>
              <a:t>Перевод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1" descr="clock"/>
          <p:cNvPicPr/>
          <p:nvPr/>
        </p:nvPicPr>
        <p:blipFill>
          <a:blip r:embed="rId1"/>
          <a:stretch/>
        </p:blipFill>
        <p:spPr>
          <a:xfrm>
            <a:off x="449280" y="5181480"/>
            <a:ext cx="1128240" cy="1149120"/>
          </a:xfrm>
          <a:prstGeom prst="rect">
            <a:avLst/>
          </a:prstGeom>
          <a:ln w="9525">
            <a:noFill/>
          </a:ln>
        </p:spPr>
      </p:pic>
      <p:sp>
        <p:nvSpPr>
          <p:cNvPr id="205" name="AutoShape 72"/>
          <p:cNvSpPr/>
          <p:nvPr/>
        </p:nvSpPr>
        <p:spPr>
          <a:xfrm>
            <a:off x="2771640" y="6141960"/>
            <a:ext cx="3024000" cy="604440"/>
          </a:xfrm>
          <a:prstGeom prst="ellipseRibbon2">
            <a:avLst>
              <a:gd name="adj1" fmla="val 25000"/>
              <a:gd name="adj2" fmla="val 50000"/>
              <a:gd name="adj3" fmla="val 12500"/>
            </a:avLst>
          </a:prstGeom>
          <a:solidFill>
            <a:srgbClr val="ebbb0d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73"/>
          <p:cNvSpPr/>
          <p:nvPr/>
        </p:nvSpPr>
        <p:spPr>
          <a:xfrm>
            <a:off x="3476880" y="6248520"/>
            <a:ext cx="16639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3"/>
          <p:cNvGrpSpPr/>
          <p:nvPr/>
        </p:nvGrpSpPr>
        <p:grpSpPr>
          <a:xfrm>
            <a:off x="1440" y="3390840"/>
            <a:ext cx="6779880" cy="2573640"/>
            <a:chOff x="1440" y="3390840"/>
            <a:chExt cx="6779880" cy="2573640"/>
          </a:xfrm>
        </p:grpSpPr>
        <p:sp>
          <p:nvSpPr>
            <p:cNvPr id="208" name="Text Box 74"/>
            <p:cNvSpPr/>
            <p:nvPr/>
          </p:nvSpPr>
          <p:spPr>
            <a:xfrm>
              <a:off x="5299920" y="5563800"/>
              <a:ext cx="1470240" cy="40068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ff30ce"/>
                  </a:solidFill>
                  <a:latin typeface="Arial"/>
                </a:rPr>
                <a:t>Место пол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ff30ce"/>
                  </a:solidFill>
                  <a:latin typeface="Arial"/>
                </a:rPr>
                <a:t>зрения инструмен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5"/>
            <p:cNvSpPr/>
            <p:nvPr/>
          </p:nvSpPr>
          <p:spPr>
            <a:xfrm>
              <a:off x="6443640" y="5347080"/>
              <a:ext cx="337680" cy="38088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08" h="232">
                  <a:moveTo>
                    <a:pt x="48" y="16"/>
                  </a:moveTo>
                  <a:cubicBezTo>
                    <a:pt x="16" y="32"/>
                    <a:pt x="0" y="128"/>
                    <a:pt x="0" y="160"/>
                  </a:cubicBezTo>
                  <a:cubicBezTo>
                    <a:pt x="0" y="192"/>
                    <a:pt x="24" y="200"/>
                    <a:pt x="48" y="208"/>
                  </a:cubicBezTo>
                  <a:cubicBezTo>
                    <a:pt x="72" y="216"/>
                    <a:pt x="120" y="232"/>
                    <a:pt x="144" y="208"/>
                  </a:cubicBezTo>
                  <a:cubicBezTo>
                    <a:pt x="168" y="184"/>
                    <a:pt x="208" y="96"/>
                    <a:pt x="192" y="64"/>
                  </a:cubicBezTo>
                  <a:cubicBezTo>
                    <a:pt x="176" y="32"/>
                    <a:pt x="80" y="0"/>
                    <a:pt x="48" y="16"/>
                  </a:cubicBezTo>
                  <a:close/>
                </a:path>
              </a:pathLst>
            </a:custGeom>
            <a:pattFill prst="openDmnd">
              <a:fgClr>
                <a:srgbClr val="ff30ce"/>
              </a:fgClr>
              <a:bgClr>
                <a:srgbClr val="ffffff"/>
              </a:bgClr>
            </a:pattFill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76"/>
            <p:cNvSpPr/>
            <p:nvPr/>
          </p:nvSpPr>
          <p:spPr>
            <a:xfrm>
              <a:off x="3323160" y="3795120"/>
              <a:ext cx="3120480" cy="1814760"/>
            </a:xfrm>
            <a:prstGeom prst="line">
              <a:avLst/>
            </a:prstGeom>
            <a:ln cap="rnd" w="3175">
              <a:solidFill>
                <a:srgbClr val="ff30c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77"/>
            <p:cNvSpPr/>
            <p:nvPr/>
          </p:nvSpPr>
          <p:spPr>
            <a:xfrm>
              <a:off x="3323160" y="3716280"/>
              <a:ext cx="3198600" cy="1656720"/>
            </a:xfrm>
            <a:prstGeom prst="line">
              <a:avLst/>
            </a:prstGeom>
            <a:ln cap="rnd" w="3175">
              <a:solidFill>
                <a:srgbClr val="ff30c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78"/>
            <p:cNvSpPr/>
            <p:nvPr/>
          </p:nvSpPr>
          <p:spPr>
            <a:xfrm>
              <a:off x="3323160" y="3716280"/>
              <a:ext cx="3432600" cy="1735560"/>
            </a:xfrm>
            <a:prstGeom prst="line">
              <a:avLst/>
            </a:prstGeom>
            <a:ln cap="rnd" w="3175">
              <a:solidFill>
                <a:srgbClr val="ff30c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79"/>
            <p:cNvSpPr/>
            <p:nvPr/>
          </p:nvSpPr>
          <p:spPr>
            <a:xfrm>
              <a:off x="3323160" y="3716280"/>
              <a:ext cx="3354480" cy="1972440"/>
            </a:xfrm>
            <a:prstGeom prst="line">
              <a:avLst/>
            </a:prstGeom>
            <a:ln cap="rnd" w="3175">
              <a:solidFill>
                <a:srgbClr val="ff30c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360" bIns="36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80"/>
            <p:cNvSpPr/>
            <p:nvPr/>
          </p:nvSpPr>
          <p:spPr>
            <a:xfrm>
              <a:off x="1440" y="3390840"/>
              <a:ext cx="732600" cy="309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ru-RU" sz="1400" spc="-1" strike="noStrike">
                  <a:solidFill>
                    <a:srgbClr val="ff30ce"/>
                  </a:solidFill>
                  <a:latin typeface="Arial"/>
                </a:rPr>
                <a:t>Мест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22"/>
          <p:cNvSpPr/>
          <p:nvPr/>
        </p:nvSpPr>
        <p:spPr>
          <a:xfrm>
            <a:off x="7730280" y="4221000"/>
            <a:ext cx="1413360" cy="555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Ориентаци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c000"/>
                </a:solidFill>
                <a:latin typeface="Arial"/>
              </a:rPr>
              <a:t>Размер и фор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ане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C:\Users\IKI\Desktop\ики.jpg"/>
          <p:cNvPicPr/>
          <p:nvPr/>
        </p:nvPicPr>
        <p:blipFill>
          <a:blip r:embed="rId2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217" name="Прямая соединительная линия 80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18" name="Прямоугольник 82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12"/>
          <p:cNvSpPr/>
          <p:nvPr/>
        </p:nvSpPr>
        <p:spPr>
          <a:xfrm>
            <a:off x="5568840" y="3638880"/>
            <a:ext cx="1765800" cy="2081880"/>
          </a:xfrm>
          <a:custGeom>
            <a:avLst/>
            <a:gdLst>
              <a:gd name="textAreaLeft" fmla="*/ 0 w 1765800"/>
              <a:gd name="textAreaRight" fmla="*/ 1766160 w 1765800"/>
              <a:gd name="textAreaTop" fmla="*/ 0 h 2081880"/>
              <a:gd name="textAreaBottom" fmla="*/ 2082240 h 2081880"/>
            </a:gdLst>
            <a:ahLst/>
            <a:rect l="textAreaLeft" t="textAreaTop" r="textAreaRight" b="textAreaBottom"/>
            <a:pathLst>
              <a:path w="896" h="1360">
                <a:moveTo>
                  <a:pt x="0" y="1248"/>
                </a:moveTo>
                <a:cubicBezTo>
                  <a:pt x="40" y="1292"/>
                  <a:pt x="80" y="1336"/>
                  <a:pt x="192" y="1344"/>
                </a:cubicBezTo>
                <a:cubicBezTo>
                  <a:pt x="304" y="1352"/>
                  <a:pt x="560" y="1360"/>
                  <a:pt x="672" y="1296"/>
                </a:cubicBezTo>
                <a:cubicBezTo>
                  <a:pt x="784" y="1232"/>
                  <a:pt x="832" y="1080"/>
                  <a:pt x="864" y="960"/>
                </a:cubicBezTo>
                <a:cubicBezTo>
                  <a:pt x="896" y="840"/>
                  <a:pt x="872" y="688"/>
                  <a:pt x="864" y="576"/>
                </a:cubicBezTo>
                <a:cubicBezTo>
                  <a:pt x="856" y="464"/>
                  <a:pt x="840" y="384"/>
                  <a:pt x="816" y="288"/>
                </a:cubicBezTo>
                <a:cubicBezTo>
                  <a:pt x="792" y="192"/>
                  <a:pt x="736" y="48"/>
                  <a:pt x="720" y="0"/>
                </a:cubicBezTo>
              </a:path>
            </a:pathLst>
          </a:custGeom>
          <a:noFill/>
          <a:ln w="28575">
            <a:solidFill>
              <a:srgbClr val="0fb75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184000" y="5409360"/>
            <a:ext cx="837720" cy="309960"/>
          </a:xfrm>
          <a:prstGeom prst="ellipse">
            <a:avLst/>
          </a:prstGeom>
          <a:solidFill>
            <a:srgbClr val="1ab756"/>
          </a:solidFill>
          <a:ln w="19050">
            <a:solidFill>
              <a:srgbClr val="0fb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4"/>
          <p:cNvSpPr/>
          <p:nvPr/>
        </p:nvSpPr>
        <p:spPr>
          <a:xfrm flipH="1" flipV="1">
            <a:off x="3205440" y="3393000"/>
            <a:ext cx="1206720" cy="1614960"/>
          </a:xfrm>
          <a:prstGeom prst="line">
            <a:avLst/>
          </a:prstGeom>
          <a:ln w="28575">
            <a:solidFill>
              <a:srgbClr val="e6d68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4135680" y="4914720"/>
            <a:ext cx="1119960" cy="412920"/>
          </a:xfrm>
          <a:prstGeom prst="ellipse">
            <a:avLst/>
          </a:prstGeom>
          <a:solidFill>
            <a:srgbClr val="e4d685"/>
          </a:solidFill>
          <a:ln w="19050">
            <a:solidFill>
              <a:srgbClr val="e6d68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640" y="4869000"/>
            <a:ext cx="6781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4840" bIns="24840" anchor="t">
            <a:spAutoFit/>
          </a:bodyPr>
          <a:p>
            <a:pPr>
              <a:lnSpc>
                <a:spcPct val="91000"/>
              </a:lnSpc>
              <a:spcBef>
                <a:spcPts val="147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CE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ы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оддержки и анализа эт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Num" idx="13"/>
          </p:nvPr>
        </p:nvSpPr>
        <p:spPr>
          <a:xfrm>
            <a:off x="7251840" y="6629400"/>
            <a:ext cx="1904760" cy="24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6D3BAB-FE02-4278-BCA3-70466F249D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367240" y="1549080"/>
            <a:ext cx="2832480" cy="1991160"/>
            <a:chOff x="5367240" y="1549080"/>
            <a:chExt cx="2832480" cy="1991160"/>
          </a:xfrm>
        </p:grpSpPr>
        <p:sp>
          <p:nvSpPr>
            <p:cNvPr id="226" name="Oval 6"/>
            <p:cNvSpPr/>
            <p:nvPr/>
          </p:nvSpPr>
          <p:spPr>
            <a:xfrm>
              <a:off x="5367240" y="1549080"/>
              <a:ext cx="2832480" cy="1991160"/>
            </a:xfrm>
            <a:prstGeom prst="ellipse">
              <a:avLst/>
            </a:prstGeom>
            <a:solidFill>
              <a:srgbClr val="0fb756"/>
            </a:solidFill>
            <a:ln w="12700">
              <a:solidFill>
                <a:srgbClr val="000000"/>
              </a:solidFill>
              <a:round/>
            </a:ln>
            <a:effectLst>
              <a:outerShdw algn="ctr" blurRad="63360" dir="2700000" dist="37674" rotWithShape="0">
                <a:schemeClr val="bg2">
                  <a:alpha val="74998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0200" y="2140560"/>
              <a:ext cx="2086920" cy="881640"/>
            </a:xfrm>
            <a:prstGeom prst="rect">
              <a:avLst/>
            </a:prstGeom>
            <a:noFill/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lnSpc>
                  <a:spcPct val="88000"/>
                </a:lnSpc>
              </a:pPr>
              <a:r>
                <a:rPr b="0" lang="ru-RU" sz="3100" spc="-1" strike="noStrike">
                  <a:solidFill>
                    <a:srgbClr val="000000"/>
                  </a:solidFill>
                  <a:latin typeface="Times New Roman"/>
                </a:rPr>
                <a:t>Научные данны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8"/>
          <p:cNvGrpSpPr/>
          <p:nvPr/>
        </p:nvGrpSpPr>
        <p:grpSpPr>
          <a:xfrm>
            <a:off x="894600" y="1549080"/>
            <a:ext cx="2832480" cy="1917360"/>
            <a:chOff x="894600" y="1549080"/>
            <a:chExt cx="2832480" cy="1917360"/>
          </a:xfrm>
        </p:grpSpPr>
        <p:sp>
          <p:nvSpPr>
            <p:cNvPr id="229" name="Oval 9"/>
            <p:cNvSpPr/>
            <p:nvPr/>
          </p:nvSpPr>
          <p:spPr>
            <a:xfrm>
              <a:off x="894600" y="1549080"/>
              <a:ext cx="2832480" cy="1917360"/>
            </a:xfrm>
            <a:prstGeom prst="ellipse">
              <a:avLst/>
            </a:prstGeom>
            <a:solidFill>
              <a:srgbClr val="e6d684"/>
            </a:solidFill>
            <a:ln w="12700">
              <a:solidFill>
                <a:srgbClr val="000000"/>
              </a:solidFill>
              <a:round/>
            </a:ln>
            <a:effectLst>
              <a:outerShdw algn="ctr" blurRad="63360" dir="2700000" dist="37674" rotWithShape="0">
                <a:schemeClr val="bg2">
                  <a:alpha val="74998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085400" y="2063880"/>
              <a:ext cx="2512800" cy="694440"/>
            </a:xfrm>
            <a:prstGeom prst="rect">
              <a:avLst/>
            </a:prstGeom>
            <a:noFill/>
            <a:ln w="12700">
              <a:noFill/>
            </a:ln>
            <a:effectLst>
              <a:outerShdw algn="ctr" blurRad="63360" dir="2700000" dist="37674" rotWithShape="0">
                <a:schemeClr val="bg2">
                  <a:alpha val="74998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8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спомогатель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8000"/>
                </a:lnSpc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232" name="Прямая соединительная линия 16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33" name="Rectangle 18"/>
          <p:cNvSpPr/>
          <p:nvPr/>
        </p:nvSpPr>
        <p:spPr>
          <a:xfrm>
            <a:off x="1847160" y="188640"/>
            <a:ext cx="636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2 типа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8"/>
          <p:cNvSpPr/>
          <p:nvPr/>
        </p:nvSpPr>
        <p:spPr>
          <a:xfrm>
            <a:off x="142920" y="656712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34FCEC-5C48-4BB4-B22F-790C0047E6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452240" y="1675080"/>
            <a:ext cx="1091520" cy="637560"/>
          </a:xfrm>
          <a:prstGeom prst="rect">
            <a:avLst/>
          </a:prstGeom>
          <a:solidFill>
            <a:srgbClr val="e6d684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452240" y="2558520"/>
            <a:ext cx="1091520" cy="636120"/>
          </a:xfrm>
          <a:prstGeom prst="rect">
            <a:avLst/>
          </a:prstGeom>
          <a:solidFill>
            <a:srgbClr val="e6d684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452240" y="3441960"/>
            <a:ext cx="1091520" cy="637560"/>
          </a:xfrm>
          <a:prstGeom prst="rect">
            <a:avLst/>
          </a:prstGeom>
          <a:solidFill>
            <a:srgbClr val="e6d684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52240" y="4323960"/>
            <a:ext cx="1091520" cy="637560"/>
          </a:xfrm>
          <a:prstGeom prst="rect">
            <a:avLst/>
          </a:prstGeom>
          <a:solidFill>
            <a:srgbClr val="e6d684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452240" y="5207400"/>
            <a:ext cx="1091520" cy="637560"/>
          </a:xfrm>
          <a:prstGeom prst="rect">
            <a:avLst/>
          </a:prstGeom>
          <a:solidFill>
            <a:srgbClr val="e6d684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20880" y="1820880"/>
            <a:ext cx="25848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832760" y="2705760"/>
            <a:ext cx="27504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877400" y="3587760"/>
            <a:ext cx="19728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1815840" y="4472640"/>
            <a:ext cx="27972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1830960" y="5367240"/>
            <a:ext cx="26748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3681000" y="1773000"/>
            <a:ext cx="430776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acecraft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Космический аппарат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3668400" y="2644560"/>
            <a:ext cx="211752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lanet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планет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3672720" y="3612240"/>
            <a:ext cx="313416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strument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инструмент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3671640" y="4422240"/>
            <a:ext cx="291924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-matrix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ориентация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3665880" y="5379480"/>
            <a:ext cx="2186280" cy="347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24840" bIns="24840" anchor="t">
            <a:spAutoFit/>
          </a:bodyPr>
          <a:p>
            <a:pPr>
              <a:lnSpc>
                <a:spcPct val="85000"/>
              </a:lnSpc>
            </a:pP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vents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(события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1520640" y="6224760"/>
            <a:ext cx="6577560" cy="332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200" bIns="43200" anchor="t">
            <a:sp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ума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. Hugh Kieffer, USGS Astrogeology Branch, Flagstaff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253" name="Прямая соединительная линия 2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254" name="Rectangle 18"/>
          <p:cNvSpPr/>
          <p:nvPr/>
        </p:nvSpPr>
        <p:spPr>
          <a:xfrm>
            <a:off x="1847160" y="188640"/>
            <a:ext cx="636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Аббревиатура </a:t>
            </a:r>
            <a:r>
              <a:rPr b="1" lang="en-US" sz="2400" spc="-1" strike="noStrike">
                <a:solidFill>
                  <a:schemeClr val="accent1"/>
                </a:solidFill>
                <a:latin typeface="Arial"/>
              </a:rPr>
              <a:t>SPICE</a:t>
            </a: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6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Прямая соединительная линия 68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cxnSp>
        <p:nvCxnSpPr>
          <p:cNvPr id="257" name="Straight Connector 62"/>
          <p:cNvCxnSpPr/>
          <p:nvPr/>
        </p:nvCxnSpPr>
        <p:spPr>
          <a:xfrm>
            <a:off x="392040" y="3789000"/>
            <a:ext cx="6480" cy="1425960"/>
          </a:xfrm>
          <a:prstGeom prst="straightConnector1">
            <a:avLst/>
          </a:prstGeom>
          <a:ln w="9525">
            <a:solidFill>
              <a:srgbClr val="008000"/>
            </a:solidFill>
            <a:round/>
          </a:ln>
        </p:spPr>
      </p:cxnSp>
      <p:sp>
        <p:nvSpPr>
          <p:cNvPr id="258" name="Rectangle 2"/>
          <p:cNvSpPr/>
          <p:nvPr/>
        </p:nvSpPr>
        <p:spPr>
          <a:xfrm>
            <a:off x="4362480" y="512640"/>
            <a:ext cx="25200" cy="228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58960" y="1473120"/>
            <a:ext cx="1244160" cy="55224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58960" y="2247840"/>
            <a:ext cx="1244160" cy="55044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858960" y="4630680"/>
            <a:ext cx="1244160" cy="55368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34920" y="5985360"/>
            <a:ext cx="1168200" cy="61092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858960" y="3059280"/>
            <a:ext cx="1244160" cy="55044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858960" y="3855960"/>
            <a:ext cx="1244160" cy="553680"/>
          </a:xfrm>
          <a:prstGeom prst="rect">
            <a:avLst/>
          </a:prstGeom>
          <a:solidFill>
            <a:srgbClr val="68aafd"/>
          </a:solidFill>
          <a:ln w="2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10"/>
          <p:cNvSpPr/>
          <p:nvPr/>
        </p:nvSpPr>
        <p:spPr>
          <a:xfrm>
            <a:off x="3618000" y="4595760"/>
            <a:ext cx="1383840" cy="609120"/>
          </a:xfrm>
          <a:custGeom>
            <a:avLst/>
            <a:gdLst>
              <a:gd name="textAreaLeft" fmla="*/ 0 w 1383840"/>
              <a:gd name="textAreaRight" fmla="*/ 1384200 w 1383840"/>
              <a:gd name="textAreaTop" fmla="*/ 0 h 609120"/>
              <a:gd name="textAreaBottom" fmla="*/ 609480 h 609120"/>
            </a:gdLst>
            <a:ahLst/>
            <a:rect l="textAreaLeft" t="textAreaTop" r="textAreaRight" b="textAreaBottom"/>
            <a:pathLst>
              <a:path w="872" h="384">
                <a:moveTo>
                  <a:pt x="144" y="383"/>
                </a:moveTo>
                <a:lnTo>
                  <a:pt x="89" y="363"/>
                </a:lnTo>
                <a:lnTo>
                  <a:pt x="44" y="328"/>
                </a:lnTo>
                <a:lnTo>
                  <a:pt x="15" y="264"/>
                </a:lnTo>
                <a:lnTo>
                  <a:pt x="5" y="229"/>
                </a:lnTo>
                <a:lnTo>
                  <a:pt x="0" y="189"/>
                </a:lnTo>
                <a:lnTo>
                  <a:pt x="5" y="154"/>
                </a:lnTo>
                <a:lnTo>
                  <a:pt x="15" y="119"/>
                </a:lnTo>
                <a:lnTo>
                  <a:pt x="44" y="50"/>
                </a:lnTo>
                <a:lnTo>
                  <a:pt x="89" y="20"/>
                </a:lnTo>
                <a:lnTo>
                  <a:pt x="114" y="5"/>
                </a:lnTo>
                <a:lnTo>
                  <a:pt x="144" y="0"/>
                </a:lnTo>
                <a:lnTo>
                  <a:pt x="871" y="0"/>
                </a:lnTo>
                <a:lnTo>
                  <a:pt x="841" y="5"/>
                </a:lnTo>
                <a:lnTo>
                  <a:pt x="816" y="20"/>
                </a:lnTo>
                <a:lnTo>
                  <a:pt x="771" y="50"/>
                </a:lnTo>
                <a:lnTo>
                  <a:pt x="751" y="84"/>
                </a:lnTo>
                <a:lnTo>
                  <a:pt x="737" y="119"/>
                </a:lnTo>
                <a:lnTo>
                  <a:pt x="732" y="154"/>
                </a:lnTo>
                <a:lnTo>
                  <a:pt x="727" y="189"/>
                </a:lnTo>
                <a:lnTo>
                  <a:pt x="732" y="229"/>
                </a:lnTo>
                <a:lnTo>
                  <a:pt x="737" y="264"/>
                </a:lnTo>
                <a:lnTo>
                  <a:pt x="751" y="298"/>
                </a:lnTo>
                <a:lnTo>
                  <a:pt x="771" y="328"/>
                </a:lnTo>
                <a:lnTo>
                  <a:pt x="816" y="363"/>
                </a:lnTo>
                <a:lnTo>
                  <a:pt x="871" y="383"/>
                </a:lnTo>
                <a:lnTo>
                  <a:pt x="144" y="383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11"/>
          <p:cNvSpPr/>
          <p:nvPr/>
        </p:nvSpPr>
        <p:spPr>
          <a:xfrm>
            <a:off x="3600360" y="3824280"/>
            <a:ext cx="1388880" cy="615600"/>
          </a:xfrm>
          <a:custGeom>
            <a:avLst/>
            <a:gdLst>
              <a:gd name="textAreaLeft" fmla="*/ 0 w 1388880"/>
              <a:gd name="textAreaRight" fmla="*/ 1389240 w 138888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875" h="388">
                <a:moveTo>
                  <a:pt x="149" y="387"/>
                </a:moveTo>
                <a:lnTo>
                  <a:pt x="119" y="379"/>
                </a:lnTo>
                <a:lnTo>
                  <a:pt x="94" y="366"/>
                </a:lnTo>
                <a:lnTo>
                  <a:pt x="45" y="328"/>
                </a:lnTo>
                <a:lnTo>
                  <a:pt x="15" y="265"/>
                </a:lnTo>
                <a:lnTo>
                  <a:pt x="0" y="194"/>
                </a:lnTo>
                <a:lnTo>
                  <a:pt x="15" y="122"/>
                </a:lnTo>
                <a:lnTo>
                  <a:pt x="45" y="55"/>
                </a:lnTo>
                <a:lnTo>
                  <a:pt x="94" y="21"/>
                </a:lnTo>
                <a:lnTo>
                  <a:pt x="119" y="9"/>
                </a:lnTo>
                <a:lnTo>
                  <a:pt x="149" y="0"/>
                </a:lnTo>
                <a:lnTo>
                  <a:pt x="874" y="0"/>
                </a:lnTo>
                <a:lnTo>
                  <a:pt x="844" y="9"/>
                </a:lnTo>
                <a:lnTo>
                  <a:pt x="819" y="21"/>
                </a:lnTo>
                <a:lnTo>
                  <a:pt x="770" y="55"/>
                </a:lnTo>
                <a:lnTo>
                  <a:pt x="740" y="122"/>
                </a:lnTo>
                <a:lnTo>
                  <a:pt x="735" y="156"/>
                </a:lnTo>
                <a:lnTo>
                  <a:pt x="730" y="194"/>
                </a:lnTo>
                <a:lnTo>
                  <a:pt x="735" y="231"/>
                </a:lnTo>
                <a:lnTo>
                  <a:pt x="740" y="265"/>
                </a:lnTo>
                <a:lnTo>
                  <a:pt x="770" y="328"/>
                </a:lnTo>
                <a:lnTo>
                  <a:pt x="819" y="366"/>
                </a:lnTo>
                <a:lnTo>
                  <a:pt x="844" y="379"/>
                </a:lnTo>
                <a:lnTo>
                  <a:pt x="874" y="387"/>
                </a:lnTo>
                <a:lnTo>
                  <a:pt x="149" y="387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5478480" y="5778360"/>
            <a:ext cx="655200" cy="255240"/>
          </a:xfrm>
          <a:prstGeom prst="rect">
            <a:avLst/>
          </a:prstGeom>
          <a:solidFill>
            <a:srgbClr val="e6d684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5477040" y="5549760"/>
            <a:ext cx="653760" cy="229680"/>
          </a:xfrm>
          <a:prstGeom prst="rect">
            <a:avLst/>
          </a:prstGeom>
          <a:solidFill>
            <a:srgbClr val="e6d684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5477040" y="5316480"/>
            <a:ext cx="653760" cy="229680"/>
          </a:xfrm>
          <a:prstGeom prst="rect">
            <a:avLst/>
          </a:prstGeom>
          <a:solidFill>
            <a:srgbClr val="e6d684"/>
          </a:solidFill>
          <a:ln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5"/>
          <p:cNvSpPr/>
          <p:nvPr/>
        </p:nvSpPr>
        <p:spPr>
          <a:xfrm>
            <a:off x="3591000" y="3027240"/>
            <a:ext cx="1385640" cy="61092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873" h="385">
                <a:moveTo>
                  <a:pt x="144" y="384"/>
                </a:moveTo>
                <a:lnTo>
                  <a:pt x="119" y="377"/>
                </a:lnTo>
                <a:lnTo>
                  <a:pt x="94" y="364"/>
                </a:lnTo>
                <a:lnTo>
                  <a:pt x="70" y="347"/>
                </a:lnTo>
                <a:lnTo>
                  <a:pt x="45" y="326"/>
                </a:lnTo>
                <a:lnTo>
                  <a:pt x="30" y="296"/>
                </a:lnTo>
                <a:lnTo>
                  <a:pt x="15" y="265"/>
                </a:lnTo>
                <a:lnTo>
                  <a:pt x="0" y="190"/>
                </a:lnTo>
                <a:lnTo>
                  <a:pt x="15" y="119"/>
                </a:lnTo>
                <a:lnTo>
                  <a:pt x="45" y="55"/>
                </a:lnTo>
                <a:lnTo>
                  <a:pt x="70" y="34"/>
                </a:lnTo>
                <a:lnTo>
                  <a:pt x="94" y="17"/>
                </a:lnTo>
                <a:lnTo>
                  <a:pt x="119" y="7"/>
                </a:lnTo>
                <a:lnTo>
                  <a:pt x="144" y="0"/>
                </a:lnTo>
                <a:lnTo>
                  <a:pt x="872" y="0"/>
                </a:lnTo>
                <a:lnTo>
                  <a:pt x="842" y="7"/>
                </a:lnTo>
                <a:lnTo>
                  <a:pt x="818" y="17"/>
                </a:lnTo>
                <a:lnTo>
                  <a:pt x="793" y="34"/>
                </a:lnTo>
                <a:lnTo>
                  <a:pt x="768" y="55"/>
                </a:lnTo>
                <a:lnTo>
                  <a:pt x="738" y="119"/>
                </a:lnTo>
                <a:lnTo>
                  <a:pt x="733" y="153"/>
                </a:lnTo>
                <a:lnTo>
                  <a:pt x="728" y="190"/>
                </a:lnTo>
                <a:lnTo>
                  <a:pt x="733" y="228"/>
                </a:lnTo>
                <a:lnTo>
                  <a:pt x="738" y="265"/>
                </a:lnTo>
                <a:lnTo>
                  <a:pt x="753" y="296"/>
                </a:lnTo>
                <a:lnTo>
                  <a:pt x="768" y="326"/>
                </a:lnTo>
                <a:lnTo>
                  <a:pt x="793" y="347"/>
                </a:lnTo>
                <a:lnTo>
                  <a:pt x="818" y="364"/>
                </a:lnTo>
                <a:lnTo>
                  <a:pt x="842" y="377"/>
                </a:lnTo>
                <a:lnTo>
                  <a:pt x="872" y="384"/>
                </a:lnTo>
                <a:lnTo>
                  <a:pt x="144" y="384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6"/>
          <p:cNvSpPr/>
          <p:nvPr/>
        </p:nvSpPr>
        <p:spPr>
          <a:xfrm>
            <a:off x="3581280" y="2222640"/>
            <a:ext cx="1382400" cy="615600"/>
          </a:xfrm>
          <a:custGeom>
            <a:avLst/>
            <a:gdLst>
              <a:gd name="textAreaLeft" fmla="*/ 0 w 1382400"/>
              <a:gd name="textAreaRight" fmla="*/ 1382760 w 13824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871" h="387">
                <a:moveTo>
                  <a:pt x="144" y="386"/>
                </a:moveTo>
                <a:lnTo>
                  <a:pt x="114" y="378"/>
                </a:lnTo>
                <a:lnTo>
                  <a:pt x="89" y="365"/>
                </a:lnTo>
                <a:lnTo>
                  <a:pt x="65" y="350"/>
                </a:lnTo>
                <a:lnTo>
                  <a:pt x="40" y="329"/>
                </a:lnTo>
                <a:lnTo>
                  <a:pt x="25" y="298"/>
                </a:lnTo>
                <a:lnTo>
                  <a:pt x="15" y="264"/>
                </a:lnTo>
                <a:lnTo>
                  <a:pt x="5" y="231"/>
                </a:lnTo>
                <a:lnTo>
                  <a:pt x="0" y="192"/>
                </a:lnTo>
                <a:lnTo>
                  <a:pt x="5" y="156"/>
                </a:lnTo>
                <a:lnTo>
                  <a:pt x="15" y="119"/>
                </a:lnTo>
                <a:lnTo>
                  <a:pt x="40" y="55"/>
                </a:lnTo>
                <a:lnTo>
                  <a:pt x="65" y="37"/>
                </a:lnTo>
                <a:lnTo>
                  <a:pt x="89" y="21"/>
                </a:lnTo>
                <a:lnTo>
                  <a:pt x="114" y="8"/>
                </a:lnTo>
                <a:lnTo>
                  <a:pt x="144" y="0"/>
                </a:lnTo>
                <a:lnTo>
                  <a:pt x="870" y="0"/>
                </a:lnTo>
                <a:lnTo>
                  <a:pt x="840" y="8"/>
                </a:lnTo>
                <a:lnTo>
                  <a:pt x="816" y="21"/>
                </a:lnTo>
                <a:lnTo>
                  <a:pt x="791" y="37"/>
                </a:lnTo>
                <a:lnTo>
                  <a:pt x="766" y="55"/>
                </a:lnTo>
                <a:lnTo>
                  <a:pt x="737" y="119"/>
                </a:lnTo>
                <a:lnTo>
                  <a:pt x="722" y="192"/>
                </a:lnTo>
                <a:lnTo>
                  <a:pt x="737" y="264"/>
                </a:lnTo>
                <a:lnTo>
                  <a:pt x="751" y="298"/>
                </a:lnTo>
                <a:lnTo>
                  <a:pt x="766" y="329"/>
                </a:lnTo>
                <a:lnTo>
                  <a:pt x="791" y="350"/>
                </a:lnTo>
                <a:lnTo>
                  <a:pt x="816" y="365"/>
                </a:lnTo>
                <a:lnTo>
                  <a:pt x="840" y="378"/>
                </a:lnTo>
                <a:lnTo>
                  <a:pt x="870" y="386"/>
                </a:lnTo>
                <a:lnTo>
                  <a:pt x="144" y="386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7"/>
          <p:cNvSpPr/>
          <p:nvPr/>
        </p:nvSpPr>
        <p:spPr>
          <a:xfrm>
            <a:off x="3567240" y="1459080"/>
            <a:ext cx="1385640" cy="61092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873" h="385">
                <a:moveTo>
                  <a:pt x="143" y="384"/>
                </a:moveTo>
                <a:lnTo>
                  <a:pt x="118" y="377"/>
                </a:lnTo>
                <a:lnTo>
                  <a:pt x="93" y="366"/>
                </a:lnTo>
                <a:lnTo>
                  <a:pt x="69" y="350"/>
                </a:lnTo>
                <a:lnTo>
                  <a:pt x="44" y="330"/>
                </a:lnTo>
                <a:lnTo>
                  <a:pt x="29" y="299"/>
                </a:lnTo>
                <a:lnTo>
                  <a:pt x="15" y="264"/>
                </a:lnTo>
                <a:lnTo>
                  <a:pt x="5" y="230"/>
                </a:lnTo>
                <a:lnTo>
                  <a:pt x="0" y="191"/>
                </a:lnTo>
                <a:lnTo>
                  <a:pt x="15" y="120"/>
                </a:lnTo>
                <a:lnTo>
                  <a:pt x="44" y="55"/>
                </a:lnTo>
                <a:lnTo>
                  <a:pt x="69" y="37"/>
                </a:lnTo>
                <a:lnTo>
                  <a:pt x="93" y="20"/>
                </a:lnTo>
                <a:lnTo>
                  <a:pt x="118" y="8"/>
                </a:lnTo>
                <a:lnTo>
                  <a:pt x="143" y="0"/>
                </a:lnTo>
                <a:lnTo>
                  <a:pt x="872" y="0"/>
                </a:lnTo>
                <a:lnTo>
                  <a:pt x="842" y="8"/>
                </a:lnTo>
                <a:lnTo>
                  <a:pt x="818" y="20"/>
                </a:lnTo>
                <a:lnTo>
                  <a:pt x="793" y="37"/>
                </a:lnTo>
                <a:lnTo>
                  <a:pt x="769" y="55"/>
                </a:lnTo>
                <a:lnTo>
                  <a:pt x="739" y="120"/>
                </a:lnTo>
                <a:lnTo>
                  <a:pt x="724" y="191"/>
                </a:lnTo>
                <a:lnTo>
                  <a:pt x="729" y="230"/>
                </a:lnTo>
                <a:lnTo>
                  <a:pt x="739" y="264"/>
                </a:lnTo>
                <a:lnTo>
                  <a:pt x="754" y="299"/>
                </a:lnTo>
                <a:lnTo>
                  <a:pt x="769" y="330"/>
                </a:lnTo>
                <a:lnTo>
                  <a:pt x="793" y="350"/>
                </a:lnTo>
                <a:lnTo>
                  <a:pt x="818" y="366"/>
                </a:lnTo>
                <a:lnTo>
                  <a:pt x="842" y="377"/>
                </a:lnTo>
                <a:lnTo>
                  <a:pt x="872" y="384"/>
                </a:lnTo>
                <a:lnTo>
                  <a:pt x="143" y="384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514800" y="1136520"/>
            <a:ext cx="2036160" cy="294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Логические зве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3459240" y="1120680"/>
            <a:ext cx="2101680" cy="294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фай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1017720" y="1757520"/>
            <a:ext cx="902880" cy="415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1209240" y="2548080"/>
            <a:ext cx="530280" cy="233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1032480" y="3332160"/>
            <a:ext cx="831960" cy="233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971640" y="4164120"/>
            <a:ext cx="1190160" cy="233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mera-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1180800" y="4929120"/>
            <a:ext cx="536400" cy="233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5"/>
          <p:cNvSpPr/>
          <p:nvPr/>
        </p:nvSpPr>
        <p:spPr>
          <a:xfrm>
            <a:off x="2342880" y="1755720"/>
            <a:ext cx="102420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1311120" y="1442880"/>
            <a:ext cx="31860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1348560" y="2278080"/>
            <a:ext cx="28044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1384200" y="3051000"/>
            <a:ext cx="20268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9"/>
          <p:cNvSpPr/>
          <p:nvPr/>
        </p:nvSpPr>
        <p:spPr>
          <a:xfrm>
            <a:off x="1285920" y="3855960"/>
            <a:ext cx="33444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1303560" y="4610160"/>
            <a:ext cx="26820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1"/>
          <p:cNvSpPr/>
          <p:nvPr/>
        </p:nvSpPr>
        <p:spPr>
          <a:xfrm>
            <a:off x="2331720" y="2565360"/>
            <a:ext cx="102240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2355840" y="3341520"/>
            <a:ext cx="102384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33"/>
          <p:cNvSpPr/>
          <p:nvPr/>
        </p:nvSpPr>
        <p:spPr>
          <a:xfrm>
            <a:off x="2355840" y="4138560"/>
            <a:ext cx="102384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34"/>
          <p:cNvSpPr/>
          <p:nvPr/>
        </p:nvSpPr>
        <p:spPr>
          <a:xfrm>
            <a:off x="2342880" y="4900320"/>
            <a:ext cx="1024200" cy="36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35"/>
          <p:cNvSpPr/>
          <p:nvPr/>
        </p:nvSpPr>
        <p:spPr>
          <a:xfrm flipV="1">
            <a:off x="2354040" y="1906560"/>
            <a:ext cx="1011240" cy="571320"/>
          </a:xfrm>
          <a:prstGeom prst="line">
            <a:avLst/>
          </a:prstGeom>
          <a:ln w="254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36"/>
          <p:cNvSpPr/>
          <p:nvPr/>
        </p:nvSpPr>
        <p:spPr>
          <a:xfrm>
            <a:off x="2336760" y="6323400"/>
            <a:ext cx="961920" cy="36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37"/>
          <p:cNvSpPr/>
          <p:nvPr/>
        </p:nvSpPr>
        <p:spPr>
          <a:xfrm>
            <a:off x="1331640" y="6331320"/>
            <a:ext cx="324720" cy="233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8"/>
          <p:cNvSpPr/>
          <p:nvPr/>
        </p:nvSpPr>
        <p:spPr>
          <a:xfrm>
            <a:off x="3473280" y="6165360"/>
            <a:ext cx="1478160" cy="3556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ICE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9"/>
          <p:cNvSpPr/>
          <p:nvPr/>
        </p:nvSpPr>
        <p:spPr>
          <a:xfrm>
            <a:off x="3868920" y="1595520"/>
            <a:ext cx="57924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P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0"/>
          <p:cNvSpPr/>
          <p:nvPr/>
        </p:nvSpPr>
        <p:spPr>
          <a:xfrm>
            <a:off x="3886560" y="2335320"/>
            <a:ext cx="55764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P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1"/>
          <p:cNvSpPr/>
          <p:nvPr/>
        </p:nvSpPr>
        <p:spPr>
          <a:xfrm>
            <a:off x="4047480" y="3147840"/>
            <a:ext cx="36252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2"/>
          <p:cNvSpPr/>
          <p:nvPr/>
        </p:nvSpPr>
        <p:spPr>
          <a:xfrm>
            <a:off x="3963240" y="3930480"/>
            <a:ext cx="44028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3855240" y="4608360"/>
            <a:ext cx="930960" cy="583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SP ESQ E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4"/>
          <p:cNvSpPr/>
          <p:nvPr/>
        </p:nvSpPr>
        <p:spPr>
          <a:xfrm>
            <a:off x="1349640" y="6036120"/>
            <a:ext cx="26352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5"/>
          <p:cNvSpPr/>
          <p:nvPr/>
        </p:nvSpPr>
        <p:spPr>
          <a:xfrm>
            <a:off x="5437080" y="5241960"/>
            <a:ext cx="578160" cy="81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6206040" y="1498680"/>
            <a:ext cx="2957040" cy="453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и скорость 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ные как функция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7"/>
          <p:cNvSpPr/>
          <p:nvPr/>
        </p:nvSpPr>
        <p:spPr>
          <a:xfrm>
            <a:off x="6205320" y="2335320"/>
            <a:ext cx="2827440" cy="453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и скорости плане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в и их физические конс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8"/>
          <p:cNvSpPr/>
          <p:nvPr/>
        </p:nvSpPr>
        <p:spPr>
          <a:xfrm>
            <a:off x="6203520" y="3100320"/>
            <a:ext cx="2594160" cy="635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прибора относитель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формы, его синхронизац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9"/>
          <p:cNvSpPr/>
          <p:nvPr/>
        </p:nvSpPr>
        <p:spPr>
          <a:xfrm>
            <a:off x="6205680" y="3862440"/>
            <a:ext cx="2496600" cy="453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КА, платформы,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ой установлены приб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0"/>
          <p:cNvSpPr/>
          <p:nvPr/>
        </p:nvSpPr>
        <p:spPr>
          <a:xfrm>
            <a:off x="6187680" y="4516560"/>
            <a:ext cx="2513160" cy="10008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событ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й пл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ограмма полё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ES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и исследовател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1"/>
          <p:cNvSpPr/>
          <p:nvPr/>
        </p:nvSpPr>
        <p:spPr>
          <a:xfrm>
            <a:off x="6199920" y="5270400"/>
            <a:ext cx="1401120" cy="270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т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2"/>
          <p:cNvSpPr/>
          <p:nvPr/>
        </p:nvSpPr>
        <p:spPr>
          <a:xfrm>
            <a:off x="6203880" y="5506920"/>
            <a:ext cx="1966320" cy="270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секу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3"/>
          <p:cNvSpPr/>
          <p:nvPr/>
        </p:nvSpPr>
        <p:spPr>
          <a:xfrm>
            <a:off x="6221880" y="5796000"/>
            <a:ext cx="1271520" cy="2707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товые ча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4"/>
          <p:cNvSpPr/>
          <p:nvPr/>
        </p:nvSpPr>
        <p:spPr>
          <a:xfrm>
            <a:off x="6195960" y="6224760"/>
            <a:ext cx="2472840" cy="453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блиотеки, приложения и утилиты, документация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5"/>
          <p:cNvSpPr/>
          <p:nvPr/>
        </p:nvSpPr>
        <p:spPr>
          <a:xfrm>
            <a:off x="3627360" y="5380200"/>
            <a:ext cx="1388880" cy="615600"/>
          </a:xfrm>
          <a:custGeom>
            <a:avLst/>
            <a:gdLst>
              <a:gd name="textAreaLeft" fmla="*/ 0 w 1388880"/>
              <a:gd name="textAreaRight" fmla="*/ 1389240 w 138888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875" h="388">
                <a:moveTo>
                  <a:pt x="145" y="387"/>
                </a:moveTo>
                <a:lnTo>
                  <a:pt x="120" y="381"/>
                </a:lnTo>
                <a:lnTo>
                  <a:pt x="95" y="370"/>
                </a:lnTo>
                <a:lnTo>
                  <a:pt x="45" y="329"/>
                </a:lnTo>
                <a:lnTo>
                  <a:pt x="15" y="266"/>
                </a:lnTo>
                <a:lnTo>
                  <a:pt x="0" y="191"/>
                </a:lnTo>
                <a:lnTo>
                  <a:pt x="15" y="121"/>
                </a:lnTo>
                <a:lnTo>
                  <a:pt x="45" y="58"/>
                </a:lnTo>
                <a:lnTo>
                  <a:pt x="95" y="23"/>
                </a:lnTo>
                <a:lnTo>
                  <a:pt x="120" y="6"/>
                </a:lnTo>
                <a:lnTo>
                  <a:pt x="145" y="0"/>
                </a:lnTo>
                <a:lnTo>
                  <a:pt x="874" y="0"/>
                </a:lnTo>
                <a:lnTo>
                  <a:pt x="844" y="6"/>
                </a:lnTo>
                <a:lnTo>
                  <a:pt x="819" y="23"/>
                </a:lnTo>
                <a:lnTo>
                  <a:pt x="774" y="58"/>
                </a:lnTo>
                <a:lnTo>
                  <a:pt x="744" y="121"/>
                </a:lnTo>
                <a:lnTo>
                  <a:pt x="734" y="156"/>
                </a:lnTo>
                <a:lnTo>
                  <a:pt x="729" y="191"/>
                </a:lnTo>
                <a:lnTo>
                  <a:pt x="734" y="231"/>
                </a:lnTo>
                <a:lnTo>
                  <a:pt x="744" y="266"/>
                </a:lnTo>
                <a:lnTo>
                  <a:pt x="774" y="329"/>
                </a:lnTo>
                <a:lnTo>
                  <a:pt x="819" y="370"/>
                </a:lnTo>
                <a:lnTo>
                  <a:pt x="844" y="381"/>
                </a:lnTo>
                <a:lnTo>
                  <a:pt x="874" y="387"/>
                </a:lnTo>
                <a:lnTo>
                  <a:pt x="145" y="387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56"/>
          <p:cNvSpPr/>
          <p:nvPr/>
        </p:nvSpPr>
        <p:spPr>
          <a:xfrm>
            <a:off x="5041800" y="5227560"/>
            <a:ext cx="387000" cy="890280"/>
          </a:xfrm>
          <a:custGeom>
            <a:avLst/>
            <a:gdLst>
              <a:gd name="textAreaLeft" fmla="*/ 0 w 387000"/>
              <a:gd name="textAreaRight" fmla="*/ 387360 w 38700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244" h="561">
                <a:moveTo>
                  <a:pt x="243" y="0"/>
                </a:moveTo>
                <a:lnTo>
                  <a:pt x="200" y="6"/>
                </a:lnTo>
                <a:lnTo>
                  <a:pt x="162" y="12"/>
                </a:lnTo>
                <a:lnTo>
                  <a:pt x="135" y="29"/>
                </a:lnTo>
                <a:lnTo>
                  <a:pt x="124" y="47"/>
                </a:lnTo>
                <a:lnTo>
                  <a:pt x="124" y="230"/>
                </a:lnTo>
                <a:lnTo>
                  <a:pt x="113" y="248"/>
                </a:lnTo>
                <a:lnTo>
                  <a:pt x="86" y="265"/>
                </a:lnTo>
                <a:lnTo>
                  <a:pt x="48" y="271"/>
                </a:lnTo>
                <a:lnTo>
                  <a:pt x="0" y="277"/>
                </a:lnTo>
                <a:lnTo>
                  <a:pt x="48" y="283"/>
                </a:lnTo>
                <a:lnTo>
                  <a:pt x="86" y="295"/>
                </a:lnTo>
                <a:lnTo>
                  <a:pt x="113" y="306"/>
                </a:lnTo>
                <a:lnTo>
                  <a:pt x="124" y="324"/>
                </a:lnTo>
                <a:lnTo>
                  <a:pt x="124" y="513"/>
                </a:lnTo>
                <a:lnTo>
                  <a:pt x="135" y="531"/>
                </a:lnTo>
                <a:lnTo>
                  <a:pt x="162" y="548"/>
                </a:lnTo>
                <a:lnTo>
                  <a:pt x="200" y="554"/>
                </a:lnTo>
                <a:lnTo>
                  <a:pt x="243" y="560"/>
                </a:lnTo>
              </a:path>
            </a:pathLst>
          </a:custGeom>
          <a:noFill/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7"/>
          <p:cNvSpPr/>
          <p:nvPr/>
        </p:nvSpPr>
        <p:spPr>
          <a:xfrm>
            <a:off x="3727440" y="5514840"/>
            <a:ext cx="102852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8"/>
          <p:cNvSpPr/>
          <p:nvPr/>
        </p:nvSpPr>
        <p:spPr>
          <a:xfrm>
            <a:off x="6446160" y="1154160"/>
            <a:ext cx="1444680" cy="325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9"/>
          <p:cNvSpPr/>
          <p:nvPr/>
        </p:nvSpPr>
        <p:spPr>
          <a:xfrm rot="16200000">
            <a:off x="12600" y="3214800"/>
            <a:ext cx="759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ae00"/>
                </a:solidFill>
                <a:latin typeface="Arial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60"/>
          <p:cNvSpPr/>
          <p:nvPr/>
        </p:nvSpPr>
        <p:spPr>
          <a:xfrm rot="16200000">
            <a:off x="187200" y="6135120"/>
            <a:ext cx="4093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200" spc="-1" strike="noStrike">
                <a:solidFill>
                  <a:srgbClr val="00ae00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Connector 64"/>
          <p:cNvCxnSpPr/>
          <p:nvPr/>
        </p:nvCxnSpPr>
        <p:spPr>
          <a:xfrm>
            <a:off x="392040" y="1608120"/>
            <a:ext cx="6480" cy="1425600"/>
          </a:xfrm>
          <a:prstGeom prst="straightConnector1">
            <a:avLst/>
          </a:prstGeom>
          <a:ln w="9525">
            <a:solidFill>
              <a:srgbClr val="008000"/>
            </a:solidFill>
            <a:round/>
          </a:ln>
        </p:spPr>
      </p:cxnSp>
      <p:pic>
        <p:nvPicPr>
          <p:cNvPr id="317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sp>
        <p:nvSpPr>
          <p:cNvPr id="318" name="Title 1"/>
          <p:cNvSpPr/>
          <p:nvPr/>
        </p:nvSpPr>
        <p:spPr>
          <a:xfrm>
            <a:off x="2068920" y="27000"/>
            <a:ext cx="5455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Обзор данных </a:t>
            </a:r>
            <a:r>
              <a:rPr b="1" lang="en-US" sz="2400" spc="-1" strike="noStrike">
                <a:solidFill>
                  <a:schemeClr val="accent1"/>
                </a:solidFill>
                <a:latin typeface="Arial"/>
              </a:rPr>
              <a:t>SPICE</a:t>
            </a: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 и программного обеспечения (П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65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3763800" y="1753560"/>
            <a:ext cx="25200" cy="2282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1"/>
          <p:cNvSpPr/>
          <p:nvPr/>
        </p:nvSpPr>
        <p:spPr>
          <a:xfrm>
            <a:off x="3613680" y="4797000"/>
            <a:ext cx="1388880" cy="615600"/>
          </a:xfrm>
          <a:custGeom>
            <a:avLst/>
            <a:gdLst>
              <a:gd name="textAreaLeft" fmla="*/ 0 w 1388880"/>
              <a:gd name="textAreaRight" fmla="*/ 1389240 w 138888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875" h="388">
                <a:moveTo>
                  <a:pt x="149" y="387"/>
                </a:moveTo>
                <a:lnTo>
                  <a:pt x="119" y="379"/>
                </a:lnTo>
                <a:lnTo>
                  <a:pt x="94" y="366"/>
                </a:lnTo>
                <a:lnTo>
                  <a:pt x="45" y="328"/>
                </a:lnTo>
                <a:lnTo>
                  <a:pt x="15" y="265"/>
                </a:lnTo>
                <a:lnTo>
                  <a:pt x="0" y="194"/>
                </a:lnTo>
                <a:lnTo>
                  <a:pt x="15" y="122"/>
                </a:lnTo>
                <a:lnTo>
                  <a:pt x="45" y="55"/>
                </a:lnTo>
                <a:lnTo>
                  <a:pt x="94" y="21"/>
                </a:lnTo>
                <a:lnTo>
                  <a:pt x="119" y="9"/>
                </a:lnTo>
                <a:lnTo>
                  <a:pt x="149" y="0"/>
                </a:lnTo>
                <a:lnTo>
                  <a:pt x="874" y="0"/>
                </a:lnTo>
                <a:lnTo>
                  <a:pt x="844" y="9"/>
                </a:lnTo>
                <a:lnTo>
                  <a:pt x="819" y="21"/>
                </a:lnTo>
                <a:lnTo>
                  <a:pt x="770" y="55"/>
                </a:lnTo>
                <a:lnTo>
                  <a:pt x="740" y="122"/>
                </a:lnTo>
                <a:lnTo>
                  <a:pt x="735" y="156"/>
                </a:lnTo>
                <a:lnTo>
                  <a:pt x="730" y="194"/>
                </a:lnTo>
                <a:lnTo>
                  <a:pt x="735" y="231"/>
                </a:lnTo>
                <a:lnTo>
                  <a:pt x="740" y="265"/>
                </a:lnTo>
                <a:lnTo>
                  <a:pt x="770" y="328"/>
                </a:lnTo>
                <a:lnTo>
                  <a:pt x="819" y="366"/>
                </a:lnTo>
                <a:lnTo>
                  <a:pt x="844" y="379"/>
                </a:lnTo>
                <a:lnTo>
                  <a:pt x="874" y="387"/>
                </a:lnTo>
                <a:lnTo>
                  <a:pt x="149" y="387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3604320" y="3933000"/>
            <a:ext cx="1385640" cy="61092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873" h="385">
                <a:moveTo>
                  <a:pt x="144" y="384"/>
                </a:moveTo>
                <a:lnTo>
                  <a:pt x="119" y="377"/>
                </a:lnTo>
                <a:lnTo>
                  <a:pt x="94" y="364"/>
                </a:lnTo>
                <a:lnTo>
                  <a:pt x="70" y="347"/>
                </a:lnTo>
                <a:lnTo>
                  <a:pt x="45" y="326"/>
                </a:lnTo>
                <a:lnTo>
                  <a:pt x="30" y="296"/>
                </a:lnTo>
                <a:lnTo>
                  <a:pt x="15" y="265"/>
                </a:lnTo>
                <a:lnTo>
                  <a:pt x="0" y="190"/>
                </a:lnTo>
                <a:lnTo>
                  <a:pt x="15" y="119"/>
                </a:lnTo>
                <a:lnTo>
                  <a:pt x="45" y="55"/>
                </a:lnTo>
                <a:lnTo>
                  <a:pt x="70" y="34"/>
                </a:lnTo>
                <a:lnTo>
                  <a:pt x="94" y="17"/>
                </a:lnTo>
                <a:lnTo>
                  <a:pt x="119" y="7"/>
                </a:lnTo>
                <a:lnTo>
                  <a:pt x="144" y="0"/>
                </a:lnTo>
                <a:lnTo>
                  <a:pt x="872" y="0"/>
                </a:lnTo>
                <a:lnTo>
                  <a:pt x="842" y="7"/>
                </a:lnTo>
                <a:lnTo>
                  <a:pt x="818" y="17"/>
                </a:lnTo>
                <a:lnTo>
                  <a:pt x="793" y="34"/>
                </a:lnTo>
                <a:lnTo>
                  <a:pt x="768" y="55"/>
                </a:lnTo>
                <a:lnTo>
                  <a:pt x="738" y="119"/>
                </a:lnTo>
                <a:lnTo>
                  <a:pt x="733" y="153"/>
                </a:lnTo>
                <a:lnTo>
                  <a:pt x="728" y="190"/>
                </a:lnTo>
                <a:lnTo>
                  <a:pt x="733" y="228"/>
                </a:lnTo>
                <a:lnTo>
                  <a:pt x="738" y="265"/>
                </a:lnTo>
                <a:lnTo>
                  <a:pt x="753" y="296"/>
                </a:lnTo>
                <a:lnTo>
                  <a:pt x="768" y="326"/>
                </a:lnTo>
                <a:lnTo>
                  <a:pt x="793" y="347"/>
                </a:lnTo>
                <a:lnTo>
                  <a:pt x="818" y="364"/>
                </a:lnTo>
                <a:lnTo>
                  <a:pt x="842" y="377"/>
                </a:lnTo>
                <a:lnTo>
                  <a:pt x="872" y="384"/>
                </a:lnTo>
                <a:lnTo>
                  <a:pt x="144" y="384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6"/>
          <p:cNvSpPr/>
          <p:nvPr/>
        </p:nvSpPr>
        <p:spPr>
          <a:xfrm>
            <a:off x="3594600" y="3101040"/>
            <a:ext cx="1382400" cy="615600"/>
          </a:xfrm>
          <a:custGeom>
            <a:avLst/>
            <a:gdLst>
              <a:gd name="textAreaLeft" fmla="*/ 0 w 1382400"/>
              <a:gd name="textAreaRight" fmla="*/ 1382760 w 13824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871" h="387">
                <a:moveTo>
                  <a:pt x="144" y="386"/>
                </a:moveTo>
                <a:lnTo>
                  <a:pt x="114" y="378"/>
                </a:lnTo>
                <a:lnTo>
                  <a:pt x="89" y="365"/>
                </a:lnTo>
                <a:lnTo>
                  <a:pt x="65" y="350"/>
                </a:lnTo>
                <a:lnTo>
                  <a:pt x="40" y="329"/>
                </a:lnTo>
                <a:lnTo>
                  <a:pt x="25" y="298"/>
                </a:lnTo>
                <a:lnTo>
                  <a:pt x="15" y="264"/>
                </a:lnTo>
                <a:lnTo>
                  <a:pt x="5" y="231"/>
                </a:lnTo>
                <a:lnTo>
                  <a:pt x="0" y="192"/>
                </a:lnTo>
                <a:lnTo>
                  <a:pt x="5" y="156"/>
                </a:lnTo>
                <a:lnTo>
                  <a:pt x="15" y="119"/>
                </a:lnTo>
                <a:lnTo>
                  <a:pt x="40" y="55"/>
                </a:lnTo>
                <a:lnTo>
                  <a:pt x="65" y="37"/>
                </a:lnTo>
                <a:lnTo>
                  <a:pt x="89" y="21"/>
                </a:lnTo>
                <a:lnTo>
                  <a:pt x="114" y="8"/>
                </a:lnTo>
                <a:lnTo>
                  <a:pt x="144" y="0"/>
                </a:lnTo>
                <a:lnTo>
                  <a:pt x="870" y="0"/>
                </a:lnTo>
                <a:lnTo>
                  <a:pt x="840" y="8"/>
                </a:lnTo>
                <a:lnTo>
                  <a:pt x="816" y="21"/>
                </a:lnTo>
                <a:lnTo>
                  <a:pt x="791" y="37"/>
                </a:lnTo>
                <a:lnTo>
                  <a:pt x="766" y="55"/>
                </a:lnTo>
                <a:lnTo>
                  <a:pt x="737" y="119"/>
                </a:lnTo>
                <a:lnTo>
                  <a:pt x="722" y="192"/>
                </a:lnTo>
                <a:lnTo>
                  <a:pt x="737" y="264"/>
                </a:lnTo>
                <a:lnTo>
                  <a:pt x="751" y="298"/>
                </a:lnTo>
                <a:lnTo>
                  <a:pt x="766" y="329"/>
                </a:lnTo>
                <a:lnTo>
                  <a:pt x="791" y="350"/>
                </a:lnTo>
                <a:lnTo>
                  <a:pt x="816" y="365"/>
                </a:lnTo>
                <a:lnTo>
                  <a:pt x="840" y="378"/>
                </a:lnTo>
                <a:lnTo>
                  <a:pt x="870" y="386"/>
                </a:lnTo>
                <a:lnTo>
                  <a:pt x="144" y="386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3580560" y="2349000"/>
            <a:ext cx="1385640" cy="61092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873" h="385">
                <a:moveTo>
                  <a:pt x="143" y="384"/>
                </a:moveTo>
                <a:lnTo>
                  <a:pt x="118" y="377"/>
                </a:lnTo>
                <a:lnTo>
                  <a:pt x="93" y="366"/>
                </a:lnTo>
                <a:lnTo>
                  <a:pt x="69" y="350"/>
                </a:lnTo>
                <a:lnTo>
                  <a:pt x="44" y="330"/>
                </a:lnTo>
                <a:lnTo>
                  <a:pt x="29" y="299"/>
                </a:lnTo>
                <a:lnTo>
                  <a:pt x="15" y="264"/>
                </a:lnTo>
                <a:lnTo>
                  <a:pt x="5" y="230"/>
                </a:lnTo>
                <a:lnTo>
                  <a:pt x="0" y="191"/>
                </a:lnTo>
                <a:lnTo>
                  <a:pt x="15" y="120"/>
                </a:lnTo>
                <a:lnTo>
                  <a:pt x="44" y="55"/>
                </a:lnTo>
                <a:lnTo>
                  <a:pt x="69" y="37"/>
                </a:lnTo>
                <a:lnTo>
                  <a:pt x="93" y="20"/>
                </a:lnTo>
                <a:lnTo>
                  <a:pt x="118" y="8"/>
                </a:lnTo>
                <a:lnTo>
                  <a:pt x="143" y="0"/>
                </a:lnTo>
                <a:lnTo>
                  <a:pt x="872" y="0"/>
                </a:lnTo>
                <a:lnTo>
                  <a:pt x="842" y="8"/>
                </a:lnTo>
                <a:lnTo>
                  <a:pt x="818" y="20"/>
                </a:lnTo>
                <a:lnTo>
                  <a:pt x="793" y="37"/>
                </a:lnTo>
                <a:lnTo>
                  <a:pt x="769" y="55"/>
                </a:lnTo>
                <a:lnTo>
                  <a:pt x="739" y="120"/>
                </a:lnTo>
                <a:lnTo>
                  <a:pt x="724" y="191"/>
                </a:lnTo>
                <a:lnTo>
                  <a:pt x="729" y="230"/>
                </a:lnTo>
                <a:lnTo>
                  <a:pt x="739" y="264"/>
                </a:lnTo>
                <a:lnTo>
                  <a:pt x="754" y="299"/>
                </a:lnTo>
                <a:lnTo>
                  <a:pt x="769" y="330"/>
                </a:lnTo>
                <a:lnTo>
                  <a:pt x="793" y="350"/>
                </a:lnTo>
                <a:lnTo>
                  <a:pt x="818" y="366"/>
                </a:lnTo>
                <a:lnTo>
                  <a:pt x="842" y="377"/>
                </a:lnTo>
                <a:lnTo>
                  <a:pt x="872" y="384"/>
                </a:lnTo>
                <a:lnTo>
                  <a:pt x="143" y="384"/>
                </a:lnTo>
              </a:path>
            </a:pathLst>
          </a:custGeom>
          <a:solidFill>
            <a:srgbClr val="e6d684"/>
          </a:solidFill>
          <a:ln cap="rnd"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215160" y="1412640"/>
            <a:ext cx="2101680" cy="294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фай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9"/>
          <p:cNvSpPr/>
          <p:nvPr/>
        </p:nvSpPr>
        <p:spPr>
          <a:xfrm>
            <a:off x="3909600" y="2447640"/>
            <a:ext cx="57924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P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3631320" y="3213000"/>
            <a:ext cx="112176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PcK, LS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1"/>
          <p:cNvSpPr/>
          <p:nvPr/>
        </p:nvSpPr>
        <p:spPr>
          <a:xfrm>
            <a:off x="3845880" y="4032000"/>
            <a:ext cx="79848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K, F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2"/>
          <p:cNvSpPr/>
          <p:nvPr/>
        </p:nvSpPr>
        <p:spPr>
          <a:xfrm>
            <a:off x="3630600" y="4896000"/>
            <a:ext cx="1159560" cy="4010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K, SC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0640" y="3141000"/>
            <a:ext cx="2304000" cy="565920"/>
          </a:xfrm>
          <a:prstGeom prst="rect">
            <a:avLst/>
          </a:prstGeom>
          <a:solidFill>
            <a:schemeClr val="accent1">
              <a:alpha val="5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JPL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14"/>
          <p:cNvSpPr/>
          <p:nvPr/>
        </p:nvSpPr>
        <p:spPr>
          <a:xfrm>
            <a:off x="170640" y="4797000"/>
            <a:ext cx="2304000" cy="719640"/>
          </a:xfrm>
          <a:prstGeom prst="rect">
            <a:avLst/>
          </a:prstGeom>
          <a:solidFill>
            <a:schemeClr val="accent1">
              <a:alpha val="5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Calibri"/>
              </a:rPr>
              <a:t>НПО им. Лавочкина</a:t>
            </a:r>
            <a:r>
              <a:rPr b="1" lang="en-US" sz="18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2618640" y="270864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31"/>
          <p:cNvSpPr/>
          <p:nvPr/>
        </p:nvSpPr>
        <p:spPr>
          <a:xfrm>
            <a:off x="2690640" y="429300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31"/>
          <p:cNvSpPr/>
          <p:nvPr/>
        </p:nvSpPr>
        <p:spPr>
          <a:xfrm>
            <a:off x="2690640" y="515700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19"/>
          <p:cNvSpPr/>
          <p:nvPr/>
        </p:nvSpPr>
        <p:spPr>
          <a:xfrm>
            <a:off x="170640" y="4005000"/>
            <a:ext cx="2304000" cy="565920"/>
          </a:xfrm>
          <a:prstGeom prst="rect">
            <a:avLst/>
          </a:prstGeom>
          <a:solidFill>
            <a:schemeClr val="accent1">
              <a:alpha val="5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ИКИ</a:t>
            </a:r>
            <a:r>
              <a:rPr b="1" lang="en-US" sz="28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>
            <a:off x="170640" y="2358720"/>
            <a:ext cx="2304000" cy="637920"/>
          </a:xfrm>
          <a:prstGeom prst="rect">
            <a:avLst/>
          </a:prstGeom>
          <a:solidFill>
            <a:schemeClr val="accent1">
              <a:alpha val="52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ИПМ им. Келд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C:\Users\IKI\Desktop\ыукмук.jpg"/>
          <p:cNvPicPr/>
          <p:nvPr/>
        </p:nvPicPr>
        <p:blipFill>
          <a:blip r:embed="rId1"/>
          <a:stretch/>
        </p:blipFill>
        <p:spPr>
          <a:xfrm>
            <a:off x="6435360" y="2284200"/>
            <a:ext cx="2312640" cy="31608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2"/>
          <p:cNvSpPr/>
          <p:nvPr/>
        </p:nvSpPr>
        <p:spPr>
          <a:xfrm>
            <a:off x="6602040" y="1411920"/>
            <a:ext cx="2136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SPICE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ер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5333040" y="263664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31"/>
          <p:cNvSpPr/>
          <p:nvPr/>
        </p:nvSpPr>
        <p:spPr>
          <a:xfrm>
            <a:off x="5261040" y="342900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31"/>
          <p:cNvSpPr/>
          <p:nvPr/>
        </p:nvSpPr>
        <p:spPr>
          <a:xfrm>
            <a:off x="5261040" y="422100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5333040" y="5013000"/>
            <a:ext cx="57636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608400" y="1411920"/>
            <a:ext cx="1433880" cy="29412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chemeClr val="accent1"/>
                </a:solidFill>
                <a:latin typeface="Arial"/>
              </a:rPr>
              <a:t>Данные </a:t>
            </a:r>
            <a:r>
              <a:rPr b="1" lang="en-US" sz="2000" spc="-1" strike="noStrike">
                <a:solidFill>
                  <a:schemeClr val="accent1"/>
                </a:solidFill>
                <a:latin typeface="Arial"/>
              </a:rPr>
              <a:t>SPICE</a:t>
            </a:r>
            <a:r>
              <a:rPr b="1" lang="ru-RU" sz="2000" spc="-1" strike="noStrike">
                <a:solidFill>
                  <a:schemeClr val="accent1"/>
                </a:solidFill>
                <a:latin typeface="Arial"/>
              </a:rPr>
              <a:t> в проекте «Фобос - Гру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0"/>
          <p:cNvSpPr/>
          <p:nvPr/>
        </p:nvSpPr>
        <p:spPr>
          <a:xfrm>
            <a:off x="5461560" y="5661360"/>
            <a:ext cx="341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spice.ikiweb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1"/>
          <p:cNvSpPr/>
          <p:nvPr/>
        </p:nvSpPr>
        <p:spPr>
          <a:xfrm>
            <a:off x="2627640" y="3429000"/>
            <a:ext cx="57600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8920" rIns="88920" tIns="0" bIns="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5" descr="C:\Users\IKI\Desktop\ики.jpg"/>
          <p:cNvPicPr/>
          <p:nvPr/>
        </p:nvPicPr>
        <p:blipFill>
          <a:blip r:embed="rId2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48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349" name="Прямоугольник 35"/>
          <p:cNvSpPr/>
          <p:nvPr/>
        </p:nvSpPr>
        <p:spPr>
          <a:xfrm>
            <a:off x="142920" y="65613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Структура клиент-серверного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sp>
        <p:nvSpPr>
          <p:cNvPr id="353" name="TextBox 7"/>
          <p:cNvSpPr/>
          <p:nvPr/>
        </p:nvSpPr>
        <p:spPr>
          <a:xfrm>
            <a:off x="6703920" y="1268640"/>
            <a:ext cx="1584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ICE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148680" y="3609000"/>
            <a:ext cx="1301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Клиент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при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C:\Users\Admin\Desktop\ИкИ\Конференция\ИКИ 14.04.2011\Database.png"/>
          <p:cNvPicPr/>
          <p:nvPr/>
        </p:nvPicPr>
        <p:blipFill>
          <a:blip r:embed="rId2"/>
          <a:stretch/>
        </p:blipFill>
        <p:spPr>
          <a:xfrm>
            <a:off x="3276000" y="519336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56" name="TextBox 10"/>
          <p:cNvSpPr/>
          <p:nvPr/>
        </p:nvSpPr>
        <p:spPr>
          <a:xfrm>
            <a:off x="4575240" y="5661360"/>
            <a:ext cx="493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Круговая стрелка 13"/>
          <p:cNvSpPr/>
          <p:nvPr/>
        </p:nvSpPr>
        <p:spPr>
          <a:xfrm rot="20956200">
            <a:off x="1626840" y="1863360"/>
            <a:ext cx="4717080" cy="2844000"/>
          </a:xfrm>
          <a:prstGeom prst="circularArrow">
            <a:avLst>
              <a:gd name="adj1" fmla="val 3519"/>
              <a:gd name="adj2" fmla="val 674001"/>
              <a:gd name="adj3" fmla="val 20386809"/>
              <a:gd name="adj4" fmla="val 12515192"/>
              <a:gd name="adj5" fmla="val 10952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Круговая стрелка 14"/>
          <p:cNvSpPr/>
          <p:nvPr/>
        </p:nvSpPr>
        <p:spPr>
          <a:xfrm rot="10800000">
            <a:off x="1944000" y="1916640"/>
            <a:ext cx="4717080" cy="2844000"/>
          </a:xfrm>
          <a:prstGeom prst="circularArrow">
            <a:avLst>
              <a:gd name="adj1" fmla="val 3519"/>
              <a:gd name="adj2" fmla="val 674001"/>
              <a:gd name="adj3" fmla="val 20386809"/>
              <a:gd name="adj4" fmla="val 12515192"/>
              <a:gd name="adj5" fmla="val 10952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Круговая стрелка 15"/>
          <p:cNvSpPr/>
          <p:nvPr/>
        </p:nvSpPr>
        <p:spPr>
          <a:xfrm rot="13177200">
            <a:off x="1276920" y="3485880"/>
            <a:ext cx="3278160" cy="2023920"/>
          </a:xfrm>
          <a:prstGeom prst="circularArrow">
            <a:avLst>
              <a:gd name="adj1" fmla="val 3519"/>
              <a:gd name="adj2" fmla="val 674001"/>
              <a:gd name="adj3" fmla="val 20386809"/>
              <a:gd name="adj4" fmla="val 12515192"/>
              <a:gd name="adj5" fmla="val 10952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6"/>
          <p:cNvSpPr/>
          <p:nvPr/>
        </p:nvSpPr>
        <p:spPr>
          <a:xfrm>
            <a:off x="1103760" y="5229360"/>
            <a:ext cx="1153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о про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7"/>
          <p:cNvSpPr/>
          <p:nvPr/>
        </p:nvSpPr>
        <p:spPr>
          <a:xfrm>
            <a:off x="3874320" y="1556640"/>
            <a:ext cx="147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запрос на сер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8"/>
          <p:cNvSpPr/>
          <p:nvPr/>
        </p:nvSpPr>
        <p:spPr>
          <a:xfrm>
            <a:off x="3211200" y="3825000"/>
            <a:ext cx="2404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баллистические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3"/>
          <a:stretch/>
        </p:blipFill>
        <p:spPr>
          <a:xfrm>
            <a:off x="935640" y="1664640"/>
            <a:ext cx="571320" cy="752040"/>
          </a:xfrm>
          <a:prstGeom prst="rect">
            <a:avLst/>
          </a:prstGeom>
          <a:ln w="9525">
            <a:noFill/>
          </a:ln>
        </p:spPr>
      </p:pic>
      <p:sp>
        <p:nvSpPr>
          <p:cNvPr id="364" name="TextBox 19"/>
          <p:cNvSpPr/>
          <p:nvPr/>
        </p:nvSpPr>
        <p:spPr>
          <a:xfrm>
            <a:off x="215640" y="1196640"/>
            <a:ext cx="198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ьз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4"/>
          <a:stretch/>
        </p:blipFill>
        <p:spPr>
          <a:xfrm>
            <a:off x="7488360" y="1917000"/>
            <a:ext cx="1082880" cy="1485000"/>
          </a:xfrm>
          <a:prstGeom prst="rect">
            <a:avLst/>
          </a:prstGeom>
          <a:ln w="9525">
            <a:noFill/>
          </a:ln>
        </p:spPr>
      </p:pic>
      <p:pic>
        <p:nvPicPr>
          <p:cNvPr id="366" name="Object 5" descr=""/>
          <p:cNvPicPr/>
          <p:nvPr/>
        </p:nvPicPr>
        <p:blipFill>
          <a:blip r:embed="rId5"/>
          <a:stretch/>
        </p:blipFill>
        <p:spPr>
          <a:xfrm>
            <a:off x="5796000" y="2817000"/>
            <a:ext cx="1403640" cy="9604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2"/>
          <p:cNvSpPr/>
          <p:nvPr/>
        </p:nvSpPr>
        <p:spPr>
          <a:xfrm>
            <a:off x="6621480" y="3933000"/>
            <a:ext cx="1316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70c0"/>
                </a:solidFill>
                <a:latin typeface="Calibri"/>
              </a:rPr>
              <a:t>Web - </a:t>
            </a: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серв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Object 6" descr=""/>
          <p:cNvPicPr/>
          <p:nvPr/>
        </p:nvPicPr>
        <p:blipFill>
          <a:blip r:embed="rId6"/>
          <a:stretch/>
        </p:blipFill>
        <p:spPr>
          <a:xfrm>
            <a:off x="647640" y="2601000"/>
            <a:ext cx="1315080" cy="90108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0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1907640" y="27000"/>
            <a:ext cx="63910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/>
                </a:solidFill>
                <a:latin typeface="Arial"/>
              </a:rPr>
              <a:t>Информация о прое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C:\Users\IKI\Desktop\ики.jpg"/>
          <p:cNvPicPr/>
          <p:nvPr/>
        </p:nvPicPr>
        <p:blipFill>
          <a:blip r:embed="rId1"/>
          <a:stretch/>
        </p:blipFill>
        <p:spPr>
          <a:xfrm>
            <a:off x="286920" y="191520"/>
            <a:ext cx="1332360" cy="788760"/>
          </a:xfrm>
          <a:prstGeom prst="rect">
            <a:avLst/>
          </a:prstGeom>
          <a:ln w="0">
            <a:noFill/>
          </a:ln>
        </p:spPr>
      </p:pic>
      <p:cxnSp>
        <p:nvCxnSpPr>
          <p:cNvPr id="372" name="Прямая соединительная линия 33"/>
          <p:cNvCxnSpPr/>
          <p:nvPr/>
        </p:nvCxnSpPr>
        <p:spPr>
          <a:xfrm>
            <a:off x="1619640" y="836640"/>
            <a:ext cx="705708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</a:ln>
        </p:spPr>
      </p:cxn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49689289"/>
              </p:ext>
            </p:extLst>
          </p:nvPr>
        </p:nvGraphicFramePr>
        <p:xfrm>
          <a:off x="431640" y="1196640"/>
          <a:ext cx="8244720" cy="5488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73" name="Прямоугольник 5"/>
          <p:cNvSpPr/>
          <p:nvPr/>
        </p:nvSpPr>
        <p:spPr>
          <a:xfrm>
            <a:off x="142920" y="6572160"/>
            <a:ext cx="6214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70c0"/>
                </a:solidFill>
                <a:latin typeface="Calibri"/>
              </a:rPr>
              <a:t>Наземные средства. Проблемы и перспекти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  <Words>524</Words>
  <Paragraphs>17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08:49:19Z</dcterms:created>
  <dc:creator>asus</dc:creator>
  <dc:description/>
  <dc:language>en-US</dc:language>
  <cp:lastModifiedBy>asus</cp:lastModifiedBy>
  <dcterms:modified xsi:type="dcterms:W3CDTF">2011-07-07T05:42:30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