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70281E-03A6-49CD-9D54-CB18220BC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23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ru-RU" sz="12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3B9-1DA7-4F55-B360-0B66210F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6F9-A949-43C6-AD1E-EA43DF6D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3C9-3419-4B6D-956A-A73A1C05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105-5A15-4572-9175-6ACC075D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3926-7FC1-4F1E-BF91-A757DF64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3306-2671-4E48-895A-529AC2B3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1F89-1019-47C0-9CC7-091EF317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4BC1-75D9-4223-B407-7336100D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8FDE-6EB4-4EB6-BBB7-1E914377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90F-4D1F-401D-8E89-2D3CFDC6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5E87-34FB-4805-8909-14607651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6AD-06FA-4CCA-8493-085D7C1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2EC1-C5F7-4780-95DF-FDC4AA5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A294-F0FF-469A-AC5B-406778D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BACF-FD2F-486F-8231-F2013CB1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84F6-381C-4AC5-B6AB-71C8B954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E76F-B64A-44CA-8972-F74C0FD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0F8-1377-4F47-AD0F-87C71CF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D9B-2A70-4A12-A8D5-426526C5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A9C-ADFE-45E3-93DF-EA0A1034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0BD-E85C-4105-A67E-4D7B7D93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AB4-5D91-4FF5-B373-3E363EB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68F-89DD-4C16-9984-2D782821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1F9-C800-4FED-992F-FC525C9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6D1B60-C6C8-42D5-BFD1-F64E0F9F93A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7AA199-81D5-4C4D-A05C-1D302D586D8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040" cy="25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b8b8b"/>
                </a:solidFill>
                <a:latin typeface="Calibri"/>
              </a:rPr>
              <a:t>О.Батанов</a:t>
            </a:r>
            <a:r>
              <a:rPr b="0" lang="ru-RU" sz="2400" spc="-1" strike="noStrike" baseline="30000">
                <a:solidFill>
                  <a:srgbClr val="8b8b8b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8b8b8b"/>
                </a:solidFill>
                <a:latin typeface="Calibri"/>
              </a:rPr>
              <a:t>, О.Басаргина</a:t>
            </a:r>
            <a:r>
              <a:rPr b="0" lang="ru-RU" sz="2400" spc="-1" strike="noStrike" baseline="30000">
                <a:solidFill>
                  <a:srgbClr val="8b8b8b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baseline="30000">
                <a:solidFill>
                  <a:srgbClr val="8b8b8b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8b8b8b"/>
                </a:solidFill>
                <a:latin typeface="Calibri"/>
              </a:rPr>
              <a:t> Институт космических исследований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baseline="30000">
                <a:solidFill>
                  <a:srgbClr val="8b8b8b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8b8b8b"/>
                </a:solidFill>
                <a:latin typeface="Calibri"/>
              </a:rPr>
              <a:t> НПО им.С.А.Лавоч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10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115640" y="3357000"/>
            <a:ext cx="1414800" cy="64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6872040" y="3069000"/>
            <a:ext cx="939960" cy="9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ыт эксплуат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 ННК Фобос-Грун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681480" indent="-262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8680" indent="-209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УП НПО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8680" indent="-209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8680" indent="-209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Х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8680" indent="-209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РЭ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8680" indent="-209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П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681480" indent="-262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ло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048680" indent="-209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сурийск (по резервному каналу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cow Solar System Symposiu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монстрация испытаний манипулято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4640" indent="-314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ключение к циркуляру НПО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9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G:\DSC00452.jpg"/>
          <p:cNvPicPr/>
          <p:nvPr/>
        </p:nvPicPr>
        <p:blipFill>
          <a:blip r:embed="rId1"/>
          <a:stretch/>
        </p:blipFill>
        <p:spPr>
          <a:xfrm>
            <a:off x="3192120" y="318600"/>
            <a:ext cx="5579280" cy="41832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 sx="101000" sy="101000">
              <a:schemeClr val="bg1">
                <a:lumMod val="65000"/>
                <a:alpha val="77000"/>
              </a:schemeClr>
            </a:outerShdw>
          </a:effectLst>
        </p:spPr>
      </p:pic>
      <p:pic>
        <p:nvPicPr>
          <p:cNvPr id="150" name="Picture 3" descr="G:\DSC00472.jpg"/>
          <p:cNvPicPr/>
          <p:nvPr/>
        </p:nvPicPr>
        <p:blipFill>
          <a:blip r:embed="rId2"/>
          <a:stretch/>
        </p:blipFill>
        <p:spPr>
          <a:xfrm>
            <a:off x="395640" y="2694960"/>
            <a:ext cx="4818960" cy="36140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 sx="101000" sy="101000">
              <a:srgbClr val="000000">
                <a:alpha val="40000"/>
              </a:srgbClr>
            </a:outerShdw>
          </a:effectLst>
        </p:spPr>
      </p:pic>
      <p:sp>
        <p:nvSpPr>
          <p:cNvPr id="151" name="PlaceHolder 1"/>
          <p:cNvSpPr>
            <a:spLocks noGrp="1"/>
          </p:cNvSpPr>
          <p:nvPr>
            <p:ph type="ftr" idx="20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590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дрение системы голосовой и видеосвяз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8760" indent="-229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эффекта присутствия собеседников в одной комнат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8760" indent="-229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мен графическими материалами (таблицы, графики, прочий иллюстративный материал), открывает большие возможности для взаимодействия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8760" indent="-229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многоточечных конференций, объединяющих несколько организаций-участников, разнесённых географически на значительные расстояни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8760" indent="-229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заимодействии ИКИ и НПОЛ с успехом используется интегрированное решение, основой для которого является оборудование различных производителей. Открытость стандартов обеспечивает видеосвязь и обмен информацией высокого уровня качеств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21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2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 связи нет управления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 управления нет побед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ontent Placeholder 2"/>
          <p:cNvSpPr/>
          <p:nvPr/>
        </p:nvSpPr>
        <p:spPr>
          <a:xfrm>
            <a:off x="3348000" y="2781000"/>
            <a:ext cx="2664000" cy="17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22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осыл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жество участвующих организац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ическая удалённость пунктов приёма и обработки информ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сть в оперативной связ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эффекта присутств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ативный обмен табличной и графической информаци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11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положение НИП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"/>
          <p:cNvPicPr/>
          <p:nvPr/>
        </p:nvPicPr>
        <p:blipFill>
          <a:blip r:embed="rId1"/>
          <a:stretch/>
        </p:blipFill>
        <p:spPr>
          <a:xfrm>
            <a:off x="395640" y="867600"/>
            <a:ext cx="8286120" cy="5384520"/>
          </a:xfrm>
          <a:prstGeom prst="rect">
            <a:avLst/>
          </a:prstGeom>
          <a:ln w="0">
            <a:noFill/>
          </a:ln>
        </p:spPr>
      </p:pic>
      <p:sp>
        <p:nvSpPr>
          <p:cNvPr id="100" name="Curved Down Arrow 9"/>
          <p:cNvSpPr/>
          <p:nvPr/>
        </p:nvSpPr>
        <p:spPr>
          <a:xfrm rot="1275600">
            <a:off x="1798200" y="2823840"/>
            <a:ext cx="6382440" cy="989640"/>
          </a:xfrm>
          <a:prstGeom prst="curvedDownArrow">
            <a:avLst>
              <a:gd name="adj1" fmla="val 25000"/>
              <a:gd name="adj2" fmla="val 50000"/>
              <a:gd name="adj3" fmla="val 26952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236200" y="2061000"/>
            <a:ext cx="2782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Расстояние : 65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Время полёта : 9 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Разница во времени : +7 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387120" y="6232320"/>
            <a:ext cx="228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исунок с сайта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kik-sssr.naro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2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ктр-Р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22520" indent="-277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и управление: Уссурийск П-2500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22520" indent="-277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УП : НПО им.С.А.Лавочки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22520" indent="-277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НК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1680" indent="-2221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ОНИ Плазма-Ф: ИКИ РАН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1680" indent="-2221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Ц ФИАН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569160" y="3285000"/>
            <a:ext cx="82292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бос-Гру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8440" indent="-25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и управление: Уссурийск П-2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440" indent="-25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УП: НПО им.С.А.Лавоч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440" indent="-25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Н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3040" indent="-202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И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3040" indent="-202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иональные уз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8400" indent="-202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ОХИ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8400" indent="-202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РЭ 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58720" y="188640"/>
            <a:ext cx="813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частники оперативных коммуник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13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коммуникаций Фобос-Грунт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475640" y="1098720"/>
            <a:ext cx="6264360" cy="5138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ftr" idx="14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голосовой связ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P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тый стандар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ая простота настрой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сть, нетребовательность к полосе Работает даже 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PR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бкая настройка правил набо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перекрестных вызовов между система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15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хема соединени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23640" y="1386720"/>
            <a:ext cx="8244000" cy="5028120"/>
          </a:xfrm>
          <a:prstGeom prst="rect">
            <a:avLst/>
          </a:prstGeom>
          <a:ln w="0">
            <a:noFill/>
          </a:ln>
        </p:spPr>
      </p:pic>
      <p:sp>
        <p:nvSpPr>
          <p:cNvPr id="120" name="Left-Right Arrow 2"/>
          <p:cNvSpPr/>
          <p:nvPr/>
        </p:nvSpPr>
        <p:spPr>
          <a:xfrm>
            <a:off x="3780000" y="3357000"/>
            <a:ext cx="1151640" cy="57564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697400" y="2349000"/>
            <a:ext cx="10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КИ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376960" y="2349000"/>
            <a:ext cx="242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ПО им.С.А.Лавоч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16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310320" y="692640"/>
            <a:ext cx="7139160" cy="5740560"/>
          </a:xfrm>
          <a:prstGeom prst="rect">
            <a:avLst/>
          </a:prstGeom>
          <a:ln w="0">
            <a:noFill/>
          </a:ln>
        </p:spPr>
      </p:pic>
      <p:sp>
        <p:nvSpPr>
          <p:cNvPr id="126" name="Circular Arrow 7"/>
          <p:cNvSpPr/>
          <p:nvPr/>
        </p:nvSpPr>
        <p:spPr>
          <a:xfrm rot="12606000">
            <a:off x="1601280" y="4344480"/>
            <a:ext cx="5378760" cy="674640"/>
          </a:xfrm>
          <a:custGeom>
            <a:avLst/>
            <a:gdLst>
              <a:gd name="textAreaLeft" fmla="*/ 0 w 5378760"/>
              <a:gd name="textAreaRight" fmla="*/ 5379120 w 53787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5379173" h="674835">
                <a:moveTo>
                  <a:pt x="0" y="606748"/>
                </a:moveTo>
                <a:cubicBezTo>
                  <a:pt x="534280" y="255399"/>
                  <a:pt x="1682653" y="32322"/>
                  <a:pt x="2512396" y="2026"/>
                </a:cubicBezTo>
                <a:cubicBezTo>
                  <a:pt x="3342139" y="-28270"/>
                  <a:pt x="4416734" y="289235"/>
                  <a:pt x="4978460" y="424975"/>
                </a:cubicBezTo>
                <a:lnTo>
                  <a:pt x="4945450" y="138892"/>
                </a:lnTo>
                <a:lnTo>
                  <a:pt x="5379173" y="659139"/>
                </a:lnTo>
                <a:lnTo>
                  <a:pt x="4709602" y="674835"/>
                </a:lnTo>
                <a:lnTo>
                  <a:pt x="4953842" y="507133"/>
                </a:lnTo>
                <a:cubicBezTo>
                  <a:pt x="4493275" y="432657"/>
                  <a:pt x="2995657" y="171952"/>
                  <a:pt x="2491281" y="186002"/>
                </a:cubicBezTo>
                <a:cubicBezTo>
                  <a:pt x="1571818" y="211614"/>
                  <a:pt x="737005" y="386702"/>
                  <a:pt x="228891" y="660500"/>
                </a:cubicBezTo>
                <a:lnTo>
                  <a:pt x="0" y="606748"/>
                </a:lnTo>
                <a:close/>
              </a:path>
            </a:pathLst>
          </a:cu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4716000" y="620640"/>
            <a:ext cx="4392360" cy="3613680"/>
            <a:chOff x="4716000" y="620640"/>
            <a:chExt cx="4392360" cy="3613680"/>
          </a:xfrm>
        </p:grpSpPr>
        <p:grpSp>
          <p:nvGrpSpPr>
            <p:cNvPr id="128" name="Group 10"/>
            <p:cNvGrpSpPr/>
            <p:nvPr/>
          </p:nvGrpSpPr>
          <p:grpSpPr>
            <a:xfrm>
              <a:off x="5612400" y="620640"/>
              <a:ext cx="3495960" cy="3613680"/>
              <a:chOff x="5612400" y="620640"/>
              <a:chExt cx="3495960" cy="3613680"/>
            </a:xfrm>
          </p:grpSpPr>
          <p:pic>
            <p:nvPicPr>
              <p:cNvPr id="12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612400" y="620640"/>
                <a:ext cx="3495960" cy="361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0" name="Group 9"/>
              <p:cNvGrpSpPr/>
              <p:nvPr/>
            </p:nvGrpSpPr>
            <p:grpSpPr>
              <a:xfrm>
                <a:off x="6123240" y="1309320"/>
                <a:ext cx="2422800" cy="2248560"/>
                <a:chOff x="6123240" y="1309320"/>
                <a:chExt cx="2422800" cy="2248560"/>
              </a:xfrm>
            </p:grpSpPr>
            <p:grpSp>
              <p:nvGrpSpPr>
                <p:cNvPr id="131" name="Group 6"/>
                <p:cNvGrpSpPr/>
                <p:nvPr/>
              </p:nvGrpSpPr>
              <p:grpSpPr>
                <a:xfrm>
                  <a:off x="6228360" y="1778400"/>
                  <a:ext cx="2212920" cy="1779480"/>
                  <a:chOff x="6228360" y="1778400"/>
                  <a:chExt cx="2212920" cy="1779480"/>
                </a:xfrm>
              </p:grpSpPr>
              <p:grpSp>
                <p:nvGrpSpPr>
                  <p:cNvPr id="132" name="Group 5"/>
                  <p:cNvGrpSpPr/>
                  <p:nvPr/>
                </p:nvGrpSpPr>
                <p:grpSpPr>
                  <a:xfrm>
                    <a:off x="6228360" y="2284920"/>
                    <a:ext cx="2212920" cy="1272960"/>
                    <a:chOff x="6228360" y="2284920"/>
                    <a:chExt cx="2212920" cy="1272960"/>
                  </a:xfrm>
                </p:grpSpPr>
                <p:pic>
                  <p:nvPicPr>
                    <p:cNvPr id="133" name="Picture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28360" y="2725920"/>
                      <a:ext cx="2212920" cy="51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4" name="TextBox 4"/>
                    <p:cNvSpPr/>
                    <p:nvPr/>
                  </p:nvSpPr>
                  <p:spPr>
                    <a:xfrm>
                      <a:off x="6479640" y="3193920"/>
                      <a:ext cx="1449000" cy="363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dberg C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135" name="Picture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91120" y="2284920"/>
                      <a:ext cx="6051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36" name="Picture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44240" y="1778400"/>
                    <a:ext cx="920160" cy="86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37" name="TextBox 8"/>
                <p:cNvSpPr/>
                <p:nvPr/>
              </p:nvSpPr>
              <p:spPr>
                <a:xfrm>
                  <a:off x="6123240" y="1309320"/>
                  <a:ext cx="242280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ru-RU" sz="1800" spc="-1" strike="noStrike">
                      <a:solidFill>
                        <a:srgbClr val="558ed5"/>
                      </a:solidFill>
                      <a:latin typeface="Calibri"/>
                    </a:rPr>
                    <a:t>НПО им.С.А.Лавочкин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Right Arrow 3"/>
            <p:cNvSpPr/>
            <p:nvPr/>
          </p:nvSpPr>
          <p:spPr>
            <a:xfrm>
              <a:off x="4716000" y="3069000"/>
              <a:ext cx="1728000" cy="4316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ftr" idx="17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хнические характерист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ве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80 видео-соединен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временное отображение до 16 участник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ео: IP H.323, SIP(H.225, H.245, RFC3261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дио: PSTN, VoIP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передачи данных 64 кбит/с – 4 Мбит/с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.261, Н.263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.264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 кадров в секунд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SIF, SIF, 4SIF, QCIF, CIF, 4CIF, VGA, SVGA, XGA, 720p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.239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 QoS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ефонный справочник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трализованное обеспечение обновлений и управление оконечным оборудование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01280" indent="-269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онечное оборудовани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SX 6000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510560" indent="-215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+Content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DX 4000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8920" indent="-215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MA Desktop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ый клиен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8"/>
          </p:nvPr>
        </p:nvSpPr>
        <p:spPr>
          <a:xfrm>
            <a:off x="107640" y="6356520"/>
            <a:ext cx="8856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ижний колонтитул 3"/>
          <p:cNvSpPr/>
          <p:nvPr/>
        </p:nvSpPr>
        <p:spPr>
          <a:xfrm>
            <a:off x="0" y="0"/>
            <a:ext cx="8856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оперативных межведомственных коммуникаций в проектах Спектр-Р и Фобос-Гр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  <Words>519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7:05:25Z</dcterms:created>
  <dc:creator>obat</dc:creator>
  <dc:description/>
  <dc:language>en-US</dc:language>
  <cp:lastModifiedBy>obat</cp:lastModifiedBy>
  <dcterms:modified xsi:type="dcterms:W3CDTF">2011-07-06T11:40:2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3</vt:r8>
  </property>
</Properties>
</file>