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9.png" ContentType="image/png"/>
  <Override PartName="/ppt/media/image34.png" ContentType="image/png"/>
  <Override PartName="/ppt/media/image29.gif" ContentType="image/gif"/>
  <Override PartName="/ppt/media/image33.jpeg" ContentType="image/jpeg"/>
  <Override PartName="/ppt/media/image45.png" ContentType="image/png"/>
  <Override PartName="/ppt/media/image37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44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40.wmf" ContentType="image/x-wmf"/>
  <Override PartName="/ppt/media/image6.png" ContentType="image/png"/>
  <Override PartName="/ppt/media/image36.png" ContentType="image/png"/>
  <Override PartName="/ppt/media/image38.wmf" ContentType="image/x-wmf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907588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562464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E388-407C-4318-9DBB-CEA4E5BEF4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3124080" y="509760"/>
            <a:ext cx="3679920" cy="254952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Номер слайда 3"/>
          <p:cNvSpPr/>
          <p:nvPr/>
        </p:nvSpPr>
        <p:spPr>
          <a:xfrm>
            <a:off x="5624640" y="6458040"/>
            <a:ext cx="430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647F-7931-4313-92A2-191A240F2A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1DF-320B-4005-ACE9-C59341FD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E5F-C28A-43F9-AC37-C6FFC052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148-2433-444A-AA04-5ABE8B0E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833-6A3B-4F54-8C2D-F5F3F6A6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76AC-1950-4F5A-9ABF-8DDBF145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FD2B-AC5F-49B9-88C9-4B39BCB9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B826-810A-438D-9F12-159AE9FB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AB0D-A18F-42EC-BAEE-64ACC582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40E5-8963-4C8D-B624-232AE7E5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D64B-8757-4AD0-9781-05D5DC8E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49CE-A489-45BF-B2E3-612D2BB8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B53-F046-4563-A4F9-0D28B296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7A16-21BB-4C35-B22A-84FF0F93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7B83-674D-437B-A1ED-F2FBDB83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B631-8183-4A51-8F5C-30C751A8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FB1F-7990-4412-8779-40BD3138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775A-28D0-4619-B65A-9E2F551C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CAC51-70AB-4BD6-85D9-90712805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827A3-D32E-4063-AE9D-C73BF542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28663-1D3A-43AB-A552-5171CB50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E39F9-8B83-4EAD-A076-BCE6DF39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B39F9-E28A-433B-A2DE-E789068E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48DB-8DAF-485C-A048-18BC6E8A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4D911-6D18-4D42-9B2E-1F94AAA5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037C0-4AAB-43C1-9031-C03D0558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F12FC-EC62-4A88-9357-97544094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68625-F8BF-4B6A-80B6-B93933DB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89EC4-294C-41A4-8C40-487DB743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E971E-8BFE-4AE1-8E2C-2DAF8CFF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8F4D9-0D61-424F-B580-61F2317F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F7B66-5CE3-4A7C-8498-22B0DEC2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939A8-7915-4AE5-8CAC-0A74EC92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DFDAB-F068-4556-AC51-B3C9D3A3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E79-4DF4-4D64-B96F-F32D0D32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68DE3-9DD7-476E-AF38-02E6CB14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FA92E-8D95-44AB-AAD6-458EB95A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40777-F6E3-4DEF-8B42-12723B8D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5F3EC-91FE-4AF6-913B-24E26CDE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2D9E9-3107-4E42-ABC0-08984F1A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B9386-E76E-4673-894A-55461C15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C0021-FEF4-46AC-99C4-7D32140C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AB6C0-8AD4-4DB8-823B-462CDCFC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EAB7D-DA0A-4883-97DC-80FDFC07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96DF7-1D91-400F-8284-9E6ED763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75D-7086-436E-9D3D-38F6C0F4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F8F62-8B79-4B77-A0DD-BD65844C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9C9AE-9E02-4B37-B362-44059789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06978-1FE9-474D-BCC2-18F0189D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77E08-3AD4-49C7-9B13-949578E0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7A838-711D-46B2-A3EE-A92478C8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47DBE-02A9-431A-9AC4-146171AA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E74C2-3F69-4AFC-B395-686A45D4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1503F-229E-40D8-BCD1-27BA4D27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E9C39-ECAB-41C1-AFA7-5AA4E69E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891E0-5177-451B-ADE1-AD17293A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056B-53D8-411D-9C01-AC68674A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11F40-B322-4D3C-8200-2A519D98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2480E-CA3B-48DF-A9B6-CB4DABB2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6B383-D1E4-41CA-8005-DBAB221C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7D907-96B5-4685-9183-41FCA4F8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EF8CA-DDED-45DC-867F-A0B3ACA7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97F55-2803-4F70-9793-AE551E87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B572B-3F06-4D10-B2B1-1F972B87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214B4-E5E3-41FA-99B3-588C356E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2F89C-17B6-4DC9-8090-F3A1FCAE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70FB3-BDF1-45E1-81CC-D8F052B6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F97-9468-4517-BAD3-92B92398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4E8D6-EEA8-410F-A7B9-21ED9FB4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43643-5935-4A4C-A85D-2B51AFBE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D222F-BFE8-451E-A961-50CECA5D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761F9-FEB4-4AF1-A3E8-86900208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93F12-EB34-47C7-93DE-D4B00B5C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C228B-C5D4-45B7-85DF-9547A3DE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8EF2B-2841-4183-BE61-1CB5D7F7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3F1B2-C121-4DBC-BEF0-96E0C960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61143-0FE1-4CDF-B1DF-2FD0D042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78422-8303-49C8-A3A0-25B1FA4C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87D-4646-4191-99EC-CE7DCD91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9A3C1-CC6C-40B2-9CB9-122C3421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2B343-58DD-4E04-BB1E-3D54EA58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B977E-EF3B-4D46-9C50-C0AD52B2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FB330-21B0-4BED-8DC1-D3B3DA6B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E1475-89A2-4CBF-B86B-3F138B06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864-0BFC-4EB7-B540-84824A0E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205F-BAF1-4E6D-9E6F-C19062543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356160"/>
            <a:ext cx="23112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356160"/>
            <a:ext cx="3136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160"/>
            <a:ext cx="2311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7000-661E-46F4-8262-4988A6360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1D8C-B964-44CD-AE19-1712C98DD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95360" y="6356160"/>
            <a:ext cx="23112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84360" y="6356160"/>
            <a:ext cx="3136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98840" y="6356160"/>
            <a:ext cx="2311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A179-81E0-47A6-AA0D-9EC4CAF8C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95360" y="6356160"/>
            <a:ext cx="23112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84360" y="6356160"/>
            <a:ext cx="3136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98840" y="6356160"/>
            <a:ext cx="2311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F92C-119F-4B8B-85CF-212D89BBF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C327-A083-42AC-8B67-2E0B268D5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95360" y="6356160"/>
            <a:ext cx="23112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84360" y="6356160"/>
            <a:ext cx="3136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98840" y="6356160"/>
            <a:ext cx="23115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28D6-4E23-4D11-A3D2-B3B782C6E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hyperlink" Target="http://www.laspace.ru/images/venerad09.jpg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hyperlink" Target="http://www.laspace.ru/images/venerad09.jpg" TargetMode="External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2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3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4.png"/><Relationship Id="rId12" Type="http://schemas.openxmlformats.org/officeDocument/2006/relationships/image" Target="../media/image20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25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5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slideLayout" Target="../slideLayouts/slideLayout13.xml"/><Relationship Id="rId3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7"/>
          <p:cNvSpPr/>
          <p:nvPr/>
        </p:nvSpPr>
        <p:spPr>
          <a:xfrm>
            <a:off x="0" y="0"/>
            <a:ext cx="75074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О   модернизации наземных средств   и бортового   оборудования, используемых  в   радиофизических   экспериментах  перспективных космических 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врик А.Л.,  Гаврик Ю.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РЭ им. В.А. Котельникова 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Рисунок 8" descr="Evpatoria.jpg"/>
          <p:cNvPicPr/>
          <p:nvPr/>
        </p:nvPicPr>
        <p:blipFill>
          <a:blip r:embed="rId2"/>
          <a:stretch/>
        </p:blipFill>
        <p:spPr>
          <a:xfrm>
            <a:off x="-15840" y="3683160"/>
            <a:ext cx="3468600" cy="313056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9" descr="венера8.jpg"/>
          <p:cNvPicPr/>
          <p:nvPr/>
        </p:nvPicPr>
        <p:blipFill>
          <a:blip r:embed="rId3"/>
          <a:stretch/>
        </p:blipFill>
        <p:spPr>
          <a:xfrm>
            <a:off x="7575480" y="0"/>
            <a:ext cx="2330640" cy="2000160"/>
          </a:xfrm>
          <a:prstGeom prst="rect">
            <a:avLst/>
          </a:prstGeom>
          <a:ln w="0">
            <a:noFill/>
          </a:ln>
        </p:spPr>
      </p:pic>
      <p:sp>
        <p:nvSpPr>
          <p:cNvPr id="297" name="TextBox 12"/>
          <p:cNvSpPr/>
          <p:nvPr/>
        </p:nvSpPr>
        <p:spPr>
          <a:xfrm>
            <a:off x="5168880" y="5589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ИКИ  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Тар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4…8 июля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7" descr="Рисунок1_прозр.png"/>
          <p:cNvPicPr/>
          <p:nvPr/>
        </p:nvPicPr>
        <p:blipFill>
          <a:blip r:embed="rId4"/>
          <a:stretch/>
        </p:blipFill>
        <p:spPr>
          <a:xfrm>
            <a:off x="4305240" y="2647800"/>
            <a:ext cx="1357200" cy="135756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2"/>
          <p:cNvSpPr/>
          <p:nvPr/>
        </p:nvSpPr>
        <p:spPr>
          <a:xfrm>
            <a:off x="4089240" y="4199040"/>
            <a:ext cx="58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Наземные средства  для  обеспечения перспективных научных космических проектов – проблемы и персп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Рисунок 1" descr="22-b1_X_прозр.EMF"/>
          <p:cNvPicPr/>
          <p:nvPr/>
        </p:nvPicPr>
        <p:blipFill>
          <a:blip r:embed="rId2"/>
          <a:srcRect l="8193" t="10360" r="7624" b="22692"/>
          <a:stretch/>
        </p:blipFill>
        <p:spPr>
          <a:xfrm>
            <a:off x="204840" y="4743360"/>
            <a:ext cx="4276800" cy="171000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3" descr="22-b2_X_прозр.EMF"/>
          <p:cNvPicPr/>
          <p:nvPr/>
        </p:nvPicPr>
        <p:blipFill>
          <a:blip r:embed="rId3"/>
          <a:srcRect l="8666" t="19548" r="3829" b="20528"/>
          <a:stretch/>
        </p:blipFill>
        <p:spPr>
          <a:xfrm>
            <a:off x="227160" y="3213000"/>
            <a:ext cx="4201920" cy="154620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5" descr="22-b3_X_прозр.EMF"/>
          <p:cNvPicPr/>
          <p:nvPr/>
        </p:nvPicPr>
        <p:blipFill>
          <a:blip r:embed="rId4"/>
          <a:srcRect l="8193" t="19548" r="9148" b="20528"/>
          <a:stretch/>
        </p:blipFill>
        <p:spPr>
          <a:xfrm>
            <a:off x="231840" y="1666800"/>
            <a:ext cx="4197240" cy="154620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6" descr="22-b4_X_прозр.EMF"/>
          <p:cNvPicPr/>
          <p:nvPr/>
        </p:nvPicPr>
        <p:blipFill>
          <a:blip r:embed="rId5"/>
          <a:srcRect l="8193" t="20812" r="7624" b="18100"/>
          <a:stretch/>
        </p:blipFill>
        <p:spPr>
          <a:xfrm>
            <a:off x="244440" y="0"/>
            <a:ext cx="4276800" cy="1701720"/>
          </a:xfrm>
          <a:prstGeom prst="rect">
            <a:avLst/>
          </a:prstGeom>
          <a:ln w="0">
            <a:noFill/>
          </a:ln>
        </p:spPr>
      </p:pic>
      <p:sp>
        <p:nvSpPr>
          <p:cNvPr id="524" name="TextBox 17"/>
          <p:cNvSpPr/>
          <p:nvPr/>
        </p:nvSpPr>
        <p:spPr>
          <a:xfrm>
            <a:off x="227880" y="638172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itude of radio ray straight li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,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89"/>
          <p:cNvSpPr/>
          <p:nvPr/>
        </p:nvSpPr>
        <p:spPr>
          <a:xfrm rot="16200000">
            <a:off x="-1703880" y="2986560"/>
            <a:ext cx="36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fraction attenuati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3117960" y="39852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0.06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3151080" y="190980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0.11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3159000" y="36385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0.23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3087360" y="514980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0.4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5"/>
          <p:cNvSpPr/>
          <p:nvPr/>
        </p:nvSpPr>
        <p:spPr>
          <a:xfrm>
            <a:off x="4521240" y="44280"/>
            <a:ext cx="531324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обходимость значительного увеличения потенциала радиолинии стала очевидной  при проверке  новой  теоретической  взаимосвязи  вариаций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от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Δf(t)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и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щност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Δ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радиосигн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4"/>
              <p:cNvSpPr txBox="1"/>
              <p:nvPr/>
            </p:nvSpPr>
            <p:spPr>
              <a:xfrm>
                <a:off x="5673600" y="1371600"/>
                <a:ext cx="3089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/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Δ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Rectangle 6"/>
          <p:cNvSpPr/>
          <p:nvPr/>
        </p:nvSpPr>
        <p:spPr>
          <a:xfrm>
            <a:off x="0" y="473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19"/>
          <p:cNvSpPr/>
          <p:nvPr/>
        </p:nvSpPr>
        <p:spPr>
          <a:xfrm>
            <a:off x="4521240" y="2227320"/>
            <a:ext cx="53848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Только при высоком энергетическом потен-циале   можно  обеспечить  высокую  точность измерений  параметров  радиоволн  на  очень коротких  интервалах  времени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Это позволит экспериментально проверить приближения  теории  распространения радио-волн  и  увеличит  пространственно-временное разрешение  результатов  радиопросвеч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идно, что уменьшение интервала измерений в  2 раза  уменьшает энергию сигнала  в  2 раза и  приводит к  увеличению в 2 раза  флуктуаций частоты  и  мощности сигнала.  Уменьш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возможно  только до  момента начала  нелиней-ного  усиления  влияния  ш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20"/>
          <p:cNvSpPr/>
          <p:nvPr/>
        </p:nvSpPr>
        <p:spPr>
          <a:xfrm>
            <a:off x="1006920" y="324000"/>
            <a:ext cx="61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X</a:t>
            </a:r>
            <a:r>
              <a:rPr b="0" lang="ru-RU" sz="1600" spc="-1" strike="noStrike" baseline="-25000">
                <a:solidFill>
                  <a:srgbClr val="003399"/>
                </a:solidFill>
                <a:latin typeface="Arial"/>
              </a:rPr>
              <a:t>Δf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21"/>
          <p:cNvSpPr/>
          <p:nvPr/>
        </p:nvSpPr>
        <p:spPr>
          <a:xfrm>
            <a:off x="1356840" y="129060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X(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22"/>
          <p:cNvSpPr/>
          <p:nvPr/>
        </p:nvSpPr>
        <p:spPr>
          <a:xfrm>
            <a:off x="635040" y="514836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ВЕНЕРА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Рисунок 12" descr="сл16_детали.PNG"/>
          <p:cNvPicPr/>
          <p:nvPr/>
        </p:nvPicPr>
        <p:blipFill>
          <a:blip r:embed="rId2"/>
          <a:stretch/>
        </p:blipFill>
        <p:spPr>
          <a:xfrm>
            <a:off x="0" y="936720"/>
            <a:ext cx="9901080" cy="582768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13" descr="сл16_детали.PNG"/>
          <p:cNvPicPr/>
          <p:nvPr/>
        </p:nvPicPr>
        <p:blipFill>
          <a:blip r:embed="rId3"/>
          <a:stretch/>
        </p:blipFill>
        <p:spPr>
          <a:xfrm>
            <a:off x="0" y="936720"/>
            <a:ext cx="9901080" cy="5827680"/>
          </a:xfrm>
          <a:prstGeom prst="rect">
            <a:avLst/>
          </a:prstGeom>
          <a:ln w="0">
            <a:noFill/>
          </a:ln>
        </p:spPr>
      </p:pic>
      <p:pic>
        <p:nvPicPr>
          <p:cNvPr id="540" name="Рисунок 14" descr="сл16_детали.PNG"/>
          <p:cNvPicPr/>
          <p:nvPr/>
        </p:nvPicPr>
        <p:blipFill>
          <a:blip r:embed="rId4"/>
          <a:stretch/>
        </p:blipFill>
        <p:spPr>
          <a:xfrm>
            <a:off x="0" y="936720"/>
            <a:ext cx="9901080" cy="582768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-360" y="-27000"/>
            <a:ext cx="9906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 CYR"/>
                <a:ea typeface="Times New Roman CYR"/>
              </a:rPr>
              <a:t>Благодаря  тому,  что  на  КА  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 CYR"/>
              </a:rPr>
              <a:t>ВЕНЕРА-15</a:t>
            </a:r>
            <a:r>
              <a:rPr b="0" lang="ru-RU" sz="2400" spc="-1" strike="noStrike">
                <a:solidFill>
                  <a:srgbClr val="800000"/>
                </a:solidFill>
                <a:latin typeface="Times New Roman CYR"/>
                <a:ea typeface="Times New Roman CYR"/>
              </a:rPr>
              <a:t> мощность  сигнала  32 см  составляла  100 Вт,   и  диаметр антенны  был  более 2 м  обнаружен  волновой процесс  в нижней ионосфере  и  в</a:t>
            </a:r>
            <a:r>
              <a:rPr b="0" lang="en-US" sz="2400" spc="-1" strike="noStrike">
                <a:solidFill>
                  <a:srgbClr val="800000"/>
                </a:solidFill>
                <a:latin typeface="Times New Roman CYR"/>
                <a:ea typeface="Times New Roman CYR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Times New Roman CYR"/>
                <a:ea typeface="Times New Roman CYR"/>
              </a:rPr>
              <a:t>верхней атмосфере Вене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Содержимое 7" descr="сл16_детали.PNG"/>
          <p:cNvPicPr/>
          <p:nvPr/>
        </p:nvPicPr>
        <p:blipFill>
          <a:blip r:embed="rId5"/>
          <a:stretch/>
        </p:blipFill>
        <p:spPr>
          <a:xfrm>
            <a:off x="4680" y="1030320"/>
            <a:ext cx="9901440" cy="5827680"/>
          </a:xfrm>
          <a:prstGeom prst="rect">
            <a:avLst/>
          </a:prstGeom>
          <a:ln w="0">
            <a:noFill/>
          </a:ln>
        </p:spPr>
      </p:pic>
      <p:sp>
        <p:nvSpPr>
          <p:cNvPr id="543" name="TextBox 27"/>
          <p:cNvSpPr/>
          <p:nvPr/>
        </p:nvSpPr>
        <p:spPr>
          <a:xfrm>
            <a:off x="0" y="6264360"/>
            <a:ext cx="98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50                                75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                            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46"/>
          <p:cNvSpPr/>
          <p:nvPr/>
        </p:nvSpPr>
        <p:spPr>
          <a:xfrm>
            <a:off x="2050560" y="6467400"/>
            <a:ext cx="56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а  линии  прямой  видимости  спутника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15"/>
          <p:cNvSpPr/>
          <p:nvPr/>
        </p:nvSpPr>
        <p:spPr>
          <a:xfrm>
            <a:off x="523800" y="128592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Рефракционное ослабление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М-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сигнала в атмо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6" name="Прямая со стрелкой 16"/>
          <p:cNvCxnSpPr/>
          <p:nvPr/>
        </p:nvCxnSpPr>
        <p:spPr>
          <a:xfrm>
            <a:off x="452160" y="1285920"/>
            <a:ext cx="684108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547" name="Прямая со стрелкой 17"/>
          <p:cNvCxnSpPr/>
          <p:nvPr/>
        </p:nvCxnSpPr>
        <p:spPr>
          <a:xfrm flipV="1">
            <a:off x="452160" y="5285520"/>
            <a:ext cx="1572120" cy="443880"/>
          </a:xfrm>
          <a:prstGeom prst="straightConnector1">
            <a:avLst/>
          </a:prstGeom>
          <a:ln w="6480">
            <a:solidFill>
              <a:srgbClr val="7030a0"/>
            </a:solidFill>
            <a:prstDash val="dash"/>
            <a:miter/>
            <a:tailEnd len="lg" type="stealth" w="med"/>
          </a:ln>
        </p:spPr>
      </p:cxnSp>
      <p:cxnSp>
        <p:nvCxnSpPr>
          <p:cNvPr id="548" name="Прямая со стрелкой 18"/>
          <p:cNvCxnSpPr/>
          <p:nvPr/>
        </p:nvCxnSpPr>
        <p:spPr>
          <a:xfrm flipV="1">
            <a:off x="2082960" y="5082120"/>
            <a:ext cx="1228320" cy="468000"/>
          </a:xfrm>
          <a:prstGeom prst="straightConnector1">
            <a:avLst/>
          </a:prstGeom>
          <a:ln w="6480">
            <a:solidFill>
              <a:srgbClr val="7030a0"/>
            </a:solidFill>
            <a:prstDash val="dash"/>
            <a:miter/>
            <a:tailEnd len="lg" type="stealth" w="med"/>
          </a:ln>
        </p:spPr>
      </p:cxnSp>
      <p:cxnSp>
        <p:nvCxnSpPr>
          <p:cNvPr id="549" name="Прямая со стрелкой 19"/>
          <p:cNvCxnSpPr/>
          <p:nvPr/>
        </p:nvCxnSpPr>
        <p:spPr>
          <a:xfrm flipV="1">
            <a:off x="3445200" y="4629240"/>
            <a:ext cx="1200240" cy="587880"/>
          </a:xfrm>
          <a:prstGeom prst="straightConnector1">
            <a:avLst/>
          </a:prstGeom>
          <a:ln w="6480">
            <a:solidFill>
              <a:srgbClr val="7030a0"/>
            </a:solidFill>
            <a:prstDash val="dash"/>
            <a:miter/>
            <a:tailEnd len="lg" type="stealth" w="med"/>
          </a:ln>
        </p:spPr>
      </p:cxnSp>
      <p:cxnSp>
        <p:nvCxnSpPr>
          <p:cNvPr id="550" name="Прямая со стрелкой 20"/>
          <p:cNvCxnSpPr/>
          <p:nvPr/>
        </p:nvCxnSpPr>
        <p:spPr>
          <a:xfrm flipV="1">
            <a:off x="4771080" y="3942000"/>
            <a:ext cx="676440" cy="608760"/>
          </a:xfrm>
          <a:prstGeom prst="straightConnector1">
            <a:avLst/>
          </a:prstGeom>
          <a:ln w="6480">
            <a:solidFill>
              <a:srgbClr val="7030a0"/>
            </a:solidFill>
            <a:prstDash val="dash"/>
            <a:miter/>
            <a:tailEnd len="lg" type="stealth" w="med"/>
          </a:ln>
        </p:spPr>
      </p:cxnSp>
      <p:cxnSp>
        <p:nvCxnSpPr>
          <p:cNvPr id="551" name="Прямая со стрелкой 21"/>
          <p:cNvCxnSpPr/>
          <p:nvPr/>
        </p:nvCxnSpPr>
        <p:spPr>
          <a:xfrm>
            <a:off x="452160" y="1714680"/>
            <a:ext cx="6841080" cy="2160"/>
          </a:xfrm>
          <a:prstGeom prst="straightConnector1">
            <a:avLst/>
          </a:prstGeom>
          <a:ln w="19080">
            <a:solidFill>
              <a:srgbClr val="18f62d"/>
            </a:solidFill>
            <a:miter/>
            <a:headEnd len="lg" type="stealth" w="lg"/>
            <a:tailEnd len="lg" type="stealth" w="lg"/>
          </a:ln>
        </p:spPr>
      </p:cxnSp>
      <p:sp>
        <p:nvSpPr>
          <p:cNvPr id="552" name="Прямоугольник 22"/>
          <p:cNvSpPr/>
          <p:nvPr/>
        </p:nvSpPr>
        <p:spPr>
          <a:xfrm>
            <a:off x="523800" y="171468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8f62d"/>
                </a:solidFill>
                <a:latin typeface="Arial"/>
              </a:rPr>
              <a:t>Рефракционное ослабление  </a:t>
            </a:r>
            <a:r>
              <a:rPr b="1" lang="en-US" sz="1800" spc="-1" strike="noStrike">
                <a:solidFill>
                  <a:srgbClr val="18f62d"/>
                </a:solidFill>
                <a:latin typeface="Arial"/>
              </a:rPr>
              <a:t>СМ-</a:t>
            </a:r>
            <a:r>
              <a:rPr b="0" i="1" lang="en-US" sz="1800" spc="-1" strike="noStrike">
                <a:solidFill>
                  <a:srgbClr val="18f62d"/>
                </a:solidFill>
                <a:latin typeface="Arial"/>
              </a:rPr>
              <a:t>сигнала в атмо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23"/>
          <p:cNvSpPr/>
          <p:nvPr/>
        </p:nvSpPr>
        <p:spPr>
          <a:xfrm rot="20700000">
            <a:off x="496800" y="464508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030a0"/>
                </a:solidFill>
                <a:latin typeface="Arial"/>
              </a:rPr>
              <a:t>слоистая структура в атмо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24"/>
          <p:cNvSpPr/>
          <p:nvPr/>
        </p:nvSpPr>
        <p:spPr>
          <a:xfrm>
            <a:off x="523800" y="4087800"/>
            <a:ext cx="428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рреляция периодических струк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атмосфере дл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ДМ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1" lang="en-US" sz="1600" spc="-1" strike="noStrike">
                <a:solidFill>
                  <a:srgbClr val="18f62d"/>
                </a:solidFill>
                <a:latin typeface="Arial"/>
              </a:rPr>
              <a:t>СМ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игна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26"/>
          <p:cNvSpPr/>
          <p:nvPr/>
        </p:nvSpPr>
        <p:spPr>
          <a:xfrm>
            <a:off x="523800" y="221148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11fd"/>
                </a:solidFill>
                <a:latin typeface="Arial"/>
              </a:rPr>
              <a:t>Рефракционное ослабление, </a:t>
            </a:r>
            <a:r>
              <a:rPr b="1" lang="en-US" sz="1800" spc="-1" strike="noStrike">
                <a:solidFill>
                  <a:srgbClr val="3311fd"/>
                </a:solidFill>
                <a:latin typeface="Arial"/>
              </a:rPr>
              <a:t>вычисленное из частоты  ДМ-</a:t>
            </a:r>
            <a:r>
              <a:rPr b="0" i="1" lang="en-US" sz="1800" spc="-1" strike="noStrike">
                <a:solidFill>
                  <a:srgbClr val="3311fd"/>
                </a:solidFill>
                <a:latin typeface="Arial"/>
              </a:rPr>
              <a:t>сиг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углом 27"/>
          <p:cNvSpPr/>
          <p:nvPr/>
        </p:nvSpPr>
        <p:spPr>
          <a:xfrm rot="16200000">
            <a:off x="6281640" y="3330360"/>
            <a:ext cx="504720" cy="4930920"/>
          </a:xfrm>
          <a:custGeom>
            <a:avLst/>
            <a:gdLst>
              <a:gd name="textAreaLeft" fmla="*/ 0 w 504720"/>
              <a:gd name="textAreaRight" fmla="*/ 505080 w 504720"/>
              <a:gd name="textAreaTop" fmla="*/ 0 h 4930920"/>
              <a:gd name="textAreaBottom" fmla="*/ 4931280 h 4930920"/>
            </a:gdLst>
            <a:ahLst/>
            <a:rect l="textAreaLeft" t="textAreaTop" r="textAreaRight" b="textAreaBottom"/>
            <a:pathLst>
              <a:path w="504825" h="4930775">
                <a:moveTo>
                  <a:pt x="0" y="4930775"/>
                </a:moveTo>
                <a:lnTo>
                  <a:pt x="0" y="438148"/>
                </a:lnTo>
                <a:cubicBezTo>
                  <a:pt x="0" y="235123"/>
                  <a:pt x="164584" y="70539"/>
                  <a:pt x="367609" y="70539"/>
                </a:cubicBezTo>
                <a:cubicBezTo>
                  <a:pt x="367609" y="70539"/>
                  <a:pt x="367609" y="70539"/>
                  <a:pt x="367609" y="70539"/>
                </a:cubicBezTo>
                <a:lnTo>
                  <a:pt x="399756" y="70539"/>
                </a:lnTo>
                <a:lnTo>
                  <a:pt x="399756" y="0"/>
                </a:lnTo>
                <a:lnTo>
                  <a:pt x="504825" y="220442"/>
                </a:lnTo>
                <a:lnTo>
                  <a:pt x="399756" y="440884"/>
                </a:lnTo>
                <a:lnTo>
                  <a:pt x="399756" y="370345"/>
                </a:lnTo>
                <a:lnTo>
                  <a:pt x="367609" y="370345"/>
                </a:lnTo>
                <a:lnTo>
                  <a:pt x="367608" y="370345"/>
                </a:lnTo>
                <a:cubicBezTo>
                  <a:pt x="330162" y="370345"/>
                  <a:pt x="299806" y="400701"/>
                  <a:pt x="299806" y="438147"/>
                </a:cubicBezTo>
                <a:lnTo>
                  <a:pt x="299805" y="4930775"/>
                </a:lnTo>
                <a:close/>
              </a:path>
            </a:pathLst>
          </a:cu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8"/>
          <p:cNvSpPr/>
          <p:nvPr/>
        </p:nvSpPr>
        <p:spPr>
          <a:xfrm>
            <a:off x="4392720" y="5724360"/>
            <a:ext cx="4680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11fd"/>
                </a:solidFill>
                <a:latin typeface="Arial"/>
              </a:rPr>
              <a:t>Вариации  </a:t>
            </a:r>
            <a:r>
              <a:rPr b="1" lang="ru-RU" sz="1400" spc="-1" strike="noStrike">
                <a:solidFill>
                  <a:srgbClr val="fb2913"/>
                </a:solidFill>
                <a:latin typeface="Arial"/>
              </a:rPr>
              <a:t>Х</a:t>
            </a:r>
            <a:r>
              <a:rPr b="1" lang="ru-RU" sz="1400" spc="-1" strike="noStrike" baseline="-25000">
                <a:solidFill>
                  <a:srgbClr val="fb2913"/>
                </a:solidFill>
                <a:latin typeface="Arial"/>
              </a:rPr>
              <a:t>дм</a:t>
            </a:r>
            <a:r>
              <a:rPr b="0" lang="ru-RU" sz="1100" spc="-1" strike="noStrike">
                <a:solidFill>
                  <a:srgbClr val="fb2913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3311fd"/>
                </a:solidFill>
                <a:latin typeface="Arial"/>
              </a:rPr>
              <a:t>и</a:t>
            </a:r>
            <a:r>
              <a:rPr b="0" lang="ru-RU" sz="1100" spc="-1" strike="noStrike">
                <a:solidFill>
                  <a:srgbClr val="fb2913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Х</a:t>
            </a:r>
            <a:r>
              <a:rPr b="1" lang="el-GR" sz="1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Δ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Arial"/>
              </a:rPr>
              <a:t>f </a:t>
            </a:r>
            <a:r>
              <a:rPr b="0" i="1" lang="ru-RU" sz="1400" spc="-1" strike="noStrike">
                <a:solidFill>
                  <a:srgbClr val="3311fd"/>
                </a:solidFill>
                <a:latin typeface="Arial"/>
              </a:rPr>
              <a:t>  в  атмосфере  </a:t>
            </a:r>
            <a:r>
              <a:rPr b="1" i="1" lang="ru-RU" sz="1400" spc="-1" strike="noStrike">
                <a:solidFill>
                  <a:srgbClr val="3311fd"/>
                </a:solidFill>
                <a:latin typeface="Arial"/>
              </a:rPr>
              <a:t>различаю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28"/>
          <p:cNvSpPr/>
          <p:nvPr/>
        </p:nvSpPr>
        <p:spPr>
          <a:xfrm>
            <a:off x="23760" y="1341360"/>
            <a:ext cx="3380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Выноска со стрелкой вверх 26"/>
          <p:cNvSpPr/>
          <p:nvPr/>
        </p:nvSpPr>
        <p:spPr>
          <a:xfrm>
            <a:off x="5600880" y="4675320"/>
            <a:ext cx="4192560" cy="914400"/>
          </a:xfrm>
          <a:prstGeom prst="upArrowCallout">
            <a:avLst>
              <a:gd name="adj1" fmla="val 25008"/>
              <a:gd name="adj2" fmla="val 158756"/>
              <a:gd name="adj3" fmla="val 25000"/>
              <a:gd name="adj4" fmla="val 70041"/>
            </a:avLst>
          </a:prstGeom>
          <a:solidFill>
            <a:srgbClr val="86a644"/>
          </a:solidFill>
          <a:ln w="25560">
            <a:solidFill>
              <a:srgbClr val="677f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30"/>
          <p:cNvSpPr/>
          <p:nvPr/>
        </p:nvSpPr>
        <p:spPr>
          <a:xfrm>
            <a:off x="5745240" y="5008680"/>
            <a:ext cx="3905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030a0"/>
                </a:solidFill>
                <a:latin typeface="Arial"/>
              </a:rPr>
              <a:t>Слои плазмы в нижней ионосфер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030a0"/>
                </a:solidFill>
                <a:latin typeface="Arial"/>
              </a:rPr>
              <a:t>корреляция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Arial"/>
              </a:rPr>
              <a:t>Д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Х</a:t>
            </a:r>
            <a:r>
              <a:rPr b="1" lang="el-GR" sz="16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Δ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f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3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250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3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500"/>
                            </p:stCondLst>
                            <p:childTnLst>
                              <p:par>
                                <p:cTn id="33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3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3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4"/>
          <p:cNvSpPr/>
          <p:nvPr/>
        </p:nvSpPr>
        <p:spPr>
          <a:xfrm>
            <a:off x="0" y="5164200"/>
            <a:ext cx="990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Этот  уникальный  результат  получен  благодаря  тому,   что излучаемая мощность сигнала диапазона 3.6 см составляла 20 Вт, диаметр  антенны  был  более  3.5  метров,  температура  шумов приемника  не  превышала  40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Рисунок 4" descr="Сл-25_прозр.PNG"/>
          <p:cNvPicPr/>
          <p:nvPr/>
        </p:nvPicPr>
        <p:blipFill>
          <a:blip r:embed="rId2"/>
          <a:stretch/>
        </p:blipFill>
        <p:spPr>
          <a:xfrm>
            <a:off x="685800" y="1341360"/>
            <a:ext cx="8534520" cy="369576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5"/>
          <p:cNvSpPr/>
          <p:nvPr/>
        </p:nvSpPr>
        <p:spPr>
          <a:xfrm>
            <a:off x="0" y="115920"/>
            <a:ext cx="990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11fd"/>
                </a:solidFill>
                <a:latin typeface="Arial"/>
              </a:rPr>
              <a:t>Волноподобные вариации температуры в атмосфере Венеры выше 55 к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11fd"/>
                </a:solidFill>
                <a:latin typeface="Arial"/>
              </a:rPr>
              <a:t>использовались  для  анализа  распространения  гравитационных  вол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11fd"/>
                </a:solidFill>
                <a:latin typeface="Arial"/>
              </a:rPr>
              <a:t>(по данным радиопросвечивания</a:t>
            </a:r>
            <a:r>
              <a:rPr b="0" lang="ru-RU" sz="2000" spc="-1" strike="noStrike">
                <a:solidFill>
                  <a:srgbClr val="3311fd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11fd"/>
                </a:solidFill>
                <a:latin typeface="Arial"/>
              </a:rPr>
              <a:t>КА </a:t>
            </a:r>
            <a:r>
              <a:rPr b="0" i="1" lang="en-US" sz="2000" spc="-1" strike="noStrike">
                <a:solidFill>
                  <a:srgbClr val="3311fd"/>
                </a:solidFill>
                <a:latin typeface="Arial"/>
              </a:rPr>
              <a:t>Magellan  J.M. Jenkins</a:t>
            </a:r>
            <a:r>
              <a:rPr b="0" i="1" lang="ru-RU" sz="2000" spc="-1" strike="noStrike">
                <a:solidFill>
                  <a:srgbClr val="3311f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252360" y="1182240"/>
            <a:ext cx="965376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11fd"/>
                </a:solidFill>
                <a:latin typeface="Arial"/>
              </a:rPr>
              <a:t>Требования к приемни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дновременный прием на двух ортогональных поляриз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х когерентных сигналов в режиме независимого сле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фазой  каждого сигнала.  Все тактовые частоты одинак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игн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3311fd"/>
                </a:solidFill>
                <a:latin typeface="Arial"/>
              </a:rPr>
              <a:t>Квадратурные компоненты сигналов записываются в пам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11f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11fd"/>
                </a:solidFill>
                <a:latin typeface="Arial"/>
              </a:rPr>
              <a:t>временного  хранения  объемом  2 Гбит,  режим  рег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11f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11fd"/>
                </a:solidFill>
                <a:latin typeface="Arial"/>
              </a:rPr>
              <a:t>может меня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сле  окончания  сеанса  радиозондирования  вклю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 обработки  данных  по  заложенному  алгорит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11fd"/>
                </a:solidFill>
                <a:latin typeface="Arial"/>
              </a:rPr>
              <a:t>- Обработанные, сжатые данные кодируются и записываютс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11f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11fd"/>
                </a:solidFill>
                <a:latin typeface="Arial"/>
              </a:rPr>
              <a:t>другой  носитель  объемом  100 Мбит  (10 сеансов просвечив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11f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11fd"/>
                </a:solidFill>
                <a:latin typeface="Arial"/>
              </a:rPr>
              <a:t>ния)  для последующей  передачи  этих  данных  на Землю 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11fd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11fd"/>
                </a:solidFill>
                <a:latin typeface="Arial"/>
              </a:rPr>
              <a:t>магистральной  линии  теле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Скругленный прямоугольник 2"/>
          <p:cNvSpPr/>
          <p:nvPr/>
        </p:nvSpPr>
        <p:spPr>
          <a:xfrm>
            <a:off x="144360" y="1197000"/>
            <a:ext cx="9576000" cy="5506920"/>
          </a:xfrm>
          <a:prstGeom prst="roundRect">
            <a:avLst>
              <a:gd name="adj" fmla="val 8338"/>
            </a:avLst>
          </a:prstGeom>
          <a:noFill/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оугольник 3"/>
          <p:cNvSpPr/>
          <p:nvPr/>
        </p:nvSpPr>
        <p:spPr>
          <a:xfrm>
            <a:off x="0" y="0"/>
            <a:ext cx="990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Для реализации новых, более информативных экспериментов необходима  разработка  универсального, многофункционального наземного и  бортового  прием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"/>
          <p:cNvSpPr/>
          <p:nvPr/>
        </p:nvSpPr>
        <p:spPr>
          <a:xfrm>
            <a:off x="158760" y="217440"/>
            <a:ext cx="969012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временные  компактные  бортовые приемники сигналов  с малым весом и энергопотреблением, созданные на современной элементной базе,  позволяют проводить измерения  и  предвари- тельную  обработку  материалов  радиопросвечивания  на  борту ОА  в реальном масштабе времени, хранить и обрабатывать  ин-формацию, передавать ее на Землю по штатному каналу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Arial"/>
              </a:rPr>
              <a:t>Разработанный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Arial"/>
              </a:rPr>
              <a:t>универсальный бортовой приемник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Arial"/>
              </a:rPr>
              <a:t>трех когерентных  сигналов  на   двух  ортогональных  поляризациях  получит  широкое  применение  во  всех  космических  мисс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и незначительной модернизации он может использоваться при   радиопросвечивании  атмосферы  Земли  и   бистатической радиолокации  ее  поверхности  на  трассе  спутник→спут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Такой приемник можно будет предлагать  иностранным космическим  агентствам   для   проведения   совместных космических  экспериментов.</a:t>
            </a:r>
            <a:r>
              <a:rPr b="0" lang="ru-RU" sz="26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Скругленный прямоугольник 5"/>
          <p:cNvSpPr/>
          <p:nvPr/>
        </p:nvSpPr>
        <p:spPr>
          <a:xfrm>
            <a:off x="182520" y="112680"/>
            <a:ext cx="9576000" cy="6624720"/>
          </a:xfrm>
          <a:prstGeom prst="roundRect">
            <a:avLst>
              <a:gd name="adj" fmla="val 8338"/>
            </a:avLst>
          </a:prstGeom>
          <a:noFill/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Рисунок 3" descr="Част_Пав_Гав_18b3.PNG"/>
          <p:cNvPicPr/>
          <p:nvPr/>
        </p:nvPicPr>
        <p:blipFill>
          <a:blip r:embed="rId1"/>
          <a:stretch/>
        </p:blipFill>
        <p:spPr>
          <a:xfrm>
            <a:off x="27000" y="765000"/>
            <a:ext cx="5141880" cy="597708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10"/>
          <p:cNvSpPr/>
          <p:nvPr/>
        </p:nvSpPr>
        <p:spPr>
          <a:xfrm>
            <a:off x="2827080" y="4633920"/>
            <a:ext cx="204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70c0"/>
                </a:solidFill>
                <a:latin typeface="Arial"/>
              </a:rPr>
              <a:t>λ =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32</a:t>
            </a:r>
            <a:r>
              <a:rPr b="0" lang="el-GR" sz="1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см,   </a:t>
            </a:r>
            <a:r>
              <a:rPr b="0" lang="el-GR" sz="1400" spc="-1" strike="noStrike">
                <a:solidFill>
                  <a:srgbClr val="0070c0"/>
                </a:solidFill>
                <a:latin typeface="Arial"/>
              </a:rPr>
              <a:t>Δ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t = 0.11 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0"/>
          <p:cNvSpPr/>
          <p:nvPr/>
        </p:nvSpPr>
        <p:spPr>
          <a:xfrm>
            <a:off x="2711880" y="2976480"/>
            <a:ext cx="20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cc3399"/>
                </a:solidFill>
                <a:latin typeface="Arial"/>
              </a:rPr>
              <a:t>λ = 19 </a:t>
            </a:r>
            <a:r>
              <a:rPr b="0" lang="ru-RU" sz="1400" spc="-1" strike="noStrike">
                <a:solidFill>
                  <a:srgbClr val="cc3399"/>
                </a:solidFill>
                <a:latin typeface="Arial"/>
              </a:rPr>
              <a:t>см,    </a:t>
            </a:r>
            <a:r>
              <a:rPr b="0" lang="el-GR" sz="1400" spc="-1" strike="noStrike">
                <a:solidFill>
                  <a:srgbClr val="cc3399"/>
                </a:solidFill>
                <a:latin typeface="Arial"/>
              </a:rPr>
              <a:t>Δ</a:t>
            </a:r>
            <a:r>
              <a:rPr b="0" lang="en-US" sz="1400" spc="-1" strike="noStrike">
                <a:solidFill>
                  <a:srgbClr val="cc3399"/>
                </a:solidFill>
                <a:latin typeface="Arial"/>
              </a:rPr>
              <a:t>t = 0.</a:t>
            </a:r>
            <a:r>
              <a:rPr b="0" lang="ru-RU" sz="1400" spc="-1" strike="noStrike">
                <a:solidFill>
                  <a:srgbClr val="cc3399"/>
                </a:solidFill>
                <a:latin typeface="Arial"/>
              </a:rPr>
              <a:t>02</a:t>
            </a:r>
            <a:r>
              <a:rPr b="0" lang="en-US" sz="1400" spc="-1" strike="noStrike">
                <a:solidFill>
                  <a:srgbClr val="cc3399"/>
                </a:solidFill>
                <a:latin typeface="Arial"/>
              </a:rPr>
              <a:t> 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рямоугольник 22"/>
          <p:cNvSpPr/>
          <p:nvPr/>
        </p:nvSpPr>
        <p:spPr>
          <a:xfrm>
            <a:off x="2909160" y="5229360"/>
            <a:ext cx="21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ВЕНЕРА-16 </a:t>
            </a:r>
            <a:r>
              <a:rPr b="0" lang="en-US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→ Зем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0"/>
          <p:cNvSpPr/>
          <p:nvPr/>
        </p:nvSpPr>
        <p:spPr>
          <a:xfrm>
            <a:off x="3194280" y="2009880"/>
            <a:ext cx="182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GPS  </a:t>
            </a:r>
            <a:r>
              <a:rPr b="0" lang="en-US" sz="1600" spc="-1" strike="noStrike">
                <a:solidFill>
                  <a:srgbClr val="cc3399"/>
                </a:solidFill>
                <a:latin typeface="Arial"/>
                <a:ea typeface="Times New Roman"/>
              </a:rPr>
              <a:t>→</a:t>
            </a: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  CHAM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3"/>
          <p:cNvSpPr/>
          <p:nvPr/>
        </p:nvSpPr>
        <p:spPr>
          <a:xfrm>
            <a:off x="0" y="0"/>
            <a:ext cx="99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Для реализации информативных экспериментов необходима  разработка  хорошего  бортового  прием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11"/>
          <p:cNvSpPr/>
          <p:nvPr/>
        </p:nvSpPr>
        <p:spPr>
          <a:xfrm>
            <a:off x="5240160" y="2708280"/>
            <a:ext cx="4608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остоверность  информации   зави-сит  от  соотношения  между  радиофи-зическими  эффектами, обусловленны-ми  исследуемой средой и мешающими факто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Зондирование плазмы сигналом  32 см  КА ВЕНЕРА-16   увеличило  по  сравне-нию  с  иностранными  экспериментами (волна 13 см)   рефракционные эффек-ты    в  6 раз,  что  повысило  точность  результатов   и  открыло  перспективы изучения тонкой структуры ионосферы. Следовательно, выбор частотного  диа-пазона  –  ответственная  задач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12"/>
          <p:cNvSpPr/>
          <p:nvPr/>
        </p:nvSpPr>
        <p:spPr>
          <a:xfrm>
            <a:off x="5313240" y="765000"/>
            <a:ext cx="453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Точность    интерпретации  результа-тов   радиопросвечивания имеет  прин-ципиальное  значение, т.к.  определяет   возможность  дальнейшего   использо-вания  полученных  характеристик  при разработке  моделей  строения  и  изу-чении   динамики   газовой   обол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2254320" y="85896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http://isdc.gfz-potsdam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22"/>
          <p:cNvSpPr/>
          <p:nvPr/>
        </p:nvSpPr>
        <p:spPr>
          <a:xfrm rot="16200000">
            <a:off x="-1079280" y="3454560"/>
            <a:ext cx="24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игнала,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z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22"/>
          <p:cNvSpPr/>
          <p:nvPr/>
        </p:nvSpPr>
        <p:spPr>
          <a:xfrm>
            <a:off x="403200" y="6475320"/>
            <a:ext cx="39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ы с о т а   над поверхностью планеты,  км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оугольник 22"/>
          <p:cNvSpPr/>
          <p:nvPr/>
        </p:nvSpPr>
        <p:spPr>
          <a:xfrm>
            <a:off x="2432160" y="3984480"/>
            <a:ext cx="27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влияние плазмы на частоту сигн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Двойная стрелка влево/вправо 14"/>
          <p:cNvSpPr/>
          <p:nvPr/>
        </p:nvSpPr>
        <p:spPr>
          <a:xfrm>
            <a:off x="2432160" y="4005360"/>
            <a:ext cx="2773080" cy="252360"/>
          </a:xfrm>
          <a:prstGeom prst="leftRightArrow">
            <a:avLst>
              <a:gd name="adj1" fmla="val 50000"/>
              <a:gd name="adj2" fmla="val 50008"/>
            </a:avLst>
          </a:prstGeom>
          <a:noFill/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1711440" y="1844640"/>
            <a:ext cx="129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ионосф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474480" y="162396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99"/>
                </a:solidFill>
                <a:latin typeface="Arial"/>
              </a:rPr>
              <a:t>атмосфера  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оугольник 22"/>
          <p:cNvSpPr/>
          <p:nvPr/>
        </p:nvSpPr>
        <p:spPr>
          <a:xfrm>
            <a:off x="655200" y="4581360"/>
            <a:ext cx="157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Неправильные  да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"/>
              </a:rPr>
              <a:t>из-за  низкого  </a:t>
            </a: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с/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"/>
          <p:cNvSpPr/>
          <p:nvPr/>
        </p:nvSpPr>
        <p:spPr>
          <a:xfrm>
            <a:off x="236520" y="207000"/>
            <a:ext cx="9504360" cy="56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диофизические  эффекты  на  волне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диапаз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лазма Венеры и Марса очень слабо влияет на вариации фазы и мощ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ри погружении радиолуча в плотные слои атмосферы Венеры мощ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быстро уменьшается из-за сильного поглощ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Наблюдаются сильные флуктуации мощности в областях развитой турбулентности атмосфе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Узкая диаграмма направленности антенны требует очень точного прог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рефракции радиолуча в плотных слоях атмосф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стоинства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диапаз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При зондировании глубоких слоев в атмосфере Венеры (~40 км) ослабление сигнала 25 дБ, а поглощение 15 дБ.   Если мощность сигнала обеспечивает диапазон измере-ний   50…60 дБ,  то можно определить концентрацию паров серной кисл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 Марсе  можно проводить  бистатическую радиолокац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 Венере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рсе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можно исследовать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турбулентность атмосферы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т.к. флукту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ции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мощности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огут быть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в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5 раз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больше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чем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для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игнала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диапаз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 Юпитере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 Сатурне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ожно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исследовать  всю ионосферу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оль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ожно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зондировать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глубокие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слои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олнечной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кор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 США, Европе и Японии создана разветвленная сеть наземных приемных пункт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ожно излучать сигнал,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огда на наших пунктах заход не вид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Скругленный прямоугольник 2"/>
          <p:cNvSpPr/>
          <p:nvPr/>
        </p:nvSpPr>
        <p:spPr>
          <a:xfrm>
            <a:off x="165240" y="95400"/>
            <a:ext cx="9575640" cy="5925960"/>
          </a:xfrm>
          <a:prstGeom prst="roundRect">
            <a:avLst>
              <a:gd name="adj" fmla="val 8338"/>
            </a:avLst>
          </a:prstGeom>
          <a:noFill/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ик 4"/>
          <p:cNvSpPr/>
          <p:nvPr/>
        </p:nvSpPr>
        <p:spPr>
          <a:xfrm>
            <a:off x="0" y="6021360"/>
            <a:ext cx="990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диосигнал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Х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диапазона  будет  использоваться  в  качестве магистрального  канала  для  передачи  телеметрической 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1"/>
          <p:cNvSpPr/>
          <p:nvPr/>
        </p:nvSpPr>
        <p:spPr>
          <a:xfrm>
            <a:off x="216000" y="1916640"/>
            <a:ext cx="9561240" cy="47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диофизические  эффекты  на  волне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диапаз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лазма  Венеры  и  Марса  слабо  влияет  на  вариации  фазы  и  мощ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ри погружении радиолуча в плотные слои атмосферы Венеры мощ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достаточно быстро уменьшается из-за поглощ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Наблюдаются  флуктуации  мощности  в  областях развитой турбулентности атмосфе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Узкая  диаграмма  направленности  антенны  требует  точного  прог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рефракции  радиолуча  в  плотных  слоях  атмосф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стоинства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диапаз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На Венере  можно  определить  концентрацию  паров  серной кислоты  на высотах 35-50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На Венере  и  на Марсе  можно  исследовать турбулентность атмо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и   проводить  бистатическую  радиолок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На Юпитере  и  на Сатурне  можно исследовать  ионосферу  и  коль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Можно зондировать околосолнечную пла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2"/>
          <p:cNvSpPr/>
          <p:nvPr/>
        </p:nvSpPr>
        <p:spPr>
          <a:xfrm>
            <a:off x="0" y="44280"/>
            <a:ext cx="990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 качестве второго когерентного сигнала  в США, Европе и Японии используется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S-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диапазон,  для которого создана сеть приемных пунктов.  Это обстоятельство является важным аргументом для использования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S-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диапазона в наших экспери-ментах, оно может оказаться решающим фактором при планировании частотного диапазона, т.к. можно излучать сигнал, когда на наших пунктах заход не вид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Скругленный прямоугольник 3"/>
          <p:cNvSpPr/>
          <p:nvPr/>
        </p:nvSpPr>
        <p:spPr>
          <a:xfrm>
            <a:off x="165240" y="1773360"/>
            <a:ext cx="9575640" cy="4989240"/>
          </a:xfrm>
          <a:prstGeom prst="roundRect">
            <a:avLst>
              <a:gd name="adj" fmla="val 8338"/>
            </a:avLst>
          </a:prstGeom>
          <a:noFill/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"/>
          <p:cNvSpPr/>
          <p:nvPr/>
        </p:nvSpPr>
        <p:spPr>
          <a:xfrm>
            <a:off x="144360" y="522000"/>
            <a:ext cx="970452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диофизические  эффекты  на волне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L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диапаз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Плазма  Венеры  и  Марса  сильно  влияет  на вариации фазы  и  мощности сигн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оглощение  в  атмосфере  слаб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Турбулентность  атмосферы  мало  влияет  на  флуктуации  мощ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Широкая диаграмма направленности антенны не требует точного прогноза рефрак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ции  радиолуча в плотных слоях атмосф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стоинства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L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диапаз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На Венере и Марсе зондирование сигналом L диапазона увеличивает по сравнению  с  S диапазо-ном рефракционные эффекты в плазме в 6 раз, а вариаций частоты сигнала в 2.4 раза с уменьше-нием в 2.4 раза мешающих флуктуаций частоты, вызванных шумами бортового задающего генера-тора.   Это увеличивает потенциал  метода радиопросвечивания  применительно  к  исследованию плазменных сред,  в которых 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эффекты  незначительно  превышают  уровень шума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,  например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ночная ионосфера, ионосфера вблизи ионопаузы и самая нижняя часть дневной ионосфе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Поглощение сигнала  L- диапазона существенно меньше, чем поглощение сигналов S-  и  Х-диа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пазонов, что обеспечит определение характеристик турбулентности и паров серной кисло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 Венере и Марсе можно проводить бистатическую локацию при малом поглощении в атмосфере, глубина проникновения в грунт в 2.5 раза больше, чем для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диапаз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 Венере по результатам бистатической локации можно определять характер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атмосферы на высотах 0…30 км, в области мало доступной для других мет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ожно исследовать кольца верхнюю ионосферу Сатурна и Юпи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Исследование  солнечного ветра  вдали  от Солнца  и  плазменных  оболочек  ком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является  эффективным  только  с  использованием  сигнала  L- диапаз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2"/>
          <p:cNvSpPr/>
          <p:nvPr/>
        </p:nvSpPr>
        <p:spPr>
          <a:xfrm>
            <a:off x="0" y="34920"/>
            <a:ext cx="9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Сигнал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L-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диапазона является отличительным признаком отечественных экспери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Скругленный прямоугольник 3"/>
          <p:cNvSpPr/>
          <p:nvPr/>
        </p:nvSpPr>
        <p:spPr>
          <a:xfrm>
            <a:off x="71280" y="476280"/>
            <a:ext cx="9757080" cy="6265800"/>
          </a:xfrm>
          <a:prstGeom prst="roundRect">
            <a:avLst>
              <a:gd name="adj" fmla="val 8338"/>
            </a:avLst>
          </a:prstGeom>
          <a:noFill/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217440" y="1081080"/>
            <a:ext cx="957420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Управление межпланетными станциями и сброс информации на Зем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тимальный 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апазон,  т.к. обеспечивается максимальная скорость  передачи  данных   и   есть  международная  приемо-передающая  сеть.  Бортовые  и  наземные  приемники  и пере-датчики уже существ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11fd"/>
                </a:solidFill>
                <a:latin typeface="Arial"/>
                <a:ea typeface="Arial"/>
              </a:rPr>
              <a:t>Можно ли дополнительно использовать L-, S-диапазоны – это должны определить специали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Радиолокация планет, комет, астероидов, космического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тимальный 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апазон,  т.к. обеспечивается максимальная информативность  данных   и   есть  международная  приемо-передающая  с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11fd"/>
                </a:solidFill>
                <a:latin typeface="Arial"/>
              </a:rPr>
              <a:t>Но очень желательно дополнительно использовать передатчики </a:t>
            </a:r>
            <a:r>
              <a:rPr b="0" lang="ru-RU" sz="2400" spc="-1" strike="noStrike">
                <a:solidFill>
                  <a:srgbClr val="3311fd"/>
                </a:solidFill>
                <a:latin typeface="Arial"/>
                <a:ea typeface="Arial"/>
              </a:rPr>
              <a:t>S- </a:t>
            </a:r>
            <a:r>
              <a:rPr b="0" lang="ru-RU" sz="2400" spc="-1" strike="noStrike">
                <a:solidFill>
                  <a:srgbClr val="3311fd"/>
                </a:solidFill>
                <a:latin typeface="Arial"/>
              </a:rPr>
              <a:t>и L-диапазона, т.к. локация на разных длинах волн позволяет оценивать  диэлектрические  свойства  поверхнос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Скругленный прямоугольник 2"/>
          <p:cNvSpPr/>
          <p:nvPr/>
        </p:nvSpPr>
        <p:spPr>
          <a:xfrm>
            <a:off x="189000" y="907920"/>
            <a:ext cx="9574200" cy="5791320"/>
          </a:xfrm>
          <a:prstGeom prst="roundRect">
            <a:avLst>
              <a:gd name="adj" fmla="val 8338"/>
            </a:avLst>
          </a:prstGeom>
          <a:noFill/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оугольник 3"/>
          <p:cNvSpPr/>
          <p:nvPr/>
        </p:nvSpPr>
        <p:spPr>
          <a:xfrm>
            <a:off x="0" y="0"/>
            <a:ext cx="99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спользование сигналов L-, S-, Х- диапазонов согласуется и с другими функциональными задачами космического 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44" descr="астероид-1.jpg"/>
          <p:cNvPicPr/>
          <p:nvPr/>
        </p:nvPicPr>
        <p:blipFill>
          <a:blip r:embed="rId1"/>
          <a:srcRect l="8189" t="3207" r="9344" b="7184"/>
          <a:stretch/>
        </p:blipFill>
        <p:spPr>
          <a:xfrm>
            <a:off x="5724360" y="6264360"/>
            <a:ext cx="563760" cy="50328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45" descr="астероид-3.jpg"/>
          <p:cNvPicPr/>
          <p:nvPr/>
        </p:nvPicPr>
        <p:blipFill>
          <a:blip r:embed="rId2"/>
          <a:srcRect l="2801" t="0" r="49807" b="38172"/>
          <a:stretch/>
        </p:blipFill>
        <p:spPr>
          <a:xfrm rot="2488800">
            <a:off x="6264000" y="6300720"/>
            <a:ext cx="530280" cy="46692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43" descr="астероид-2.jpg"/>
          <p:cNvPicPr/>
          <p:nvPr/>
        </p:nvPicPr>
        <p:blipFill>
          <a:blip r:embed="rId3"/>
          <a:srcRect l="2287" t="19484" r="33125" b="22065"/>
          <a:stretch/>
        </p:blipFill>
        <p:spPr>
          <a:xfrm>
            <a:off x="6453360" y="6083280"/>
            <a:ext cx="336240" cy="25236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2" descr="Земля крутится.gif"/>
          <p:cNvPicPr/>
          <p:nvPr/>
        </p:nvPicPr>
        <p:blipFill>
          <a:blip r:embed="rId4"/>
          <a:stretch/>
        </p:blipFill>
        <p:spPr>
          <a:xfrm>
            <a:off x="5419800" y="2852640"/>
            <a:ext cx="1341360" cy="112896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14" descr="Прозр_комета.png"/>
          <p:cNvPicPr/>
          <p:nvPr/>
        </p:nvPicPr>
        <p:blipFill>
          <a:blip r:embed="rId5"/>
          <a:stretch/>
        </p:blipFill>
        <p:spPr>
          <a:xfrm rot="1860000">
            <a:off x="8929440" y="4735440"/>
            <a:ext cx="1042920" cy="473040"/>
          </a:xfrm>
          <a:prstGeom prst="rect">
            <a:avLst/>
          </a:prstGeom>
          <a:ln w="0">
            <a:noFill/>
          </a:ln>
        </p:spPr>
      </p:pic>
      <p:pic>
        <p:nvPicPr>
          <p:cNvPr id="305" name="Rectangle 13" descr=""/>
          <p:cNvPicPr/>
          <p:nvPr/>
        </p:nvPicPr>
        <p:blipFill>
          <a:blip r:embed="rId6"/>
          <a:stretch/>
        </p:blipFill>
        <p:spPr>
          <a:xfrm>
            <a:off x="-6480" y="0"/>
            <a:ext cx="8766360" cy="48096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16"/>
          <p:cNvSpPr/>
          <p:nvPr/>
        </p:nvSpPr>
        <p:spPr>
          <a:xfrm>
            <a:off x="1136520" y="6337440"/>
            <a:ext cx="428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2f2f2"/>
                </a:solidFill>
                <a:latin typeface="Arial"/>
              </a:rPr>
              <a:t>ИНСТИТУТ  РАДИОТЕХНИКИ  И  ЭЛЕКТРОНИ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2f2f2"/>
                </a:solidFill>
                <a:latin typeface="Arial"/>
              </a:rPr>
              <a:t>им. В.А. Котельникова  РАН, </a:t>
            </a:r>
            <a:r>
              <a:rPr b="1" i="1" lang="en-US" sz="1300" spc="-1" strike="noStrike">
                <a:solidFill>
                  <a:srgbClr val="f2f2f2"/>
                </a:solidFill>
                <a:latin typeface="Arial"/>
              </a:rPr>
              <a:t>Фрязинский филиа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http://www.laspace.ru/images/venerad09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13560" y="1914480"/>
            <a:ext cx="469800" cy="45072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14" descr="Рис1.jpg"/>
          <p:cNvPicPr/>
          <p:nvPr/>
        </p:nvPicPr>
        <p:blipFill>
          <a:blip r:embed="rId9"/>
          <a:stretch/>
        </p:blipFill>
        <p:spPr>
          <a:xfrm>
            <a:off x="5675400" y="2992320"/>
            <a:ext cx="871560" cy="854280"/>
          </a:xfrm>
          <a:prstGeom prst="rect">
            <a:avLst/>
          </a:prstGeom>
          <a:ln w="0">
            <a:noFill/>
          </a:ln>
        </p:spPr>
      </p:pic>
      <p:grpSp>
        <p:nvGrpSpPr>
          <p:cNvPr id="309" name="Группа 16"/>
          <p:cNvGrpSpPr/>
          <p:nvPr/>
        </p:nvGrpSpPr>
        <p:grpSpPr>
          <a:xfrm>
            <a:off x="-155160" y="4725360"/>
            <a:ext cx="2315160" cy="2271600"/>
            <a:chOff x="-155160" y="4725360"/>
            <a:chExt cx="2315160" cy="2271600"/>
          </a:xfrm>
        </p:grpSpPr>
        <p:pic>
          <p:nvPicPr>
            <p:cNvPr id="310" name="Рисунок 10" descr="Земля.png"/>
            <p:cNvPicPr/>
            <p:nvPr/>
          </p:nvPicPr>
          <p:blipFill>
            <a:blip r:embed="rId10"/>
            <a:stretch/>
          </p:blipFill>
          <p:spPr>
            <a:xfrm rot="18236400">
              <a:off x="33480" y="5694480"/>
              <a:ext cx="1141920" cy="106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Рисунок 18" descr="Антенна.PNG"/>
            <p:cNvPicPr/>
            <p:nvPr/>
          </p:nvPicPr>
          <p:blipFill>
            <a:blip r:embed="rId11"/>
            <a:stretch/>
          </p:blipFill>
          <p:spPr>
            <a:xfrm flipH="1" rot="2736600">
              <a:off x="437040" y="5166360"/>
              <a:ext cx="1631160" cy="94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2" name="Picture 4" descr="http://www.laspace.ru/images/venerad09s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9200" y="5797440"/>
            <a:ext cx="470160" cy="451080"/>
          </a:xfrm>
          <a:prstGeom prst="rect">
            <a:avLst/>
          </a:prstGeom>
          <a:ln w="0">
            <a:noFill/>
          </a:ln>
        </p:spPr>
      </p:pic>
      <p:grpSp>
        <p:nvGrpSpPr>
          <p:cNvPr id="313" name="Группа 21"/>
          <p:cNvGrpSpPr/>
          <p:nvPr/>
        </p:nvGrpSpPr>
        <p:grpSpPr>
          <a:xfrm>
            <a:off x="5836320" y="2151360"/>
            <a:ext cx="861120" cy="628200"/>
            <a:chOff x="5836320" y="2151360"/>
            <a:chExt cx="861120" cy="628200"/>
          </a:xfrm>
        </p:grpSpPr>
        <p:cxnSp>
          <p:nvCxnSpPr>
            <p:cNvPr id="314" name="Прямая со стрелкой 23"/>
            <p:cNvCxnSpPr/>
            <p:nvPr/>
          </p:nvCxnSpPr>
          <p:spPr>
            <a:xfrm flipH="1">
              <a:off x="5836320" y="2151360"/>
              <a:ext cx="823680" cy="551160"/>
            </a:xfrm>
            <a:prstGeom prst="straightConnector1">
              <a:avLst/>
            </a:prstGeom>
            <a:ln cap="rnd" w="12600">
              <a:solidFill>
                <a:srgbClr val="ff0000"/>
              </a:solidFill>
              <a:custDash>
                <a:ds d="300000" sp="1000"/>
              </a:custDash>
              <a:miter/>
              <a:tailEnd len="lg" type="stealth" w="med"/>
            </a:ln>
          </p:spPr>
        </p:cxnSp>
        <p:cxnSp>
          <p:nvCxnSpPr>
            <p:cNvPr id="315" name="Прямая со стрелкой 24"/>
            <p:cNvCxnSpPr/>
            <p:nvPr/>
          </p:nvCxnSpPr>
          <p:spPr>
            <a:xfrm flipH="1">
              <a:off x="5875560" y="2226600"/>
              <a:ext cx="822240" cy="553320"/>
            </a:xfrm>
            <a:prstGeom prst="straightConnector1">
              <a:avLst/>
            </a:prstGeom>
            <a:ln w="12600">
              <a:solidFill>
                <a:srgbClr val="ff0000"/>
              </a:solidFill>
              <a:prstDash val="sysDash"/>
              <a:miter/>
              <a:tailEnd len="lg" type="stealth" w="med"/>
            </a:ln>
          </p:spPr>
        </p:cxnSp>
      </p:grpSp>
      <p:pic>
        <p:nvPicPr>
          <p:cNvPr id="316" name="Рисунок 5" descr="Солнце.gif"/>
          <p:cNvPicPr/>
          <p:nvPr/>
        </p:nvPicPr>
        <p:blipFill>
          <a:blip r:embed="rId14"/>
          <a:stretch/>
        </p:blipFill>
        <p:spPr>
          <a:xfrm>
            <a:off x="7095960" y="4643280"/>
            <a:ext cx="2214720" cy="221472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20"/>
          <p:cNvSpPr/>
          <p:nvPr/>
        </p:nvSpPr>
        <p:spPr>
          <a:xfrm rot="21100800">
            <a:off x="1386360" y="51926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Прямая со стрелкой 25"/>
          <p:cNvCxnSpPr/>
          <p:nvPr/>
        </p:nvCxnSpPr>
        <p:spPr>
          <a:xfrm flipV="1">
            <a:off x="1309320" y="3857400"/>
            <a:ext cx="4143600" cy="1715040"/>
          </a:xfrm>
          <a:prstGeom prst="straightConnector1">
            <a:avLst/>
          </a:prstGeom>
          <a:ln w="19080">
            <a:solidFill>
              <a:srgbClr val="ff0000"/>
            </a:solidFill>
            <a:prstDash val="lgDash"/>
            <a:miter/>
            <a:tailEnd len="lg" type="stealth" w="med"/>
          </a:ln>
        </p:spPr>
      </p:cxnSp>
      <p:cxnSp>
        <p:nvCxnSpPr>
          <p:cNvPr id="319" name="Прямая со стрелкой 32"/>
          <p:cNvCxnSpPr/>
          <p:nvPr/>
        </p:nvCxnSpPr>
        <p:spPr>
          <a:xfrm flipV="1">
            <a:off x="1738080" y="3742560"/>
            <a:ext cx="4143600" cy="1715400"/>
          </a:xfrm>
          <a:prstGeom prst="straightConnector1">
            <a:avLst/>
          </a:prstGeom>
          <a:ln w="19080">
            <a:solidFill>
              <a:srgbClr val="ff0000"/>
            </a:solidFill>
            <a:prstDash val="sysDot"/>
            <a:miter/>
            <a:headEnd len="lg" type="stealth" w="med"/>
          </a:ln>
        </p:spPr>
      </p:cxnSp>
      <p:sp>
        <p:nvSpPr>
          <p:cNvPr id="320" name="Прямоугольник 41"/>
          <p:cNvSpPr/>
          <p:nvPr/>
        </p:nvSpPr>
        <p:spPr>
          <a:xfrm rot="21100800">
            <a:off x="1406520" y="5202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42"/>
          <p:cNvSpPr/>
          <p:nvPr/>
        </p:nvSpPr>
        <p:spPr>
          <a:xfrm rot="21100800">
            <a:off x="1406160" y="51606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7" descr="Рисунок1_прозр.png"/>
          <p:cNvPicPr/>
          <p:nvPr/>
        </p:nvPicPr>
        <p:blipFill>
          <a:blip r:embed="rId15"/>
          <a:stretch/>
        </p:blipFill>
        <p:spPr>
          <a:xfrm>
            <a:off x="9056520" y="55440"/>
            <a:ext cx="782640" cy="78264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27"/>
          <p:cNvSpPr/>
          <p:nvPr/>
        </p:nvSpPr>
        <p:spPr>
          <a:xfrm>
            <a:off x="57240" y="600120"/>
            <a:ext cx="5759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◊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илась радиолокация Луны, Марса, Вен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◊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ылались сигналы  другим цивилизац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◊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ялось радиопросвечивание обол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ны, Марса, Венеры, Солнца, кометы Гал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◊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учена первая радиолокационная к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ерхности Вен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◊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илась радиолокация астероидов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смического мус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◊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ились интерферометр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спери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 эти эксперименты выполня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антеннах  АДУ-1000   и   РТ-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evt="end">
                                        <p:tn val="10"/>
                                      </p:cond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68984E-008 -3.7037E-007 L 0.81224 -0.21991 E">
                                      <p:cBhvr>
                                        <p:cTn id="20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evt="end">
                                        <p:tn val="19"/>
                                      </p:cond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5854E-006 3.33333E-006 L 0.81112 -0.22246 E">
                                      <p:cBhvr>
                                        <p:cTn id="28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evt="end">
                                        <p:tn val="27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09072E-007 0.00046 L 0.79596 -0.21624 E">
                                      <p:cBhvr>
                                        <p:cTn id="36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12821E-007 7.40741E-007 L -0.00705 -0.04306 L -0.00176 -0.09051 L 0.0125 -0.14352 L 0.04519 -0.20486 L 0.07981 -0.23796 L 0.12115 -0.27477 L 0.15577 -0.29676 C 0.17083 -0.30625 0.18942 -0.31968 0.21074 -0.33357 C 0.23205 -0.34745 0.25881 -0.36482 0.28349 -0.38032 C 0.30881 -0.39583 0.33734 -0.41296 0.36074 -0.42662 C 0.38381 -0.44028 0.39487 -0.44537 0.42308 -0.46273 L 0.52853 -0.53079 L 0.57676 -0.55995 L 0.60208 -0.57222 L 0.6359 -0.5875 L 0.66827 -0.58611 L 0.6891 -0.575 L 0.70337 -0.56551 L 0.7242 -0.53773 L 0.72997 -0.50995 L 0.73189 -0.49468 E">
                                      <p:cBhvr>
                                        <p:cTn id="40" dur="3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evt="end">
                                        <p:tn val="39"/>
                                      </p:cond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1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6378 0.02893 C 0.09599 0.08865 0.07692 0.18634 0.02276 0.24583 C -0.03173 0.30486 -0.10128 0.30439 -0.13189 0.24398 C -0.16378 0.18426 -0.14567 0.0875 -0.09119 0.02893 C -0.0367 -0.02963 0.03189 -0.03125 0.06378 0.02893 Z">
                                      <p:cBhvr>
                                        <p:cTn id="46" dur="7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1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7051 0.02662 C 0.10464 0.0875 0.0883 0.18912 0.03397 0.25139 C -0.01924 0.31435 -0.08991 0.31458 -0.12404 0.25416 C -0.15834 0.19305 -0.14279 0.09375 -0.08911 0.03102 C -0.03542 -0.03195 0.03589 -0.03449 0.07051 0.02662 Z">
                                      <p:cBhvr>
                                        <p:cTn id="51" dur="7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2" repeatCount="indefinite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2" repeatCount="100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56" repeatCount="1000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0.41273 -0.44403 L -0.00946 -0.01295 E">
                                      <p:cBhvr>
                                        <p:cTn id="59" dur="7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0"/>
                            </p:stCondLst>
                            <p:childTnLst>
                              <p:par>
                                <p:cTn id="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7554E-006 3.41351E-006 L -0.44479 -0.74052 E">
                                      <p:cBhvr>
                                        <p:cTn id="6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evt="end">
                                        <p:tn val="66"/>
                                      </p:cond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8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8500"/>
                            </p:stCondLst>
                            <p:childTnLst>
                              <p:par>
                                <p:cTn id="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62863E-007 3.60777E-006 L -0.60987 -0.78793 E">
                                      <p:cBhvr>
                                        <p:cTn id="75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evt="end">
                                        <p:tn val="74"/>
                                      </p:cond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5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1000"/>
                            </p:stCondLst>
                            <p:childTnLst>
                              <p:par>
                                <p:cTn id="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82898E-006 -1.18409E-006 L -0.59337 -0.59644 E">
                                      <p:cBhvr>
                                        <p:cTn id="83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evt="end">
                                        <p:tn val="82"/>
                                      </p:cond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5"/>
          <p:cNvSpPr/>
          <p:nvPr/>
        </p:nvSpPr>
        <p:spPr>
          <a:xfrm>
            <a:off x="272880" y="1146960"/>
            <a:ext cx="964908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1. Уровень научных исследований сильно зависит от объема передавае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на Землю научной информации. Поэтому долго функционирующий О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должен быть оборудован антенной большого диаметра и иметь высо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энергообеспечение, чтобы скорость передачи данных на Землю была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менее 500 Кбод/с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2. Излучения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когерентных сигналов с борта ОА является постоянным атр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бутом иностранных межпланетных миссий. В проекте ВЕНЕРА-Д целесооб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азно разработать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3-х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диапазонную антенну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-, S-,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Х- диапазоны) и ког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ентные излучающие устройства, позволяющие одновременно излучать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монохроматических сигнала. Высокое энергообеспечение ОА, необходи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для двухчастотного просвечивания длительностью 1 час,  согласуется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требованием увеличения скорости передачи телеметрическо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3.  Наземный комплекс должен иметь тракты, приемную аппаратуру и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регистрации данных, позволяющую  получать данные  для  </a:t>
            </a:r>
            <a:r>
              <a:rPr b="0" lang="en-US" sz="2000" spc="-1" strike="noStrike">
                <a:solidFill>
                  <a:srgbClr val="da0000"/>
                </a:solidFill>
                <a:latin typeface="Arial"/>
              </a:rPr>
              <a:t>L-, S-, 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Х- диап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зонов на двух ортогональных поляризация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Скругленный прямоугольник 5"/>
          <p:cNvSpPr/>
          <p:nvPr/>
        </p:nvSpPr>
        <p:spPr>
          <a:xfrm>
            <a:off x="189000" y="1125360"/>
            <a:ext cx="9574200" cy="4967640"/>
          </a:xfrm>
          <a:prstGeom prst="roundRect">
            <a:avLst>
              <a:gd name="adj" fmla="val 8338"/>
            </a:avLst>
          </a:prstGeom>
          <a:noFill/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1252080" y="47880"/>
            <a:ext cx="740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Актуаль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для обеспечения качественно нового уровня исследо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в проекте ВЕНЕРА-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6"/>
          <p:cNvSpPr/>
          <p:nvPr/>
        </p:nvSpPr>
        <p:spPr>
          <a:xfrm>
            <a:off x="71280" y="6237360"/>
            <a:ext cx="97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ая аппаратура может применяться во всех отечественных межпланетных мисс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5"/>
          <p:cNvSpPr/>
          <p:nvPr/>
        </p:nvSpPr>
        <p:spPr>
          <a:xfrm>
            <a:off x="200160" y="1310760"/>
            <a:ext cx="96487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4. В проекте ВЕНЕРА-Д необходима высокоскоростная радиолиния для пер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дачи  научной информации с борта СС на борт ОА. Целесообразно разраб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тать 3-х диапазонную приемо-передающую антенну (L-, S-, Х- диапазоны)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когерентные излучающие устройства, позволяющие одновременно излуч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2  монохроматических сигнала. Энергообеспечение СС, необходимое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двухчастотного просвечивания на трассе спутник</a:t>
            </a:r>
            <a:r>
              <a:rPr b="0" lang="ru-RU" sz="2000" spc="-1" strike="noStrike">
                <a:solidFill>
                  <a:srgbClr val="da0000"/>
                </a:solidFill>
                <a:latin typeface="Times New Roman"/>
                <a:ea typeface="Times New Roman"/>
              </a:rPr>
              <a:t>→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  <a:ea typeface="Arial"/>
              </a:rPr>
              <a:t>спутник,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  согласуется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требованием увеличения скорости передачи телеметрическо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5. Целесообразно разработать универсальный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3-х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диапазонный  (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-, S-,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Х- д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апазоны) бортовой приемник для реализации экспериментов просвеч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на трассе СС→ОА. Такой приемник может использоваться  и для об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данных на Земле. Самое существенное: разработка бортового прием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для 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-, S-,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Х- диапазонов необходима для реализации новых экспери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адиопросвечивания на трассах Земля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→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ОА и Земля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→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СС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Скругленный прямоугольник 5"/>
          <p:cNvSpPr/>
          <p:nvPr/>
        </p:nvSpPr>
        <p:spPr>
          <a:xfrm>
            <a:off x="189000" y="1125360"/>
            <a:ext cx="9574200" cy="4967640"/>
          </a:xfrm>
          <a:prstGeom prst="roundRect">
            <a:avLst>
              <a:gd name="adj" fmla="val 8338"/>
            </a:avLst>
          </a:prstGeom>
          <a:noFill/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1252080" y="47880"/>
            <a:ext cx="740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Актуаль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для обеспечения качественно нового уровня исследо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в проекте ВЕНЕРА-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6"/>
          <p:cNvSpPr/>
          <p:nvPr/>
        </p:nvSpPr>
        <p:spPr>
          <a:xfrm>
            <a:off x="71280" y="6237360"/>
            <a:ext cx="97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ая аппаратура может применяться во всех отечественных межпланетных мисс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5"/>
          <p:cNvSpPr/>
          <p:nvPr/>
        </p:nvSpPr>
        <p:spPr>
          <a:xfrm>
            <a:off x="200160" y="1421640"/>
            <a:ext cx="9848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6. Качество  радиофизических исследований существенно возрастет, е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обеспечить возможность одновременного излучения </a:t>
            </a:r>
            <a:r>
              <a:rPr b="1" lang="ru-RU" sz="2000" spc="-1" strike="noStrike">
                <a:solidFill>
                  <a:srgbClr val="da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 когерентных сигн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da0000"/>
                </a:solidFill>
                <a:latin typeface="Arial"/>
              </a:rPr>
              <a:t>L-, S-, 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Х- диапазоны) антенной  РТ-70 и приема этих сигналов на борту О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и СС. Такую схему экспериментов просвечивания можно будет примен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при исследованиях всех планет солнечной системы, т.к. она обеспеч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высокое  отношение  сигнал/шум  на  входе  прием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7. Разработка технических средств для эксперимента радиопросвечивания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трассе Земля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→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ОА  качественно изменит уровень отечественных исслед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аний. Создание универсального многофункционального комплекса, необх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димо для всех радиофизических экспериментов: и для радиолокации, 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бистатической локации, и для радиопросвечивания на нескольких трас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Земля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→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ОА,   Земля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→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СС,   СС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→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О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Скругленный прямоугольник 5"/>
          <p:cNvSpPr/>
          <p:nvPr/>
        </p:nvSpPr>
        <p:spPr>
          <a:xfrm>
            <a:off x="189000" y="1125360"/>
            <a:ext cx="9574200" cy="4967640"/>
          </a:xfrm>
          <a:prstGeom prst="roundRect">
            <a:avLst>
              <a:gd name="adj" fmla="val 8338"/>
            </a:avLst>
          </a:prstGeom>
          <a:noFill/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1252080" y="47880"/>
            <a:ext cx="740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Актуаль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для обеспечения качественно нового уровня исследо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в проекте ВЕНЕРА-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6"/>
          <p:cNvSpPr/>
          <p:nvPr/>
        </p:nvSpPr>
        <p:spPr>
          <a:xfrm>
            <a:off x="71280" y="6237360"/>
            <a:ext cx="97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ая аппаратура может применяться во всех отечественных космических проект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Box 1"/>
          <p:cNvSpPr/>
          <p:nvPr/>
        </p:nvSpPr>
        <p:spPr>
          <a:xfrm>
            <a:off x="3624840" y="11592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2"/>
          <p:cNvSpPr/>
          <p:nvPr/>
        </p:nvSpPr>
        <p:spPr>
          <a:xfrm>
            <a:off x="214200" y="836640"/>
            <a:ext cx="9563040" cy="57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сформулировать концепцию развития радиотехнического комплекса на близкую и далекую перспективу космических исслед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этой целью необходимо создать рабочую группу, включающую широкий круг  заинтересованных  специалистов,   которая  рассмотрит  научные   и технические  возможности  модернизации  комплекса  с  целью  разработки реализуемой программы космических исслед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ей рабочей группы  является подготовка  конкретных предложений по  модернизации  радиотехнического  комплекса  для  включения  основных идей  в  программу  космических  исслед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Работа выполнена при частичной поддержк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d2711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d2711"/>
                </a:solidFill>
                <a:latin typeface="Arial"/>
              </a:rPr>
              <a:t>программы Президиума РАН №VI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торы выражают благодарность   Н.А. Арман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 обсуждение этих предложени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Скругленный прямоугольник 3"/>
          <p:cNvSpPr/>
          <p:nvPr/>
        </p:nvSpPr>
        <p:spPr>
          <a:xfrm>
            <a:off x="166680" y="765000"/>
            <a:ext cx="9644040" cy="6000840"/>
          </a:xfrm>
          <a:prstGeom prst="roundRect">
            <a:avLst>
              <a:gd name="adj" fmla="val 7565"/>
            </a:avLst>
          </a:prstGeom>
          <a:noFill/>
          <a:ln cap="rnd" w="7920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2397240" y="587700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"/>
              </a:rPr>
              <a:t>Спасибо  за 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65960" y="5013360"/>
            <a:ext cx="17841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55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3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Скругленный прямоугольник 4"/>
          <p:cNvSpPr/>
          <p:nvPr/>
        </p:nvSpPr>
        <p:spPr>
          <a:xfrm>
            <a:off x="38160" y="692280"/>
            <a:ext cx="9829800" cy="4566960"/>
          </a:xfrm>
          <a:prstGeom prst="roundRect">
            <a:avLst>
              <a:gd name="adj" fmla="val 8338"/>
            </a:avLst>
          </a:prstGeom>
          <a:noFill/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6"/>
          <p:cNvSpPr/>
          <p:nvPr/>
        </p:nvSpPr>
        <p:spPr>
          <a:xfrm>
            <a:off x="55440" y="5376960"/>
            <a:ext cx="985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Функции комплекса во всех экспериментах аналогич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излучать  мощные сигналы  с  Земли   и  с  б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обеспечить прием сигналов  на Земле  и  на бор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5"/>
          <p:cNvSpPr/>
          <p:nvPr/>
        </p:nvSpPr>
        <p:spPr>
          <a:xfrm>
            <a:off x="0" y="11592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ые функции радиофизических комплексов РТ-70,  ОА  и 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7"/>
          <p:cNvSpPr/>
          <p:nvPr/>
        </p:nvSpPr>
        <p:spPr>
          <a:xfrm>
            <a:off x="57240" y="826920"/>
            <a:ext cx="984888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.   Управление межпланетными станциями и сброс информации на Зем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злучение мощных сигналов с Земли, с борта ОА, с борта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ием сигналов на Земле,  на борту ОА,  на борту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.   Радиолокация  планет,  комет,  астероидов,  космического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злучение мощных сигналов и прием эхо-сигнал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Зем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.   Интерферометрические экспери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ием сигналов в нескольких наземных пунк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.    Эксперименты радиопросвечивания  и  бистатической радиоло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злучение мощных сигналов с борта ОА  и прием  на Зем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злучение мощных сигналов с Земли, прием на борту ОА и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злучение мощных сигналов с борта ОА  и прием на борту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125" descr="Полукруг_ион_Вен.PNG"/>
          <p:cNvPicPr/>
          <p:nvPr/>
        </p:nvPicPr>
        <p:blipFill>
          <a:blip r:embed="rId1"/>
          <a:srcRect l="0" t="0" r="0" b="1909"/>
          <a:stretch/>
        </p:blipFill>
        <p:spPr>
          <a:xfrm>
            <a:off x="77760" y="3176640"/>
            <a:ext cx="9039240" cy="3681360"/>
          </a:xfrm>
          <a:prstGeom prst="rect">
            <a:avLst/>
          </a:prstGeom>
          <a:ln w="0">
            <a:noFill/>
          </a:ln>
        </p:spPr>
      </p:pic>
      <p:grpSp>
        <p:nvGrpSpPr>
          <p:cNvPr id="329" name="Группа 129"/>
          <p:cNvGrpSpPr/>
          <p:nvPr/>
        </p:nvGrpSpPr>
        <p:grpSpPr>
          <a:xfrm>
            <a:off x="2203560" y="2580120"/>
            <a:ext cx="7662600" cy="546480"/>
            <a:chOff x="2203560" y="2580120"/>
            <a:chExt cx="7662600" cy="546480"/>
          </a:xfrm>
        </p:grpSpPr>
        <p:pic>
          <p:nvPicPr>
            <p:cNvPr id="330" name="Picture 37" descr=""/>
            <p:cNvPicPr/>
            <p:nvPr/>
          </p:nvPicPr>
          <p:blipFill>
            <a:blip r:embed="rId2"/>
            <a:stretch/>
          </p:blipFill>
          <p:spPr>
            <a:xfrm rot="19200000">
              <a:off x="2236320" y="2709360"/>
              <a:ext cx="507240" cy="2876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31" name="Прямая со стрелкой 81"/>
            <p:cNvCxnSpPr/>
            <p:nvPr/>
          </p:nvCxnSpPr>
          <p:spPr>
            <a:xfrm>
              <a:off x="2688480" y="2892240"/>
              <a:ext cx="71780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stealth" w="med"/>
            </a:ln>
          </p:spPr>
        </p:cxnSp>
      </p:grpSp>
      <p:grpSp>
        <p:nvGrpSpPr>
          <p:cNvPr id="332" name="Группа 139"/>
          <p:cNvGrpSpPr/>
          <p:nvPr/>
        </p:nvGrpSpPr>
        <p:grpSpPr>
          <a:xfrm>
            <a:off x="1955880" y="2726280"/>
            <a:ext cx="7910280" cy="546120"/>
            <a:chOff x="1955880" y="2726280"/>
            <a:chExt cx="7910280" cy="546120"/>
          </a:xfrm>
        </p:grpSpPr>
        <p:pic>
          <p:nvPicPr>
            <p:cNvPr id="333" name="Picture 37" descr=""/>
            <p:cNvPicPr/>
            <p:nvPr/>
          </p:nvPicPr>
          <p:blipFill>
            <a:blip r:embed="rId3"/>
            <a:stretch/>
          </p:blipFill>
          <p:spPr>
            <a:xfrm rot="19200000">
              <a:off x="1988640" y="2855520"/>
              <a:ext cx="507240" cy="287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34" name="Прямая со стрелкой 141"/>
            <p:cNvCxnSpPr/>
            <p:nvPr/>
          </p:nvCxnSpPr>
          <p:spPr>
            <a:xfrm>
              <a:off x="2456640" y="3038040"/>
              <a:ext cx="74098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stealth" w="med"/>
            </a:ln>
          </p:spPr>
        </p:cxnSp>
      </p:grpSp>
      <p:grpSp>
        <p:nvGrpSpPr>
          <p:cNvPr id="335" name="Группа 76"/>
          <p:cNvGrpSpPr/>
          <p:nvPr/>
        </p:nvGrpSpPr>
        <p:grpSpPr>
          <a:xfrm>
            <a:off x="4565520" y="2879640"/>
            <a:ext cx="5140440" cy="3589560"/>
            <a:chOff x="4565520" y="2879640"/>
            <a:chExt cx="5140440" cy="3589560"/>
          </a:xfrm>
        </p:grpSpPr>
        <p:graphicFrame>
          <p:nvGraphicFramePr>
            <p:cNvPr id="336" name="Object 66"/>
            <p:cNvGraphicFramePr/>
            <p:nvPr/>
          </p:nvGraphicFramePr>
          <p:xfrm>
            <a:off x="8512560" y="2900160"/>
            <a:ext cx="1193400" cy="3553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7" name="Object 6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512560" y="2900160"/>
                      <a:ext cx="1193400" cy="355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8" name="Прямая соединительная линия 82"/>
            <p:cNvSpPr/>
            <p:nvPr/>
          </p:nvSpPr>
          <p:spPr>
            <a:xfrm flipH="1">
              <a:off x="4565520" y="3166920"/>
              <a:ext cx="1440" cy="2500560"/>
            </a:xfrm>
            <a:prstGeom prst="line">
              <a:avLst/>
            </a:prstGeom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Прямая соединительная линия 83"/>
            <p:cNvSpPr/>
            <p:nvPr/>
          </p:nvSpPr>
          <p:spPr>
            <a:xfrm>
              <a:off x="4565520" y="5524560"/>
              <a:ext cx="155520" cy="1440"/>
            </a:xfrm>
            <a:prstGeom prst="line">
              <a:avLst/>
            </a:prstGeom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Прямая соединительная линия 84"/>
            <p:cNvSpPr/>
            <p:nvPr/>
          </p:nvSpPr>
          <p:spPr>
            <a:xfrm>
              <a:off x="4565520" y="4810320"/>
              <a:ext cx="1547640" cy="1440"/>
            </a:xfrm>
            <a:prstGeom prst="line">
              <a:avLst/>
            </a:prstGeom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Прямая соединительная линия 85"/>
            <p:cNvSpPr/>
            <p:nvPr/>
          </p:nvSpPr>
          <p:spPr>
            <a:xfrm>
              <a:off x="4565520" y="4667400"/>
              <a:ext cx="1469880" cy="1440"/>
            </a:xfrm>
            <a:prstGeom prst="line">
              <a:avLst/>
            </a:prstGeom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86"/>
            <p:cNvSpPr/>
            <p:nvPr/>
          </p:nvSpPr>
          <p:spPr>
            <a:xfrm>
              <a:off x="4565520" y="4524480"/>
              <a:ext cx="1393920" cy="1440"/>
            </a:xfrm>
            <a:prstGeom prst="line">
              <a:avLst/>
            </a:prstGeom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87"/>
            <p:cNvSpPr/>
            <p:nvPr/>
          </p:nvSpPr>
          <p:spPr>
            <a:xfrm>
              <a:off x="4565520" y="4381560"/>
              <a:ext cx="1315800" cy="1440"/>
            </a:xfrm>
            <a:prstGeom prst="line">
              <a:avLst/>
            </a:prstGeom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Прямая соединительная линия 88"/>
            <p:cNvSpPr/>
            <p:nvPr/>
          </p:nvSpPr>
          <p:spPr>
            <a:xfrm>
              <a:off x="4565520" y="4238640"/>
              <a:ext cx="1238040" cy="1440"/>
            </a:xfrm>
            <a:prstGeom prst="line">
              <a:avLst/>
            </a:prstGeom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Прямая соединительная линия 89"/>
            <p:cNvSpPr/>
            <p:nvPr/>
          </p:nvSpPr>
          <p:spPr>
            <a:xfrm>
              <a:off x="4565520" y="4095720"/>
              <a:ext cx="1160280" cy="1440"/>
            </a:xfrm>
            <a:prstGeom prst="line">
              <a:avLst/>
            </a:prstGeom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Прямая соединительная линия 90"/>
            <p:cNvSpPr/>
            <p:nvPr/>
          </p:nvSpPr>
          <p:spPr>
            <a:xfrm>
              <a:off x="4643280" y="4953240"/>
              <a:ext cx="1392120" cy="1440"/>
            </a:xfrm>
            <a:prstGeom prst="line">
              <a:avLst/>
            </a:prstGeom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Прямая соединительная линия 91"/>
            <p:cNvSpPr/>
            <p:nvPr/>
          </p:nvSpPr>
          <p:spPr>
            <a:xfrm>
              <a:off x="4565520" y="5095800"/>
              <a:ext cx="1393920" cy="1440"/>
            </a:xfrm>
            <a:prstGeom prst="line">
              <a:avLst/>
            </a:prstGeom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Прямая соединительная линия 92"/>
            <p:cNvSpPr/>
            <p:nvPr/>
          </p:nvSpPr>
          <p:spPr>
            <a:xfrm>
              <a:off x="4565520" y="5238720"/>
              <a:ext cx="1084320" cy="1440"/>
            </a:xfrm>
            <a:prstGeom prst="line">
              <a:avLst/>
            </a:prstGeom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Прямая соединительная линия 93"/>
            <p:cNvSpPr/>
            <p:nvPr/>
          </p:nvSpPr>
          <p:spPr>
            <a:xfrm>
              <a:off x="4565520" y="5381640"/>
              <a:ext cx="618840" cy="1440"/>
            </a:xfrm>
            <a:prstGeom prst="line">
              <a:avLst/>
            </a:prstGeom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Прямая соединительная линия 94"/>
            <p:cNvSpPr/>
            <p:nvPr/>
          </p:nvSpPr>
          <p:spPr>
            <a:xfrm>
              <a:off x="4565520" y="3952800"/>
              <a:ext cx="1084320" cy="1440"/>
            </a:xfrm>
            <a:prstGeom prst="line">
              <a:avLst/>
            </a:prstGeom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Прямая соединительная линия 95"/>
            <p:cNvSpPr/>
            <p:nvPr/>
          </p:nvSpPr>
          <p:spPr>
            <a:xfrm>
              <a:off x="4565520" y="3809880"/>
              <a:ext cx="1006560" cy="1440"/>
            </a:xfrm>
            <a:prstGeom prst="line">
              <a:avLst/>
            </a:prstGeom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Прямая соединительная линия 96"/>
            <p:cNvSpPr/>
            <p:nvPr/>
          </p:nvSpPr>
          <p:spPr>
            <a:xfrm>
              <a:off x="4565520" y="3666960"/>
              <a:ext cx="1006560" cy="1440"/>
            </a:xfrm>
            <a:prstGeom prst="line">
              <a:avLst/>
            </a:prstGeom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Прямая соединительная линия 97"/>
            <p:cNvSpPr/>
            <p:nvPr/>
          </p:nvSpPr>
          <p:spPr>
            <a:xfrm>
              <a:off x="4565520" y="3524040"/>
              <a:ext cx="928440" cy="1440"/>
            </a:xfrm>
            <a:prstGeom prst="line">
              <a:avLst/>
            </a:prstGeom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Прямая соединительная линия 98"/>
            <p:cNvSpPr/>
            <p:nvPr/>
          </p:nvSpPr>
          <p:spPr>
            <a:xfrm>
              <a:off x="4565520" y="3381120"/>
              <a:ext cx="774720" cy="1440"/>
            </a:xfrm>
            <a:prstGeom prst="line">
              <a:avLst/>
            </a:prstGeom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Прямая соединительная линия 99"/>
            <p:cNvSpPr/>
            <p:nvPr/>
          </p:nvSpPr>
          <p:spPr>
            <a:xfrm>
              <a:off x="4565520" y="3238200"/>
              <a:ext cx="618840" cy="1440"/>
            </a:xfrm>
            <a:prstGeom prst="line">
              <a:avLst/>
            </a:prstGeom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56" name="Object 62"/>
            <p:cNvGraphicFramePr/>
            <p:nvPr/>
          </p:nvGraphicFramePr>
          <p:xfrm>
            <a:off x="4591080" y="2916000"/>
            <a:ext cx="1623240" cy="35532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57" name="Object 6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591080" y="2916000"/>
                      <a:ext cx="1623240" cy="355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8" name="Object 64"/>
            <p:cNvGraphicFramePr/>
            <p:nvPr/>
          </p:nvGraphicFramePr>
          <p:xfrm>
            <a:off x="6415920" y="2900160"/>
            <a:ext cx="935280" cy="3553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59" name="Object 6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415920" y="2900160"/>
                      <a:ext cx="935280" cy="355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0" name="Object 65"/>
            <p:cNvGraphicFramePr/>
            <p:nvPr/>
          </p:nvGraphicFramePr>
          <p:xfrm>
            <a:off x="7241400" y="2879640"/>
            <a:ext cx="1637280" cy="3553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1" name="Object 65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241400" y="2879640"/>
                      <a:ext cx="1637280" cy="355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2" name="Группа 42"/>
          <p:cNvGrpSpPr/>
          <p:nvPr/>
        </p:nvGrpSpPr>
        <p:grpSpPr>
          <a:xfrm>
            <a:off x="317880" y="3871080"/>
            <a:ext cx="9548640" cy="546120"/>
            <a:chOff x="317880" y="3871080"/>
            <a:chExt cx="9548640" cy="546120"/>
          </a:xfrm>
        </p:grpSpPr>
        <p:pic>
          <p:nvPicPr>
            <p:cNvPr id="363" name="Picture 37" descr=""/>
            <p:cNvPicPr/>
            <p:nvPr/>
          </p:nvPicPr>
          <p:blipFill>
            <a:blip r:embed="rId12"/>
            <a:stretch/>
          </p:blipFill>
          <p:spPr>
            <a:xfrm rot="19200000">
              <a:off x="350640" y="4000320"/>
              <a:ext cx="507240" cy="287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64" name="Прямая со стрелкой 55"/>
            <p:cNvCxnSpPr/>
            <p:nvPr/>
          </p:nvCxnSpPr>
          <p:spPr>
            <a:xfrm>
              <a:off x="858960" y="4182840"/>
              <a:ext cx="90079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stealth" w="med"/>
            </a:ln>
          </p:spPr>
        </p:cxnSp>
      </p:grpSp>
      <p:grpSp>
        <p:nvGrpSpPr>
          <p:cNvPr id="365" name="Группа 42"/>
          <p:cNvGrpSpPr/>
          <p:nvPr/>
        </p:nvGrpSpPr>
        <p:grpSpPr>
          <a:xfrm>
            <a:off x="-136440" y="5089680"/>
            <a:ext cx="10042560" cy="490320"/>
            <a:chOff x="-136440" y="5089680"/>
            <a:chExt cx="10042560" cy="490320"/>
          </a:xfrm>
        </p:grpSpPr>
        <p:pic>
          <p:nvPicPr>
            <p:cNvPr id="366" name="Picture 37" descr=""/>
            <p:cNvPicPr/>
            <p:nvPr/>
          </p:nvPicPr>
          <p:blipFill>
            <a:blip r:embed="rId13"/>
            <a:stretch/>
          </p:blipFill>
          <p:spPr>
            <a:xfrm rot="18600000">
              <a:off x="-105120" y="5198400"/>
              <a:ext cx="411120" cy="272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67" name="Прямая со стрелкой 74"/>
            <p:cNvCxnSpPr/>
            <p:nvPr/>
          </p:nvCxnSpPr>
          <p:spPr>
            <a:xfrm>
              <a:off x="272520" y="5360760"/>
              <a:ext cx="96339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stealth" w="med"/>
            </a:ln>
          </p:spPr>
        </p:cxnSp>
      </p:grpSp>
      <p:grpSp>
        <p:nvGrpSpPr>
          <p:cNvPr id="368" name="Группа 42"/>
          <p:cNvGrpSpPr/>
          <p:nvPr/>
        </p:nvGrpSpPr>
        <p:grpSpPr>
          <a:xfrm>
            <a:off x="-101160" y="4787280"/>
            <a:ext cx="9967320" cy="485280"/>
            <a:chOff x="-101160" y="4787280"/>
            <a:chExt cx="9967320" cy="485280"/>
          </a:xfrm>
        </p:grpSpPr>
        <p:pic>
          <p:nvPicPr>
            <p:cNvPr id="369" name="Picture 37" descr=""/>
            <p:cNvPicPr/>
            <p:nvPr/>
          </p:nvPicPr>
          <p:blipFill>
            <a:blip r:embed="rId14"/>
            <a:stretch/>
          </p:blipFill>
          <p:spPr>
            <a:xfrm rot="18840000">
              <a:off x="-65520" y="4893120"/>
              <a:ext cx="411120" cy="272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70" name="Прямая со стрелкой 80"/>
            <p:cNvCxnSpPr/>
            <p:nvPr/>
          </p:nvCxnSpPr>
          <p:spPr>
            <a:xfrm>
              <a:off x="272880" y="5063760"/>
              <a:ext cx="95936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stealth" w="med"/>
            </a:ln>
          </p:spPr>
        </p:cxnSp>
      </p:grpSp>
      <p:grpSp>
        <p:nvGrpSpPr>
          <p:cNvPr id="371" name="Группа 42"/>
          <p:cNvGrpSpPr/>
          <p:nvPr/>
        </p:nvGrpSpPr>
        <p:grpSpPr>
          <a:xfrm>
            <a:off x="-101520" y="4631040"/>
            <a:ext cx="9966600" cy="493200"/>
            <a:chOff x="-101520" y="4631040"/>
            <a:chExt cx="9966600" cy="493200"/>
          </a:xfrm>
        </p:grpSpPr>
        <p:pic>
          <p:nvPicPr>
            <p:cNvPr id="372" name="Picture 37" descr=""/>
            <p:cNvPicPr/>
            <p:nvPr/>
          </p:nvPicPr>
          <p:blipFill>
            <a:blip r:embed="rId15"/>
            <a:stretch/>
          </p:blipFill>
          <p:spPr>
            <a:xfrm rot="18900000">
              <a:off x="-77400" y="4751280"/>
              <a:ext cx="444960" cy="252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73" name="Прямая со стрелкой 102"/>
            <p:cNvCxnSpPr/>
            <p:nvPr/>
          </p:nvCxnSpPr>
          <p:spPr>
            <a:xfrm>
              <a:off x="311040" y="4911120"/>
              <a:ext cx="95544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stealth" w="med"/>
            </a:ln>
          </p:spPr>
        </p:cxnSp>
      </p:grpSp>
      <p:grpSp>
        <p:nvGrpSpPr>
          <p:cNvPr id="374" name="Группа 42"/>
          <p:cNvGrpSpPr/>
          <p:nvPr/>
        </p:nvGrpSpPr>
        <p:grpSpPr>
          <a:xfrm>
            <a:off x="-110880" y="4442400"/>
            <a:ext cx="9977400" cy="546120"/>
            <a:chOff x="-110880" y="4442400"/>
            <a:chExt cx="9977400" cy="546120"/>
          </a:xfrm>
        </p:grpSpPr>
        <p:pic>
          <p:nvPicPr>
            <p:cNvPr id="375" name="Picture 37" descr=""/>
            <p:cNvPicPr/>
            <p:nvPr/>
          </p:nvPicPr>
          <p:blipFill>
            <a:blip r:embed="rId16"/>
            <a:stretch/>
          </p:blipFill>
          <p:spPr>
            <a:xfrm rot="19200000">
              <a:off x="-77760" y="4571640"/>
              <a:ext cx="507240" cy="287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76" name="Прямая со стрелкой 105"/>
            <p:cNvCxnSpPr/>
            <p:nvPr/>
          </p:nvCxnSpPr>
          <p:spPr>
            <a:xfrm>
              <a:off x="428400" y="4754160"/>
              <a:ext cx="94384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stealth" w="med"/>
            </a:ln>
          </p:spPr>
        </p:cxnSp>
      </p:grpSp>
      <p:grpSp>
        <p:nvGrpSpPr>
          <p:cNvPr id="377" name="Группа 42"/>
          <p:cNvGrpSpPr/>
          <p:nvPr/>
        </p:nvGrpSpPr>
        <p:grpSpPr>
          <a:xfrm>
            <a:off x="-33120" y="4299480"/>
            <a:ext cx="9899640" cy="546120"/>
            <a:chOff x="-33120" y="4299480"/>
            <a:chExt cx="9899640" cy="546120"/>
          </a:xfrm>
        </p:grpSpPr>
        <p:pic>
          <p:nvPicPr>
            <p:cNvPr id="378" name="Picture 37" descr=""/>
            <p:cNvPicPr/>
            <p:nvPr/>
          </p:nvPicPr>
          <p:blipFill>
            <a:blip r:embed="rId17"/>
            <a:stretch/>
          </p:blipFill>
          <p:spPr>
            <a:xfrm rot="19200000">
              <a:off x="0" y="4428720"/>
              <a:ext cx="507240" cy="287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79" name="Прямая со стрелкой 108"/>
            <p:cNvCxnSpPr/>
            <p:nvPr/>
          </p:nvCxnSpPr>
          <p:spPr>
            <a:xfrm>
              <a:off x="544320" y="4611240"/>
              <a:ext cx="9322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stealth" w="med"/>
            </a:ln>
          </p:spPr>
        </p:cxnSp>
      </p:grpSp>
      <p:grpSp>
        <p:nvGrpSpPr>
          <p:cNvPr id="380" name="Группа 187"/>
          <p:cNvGrpSpPr/>
          <p:nvPr/>
        </p:nvGrpSpPr>
        <p:grpSpPr>
          <a:xfrm>
            <a:off x="-125280" y="5674320"/>
            <a:ext cx="9985320" cy="493920"/>
            <a:chOff x="-125280" y="5674320"/>
            <a:chExt cx="9985320" cy="493920"/>
          </a:xfrm>
        </p:grpSpPr>
        <p:grpSp>
          <p:nvGrpSpPr>
            <p:cNvPr id="381" name="Группа 42"/>
            <p:cNvGrpSpPr/>
            <p:nvPr/>
          </p:nvGrpSpPr>
          <p:grpSpPr>
            <a:xfrm>
              <a:off x="-125280" y="5674320"/>
              <a:ext cx="9985320" cy="493920"/>
              <a:chOff x="-125280" y="5674320"/>
              <a:chExt cx="9985320" cy="493920"/>
            </a:xfrm>
          </p:grpSpPr>
          <p:pic>
            <p:nvPicPr>
              <p:cNvPr id="382" name="Picture 37" descr=""/>
              <p:cNvPicPr/>
              <p:nvPr/>
            </p:nvPicPr>
            <p:blipFill>
              <a:blip r:embed="rId18"/>
              <a:stretch/>
            </p:blipFill>
            <p:spPr>
              <a:xfrm rot="18420000">
                <a:off x="-98280" y="5784840"/>
                <a:ext cx="412920" cy="27288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383" name="Прямая со стрелкой 58"/>
              <p:cNvCxnSpPr/>
              <p:nvPr/>
            </p:nvCxnSpPr>
            <p:spPr>
              <a:xfrm>
                <a:off x="4555800" y="5816160"/>
                <a:ext cx="53046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lg" type="stealth" w="med"/>
              </a:ln>
            </p:spPr>
          </p:cxnSp>
        </p:grpSp>
        <p:sp>
          <p:nvSpPr>
            <p:cNvPr id="384" name="Прямая соединительная линия 123"/>
            <p:cNvSpPr/>
            <p:nvPr/>
          </p:nvSpPr>
          <p:spPr>
            <a:xfrm flipV="1">
              <a:off x="309600" y="5819760"/>
              <a:ext cx="4278240" cy="1080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Группа 130"/>
          <p:cNvGrpSpPr/>
          <p:nvPr/>
        </p:nvGrpSpPr>
        <p:grpSpPr>
          <a:xfrm>
            <a:off x="1721160" y="2869200"/>
            <a:ext cx="8145360" cy="546120"/>
            <a:chOff x="1721160" y="2869200"/>
            <a:chExt cx="8145360" cy="546120"/>
          </a:xfrm>
        </p:grpSpPr>
        <p:cxnSp>
          <p:nvCxnSpPr>
            <p:cNvPr id="386" name="Прямая со стрелкой 132"/>
            <p:cNvCxnSpPr/>
            <p:nvPr/>
          </p:nvCxnSpPr>
          <p:spPr>
            <a:xfrm>
              <a:off x="2262240" y="3180960"/>
              <a:ext cx="76046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stealth" w="med"/>
            </a:ln>
          </p:spPr>
        </p:cxnSp>
        <p:pic>
          <p:nvPicPr>
            <p:cNvPr id="387" name="Picture 37" descr=""/>
            <p:cNvPicPr/>
            <p:nvPr/>
          </p:nvPicPr>
          <p:blipFill>
            <a:blip r:embed="rId19"/>
            <a:stretch/>
          </p:blipFill>
          <p:spPr>
            <a:xfrm rot="19200000">
              <a:off x="1753920" y="2998440"/>
              <a:ext cx="50724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" name="Группа 133"/>
          <p:cNvGrpSpPr/>
          <p:nvPr/>
        </p:nvGrpSpPr>
        <p:grpSpPr>
          <a:xfrm>
            <a:off x="1527480" y="3012120"/>
            <a:ext cx="8338680" cy="546120"/>
            <a:chOff x="1527480" y="3012120"/>
            <a:chExt cx="8338680" cy="546120"/>
          </a:xfrm>
        </p:grpSpPr>
        <p:pic>
          <p:nvPicPr>
            <p:cNvPr id="389" name="Picture 37" descr=""/>
            <p:cNvPicPr/>
            <p:nvPr/>
          </p:nvPicPr>
          <p:blipFill>
            <a:blip r:embed="rId20"/>
            <a:stretch/>
          </p:blipFill>
          <p:spPr>
            <a:xfrm rot="19200000">
              <a:off x="1560240" y="3141360"/>
              <a:ext cx="507240" cy="287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90" name="Прямая со стрелкой 135"/>
            <p:cNvCxnSpPr/>
            <p:nvPr/>
          </p:nvCxnSpPr>
          <p:spPr>
            <a:xfrm>
              <a:off x="2028240" y="3323880"/>
              <a:ext cx="7838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stealth" w="med"/>
            </a:ln>
          </p:spPr>
        </p:cxnSp>
      </p:grpSp>
      <p:grpSp>
        <p:nvGrpSpPr>
          <p:cNvPr id="391" name="Группа 42"/>
          <p:cNvGrpSpPr/>
          <p:nvPr/>
        </p:nvGrpSpPr>
        <p:grpSpPr>
          <a:xfrm>
            <a:off x="216000" y="4013640"/>
            <a:ext cx="9666720" cy="546480"/>
            <a:chOff x="216000" y="4013640"/>
            <a:chExt cx="9666720" cy="546480"/>
          </a:xfrm>
        </p:grpSpPr>
        <p:pic>
          <p:nvPicPr>
            <p:cNvPr id="392" name="Picture 37" descr=""/>
            <p:cNvPicPr/>
            <p:nvPr/>
          </p:nvPicPr>
          <p:blipFill>
            <a:blip r:embed="rId21"/>
            <a:stretch/>
          </p:blipFill>
          <p:spPr>
            <a:xfrm rot="19200000">
              <a:off x="248760" y="4142880"/>
              <a:ext cx="507240" cy="2876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93" name="Прямая со стрелкой 144"/>
            <p:cNvCxnSpPr/>
            <p:nvPr/>
          </p:nvCxnSpPr>
          <p:spPr>
            <a:xfrm>
              <a:off x="757080" y="4325760"/>
              <a:ext cx="9126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stealth" w="med"/>
            </a:ln>
          </p:spPr>
        </p:cxnSp>
      </p:grpSp>
      <p:grpSp>
        <p:nvGrpSpPr>
          <p:cNvPr id="394" name="Группа 42"/>
          <p:cNvGrpSpPr/>
          <p:nvPr/>
        </p:nvGrpSpPr>
        <p:grpSpPr>
          <a:xfrm>
            <a:off x="511200" y="3723120"/>
            <a:ext cx="9354960" cy="543240"/>
            <a:chOff x="511200" y="3723120"/>
            <a:chExt cx="9354960" cy="543240"/>
          </a:xfrm>
        </p:grpSpPr>
        <p:pic>
          <p:nvPicPr>
            <p:cNvPr id="395" name="Picture 37" descr=""/>
            <p:cNvPicPr/>
            <p:nvPr/>
          </p:nvPicPr>
          <p:blipFill>
            <a:blip r:embed="rId22"/>
            <a:stretch/>
          </p:blipFill>
          <p:spPr>
            <a:xfrm rot="19200000">
              <a:off x="544680" y="3850920"/>
              <a:ext cx="502920" cy="287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96" name="Прямая со стрелкой 147"/>
            <p:cNvCxnSpPr/>
            <p:nvPr/>
          </p:nvCxnSpPr>
          <p:spPr>
            <a:xfrm>
              <a:off x="1046160" y="4033440"/>
              <a:ext cx="8820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stealth" w="med"/>
            </a:ln>
          </p:spPr>
        </p:cxnSp>
      </p:grpSp>
      <p:grpSp>
        <p:nvGrpSpPr>
          <p:cNvPr id="397" name="Группа 42"/>
          <p:cNvGrpSpPr/>
          <p:nvPr/>
        </p:nvGrpSpPr>
        <p:grpSpPr>
          <a:xfrm>
            <a:off x="707040" y="3588120"/>
            <a:ext cx="9159120" cy="540360"/>
            <a:chOff x="707040" y="3588120"/>
            <a:chExt cx="9159120" cy="540360"/>
          </a:xfrm>
        </p:grpSpPr>
        <p:cxnSp>
          <p:nvCxnSpPr>
            <p:cNvPr id="398" name="Прямая со стрелкой 150"/>
            <p:cNvCxnSpPr/>
            <p:nvPr/>
          </p:nvCxnSpPr>
          <p:spPr>
            <a:xfrm>
              <a:off x="1200960" y="3897000"/>
              <a:ext cx="8665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stealth" w="med"/>
            </a:ln>
          </p:spPr>
        </p:cxnSp>
        <p:pic>
          <p:nvPicPr>
            <p:cNvPr id="399" name="Picture 37" descr=""/>
            <p:cNvPicPr/>
            <p:nvPr/>
          </p:nvPicPr>
          <p:blipFill>
            <a:blip r:embed="rId23"/>
            <a:stretch/>
          </p:blipFill>
          <p:spPr>
            <a:xfrm rot="19200000">
              <a:off x="740880" y="3714480"/>
              <a:ext cx="498600" cy="28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0" name="Группа 42"/>
          <p:cNvGrpSpPr/>
          <p:nvPr/>
        </p:nvGrpSpPr>
        <p:grpSpPr>
          <a:xfrm>
            <a:off x="1098720" y="3299400"/>
            <a:ext cx="8767440" cy="546120"/>
            <a:chOff x="1098720" y="3299400"/>
            <a:chExt cx="8767440" cy="546120"/>
          </a:xfrm>
        </p:grpSpPr>
        <p:pic>
          <p:nvPicPr>
            <p:cNvPr id="401" name="Picture 37" descr=""/>
            <p:cNvPicPr/>
            <p:nvPr/>
          </p:nvPicPr>
          <p:blipFill>
            <a:blip r:embed="rId24"/>
            <a:stretch/>
          </p:blipFill>
          <p:spPr>
            <a:xfrm rot="19200000">
              <a:off x="1131480" y="3428640"/>
              <a:ext cx="507240" cy="287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02" name="Прямая со стрелкой 156"/>
            <p:cNvCxnSpPr/>
            <p:nvPr/>
          </p:nvCxnSpPr>
          <p:spPr>
            <a:xfrm>
              <a:off x="1639440" y="3611160"/>
              <a:ext cx="8227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stealth" w="med"/>
            </a:ln>
          </p:spPr>
        </p:cxnSp>
      </p:grpSp>
      <p:grpSp>
        <p:nvGrpSpPr>
          <p:cNvPr id="403" name="Группа 189"/>
          <p:cNvGrpSpPr/>
          <p:nvPr/>
        </p:nvGrpSpPr>
        <p:grpSpPr>
          <a:xfrm>
            <a:off x="-99000" y="5252400"/>
            <a:ext cx="9972000" cy="491400"/>
            <a:chOff x="-99000" y="5252400"/>
            <a:chExt cx="9972000" cy="491400"/>
          </a:xfrm>
        </p:grpSpPr>
        <p:cxnSp>
          <p:nvCxnSpPr>
            <p:cNvPr id="404" name="Прямая со стрелкой 71"/>
            <p:cNvCxnSpPr/>
            <p:nvPr/>
          </p:nvCxnSpPr>
          <p:spPr>
            <a:xfrm>
              <a:off x="241200" y="5519520"/>
              <a:ext cx="9632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stealth" w="med"/>
            </a:ln>
          </p:spPr>
        </p:cxnSp>
        <p:pic>
          <p:nvPicPr>
            <p:cNvPr id="405" name="Picture 37" descr=""/>
            <p:cNvPicPr/>
            <p:nvPr/>
          </p:nvPicPr>
          <p:blipFill>
            <a:blip r:embed="rId25"/>
            <a:stretch/>
          </p:blipFill>
          <p:spPr>
            <a:xfrm rot="18540000">
              <a:off x="-69120" y="5361480"/>
              <a:ext cx="411120" cy="27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6" name="Группа 190"/>
          <p:cNvGrpSpPr/>
          <p:nvPr/>
        </p:nvGrpSpPr>
        <p:grpSpPr>
          <a:xfrm>
            <a:off x="-138600" y="5404680"/>
            <a:ext cx="10011240" cy="491400"/>
            <a:chOff x="-138600" y="5404680"/>
            <a:chExt cx="10011240" cy="491400"/>
          </a:xfrm>
        </p:grpSpPr>
        <p:cxnSp>
          <p:nvCxnSpPr>
            <p:cNvPr id="407" name="Прямая со стрелкой 191"/>
            <p:cNvCxnSpPr/>
            <p:nvPr/>
          </p:nvCxnSpPr>
          <p:spPr>
            <a:xfrm>
              <a:off x="201600" y="5671800"/>
              <a:ext cx="96714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  <a:tailEnd len="lg" type="stealth" w="med"/>
            </a:ln>
          </p:spPr>
        </p:cxnSp>
        <p:pic>
          <p:nvPicPr>
            <p:cNvPr id="408" name="Picture 37" descr=""/>
            <p:cNvPicPr/>
            <p:nvPr/>
          </p:nvPicPr>
          <p:blipFill>
            <a:blip r:embed="rId26"/>
            <a:stretch/>
          </p:blipFill>
          <p:spPr>
            <a:xfrm rot="18540000">
              <a:off x="-108720" y="5513760"/>
              <a:ext cx="411120" cy="27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9" name="Группа 196"/>
          <p:cNvGrpSpPr/>
          <p:nvPr/>
        </p:nvGrpSpPr>
        <p:grpSpPr>
          <a:xfrm>
            <a:off x="-80280" y="5898240"/>
            <a:ext cx="9973800" cy="423720"/>
            <a:chOff x="-80280" y="5898240"/>
            <a:chExt cx="9973800" cy="423720"/>
          </a:xfrm>
        </p:grpSpPr>
        <p:grpSp>
          <p:nvGrpSpPr>
            <p:cNvPr id="410" name="Группа 45"/>
            <p:cNvGrpSpPr/>
            <p:nvPr/>
          </p:nvGrpSpPr>
          <p:grpSpPr>
            <a:xfrm>
              <a:off x="248400" y="5964840"/>
              <a:ext cx="9645120" cy="137880"/>
              <a:chOff x="248400" y="5964840"/>
              <a:chExt cx="9645120" cy="137880"/>
            </a:xfrm>
          </p:grpSpPr>
          <p:cxnSp>
            <p:nvCxnSpPr>
              <p:cNvPr id="411" name="Прямая со стрелкой 110"/>
              <p:cNvCxnSpPr/>
              <p:nvPr/>
            </p:nvCxnSpPr>
            <p:spPr>
              <a:xfrm flipV="1">
                <a:off x="4593240" y="5964840"/>
                <a:ext cx="53006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lg" type="stealth" w="med"/>
              </a:ln>
            </p:spPr>
          </p:cxnSp>
          <p:sp>
            <p:nvSpPr>
              <p:cNvPr id="412" name="Прямая соединительная линия 111"/>
              <p:cNvSpPr/>
              <p:nvPr/>
            </p:nvSpPr>
            <p:spPr>
              <a:xfrm flipV="1">
                <a:off x="248400" y="5975640"/>
                <a:ext cx="4355280" cy="12708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3" name="Picture 37" descr=""/>
            <p:cNvPicPr/>
            <p:nvPr/>
          </p:nvPicPr>
          <p:blipFill>
            <a:blip r:embed="rId27"/>
            <a:stretch/>
          </p:blipFill>
          <p:spPr>
            <a:xfrm rot="18300000">
              <a:off x="-59760" y="5993280"/>
              <a:ext cx="353880" cy="23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4" name="Группа 197"/>
          <p:cNvGrpSpPr/>
          <p:nvPr/>
        </p:nvGrpSpPr>
        <p:grpSpPr>
          <a:xfrm>
            <a:off x="-79920" y="6079320"/>
            <a:ext cx="9973080" cy="504000"/>
            <a:chOff x="-79920" y="6079320"/>
            <a:chExt cx="9973080" cy="504000"/>
          </a:xfrm>
        </p:grpSpPr>
        <p:grpSp>
          <p:nvGrpSpPr>
            <p:cNvPr id="415" name="Группа 45"/>
            <p:cNvGrpSpPr/>
            <p:nvPr/>
          </p:nvGrpSpPr>
          <p:grpSpPr>
            <a:xfrm>
              <a:off x="311760" y="6079320"/>
              <a:ext cx="9581400" cy="282240"/>
              <a:chOff x="311760" y="6079320"/>
              <a:chExt cx="9581400" cy="282240"/>
            </a:xfrm>
          </p:grpSpPr>
          <p:cxnSp>
            <p:nvCxnSpPr>
              <p:cNvPr id="416" name="Прямая со стрелкой 200"/>
              <p:cNvCxnSpPr/>
              <p:nvPr/>
            </p:nvCxnSpPr>
            <p:spPr>
              <a:xfrm flipV="1">
                <a:off x="4593240" y="6079320"/>
                <a:ext cx="53002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lg" type="stealth" w="med"/>
              </a:ln>
            </p:spPr>
          </p:cxnSp>
          <p:sp>
            <p:nvSpPr>
              <p:cNvPr id="417" name="Прямая соединительная линия 201"/>
              <p:cNvSpPr/>
              <p:nvPr/>
            </p:nvSpPr>
            <p:spPr>
              <a:xfrm flipV="1">
                <a:off x="311760" y="6079680"/>
                <a:ext cx="4288320" cy="281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8" name="Picture 37" descr=""/>
            <p:cNvPicPr/>
            <p:nvPr/>
          </p:nvPicPr>
          <p:blipFill>
            <a:blip r:embed="rId28"/>
            <a:stretch/>
          </p:blipFill>
          <p:spPr>
            <a:xfrm rot="18300000">
              <a:off x="-59400" y="6254640"/>
              <a:ext cx="353160" cy="23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9" name="Группа 202"/>
          <p:cNvGrpSpPr/>
          <p:nvPr/>
        </p:nvGrpSpPr>
        <p:grpSpPr>
          <a:xfrm>
            <a:off x="-80280" y="6226200"/>
            <a:ext cx="9973440" cy="537840"/>
            <a:chOff x="-80280" y="6226200"/>
            <a:chExt cx="9973440" cy="537840"/>
          </a:xfrm>
        </p:grpSpPr>
        <p:pic>
          <p:nvPicPr>
            <p:cNvPr id="420" name="Picture 37" descr=""/>
            <p:cNvPicPr/>
            <p:nvPr/>
          </p:nvPicPr>
          <p:blipFill>
            <a:blip r:embed="rId29"/>
            <a:stretch/>
          </p:blipFill>
          <p:spPr>
            <a:xfrm rot="18300000">
              <a:off x="-59760" y="6435360"/>
              <a:ext cx="353880" cy="23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1" name="Группа 45"/>
            <p:cNvGrpSpPr/>
            <p:nvPr/>
          </p:nvGrpSpPr>
          <p:grpSpPr>
            <a:xfrm>
              <a:off x="234720" y="6226200"/>
              <a:ext cx="9658440" cy="351360"/>
              <a:chOff x="234720" y="6226200"/>
              <a:chExt cx="9658440" cy="351360"/>
            </a:xfrm>
          </p:grpSpPr>
          <p:cxnSp>
            <p:nvCxnSpPr>
              <p:cNvPr id="422" name="Прямая со стрелкой 205"/>
              <p:cNvCxnSpPr/>
              <p:nvPr/>
            </p:nvCxnSpPr>
            <p:spPr>
              <a:xfrm flipV="1">
                <a:off x="4592520" y="6231960"/>
                <a:ext cx="5301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lg" type="stealth" w="med"/>
              </a:ln>
            </p:spPr>
          </p:cxnSp>
          <p:sp>
            <p:nvSpPr>
              <p:cNvPr id="423" name="Прямая соединительная линия 206"/>
              <p:cNvSpPr/>
              <p:nvPr/>
            </p:nvSpPr>
            <p:spPr>
              <a:xfrm flipV="1">
                <a:off x="234720" y="6226200"/>
                <a:ext cx="4361400" cy="351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Группа 207"/>
          <p:cNvGrpSpPr/>
          <p:nvPr/>
        </p:nvGrpSpPr>
        <p:grpSpPr>
          <a:xfrm>
            <a:off x="-80280" y="6336360"/>
            <a:ext cx="9973800" cy="644040"/>
            <a:chOff x="-80280" y="6336360"/>
            <a:chExt cx="9973800" cy="644040"/>
          </a:xfrm>
        </p:grpSpPr>
        <p:pic>
          <p:nvPicPr>
            <p:cNvPr id="425" name="Picture 37" descr=""/>
            <p:cNvPicPr/>
            <p:nvPr/>
          </p:nvPicPr>
          <p:blipFill>
            <a:blip r:embed="rId30"/>
            <a:stretch/>
          </p:blipFill>
          <p:spPr>
            <a:xfrm rot="18300000">
              <a:off x="-59760" y="6651720"/>
              <a:ext cx="353520" cy="23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6" name="Группа 45"/>
            <p:cNvGrpSpPr/>
            <p:nvPr/>
          </p:nvGrpSpPr>
          <p:grpSpPr>
            <a:xfrm>
              <a:off x="258120" y="6336360"/>
              <a:ext cx="9635400" cy="432720"/>
              <a:chOff x="258120" y="6336360"/>
              <a:chExt cx="9635400" cy="432720"/>
            </a:xfrm>
          </p:grpSpPr>
          <p:cxnSp>
            <p:nvCxnSpPr>
              <p:cNvPr id="427" name="Прямая со стрелкой 210"/>
              <p:cNvCxnSpPr/>
              <p:nvPr/>
            </p:nvCxnSpPr>
            <p:spPr>
              <a:xfrm flipV="1">
                <a:off x="4593240" y="6336360"/>
                <a:ext cx="53006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sysDot"/>
                <a:miter/>
                <a:tailEnd len="lg" type="stealth" w="med"/>
              </a:ln>
            </p:spPr>
          </p:cxnSp>
          <p:sp>
            <p:nvSpPr>
              <p:cNvPr id="428" name="Прямая соединительная линия 211"/>
              <p:cNvSpPr/>
              <p:nvPr/>
            </p:nvSpPr>
            <p:spPr>
              <a:xfrm flipV="1">
                <a:off x="258120" y="6338520"/>
                <a:ext cx="4335840" cy="43056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Rectangle 10"/>
          <p:cNvSpPr/>
          <p:nvPr/>
        </p:nvSpPr>
        <p:spPr>
          <a:xfrm>
            <a:off x="57240" y="-720"/>
            <a:ext cx="97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41802"/>
                </a:solidFill>
                <a:latin typeface="Times New Roman CYR"/>
                <a:ea typeface="Times New Roman CYR"/>
              </a:rPr>
              <a:t>Радиопросвечивание  ионосферы  и  атмосфе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41802"/>
                </a:solidFill>
                <a:latin typeface="Times New Roman CYR"/>
              </a:rPr>
              <a:t>(традиционная методика эксперимент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12"/>
          <p:cNvSpPr/>
          <p:nvPr/>
        </p:nvSpPr>
        <p:spPr>
          <a:xfrm>
            <a:off x="3668760" y="1268280"/>
            <a:ext cx="26528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595959"/>
                </a:solidFill>
                <a:latin typeface="Arial"/>
              </a:rPr>
              <a:t>Высотный профиль электронной концентрации</a:t>
            </a:r>
            <a:r>
              <a:rPr b="0" lang="ru-RU" sz="14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ff"/>
                </a:solidFill>
                <a:latin typeface="Arial"/>
              </a:rPr>
              <a:t>в  ионосфер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</a:rPr>
              <a:t>Вен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N(h)</a:t>
            </a:r>
            <a:r>
              <a:rPr b="0" lang="ru-RU" sz="1400" spc="-1" strike="noStrike">
                <a:solidFill>
                  <a:srgbClr val="595959"/>
                </a:solidFill>
                <a:latin typeface="Arial"/>
              </a:rPr>
              <a:t>, см</a:t>
            </a:r>
            <a:r>
              <a:rPr b="0" lang="ru-RU" sz="1400" spc="-1" strike="noStrike" baseline="30000">
                <a:solidFill>
                  <a:srgbClr val="595959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13"/>
          <p:cNvSpPr/>
          <p:nvPr/>
        </p:nvSpPr>
        <p:spPr>
          <a:xfrm>
            <a:off x="6167520" y="1285920"/>
            <a:ext cx="2573280" cy="15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800000"/>
                </a:solidFill>
                <a:latin typeface="Arial"/>
              </a:rPr>
              <a:t>Изме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800000"/>
                </a:solidFill>
                <a:latin typeface="Arial"/>
              </a:rPr>
              <a:t>мощ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800000"/>
                </a:solidFill>
                <a:latin typeface="Arial"/>
              </a:rPr>
              <a:t>радиосигн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11fd"/>
                </a:solidFill>
                <a:latin typeface="Arial"/>
              </a:rPr>
              <a:t>в ионосфере и  атмосф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Х</a:t>
            </a:r>
            <a:r>
              <a:rPr b="1" lang="ru-RU" sz="1400" spc="-1" strike="noStrike" baseline="-25000">
                <a:solidFill>
                  <a:srgbClr val="800000"/>
                </a:solidFill>
                <a:latin typeface="Arial"/>
              </a:rPr>
              <a:t>СМ</a:t>
            </a: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0" lang="ru-RU" sz="1400" spc="-1" strike="noStrike" baseline="-25000">
                <a:solidFill>
                  <a:srgbClr val="ff0000"/>
                </a:solidFill>
                <a:latin typeface="Arial"/>
              </a:rPr>
              <a:t>Д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8 см 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2 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114"/>
          <p:cNvSpPr/>
          <p:nvPr/>
        </p:nvSpPr>
        <p:spPr>
          <a:xfrm>
            <a:off x="8624880" y="1125360"/>
            <a:ext cx="1209600" cy="17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ff"/>
                </a:solidFill>
                <a:latin typeface="Arial"/>
              </a:rPr>
              <a:t>Изменение част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ff"/>
                </a:solidFill>
                <a:latin typeface="Arial"/>
              </a:rPr>
              <a:t>сигн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11fd"/>
                </a:solidFill>
                <a:latin typeface="Arial"/>
              </a:rPr>
              <a:t>в ионосфере и атмосфн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29d8"/>
                </a:solidFill>
                <a:latin typeface="Times New Roman CYR"/>
                <a:ea typeface="Times New Roman CYR"/>
              </a:rPr>
              <a:t>f</a:t>
            </a:r>
            <a:r>
              <a:rPr b="0" lang="ru-RU" sz="1400" spc="-1" strike="noStrike" baseline="-25000">
                <a:solidFill>
                  <a:srgbClr val="e529d8"/>
                </a:solidFill>
                <a:latin typeface="Arial"/>
              </a:rPr>
              <a:t>Д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ff"/>
                </a:solidFill>
                <a:latin typeface="Arial"/>
              </a:rPr>
              <a:t>32 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6"/>
          <p:cNvSpPr/>
          <p:nvPr/>
        </p:nvSpPr>
        <p:spPr>
          <a:xfrm>
            <a:off x="776160" y="4869000"/>
            <a:ext cx="202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ительность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ан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диопросвечи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 мин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17"/>
          <p:cNvSpPr/>
          <p:nvPr/>
        </p:nvSpPr>
        <p:spPr>
          <a:xfrm>
            <a:off x="3935160" y="60148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атмо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18"/>
          <p:cNvSpPr/>
          <p:nvPr/>
        </p:nvSpPr>
        <p:spPr>
          <a:xfrm>
            <a:off x="6313680" y="6381720"/>
            <a:ext cx="331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зультаты измерений на Зем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7"/>
          <p:cNvSpPr/>
          <p:nvPr/>
        </p:nvSpPr>
        <p:spPr>
          <a:xfrm>
            <a:off x="-218880" y="836640"/>
            <a:ext cx="2509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1802"/>
                </a:solidFill>
                <a:latin typeface="Arial"/>
              </a:rPr>
              <a:t>197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Марс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1802"/>
                </a:solidFill>
                <a:latin typeface="Arial"/>
              </a:rPr>
              <a:t>197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Луна-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1802"/>
                </a:solidFill>
                <a:latin typeface="Arial"/>
              </a:rPr>
              <a:t>1974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уна-2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рс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рс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рс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1802"/>
                </a:solidFill>
                <a:latin typeface="Arial"/>
              </a:rPr>
              <a:t>197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Венера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енера-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1802"/>
                </a:solidFill>
                <a:latin typeface="Arial"/>
              </a:rPr>
              <a:t>198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Венера-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енера-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1802"/>
                </a:solidFill>
                <a:latin typeface="Arial"/>
              </a:rPr>
              <a:t>198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Фобос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Дуга 65"/>
          <p:cNvSpPr/>
          <p:nvPr/>
        </p:nvSpPr>
        <p:spPr>
          <a:xfrm rot="10800000">
            <a:off x="9237240" y="5785920"/>
            <a:ext cx="1763640" cy="357480"/>
          </a:xfrm>
          <a:custGeom>
            <a:avLst/>
            <a:gdLst>
              <a:gd name="textAreaLeft" fmla="*/ 887760 w 1763640"/>
              <a:gd name="textAreaRight" fmla="*/ 1764000 w 1763640"/>
              <a:gd name="textAreaTop" fmla="*/ 0 h 357480"/>
              <a:gd name="textAreaBottom" fmla="*/ 178920 h 357480"/>
            </a:gdLst>
            <a:ahLst/>
            <a:rect l="textAreaLeft" t="textAreaTop" r="textAreaRight" b="textAreaBottom"/>
            <a:pathLst>
              <a:path stroke="0" w="1764000" h="357189">
                <a:moveTo>
                  <a:pt x="887856" y="4"/>
                </a:moveTo>
                <a:lnTo>
                  <a:pt x="887856" y="3"/>
                </a:lnTo>
                <a:cubicBezTo>
                  <a:pt x="1372675" y="655"/>
                  <a:pt x="1764000" y="80422"/>
                  <a:pt x="1764000" y="178595"/>
                </a:cubicBezTo>
                <a:cubicBezTo>
                  <a:pt x="1764000" y="178595"/>
                  <a:pt x="1763999" y="178596"/>
                  <a:pt x="1763999" y="178596"/>
                </a:cubicBezTo>
                <a:lnTo>
                  <a:pt x="882000" y="178595"/>
                </a:lnTo>
                <a:close/>
              </a:path>
              <a:path fill="none" w="1764000" h="357189">
                <a:moveTo>
                  <a:pt x="887856" y="4"/>
                </a:moveTo>
                <a:lnTo>
                  <a:pt x="887856" y="3"/>
                </a:lnTo>
                <a:cubicBezTo>
                  <a:pt x="1372675" y="655"/>
                  <a:pt x="1764000" y="80422"/>
                  <a:pt x="1764000" y="178595"/>
                </a:cubicBezTo>
                <a:cubicBezTo>
                  <a:pt x="1764000" y="178595"/>
                  <a:pt x="1763999" y="178596"/>
                  <a:pt x="1763999" y="178596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7"/>
          <p:cNvSpPr/>
          <p:nvPr/>
        </p:nvSpPr>
        <p:spPr>
          <a:xfrm>
            <a:off x="1210680" y="60148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ионо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0"/>
          <p:cNvSpPr/>
          <p:nvPr/>
        </p:nvSpPr>
        <p:spPr>
          <a:xfrm>
            <a:off x="4230720" y="659772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Вен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4"/>
                                      </p:cond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99"/>
                                      </p:cond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4"/>
                                      </p:cond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09"/>
                                      </p:cond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4"/>
                                      </p:cond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19"/>
                                      </p:cond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evt="end">
                                        <p:tn val="124"/>
                                      </p:cond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evt="end">
                                        <p:tn val="129"/>
                                      </p:cond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evt="end">
                                        <p:tn val="134"/>
                                      </p:cond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evt="end">
                                        <p:tn val="139"/>
                                      </p:cond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evt="end">
                                        <p:tn val="144"/>
                                      </p:cond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evt="end">
                                        <p:tn val="154"/>
                                      </p:cond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evt="end">
                                        <p:tn val="159"/>
                                      </p:cond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evt="end">
                                        <p:tn val="164"/>
                                      </p:cond>
                                    </p:stCondLst>
                                  </p:cTn>
                                  <p:tgtEl>
                                    <p:spTgt spid="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evt="end">
                                        <p:tn val="169"/>
                                      </p:cond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evt="end">
                                        <p:tn val="174"/>
                                      </p:cond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evt="end">
                                        <p:tn val="179"/>
                                      </p:cond>
                                    </p:stCondLst>
                                  </p:cTn>
                                  <p:tgtEl>
                                    <p:spTgt spid="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evt="end">
                                        <p:tn val="184"/>
                                      </p:cond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"/>
          <p:cNvSpPr/>
          <p:nvPr/>
        </p:nvSpPr>
        <p:spPr>
          <a:xfrm>
            <a:off x="216000" y="766080"/>
            <a:ext cx="964872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Наземные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1, Высокостабильный  водородный стандарт,  из сигналов котор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формируются когерентные опорные сигналы наземных устр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2. Тракты и приемные устройства антенны для радиосигналов </a:t>
            </a:r>
            <a:r>
              <a:rPr b="1" lang="en-US" sz="1800" spc="-1" strike="noStrike">
                <a:solidFill>
                  <a:srgbClr val="823634"/>
                </a:solidFill>
                <a:latin typeface="Arial"/>
              </a:rPr>
              <a:t>L</a:t>
            </a: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-, S-, </a:t>
            </a:r>
            <a:r>
              <a:rPr b="1" lang="en-US" sz="1800" spc="-1" strike="noStrike">
                <a:solidFill>
                  <a:srgbClr val="823634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диапазонов с низкой температурой шума и высокой стаби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3. Система регистрации параметров радиосигналов </a:t>
            </a:r>
            <a:r>
              <a:rPr b="1" lang="en-US" sz="1800" spc="-1" strike="noStrike">
                <a:solidFill>
                  <a:srgbClr val="823634"/>
                </a:solidFill>
                <a:latin typeface="Arial"/>
              </a:rPr>
              <a:t>L</a:t>
            </a: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-, S-, </a:t>
            </a:r>
            <a:r>
              <a:rPr b="1" lang="en-US" sz="1800" spc="-1" strike="noStrike">
                <a:solidFill>
                  <a:srgbClr val="823634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-диапаз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Бортовые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4. Высокостабильный генератор,  из сигналов которого  формиру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когерентные излучаемые сигналы </a:t>
            </a:r>
            <a:r>
              <a:rPr b="1" lang="en-US" sz="1800" spc="-1" strike="noStrike">
                <a:solidFill>
                  <a:srgbClr val="823634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23634"/>
                </a:solidFill>
                <a:latin typeface="Arial"/>
              </a:rPr>
              <a:t>L</a:t>
            </a: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-,  S-,  </a:t>
            </a:r>
            <a:r>
              <a:rPr b="1" lang="en-US" sz="1800" spc="-1" strike="noStrike">
                <a:solidFill>
                  <a:srgbClr val="823634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- диапаз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5. Высокостабильные по мощности  и  по фазе  передатчики радиосигн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6. Мощные источники питания  для одновременного излучения  двух  сигн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высокой мощности, что увеличит отношение сигнал/шум на входе прием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и, следовательно, точность измерений  амплитуд  и  фаз  сигн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7. Остронаправленная антенна  для одновременного излучения  когерен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сигналов  </a:t>
            </a:r>
            <a:r>
              <a:rPr b="1" lang="en-US" sz="1800" spc="-1" strike="noStrike">
                <a:solidFill>
                  <a:srgbClr val="823634"/>
                </a:solidFill>
                <a:latin typeface="Arial"/>
              </a:rPr>
              <a:t>L</a:t>
            </a: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-, S-, </a:t>
            </a:r>
            <a:r>
              <a:rPr b="1" lang="en-US" sz="1800" spc="-1" strike="noStrike">
                <a:solidFill>
                  <a:srgbClr val="823634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-диапазонов.  Трехдиапазонная антенна устраняет набе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фазы  при маневрах  ОА,  а  ее  большой диаметр  увеличивает  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сигнал/шум  на входе  прием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23634"/>
                </a:solidFill>
                <a:latin typeface="Arial"/>
              </a:rPr>
              <a:t>8. Обеспечение  ОА  системой  точной  ориентации  антенны  на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кругленный прямоугольник 2"/>
          <p:cNvSpPr/>
          <p:nvPr/>
        </p:nvSpPr>
        <p:spPr>
          <a:xfrm>
            <a:off x="108000" y="765000"/>
            <a:ext cx="9685440" cy="5977080"/>
          </a:xfrm>
          <a:prstGeom prst="roundRect">
            <a:avLst>
              <a:gd name="adj" fmla="val 8338"/>
            </a:avLst>
          </a:prstGeom>
          <a:noFill/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4"/>
          <p:cNvSpPr/>
          <p:nvPr/>
        </p:nvSpPr>
        <p:spPr>
          <a:xfrm>
            <a:off x="0" y="0"/>
            <a:ext cx="990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0000"/>
                </a:solidFill>
                <a:latin typeface="Arial"/>
              </a:rPr>
              <a:t>Технические требования эксперимента радиопросвечи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a0000"/>
                </a:solidFill>
                <a:latin typeface="Arial"/>
              </a:rPr>
              <a:t>направленные на обеспечение максимальной чувствительности измер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ая соединительная линия 18"/>
          <p:cNvSpPr/>
          <p:nvPr/>
        </p:nvSpPr>
        <p:spPr>
          <a:xfrm>
            <a:off x="2755080" y="1162080"/>
            <a:ext cx="1800" cy="453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"/>
          <p:cNvSpPr/>
          <p:nvPr/>
        </p:nvSpPr>
        <p:spPr>
          <a:xfrm>
            <a:off x="5024520" y="2171160"/>
            <a:ext cx="4752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b9b8"/>
                </a:solidFill>
                <a:latin typeface="Arial"/>
              </a:rPr>
              <a:t>Эта   методи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b9b8"/>
                </a:solidFill>
                <a:latin typeface="Arial"/>
              </a:rPr>
              <a:t>в   настоящее 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b9b8"/>
                </a:solidFill>
                <a:latin typeface="Arial"/>
              </a:rPr>
              <a:t>активно использ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b9b8"/>
                </a:solidFill>
                <a:latin typeface="Arial"/>
              </a:rPr>
              <a:t>для   зонд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b9b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6b9b8"/>
                </a:solidFill>
                <a:latin typeface="Arial"/>
              </a:rPr>
              <a:t>земной   обол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b9b8"/>
                </a:solidFill>
                <a:latin typeface="Arial"/>
              </a:rPr>
              <a:t>(больше 100 сеансов в ден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мечается   персп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пользования   метод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межпланетных прое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5"/>
          <p:cNvSpPr/>
          <p:nvPr/>
        </p:nvSpPr>
        <p:spPr>
          <a:xfrm>
            <a:off x="4665600" y="189000"/>
            <a:ext cx="518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спективная для нас метод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диопросвеч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трассе спутни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у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Группа 4"/>
          <p:cNvGrpSpPr/>
          <p:nvPr/>
        </p:nvGrpSpPr>
        <p:grpSpPr>
          <a:xfrm>
            <a:off x="1574640" y="2679840"/>
            <a:ext cx="1941840" cy="1930320"/>
            <a:chOff x="1574640" y="2679840"/>
            <a:chExt cx="1941840" cy="1930320"/>
          </a:xfrm>
        </p:grpSpPr>
        <p:grpSp>
          <p:nvGrpSpPr>
            <p:cNvPr id="447" name="Группа 7"/>
            <p:cNvGrpSpPr/>
            <p:nvPr/>
          </p:nvGrpSpPr>
          <p:grpSpPr>
            <a:xfrm>
              <a:off x="1737720" y="2893680"/>
              <a:ext cx="1645560" cy="1573200"/>
              <a:chOff x="1737720" y="2893680"/>
              <a:chExt cx="1645560" cy="1573200"/>
            </a:xfrm>
          </p:grpSpPr>
          <p:pic>
            <p:nvPicPr>
              <p:cNvPr id="448" name="Рисунок 7" descr="оболочка2.gif"/>
              <p:cNvPicPr/>
              <p:nvPr/>
            </p:nvPicPr>
            <p:blipFill>
              <a:blip r:embed="rId1"/>
              <a:stretch/>
            </p:blipFill>
            <p:spPr>
              <a:xfrm>
                <a:off x="1737720" y="2893680"/>
                <a:ext cx="1645560" cy="157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Picture 2" descr="G:\119\Китайцы\Картинки\Земля крутится.gif"/>
              <p:cNvPicPr/>
              <p:nvPr/>
            </p:nvPicPr>
            <p:blipFill>
              <a:blip r:embed="rId2"/>
              <a:stretch/>
            </p:blipFill>
            <p:spPr>
              <a:xfrm>
                <a:off x="2242080" y="3380040"/>
                <a:ext cx="573120" cy="529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0" name="Овал 15"/>
            <p:cNvGrpSpPr/>
            <p:nvPr/>
          </p:nvGrpSpPr>
          <p:grpSpPr>
            <a:xfrm>
              <a:off x="1574640" y="2679840"/>
              <a:ext cx="1941840" cy="1930320"/>
              <a:chOff x="1574640" y="2679840"/>
              <a:chExt cx="1941840" cy="1930320"/>
            </a:xfrm>
          </p:grpSpPr>
          <p:pic>
            <p:nvPicPr>
              <p:cNvPr id="451" name="Овал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1574640" y="2679840"/>
                <a:ext cx="1941840" cy="193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1955160" y="3058200"/>
                <a:ext cx="1175040" cy="11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53" name="Рисунок 8" descr="glonass-m_250.gif"/>
          <p:cNvPicPr/>
          <p:nvPr/>
        </p:nvPicPr>
        <p:blipFill>
          <a:blip r:embed="rId4"/>
          <a:stretch/>
        </p:blipFill>
        <p:spPr>
          <a:xfrm>
            <a:off x="2841480" y="4032360"/>
            <a:ext cx="615960" cy="579240"/>
          </a:xfrm>
          <a:prstGeom prst="rect">
            <a:avLst/>
          </a:prstGeom>
          <a:ln w="0">
            <a:noFill/>
          </a:ln>
        </p:spPr>
      </p:pic>
      <p:sp>
        <p:nvSpPr>
          <p:cNvPr id="454" name="Овал 81"/>
          <p:cNvSpPr/>
          <p:nvPr/>
        </p:nvSpPr>
        <p:spPr>
          <a:xfrm>
            <a:off x="1657440" y="2762280"/>
            <a:ext cx="1765080" cy="1765440"/>
          </a:xfrm>
          <a:prstGeom prst="ellipse">
            <a:avLst/>
          </a:prstGeom>
          <a:noFill/>
          <a:ln w="64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Овал 82"/>
          <p:cNvSpPr/>
          <p:nvPr/>
        </p:nvSpPr>
        <p:spPr>
          <a:xfrm>
            <a:off x="271440" y="1376280"/>
            <a:ext cx="4537080" cy="4537080"/>
          </a:xfrm>
          <a:prstGeom prst="ellipse">
            <a:avLst/>
          </a:prstGeom>
          <a:noFill/>
          <a:ln w="6480">
            <a:solidFill>
              <a:srgbClr val="7f7f7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Группа 88"/>
          <p:cNvGrpSpPr/>
          <p:nvPr/>
        </p:nvGrpSpPr>
        <p:grpSpPr>
          <a:xfrm>
            <a:off x="1951200" y="-1221480"/>
            <a:ext cx="1177200" cy="5173200"/>
            <a:chOff x="1951200" y="-1221480"/>
            <a:chExt cx="1177200" cy="5173200"/>
          </a:xfrm>
        </p:grpSpPr>
        <p:cxnSp>
          <p:nvCxnSpPr>
            <p:cNvPr id="457" name="Прямая со стрелкой 89"/>
            <p:cNvCxnSpPr/>
            <p:nvPr/>
          </p:nvCxnSpPr>
          <p:spPr>
            <a:xfrm flipH="1">
              <a:off x="2137320" y="1380600"/>
              <a:ext cx="408600" cy="2571480"/>
            </a:xfrm>
            <a:prstGeom prst="straightConnector1">
              <a:avLst/>
            </a:prstGeom>
            <a:ln w="12600">
              <a:solidFill>
                <a:srgbClr val="00f66f"/>
              </a:solidFill>
              <a:prstDash val="sysDot"/>
              <a:miter/>
              <a:tailEnd len="med" type="stealth" w="med"/>
            </a:ln>
          </p:spPr>
        </p:cxnSp>
        <p:cxnSp>
          <p:nvCxnSpPr>
            <p:cNvPr id="458" name="Прямая со стрелкой 90"/>
            <p:cNvCxnSpPr/>
            <p:nvPr/>
          </p:nvCxnSpPr>
          <p:spPr>
            <a:xfrm flipH="1">
              <a:off x="1951200" y="1364760"/>
              <a:ext cx="585720" cy="2536200"/>
            </a:xfrm>
            <a:prstGeom prst="straightConnector1">
              <a:avLst/>
            </a:prstGeom>
            <a:ln w="12600">
              <a:solidFill>
                <a:srgbClr val="00f66f"/>
              </a:solidFill>
              <a:prstDash val="sysDot"/>
              <a:miter/>
              <a:tailEnd len="med" type="stealth" w="med"/>
            </a:ln>
          </p:spPr>
        </p:cxnSp>
        <p:cxnSp>
          <p:nvCxnSpPr>
            <p:cNvPr id="459" name="Прямая со стрелкой 91"/>
            <p:cNvCxnSpPr/>
            <p:nvPr/>
          </p:nvCxnSpPr>
          <p:spPr>
            <a:xfrm flipH="1">
              <a:off x="2543040" y="-1203840"/>
              <a:ext cx="585720" cy="2536200"/>
            </a:xfrm>
            <a:prstGeom prst="straightConnector1">
              <a:avLst/>
            </a:prstGeom>
            <a:ln w="158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60" name="Прямая со стрелкой 92"/>
            <p:cNvCxnSpPr/>
            <p:nvPr/>
          </p:nvCxnSpPr>
          <p:spPr>
            <a:xfrm flipH="1">
              <a:off x="2559600" y="-1221480"/>
              <a:ext cx="408600" cy="2571480"/>
            </a:xfrm>
            <a:prstGeom prst="straightConnector1">
              <a:avLst/>
            </a:prstGeom>
            <a:ln w="15840">
              <a:solidFill>
                <a:srgbClr val="000000"/>
              </a:solidFill>
              <a:prstDash val="sysDot"/>
              <a:miter/>
            </a:ln>
          </p:spPr>
        </p:cxnSp>
      </p:grpSp>
      <p:grpSp>
        <p:nvGrpSpPr>
          <p:cNvPr id="461" name="Группа 93"/>
          <p:cNvGrpSpPr/>
          <p:nvPr/>
        </p:nvGrpSpPr>
        <p:grpSpPr>
          <a:xfrm>
            <a:off x="1951200" y="-1229400"/>
            <a:ext cx="1177200" cy="5173200"/>
            <a:chOff x="1951200" y="-1229400"/>
            <a:chExt cx="1177200" cy="5173200"/>
          </a:xfrm>
        </p:grpSpPr>
        <p:cxnSp>
          <p:nvCxnSpPr>
            <p:cNvPr id="462" name="Прямая со стрелкой 94"/>
            <p:cNvCxnSpPr/>
            <p:nvPr/>
          </p:nvCxnSpPr>
          <p:spPr>
            <a:xfrm>
              <a:off x="2534040" y="1372680"/>
              <a:ext cx="408600" cy="2571480"/>
            </a:xfrm>
            <a:prstGeom prst="straightConnector1">
              <a:avLst/>
            </a:prstGeom>
            <a:ln w="12600">
              <a:solidFill>
                <a:srgbClr val="00f66f"/>
              </a:solidFill>
              <a:prstDash val="sysDot"/>
              <a:miter/>
              <a:tailEnd len="med" type="stealth" w="med"/>
            </a:ln>
          </p:spPr>
        </p:cxnSp>
        <p:cxnSp>
          <p:nvCxnSpPr>
            <p:cNvPr id="463" name="Прямая со стрелкой 95"/>
            <p:cNvCxnSpPr/>
            <p:nvPr/>
          </p:nvCxnSpPr>
          <p:spPr>
            <a:xfrm>
              <a:off x="2543040" y="1356840"/>
              <a:ext cx="585720" cy="2536200"/>
            </a:xfrm>
            <a:prstGeom prst="straightConnector1">
              <a:avLst/>
            </a:prstGeom>
            <a:ln w="12600">
              <a:solidFill>
                <a:srgbClr val="00f66f"/>
              </a:solidFill>
              <a:prstDash val="sysDot"/>
              <a:miter/>
              <a:tailEnd len="med" type="stealth" w="med"/>
            </a:ln>
          </p:spPr>
        </p:cxnSp>
        <p:cxnSp>
          <p:nvCxnSpPr>
            <p:cNvPr id="464" name="Прямая со стрелкой 96"/>
            <p:cNvCxnSpPr/>
            <p:nvPr/>
          </p:nvCxnSpPr>
          <p:spPr>
            <a:xfrm>
              <a:off x="1951200" y="-1211760"/>
              <a:ext cx="585720" cy="2536200"/>
            </a:xfrm>
            <a:prstGeom prst="straightConnector1">
              <a:avLst/>
            </a:prstGeom>
            <a:ln w="158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65" name="Прямая со стрелкой 97"/>
            <p:cNvCxnSpPr/>
            <p:nvPr/>
          </p:nvCxnSpPr>
          <p:spPr>
            <a:xfrm>
              <a:off x="2111760" y="-1229400"/>
              <a:ext cx="408600" cy="2571480"/>
            </a:xfrm>
            <a:prstGeom prst="straightConnector1">
              <a:avLst/>
            </a:prstGeom>
            <a:ln w="15840">
              <a:solidFill>
                <a:srgbClr val="000000"/>
              </a:solidFill>
              <a:prstDash val="sysDot"/>
              <a:miter/>
            </a:ln>
          </p:spPr>
        </p:cxnSp>
      </p:grpSp>
      <p:pic>
        <p:nvPicPr>
          <p:cNvPr id="466" name="Рисунок 8" descr="glonass-m_250.gif"/>
          <p:cNvPicPr/>
          <p:nvPr/>
        </p:nvPicPr>
        <p:blipFill>
          <a:blip r:embed="rId5"/>
          <a:stretch/>
        </p:blipFill>
        <p:spPr>
          <a:xfrm>
            <a:off x="2195640" y="958680"/>
            <a:ext cx="688680" cy="7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8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5 -0.00047 C -0.04119 0.04417 -0.09633 0.03816 -0.12759 -0.01481 C -0.15868 -0.0673 -0.15403 -0.14732 -0.11765 -0.19219 C -0.08078 -0.23752 -0.02581 -0.23035 0.00513 -0.17762 C 0.03654 -0.12443 0.03221 -0.04603 -0.00465 -0.00047 Z">
                                      <p:cBhvr>
                                        <p:cTn id="199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8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56 6.38298E-007 C 0.12402 6.38298E-007 0.22609 0.1494 0.22673 0.33256 C 0.22721 0.51596 0.1245 0.66466 -0.00208 0.66166 C -0.12818 0.66466 -0.22929 0.51411 -0.23041 0.33117 C -0.22817 0.14917 -0.12899 0.00023 -0.00256 6.38298E-007 Z">
                                      <p:cBhvr>
                                        <p:cTn id="203" dur="8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5" dur="8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34706E-006 -1.08233E-006 C 0.12659 -1.08233E-006 0.22913 0.14732 0.22913 0.32863 C 0.22913 0.51018 0.12659 0.65726 -4.34706E-006 0.65726 C -0.12642 0.65726 -0.22864 0.51018 -0.22864 0.32863 C -0.22864 0.14732 -0.12642 -1.08233E-006 -4.34706E-006 -1.08233E-006 Z">
                                      <p:cBhvr>
                                        <p:cTn id="207" dur="8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8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34706E-006 -1.08233E-006 C 0.12659 -1.08233E-006 0.22913 0.14732 0.22913 0.32863 C 0.22913 0.51018 0.12659 0.65726 -4.34706E-006 0.65726 C -0.12642 0.65726 -0.22864 0.51018 -0.22864 0.32863 C -0.22864 0.14732 -0.12642 -1.08233E-006 -4.34706E-006 -1.08233E-006 Z">
                                      <p:cBhvr>
                                        <p:cTn id="214" dur="8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"/>
          <p:cNvSpPr/>
          <p:nvPr/>
        </p:nvSpPr>
        <p:spPr>
          <a:xfrm>
            <a:off x="309600" y="1489320"/>
            <a:ext cx="93232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 Обеспечение возможности  передачи  большого об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и  со спутника  на Зем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 Разработка приемо-измерительного бортового комплек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Скругленный прямоугольник 2"/>
          <p:cNvSpPr/>
          <p:nvPr/>
        </p:nvSpPr>
        <p:spPr>
          <a:xfrm>
            <a:off x="216000" y="1413000"/>
            <a:ext cx="9431280" cy="1569960"/>
          </a:xfrm>
          <a:prstGeom prst="roundRect">
            <a:avLst>
              <a:gd name="adj" fmla="val 8338"/>
            </a:avLst>
          </a:prstGeom>
          <a:noFill/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3"/>
          <p:cNvSpPr/>
          <p:nvPr/>
        </p:nvSpPr>
        <p:spPr>
          <a:xfrm>
            <a:off x="0" y="0"/>
            <a:ext cx="990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ополнительные технически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ля  эксперимента   радиопросвеч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болочек  планет на  трассе  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спутник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→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спу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"/>
          <p:cNvSpPr/>
          <p:nvPr/>
        </p:nvSpPr>
        <p:spPr>
          <a:xfrm>
            <a:off x="276120" y="3248640"/>
            <a:ext cx="93218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0000"/>
                </a:solidFill>
                <a:latin typeface="Arial"/>
              </a:rPr>
              <a:t>Главное достоинство радиофизических экспери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0000"/>
                </a:solidFill>
                <a:latin typeface="Arial"/>
              </a:rPr>
              <a:t>на  трассе   </a:t>
            </a:r>
            <a:r>
              <a:rPr b="0" i="1" lang="en-US" sz="2400" spc="-1" strike="noStrike">
                <a:solidFill>
                  <a:srgbClr val="da0000"/>
                </a:solidFill>
                <a:latin typeface="Arial"/>
              </a:rPr>
              <a:t>спутник планеты </a:t>
            </a:r>
            <a:r>
              <a:rPr b="0" i="1" lang="en-US" sz="2400" spc="-1" strike="noStrike">
                <a:solidFill>
                  <a:srgbClr val="da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da0000"/>
                </a:solidFill>
                <a:latin typeface="Arial"/>
              </a:rPr>
              <a:t>спутник планеты </a:t>
            </a:r>
            <a:r>
              <a:rPr b="0" lang="en-US" sz="2400" spc="-1" strike="noStrike">
                <a:solidFill>
                  <a:srgbClr val="da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0000"/>
                </a:solidFill>
                <a:latin typeface="Arial"/>
              </a:rPr>
              <a:t>отсутствие мешающего влияния земной ион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0000"/>
                </a:solidFill>
                <a:latin typeface="Arial"/>
              </a:rPr>
              <a:t>и   межпланетной  плазмы  на  трассе радиосвяз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0000"/>
                </a:solidFill>
                <a:latin typeface="Arial"/>
              </a:rPr>
              <a:t>что повышает  точность  полученной 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Разработка технических средств для такого эксперимента позволит   планировать  отечественные  экспер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для исследований ионосферы и атмосферы Земли и пла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Скругленный прямоугольник 8"/>
          <p:cNvSpPr/>
          <p:nvPr/>
        </p:nvSpPr>
        <p:spPr>
          <a:xfrm>
            <a:off x="272880" y="3213000"/>
            <a:ext cx="9431640" cy="3527640"/>
          </a:xfrm>
          <a:prstGeom prst="roundRect">
            <a:avLst>
              <a:gd name="adj" fmla="val 8338"/>
            </a:avLst>
          </a:prstGeom>
          <a:noFill/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Группа 73"/>
          <p:cNvGrpSpPr/>
          <p:nvPr/>
        </p:nvGrpSpPr>
        <p:grpSpPr>
          <a:xfrm>
            <a:off x="1692360" y="3995640"/>
            <a:ext cx="5759280" cy="5761080"/>
            <a:chOff x="1692360" y="3995640"/>
            <a:chExt cx="5759280" cy="5761080"/>
          </a:xfrm>
        </p:grpSpPr>
        <p:grpSp>
          <p:nvGrpSpPr>
            <p:cNvPr id="473" name="Группа 66"/>
            <p:cNvGrpSpPr/>
            <p:nvPr/>
          </p:nvGrpSpPr>
          <p:grpSpPr>
            <a:xfrm>
              <a:off x="1692360" y="3995640"/>
              <a:ext cx="5759280" cy="5761080"/>
              <a:chOff x="1692360" y="3995640"/>
              <a:chExt cx="5759280" cy="5761080"/>
            </a:xfrm>
          </p:grpSpPr>
          <p:sp>
            <p:nvSpPr>
              <p:cNvPr id="474" name="Пирог 48"/>
              <p:cNvSpPr/>
              <p:nvPr/>
            </p:nvSpPr>
            <p:spPr>
              <a:xfrm>
                <a:off x="1692360" y="3995640"/>
                <a:ext cx="5759280" cy="5761080"/>
              </a:xfrm>
              <a:custGeom>
                <a:avLst/>
                <a:gdLst>
                  <a:gd name="textAreaLeft" fmla="*/ 843480 w 5759280"/>
                  <a:gd name="textAreaRight" fmla="*/ 4915800 w 5759280"/>
                  <a:gd name="textAreaTop" fmla="*/ 843480 h 5761080"/>
                  <a:gd name="textAreaBottom" fmla="*/ 4917600 h 5761080"/>
                </a:gdLst>
                <a:ahLst/>
                <a:rect l="textAreaLeft" t="textAreaTop" r="textAreaRight" b="textAreaBottom"/>
                <a:pathLst>
                  <a:path w="5760000" h="5760000">
                    <a:moveTo>
                      <a:pt x="81" y="2858463"/>
                    </a:moveTo>
                    <a:lnTo>
                      <a:pt x="81" y="2858463"/>
                    </a:lnTo>
                    <a:arcTo wR="2880000" hR="2880000" stAng="-10774292" swAng="10755148"/>
                    <a:lnTo>
                      <a:pt x="2880000" y="2880000"/>
                    </a:lnTo>
                    <a:close/>
                  </a:path>
                </a:pathLst>
              </a:custGeom>
              <a:solidFill>
                <a:srgbClr val="b7dee8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Пирог 49"/>
              <p:cNvSpPr/>
              <p:nvPr/>
            </p:nvSpPr>
            <p:spPr>
              <a:xfrm>
                <a:off x="2682720" y="4966920"/>
                <a:ext cx="3778200" cy="3781440"/>
              </a:xfrm>
              <a:custGeom>
                <a:avLst/>
                <a:gdLst>
                  <a:gd name="textAreaLeft" fmla="*/ 553320 w 3778200"/>
                  <a:gd name="textAreaRight" fmla="*/ 3224880 w 3778200"/>
                  <a:gd name="textAreaTop" fmla="*/ 553680 h 3781440"/>
                  <a:gd name="textAreaBottom" fmla="*/ 3227760 h 3781440"/>
                </a:gdLst>
                <a:ahLst/>
                <a:rect l="textAreaLeft" t="textAreaTop" r="textAreaRight" b="textAreaBottom"/>
                <a:pathLst>
                  <a:path w="3778611" h="3780744">
                    <a:moveTo>
                      <a:pt x="53" y="1876244"/>
                    </a:moveTo>
                    <a:lnTo>
                      <a:pt x="53" y="1876244"/>
                    </a:lnTo>
                    <a:arcTo wR="1889306" hR="1890372" stAng="-10774293" swAng="10755149"/>
                    <a:lnTo>
                      <a:pt x="1889306" y="1890372"/>
                    </a:lnTo>
                    <a:close/>
                  </a:path>
                </a:pathLst>
              </a:custGeom>
              <a:solidFill>
                <a:srgbClr val="fcd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Пирог 50"/>
              <p:cNvSpPr/>
              <p:nvPr/>
            </p:nvSpPr>
            <p:spPr>
              <a:xfrm>
                <a:off x="3112920" y="5435280"/>
                <a:ext cx="2917800" cy="2916360"/>
              </a:xfrm>
              <a:custGeom>
                <a:avLst/>
                <a:gdLst>
                  <a:gd name="textAreaLeft" fmla="*/ 427320 w 2917800"/>
                  <a:gd name="textAreaRight" fmla="*/ 2490480 w 2917800"/>
                  <a:gd name="textAreaTop" fmla="*/ 426960 h 2916360"/>
                  <a:gd name="textAreaBottom" fmla="*/ 2489400 h 2916360"/>
                </a:gdLst>
                <a:ahLst/>
                <a:rect l="textAreaLeft" t="textAreaTop" r="textAreaRight" b="textAreaBottom"/>
                <a:pathLst>
                  <a:path w="2918104" h="2915713">
                    <a:moveTo>
                      <a:pt x="41" y="1446946"/>
                    </a:moveTo>
                    <a:lnTo>
                      <a:pt x="41" y="1446946"/>
                    </a:lnTo>
                    <a:arcTo wR="1459052" hR="1457857" stAng="-10774292" swAng="10755148"/>
                    <a:lnTo>
                      <a:pt x="1459052" y="1457857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7" name="Picture 5" descr=""/>
            <p:cNvPicPr/>
            <p:nvPr/>
          </p:nvPicPr>
          <p:blipFill>
            <a:blip r:embed="rId2"/>
            <a:srcRect l="0" t="0" r="0" b="7222"/>
            <a:stretch/>
          </p:blipFill>
          <p:spPr>
            <a:xfrm>
              <a:off x="3358080" y="5526000"/>
              <a:ext cx="2620080" cy="136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8" name="Группа 37"/>
          <p:cNvGrpSpPr/>
          <p:nvPr/>
        </p:nvGrpSpPr>
        <p:grpSpPr>
          <a:xfrm>
            <a:off x="-2520" y="3224880"/>
            <a:ext cx="9931320" cy="3500280"/>
            <a:chOff x="-2520" y="3224880"/>
            <a:chExt cx="9931320" cy="3500280"/>
          </a:xfrm>
        </p:grpSpPr>
        <p:sp>
          <p:nvSpPr>
            <p:cNvPr id="479" name="Прямая соединительная линия 3"/>
            <p:cNvSpPr/>
            <p:nvPr/>
          </p:nvSpPr>
          <p:spPr>
            <a:xfrm flipV="1">
              <a:off x="26280" y="3224880"/>
              <a:ext cx="9879120" cy="3600"/>
            </a:xfrm>
            <a:prstGeom prst="line">
              <a:avLst/>
            </a:prstGeom>
            <a:ln w="19080">
              <a:solidFill>
                <a:srgbClr val="7030a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Прямая соединительная линия 4"/>
            <p:cNvSpPr/>
            <p:nvPr/>
          </p:nvSpPr>
          <p:spPr>
            <a:xfrm flipV="1">
              <a:off x="1440" y="3956400"/>
              <a:ext cx="9875880" cy="360"/>
            </a:xfrm>
            <a:prstGeom prst="line">
              <a:avLst/>
            </a:prstGeom>
            <a:ln w="19080">
              <a:solidFill>
                <a:srgbClr val="7030a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5"/>
            <p:cNvSpPr/>
            <p:nvPr/>
          </p:nvSpPr>
          <p:spPr>
            <a:xfrm>
              <a:off x="4982040" y="5801760"/>
              <a:ext cx="4938120" cy="720"/>
            </a:xfrm>
            <a:prstGeom prst="line">
              <a:avLst/>
            </a:prstGeom>
            <a:ln w="19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Прямая соединительная линия 6"/>
            <p:cNvSpPr/>
            <p:nvPr/>
          </p:nvSpPr>
          <p:spPr>
            <a:xfrm>
              <a:off x="5653440" y="6719760"/>
              <a:ext cx="4225320" cy="0"/>
            </a:xfrm>
            <a:prstGeom prst="line">
              <a:avLst/>
            </a:prstGeom>
            <a:ln w="19080">
              <a:solidFill>
                <a:srgbClr val="0c600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Прямая соединительная линия 7"/>
            <p:cNvSpPr/>
            <p:nvPr/>
          </p:nvSpPr>
          <p:spPr>
            <a:xfrm>
              <a:off x="5568480" y="6432840"/>
              <a:ext cx="4328640" cy="0"/>
            </a:xfrm>
            <a:prstGeom prst="line">
              <a:avLst/>
            </a:prstGeom>
            <a:ln w="19080">
              <a:solidFill>
                <a:srgbClr val="0c600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Прямая соединительная линия 8"/>
            <p:cNvSpPr/>
            <p:nvPr/>
          </p:nvSpPr>
          <p:spPr>
            <a:xfrm>
              <a:off x="13680" y="4577760"/>
              <a:ext cx="9877320" cy="720"/>
            </a:xfrm>
            <a:prstGeom prst="line">
              <a:avLst/>
            </a:prstGeom>
            <a:ln w="19080">
              <a:solidFill>
                <a:srgbClr val="7030a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Прямая соединительная линия 9"/>
            <p:cNvSpPr/>
            <p:nvPr/>
          </p:nvSpPr>
          <p:spPr>
            <a:xfrm flipV="1">
              <a:off x="4560840" y="4298040"/>
              <a:ext cx="5345640" cy="360"/>
            </a:xfrm>
            <a:prstGeom prst="line">
              <a:avLst/>
            </a:prstGeom>
            <a:ln w="1908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Прямая соединительная линия 10"/>
            <p:cNvSpPr/>
            <p:nvPr/>
          </p:nvSpPr>
          <p:spPr>
            <a:xfrm>
              <a:off x="4584600" y="4927680"/>
              <a:ext cx="5344200" cy="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Прямая соединительная линия 11"/>
            <p:cNvSpPr/>
            <p:nvPr/>
          </p:nvSpPr>
          <p:spPr>
            <a:xfrm flipV="1">
              <a:off x="4550040" y="4759560"/>
              <a:ext cx="5346360" cy="1080"/>
            </a:xfrm>
            <a:prstGeom prst="line">
              <a:avLst/>
            </a:prstGeom>
            <a:ln w="1908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Прямая соединительная линия 12"/>
            <p:cNvSpPr/>
            <p:nvPr/>
          </p:nvSpPr>
          <p:spPr>
            <a:xfrm>
              <a:off x="4598640" y="5226120"/>
              <a:ext cx="52934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13"/>
            <p:cNvSpPr/>
            <p:nvPr/>
          </p:nvSpPr>
          <p:spPr>
            <a:xfrm>
              <a:off x="4872240" y="5720760"/>
              <a:ext cx="5040000" cy="0"/>
            </a:xfrm>
            <a:prstGeom prst="line">
              <a:avLst/>
            </a:prstGeom>
            <a:ln w="19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Прямая соединительная линия 14"/>
            <p:cNvSpPr/>
            <p:nvPr/>
          </p:nvSpPr>
          <p:spPr>
            <a:xfrm>
              <a:off x="4598640" y="5397480"/>
              <a:ext cx="52934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Прямая соединительная линия 15"/>
            <p:cNvSpPr/>
            <p:nvPr/>
          </p:nvSpPr>
          <p:spPr>
            <a:xfrm>
              <a:off x="5410080" y="6144120"/>
              <a:ext cx="4478760" cy="0"/>
            </a:xfrm>
            <a:prstGeom prst="line">
              <a:avLst/>
            </a:prstGeom>
            <a:ln w="19080">
              <a:solidFill>
                <a:srgbClr val="0c600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Прямая соединительная линия 16"/>
            <p:cNvSpPr/>
            <p:nvPr/>
          </p:nvSpPr>
          <p:spPr>
            <a:xfrm>
              <a:off x="-2520" y="4069080"/>
              <a:ext cx="4577040" cy="232560"/>
            </a:xfrm>
            <a:prstGeom prst="line">
              <a:avLst/>
            </a:prstGeom>
            <a:ln w="22320">
              <a:solidFill>
                <a:srgbClr val="7030a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Прямая соединительная линия 17"/>
            <p:cNvSpPr/>
            <p:nvPr/>
          </p:nvSpPr>
          <p:spPr>
            <a:xfrm flipV="1">
              <a:off x="59400" y="5400360"/>
              <a:ext cx="4524480" cy="1324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Прямая соединительная линия 18"/>
            <p:cNvSpPr/>
            <p:nvPr/>
          </p:nvSpPr>
          <p:spPr>
            <a:xfrm flipV="1">
              <a:off x="0" y="5229000"/>
              <a:ext cx="4589640" cy="80316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Прямая соединительная линия 19"/>
            <p:cNvSpPr/>
            <p:nvPr/>
          </p:nvSpPr>
          <p:spPr>
            <a:xfrm flipV="1">
              <a:off x="0" y="4929480"/>
              <a:ext cx="4589640" cy="41256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Прямая соединительная линия 20"/>
            <p:cNvSpPr/>
            <p:nvPr/>
          </p:nvSpPr>
          <p:spPr>
            <a:xfrm flipV="1">
              <a:off x="0" y="4761000"/>
              <a:ext cx="4552920" cy="172800"/>
            </a:xfrm>
            <a:prstGeom prst="line">
              <a:avLst/>
            </a:prstGeom>
            <a:ln w="22320">
              <a:solidFill>
                <a:srgbClr val="7030a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Прямая соединительная линия 21"/>
            <p:cNvSpPr/>
            <p:nvPr/>
          </p:nvSpPr>
          <p:spPr>
            <a:xfrm>
              <a:off x="0" y="3740400"/>
              <a:ext cx="5004000" cy="2071440"/>
            </a:xfrm>
            <a:prstGeom prst="line">
              <a:avLst/>
            </a:prstGeom>
            <a:ln w="22320">
              <a:solidFill>
                <a:srgbClr val="00b05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Прямая соединительная линия 22"/>
            <p:cNvSpPr/>
            <p:nvPr/>
          </p:nvSpPr>
          <p:spPr>
            <a:xfrm>
              <a:off x="0" y="4604040"/>
              <a:ext cx="4899240" cy="1110960"/>
            </a:xfrm>
            <a:prstGeom prst="line">
              <a:avLst/>
            </a:prstGeom>
            <a:ln w="22320">
              <a:solidFill>
                <a:srgbClr val="00b05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Прямая соединительная линия 23"/>
            <p:cNvSpPr/>
            <p:nvPr/>
          </p:nvSpPr>
          <p:spPr>
            <a:xfrm flipV="1">
              <a:off x="1440" y="3669120"/>
              <a:ext cx="9875880" cy="360"/>
            </a:xfrm>
            <a:prstGeom prst="line">
              <a:avLst/>
            </a:prstGeom>
            <a:ln w="19080">
              <a:solidFill>
                <a:srgbClr val="7030a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Группа 38"/>
          <p:cNvGrpSpPr/>
          <p:nvPr/>
        </p:nvGrpSpPr>
        <p:grpSpPr>
          <a:xfrm>
            <a:off x="-1800" y="6102360"/>
            <a:ext cx="9866160" cy="636480"/>
            <a:chOff x="-1800" y="6102360"/>
            <a:chExt cx="9866160" cy="636480"/>
          </a:xfrm>
        </p:grpSpPr>
        <p:sp>
          <p:nvSpPr>
            <p:cNvPr id="501" name="Прямая соединительная линия 41"/>
            <p:cNvSpPr/>
            <p:nvPr/>
          </p:nvSpPr>
          <p:spPr>
            <a:xfrm flipH="1">
              <a:off x="5760720" y="6696000"/>
              <a:ext cx="4103640" cy="0"/>
            </a:xfrm>
            <a:prstGeom prst="line">
              <a:avLst/>
            </a:prstGeom>
            <a:ln w="31680">
              <a:solidFill>
                <a:srgbClr val="00b05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Прямая соединительная линия 42"/>
            <p:cNvSpPr/>
            <p:nvPr/>
          </p:nvSpPr>
          <p:spPr>
            <a:xfrm>
              <a:off x="720" y="6102360"/>
              <a:ext cx="5446800" cy="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Прямая соединительная линия 43"/>
            <p:cNvSpPr/>
            <p:nvPr/>
          </p:nvSpPr>
          <p:spPr>
            <a:xfrm>
              <a:off x="-1440" y="6378840"/>
              <a:ext cx="560052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Прямая соединительная линия 44"/>
            <p:cNvSpPr/>
            <p:nvPr/>
          </p:nvSpPr>
          <p:spPr>
            <a:xfrm>
              <a:off x="-1800" y="6738840"/>
              <a:ext cx="570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Прямая соединительная линия 39"/>
            <p:cNvSpPr/>
            <p:nvPr/>
          </p:nvSpPr>
          <p:spPr>
            <a:xfrm flipH="1">
              <a:off x="5471640" y="6120000"/>
              <a:ext cx="4321080" cy="0"/>
            </a:xfrm>
            <a:prstGeom prst="line">
              <a:avLst/>
            </a:prstGeom>
            <a:ln w="31680">
              <a:solidFill>
                <a:srgbClr val="00b05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Прямая соединительная линия 40"/>
            <p:cNvSpPr/>
            <p:nvPr/>
          </p:nvSpPr>
          <p:spPr>
            <a:xfrm flipH="1">
              <a:off x="5687640" y="6408720"/>
              <a:ext cx="4140360" cy="0"/>
            </a:xfrm>
            <a:prstGeom prst="line">
              <a:avLst/>
            </a:prstGeom>
            <a:ln w="31680">
              <a:solidFill>
                <a:srgbClr val="00b05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7" name="Picture 2" descr="D:\ГАВРИК_2009\Засова\Рисунок2.png"/>
          <p:cNvPicPr/>
          <p:nvPr/>
        </p:nvPicPr>
        <p:blipFill>
          <a:blip r:embed="rId3"/>
          <a:stretch/>
        </p:blipFill>
        <p:spPr>
          <a:xfrm rot="19386600">
            <a:off x="81000" y="2517480"/>
            <a:ext cx="1090440" cy="5540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7" descr=""/>
          <p:cNvPicPr/>
          <p:nvPr/>
        </p:nvPicPr>
        <p:blipFill>
          <a:blip r:embed="rId4"/>
          <a:stretch/>
        </p:blipFill>
        <p:spPr>
          <a:xfrm>
            <a:off x="4017960" y="2895480"/>
            <a:ext cx="736560" cy="6890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"/>
          <p:cNvSpPr/>
          <p:nvPr/>
        </p:nvSpPr>
        <p:spPr>
          <a:xfrm>
            <a:off x="0" y="55080"/>
            <a:ext cx="99061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й  перспективный  проект  ─  эксперимент  радиопросвечивания  с  использованием мощных наземных передатчиков когерентных сигналов и бортовых приемных комплек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cde5"/>
                </a:solidFill>
                <a:latin typeface="Arial"/>
              </a:rPr>
              <a:t>Направив наземную излучающую антенну на планету, формируем радиополе диаметром 500 тыс. км и обеспечиваем возможность приема сигналов всеми ОА на орбите план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ительность  одного  сеанса,  начинающегося  при  заходе   ОА  за  планету  и заканчивающегося  после  выхода   ОА   из-за  планеты,  составляет  1 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cde5"/>
                </a:solidFill>
                <a:latin typeface="Arial"/>
              </a:rPr>
              <a:t>Одновременно можно проводить  6  экспериментов,  помимо работы других приб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45"/>
          <p:cNvSpPr/>
          <p:nvPr/>
        </p:nvSpPr>
        <p:spPr>
          <a:xfrm>
            <a:off x="6854400" y="637236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Регулярная радиолок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46"/>
          <p:cNvSpPr/>
          <p:nvPr/>
        </p:nvSpPr>
        <p:spPr>
          <a:xfrm>
            <a:off x="7128720" y="537372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"/>
              </a:rPr>
              <a:t>Бистатическая  лок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47"/>
          <p:cNvSpPr/>
          <p:nvPr/>
        </p:nvSpPr>
        <p:spPr>
          <a:xfrm>
            <a:off x="1295280" y="3348000"/>
            <a:ext cx="88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92e"/>
                </a:solidFill>
                <a:latin typeface="Arial"/>
              </a:rPr>
              <a:t>Межпланетная плазма на двух разнесенных трассах Земля</a:t>
            </a:r>
            <a:r>
              <a:rPr b="0" lang="en-US" sz="1800" spc="-1" strike="noStrike">
                <a:solidFill>
                  <a:srgbClr val="eee92e"/>
                </a:solidFill>
                <a:latin typeface="Times New Roman"/>
                <a:ea typeface="Times New Roman"/>
              </a:rPr>
              <a:t>→</a:t>
            </a:r>
            <a:r>
              <a:rPr b="0" lang="en-US" sz="1800" spc="-1" strike="noStrike">
                <a:solidFill>
                  <a:srgbClr val="eee92e"/>
                </a:solidFill>
                <a:latin typeface="Arial"/>
              </a:rPr>
              <a:t>ОА и Земля</a:t>
            </a:r>
            <a:r>
              <a:rPr b="0" lang="en-US" sz="1800" spc="-1" strike="noStrike">
                <a:solidFill>
                  <a:srgbClr val="eee92e"/>
                </a:solidFill>
                <a:latin typeface="Times New Roman"/>
                <a:ea typeface="Times New Roman"/>
              </a:rPr>
              <a:t>→</a:t>
            </a:r>
            <a:r>
              <a:rPr b="0" lang="en-US" sz="1800" spc="-1" strike="noStrike">
                <a:solidFill>
                  <a:srgbClr val="eee92e"/>
                </a:solidFill>
                <a:latin typeface="Arial"/>
              </a:rPr>
              <a:t>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51"/>
          <p:cNvSpPr/>
          <p:nvPr/>
        </p:nvSpPr>
        <p:spPr>
          <a:xfrm>
            <a:off x="940320" y="26640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92e"/>
                </a:solidFill>
                <a:latin typeface="Arial"/>
              </a:rPr>
              <a:t>О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52"/>
          <p:cNvSpPr/>
          <p:nvPr/>
        </p:nvSpPr>
        <p:spPr>
          <a:xfrm>
            <a:off x="4153680" y="27003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92e"/>
                </a:solidFill>
                <a:latin typeface="Arial"/>
              </a:rPr>
              <a:t>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53"/>
          <p:cNvSpPr/>
          <p:nvPr/>
        </p:nvSpPr>
        <p:spPr>
          <a:xfrm>
            <a:off x="4564080" y="3924360"/>
            <a:ext cx="55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Двухчастотное радиопросвечивание ионосф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54"/>
          <p:cNvSpPr/>
          <p:nvPr/>
        </p:nvSpPr>
        <p:spPr>
          <a:xfrm>
            <a:off x="4521240" y="485928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вухчастотное радиопросвечивание атмосф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55"/>
          <p:cNvSpPr/>
          <p:nvPr/>
        </p:nvSpPr>
        <p:spPr>
          <a:xfrm rot="16200000">
            <a:off x="-1452600" y="449244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К   и н о п л а н е т я н а м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…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9259E-006 L 0.00764 2.59259E-006 L 0.00764 0.61713 L -3.61111E-006 0.61713 L -3.61111E-006 2.59259E-006 Z">
                                      <p:cBhvr>
                                        <p:cTn id="223" dur="60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88696E-006 2.22222E-006 L -0.00706 2.22222E-006 L -0.00706 0.60972 L 4.88696E-006 0.60972 L 4.88696E-006 2.22222E-006 Z">
                                      <p:cBhvr>
                                        <p:cTn id="228" dur="60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33" dur="80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317 -1.85185E-006 L -0.00321 -1.85185E-006 E">
                                      <p:cBhvr>
                                        <p:cTn id="238" dur="100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evt="end">
                                        <p:tn val="239"/>
                                      </p:cond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43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evt="end">
                                        <p:tn val="243"/>
                                      </p:cond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47" nodeType="with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"/>
          <p:cNvSpPr/>
          <p:nvPr/>
        </p:nvSpPr>
        <p:spPr>
          <a:xfrm>
            <a:off x="345960" y="-68400"/>
            <a:ext cx="9431280" cy="70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олучение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ринципиально новых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научных результатов  возможно при увеличении точности и информативности методов просвечивания, локации и  бистатической  локации на 2-х когерентных частотах, что достигается тольк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величением  отношения  сигнал/шум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на  входе  приемных  устр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Мощность принятого сигнала  прямо пропорциональна  плотности потока мощности у приемной антенны, при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излучении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с Земли более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10 кВт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(вместо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50 Вт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с борта О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достигается увеличение отношения  сигнал/шум  не менее чем на порядок  по сравнению  с  традиционными  экспериме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рием  сигналов  на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вух ортогональных поляризациях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необходим  в экспериментах  локации,  бистатической  локации,  при  радиопросвечивании атмосферы,  ионосферы,  пылевых  компонент комет  и  планетных кол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величение количества сеансов просвечивания и  бистатической локации  за счет использования для экспериментов ОА и СС  обеспечит значительное  увеличение объема информации,  что является главным условием для выяв-ления аномальных свойств газовых оболочек планет и,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самое главное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, для исследования свойств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иповерхностной атмосферы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ене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ри  определенных орбитах   ОА  и  СС  появляется  возможность  почти одновременного радиопросвечивания разных или близких областей газовой оболочки  планеты,  что  позволит  изучать  ее  динам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Такая схема экспериментов,  видимо,  будет единственно возможной при исследованиях далеких внешних планет солнечной системы, т.к. обеспеч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высокое  отношение  сигнал/шум  на  входе  прием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Скругленный прямоугольник 2"/>
          <p:cNvSpPr/>
          <p:nvPr/>
        </p:nvSpPr>
        <p:spPr>
          <a:xfrm>
            <a:off x="182520" y="77760"/>
            <a:ext cx="9541080" cy="6735960"/>
          </a:xfrm>
          <a:prstGeom prst="roundRect">
            <a:avLst>
              <a:gd name="adj" fmla="val 8338"/>
            </a:avLst>
          </a:prstGeom>
          <a:noFill/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09:55:33Z</dcterms:created>
  <dc:creator>lab114</dc:creator>
  <dc:description/>
  <dc:language>en-US</dc:language>
  <cp:lastModifiedBy>5k310kh</cp:lastModifiedBy>
  <dcterms:modified xsi:type="dcterms:W3CDTF">2011-07-04T10:57:32Z</dcterms:modified>
  <cp:revision>1652</cp:revision>
  <dc:subject/>
  <dc:title>Слайд 1</dc:title>
</cp:coreProperties>
</file>