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245-B9D7-4198-BDAC-695326A7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174-0A03-4E38-B391-76952784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3E8-BEE3-4DF2-8B0C-05FF99F9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F2A-6A33-49CE-8479-ED94DC1F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13D8-8540-4A08-874F-2428BFFD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26EF-AB30-43B6-8D3C-70B5945B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997F-E96A-4311-9C2B-C4A2B20D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52FB-672E-4AE0-9782-134E19DB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7EE5-02FD-44C3-A95B-EA22639E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0579-003F-430E-BE6C-353E3938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6123-A9E5-40B7-9EF9-0168CF8C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8938-9FFF-4604-8A89-A540CA71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CDC6-B34D-4B0E-9565-8B67637D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48CD-B735-43F0-A891-F7016CE9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E1D2-5FB3-4981-9B71-16C911DB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488E-FE89-48DB-9EFE-6BFFA893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4D38-AA31-4186-97C4-E1AA943A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316-7B30-4F88-B321-D5407F69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BD66-966F-4AC2-BD46-E65A3365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72B-89CB-4AD4-B223-7A0BD636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744-2E75-489C-9BB5-1C5576E5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31A-9905-41B9-AC59-17DC6468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7C0-F61B-4ACE-B2F8-A7D92634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ED6-31B4-4453-96FE-A45178C9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elestial Mechanical Experiment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    in Phobos Soil project.</a:t>
            </a:r>
            <a:br>
              <a:rPr sz="4400"/>
            </a:b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Ultra stable occilator on S/C  board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Linkin V., Kosov A., Gotlib V., Zotov V., Korogod V., Skulachev D., Strukov 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IKI 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GSC VLBI  Frequen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W:  84000MHz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ne:  +/- 20MH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Wat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History of this Experi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Project «Phobos»  1988,  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Particip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ts: IKI, IPM, MGU(GAISH)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JPL(US), SA (F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Mesuriments: D,D’,Libration, VLB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3520" y="4343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205560" indent="-205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Wanted Participants for this Experiment for Phobos Soil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5791320"/>
            <a:ext cx="59436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IKI, IPM, MGU (GAISH), JIVE (EU), JPL (US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Scintific Implic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Phobos, Mars Efemeri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Phobos internal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Asteroid Mass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Time variability of gravitational consta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Test of General relativ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Connection VLBI and dinamical coordina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Requirments for Mesurime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Phob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5333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-19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Eccurec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Distance ~ 5m, Doppler velocity ~0.1mm/s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5480" indent="-19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VLBI ~ 10m (on Phobo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2286000"/>
            <a:ext cx="457200" cy="838080"/>
          </a:xfrm>
          <a:prstGeom prst="ellipse">
            <a:avLst/>
          </a:prstGeom>
          <a:solidFill>
            <a:srgbClr val="00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4343400"/>
            <a:ext cx="1219320" cy="1143000"/>
          </a:xfrm>
          <a:prstGeom prst="ellipse">
            <a:avLst/>
          </a:prstGeom>
          <a:solidFill>
            <a:srgbClr val="ff7c8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790600" y="4572000"/>
            <a:ext cx="22860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025" y="2234"/>
                  <a:pt x="12450" y="5080"/>
                  <a:pt x="12450" y="10800"/>
                </a:cubicBezTo>
                <a:cubicBezTo>
                  <a:pt x="12450" y="16520"/>
                  <a:pt x="17025" y="19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124080"/>
            <a:ext cx="4267080" cy="1600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57200" y="31860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S/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94800" y="3851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63760" y="316548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D, D’, VLB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914400" y="2361960"/>
            <a:ext cx="53352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Peculiarity of Experi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mars &gt;&gt;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phob &gt;&gt;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S/C,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mars &gt;&gt;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ph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Nongravitational forses for Phobos are negligible  for orbit determin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It is possibal to integrate equation of motion during long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907920"/>
            <a:ext cx="2952720" cy="541440"/>
          </a:xfrm>
          <a:prstGeom prst="rect">
            <a:avLst/>
          </a:prstGeom>
          <a:solidFill>
            <a:srgbClr val="dddddd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LB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-599400" y="-2667960"/>
            <a:ext cx="7505640" cy="7503120"/>
            <a:chOff x="-599400" y="-2667960"/>
            <a:chExt cx="7505640" cy="7503120"/>
          </a:xfrm>
        </p:grpSpPr>
        <p:sp>
          <p:nvSpPr>
            <p:cNvPr id="109" name=""/>
            <p:cNvSpPr/>
            <p:nvPr/>
          </p:nvSpPr>
          <p:spPr>
            <a:xfrm rot="8074200">
              <a:off x="554760" y="-1624320"/>
              <a:ext cx="5196960" cy="541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7" y="1"/>
                  </a:moveTo>
                  <a:arcTo wR="10800" hR="10800" stAng="-5448794" swAng="54487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7" y="1"/>
                  </a:moveTo>
                  <a:arcTo wR="10800" hR="10800" stAng="-5448794" swAng="5448794"/>
                </a:path>
              </a:pathLst>
            </a:cu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32000" y="2296440"/>
              <a:ext cx="152280" cy="444960"/>
            </a:xfrm>
            <a:prstGeom prst="downArrow">
              <a:avLst>
                <a:gd name="adj1" fmla="val 50000"/>
                <a:gd name="adj2" fmla="val 73050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14720" y="2296440"/>
              <a:ext cx="152640" cy="444960"/>
            </a:xfrm>
            <a:prstGeom prst="downArrow">
              <a:avLst>
                <a:gd name="adj1" fmla="val 50000"/>
                <a:gd name="adj2" fmla="val 7287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25760" y="2296440"/>
              <a:ext cx="152280" cy="444960"/>
            </a:xfrm>
            <a:prstGeom prst="downArrow">
              <a:avLst>
                <a:gd name="adj1" fmla="val 50000"/>
                <a:gd name="adj2" fmla="val 73050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19520" y="2296440"/>
              <a:ext cx="152280" cy="444960"/>
            </a:xfrm>
            <a:prstGeom prst="downArrow">
              <a:avLst>
                <a:gd name="adj1" fmla="val 50000"/>
                <a:gd name="adj2" fmla="val 73050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29040" y="3705840"/>
              <a:ext cx="380880" cy="29664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2520" y="2964240"/>
              <a:ext cx="3733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09960" y="24447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5508720" y="2518920"/>
                  <a:ext cx="1130040" cy="100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ϑ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" name=""/>
          <p:cNvGrpSpPr/>
          <p:nvPr/>
        </p:nvGrpSpPr>
        <p:grpSpPr>
          <a:xfrm>
            <a:off x="776160" y="3861360"/>
            <a:ext cx="5852880" cy="1502640"/>
            <a:chOff x="776160" y="3861360"/>
            <a:chExt cx="5852880" cy="1502640"/>
          </a:xfrm>
        </p:grpSpPr>
        <p:sp>
          <p:nvSpPr>
            <p:cNvPr id="119" name=""/>
            <p:cNvSpPr/>
            <p:nvPr/>
          </p:nvSpPr>
          <p:spPr>
            <a:xfrm rot="8167200">
              <a:off x="965160" y="4050360"/>
              <a:ext cx="913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99960" y="49831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39560" y="4221000"/>
              <a:ext cx="152280" cy="4572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20840" y="422100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8167200">
              <a:off x="4546440" y="4050360"/>
              <a:ext cx="913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1240" y="49831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39560" y="5364000"/>
              <a:ext cx="3733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8000" y="47448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5532120" y="4297320"/>
                  <a:ext cx="1096920" cy="103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ϑ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" name=""/>
          <p:cNvSpPr/>
          <p:nvPr/>
        </p:nvSpPr>
        <p:spPr>
          <a:xfrm>
            <a:off x="76802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29880" y="46656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华文细黑"/>
              </a:rPr>
              <a:t>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826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华文细黑"/>
                <a:ea typeface="华文细黑"/>
              </a:rPr>
              <a:t>VLBI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695920" y="914400"/>
            <a:ext cx="3448080" cy="4876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802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16040" y="1752480"/>
            <a:ext cx="820800" cy="276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不同的到达时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75240" y="2362320"/>
            <a:ext cx="455040" cy="276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原子钟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08200" y="3200400"/>
            <a:ext cx="455040" cy="276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原子钟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4805280"/>
            <a:ext cx="937800" cy="276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互相关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信号检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75920" y="4348080"/>
            <a:ext cx="535680" cy="1006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可观测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振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相位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延迟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延迟率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1071720"/>
            <a:ext cx="2210040" cy="398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VLBI</a:t>
            </a:r>
            <a:r>
              <a:rPr b="1" lang="en-US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结构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989000"/>
            <a:ext cx="5616720" cy="9716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VeryLongBaselineInterferometry</a:t>
            </a: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ADCs</a:t>
            </a: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independent local oscillat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3680" y="3284640"/>
            <a:ext cx="18997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From 1960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60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ta VLB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R/DOD/VLB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 observables: several  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859280" y="1844640"/>
            <a:ext cx="3809880" cy="37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732960"/>
            <a:ext cx="5186520" cy="1019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RUSSIA  VLBI network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87280" y="1676520"/>
            <a:ext cx="648036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732960"/>
            <a:ext cx="576252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Deep Space VLBI Syste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1628640"/>
            <a:ext cx="1871640" cy="5050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SHANGHA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227664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BEIJ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299736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KUN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364500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JIVE</a:t>
            </a:r>
            <a:r>
              <a:rPr b="1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JIVEUMQ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92360" y="4292640"/>
            <a:ext cx="1942920" cy="50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细黑"/>
                <a:ea typeface="华文细黑"/>
              </a:rPr>
              <a:t>RUSSIA-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2779560"/>
            <a:ext cx="3313080" cy="2305080"/>
          </a:xfrm>
          <a:prstGeom prst="bevel">
            <a:avLst>
              <a:gd name="adj" fmla="val 12500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16360" y="2924280"/>
            <a:ext cx="2590920" cy="1584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细黑"/>
                <a:ea typeface="华文细黑"/>
              </a:rPr>
              <a:t>VLBI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1916280"/>
            <a:ext cx="1081080" cy="14396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2563920"/>
            <a:ext cx="1081080" cy="1008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3284640"/>
            <a:ext cx="1081080" cy="360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635280" y="3715920"/>
            <a:ext cx="1081080" cy="14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635280" y="3860640"/>
            <a:ext cx="1008000" cy="648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635280" y="4005360"/>
            <a:ext cx="1008000" cy="12952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635280" y="4221000"/>
            <a:ext cx="1008000" cy="19432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628640"/>
            <a:ext cx="1655640" cy="649440"/>
          </a:xfrm>
          <a:prstGeom prst="wedgeRoundRectCallout">
            <a:avLst>
              <a:gd name="adj1" fmla="val -75310"/>
              <a:gd name="adj2" fmla="val 140222"/>
              <a:gd name="adj3" fmla="val 16667"/>
            </a:avLst>
          </a:prstGeom>
          <a:solidFill>
            <a:srgbClr val="dddddd"/>
          </a:solidFill>
          <a:ln w="9360">
            <a:solidFill>
              <a:srgbClr val="cc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ahoma"/>
                <a:ea typeface="华文细黑"/>
              </a:rPr>
              <a:t>Intel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>
            <a:off x="3635280" y="1844280"/>
            <a:ext cx="432720" cy="1080"/>
          </a:xfrm>
          <a:prstGeom prst="bentConnector2">
            <a:avLst/>
          </a:prstGeom>
          <a:ln w="0">
            <a:noFill/>
          </a:ln>
        </p:spPr>
      </p:cxnSp>
      <p:cxnSp>
        <p:nvCxnSpPr>
          <p:cNvPr id="163" name=""/>
          <p:cNvCxnSpPr>
            <a:stCxn id="147" idx="3"/>
            <a:endCxn id="156" idx="0"/>
          </p:cNvCxnSpPr>
          <p:nvPr/>
        </p:nvCxnSpPr>
        <p:spPr>
          <a:xfrm>
            <a:off x="3564000" y="1881360"/>
            <a:ext cx="72000" cy="1375200"/>
          </a:xfrm>
          <a:prstGeom prst="bentConnector2">
            <a:avLst/>
          </a:prstGeom>
          <a:ln w="0">
            <a:noFill/>
          </a:ln>
        </p:spPr>
      </p:cxnSp>
      <p:cxnSp>
        <p:nvCxnSpPr>
          <p:cNvPr id="164" name=""/>
          <p:cNvCxnSpPr>
            <a:stCxn id="154" idx="0"/>
            <a:endCxn id="157" idx="0"/>
          </p:cNvCxnSpPr>
          <p:nvPr/>
        </p:nvCxnSpPr>
        <p:spPr>
          <a:xfrm flipH="1" rot="16200000">
            <a:off x="3274560" y="2246760"/>
            <a:ext cx="1802520" cy="1081800"/>
          </a:xfrm>
          <a:prstGeom prst="bentConnector5">
            <a:avLst>
              <a:gd name="adj1" fmla="val -11086"/>
              <a:gd name="adj2" fmla="val 121138"/>
              <a:gd name="adj3" fmla="val 91530"/>
            </a:avLst>
          </a:prstGeom>
          <a:ln w="0">
            <a:noFill/>
          </a:ln>
        </p:spPr>
      </p:cxnSp>
      <p:cxnSp>
        <p:nvCxnSpPr>
          <p:cNvPr id="165" name=""/>
          <p:cNvCxnSpPr>
            <a:stCxn id="147" idx="3"/>
            <a:endCxn id="154" idx="0"/>
          </p:cNvCxnSpPr>
          <p:nvPr/>
        </p:nvCxnSpPr>
        <p:spPr>
          <a:xfrm>
            <a:off x="3564000" y="1881000"/>
            <a:ext cx="72000" cy="6840"/>
          </a:xfrm>
          <a:prstGeom prst="bentConnector2">
            <a:avLst/>
          </a:prstGeom>
          <a:ln w="0">
            <a:noFill/>
          </a:ln>
        </p:spPr>
      </p:cxnSp>
      <p:sp>
        <p:nvSpPr>
          <p:cNvPr id="166" name=""/>
          <p:cNvSpPr/>
          <p:nvPr/>
        </p:nvSpPr>
        <p:spPr>
          <a:xfrm>
            <a:off x="2124000" y="537228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19640" y="522936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5013360"/>
            <a:ext cx="1942920" cy="50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细黑"/>
                <a:ea typeface="华文细黑"/>
              </a:rPr>
              <a:t>RUSSIA-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5732640"/>
            <a:ext cx="1942920" cy="504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细黑"/>
                <a:ea typeface="华文细黑"/>
              </a:rPr>
              <a:t>RUSSIA-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9:12:12Z</dcterms:created>
  <dc:creator>Ђ­п</dc:creator>
  <dc:description/>
  <dc:language>en-US</dc:language>
  <cp:lastModifiedBy>Ђ­п</cp:lastModifiedBy>
  <dcterms:modified xsi:type="dcterms:W3CDTF">2011-07-01T10:49:02Z</dcterms:modified>
  <cp:revision>5</cp:revision>
  <dc:subject/>
  <dc:title>Celestial Mechanical Experiment      in Phobos Soil project. Ultra stable occilator on S/C  board          </dc:title>
</cp:coreProperties>
</file>