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8F6-0B5F-4C2B-A838-BD690225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2EF-396A-4469-ADCE-26CC936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37E-6A6E-4EC9-9BF7-46FF6774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D5C-89F0-466D-9F0E-3E058649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6A1E-F062-4D1C-B23C-13A1D5DC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9062-488A-432E-94D4-7D416C17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3969-FA6A-4A4A-9A96-BB77DA2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E81-F8ED-41D9-A10C-A97AB6A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DBC-2FF2-4577-8704-75705D78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9A85-280B-4AED-A35D-8188268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E830-6B12-4F52-85E8-78ABA95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128-CF44-4E5F-A7D2-838C623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C48B-9ACA-4062-93D3-84D1BDE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3226-96A4-489C-AF57-C0936C7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74C5-EFE2-4D40-998E-659A5A7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73D8-ADD2-4C7F-9DF2-21E2E1F6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C829-4252-4E47-9A5D-301B642B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1A4F-C8A1-4888-B3F7-662D0C0A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24D5-ED51-44D5-8704-7F00E26D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4FC9-109B-416C-982E-A9DEF344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93DC-72DD-43DE-88FE-8AED8F5C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63EBE-D4F4-4024-B5F3-436CEFF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56D-E7EE-4E1E-8D52-42AF970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21D4-926D-4BE2-BDC5-2F385056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75D7-12E6-46B5-9FD4-52B143A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3E9A-7D15-47FE-8C61-7018A7C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5A42-78FC-4A58-830E-D9DBB1D0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FE01-57F7-4944-BE16-4844D330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F02C-6167-4949-A75B-AB8D433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4961-9815-4564-AD3A-10ED67DD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C12E-B6EC-4FE5-AF87-A6892306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1CF7-A7AF-4139-BF81-2A2FB17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4592-6573-4527-810B-EA2FB4C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759-A6E8-4B0D-9D21-FA41F16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C6DB-D66A-4F27-8666-8ABA536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CA2F-2FD7-4CDC-9E95-F75A82EB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EE0E-A0BD-4CF8-882A-945CE102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0051-13CC-4952-B0BA-B9F3FF8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AD4A-5BBD-4563-8AB5-C7435857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8277-5B86-436D-90D0-6522EB2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EA23-564F-452D-A6FA-9BE99392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ECA8-5803-4728-B2E8-B71CEFB9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041B-2FB4-4A4D-A884-8A336EC4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FC6-3DC2-4494-B303-D9941562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0C0-EB0D-42E0-A276-7B82C782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B36-7C2B-49A8-B775-2859011B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952-CB3A-4B9C-85A3-419F20A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286B-40E8-4414-B2F6-FBB6A305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84B-FA01-4874-97C2-4823F34CBC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851-6EE3-4959-A2DB-9B0F09475EB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DC53-7065-4DFB-B637-2AC039B391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01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18B3-EE58-420A-B5E3-195E01BDEF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8277120" cy="18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Коноплев В.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ИКИ Р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3350520" y="59500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Таруса 5-8 июля 201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Предпосылки и истор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 течение 2009 года в ИКИ РАН велась активная работа по созданию научного наземного комплекса (ННК) для сопровождения проекта Фобос-Грунт. Отличительной особенностью данного проекта является то, что под него было решено сделать отдельную независимую IT инфраструктуру. Исторически информационное сопровождение научных проектов ИКИ РАН ведется на базе заинтересованных отделов и лабораторий Института с возможным привлечением разделяемых ресурсов из центра обработки данных Института. В случае с проектом Фобос-Грунт объем финансирования позволил организовать отдельный обособленный распределенный вычислительный сегмент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Цели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редст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Скругленный прямоугольник 3"/>
          <p:cNvSpPr/>
          <p:nvPr/>
        </p:nvSpPr>
        <p:spPr>
          <a:xfrm>
            <a:off x="395280" y="328464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риемлемый уровень безопас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95280" y="587700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вместная работа с данными и выч. ресурсами проек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Скругленный прямоугольник 5"/>
          <p:cNvSpPr/>
          <p:nvPr/>
        </p:nvSpPr>
        <p:spPr>
          <a:xfrm>
            <a:off x="395280" y="501336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Гибкая интеграция в локальную сеть Институ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Скругленный прямоугольник 6"/>
          <p:cNvSpPr/>
          <p:nvPr/>
        </p:nvSpPr>
        <p:spPr>
          <a:xfrm>
            <a:off x="395280" y="4149720"/>
            <a:ext cx="3529080" cy="647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оддержка моби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Скругленный прямоугольник 7"/>
          <p:cNvSpPr/>
          <p:nvPr/>
        </p:nvSpPr>
        <p:spPr>
          <a:xfrm>
            <a:off x="4788000" y="501336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иртуалные локалные се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VLAN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Скругленный прямоугольник 8"/>
          <p:cNvSpPr/>
          <p:nvPr/>
        </p:nvSpPr>
        <p:spPr>
          <a:xfrm>
            <a:off x="4859280" y="242100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иртуальные частные се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VPN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Скругленный прямоугольник 9"/>
          <p:cNvSpPr/>
          <p:nvPr/>
        </p:nvSpPr>
        <p:spPr>
          <a:xfrm>
            <a:off x="4788000" y="587700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ети хранения данны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SCSI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Скругленный прямоугольник 10"/>
          <p:cNvSpPr/>
          <p:nvPr/>
        </p:nvSpPr>
        <p:spPr>
          <a:xfrm>
            <a:off x="4859280" y="41497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льзовательские сертификаты (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x.509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Скругленный прямоугольник 11"/>
          <p:cNvSpPr/>
          <p:nvPr/>
        </p:nvSpPr>
        <p:spPr>
          <a:xfrm>
            <a:off x="4859280" y="328464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Специализированный аппаратный межсетевой экр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0" name="Прямая со стрелкой 14"/>
          <p:cNvCxnSpPr>
            <a:stCxn id="205" idx="1"/>
            <a:endCxn id="201" idx="3"/>
          </p:cNvCxnSpPr>
          <p:nvPr/>
        </p:nvCxnSpPr>
        <p:spPr>
          <a:xfrm flipH="1" flipV="1">
            <a:off x="3923640" y="3644640"/>
            <a:ext cx="864360" cy="172944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1" name="Прямая со стрелкой 15"/>
          <p:cNvCxnSpPr>
            <a:stCxn id="206" idx="1"/>
            <a:endCxn id="201" idx="3"/>
          </p:cNvCxnSpPr>
          <p:nvPr/>
        </p:nvCxnSpPr>
        <p:spPr>
          <a:xfrm flipH="1">
            <a:off x="3923640" y="2780280"/>
            <a:ext cx="935640" cy="86436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2" name="Прямая со стрелкой 18"/>
          <p:cNvCxnSpPr>
            <a:stCxn id="209" idx="1"/>
            <a:endCxn id="201" idx="3"/>
          </p:cNvCxnSpPr>
          <p:nvPr/>
        </p:nvCxnSpPr>
        <p:spPr>
          <a:xfrm flipH="1" flipV="1">
            <a:off x="3923640" y="3644640"/>
            <a:ext cx="935640" cy="216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3" name="Прямая со стрелкой 21"/>
          <p:cNvCxnSpPr>
            <a:stCxn id="208" idx="1"/>
            <a:endCxn id="204" idx="3"/>
          </p:cNvCxnSpPr>
          <p:nvPr/>
        </p:nvCxnSpPr>
        <p:spPr>
          <a:xfrm flipH="1" flipV="1">
            <a:off x="3923640" y="4473000"/>
            <a:ext cx="935640" cy="3564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4" name="Прямая со стрелкой 29"/>
          <p:cNvCxnSpPr>
            <a:stCxn id="208" idx="1"/>
            <a:endCxn id="201" idx="3"/>
          </p:cNvCxnSpPr>
          <p:nvPr/>
        </p:nvCxnSpPr>
        <p:spPr>
          <a:xfrm flipH="1" flipV="1">
            <a:off x="3923640" y="3644280"/>
            <a:ext cx="935640" cy="86436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5" name="Прямая со стрелкой 39"/>
          <p:cNvCxnSpPr>
            <a:stCxn id="205" idx="1"/>
            <a:endCxn id="203" idx="3"/>
          </p:cNvCxnSpPr>
          <p:nvPr/>
        </p:nvCxnSpPr>
        <p:spPr>
          <a:xfrm flipH="1" flipV="1">
            <a:off x="3923640" y="5373360"/>
            <a:ext cx="864360" cy="216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cxnSp>
        <p:nvCxnSpPr>
          <p:cNvPr id="216" name="Прямая со стрелкой 42"/>
          <p:cNvCxnSpPr>
            <a:stCxn id="207" idx="1"/>
            <a:endCxn id="202" idx="3"/>
          </p:cNvCxnSpPr>
          <p:nvPr/>
        </p:nvCxnSpPr>
        <p:spPr>
          <a:xfrm flipH="1" flipV="1">
            <a:off x="3923640" y="6237000"/>
            <a:ext cx="864360" cy="2160"/>
          </a:xfrm>
          <a:prstGeom prst="straightConnector1">
            <a:avLst/>
          </a:prstGeom>
          <a:ln w="63360">
            <a:solidFill>
              <a:srgbClr val="7f7f7f"/>
            </a:solidFill>
            <a:miter/>
            <a:tailEnd len="lg" type="arrow" w="sm"/>
          </a:ln>
        </p:spPr>
      </p:cxnSp>
      <p:pic>
        <p:nvPicPr>
          <p:cNvPr id="217" name="Прямоугольник 46" descr=""/>
          <p:cNvPicPr/>
          <p:nvPr/>
        </p:nvPicPr>
        <p:blipFill>
          <a:blip r:embed="rId2"/>
          <a:stretch/>
        </p:blipFill>
        <p:spPr>
          <a:xfrm>
            <a:off x="1255680" y="944640"/>
            <a:ext cx="1779480" cy="16272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47" descr=""/>
          <p:cNvPicPr/>
          <p:nvPr/>
        </p:nvPicPr>
        <p:blipFill>
          <a:blip r:embed="rId3"/>
          <a:stretch/>
        </p:blipFill>
        <p:spPr>
          <a:xfrm>
            <a:off x="5864400" y="944640"/>
            <a:ext cx="16268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Принципиальная схема сегмен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539640" y="1395360"/>
            <a:ext cx="7880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оннективность сегмен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3911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Основное оборудов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жсетевой экран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LINK DFL-160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ельность экрана – 300 Мбит/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PN – 15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бит/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ы 5 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BE + 1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стема хранения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rtrend S16E-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терфейс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SCSI – 8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B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изводительность -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~500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байт/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фигурация – 8ТБ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TA + 1.2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Б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ширение до 100 Т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ное дубл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мутаторы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sco Catalyst 36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ы: 24 х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BE + 4 GBIC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чка доступ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isco AirNet 125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ддержка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VL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ножественные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SI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Прямоугольник 4" descr=""/>
          <p:cNvPicPr/>
          <p:nvPr/>
        </p:nvPicPr>
        <p:blipFill>
          <a:blip r:embed="rId2"/>
          <a:stretch/>
        </p:blipFill>
        <p:spPr>
          <a:xfrm>
            <a:off x="3633840" y="2127240"/>
            <a:ext cx="2127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0:25:58Z</dcterms:created>
  <dc:creator>wk</dc:creator>
  <dc:description/>
  <dc:language>en-US</dc:language>
  <cp:lastModifiedBy>СеминарТаруса</cp:lastModifiedBy>
  <dcterms:modified xsi:type="dcterms:W3CDTF">2011-07-07T14:16:50Z</dcterms:modified>
  <cp:revision>9</cp:revision>
  <dc:subject/>
  <dc:title>Сетевой сегмент для поддержки проектов Фобос-Грут и РадиоАстрон в ИКИ РАН</dc:title>
</cp:coreProperties>
</file>