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35D-FE10-446B-B605-BD49F2D5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504-A997-442D-A4EC-F3EE3514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FF1-60A0-4F12-859E-AE7A5C08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68A-D13A-410D-B84C-80C285AB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BE87-CD4D-4766-B977-273284DE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A26F-4095-4D19-A617-F5D6112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06FC-A742-4C01-A1D4-90C11547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CEC3-0227-46B7-BB4E-428EBF17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206D-8424-4AA6-8F76-C70CC19C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4879-E9F6-454C-A397-5A7A95E9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970B-E01A-427F-A052-64A63F67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BB2-B5D1-4BC8-9FC7-BB60DC0D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7157-9B7E-4532-9376-A454B86C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6BA4-BF39-4CA3-856B-0185603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9C8B-C71A-4B15-AD57-E11504CF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14A5-3B03-478F-AE9F-A41C1D9C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905-661D-46C1-8BC7-CD5B6739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ECF-AED7-4FC4-B66B-FFC1FAB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8ED-0F2D-4404-9EA0-9B48875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287-5101-4341-94C5-1F9BBD9A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EC6-90B3-41C7-98E6-0C0F9334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C4C-06E9-44A4-870C-3D04F5BC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283-31C0-48C8-AEE0-E0D1D1F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F08-8796-49F3-BB7E-FA760BD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DFA1-8302-4AD9-83EE-89BCC8DA2A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3E7-856F-4F03-A07A-B9D2228B2C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79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Защита сетевого трафика в линиях связи НК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70240" y="321300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алков В.А.  ФГУП «НПО им. Лавочк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-40000"/>
          </a:blip>
          <a:stretch/>
        </p:blipFill>
        <p:spPr>
          <a:xfrm>
            <a:off x="3995640" y="4313160"/>
            <a:ext cx="12589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еханизм работы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Psec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1125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IPSec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(сокращение от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IP Securit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— набор протоколов для обеспечения защиты данных, передаваемых по межсетевому протоколу IP, позволяет осуществлять подтверждение подлинности и/или шифрование IP-пакетов, а также включает в себя механизмы для защищённого обмена ключами в сети Интерн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3284640"/>
            <a:ext cx="7921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ханизмы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Pse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ESP (протокол инкапсуляции зашифрованных данны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AH (аутентифицирующий заголовок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IKE (протокол обмена криптографическими ключам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72960" y="5013360"/>
            <a:ext cx="717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ежимы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транспортный (шифруется только информативная часть IP-пакет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туннельный (шифруется весь пакет целико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еханизм работы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Psec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981000"/>
            <a:ext cx="7632720" cy="56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токол управления ключами и группами параметров сетевой безопасности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ISAKM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создает рамочную структуру для управления ключами в сети Интернет и предоставляет конкретную протокольную поддержку для согласования атрибутов безопасности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еред началом безопасного обмена данными между двумя компьютерами должно быть установлено соглашение. Согласно этому соглашению, названному сопоставлением контекста безопасности (SA, security association), компьютеры договариваются о способе обмена и защите да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юч - это секретный код или число, необходимое для чтения, изменения или проверки защищенных данных. Ключи в сочетании с алгоритмами (математическими процессами) используются для защиты данных. В IPsec выделены две фазы, или режима, использования ключей. Сначала выполняется </a:t>
            </a:r>
            <a:r>
              <a:rPr b="1" lang="ru-RU" sz="1200" spc="-1" strike="noStrike">
                <a:solidFill>
                  <a:srgbClr val="ffcc66"/>
                </a:solidFill>
                <a:latin typeface="Verdana"/>
              </a:rPr>
              <a:t>основной режим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, создающий общий главный ключ, используемый двумя сторонами для обмена ключевой информацией безопасным способом. </a:t>
            </a:r>
            <a:r>
              <a:rPr b="1" lang="ru-RU" sz="1200" spc="-1" strike="noStrike">
                <a:solidFill>
                  <a:srgbClr val="ffcc66"/>
                </a:solidFill>
                <a:latin typeface="Verdana"/>
              </a:rPr>
              <a:t>Быстрый режим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использует главный ключ для безопасной установки одного или нескольких ключей сеанса, применяемых для проверки целостности данных и шифр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AH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используется для аутентификации отправителя информации и обеспечения целостности данных - с целью убедиться, что данные не были изменены в процессе связи. AH не шифрует данные и не обеспечивает конфиденциальности, этот протокол лишь "подписывает" целый пакет дан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ES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способен обеспечить конфиденциальность информации, так как непосредственно шифрует данные совместно с проверкой подлинности и целостн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а протокола добавляют собственные заголовки и имеют свой ID (AH имеет ID протокола — 51, ESP — 50), по которому можно определить, что последует за заголовком IP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еханизм работы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PT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1125360"/>
            <a:ext cx="77058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PPTP (</a:t>
            </a:r>
            <a:r>
              <a:rPr b="1" lang="en" sz="1400" spc="-1" strike="noStrike">
                <a:solidFill>
                  <a:srgbClr val="ffffff"/>
                </a:solidFill>
                <a:latin typeface="Verdana"/>
              </a:rPr>
              <a:t>Point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" sz="1400" spc="-1" strike="noStrike">
                <a:solidFill>
                  <a:srgbClr val="ffffff"/>
                </a:solidFill>
                <a:latin typeface="Verdana"/>
              </a:rPr>
              <a:t>to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" sz="1400" spc="-1" strike="noStrike">
                <a:solidFill>
                  <a:srgbClr val="ffffff"/>
                </a:solidFill>
                <a:latin typeface="Verdana"/>
              </a:rPr>
              <a:t>Point Tunneling Protocol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туннельный протокол типа точка-точка, позволяющий компьютеру устанавливать защищённое соединение с сервером за счёт создания специального туннеля в стандартной, незащищённой сети. Инкапсулирует PPP-кадры в IP-датаграммы. Полезные данные инкапсулированных PPP-кадров могут быть шифрованными, сжатыми или и теми, и другими одновременно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4068720"/>
            <a:ext cx="741672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обенности протоко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жет применяться только в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P-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тя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ебует одновременного установления двух сетевых сессий (PPP сессия с помощью протокола GRE для передачи данных и соединение на ТСР порту 1723 для инициализации и управления соединением)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меет широкую поддерж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шифрование трафика на основе алгоритма MPPE (поддерживается не всеми устройствам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56000" y="2822400"/>
            <a:ext cx="38671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еханизм работы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2T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1125360"/>
            <a:ext cx="770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L2TP (</a:t>
            </a:r>
            <a:r>
              <a:rPr b="1" lang="en" sz="1400" spc="-1" strike="noStrike">
                <a:solidFill>
                  <a:srgbClr val="ffffff"/>
                </a:solidFill>
                <a:latin typeface="Verdana"/>
              </a:rPr>
              <a:t>Layer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2 </a:t>
            </a:r>
            <a:r>
              <a:rPr b="1" lang="en" sz="1400" spc="-1" strike="noStrike">
                <a:solidFill>
                  <a:srgbClr val="ffffff"/>
                </a:solidFill>
                <a:latin typeface="Verdana"/>
              </a:rPr>
              <a:t>Tunneling Protocol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протокол туннелирования второго уровня, созданный на базе PPTP и L2F (протокол эстафетной передачи второго уровня от Cisco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3587760"/>
            <a:ext cx="741672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обенности протоко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жет применяться не только в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P-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тя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лужебные сообщения для создания туннеля и пересылки по нему данных используют одинаковый формат и протокол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требует установления дополнительной сес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ит контроль последовательности пакет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шифрование трафика на основе алгоритмов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Psec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(в транспортном режи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459160" y="2133720"/>
            <a:ext cx="4200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Шифрование в протоколе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2T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1125360"/>
            <a:ext cx="7489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L2TP поверх IPSec выполняет шифрование данных и аутентификацию на уровнях компьютера и пользователя. Сообщение L2TP шифруется по стандарту шифрования данных DES или по тройному стандарту DES (3DES), используя ключи шифрования, полученные в процессе согласования по протоколу IK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467320" cy="1933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87280" y="533736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L2TP поверх IPSec обеспечивает более высокую степень защиты данных, чем PPT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ротокол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ST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2920" y="1125360"/>
            <a:ext cx="7705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SST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(Secure Socket Tunneling Protocol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– протокол безопасного туннелирования сокетов, основан на SSL и позволяет создавать защищенные VPN соединения посредством HTTPS. Является протоколом прикладного уровня, осуществляет двухстороннюю аутентификацию, как сервера, так и клиен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SSTP предназначен для использования при соединении client to site VPN connection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едоставляет клиентам безопасный доступ к сетям за маршрутизаторами NAT router, брандмауэрами (firewall) и веб прокси (web proxies), не заботясь об обычных проблемах с блокировкой по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SSTP Client встроен в операционную систему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indows Vis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вляет собой полноценное сетевое решение VPN, а не просто прикладной туннель для одного прилож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еханизм работы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ST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125360"/>
            <a:ext cx="770580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Как работает соединение SSTP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иенту SSTP необходимо подключение к интернет. После того, как это Интернет соединение проверено протоколом, устанавливается TCP соединение с сервером по порту 44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алее происходит SSL согласование для уже установленного соединения TCP, в соответствии с чем проверяется сертификат сервера. Если сертификат правильный, то соединение устанавливается, в противном случае соединение обрывает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иент посылает HTTPS запрос в рамках зашифрованной SSL сессии на сервер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лиент посылает контрольные пакеты SSTP control packet внутри сессии HTTPS session. Это в свою очередь приводит к установлению состояния SSTP на обеих машинах для контрольных целей, обе стороны инициируют взаимодействие на уровне PPP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алее происходит PPP согласование SSTP по HTTPS но обоих концах. Теперь клиент должен пройти аутентификацию на сервер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ессия привязывается к IP интерфейсу на обеих сторонах и IP адрес назначается для маршрутизации трафик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Устанавливается взаимодействие, будь это IP трафик, или какой-либо другой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SH-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уннелиров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1125360"/>
            <a:ext cx="770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1125360"/>
            <a:ext cx="72928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SSH (OpenSSH)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протокол и реализующие его программные средства, предназначенные для повышения безопасности при работе Unix-систем в Интернете.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SSH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 сетевой протокол сеансового уровня, позволяющий производить удалённое управление операционной системой и туннелирование TCP-соединений (например, для передачи файлов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SSH допускает выбор различных алгоритмов шифрова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SSH-клиенты и SSH-серверы доступны для большинства сетевых операционных сис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SSH-туннель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— это туннель, создаваемый посредством SSH-соединения и используемый для шифрования туннелированных данных. Особенность состоит в том, что незашифрованный трафик какого-либо протокола шифруется на одном конце SSH-соединения и расшифровывается на друг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юс протокола SSH в том, что для реализации не нужно устанавливать и настраивать дополнительный софт. Из минусов, низкая производительность на медленных линия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Шифрованный туннель создается на основе одного TCP соединения, что весьма удобно, для быстрого поднятия простого VPN, на IP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оздание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SH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-туннел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1125360"/>
            <a:ext cx="770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1125360"/>
            <a:ext cx="729288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OpenSSH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ддерживает устройства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tun/ta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 позволяющие создавать шифрованный туннель, что может быть весьма полезно в случае удаленного администрирования (по аналогии с OpenVPN на базе TLS).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цедура настрой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ключение через SSH с опцией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-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стройка IP адреса SSH туннеля, делается единожды, на сервере и на клиен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бавление маршрутов для обоих с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ключение NAT на внутреннем интерфейсе шлюза (по необходимост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итоге имеет две частные сети, прозрачно соединенные в VPN через SSH. Перенаправление IP и настройки NAT необходимы только если шлюзы не являются шлюзами по умолчанию (в этом случае клиент не будет знать, куда пересылать ответ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Защита внутреннего сегмента НКУ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1760" y="1125360"/>
            <a:ext cx="278892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можные угроз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ссивный перехв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тивные ата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6532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P-spoo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6532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C-spoo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6532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RP-spoof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1125360"/>
            <a:ext cx="432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тоды и механизмы защи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именение пакета мониторинга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pw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ользование статических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p-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блиц на маршрутизаторах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рганизация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cket-fil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rt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рректная настройка межсетевых фильт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ользование современных коммута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ключение неактивных пор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оевременное обновление ПО на важных узлах 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30240" y="3500280"/>
            <a:ext cx="27781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Безопасная информационная систем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0880" y="370692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еть НКУ, линии связ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932000" y="4425840"/>
            <a:ext cx="792360" cy="792000"/>
          </a:xfrm>
          <a:prstGeom prst="rightArrow">
            <a:avLst>
              <a:gd name="adj1" fmla="val 50000"/>
              <a:gd name="adj2" fmla="val 2501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4932360" y="2625840"/>
            <a:ext cx="79200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6200" y="5506920"/>
            <a:ext cx="248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отоки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ользователи и узлы се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0000" y="1689120"/>
            <a:ext cx="2447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1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феденциальность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утентичность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1689120"/>
            <a:ext cx="156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1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Целост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Доступ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3480" y="1773360"/>
            <a:ext cx="2099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ставля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бъект защ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едмет защ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олитика информационной безопасност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2924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 формировании политики ИБ следует учиты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сколько важных принцип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нцип минимального уровня привиле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спользование комплексного подх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баланс надежности защиты всех уров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аксимальная защита при отка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нцип единого контрольно-пропускного пун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нцип баланса возможного ущерба от реализации угрозы и затрат на ее предотвращ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1125360"/>
            <a:ext cx="81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олитика информационной безопасности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 — совокупность документированных правил, процедур, практических приемов или руководящих принципов в области безопасности информации, которыми руководствуется организация в сво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Пример построения сети НК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173240"/>
            <a:ext cx="8362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озможные проблем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1557360"/>
            <a:ext cx="71294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тсутствие единого стандарта безопас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конодательные ограничения в области оборота средств криптостойкого шифров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спользование каналов малой пропускной способ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граммные и аппаратные ограничения, в том числе наложенные административ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ерекрытие адресных простран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0080" y="1052640"/>
            <a:ext cx="61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облемы на пути внедрения безопасных реш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3716280"/>
            <a:ext cx="734364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можные пути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036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0360" indent="-2700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гласование механизмов защиты и логики построения сетей НКУ в рамках единого ведомственного стандар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0360" indent="-2700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спользование программных решений на базе систем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nix,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нение сертифицированных аппаратных шифратор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0360" indent="-2700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нение универсальных механизмов защи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0360" indent="-2700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силение кооперации в части межсетевого взаимодейст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0360" indent="-270000"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нение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AT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xyArp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гласование адресных пространств на этапе проектирования с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036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Направления защи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8200" y="21985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Г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16520" y="1844640"/>
            <a:ext cx="15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неш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нутрен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инсайдер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70000" y="1844640"/>
            <a:ext cx="201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мышл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Неумышл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87640" y="2421000"/>
            <a:ext cx="1152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8920" y="242100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39892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63844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00960" y="4221000"/>
            <a:ext cx="6005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ерехват и несанкционированный мониторинг сетевого траф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компрометация данных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дификация и подмена пакетов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мена отправителя (адресата) данных, спуффин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мешательство в работу сетевого оборуд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циальная инженерия (утечка данных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Классификация средств защи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4720" y="184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редства защи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1484280"/>
            <a:ext cx="2520720" cy="23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4149720"/>
            <a:ext cx="8137440" cy="223200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484280"/>
            <a:ext cx="244944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Организацио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Административные м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авила и режим 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азделение пользова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рганизация ох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мещ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сихологические м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нимательность и осторож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1484280"/>
            <a:ext cx="2736720" cy="23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3b7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56360" y="1484280"/>
            <a:ext cx="24494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Физиче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золяция сегментов се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изоляция сетевого оборудования и кабельных магистра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экранирование помещ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становка зам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4221000"/>
            <a:ext cx="799308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ahoma"/>
              </a:rPr>
              <a:t>Техниче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ппарат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ршрутизаторы, аппаратные файрволы, коммутаторы, криптографическая аппара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рамм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жсетевые экраны, антивирусные продукты, системы обнаружения и предотвращения вторжений,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ы аунтефикации, прокси-сервера,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нкапсуляция и туннелиров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268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Инкапсуляция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— метод построения модульных сетевых протоколов, при котором логически независимые функции сети абстрагируются от нижележащих механизмов путём включения или инкапсулирования этих механизмов в более высокоуровневые объек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5084640"/>
            <a:ext cx="6114960" cy="1125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9120" y="3011400"/>
            <a:ext cx="815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уннелирован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— метод построения сетей, при котором один сетевой протокол инкапсулируется в другой. От обычных многоуровневых сетевых моделей (OSI или TCP/IP) туннелирование отличается тем, что инкапсулируемый протокол относится к тому же или более низкому уровню, чем используемый в качестве тонн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иртуальная частная сет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19700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иртуальная частная сеть (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PN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ология объединения локальных сетей или отдельных машин, подключенных к сети общего пользования, в единую виртуальную сеть, обеспечивающую секретность и целостность передаваемой по ней информации (прозрачно для пользователей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39272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иртуальная частная сеть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119700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оинства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P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изкая стоимость арендуемых каналов и коммуникационного оборуд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витая топология сети (широкий географический охва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ысокая надеж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егкость масштабирования (подключения новых сетей или пользовате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егкость изменения конфигу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троль событий и действий пользоват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160" y="4411800"/>
            <a:ext cx="303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хнологии защи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ифр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утентифик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нтроль досту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лассификация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P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19272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Реализации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P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134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токолы и программные решения, реализующие возможности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P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23840" y="2147760"/>
            <a:ext cx="60692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ецификация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Psec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IP secur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бор протоколов на базе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PTP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(point-to-point tunneling protoco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2TP (Layer 2 Tunnelling Protoco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PPoE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PP over Etherne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бор решений на основе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enVP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SL VPN via we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S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SH-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унне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80000" y="2230560"/>
            <a:ext cx="32194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9:50:14Z</dcterms:created>
  <dc:creator>Vlad</dc:creator>
  <dc:description/>
  <dc:language>en-US</dc:language>
  <cp:lastModifiedBy>mobile</cp:lastModifiedBy>
  <dcterms:modified xsi:type="dcterms:W3CDTF">2011-07-07T14:18:18Z</dcterms:modified>
  <cp:revision>11</cp:revision>
  <dc:subject/>
  <dc:title>Слайд 1</dc:title>
</cp:coreProperties>
</file>