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16.wmf" ContentType="image/x-wmf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14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1"/>
          <p:cNvSpPr/>
          <p:nvPr/>
        </p:nvSpPr>
        <p:spPr>
          <a:xfrm>
            <a:off x="0" y="0"/>
            <a:ext cx="6815160" cy="9942480"/>
          </a:xfrm>
          <a:custGeom>
            <a:avLst/>
            <a:gdLst>
              <a:gd name="textAreaLeft" fmla="*/ 360 w 6815160"/>
              <a:gd name="textAreaRight" fmla="*/ 6814800 w 6815160"/>
              <a:gd name="textAreaTop" fmla="*/ 360 h 9942480"/>
              <a:gd name="textAreaBottom" fmla="*/ 9942120 h 9942480"/>
            </a:gdLst>
            <a:ahLst/>
            <a:rect l="textAreaLeft" t="textAreaTop" r="textAreaRight" b="textAreaBottom"/>
            <a:pathLst>
              <a:path w="21600" h="31511">
                <a:moveTo>
                  <a:pt x="5" y="0"/>
                </a:moveTo>
                <a:arcTo wR="5" hR="5" stAng="16200000" swAng="-5400000"/>
                <a:lnTo>
                  <a:pt x="0" y="31506"/>
                </a:lnTo>
                <a:arcTo wR="5" hR="5" stAng="10800000" swAng="-5400000"/>
                <a:lnTo>
                  <a:pt x="21595" y="3151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2"/>
          <p:cNvSpPr/>
          <p:nvPr/>
        </p:nvSpPr>
        <p:spPr>
          <a:xfrm>
            <a:off x="0" y="0"/>
            <a:ext cx="6815160" cy="9942480"/>
          </a:xfrm>
          <a:custGeom>
            <a:avLst/>
            <a:gdLst>
              <a:gd name="textAreaLeft" fmla="*/ 360 w 6815160"/>
              <a:gd name="textAreaRight" fmla="*/ 6814800 w 6815160"/>
              <a:gd name="textAreaTop" fmla="*/ 360 h 9942480"/>
              <a:gd name="textAreaBottom" fmla="*/ 9942120 h 9942480"/>
            </a:gdLst>
            <a:ahLst/>
            <a:rect l="textAreaLeft" t="textAreaTop" r="textAreaRight" b="textAreaBottom"/>
            <a:pathLst>
              <a:path w="21600" h="31511">
                <a:moveTo>
                  <a:pt x="5" y="0"/>
                </a:moveTo>
                <a:arcTo wR="5" hR="5" stAng="16200000" swAng="-5400000"/>
                <a:lnTo>
                  <a:pt x="0" y="31506"/>
                </a:lnTo>
                <a:arcTo wR="5" hR="5" stAng="10800000" swAng="-5400000"/>
                <a:lnTo>
                  <a:pt x="21595" y="3151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0" y="0"/>
            <a:ext cx="6815160" cy="9942480"/>
          </a:xfrm>
          <a:custGeom>
            <a:avLst/>
            <a:gdLst>
              <a:gd name="textAreaLeft" fmla="*/ 360 w 6815160"/>
              <a:gd name="textAreaRight" fmla="*/ 6814800 w 6815160"/>
              <a:gd name="textAreaTop" fmla="*/ 360 h 9942480"/>
              <a:gd name="textAreaBottom" fmla="*/ 9942120 h 9942480"/>
            </a:gdLst>
            <a:ahLst/>
            <a:rect l="textAreaLeft" t="textAreaTop" r="textAreaRight" b="textAreaBottom"/>
            <a:pathLst>
              <a:path w="21600" h="31511">
                <a:moveTo>
                  <a:pt x="5" y="0"/>
                </a:moveTo>
                <a:arcTo wR="5" hR="5" stAng="16200000" swAng="-5400000"/>
                <a:lnTo>
                  <a:pt x="0" y="31506"/>
                </a:lnTo>
                <a:arcTo wR="5" hR="5" stAng="10800000" swAng="-5400000"/>
                <a:lnTo>
                  <a:pt x="21595" y="3151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80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1"/>
          </p:nvPr>
        </p:nvSpPr>
        <p:spPr>
          <a:xfrm>
            <a:off x="3860280" y="-360"/>
            <a:ext cx="29480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584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2"/>
          </p:nvPr>
        </p:nvSpPr>
        <p:spPr>
          <a:xfrm>
            <a:off x="-360" y="9442080"/>
            <a:ext cx="29480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3"/>
          </p:nvPr>
        </p:nvSpPr>
        <p:spPr>
          <a:xfrm>
            <a:off x="3860280" y="9442080"/>
            <a:ext cx="29480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D1C0CB-69D9-4B73-BBD0-664DAF0870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9"/>
          <p:cNvSpPr/>
          <p:nvPr/>
        </p:nvSpPr>
        <p:spPr>
          <a:xfrm>
            <a:off x="3860640" y="9442440"/>
            <a:ext cx="2948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9CDA11-F87A-42C5-BCFA-5726F5AA69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1"/>
          <p:cNvSpPr/>
          <p:nvPr/>
        </p:nvSpPr>
        <p:spPr>
          <a:xfrm>
            <a:off x="923760" y="746280"/>
            <a:ext cx="4970520" cy="372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body"/>
          </p:nvPr>
        </p:nvSpPr>
        <p:spPr>
          <a:xfrm>
            <a:off x="681120" y="4722840"/>
            <a:ext cx="5449680" cy="456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9"/>
          <p:cNvSpPr/>
          <p:nvPr/>
        </p:nvSpPr>
        <p:spPr>
          <a:xfrm>
            <a:off x="3860640" y="9442440"/>
            <a:ext cx="2948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BC0517-F808-4EBD-8198-1FD226999F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1"/>
          <p:cNvSpPr/>
          <p:nvPr/>
        </p:nvSpPr>
        <p:spPr>
          <a:xfrm>
            <a:off x="923760" y="746280"/>
            <a:ext cx="4970520" cy="372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681120" y="4722840"/>
            <a:ext cx="5449680" cy="456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9"/>
          <p:cNvSpPr/>
          <p:nvPr/>
        </p:nvSpPr>
        <p:spPr>
          <a:xfrm>
            <a:off x="3860640" y="9442440"/>
            <a:ext cx="2948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FB3338-8691-4B60-85DA-257C5AA983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1"/>
          <p:cNvSpPr/>
          <p:nvPr/>
        </p:nvSpPr>
        <p:spPr>
          <a:xfrm>
            <a:off x="923760" y="746280"/>
            <a:ext cx="4970520" cy="372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9"/>
          <p:cNvSpPr/>
          <p:nvPr/>
        </p:nvSpPr>
        <p:spPr>
          <a:xfrm>
            <a:off x="3860640" y="9442440"/>
            <a:ext cx="2948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3075C7-0CFC-4D2C-B568-569A970805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923760" y="746280"/>
            <a:ext cx="4970520" cy="372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3860640" y="9442440"/>
            <a:ext cx="2948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551ED1-F1C0-4BD7-A15E-60D4451ADB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1"/>
          <p:cNvSpPr/>
          <p:nvPr/>
        </p:nvSpPr>
        <p:spPr>
          <a:xfrm>
            <a:off x="923760" y="746280"/>
            <a:ext cx="4970520" cy="372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1120" y="4722840"/>
            <a:ext cx="5449680" cy="456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71360" y="1285560"/>
            <a:ext cx="74228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6840" y="3796200"/>
            <a:ext cx="822492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71360" y="1285560"/>
            <a:ext cx="74228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6840" y="3796200"/>
            <a:ext cx="401364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1720" y="3796200"/>
            <a:ext cx="401364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71360" y="1285560"/>
            <a:ext cx="74228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6840" y="3796200"/>
            <a:ext cx="264816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7840" y="3796200"/>
            <a:ext cx="264816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18840" y="3796200"/>
            <a:ext cx="264816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71360" y="1285560"/>
            <a:ext cx="74228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71360" y="1285560"/>
            <a:ext cx="74228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71360" y="1285560"/>
            <a:ext cx="74228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71360" y="1285560"/>
            <a:ext cx="74228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71360" y="1285560"/>
            <a:ext cx="742284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71360" y="1285560"/>
            <a:ext cx="74228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796200"/>
            <a:ext cx="401364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71360" y="1285560"/>
            <a:ext cx="74228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1720" y="3796200"/>
            <a:ext cx="401364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71360" y="1285560"/>
            <a:ext cx="74228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3796200"/>
            <a:ext cx="822492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71360" y="1285560"/>
            <a:ext cx="74228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-36360" y="6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оссийская академия нау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нститут прикладной астроном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Picture 4" descr="IPALOG5"/>
          <p:cNvPicPr/>
          <p:nvPr/>
        </p:nvPicPr>
        <p:blipFill>
          <a:blip r:embed="rId2"/>
          <a:stretch/>
        </p:blipFill>
        <p:spPr>
          <a:xfrm>
            <a:off x="8532720" y="0"/>
            <a:ext cx="611280" cy="611280"/>
          </a:xfrm>
          <a:prstGeom prst="rect">
            <a:avLst/>
          </a:prstGeom>
          <a:ln w="0">
            <a:noFill/>
          </a:ln>
        </p:spPr>
      </p:pic>
      <p:pic>
        <p:nvPicPr>
          <p:cNvPr id="4" name="Picture 2" descr="Логотип_АН"/>
          <p:cNvPicPr/>
          <p:nvPr/>
        </p:nvPicPr>
        <p:blipFill>
          <a:blip r:embed="rId3"/>
          <a:srcRect l="0" t="0" r="332" b="0"/>
          <a:stretch/>
        </p:blipFill>
        <p:spPr>
          <a:xfrm>
            <a:off x="-3240" y="11160"/>
            <a:ext cx="1081080" cy="612720"/>
          </a:xfrm>
          <a:prstGeom prst="rect">
            <a:avLst/>
          </a:prstGeom>
          <a:ln w="0">
            <a:noFill/>
          </a:ln>
        </p:spPr>
      </p:pic>
      <p:sp>
        <p:nvSpPr>
          <p:cNvPr id="5" name="Rectangle 7"/>
          <p:cNvSpPr/>
          <p:nvPr/>
        </p:nvSpPr>
        <p:spPr>
          <a:xfrm flipV="1">
            <a:off x="0" y="620280"/>
            <a:ext cx="9144000" cy="36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rot="10800000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Text Box 1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0E18A13-ACB3-46E5-94A9-4455F036F6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 flipV="1">
            <a:off x="-1080" y="6344640"/>
            <a:ext cx="9144000" cy="363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6"/>
          <p:cNvSpPr/>
          <p:nvPr/>
        </p:nvSpPr>
        <p:spPr>
          <a:xfrm>
            <a:off x="324000" y="6299280"/>
            <a:ext cx="8280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200"/>
            </a:b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Семинар по механике, управлению и информатике, ИКИ РАН, 5-8 июля 2011 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9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втоматизированная передача РСДБ-данных в режиме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-РСДБ на радиоинтерферометрическом комплексе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«Квазар-КВО»  для оперативного определения поправок Всемирного времен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4005360"/>
            <a:ext cx="8229600" cy="18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.И. Сальников, И.А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езруков, А.Г. Михай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5280" y="765000"/>
            <a:ext cx="8142120" cy="16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висимость скорости передачи скана часовой сессии РСДБ-наблюдений из обс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«Светлое» в ЦКО РАН по внешнему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ublic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) каналу связи ЗАО «ВэбПлас» 100Мбит/с от времени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сессия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u-U142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 15.03.2011г.)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971640" y="2349360"/>
            <a:ext cx="75610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4000" y="1125000"/>
            <a:ext cx="756756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редняя скорость передачи отдельных сканов в часовой сессии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u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074 - 07 ноября 2009 года из обсерваторий в ЦКО Р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Rectangle 2" descr=""/>
          <p:cNvPicPr/>
          <p:nvPr/>
        </p:nvPicPr>
        <p:blipFill>
          <a:blip r:embed="rId1"/>
          <a:stretch/>
        </p:blipFill>
        <p:spPr>
          <a:xfrm>
            <a:off x="468360" y="2492280"/>
            <a:ext cx="8224920" cy="33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74232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редняя скорость передачи отдельных сканов часовой сессии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u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08 - 24 июля 2010 года из обсерваторий в ЦКО Р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2276640"/>
            <a:ext cx="822492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71640" y="2276640"/>
            <a:ext cx="72007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Rectangle 2" descr=""/>
          <p:cNvPicPr/>
          <p:nvPr/>
        </p:nvPicPr>
        <p:blipFill>
          <a:blip r:embed="rId1"/>
          <a:stretch/>
        </p:blipFill>
        <p:spPr>
          <a:xfrm>
            <a:off x="611280" y="2349360"/>
            <a:ext cx="8224920" cy="299088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494480" cy="10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редняя скорость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редачи отдельных сканов часовой сессии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u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2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мая 2011 года из обсерваторий в ЦКО Р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42472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яд определения времени передачи данных часовых сеансов в 2010 году из обсерваторий «Зеленчукская» и «Бадары» в ЦКО Р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457200" y="1844640"/>
            <a:ext cx="8224920" cy="35020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395280" y="5489640"/>
            <a:ext cx="856944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иним цветом, показано время передачи данных из обсерватории «Бадары», а красным — из обсерватории «Зеленчукская». Цифры над вертикальными столбцами показывают число принятых сканов в сеансе.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56944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яд определения времени передачи данных часовых сеансов в 2011 году из обсерваторий «Зеленчукская» и «Бадары» в ЦКО Р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Rectangle 2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8224920" cy="32893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395280" y="5489640"/>
            <a:ext cx="856944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иним цветом, показано время передачи данных из обсерватории «Бадары», а красным — из обсерватории «Зеленчукская». Цифры над вертикальными столбцами показывают число принятых сканов в сеансе.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94920" y="907920"/>
            <a:ext cx="8497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яд определения поправок Всемирного времени, полученный по результатам часовых РСДБ-сессий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u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в 2011 г.г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116000" y="5229360"/>
            <a:ext cx="7129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8 сессий, диапазон поправок: -119 мкс : +110 мкс, СКО=52мк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476360" y="2421000"/>
            <a:ext cx="6389640" cy="24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42920" y="549000"/>
            <a:ext cx="74232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клю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224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первые в России на базе РСДБ-комплекса «Квазар-КВО» реализована технология проведения радиоинтерферометрических наблюдений в режиме е-РСДБ, близком к режиму реального времени для обеспечения космической навигационной системы ГЛОНАСС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 РСДБ-комплексе «Квазар-КВО» экспериментально подтверждено  оперативное получение поправок Всемирного времени в еженедельных наблюдательных сессиях за время порядка 2-х часов. Начиная с 2010 года определение поправок Всемирного времени в режиме е-РСДБ производится один раз в недел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втоматизация всего процесса передачи данных, осуществленная  в 2011 году, позволила значительно сократить (до 30%) задержку доставки данных наблюдений в ЦКО и повысить оперативность получения поправки Всемирного времени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перспективе сокращение времени определения поправок Всемирного времени может быть достигнут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увеличением пропускной способности каналов связи между обсерваториями и ЦКО РАН, а также между ЦКО РАН и ЦКО МО Р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оптимизацией алгоритма автоматизированной передачи и обработки данны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применением более эффективных протоколов обмена данны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26920" y="2636640"/>
            <a:ext cx="742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981000"/>
            <a:ext cx="8075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9152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перативное определение поправок Всемирного времени в режиме е-РСДБ для обеспечения системы ГЛОНАС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кращение времени передачи данных из обсерваторий в Центры корреляционной обработ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6840" y="1052640"/>
            <a:ext cx="82249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-РСДБ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Каналы связ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Система сбора и передачи данны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Обработка дан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ключение обсерваторий РСДБ-комплекса «Квазар-КВО»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магистральные каналы связ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7" descr="sveanten3"/>
          <p:cNvPicPr/>
          <p:nvPr/>
        </p:nvPicPr>
        <p:blipFill>
          <a:blip r:embed="rId1">
            <a:lum bright="18000"/>
          </a:blip>
          <a:srcRect l="13208" t="0" r="4267" b="0"/>
          <a:stretch/>
        </p:blipFill>
        <p:spPr>
          <a:xfrm>
            <a:off x="998640" y="1700280"/>
            <a:ext cx="1366560" cy="11588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9"/>
          <p:cNvSpPr/>
          <p:nvPr/>
        </p:nvSpPr>
        <p:spPr>
          <a:xfrm>
            <a:off x="971640" y="5300640"/>
            <a:ext cx="1479600" cy="10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100" spc="-1" strike="noStrike">
                <a:solidFill>
                  <a:srgbClr val="262672"/>
                </a:solidFill>
                <a:latin typeface="Times New Roman"/>
              </a:rPr>
              <a:t>Обс. «Зеленчукская»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100" spc="-1" strike="noStrike">
                <a:solidFill>
                  <a:srgbClr val="262672"/>
                </a:solidFill>
                <a:latin typeface="Times New Roman"/>
              </a:rPr>
              <a:t>Сетевое оборудование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100" spc="-1" strike="noStrike">
                <a:solidFill>
                  <a:srgbClr val="262672"/>
                </a:solidFill>
                <a:latin typeface="Times New Roman"/>
              </a:rPr>
              <a:t>1Гбит/с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6913440" y="5468760"/>
            <a:ext cx="154620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100" spc="-1" strike="noStrike">
                <a:solidFill>
                  <a:srgbClr val="262672"/>
                </a:solidFill>
                <a:latin typeface="Times New Roman"/>
              </a:rPr>
              <a:t>Обс. «Бадары»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100" spc="-1" strike="noStrike">
                <a:solidFill>
                  <a:srgbClr val="262672"/>
                </a:solidFill>
                <a:latin typeface="Times New Roman"/>
              </a:rPr>
              <a:t>Сетевое оборудование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100" spc="-1" strike="noStrike">
                <a:solidFill>
                  <a:srgbClr val="262672"/>
                </a:solidFill>
                <a:latin typeface="Times New Roman"/>
              </a:rPr>
              <a:t>1Гбит/с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1039680" y="2906640"/>
            <a:ext cx="15210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100" spc="-1" strike="noStrike">
                <a:solidFill>
                  <a:srgbClr val="262672"/>
                </a:solidFill>
                <a:latin typeface="Times New Roman"/>
              </a:rPr>
              <a:t>Обс. “Светлое»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100" spc="-1" strike="noStrike">
                <a:solidFill>
                  <a:srgbClr val="262672"/>
                </a:solidFill>
                <a:latin typeface="Times New Roman"/>
              </a:rPr>
              <a:t>Сетевое оборудование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100" spc="-1" strike="noStrike">
                <a:solidFill>
                  <a:srgbClr val="262672"/>
                </a:solidFill>
                <a:latin typeface="Times New Roman"/>
              </a:rPr>
              <a:t>1Гбит/с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Рисунок 20" descr="sun 003.jpg"/>
          <p:cNvPicPr/>
          <p:nvPr/>
        </p:nvPicPr>
        <p:blipFill>
          <a:blip r:embed="rId2"/>
          <a:stretch/>
        </p:blipFill>
        <p:spPr>
          <a:xfrm>
            <a:off x="7918560" y="1779480"/>
            <a:ext cx="514080" cy="1092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3" descr="DSCN0250"/>
          <p:cNvPicPr/>
          <p:nvPr/>
        </p:nvPicPr>
        <p:blipFill>
          <a:blip r:embed="rId3">
            <a:lum bright="4000"/>
          </a:blip>
          <a:srcRect l="0" t="0" r="17734" b="2736"/>
          <a:stretch/>
        </p:blipFill>
        <p:spPr>
          <a:xfrm>
            <a:off x="7139160" y="4071960"/>
            <a:ext cx="1279440" cy="1222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4" descr="ant_2"/>
          <p:cNvPicPr/>
          <p:nvPr/>
        </p:nvPicPr>
        <p:blipFill>
          <a:blip r:embed="rId4">
            <a:lum bright="12000"/>
          </a:blip>
          <a:srcRect l="0" t="0" r="13985" b="0"/>
          <a:stretch/>
        </p:blipFill>
        <p:spPr>
          <a:xfrm>
            <a:off x="973080" y="4148280"/>
            <a:ext cx="1292400" cy="1144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7" descr="Корр_1"/>
          <p:cNvPicPr/>
          <p:nvPr/>
        </p:nvPicPr>
        <p:blipFill>
          <a:blip r:embed="rId5"/>
          <a:srcRect l="0" t="16682" r="34949" b="12944"/>
          <a:stretch/>
        </p:blipFill>
        <p:spPr>
          <a:xfrm>
            <a:off x="6500880" y="1779480"/>
            <a:ext cx="1298520" cy="1136880"/>
          </a:xfrm>
          <a:prstGeom prst="rect">
            <a:avLst/>
          </a:prstGeom>
          <a:ln w="0">
            <a:noFill/>
          </a:ln>
        </p:spPr>
      </p:pic>
      <p:cxnSp>
        <p:nvCxnSpPr>
          <p:cNvPr id="69" name="Прямая со стрелкой 31"/>
          <p:cNvCxnSpPr/>
          <p:nvPr/>
        </p:nvCxnSpPr>
        <p:spPr>
          <a:xfrm>
            <a:off x="2388960" y="2238120"/>
            <a:ext cx="1197360" cy="7275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70" name="Прямая со стрелкой 33"/>
          <p:cNvCxnSpPr>
            <a:endCxn id="71" idx="3"/>
          </p:cNvCxnSpPr>
          <p:nvPr/>
        </p:nvCxnSpPr>
        <p:spPr>
          <a:xfrm flipV="1">
            <a:off x="2317320" y="4284000"/>
            <a:ext cx="1369080" cy="63252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72" name="Text Box 13"/>
          <p:cNvSpPr/>
          <p:nvPr/>
        </p:nvSpPr>
        <p:spPr>
          <a:xfrm>
            <a:off x="5011560" y="2238480"/>
            <a:ext cx="106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Times New Roman"/>
              </a:rPr>
              <a:t>1 </a:t>
            </a:r>
            <a:r>
              <a:rPr b="1" lang="ru-RU" sz="1100" spc="-1" strike="noStrike">
                <a:solidFill>
                  <a:srgbClr val="0000ff"/>
                </a:solidFill>
                <a:latin typeface="Times New Roman"/>
              </a:rPr>
              <a:t>Гбит/с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2997360" y="2238480"/>
            <a:ext cx="1222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Times New Roman"/>
              </a:rPr>
              <a:t>100 </a:t>
            </a:r>
            <a:r>
              <a:rPr b="1" lang="ru-RU" sz="1100" spc="-1" strike="noStrike">
                <a:solidFill>
                  <a:srgbClr val="0000ff"/>
                </a:solidFill>
                <a:latin typeface="Times New Roman"/>
              </a:rPr>
              <a:t>Мбит/с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5649840" y="2467080"/>
            <a:ext cx="816120" cy="457200"/>
          </a:xfrm>
          <a:prstGeom prst="line">
            <a:avLst/>
          </a:prstGeom>
          <a:ln w="25560">
            <a:solidFill>
              <a:srgbClr val="000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6494400" y="3057480"/>
            <a:ext cx="19573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100" spc="-1" strike="noStrike">
                <a:solidFill>
                  <a:srgbClr val="262672"/>
                </a:solidFill>
                <a:latin typeface="Times New Roman"/>
              </a:rPr>
              <a:t>Санкт-Петербург, ЦКО РАН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100" spc="-1" strike="noStrike">
                <a:solidFill>
                  <a:srgbClr val="262672"/>
                </a:solidFill>
                <a:latin typeface="Times New Roman"/>
              </a:rPr>
              <a:t>Сетевое оборудование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100" spc="-1" strike="noStrike">
                <a:solidFill>
                  <a:srgbClr val="262672"/>
                </a:solidFill>
                <a:latin typeface="Times New Roman"/>
              </a:rPr>
              <a:t>10</a:t>
            </a:r>
            <a:r>
              <a:rPr b="1" lang="ru-RU" sz="1100" spc="-1" strike="noStrike">
                <a:solidFill>
                  <a:srgbClr val="262672"/>
                </a:solidFill>
                <a:latin typeface="Times New Roman"/>
              </a:rPr>
              <a:t> Гбит/с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13"/>
          <p:cNvSpPr/>
          <p:nvPr/>
        </p:nvSpPr>
        <p:spPr>
          <a:xfrm>
            <a:off x="3708360" y="3429000"/>
            <a:ext cx="218124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100" spc="-1" strike="noStrike">
                <a:solidFill>
                  <a:srgbClr val="262672"/>
                </a:solidFill>
                <a:latin typeface="Times New Roman"/>
              </a:rPr>
              <a:t>Магистральные каналы связи на основе ВОЛС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73920" y="4148280"/>
            <a:ext cx="992160" cy="765000"/>
          </a:xfrm>
          <a:prstGeom prst="line">
            <a:avLst/>
          </a:prstGeom>
          <a:ln w="25560">
            <a:solidFill>
              <a:srgbClr val="000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0000" y="2773440"/>
            <a:ext cx="3048120" cy="17557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13"/>
          <p:cNvSpPr/>
          <p:nvPr/>
        </p:nvSpPr>
        <p:spPr>
          <a:xfrm>
            <a:off x="3254400" y="1876320"/>
            <a:ext cx="7081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100" spc="-1" strike="noStrike">
                <a:solidFill>
                  <a:srgbClr val="0000ff"/>
                </a:solidFill>
                <a:latin typeface="Times New Roman"/>
              </a:rPr>
              <a:t>ВОЛС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5270400" y="1876320"/>
            <a:ext cx="7081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100" spc="-1" strike="noStrike">
                <a:solidFill>
                  <a:srgbClr val="0000ff"/>
                </a:solidFill>
                <a:latin typeface="Times New Roman"/>
              </a:rPr>
              <a:t>ВОЛС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13"/>
          <p:cNvSpPr/>
          <p:nvPr/>
        </p:nvSpPr>
        <p:spPr>
          <a:xfrm>
            <a:off x="5654520" y="4678200"/>
            <a:ext cx="7081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100" spc="-1" strike="noStrike">
                <a:solidFill>
                  <a:srgbClr val="0000ff"/>
                </a:solidFill>
                <a:latin typeface="Times New Roman"/>
              </a:rPr>
              <a:t>ВОЛС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13"/>
          <p:cNvSpPr/>
          <p:nvPr/>
        </p:nvSpPr>
        <p:spPr>
          <a:xfrm>
            <a:off x="3278160" y="4678200"/>
            <a:ext cx="706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100" spc="-1" strike="noStrike">
                <a:solidFill>
                  <a:srgbClr val="0000ff"/>
                </a:solidFill>
                <a:latin typeface="Times New Roman"/>
              </a:rPr>
              <a:t>ВОЛС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13"/>
          <p:cNvSpPr/>
          <p:nvPr/>
        </p:nvSpPr>
        <p:spPr>
          <a:xfrm>
            <a:off x="2997360" y="5016600"/>
            <a:ext cx="1222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Times New Roman"/>
              </a:rPr>
              <a:t>100 </a:t>
            </a:r>
            <a:r>
              <a:rPr b="1" lang="ru-RU" sz="1100" spc="-1" strike="noStrike">
                <a:solidFill>
                  <a:srgbClr val="0000ff"/>
                </a:solidFill>
                <a:latin typeface="Times New Roman"/>
              </a:rPr>
              <a:t>Мбит/с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13"/>
          <p:cNvSpPr/>
          <p:nvPr/>
        </p:nvSpPr>
        <p:spPr>
          <a:xfrm>
            <a:off x="5375160" y="5016600"/>
            <a:ext cx="1220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Times New Roman"/>
              </a:rPr>
              <a:t>100 </a:t>
            </a:r>
            <a:r>
              <a:rPr b="1" lang="ru-RU" sz="1100" spc="-1" strike="noStrike">
                <a:solidFill>
                  <a:srgbClr val="0000ff"/>
                </a:solidFill>
                <a:latin typeface="Times New Roman"/>
              </a:rPr>
              <a:t>Мбит/с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186920" y="1700280"/>
            <a:ext cx="727236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ru-RU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22360" y="4264200"/>
            <a:ext cx="1067040" cy="33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Обсерватория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«Зеленчукская»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60680" y="2649600"/>
            <a:ext cx="1071360" cy="7398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680" rIns="94680" tIns="48960" bIns="489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Буфер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l2950P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ОС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nux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38440" y="2135160"/>
            <a:ext cx="5954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100" spc="-1" strike="noStrike">
                <a:solidFill>
                  <a:srgbClr val="ffffff"/>
                </a:solidFill>
                <a:latin typeface="Times New Roman"/>
              </a:rPr>
              <a:t>Disk2</a:t>
            </a:r>
            <a:r>
              <a:rPr b="1" i="1" lang="en-US" sz="1100" spc="-1" strike="noStrike">
                <a:solidFill>
                  <a:srgbClr val="ffffff"/>
                </a:solidFill>
                <a:latin typeface="Times New Roman"/>
              </a:rPr>
              <a:t>Ne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46160" y="3019320"/>
            <a:ext cx="6033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Times New Roman"/>
              </a:rPr>
              <a:t>ЛВС</a:t>
            </a:r>
            <a:r>
              <a:rPr b="1" i="1" lang="en-US" sz="1000" spc="-1" strike="noStrike">
                <a:solidFill>
                  <a:srgbClr val="ffffff"/>
                </a:solidFill>
                <a:latin typeface="Times New Roman"/>
              </a:rPr>
              <a:t> 1Gb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156360" y="2205000"/>
            <a:ext cx="1944720" cy="4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ЦКО РА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анкт-Петербург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073240" y="4795920"/>
            <a:ext cx="10666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Обсерватория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«Бадары»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77960" y="3678120"/>
            <a:ext cx="10670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Обсерватория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«Светлое»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95640" y="2430360"/>
            <a:ext cx="1440" cy="212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70200" y="2725560"/>
            <a:ext cx="0" cy="65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14440" y="3379680"/>
            <a:ext cx="919080" cy="444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680" rIns="94680" tIns="48960" bIns="489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ЦКУР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414440" y="2141640"/>
            <a:ext cx="919080" cy="5936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680" rIns="94680" tIns="48960" bIns="489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rk5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rmin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63600" y="1989000"/>
            <a:ext cx="2519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782880" y="1989000"/>
            <a:ext cx="1800" cy="221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58920" y="1989000"/>
            <a:ext cx="0" cy="221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333520" y="243036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21120" y="2490840"/>
            <a:ext cx="0" cy="2212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065480" y="3083040"/>
            <a:ext cx="0" cy="2212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03280" y="4662360"/>
            <a:ext cx="252108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41520" y="5254560"/>
            <a:ext cx="2519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01840" y="4176720"/>
            <a:ext cx="0" cy="515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54120" y="4741920"/>
            <a:ext cx="0" cy="517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82880" y="2492280"/>
            <a:ext cx="1429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06720" y="3044880"/>
            <a:ext cx="1447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421160" y="2624040"/>
            <a:ext cx="1071720" cy="741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680" rIns="94680" tIns="48960" bIns="4896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Буфер-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Виртуальная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машина (ОС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inux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а сервере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un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19760" y="2674800"/>
            <a:ext cx="770040" cy="592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680" rIns="94680" tIns="48960" bIns="489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Mark5B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layback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796000" y="3645000"/>
            <a:ext cx="770040" cy="592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680" rIns="94680" tIns="48960" bIns="489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Mark5B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layback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38840" y="4653000"/>
            <a:ext cx="770040" cy="5936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680" rIns="94680" tIns="48960" bIns="489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Mark5B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layback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27640" y="5445000"/>
            <a:ext cx="2187360" cy="33516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680" rIns="94680" tIns="48960" bIns="489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оррелятор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430880" y="3608280"/>
            <a:ext cx="1071360" cy="741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680" rIns="94680" tIns="48960" bIns="4896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Буфер-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Виртуальная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машина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а сервере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u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30600" y="2959200"/>
            <a:ext cx="75420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443480" y="4592520"/>
            <a:ext cx="1069920" cy="7398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680" rIns="94680" tIns="48960" bIns="4896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Буфер-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Виртуальная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машина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а сервере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u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25800" y="3967200"/>
            <a:ext cx="50652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060800" y="4876920"/>
            <a:ext cx="37152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00800" y="29718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30960" y="5262480"/>
            <a:ext cx="0" cy="20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50880" y="5478480"/>
            <a:ext cx="2460600" cy="33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ЦКУР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-центральный компьютер управления радиотелескопом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927080" y="5797440"/>
            <a:ext cx="14306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</a:rPr>
              <a:t>ВОЛ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03520" y="5896080"/>
            <a:ext cx="37152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26000" y="39560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526000" y="4888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258920" y="4168800"/>
            <a:ext cx="252108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32520" y="3284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27840" y="4221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46920" y="52578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75440" y="4221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94520" y="524844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6920" y="907920"/>
            <a:ext cx="792180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труктурная схема аппаратно-программных средств, обеспечивающих режим е-РСДБ, в обсерваториях и ЦКО РА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77080" y="4653000"/>
            <a:ext cx="1224000" cy="5936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680" rIns="94680" tIns="48960" bIns="4896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un Fire X445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Вторичная обработка пакетом «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Quasar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»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659640" y="5661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596360" y="5229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11640" y="2060640"/>
            <a:ext cx="0" cy="381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11640" y="5877000"/>
            <a:ext cx="396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172360" y="2060640"/>
            <a:ext cx="0" cy="381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11640" y="2060640"/>
            <a:ext cx="396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3640" y="765000"/>
            <a:ext cx="828036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лгоритм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редачи РСДБ-данных из обсерваторий в Ц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580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55720" y="2525760"/>
            <a:ext cx="762120" cy="60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Старт сессии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u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Поток,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256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bp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803680" y="2525760"/>
            <a:ext cx="1117440" cy="5414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680" rIns="94680" tIns="48960" bIns="489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Регистрация на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ark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 5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в обсерваториях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479840" y="2525760"/>
            <a:ext cx="1187640" cy="5713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680" rIns="94680" tIns="48960" bIns="489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Буферизация данных в обсерваториях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65720" y="2525760"/>
            <a:ext cx="1646280" cy="1485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680" rIns="94680" tIns="48960" bIns="4896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ередача данных  часовой сессии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u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по ВОЛС в ЦКО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РАН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 рабочие станции буферизации из двух обсерваторий одновременно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130640" y="3325680"/>
            <a:ext cx="1906560" cy="6858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680" rIns="94680" tIns="48960" bIns="489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ередача данных  по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ЛВС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в ЦКО РАН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а два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ark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 5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одновременно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781360" y="3316320"/>
            <a:ext cx="1144440" cy="6858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680" rIns="94680" tIns="48960" bIns="489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Корреляционная обработка. Постпроцессор-ная обработка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476360" y="3313080"/>
            <a:ext cx="1049400" cy="720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680" rIns="94680" tIns="48960" bIns="489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Вторичная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обработка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(Пакет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“Quasar”)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76360" y="4365720"/>
            <a:ext cx="11174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ΔU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ВэбСайт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ИПА РАН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23960" y="27543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921120" y="280188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667480" y="2820960"/>
            <a:ext cx="501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16680" y="366876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21120" y="36687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23960" y="36687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16680" y="5497560"/>
            <a:ext cx="1795320" cy="7160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680" rIns="94680" tIns="48960" bIns="489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ередача данных по выделенному каналу связи в- ЦКО МО РФ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807160" y="5870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089240" y="5497560"/>
            <a:ext cx="1717920" cy="6858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680" rIns="94680" tIns="48960" bIns="489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ередача данных  по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ЛВС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в ЦКО МО РФ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а два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rk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 5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214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одновременно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746760" y="4030560"/>
            <a:ext cx="0" cy="309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701800" y="5487840"/>
            <a:ext cx="1144800" cy="6858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680" rIns="94680" tIns="48960" bIns="489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Корреляционная обработка. Постпроцессор-ная обработка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838680" y="5840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616040" y="5611680"/>
            <a:ext cx="839880" cy="4590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680" rIns="94680" tIns="48960" bIns="489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Вторичная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Обработка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454120" y="5840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616040" y="5030640"/>
            <a:ext cx="907920" cy="41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ΔU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МО РФ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156360" y="4354560"/>
            <a:ext cx="1655640" cy="7999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680" rIns="94680" tIns="48960" bIns="489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уферизация этих данных на промежуточный буфер в ЦКО РА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737400" y="5183280"/>
            <a:ext cx="0" cy="309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2027160" y="4066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035080" y="5383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733840" y="4354560"/>
            <a:ext cx="1326960" cy="9144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680" rIns="94680" tIns="48960" bIns="489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ередача результатов обработки по ВОЛС из ЦКО РАН в ЦКО МО РФ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362400" y="4011480"/>
            <a:ext cx="0" cy="347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3059280" y="4149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089760" y="1535040"/>
            <a:ext cx="1722240" cy="6858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680" rIns="94680" tIns="48960" bIns="489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естиров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анала связ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per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94200" y="1546200"/>
            <a:ext cx="1536480" cy="6858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680" rIns="94680" tIns="48960" bIns="489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Определение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входных параметров для протокола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sunami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DP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527800" y="186696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755720" y="1546200"/>
            <a:ext cx="1536840" cy="6858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680" rIns="94680" tIns="48960" bIns="489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Технологическая проверка готовности 3-х обсерваторий к началу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сессии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u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303720" y="187812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138400" y="220968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268360" y="40244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268360" y="4159080"/>
            <a:ext cx="7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лгоритм передачи РСДБ-данны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из обсерваторий в ЦКО РАН включает два цикла: технологический и рабочий. Технологический цикл проводится за один час до начала часовой сесси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-U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хнологический цикл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тестирование канала связи утилитой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perf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Определение входных параметров для высокоскоростного протокол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sunam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DP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получение откликов по трем сканам из 3-х обсерваторий. Анализ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-file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Принятие решения о старте часового сеанса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бочий цикл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наблюдение 20 источников и передача данных, включая лог-файлы, в ЦКО РАН и ЦКО МО РФ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 первичная и вторичная обработка, размещение поправки всемирного времени на сайте ИПА РАН и передача результатов обработки ИПА РАН в ЦКО МО Р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Заголовок 1"/>
          <p:cNvSpPr/>
          <p:nvPr/>
        </p:nvSpPr>
        <p:spPr>
          <a:xfrm>
            <a:off x="755640" y="692280"/>
            <a:ext cx="821376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висимость скорости передачи одного скана часовой сессии РСДБ-наблюдений из обс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«Бадары» в ЦКО РАН по внешнему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ublic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) каналу связи ОАО Бурятского филиала «Сибирьтелеком» 100Мбит/с от времени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(сессия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u-U1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61, 03.06.2011г.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755640" y="2349360"/>
            <a:ext cx="770400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Заголовок 1"/>
          <p:cNvSpPr/>
          <p:nvPr/>
        </p:nvSpPr>
        <p:spPr>
          <a:xfrm>
            <a:off x="468360" y="663480"/>
            <a:ext cx="82137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висимость скорости передачи одного скана часовой сессии РСДБ-наблюдений наблюдений из обс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«Зеленчукская» в ЦКО РАН по внешнему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ublic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) каналу связи ОАО Карачаево-Черкесского филиала «ЮТК» 100Мбит/с от времени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(сессия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u-U1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61, 03.06.2011г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900000" y="2133720"/>
            <a:ext cx="78487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lya</dc:creator>
  <dc:description/>
  <dc:language>en-US</dc:language>
  <cp:lastModifiedBy>нина</cp:lastModifiedBy>
  <dcterms:modified xsi:type="dcterms:W3CDTF">2011-07-06T06:22:53Z</dcterms:modified>
  <cp:revision>39</cp:revision>
  <dc:subject/>
  <dc:title>СТРУКТУРНАЯ СХЕМА РСДБ РЕАЛЬНОГО ВРЕМЕНИ </dc:title>
</cp:coreProperties>
</file>