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1F1-FB92-4B2D-A77C-D6058837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696-ADE6-4D4C-951C-5CC59766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0C5-8E56-4AA1-8E5F-CB5D0B1F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6D9-84D4-4EC2-AF95-C546250D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D38E-8134-4FC4-93D7-8B4DB56B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2549-23F5-4698-BBBB-AA32333F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6D30-FD7A-42A0-8B28-24AFDF7A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6CCE-4A16-4DF6-9DAF-38D8A5DA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B241-B327-45A8-9DDD-C6A458A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4E9F-6658-4B6D-A30A-221E11F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922C-326B-4B06-89FE-A97B6DA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FD0-AC11-40C5-AA02-1984F5E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C9C-AF42-4AC2-96F6-A914B36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16D-3067-4098-A62F-488E25F5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C879-CF50-4B74-9189-BE5E7C8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C18-E8B7-416D-A1AB-19C69EE1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B19E-09B9-43B9-8291-2EFFA388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FDA-1116-430B-9ECB-1164A3D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60B-7CD7-427D-91C0-2208FD2D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75F-EF50-403F-98C8-5FCFAA8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3A2-F8DF-475E-9760-BDA51278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16C-5AD9-4D43-80C3-C3000F38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922-29D1-4E6A-A7C9-0E6632E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7BD-472F-4FB2-8EE8-08F01D5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D68A-1173-454E-9A34-2C1F59634E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DB78-8648-42A3-BE72-2AE2C39561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Система экспресс-обработки НТМ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ретьяков А.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КИ Р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мер работы программы 3/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812772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имер работы программы 4/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2200" y="990720"/>
            <a:ext cx="812808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имер работы программы 5/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5000" y="1000080"/>
            <a:ext cx="812808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остав комплек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дварительная обработ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Экспресс-обработ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утренняя база дан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изуализ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едварительная обрабо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274920" y="1844640"/>
            <a:ext cx="1152720" cy="5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ы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2276640"/>
            <a:ext cx="2881440" cy="57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ись на ди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сходного пот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2781360"/>
            <a:ext cx="172872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ранспор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3429000"/>
            <a:ext cx="172872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ат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3932280"/>
            <a:ext cx="172872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б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157720"/>
            <a:ext cx="331164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ись на 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анных и сопутству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формации приб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9440" y="5157720"/>
            <a:ext cx="331164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пись на 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аспорта се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484000" y="213372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205000"/>
            <a:ext cx="1008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2720" y="2421000"/>
            <a:ext cx="158292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3645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4797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4797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98920" y="4797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32000" y="4149720"/>
            <a:ext cx="230364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3357720"/>
            <a:ext cx="230364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4292640"/>
            <a:ext cx="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кспресс обработ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060640"/>
            <a:ext cx="208908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а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286080"/>
            <a:ext cx="2089080" cy="863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иб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3716280"/>
            <a:ext cx="936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581360"/>
            <a:ext cx="2089080" cy="1079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опутств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 прибо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3716280"/>
            <a:ext cx="2089080" cy="1079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из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л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059280" y="4508280"/>
            <a:ext cx="936360" cy="36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48360" y="2708280"/>
            <a:ext cx="936720" cy="936720"/>
          </a:xfrm>
          <a:prstGeom prst="can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2421000"/>
            <a:ext cx="38890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084720" y="3284280"/>
            <a:ext cx="863640" cy="577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БД 1\3 – Статистика сеан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земное время начала и конца сеан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ортовое время начала и конца сеан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ортовое время начала и конца работы каждого приб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личество данных переданных каждым из прибор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БД 2\3 – Описание физических велич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звание прибо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звание парамет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иапазон возможных значен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ип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люч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\Off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речисление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um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рафи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ртинки (может содержать только текстовую информацию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ртовое время первого и последнего появления данны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БД 3\3 – Непосредственно данны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ортовое время начала измер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ремя конца измер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нач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имер работы программы 1/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12808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имер работы программы 2/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8128080" cy="50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еханика управление информация Тарус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.07.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6:10:27Z</dcterms:created>
  <dc:creator>VN</dc:creator>
  <dc:description/>
  <dc:language>en-US</dc:language>
  <cp:lastModifiedBy>VN</cp:lastModifiedBy>
  <dcterms:modified xsi:type="dcterms:W3CDTF">2011-07-07T14:24:05Z</dcterms:modified>
  <cp:revision>3</cp:revision>
  <dc:subject/>
  <dc:title>Система экспресс-обработки НТМИ</dc:title>
</cp:coreProperties>
</file>