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2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5" descr=""/>
          <p:cNvPicPr/>
          <p:nvPr/>
        </p:nvPicPr>
        <p:blipFill>
          <a:blip r:embed="rId2"/>
          <a:stretch/>
        </p:blipFill>
        <p:spPr>
          <a:xfrm>
            <a:off x="0" y="360"/>
            <a:ext cx="9717480" cy="648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5" descr=""/>
          <p:cNvPicPr/>
          <p:nvPr/>
        </p:nvPicPr>
        <p:blipFill>
          <a:blip r:embed="rId2"/>
          <a:stretch/>
        </p:blipFill>
        <p:spPr>
          <a:xfrm>
            <a:off x="0" y="360"/>
            <a:ext cx="9717840" cy="6482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"/>
          <p:cNvPicPr/>
          <p:nvPr/>
        </p:nvPicPr>
        <p:blipFill>
          <a:blip r:embed="rId2"/>
          <a:stretch/>
        </p:blipFill>
        <p:spPr>
          <a:xfrm>
            <a:off x="0" y="360"/>
            <a:ext cx="9717840" cy="6482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"/>
          <p:cNvPicPr/>
          <p:nvPr/>
        </p:nvPicPr>
        <p:blipFill>
          <a:blip r:embed="rId2"/>
          <a:stretch/>
        </p:blipFill>
        <p:spPr>
          <a:xfrm>
            <a:off x="0" y="360"/>
            <a:ext cx="9717840" cy="6482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2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ustomShape 1"/>
          <p:cNvSpPr/>
          <p:nvPr/>
        </p:nvSpPr>
        <p:spPr>
          <a:xfrm>
            <a:off x="1330200" y="2011680"/>
            <a:ext cx="713088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Методы классификации дифракцио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изображений для эксперимента X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2"/>
          <p:cNvSpPr/>
          <p:nvPr/>
        </p:nvSpPr>
        <p:spPr>
          <a:xfrm>
            <a:off x="0" y="3219840"/>
            <a:ext cx="9719280" cy="12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С.А. Бобков, А.Б. Теслюк, О.Ю. Горобцов, О.М. Ефан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М.В. Голосова, И.А. Вартанянц, В.А. Иль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ustomShape 3"/>
          <p:cNvSpPr/>
          <p:nvPr/>
        </p:nvSpPr>
        <p:spPr>
          <a:xfrm>
            <a:off x="4206240" y="5943600"/>
            <a:ext cx="12787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DejaVu Sans"/>
              </a:rPr>
              <a:t>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4"/>
          <p:cNvSpPr/>
          <p:nvPr/>
        </p:nvSpPr>
        <p:spPr>
          <a:xfrm>
            <a:off x="0" y="5029200"/>
            <a:ext cx="971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DejaVu Sans"/>
              </a:rPr>
              <a:t>Научный семина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DejaVu Sans"/>
              </a:rPr>
              <a:t>«Методы суперкомпьютерного моделиров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The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2"/>
          <p:cNvSpPr/>
          <p:nvPr/>
        </p:nvSpPr>
        <p:spPr>
          <a:xfrm>
            <a:off x="486000" y="1452960"/>
            <a:ext cx="799884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DejaVu Sans"/>
              </a:rPr>
              <a:t>Calculate feature vectors for diffraction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DejaVu Sans"/>
              </a:rPr>
              <a:t>Use some images as a learning dataset for some machine learning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DejaVu Sans"/>
              </a:rPr>
              <a:t>Classify th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The Mode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2"/>
          <p:cNvSpPr/>
          <p:nvPr/>
        </p:nvSpPr>
        <p:spPr>
          <a:xfrm>
            <a:off x="486000" y="1515960"/>
            <a:ext cx="855216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Three types of diffraction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3" descr=""/>
          <p:cNvPicPr/>
          <p:nvPr/>
        </p:nvPicPr>
        <p:blipFill>
          <a:blip r:embed="rId1"/>
          <a:srcRect l="9759" t="8110" r="12505" b="6621"/>
          <a:stretch/>
        </p:blipFill>
        <p:spPr>
          <a:xfrm>
            <a:off x="1512000" y="2160000"/>
            <a:ext cx="1618920" cy="1510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4" descr=""/>
          <p:cNvPicPr/>
          <p:nvPr/>
        </p:nvPicPr>
        <p:blipFill>
          <a:blip r:embed="rId2"/>
          <a:stretch/>
        </p:blipFill>
        <p:spPr>
          <a:xfrm>
            <a:off x="3868560" y="2025360"/>
            <a:ext cx="2083320" cy="1726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5" descr=""/>
          <p:cNvPicPr/>
          <p:nvPr/>
        </p:nvPicPr>
        <p:blipFill>
          <a:blip r:embed="rId3"/>
          <a:srcRect l="10246" t="8327" r="13750" b="6240"/>
          <a:stretch/>
        </p:blipFill>
        <p:spPr>
          <a:xfrm>
            <a:off x="6624000" y="2160000"/>
            <a:ext cx="1582920" cy="1474920"/>
          </a:xfrm>
          <a:prstGeom prst="rect">
            <a:avLst/>
          </a:prstGeom>
          <a:ln w="0">
            <a:noFill/>
          </a:ln>
        </p:spPr>
      </p:pic>
      <p:sp>
        <p:nvSpPr>
          <p:cNvPr id="198" name="CustomShape 3"/>
          <p:cNvSpPr/>
          <p:nvPr/>
        </p:nvSpPr>
        <p:spPr>
          <a:xfrm>
            <a:off x="1175400" y="3792240"/>
            <a:ext cx="1553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Adenovirus caps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ustomShape 4"/>
          <p:cNvSpPr/>
          <p:nvPr/>
        </p:nvSpPr>
        <p:spPr>
          <a:xfrm>
            <a:off x="4493880" y="3772800"/>
            <a:ext cx="730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ustomShape 5"/>
          <p:cNvSpPr/>
          <p:nvPr/>
        </p:nvSpPr>
        <p:spPr>
          <a:xfrm>
            <a:off x="7054200" y="3792240"/>
            <a:ext cx="730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2b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49" descr=""/>
          <p:cNvPicPr/>
          <p:nvPr/>
        </p:nvPicPr>
        <p:blipFill>
          <a:blip r:embed="rId4"/>
          <a:stretch/>
        </p:blipFill>
        <p:spPr>
          <a:xfrm>
            <a:off x="6505560" y="4206240"/>
            <a:ext cx="1827720" cy="18277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0" descr=""/>
          <p:cNvPicPr/>
          <p:nvPr/>
        </p:nvPicPr>
        <p:blipFill>
          <a:blip r:embed="rId5"/>
          <a:stretch/>
        </p:blipFill>
        <p:spPr>
          <a:xfrm>
            <a:off x="1329120" y="4206240"/>
            <a:ext cx="1827720" cy="19191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1" descr=""/>
          <p:cNvPicPr/>
          <p:nvPr/>
        </p:nvPicPr>
        <p:blipFill>
          <a:blip r:embed="rId6"/>
          <a:stretch/>
        </p:blipFill>
        <p:spPr>
          <a:xfrm>
            <a:off x="3945240" y="4206240"/>
            <a:ext cx="1827720" cy="18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ustomShape 3"/>
          <p:cNvSpPr/>
          <p:nvPr/>
        </p:nvSpPr>
        <p:spPr>
          <a:xfrm>
            <a:off x="5868360" y="4037760"/>
            <a:ext cx="1506600" cy="574920"/>
          </a:xfrm>
          <a:prstGeom prst="rightArrow">
            <a:avLst>
              <a:gd name="adj1" fmla="val 44709"/>
              <a:gd name="adj2" fmla="val 61905"/>
            </a:avLst>
          </a:prstGeom>
          <a:solidFill>
            <a:srgbClr val="00b05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ustomShape 5"/>
          <p:cNvSpPr/>
          <p:nvPr/>
        </p:nvSpPr>
        <p:spPr>
          <a:xfrm>
            <a:off x="4032000" y="2544120"/>
            <a:ext cx="1655280" cy="357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Data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ustomShape 6"/>
          <p:cNvSpPr/>
          <p:nvPr/>
        </p:nvSpPr>
        <p:spPr>
          <a:xfrm>
            <a:off x="5796360" y="3021840"/>
            <a:ext cx="14346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Principle componen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ustomShape 7"/>
          <p:cNvSpPr/>
          <p:nvPr/>
        </p:nvSpPr>
        <p:spPr>
          <a:xfrm>
            <a:off x="2398320" y="4037760"/>
            <a:ext cx="1506600" cy="574920"/>
          </a:xfrm>
          <a:prstGeom prst="rightArrow">
            <a:avLst>
              <a:gd name="adj1" fmla="val 44709"/>
              <a:gd name="adj2" fmla="val 61905"/>
            </a:avLst>
          </a:prstGeom>
          <a:solidFill>
            <a:srgbClr val="00b05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ustomShape 8"/>
          <p:cNvSpPr/>
          <p:nvPr/>
        </p:nvSpPr>
        <p:spPr>
          <a:xfrm>
            <a:off x="2340000" y="3021840"/>
            <a:ext cx="14346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Feature vector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486000" y="3465360"/>
            <a:ext cx="1713960" cy="1719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7489800" y="3523320"/>
            <a:ext cx="1971000" cy="16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Simulated data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ustomShape 2"/>
          <p:cNvSpPr/>
          <p:nvPr/>
        </p:nvSpPr>
        <p:spPr>
          <a:xfrm>
            <a:off x="486000" y="1515960"/>
            <a:ext cx="855216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ustomShape 3"/>
          <p:cNvSpPr/>
          <p:nvPr/>
        </p:nvSpPr>
        <p:spPr>
          <a:xfrm>
            <a:off x="370440" y="1515960"/>
            <a:ext cx="36964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DejaVu Sans"/>
              </a:rPr>
              <a:t>All three image classes can be separated from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D:\Users\Serge\Dropbox\Documents\Аспирантура\CCF issue\pca_sim.png"/>
          <p:cNvPicPr/>
          <p:nvPr/>
        </p:nvPicPr>
        <p:blipFill>
          <a:blip r:embed="rId1"/>
          <a:stretch/>
        </p:blipFill>
        <p:spPr>
          <a:xfrm>
            <a:off x="4579560" y="1515960"/>
            <a:ext cx="39405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6000" y="47880"/>
            <a:ext cx="874728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bout experimental da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564840" y="1127520"/>
            <a:ext cx="8342280" cy="477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866040" y="5985000"/>
            <a:ext cx="2247480" cy="32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Experiment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ustomShape 2"/>
          <p:cNvSpPr/>
          <p:nvPr/>
        </p:nvSpPr>
        <p:spPr>
          <a:xfrm>
            <a:off x="611640" y="4829400"/>
            <a:ext cx="2303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Firs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stomShape 3"/>
          <p:cNvSpPr/>
          <p:nvPr/>
        </p:nvSpPr>
        <p:spPr>
          <a:xfrm>
            <a:off x="3564000" y="4829400"/>
            <a:ext cx="2231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Secon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ustomShape 4"/>
          <p:cNvSpPr/>
          <p:nvPr/>
        </p:nvSpPr>
        <p:spPr>
          <a:xfrm>
            <a:off x="6505560" y="4829400"/>
            <a:ext cx="23137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Empty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rcRect l="15586" t="9823" r="18297" b="9980"/>
          <a:stretch/>
        </p:blipFill>
        <p:spPr>
          <a:xfrm>
            <a:off x="6516000" y="2372760"/>
            <a:ext cx="2554920" cy="2324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2"/>
          <a:srcRect l="16102" t="9370" r="17879" b="9541"/>
          <a:stretch/>
        </p:blipFill>
        <p:spPr>
          <a:xfrm>
            <a:off x="648000" y="2376720"/>
            <a:ext cx="2518920" cy="23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3497760" y="2372760"/>
            <a:ext cx="2297520" cy="23245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1846440" y="1549440"/>
            <a:ext cx="565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Dataset from LCLS (Stanford), two types of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Algorithm impr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ustomShape 2"/>
          <p:cNvSpPr/>
          <p:nvPr/>
        </p:nvSpPr>
        <p:spPr>
          <a:xfrm>
            <a:off x="0" y="1296000"/>
            <a:ext cx="9719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29" name="CustomShape 3"/>
          <p:cNvSpPr/>
          <p:nvPr/>
        </p:nvSpPr>
        <p:spPr>
          <a:xfrm>
            <a:off x="4500000" y="4241160"/>
            <a:ext cx="1150920" cy="574920"/>
          </a:xfrm>
          <a:prstGeom prst="rightArrow">
            <a:avLst>
              <a:gd name="adj1" fmla="val 44709"/>
              <a:gd name="adj2" fmla="val 61905"/>
            </a:avLst>
          </a:prstGeom>
          <a:solidFill>
            <a:srgbClr val="00b05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ustomShape 4"/>
          <p:cNvSpPr/>
          <p:nvPr/>
        </p:nvSpPr>
        <p:spPr>
          <a:xfrm>
            <a:off x="486000" y="1802160"/>
            <a:ext cx="874656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Particle position estimation for every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Variable b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899640" y="3023280"/>
            <a:ext cx="2954160" cy="3010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6012360" y="3023280"/>
            <a:ext cx="2954160" cy="3010680"/>
          </a:xfrm>
          <a:prstGeom prst="rect">
            <a:avLst/>
          </a:prstGeom>
          <a:ln w="0">
            <a:noFill/>
          </a:ln>
        </p:spPr>
      </p:pic>
      <p:sp>
        <p:nvSpPr>
          <p:cNvPr id="233" name="CustomShape 5"/>
          <p:cNvSpPr/>
          <p:nvPr/>
        </p:nvSpPr>
        <p:spPr>
          <a:xfrm>
            <a:off x="7328520" y="4368960"/>
            <a:ext cx="321480" cy="319320"/>
          </a:xfrm>
          <a:prstGeom prst="quadArrow">
            <a:avLst>
              <a:gd name="adj1" fmla="val 13956"/>
              <a:gd name="adj2" fmla="val 14810"/>
              <a:gd name="adj3" fmla="val 18228"/>
            </a:avLst>
          </a:prstGeom>
          <a:solidFill>
            <a:srgbClr val="ff0000"/>
          </a:solidFill>
          <a:ln w="255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ustomShape 6"/>
          <p:cNvSpPr/>
          <p:nvPr/>
        </p:nvSpPr>
        <p:spPr>
          <a:xfrm rot="2236200">
            <a:off x="7623000" y="4157640"/>
            <a:ext cx="116640" cy="191520"/>
          </a:xfrm>
          <a:prstGeom prst="upDownArrow">
            <a:avLst>
              <a:gd name="adj1" fmla="val 40698"/>
              <a:gd name="adj2" fmla="val 40698"/>
            </a:avLst>
          </a:prstGeom>
          <a:solidFill>
            <a:srgbClr val="ff0000"/>
          </a:solidFill>
          <a:ln w="255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ustomShape 7"/>
          <p:cNvSpPr/>
          <p:nvPr/>
        </p:nvSpPr>
        <p:spPr>
          <a:xfrm rot="18997200">
            <a:off x="6853320" y="3758400"/>
            <a:ext cx="116640" cy="191520"/>
          </a:xfrm>
          <a:prstGeom prst="upDownArrow">
            <a:avLst>
              <a:gd name="adj1" fmla="val 40698"/>
              <a:gd name="adj2" fmla="val 40698"/>
            </a:avLst>
          </a:prstGeom>
          <a:solidFill>
            <a:srgbClr val="ff0000"/>
          </a:solidFill>
          <a:ln w="2556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Algorithm impr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stomShape 2"/>
          <p:cNvSpPr/>
          <p:nvPr/>
        </p:nvSpPr>
        <p:spPr>
          <a:xfrm>
            <a:off x="0" y="1296000"/>
            <a:ext cx="9719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Support vector machine (SVM) for machin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ustomShape 3"/>
          <p:cNvSpPr/>
          <p:nvPr/>
        </p:nvSpPr>
        <p:spPr>
          <a:xfrm>
            <a:off x="486000" y="1802160"/>
            <a:ext cx="8746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Provide better results than P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ustomShape 4"/>
          <p:cNvSpPr/>
          <p:nvPr/>
        </p:nvSpPr>
        <p:spPr>
          <a:xfrm>
            <a:off x="5868360" y="4037760"/>
            <a:ext cx="1506600" cy="574920"/>
          </a:xfrm>
          <a:prstGeom prst="rightArrow">
            <a:avLst>
              <a:gd name="adj1" fmla="val 44709"/>
              <a:gd name="adj2" fmla="val 61905"/>
            </a:avLst>
          </a:prstGeom>
          <a:solidFill>
            <a:srgbClr val="00b05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ustomShape 5"/>
          <p:cNvSpPr/>
          <p:nvPr/>
        </p:nvSpPr>
        <p:spPr>
          <a:xfrm>
            <a:off x="4032000" y="2537640"/>
            <a:ext cx="1655280" cy="357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Data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ustomShape 6"/>
          <p:cNvSpPr/>
          <p:nvPr/>
        </p:nvSpPr>
        <p:spPr>
          <a:xfrm>
            <a:off x="5796360" y="3021840"/>
            <a:ext cx="14346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Support vector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ustomShape 7"/>
          <p:cNvSpPr/>
          <p:nvPr/>
        </p:nvSpPr>
        <p:spPr>
          <a:xfrm>
            <a:off x="2398320" y="4037760"/>
            <a:ext cx="1506600" cy="574920"/>
          </a:xfrm>
          <a:prstGeom prst="rightArrow">
            <a:avLst>
              <a:gd name="adj1" fmla="val 44709"/>
              <a:gd name="adj2" fmla="val 61905"/>
            </a:avLst>
          </a:prstGeom>
          <a:solidFill>
            <a:srgbClr val="00b05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539840" y="3581280"/>
            <a:ext cx="1915560" cy="1501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486000" y="3465360"/>
            <a:ext cx="1700280" cy="1733040"/>
          </a:xfrm>
          <a:prstGeom prst="rect">
            <a:avLst/>
          </a:prstGeom>
          <a:ln w="0">
            <a:noFill/>
          </a:ln>
        </p:spPr>
      </p:pic>
      <p:sp>
        <p:nvSpPr>
          <p:cNvPr id="245" name="CustomShape 8"/>
          <p:cNvSpPr/>
          <p:nvPr/>
        </p:nvSpPr>
        <p:spPr>
          <a:xfrm>
            <a:off x="2340000" y="3049920"/>
            <a:ext cx="14346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Feature vector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Experimental data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ustomShape 2"/>
          <p:cNvSpPr/>
          <p:nvPr/>
        </p:nvSpPr>
        <p:spPr>
          <a:xfrm>
            <a:off x="486000" y="1515960"/>
            <a:ext cx="855216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ustomShape 3"/>
          <p:cNvSpPr/>
          <p:nvPr/>
        </p:nvSpPr>
        <p:spPr>
          <a:xfrm>
            <a:off x="486000" y="3528000"/>
            <a:ext cx="847764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SVM-based method successfully separates two classes of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Empty patterns were classified and filter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More than 85 percent of images were separa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486000" y="1515960"/>
            <a:ext cx="7843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IT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ustomShape 3"/>
          <p:cNvSpPr/>
          <p:nvPr/>
        </p:nvSpPr>
        <p:spPr>
          <a:xfrm>
            <a:off x="486000" y="1368360"/>
            <a:ext cx="8477640" cy="43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We use Python + Numpy + Intel MK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OpenMP paralle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24 Core server – realtime imag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Kurchatov Supercomputer Centre (complex for modeling and data analysis for mega-facil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86000" y="1515960"/>
            <a:ext cx="51652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Free electron lasers (FELs) - new tools to investigate matter at atomic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New possibilities for nano-world ima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Single molecule diff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European XFEL – Ham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Will become operational at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012360" y="1440000"/>
            <a:ext cx="2856600" cy="1960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6676920" y="3672000"/>
            <a:ext cx="2191680" cy="219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stomShape 2"/>
          <p:cNvSpPr/>
          <p:nvPr/>
        </p:nvSpPr>
        <p:spPr>
          <a:xfrm>
            <a:off x="486000" y="1515960"/>
            <a:ext cx="855216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ustomShape 3"/>
          <p:cNvSpPr/>
          <p:nvPr/>
        </p:nvSpPr>
        <p:spPr>
          <a:xfrm>
            <a:off x="486000" y="1515960"/>
            <a:ext cx="855216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DejaVu Sans"/>
              </a:rPr>
              <a:t>We have presented a method for diffraction pattern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DejaVu Sans"/>
              </a:rPr>
              <a:t>Our method was tested on simulated and experimental data and it wor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DejaVu Sans"/>
              </a:rPr>
              <a:t>The method will be used to develop a software for automatic data clustering, separation, indexing an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DejaVu Sans"/>
              </a:rPr>
              <a:t>Special particle database will allow quickly analyze experiment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56" name="CustomShape 2"/>
          <p:cNvSpPr/>
          <p:nvPr/>
        </p:nvSpPr>
        <p:spPr>
          <a:xfrm>
            <a:off x="486000" y="1515960"/>
            <a:ext cx="855216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3609000" y="3340080"/>
            <a:ext cx="2692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ustomShape 1"/>
          <p:cNvSpPr/>
          <p:nvPr/>
        </p:nvSpPr>
        <p:spPr>
          <a:xfrm>
            <a:off x="1929240" y="4421520"/>
            <a:ext cx="51652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Capture an image before the sample has time to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This principle is not restricted to tiny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2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Diffraction before de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:\Users\Serge\Desktop\dbd.png"/>
          <p:cNvPicPr/>
          <p:nvPr/>
        </p:nvPicPr>
        <p:blipFill>
          <a:blip r:embed="rId1"/>
          <a:stretch/>
        </p:blipFill>
        <p:spPr>
          <a:xfrm>
            <a:off x="1179360" y="1162800"/>
            <a:ext cx="7506000" cy="2584440"/>
          </a:xfrm>
          <a:prstGeom prst="rect">
            <a:avLst/>
          </a:prstGeom>
          <a:ln w="0">
            <a:noFill/>
          </a:ln>
        </p:spPr>
      </p:pic>
      <p:cxnSp>
        <p:nvCxnSpPr>
          <p:cNvPr id="167" name="Прямая со стрелкой 2"/>
          <p:cNvCxnSpPr/>
          <p:nvPr/>
        </p:nvCxnSpPr>
        <p:spPr>
          <a:xfrm>
            <a:off x="1171440" y="3436560"/>
            <a:ext cx="199080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168" name="Прямая со стрелкой 9"/>
          <p:cNvCxnSpPr/>
          <p:nvPr/>
        </p:nvCxnSpPr>
        <p:spPr>
          <a:xfrm>
            <a:off x="1171440" y="3837600"/>
            <a:ext cx="7400160" cy="360"/>
          </a:xfrm>
          <a:prstGeom prst="straightConnector1">
            <a:avLst/>
          </a:prstGeom>
          <a:ln w="38100">
            <a:solidFill>
              <a:srgbClr val="4a7ebb"/>
            </a:solidFill>
            <a:round/>
            <a:headEnd len="med" type="arrow" w="med"/>
            <a:tailEnd len="med" type="arrow" w="med"/>
          </a:ln>
        </p:spPr>
      </p:cxnSp>
      <p:sp>
        <p:nvSpPr>
          <p:cNvPr id="169" name="TextBox 4"/>
          <p:cNvSpPr/>
          <p:nvPr/>
        </p:nvSpPr>
        <p:spPr>
          <a:xfrm>
            <a:off x="1085760" y="2974680"/>
            <a:ext cx="216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Short Pulse(&lt;50 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141440" y="3372120"/>
            <a:ext cx="1435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Long Pu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CustomShape 2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X-Ray diffraction from single molec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32360" y="1677960"/>
            <a:ext cx="3998160" cy="3998160"/>
          </a:xfrm>
          <a:prstGeom prst="rect">
            <a:avLst/>
          </a:prstGeom>
          <a:ln w="0">
            <a:noFill/>
          </a:ln>
        </p:spPr>
      </p:pic>
      <p:sp>
        <p:nvSpPr>
          <p:cNvPr id="173" name="CustomShape 1"/>
          <p:cNvSpPr/>
          <p:nvPr/>
        </p:nvSpPr>
        <p:spPr>
          <a:xfrm>
            <a:off x="486000" y="1515960"/>
            <a:ext cx="410256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No crystal, no Bragg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Continuous diffraction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The pattern changes as the sample ro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One pulse, one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sv-SE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Random hits in random ori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ustomShape 1"/>
          <p:cNvSpPr/>
          <p:nvPr/>
        </p:nvSpPr>
        <p:spPr>
          <a:xfrm>
            <a:off x="486000" y="1515960"/>
            <a:ext cx="37969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Electron energy up to 14.3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27 000 FEL pulse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 Math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 Math"/>
              </a:rPr>
              <a:t>Wavelength  ~ 6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Cambria Math"/>
              </a:rPr>
              <a:t>Pulse time ~ 10 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2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XFEL Coherent imag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679280" y="1800000"/>
            <a:ext cx="4634280" cy="345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ustomShape 1"/>
          <p:cNvSpPr/>
          <p:nvPr/>
        </p:nvSpPr>
        <p:spPr>
          <a:xfrm>
            <a:off x="486000" y="1515960"/>
            <a:ext cx="72835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IT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.3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billions of diffraction images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Big data needs management: storage, transfer, indexing, publi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New data – new analysis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images are not reprodu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particle orientation is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molecular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2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New experiment – new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ustomShape 1"/>
          <p:cNvSpPr/>
          <p:nvPr/>
        </p:nvSpPr>
        <p:spPr>
          <a:xfrm>
            <a:off x="486000" y="1515960"/>
            <a:ext cx="72835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DejaVu Sans"/>
              </a:rPr>
              <a:t>We present a new method for automated diffraction images 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DejaVu Sans"/>
              </a:rPr>
              <a:t>Can be us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DejaVu Sans"/>
              </a:rPr>
              <a:t>Uninformative images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DejaVu Sans"/>
              </a:rPr>
              <a:t>To get high quality images for structure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DejaVu Sans"/>
              </a:rPr>
              <a:t>To select diffraction images from a particular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DejaVu Sans"/>
              </a:rPr>
              <a:t>Images datasets indexing an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ustomShape 2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The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ustomShape 1"/>
          <p:cNvSpPr/>
          <p:nvPr/>
        </p:nvSpPr>
        <p:spPr>
          <a:xfrm>
            <a:off x="486000" y="1515960"/>
            <a:ext cx="874656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A new method for feature extraction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Visual descriptors from computer vision methods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  <a:ea typeface="DejaVu Sans"/>
              </a:rPr>
              <a:t>Connect spatial structure with diffraction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ustomShape 2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Images feature ex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CustomShape 1"/>
          <p:cNvSpPr/>
          <p:nvPr/>
        </p:nvSpPr>
        <p:spPr>
          <a:xfrm>
            <a:off x="486000" y="257760"/>
            <a:ext cx="87465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DejaVu Sans"/>
              </a:rPr>
              <a:t>Feature vector – CCF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2"/>
          <p:cNvSpPr/>
          <p:nvPr/>
        </p:nvSpPr>
        <p:spPr>
          <a:xfrm>
            <a:off x="0" y="1296000"/>
            <a:ext cx="9719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Cross correlat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ustomShape 3"/>
          <p:cNvSpPr/>
          <p:nvPr/>
        </p:nvSpPr>
        <p:spPr>
          <a:xfrm>
            <a:off x="4140000" y="4338000"/>
            <a:ext cx="1150920" cy="574920"/>
          </a:xfrm>
          <a:prstGeom prst="rightArrow">
            <a:avLst>
              <a:gd name="adj1" fmla="val 44709"/>
              <a:gd name="adj2" fmla="val 61905"/>
            </a:avLst>
          </a:prstGeom>
          <a:solidFill>
            <a:srgbClr val="00b050"/>
          </a:solidFill>
          <a:ln w="25560">
            <a:solidFill>
              <a:srgbClr val="4f62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ustomShape 4"/>
          <p:cNvSpPr/>
          <p:nvPr/>
        </p:nvSpPr>
        <p:spPr>
          <a:xfrm>
            <a:off x="486000" y="1802160"/>
            <a:ext cx="874656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Autocorrelation, 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mbria"/>
                <a:ea typeface="DejaVu Sans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  <a:ea typeface="DejaVu Sans"/>
              </a:rPr>
              <a:t>= 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mbria"/>
                <a:ea typeface="DejaVu San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833040" y="2801520"/>
            <a:ext cx="3665880" cy="3677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3872160" y="2679120"/>
            <a:ext cx="1686600" cy="1686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3"/>
          <a:stretch/>
        </p:blipFill>
        <p:spPr>
          <a:xfrm>
            <a:off x="833040" y="1802160"/>
            <a:ext cx="4889880" cy="32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4"/>
          <a:stretch/>
        </p:blipFill>
        <p:spPr>
          <a:xfrm>
            <a:off x="5755320" y="3501720"/>
            <a:ext cx="3041280" cy="22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  <Words>538</Words>
  <Paragraphs>1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ge</dc:creator>
  <dc:description/>
  <dc:language>en-US</dc:language>
  <cp:lastModifiedBy>Serge</cp:lastModifiedBy>
  <dcterms:modified xsi:type="dcterms:W3CDTF">2014-09-30T14:31:3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1</vt:r8>
  </property>
</Properties>
</file>