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DAD78-722F-4411-B93E-C073F6227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fhlsdhgf;sdjhfd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ufgsdhfgs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jfhsdjfgsdkjh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dfjsbdkfjsdjf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000709-0B78-4267-AE23-A5E0F5A0D12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B47-DE88-4602-99A6-0A5C5C75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F74-3A0E-417B-894C-A0E3F87F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9C8-43E0-437B-BD70-F78F63A5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00E-B077-4200-B5DF-CEFE8226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FA59-AEF0-457D-9A16-6817B892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8B6F-8FDD-479D-B8B6-03C1F960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6AEA-7910-4E51-8B40-8B199DF4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B7D5-F5AE-4918-88C1-16BF25BE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DCD9-4B8F-478F-860C-D14D0559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8681-1A02-4B7F-AD6F-EE203924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AB18-8FB6-47E9-BFB2-C9F6C43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44E-1359-4A84-AD88-3802E256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2EF2-E10E-496B-802B-0F51E288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B568-96F2-4784-AFE2-B494989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9289-15B1-4945-B490-C84EF8DF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0575-C3C9-4703-AB45-DF54EC16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DECB-4894-4A63-919B-51B7FCCC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249-BBAE-445F-9B44-B70DE6A1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B98-AD32-4355-8FEB-73CF315F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607-3855-4ED5-98DA-6EAF814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7D8-5A47-4AFA-9D13-F000AA57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3FA-F13E-43FA-A060-66C0F56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BBF-46B5-477F-B672-7F1FDC9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A17-A959-4B0D-81C6-661896A4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66C4CB-0E6D-4DA1-93A5-C4DCA913FB3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97F599-C7BD-43EE-98A1-39E1B021C2D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13672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спользование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T-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хнологий и инфраструктур для агрегации научной информации. Опыт Канады, Нидерландов, Германии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надская национальная инфраструктура данных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anadian National Collaborative Data Infrastructu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CNCDI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Борис\Documents\Презентация\CARL.jpg"/>
          <p:cNvPicPr/>
          <p:nvPr/>
        </p:nvPicPr>
        <p:blipFill>
          <a:blip r:embed="rId1"/>
          <a:stretch/>
        </p:blipFill>
        <p:spPr>
          <a:xfrm>
            <a:off x="2483640" y="332640"/>
            <a:ext cx="3679200" cy="223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Борис\Documents\Презентация\CFI.jpg"/>
          <p:cNvPicPr/>
          <p:nvPr/>
        </p:nvPicPr>
        <p:blipFill>
          <a:blip r:embed="rId2"/>
          <a:stretch/>
        </p:blipFill>
        <p:spPr>
          <a:xfrm>
            <a:off x="2483640" y="3069000"/>
            <a:ext cx="3712680" cy="174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ata Model Working Group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DMWG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NCDI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вень 1 – Резервированные хранилища данных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ndant storage repositorie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NCDI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вень 1 – Резервированные хранилища данных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ndant storage repositorie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вень 2 – Центры доступа к исследовательским инструментам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iplinary ingest centers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NCDI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вень 1 – Резервированные хранилища данных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ndant storage repositorie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вень 2 – Центры доступа к исследовательским инструментам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iplinary ingest centers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вень 3 – Местные центры обслуживания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service site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Борис\Documents\Презентация\DANS.jpg"/>
          <p:cNvPicPr/>
          <p:nvPr/>
        </p:nvPicPr>
        <p:blipFill>
          <a:blip r:embed="rId1"/>
          <a:stretch/>
        </p:blipFill>
        <p:spPr>
          <a:xfrm>
            <a:off x="2699640" y="2133000"/>
            <a:ext cx="3744000" cy="137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Борис\Documents\Презентация\KNAW.jpg"/>
          <p:cNvPicPr/>
          <p:nvPr/>
        </p:nvPicPr>
        <p:blipFill>
          <a:blip r:embed="rId2"/>
          <a:stretch/>
        </p:blipFill>
        <p:spPr>
          <a:xfrm>
            <a:off x="2703960" y="3683520"/>
            <a:ext cx="3757320" cy="1501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Борис\Documents\Презентация\NWO.png"/>
          <p:cNvPicPr/>
          <p:nvPr/>
        </p:nvPicPr>
        <p:blipFill>
          <a:blip r:embed="rId3"/>
          <a:srcRect l="10812" t="0" r="18424" b="0"/>
          <a:stretch/>
        </p:blipFill>
        <p:spPr>
          <a:xfrm>
            <a:off x="2703960" y="5339520"/>
            <a:ext cx="3768480" cy="1211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Dutch Approach to Research Data Infrastructur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Борис\Documents\Презентация\флаг_Германии.jpg"/>
          <p:cNvPicPr/>
          <p:nvPr/>
        </p:nvPicPr>
        <p:blipFill>
          <a:blip r:embed="rId1"/>
          <a:stretch/>
        </p:blipFill>
        <p:spPr>
          <a:xfrm>
            <a:off x="1547640" y="3717000"/>
            <a:ext cx="4248000" cy="2673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бор стр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Борис\Documents\Презентация\флаг_Канада.jpg"/>
          <p:cNvPicPr/>
          <p:nvPr/>
        </p:nvPicPr>
        <p:blipFill>
          <a:blip r:embed="rId2"/>
          <a:stretch/>
        </p:blipFill>
        <p:spPr>
          <a:xfrm>
            <a:off x="323640" y="1268640"/>
            <a:ext cx="3744000" cy="2611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Борис\Documents\Презентация\флаг_Нидерландов.jpg"/>
          <p:cNvPicPr/>
          <p:nvPr/>
        </p:nvPicPr>
        <p:blipFill>
          <a:blip r:embed="rId3"/>
          <a:stretch/>
        </p:blipFill>
        <p:spPr>
          <a:xfrm>
            <a:off x="4716000" y="1772640"/>
            <a:ext cx="4101120" cy="25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тие механизмов управления в сфере хранения, защиты и обеспечении доступа к информ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еспечение развития «облачных решений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тие кооперации с международными партнера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Борис\Documents\Презентация\SURF.jpg"/>
          <p:cNvPicPr/>
          <p:nvPr/>
        </p:nvPicPr>
        <p:blipFill>
          <a:blip r:embed="rId1"/>
          <a:stretch/>
        </p:blipFill>
        <p:spPr>
          <a:xfrm>
            <a:off x="467640" y="188640"/>
            <a:ext cx="24480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ведение исследований в сфере изучения жизненного цикла данны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витие систем и механизмов, объединяющих потребителей и источники данны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ширение инфраструктуры данных за пределы Нидерланд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Борис\Documents\Презентация\DANS.jpg"/>
          <p:cNvPicPr/>
          <p:nvPr/>
        </p:nvPicPr>
        <p:blipFill>
          <a:blip r:embed="rId1"/>
          <a:stretch/>
        </p:blipFill>
        <p:spPr>
          <a:xfrm>
            <a:off x="467640" y="188640"/>
            <a:ext cx="30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ентры хранения исследовательских данных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DC – Research Data Center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ентры обработки данных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SC – Data Service Centers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Users\Борис\Documents\Презентация\ratswd.png"/>
          <p:cNvPicPr/>
          <p:nvPr/>
        </p:nvPicPr>
        <p:blipFill>
          <a:blip r:embed="rId1"/>
          <a:stretch/>
        </p:blipFill>
        <p:spPr>
          <a:xfrm>
            <a:off x="467640" y="188640"/>
            <a:ext cx="2285640" cy="120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Борис\Documents\Презентация\рис_2.jpg"/>
          <p:cNvPicPr/>
          <p:nvPr/>
        </p:nvPicPr>
        <p:blipFill>
          <a:blip r:embed="rId1"/>
          <a:stretch/>
        </p:blipFill>
        <p:spPr>
          <a:xfrm>
            <a:off x="403200" y="1100160"/>
            <a:ext cx="833544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Борис\Documents\Презентация\рис_3.jpg"/>
          <p:cNvPicPr/>
          <p:nvPr/>
        </p:nvPicPr>
        <p:blipFill>
          <a:blip r:embed="rId1"/>
          <a:stretch/>
        </p:blipFill>
        <p:spPr>
          <a:xfrm>
            <a:off x="220680" y="692640"/>
            <a:ext cx="87433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7640" y="0"/>
            <a:ext cx="820872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вопроса о научных данных в рассматриваемых странах, наличие у них опыта построения инфраструктур для агрегации и обмена научной информацией, используемые подхо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ы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сновные элементы ИХОД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ифровые библиоте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ранилища данных (репозитори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рхивы данны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ентры обслуживания пользовате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есурсы обработки данны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фраструктура обмена между элементами ИХОД (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ID -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ет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 are drowning in data, but starving of information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ы захлебываемся данными, но испытываем жуткий голод в информации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Борис\Documents\Презентация\рис_1.jpg"/>
          <p:cNvPicPr/>
          <p:nvPr/>
        </p:nvPicPr>
        <p:blipFill>
          <a:blip r:embed="rId1"/>
          <a:stretch/>
        </p:blipFill>
        <p:spPr>
          <a:xfrm>
            <a:off x="2411640" y="260640"/>
            <a:ext cx="504036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  <Words>240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07:08:18Z</dcterms:created>
  <dc:creator>Борис</dc:creator>
  <dc:description/>
  <dc:language>en-US</dc:language>
  <cp:lastModifiedBy>Борис Долгов</cp:lastModifiedBy>
  <dcterms:modified xsi:type="dcterms:W3CDTF">2014-10-02T05:29:40Z</dcterms:modified>
  <cp:revision>97</cp:revision>
  <dc:subject/>
  <dc:title>Использование IT-технологий и инфраструктур для агрегации научной информации. Опыт Канады, Нидерландов, Герман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