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FC3-5F17-4B9F-A869-3506399B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4680"/>
            <a:ext cx="906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DE0-96B9-4871-88D8-AE98050C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05468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459-0A85-4247-9F2D-C64D689A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468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05468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054680"/>
            <a:ext cx="291816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C4A-FEFA-4883-97BF-E73983DE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BA1-7367-4494-A273-5DC81C3C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3AC-E536-4CE6-94FC-760020A6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E0A-2724-4F2B-8351-AD009C47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9A4-CA00-4E15-A28E-56E0C48E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DC08-6B3D-4AE3-8CB6-00273BE7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F93-C7AE-467A-B5C9-8765314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05468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353-2923-459E-8888-1D208916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4680"/>
            <a:ext cx="90630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350-BE40-4BE2-A4DE-9BD609C4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F52A5-E58F-4004-B227-89095FCEE4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igorkarbachinsky@mail.r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9920" y="18730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блемы построения систем защиты от спама в Интерн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79080" y="5308560"/>
            <a:ext cx="804708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бачинский И.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Как найти h(x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54120" y="1380960"/>
            <a:ext cx="7132680" cy="58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Построение классифик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1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аг 4: Выбираем алгоритм обучения и строим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2920" y="2225520"/>
            <a:ext cx="918828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йесовские 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ные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евья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Построение классифик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1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аг 4: Оценка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73880" y="2835360"/>
            <a:ext cx="375264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50760" y="2835360"/>
            <a:ext cx="2614680" cy="822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06560" y="4389480"/>
            <a:ext cx="2378160" cy="73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06560" y="5737320"/>
            <a:ext cx="2743200" cy="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Классификатор сп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560" y="1828440"/>
            <a:ext cx="918828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ое обучающее множество ( &gt; 200 000 страни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го обучается ( &gt; 10 часов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тни при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чить несколько моделей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 постоянно пополнять обучающее множество и заново обучать классифик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ость / Надежность / 24x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Плохое качество! Что 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135160"/>
            <a:ext cx="8869320" cy="2346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хое обучающее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хой алгоритм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хо подобраны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Feature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560" y="1828440"/>
            <a:ext cx="918828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 алгорит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нство неприменимы к большим объемам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алгоритмы содержат в себе отбор при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нство методов требует построения модели на каждой ит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, Filter, Embeded мет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315200" y="4608360"/>
            <a:ext cx="19242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465a4"/>
                </a:solidFill>
                <a:latin typeface="Arial"/>
              </a:rPr>
              <a:t>Minimum-redundancy-maximum-relevance (mRM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0040" y="1767960"/>
            <a:ext cx="918864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– множество признаков,  С –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– произвольное подмножество признаков из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ектор значений k-ого признака из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взаимная информация призна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быточность подмножества призна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евантность подмножества призна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итерий MRM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13560" y="3887640"/>
            <a:ext cx="3705120" cy="1000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76440" y="2651040"/>
            <a:ext cx="822240" cy="41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08520" y="5200560"/>
            <a:ext cx="349596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19200" y="3174840"/>
            <a:ext cx="1209600" cy="28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154320" y="6148440"/>
            <a:ext cx="37036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465a4"/>
                </a:solidFill>
                <a:latin typeface="Arial"/>
              </a:rPr>
              <a:t>Minimum-redundancy-maximum-relevance (mRM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720" y="1677600"/>
            <a:ext cx="918864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требует построения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ая скорость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рядоченный рейтинг при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ывает избыточные призн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рост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465a4"/>
                </a:solidFill>
                <a:latin typeface="Arial"/>
              </a:rPr>
              <a:t>Как еще уменьшить размерность простарнства призна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4720" y="1677960"/>
            <a:ext cx="918864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жать без потери информац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incipal compon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andom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1728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465a4"/>
                </a:solidFill>
                <a:latin typeface="Arial"/>
              </a:rPr>
              <a:t>Principal componen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0040" y="1145880"/>
            <a:ext cx="9188640" cy="7497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– множество призна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м X в виде произведения двух матриц T (         ) и P (         ), z &lt;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– матрица счетов, P – матрица нагру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После разложения матрицы в композицию матриц T, P и E, вводятся  новые, формальные переме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- линейная комбинация исходных переменных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 rot="60000">
                <a:off x="371160" y="2130120"/>
                <a:ext cx="4032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=T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+E=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+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6160" y="5705640"/>
                <a:ext cx="1774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82520" y="6308640"/>
                <a:ext cx="2925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21360" y="2286000"/>
            <a:ext cx="4572000" cy="2560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108240" y="1146240"/>
                <a:ext cx="639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896080" y="1609560"/>
            <a:ext cx="631800" cy="265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102440" y="1609560"/>
            <a:ext cx="577800" cy="2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Виды сп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очтовые рассы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MS с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пам в мессендж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Выдача поисков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465a4"/>
                </a:solidFill>
                <a:latin typeface="Arial"/>
              </a:rPr>
              <a:t>Проблема пере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4720" y="1677960"/>
            <a:ext cx="918864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4720" y="1677960"/>
            <a:ext cx="918864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вление, когда построенная модель хорошо объясняет примеры из обучающей выборки, но достаточно плохо работает на примерах, не участвовавших в обучении (на примерах из тестовой выбор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борь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oss-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Регуля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720" y="1677960"/>
            <a:ext cx="918864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51400" y="3108240"/>
            <a:ext cx="6049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49360" y="21938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3465a4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9360" y="321804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gorkarbachinsky@mail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41680" y="4479840"/>
            <a:ext cx="503856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3465a4"/>
                </a:solidFill>
                <a:latin typeface="Arial"/>
              </a:rPr>
              <a:t>Вопрос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434880"/>
            <a:ext cx="90694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Антиспам система  </a:t>
            </a:r>
            <a:r>
              <a:rPr b="0" lang="en-US" sz="2000" spc="-1" strike="noStrike">
                <a:solidFill>
                  <a:srgbClr val="3465a4"/>
                </a:solidFill>
                <a:latin typeface="Arial"/>
              </a:rPr>
              <a:t>—</a:t>
            </a: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 бинарный классифик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= { 0 – не спам, 1 – спам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Построение классифик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1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г 1: Составляем размеченную выбо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52360" y="2681280"/>
          <a:ext cx="7864560" cy="3536640"/>
        </p:xfrm>
        <a:graphic>
          <a:graphicData uri="http://schemas.openxmlformats.org/drawingml/2006/table">
            <a:tbl>
              <a:tblPr/>
              <a:tblGrid>
                <a:gridCol w="2740320"/>
                <a:gridCol w="5124240"/>
              </a:tblGrid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hocu.9f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5476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bancdyx.narod.ru/znakomstva-transseksulka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dating-01.narod.ru/znakomstva-moskva-siando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defushka-vapen.narod.ru/prostitutki-g-vologda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travelspo.ru/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ekimovsky.ru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Построение классифик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1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г 2: Обучающее и проверочное мно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52360" y="2681280"/>
          <a:ext cx="7864560" cy="3536640"/>
        </p:xfrm>
        <a:graphic>
          <a:graphicData uri="http://schemas.openxmlformats.org/drawingml/2006/table">
            <a:tbl>
              <a:tblPr/>
              <a:tblGrid>
                <a:gridCol w="2740320"/>
                <a:gridCol w="5124240"/>
              </a:tblGrid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hocu.9f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54828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bancdyx.narod.ru/znakomstva-transseksulka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dating-01.narod.ru/znakomstva-moskva-siando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defushka-vapen.narod.ru/prostitutki-g-vologda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travelspo.ru/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ekimovsky.ru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40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Построение классифик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1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г 3: Выделяем признаки. Норм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52360" y="2681280"/>
          <a:ext cx="8066160" cy="3079440"/>
        </p:xfrm>
        <a:graphic>
          <a:graphicData uri="http://schemas.openxmlformats.org/drawingml/2006/table">
            <a:tbl>
              <a:tblPr/>
              <a:tblGrid>
                <a:gridCol w="1859040"/>
                <a:gridCol w="1575000"/>
                <a:gridCol w="1800000"/>
                <a:gridCol w="1057320"/>
                <a:gridCol w="1774800"/>
              </a:tblGrid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49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0916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1189080" y="6404040"/>
            <a:ext cx="61866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: (f1, …, fn) → (0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Построение классифик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2109960"/>
            <a:ext cx="9067680" cy="438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сть X — множество объекто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— множество классов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* — обучающая выборка из 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же известно h*: X* →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            ,           найти h:  X →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33840" y="4923000"/>
            <a:ext cx="593640" cy="25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76240" y="4984920"/>
            <a:ext cx="676440" cy="20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Как найти h(x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6120" y="1522440"/>
            <a:ext cx="7058160" cy="48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465a4"/>
                </a:solidFill>
                <a:latin typeface="Arial"/>
              </a:rPr>
              <a:t>Как найти h(x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33360" y="1407960"/>
            <a:ext cx="745344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9:30:41Z</dcterms:created>
  <dc:creator>igor </dc:creator>
  <dc:description/>
  <dc:language>en-US</dc:language>
  <cp:lastModifiedBy/>
  <cp:lastPrinted>2014-10-01T16:49:35Z</cp:lastPrinted>
  <cp:revision>0</cp:revision>
  <dc:subject/>
  <dc:title/>
</cp:coreProperties>
</file>