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22.wmf" ContentType="image/x-wmf"/>
  <Override PartName="/ppt/media/image12.wmf" ContentType="image/x-wmf"/>
  <Override PartName="/ppt/media/image13.wmf" ContentType="image/x-wmf"/>
  <Override PartName="/ppt/media/image8.jpeg" ContentType="image/jpeg"/>
  <Override PartName="/ppt/media/image30.wmf" ContentType="image/x-wmf"/>
  <Override PartName="/ppt/media/image3.png" ContentType="image/png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9.wmf" ContentType="image/x-wmf"/>
  <Override PartName="/ppt/media/image35.png" ContentType="image/pn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9.wmf" ContentType="image/x-wmf"/>
  <Override PartName="/ppt/media/image21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4AE8A81-056B-40CE-8E58-3C5AEBB45266}" type="doc">
      <dgm:prSet loTypeId="urn:microsoft.com/office/officeart/2005/8/layout/vList2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ru-RU"/>
        </a:p>
      </dgm:t>
    </dgm:pt>
    <dgm:pt modelId="{DE7025FF-339C-4A95-9BB0-BF4216089976}">
      <dgm:prSet custT="1"/>
      <dgm:spPr/>
      <dgm:t>
        <a:bodyPr/>
        <a:lstStyle/>
        <a:p>
          <a:pPr rtl="0"/>
          <a:r>
            <a:rPr lang="ru-RU" sz="1600" dirty="0" smtClean="0">
              <a:latin typeface="Bookman Old Style" panose="02050604050505020204" pitchFamily="18" charset="0"/>
            </a:rPr>
            <a:t>Задача оптимизации перетоков в электросети сведена к задаче, решаемой симплекс-методом</a:t>
          </a:r>
          <a:endParaRPr lang="ru-RU" sz="1600" dirty="0">
            <a:latin typeface="Bookman Old Style" panose="02050604050505020204" pitchFamily="18" charset="0"/>
          </a:endParaRPr>
        </a:p>
      </dgm:t>
    </dgm:pt>
    <dgm:pt modelId="{B02C64E0-8A76-40C9-A9C7-0B0005056EF8}" type="parTrans" cxnId="{81CA7792-5196-4093-80D1-1B53DF100393}">
      <dgm:prSet/>
      <dgm:spPr/>
      <dgm:t>
        <a:bodyPr/>
        <a:lstStyle/>
        <a:p>
          <a:endParaRPr lang="ru-RU"/>
        </a:p>
      </dgm:t>
    </dgm:pt>
    <dgm:pt modelId="{DA8F3973-2DDD-4390-8946-02AE5DA2ACA8}" type="sibTrans" cxnId="{81CA7792-5196-4093-80D1-1B53DF100393}">
      <dgm:prSet/>
      <dgm:spPr/>
      <dgm:t>
        <a:bodyPr/>
        <a:lstStyle/>
        <a:p>
          <a:endParaRPr lang="ru-RU"/>
        </a:p>
      </dgm:t>
    </dgm:pt>
    <dgm:pt modelId="{47FB275F-A922-4109-81FF-3729EC3ECFC5}">
      <dgm:prSet custT="1"/>
      <dgm:spPr/>
      <dgm:t>
        <a:bodyPr/>
        <a:lstStyle/>
        <a:p>
          <a:pPr rtl="0"/>
          <a:r>
            <a:rPr lang="ru-RU" sz="1600" dirty="0" smtClean="0">
              <a:latin typeface="Bookman Old Style" panose="02050604050505020204" pitchFamily="18" charset="0"/>
            </a:rPr>
            <a:t>Хорошая применимость из-за характерных особенностей построения энергосетей</a:t>
          </a:r>
          <a:endParaRPr lang="ru-RU" sz="1600" dirty="0">
            <a:latin typeface="Bookman Old Style" panose="02050604050505020204" pitchFamily="18" charset="0"/>
          </a:endParaRPr>
        </a:p>
      </dgm:t>
    </dgm:pt>
    <dgm:pt modelId="{8CA9E312-1175-4538-A873-BC567B0BDB4A}" type="parTrans" cxnId="{3B9FE0DA-6082-489F-B2DE-2FF150258830}">
      <dgm:prSet/>
      <dgm:spPr/>
      <dgm:t>
        <a:bodyPr/>
        <a:lstStyle/>
        <a:p>
          <a:endParaRPr lang="ru-RU"/>
        </a:p>
      </dgm:t>
    </dgm:pt>
    <dgm:pt modelId="{19AD548F-806C-4EF5-A68F-709AECD7ABE7}" type="sibTrans" cxnId="{3B9FE0DA-6082-489F-B2DE-2FF150258830}">
      <dgm:prSet/>
      <dgm:spPr/>
      <dgm:t>
        <a:bodyPr/>
        <a:lstStyle/>
        <a:p>
          <a:endParaRPr lang="ru-RU"/>
        </a:p>
      </dgm:t>
    </dgm:pt>
    <dgm:pt modelId="{2792FE30-D28A-48D1-8670-84C766B2DC58}">
      <dgm:prSet custT="1"/>
      <dgm:spPr/>
      <dgm:t>
        <a:bodyPr/>
        <a:lstStyle/>
        <a:p>
          <a:pPr rtl="0"/>
          <a:r>
            <a:rPr lang="ru-RU" sz="1600" dirty="0" smtClean="0">
              <a:latin typeface="Bookman Old Style" panose="02050604050505020204" pitchFamily="18" charset="0"/>
            </a:rPr>
            <a:t>Метод </a:t>
          </a:r>
          <a:r>
            <a:rPr lang="ru-RU" sz="1600" dirty="0" smtClean="0">
              <a:latin typeface="Bookman Old Style" panose="02050604050505020204" pitchFamily="18" charset="0"/>
            </a:rPr>
            <a:t>позволяет при введении дополнительных признаков (технически </a:t>
          </a:r>
          <a:r>
            <a:rPr lang="ru-RU" sz="1600" dirty="0" smtClean="0">
              <a:latin typeface="Bookman Old Style" panose="02050604050505020204" pitchFamily="18" charset="0"/>
            </a:rPr>
            <a:t>возможная </a:t>
          </a:r>
          <a:r>
            <a:rPr lang="ru-RU" sz="1600" dirty="0" smtClean="0">
              <a:latin typeface="Bookman Old Style" panose="02050604050505020204" pitchFamily="18" charset="0"/>
            </a:rPr>
            <a:t>пропускная способность, </a:t>
          </a:r>
          <a:r>
            <a:rPr lang="ru-RU" sz="1600" smtClean="0">
              <a:latin typeface="Bookman Old Style" panose="02050604050505020204" pitchFamily="18" charset="0"/>
            </a:rPr>
            <a:t>реверсивные </a:t>
          </a:r>
          <a:r>
            <a:rPr lang="ru-RU" sz="1600" smtClean="0">
              <a:latin typeface="Bookman Old Style" panose="02050604050505020204" pitchFamily="18" charset="0"/>
            </a:rPr>
            <a:t>линии) </a:t>
          </a:r>
          <a:r>
            <a:rPr lang="ru-RU" sz="1600" dirty="0" smtClean="0">
              <a:latin typeface="Bookman Old Style" panose="02050604050505020204" pitchFamily="18" charset="0"/>
            </a:rPr>
            <a:t>автоматически переформулировать новую задачу для постановки в стандартном виде, например симплекс-методом, и находить решение спектра поставленных задач. </a:t>
          </a:r>
          <a:endParaRPr lang="ru-RU" sz="1600" dirty="0">
            <a:latin typeface="Bookman Old Style" panose="02050604050505020204" pitchFamily="18" charset="0"/>
          </a:endParaRPr>
        </a:p>
      </dgm:t>
    </dgm:pt>
    <dgm:pt modelId="{F6160DB3-CB6C-4DCC-A236-68B54466C8FC}" type="parTrans" cxnId="{D2F40ACE-9D29-4030-B832-7C9733E511C0}">
      <dgm:prSet/>
      <dgm:spPr/>
      <dgm:t>
        <a:bodyPr/>
        <a:lstStyle/>
        <a:p>
          <a:endParaRPr lang="ru-RU"/>
        </a:p>
      </dgm:t>
    </dgm:pt>
    <dgm:pt modelId="{F813CBF8-D383-4E99-8F8C-2F75252FD468}" type="sibTrans" cxnId="{D2F40ACE-9D29-4030-B832-7C9733E511C0}">
      <dgm:prSet/>
      <dgm:spPr/>
      <dgm:t>
        <a:bodyPr/>
        <a:lstStyle/>
        <a:p>
          <a:endParaRPr lang="ru-RU"/>
        </a:p>
      </dgm:t>
    </dgm:pt>
    <dgm:pt modelId="{DB109F04-AE3C-4F9B-9DF9-2F5EFD9831D4}">
      <dgm:prSet custT="1"/>
      <dgm:spPr/>
      <dgm:t>
        <a:bodyPr/>
        <a:lstStyle/>
        <a:p>
          <a:pPr rtl="0"/>
          <a:r>
            <a:rPr lang="ru-RU" sz="1600" dirty="0" smtClean="0">
              <a:latin typeface="Bookman Old Style" panose="02050604050505020204" pitchFamily="18" charset="0"/>
            </a:rPr>
            <a:t>Возможность учета потерь на линии, различных элементов сетей систем снабжения. Адаптируемость к различным видам энергетических сетей.</a:t>
          </a:r>
          <a:endParaRPr lang="ru-RU" sz="1600" dirty="0">
            <a:latin typeface="Bookman Old Style" panose="02050604050505020204" pitchFamily="18" charset="0"/>
          </a:endParaRPr>
        </a:p>
      </dgm:t>
    </dgm:pt>
    <dgm:pt modelId="{490BC966-E2A5-4FE0-86A8-EA4449B50512}" type="parTrans" cxnId="{967579CC-2AFF-417D-922B-67767562C326}">
      <dgm:prSet/>
      <dgm:spPr/>
      <dgm:t>
        <a:bodyPr/>
        <a:lstStyle/>
        <a:p>
          <a:endParaRPr lang="ru-RU"/>
        </a:p>
      </dgm:t>
    </dgm:pt>
    <dgm:pt modelId="{3B969153-3A91-4F21-AE8F-376D3C631F92}" type="sibTrans" cxnId="{967579CC-2AFF-417D-922B-67767562C326}">
      <dgm:prSet/>
      <dgm:spPr/>
      <dgm:t>
        <a:bodyPr/>
        <a:lstStyle/>
        <a:p>
          <a:endParaRPr lang="ru-RU"/>
        </a:p>
      </dgm:t>
    </dgm:pt>
    <dgm:pt modelId="{5C187105-B5F3-4337-9111-19FCF6531C47}" type="pres">
      <dgm:prSet presAssocID="{E4AE8A81-056B-40CE-8E58-3C5AEBB4526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1BA1827-9337-4E3A-BB89-59F75A955526}" type="pres">
      <dgm:prSet presAssocID="{DE7025FF-339C-4A95-9BB0-BF4216089976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59345A-EBD3-4D70-B4F5-1AD0A0956236}" type="pres">
      <dgm:prSet presAssocID="{DA8F3973-2DDD-4390-8946-02AE5DA2ACA8}" presName="spacer" presStyleCnt="0"/>
      <dgm:spPr/>
    </dgm:pt>
    <dgm:pt modelId="{A60CF0FE-F685-4050-BE22-B97EB1D6080F}" type="pres">
      <dgm:prSet presAssocID="{47FB275F-A922-4109-81FF-3729EC3ECFC5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D22164-63E5-4A38-BE28-DECEE5336823}" type="pres">
      <dgm:prSet presAssocID="{19AD548F-806C-4EF5-A68F-709AECD7ABE7}" presName="spacer" presStyleCnt="0"/>
      <dgm:spPr/>
    </dgm:pt>
    <dgm:pt modelId="{3D95027B-8BF8-4C1F-8893-0DE8BBB914FF}" type="pres">
      <dgm:prSet presAssocID="{2792FE30-D28A-48D1-8670-84C766B2DC58}" presName="parentText" presStyleLbl="node1" presStyleIdx="2" presStyleCnt="4" custScaleY="14887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45EBB54-E254-4FF8-BF99-C49FE689988D}" type="pres">
      <dgm:prSet presAssocID="{F813CBF8-D383-4E99-8F8C-2F75252FD468}" presName="spacer" presStyleCnt="0"/>
      <dgm:spPr/>
    </dgm:pt>
    <dgm:pt modelId="{00942217-B6CC-4BAC-B8CE-DF8B4EB2A310}" type="pres">
      <dgm:prSet presAssocID="{DB109F04-AE3C-4F9B-9DF9-2F5EFD9831D4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A069009-121E-4860-ADED-BEF49B4B388C}" type="presOf" srcId="{DB109F04-AE3C-4F9B-9DF9-2F5EFD9831D4}" destId="{00942217-B6CC-4BAC-B8CE-DF8B4EB2A310}" srcOrd="0" destOrd="0" presId="urn:microsoft.com/office/officeart/2005/8/layout/vList2"/>
    <dgm:cxn modelId="{045B1B67-DCC0-4DA8-B637-49A44707575B}" type="presOf" srcId="{DE7025FF-339C-4A95-9BB0-BF4216089976}" destId="{11BA1827-9337-4E3A-BB89-59F75A955526}" srcOrd="0" destOrd="0" presId="urn:microsoft.com/office/officeart/2005/8/layout/vList2"/>
    <dgm:cxn modelId="{D324FE63-10BD-4B1D-9731-2B8410B8F4B7}" type="presOf" srcId="{47FB275F-A922-4109-81FF-3729EC3ECFC5}" destId="{A60CF0FE-F685-4050-BE22-B97EB1D6080F}" srcOrd="0" destOrd="0" presId="urn:microsoft.com/office/officeart/2005/8/layout/vList2"/>
    <dgm:cxn modelId="{07C95A34-73E8-4CBA-8384-3B0F221B45D8}" type="presOf" srcId="{2792FE30-D28A-48D1-8670-84C766B2DC58}" destId="{3D95027B-8BF8-4C1F-8893-0DE8BBB914FF}" srcOrd="0" destOrd="0" presId="urn:microsoft.com/office/officeart/2005/8/layout/vList2"/>
    <dgm:cxn modelId="{967579CC-2AFF-417D-922B-67767562C326}" srcId="{E4AE8A81-056B-40CE-8E58-3C5AEBB45266}" destId="{DB109F04-AE3C-4F9B-9DF9-2F5EFD9831D4}" srcOrd="3" destOrd="0" parTransId="{490BC966-E2A5-4FE0-86A8-EA4449B50512}" sibTransId="{3B969153-3A91-4F21-AE8F-376D3C631F92}"/>
    <dgm:cxn modelId="{D2F40ACE-9D29-4030-B832-7C9733E511C0}" srcId="{E4AE8A81-056B-40CE-8E58-3C5AEBB45266}" destId="{2792FE30-D28A-48D1-8670-84C766B2DC58}" srcOrd="2" destOrd="0" parTransId="{F6160DB3-CB6C-4DCC-A236-68B54466C8FC}" sibTransId="{F813CBF8-D383-4E99-8F8C-2F75252FD468}"/>
    <dgm:cxn modelId="{81CA7792-5196-4093-80D1-1B53DF100393}" srcId="{E4AE8A81-056B-40CE-8E58-3C5AEBB45266}" destId="{DE7025FF-339C-4A95-9BB0-BF4216089976}" srcOrd="0" destOrd="0" parTransId="{B02C64E0-8A76-40C9-A9C7-0B0005056EF8}" sibTransId="{DA8F3973-2DDD-4390-8946-02AE5DA2ACA8}"/>
    <dgm:cxn modelId="{3B9FE0DA-6082-489F-B2DE-2FF150258830}" srcId="{E4AE8A81-056B-40CE-8E58-3C5AEBB45266}" destId="{47FB275F-A922-4109-81FF-3729EC3ECFC5}" srcOrd="1" destOrd="0" parTransId="{8CA9E312-1175-4538-A873-BC567B0BDB4A}" sibTransId="{19AD548F-806C-4EF5-A68F-709AECD7ABE7}"/>
    <dgm:cxn modelId="{A6982207-D650-4E87-9233-E755D15A4E4E}" type="presOf" srcId="{E4AE8A81-056B-40CE-8E58-3C5AEBB45266}" destId="{5C187105-B5F3-4337-9111-19FCF6531C47}" srcOrd="0" destOrd="0" presId="urn:microsoft.com/office/officeart/2005/8/layout/vList2"/>
    <dgm:cxn modelId="{90E107C9-B275-4DA7-9FC8-741A37FB0C43}" type="presParOf" srcId="{5C187105-B5F3-4337-9111-19FCF6531C47}" destId="{11BA1827-9337-4E3A-BB89-59F75A955526}" srcOrd="0" destOrd="0" presId="urn:microsoft.com/office/officeart/2005/8/layout/vList2"/>
    <dgm:cxn modelId="{7E894359-CC13-4C19-A682-342132CAA50D}" type="presParOf" srcId="{5C187105-B5F3-4337-9111-19FCF6531C47}" destId="{2E59345A-EBD3-4D70-B4F5-1AD0A0956236}" srcOrd="1" destOrd="0" presId="urn:microsoft.com/office/officeart/2005/8/layout/vList2"/>
    <dgm:cxn modelId="{AB055FD3-E34C-44B4-902E-84591E0CDAAC}" type="presParOf" srcId="{5C187105-B5F3-4337-9111-19FCF6531C47}" destId="{A60CF0FE-F685-4050-BE22-B97EB1D6080F}" srcOrd="2" destOrd="0" presId="urn:microsoft.com/office/officeart/2005/8/layout/vList2"/>
    <dgm:cxn modelId="{F4E8D200-D89E-4BE3-92E1-4FDC213D72D1}" type="presParOf" srcId="{5C187105-B5F3-4337-9111-19FCF6531C47}" destId="{FED22164-63E5-4A38-BE28-DECEE5336823}" srcOrd="3" destOrd="0" presId="urn:microsoft.com/office/officeart/2005/8/layout/vList2"/>
    <dgm:cxn modelId="{0E0AEA65-ECFD-4D23-A49A-3E4AF111F9A4}" type="presParOf" srcId="{5C187105-B5F3-4337-9111-19FCF6531C47}" destId="{3D95027B-8BF8-4C1F-8893-0DE8BBB914FF}" srcOrd="4" destOrd="0" presId="urn:microsoft.com/office/officeart/2005/8/layout/vList2"/>
    <dgm:cxn modelId="{091E6AC4-BBC8-46AD-9DFB-A189DF99790C}" type="presParOf" srcId="{5C187105-B5F3-4337-9111-19FCF6531C47}" destId="{F45EBB54-E254-4FF8-BF99-C49FE689988D}" srcOrd="5" destOrd="0" presId="urn:microsoft.com/office/officeart/2005/8/layout/vList2"/>
    <dgm:cxn modelId="{E3AD3406-F18B-4CCA-BB75-023EAFCEAFAA}" type="presParOf" srcId="{5C187105-B5F3-4337-9111-19FCF6531C47}" destId="{00942217-B6CC-4BAC-B8CE-DF8B4EB2A310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8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1BA1827-9337-4E3A-BB89-59F75A955526}">
      <dsp:nvSpPr>
        <dsp:cNvPr id="0" name=""/>
        <dsp:cNvSpPr/>
      </dsp:nvSpPr>
      <dsp:spPr>
        <a:xfrm>
          <a:off x="0" y="786076"/>
          <a:ext cx="8510872" cy="71483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l" defTabSz="711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latin typeface="Bookman Old Style" panose="02050604050505020204" pitchFamily="18" charset="0"/>
            </a:rPr>
            <a:t>Задача оптимизации перетоков в электросети сведена к задаче, решаемой симплекс-методом</a:t>
          </a:r>
          <a:endParaRPr lang="ru-RU" sz="1600" kern="1200" dirty="0">
            <a:latin typeface="Bookman Old Style" panose="02050604050505020204" pitchFamily="18" charset="0"/>
          </a:endParaRPr>
        </a:p>
      </dsp:txBody>
      <dsp:txXfrm>
        <a:off x="34895" y="820971"/>
        <a:ext cx="8441082" cy="645044"/>
      </dsp:txXfrm>
    </dsp:sp>
    <dsp:sp modelId="{A60CF0FE-F685-4050-BE22-B97EB1D6080F}">
      <dsp:nvSpPr>
        <dsp:cNvPr id="0" name=""/>
        <dsp:cNvSpPr/>
      </dsp:nvSpPr>
      <dsp:spPr>
        <a:xfrm>
          <a:off x="0" y="1512399"/>
          <a:ext cx="8510872" cy="71483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l" defTabSz="711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latin typeface="Bookman Old Style" panose="02050604050505020204" pitchFamily="18" charset="0"/>
            </a:rPr>
            <a:t>Хорошая применимость из-за характерных особенностей построения энергосетей</a:t>
          </a:r>
          <a:endParaRPr lang="ru-RU" sz="1600" kern="1200" dirty="0">
            <a:latin typeface="Bookman Old Style" panose="02050604050505020204" pitchFamily="18" charset="0"/>
          </a:endParaRPr>
        </a:p>
      </dsp:txBody>
      <dsp:txXfrm>
        <a:off x="34895" y="1547294"/>
        <a:ext cx="8441082" cy="645044"/>
      </dsp:txXfrm>
    </dsp:sp>
    <dsp:sp modelId="{3D95027B-8BF8-4C1F-8893-0DE8BBB914FF}">
      <dsp:nvSpPr>
        <dsp:cNvPr id="0" name=""/>
        <dsp:cNvSpPr/>
      </dsp:nvSpPr>
      <dsp:spPr>
        <a:xfrm>
          <a:off x="0" y="2238723"/>
          <a:ext cx="8510872" cy="10641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l" defTabSz="711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latin typeface="Bookman Old Style" panose="02050604050505020204" pitchFamily="18" charset="0"/>
            </a:rPr>
            <a:t>Метод </a:t>
          </a:r>
          <a:r>
            <a:rPr lang="ru-RU" sz="1600" kern="1200" dirty="0" smtClean="0">
              <a:latin typeface="Bookman Old Style" panose="02050604050505020204" pitchFamily="18" charset="0"/>
            </a:rPr>
            <a:t>позволяет при введении дополнительных признаков (технически </a:t>
          </a:r>
          <a:r>
            <a:rPr lang="ru-RU" sz="1600" kern="1200" dirty="0" smtClean="0">
              <a:latin typeface="Bookman Old Style" panose="02050604050505020204" pitchFamily="18" charset="0"/>
            </a:rPr>
            <a:t>возможная </a:t>
          </a:r>
          <a:r>
            <a:rPr lang="ru-RU" sz="1600" kern="1200" dirty="0" smtClean="0">
              <a:latin typeface="Bookman Old Style" panose="02050604050505020204" pitchFamily="18" charset="0"/>
            </a:rPr>
            <a:t>пропускная способность, </a:t>
          </a:r>
          <a:r>
            <a:rPr lang="ru-RU" sz="1600" kern="1200" smtClean="0">
              <a:latin typeface="Bookman Old Style" panose="02050604050505020204" pitchFamily="18" charset="0"/>
            </a:rPr>
            <a:t>реверсивные </a:t>
          </a:r>
          <a:r>
            <a:rPr lang="ru-RU" sz="1600" kern="1200" smtClean="0">
              <a:latin typeface="Bookman Old Style" panose="02050604050505020204" pitchFamily="18" charset="0"/>
            </a:rPr>
            <a:t>линии) </a:t>
          </a:r>
          <a:r>
            <a:rPr lang="ru-RU" sz="1600" kern="1200" dirty="0" smtClean="0">
              <a:latin typeface="Bookman Old Style" panose="02050604050505020204" pitchFamily="18" charset="0"/>
            </a:rPr>
            <a:t>автоматически переформулировать новую задачу для постановки в стандартном виде, например симплекс-методом, и находить решение спектра поставленных задач. </a:t>
          </a:r>
          <a:endParaRPr lang="ru-RU" sz="1600" kern="1200" dirty="0">
            <a:latin typeface="Bookman Old Style" panose="02050604050505020204" pitchFamily="18" charset="0"/>
          </a:endParaRPr>
        </a:p>
      </dsp:txBody>
      <dsp:txXfrm>
        <a:off x="51949" y="2290672"/>
        <a:ext cx="8406974" cy="960276"/>
      </dsp:txXfrm>
    </dsp:sp>
    <dsp:sp modelId="{00942217-B6CC-4BAC-B8CE-DF8B4EB2A310}">
      <dsp:nvSpPr>
        <dsp:cNvPr id="0" name=""/>
        <dsp:cNvSpPr/>
      </dsp:nvSpPr>
      <dsp:spPr>
        <a:xfrm>
          <a:off x="0" y="3314387"/>
          <a:ext cx="8510872" cy="71483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l" defTabSz="711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latin typeface="Bookman Old Style" panose="02050604050505020204" pitchFamily="18" charset="0"/>
            </a:rPr>
            <a:t>Возможность учета потерь на линии, различных элементов сетей систем снабжения. Адаптируемость к различным видам энергетических сетей.</a:t>
          </a:r>
          <a:endParaRPr lang="ru-RU" sz="1600" kern="1200" dirty="0">
            <a:latin typeface="Bookman Old Style" panose="02050604050505020204" pitchFamily="18" charset="0"/>
          </a:endParaRPr>
        </a:p>
      </dsp:txBody>
      <dsp:txXfrm>
        <a:off x="34895" y="3349282"/>
        <a:ext cx="8441082" cy="64504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C8D833-554A-4184-9329-00C70354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6FCA5-0A91-4081-8826-413EB5969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1B3C59-41EB-456D-BB08-5598345009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655796-DC26-4B9F-AFF3-9AB9ED8112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D426F7-FB89-4DB5-8580-7D3D03280C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7DCEC5-7EDA-4B18-915C-D0844026F0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E6B619-65A0-46D2-B156-5D0B6F414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EE3A7-44C7-4C2B-B682-E95BC1DAA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9BF65B-E9E1-4AC2-8633-A93BDFD12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3A45D6-3770-456E-AAD6-21AE089D79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EA59A-89D0-4D23-822D-9B62D1ABB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D5F0-B9C1-4C1A-B5DC-17AA360F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50748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001D-7463-4FEE-A81A-8C5C188C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7133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27BF-1848-4666-97DA-2AA7B347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89396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8300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89396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48300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2379-5205-4BDF-8518-0B0A28D0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E6287-F0BE-4F01-BD2F-0B56C489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46998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3914C-7CF0-42B5-8417-8B387BF0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998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5400D-F236-4EEE-A10D-0FA053C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C6EBF-A7F4-4672-AF46-F8C811E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548DC-8536-48AA-8654-D1E3EFE5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181480" y="1676520"/>
            <a:ext cx="2514240" cy="86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0BA34-0766-4EE7-9CBA-755F330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1895-6ACC-4641-A339-AC4D106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46998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1AB3-4DF4-4695-96BD-2658C597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33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5F334-ED08-41ED-9CA3-C71D39E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40ACD-CF35-4722-A2DC-5C37A46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50748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2E92D-15C8-4247-A57A-5A82FDA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7133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144D3-A8FD-42BD-BE48-1B0EEC5E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9396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483000" y="167652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189396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3483000" y="3507480"/>
            <a:ext cx="1513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A41C4-C7D3-4BAD-BE17-F7DF9622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6998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3E10-D2B1-46BF-8A4A-C6692B50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C9C7-EE68-484C-ACC9-2D1C7C5F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D829-0437-4B5A-9CDA-A28FEF26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81480" y="1676520"/>
            <a:ext cx="2514240" cy="86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B798-9156-4D2F-A15E-C4D60CE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DEE0-8349-4B3E-B5CF-5E0C57B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13320" y="350748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4517-26C9-4EBD-B853-499C275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13320" y="1676520"/>
            <a:ext cx="22932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507480"/>
            <a:ext cx="469980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1EA1F-21DD-4DBE-8213-5BC030C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40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56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8280" y="1447920"/>
            <a:ext cx="3962160" cy="2133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58308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415200" y="6400800"/>
            <a:ext cx="456840" cy="15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1F1BA6-FAF5-44D2-BCED-C5400DD362D4}" type="slidenum">
              <a:rPr b="0" lang="ru-RU" sz="10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3581280" y="6296040"/>
            <a:ext cx="2820600" cy="15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40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514240" cy="1874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4699800" cy="350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marL="228600" indent="-182880">
              <a:lnSpc>
                <a:spcPct val="100000"/>
              </a:lnSpc>
              <a:spcBef>
                <a:spcPts val="241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lnSpc>
                <a:spcPct val="100000"/>
              </a:lnSpc>
              <a:spcBef>
                <a:spcPts val="241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lnSpc>
                <a:spcPct val="100000"/>
              </a:lnSpc>
              <a:spcBef>
                <a:spcPts val="241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lnSpc>
                <a:spcPct val="100000"/>
              </a:lnSpc>
              <a:spcBef>
                <a:spcPts val="241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lnSpc>
                <a:spcPct val="100000"/>
              </a:lnSpc>
              <a:spcBef>
                <a:spcPts val="241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5486400" y="3552480"/>
            <a:ext cx="2209320" cy="162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5b6973"/>
                </a:solidFill>
                <a:latin typeface="Calibri"/>
              </a:rPr>
              <a:t>Образец текста</a:t>
            </a: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772400" y="6400800"/>
            <a:ext cx="533160" cy="15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47709E-67FB-4498-804D-A862CA7ECA28}" type="slidenum">
              <a:rPr b="0" lang="ru-RU" sz="10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5"/>
          </p:nvPr>
        </p:nvSpPr>
        <p:spPr>
          <a:xfrm>
            <a:off x="48769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ftr" idx="6"/>
          </p:nvPr>
        </p:nvSpPr>
        <p:spPr>
          <a:xfrm>
            <a:off x="4875120" y="6296040"/>
            <a:ext cx="2820600" cy="151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diagramData" Target="../diagrams/data1.xml"/><Relationship Id="rId5" Type="http://schemas.openxmlformats.org/officeDocument/2006/relationships/diagramLayout" Target="../diagrams/layout1.xml"/><Relationship Id="rId6" Type="http://schemas.openxmlformats.org/officeDocument/2006/relationships/diagramQuickStyle" Target="../diagrams/quickStyle1.xml"/><Relationship Id="rId7" Type="http://schemas.openxmlformats.org/officeDocument/2006/relationships/diagramColors" Target="../diagrams/colors1.xml"/><Relationship Id="rId8" Type="http://schemas.microsoft.com/office/2007/relationships/diagramDrawing" Target="../diagrams/drawing1.xm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.wmf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1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2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33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34.wmf"/><Relationship Id="rId28" Type="http://schemas.openxmlformats.org/officeDocument/2006/relationships/slideLayout" Target="../slideLayouts/slideLayout13.xml"/><Relationship Id="rId2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79640" y="2637000"/>
            <a:ext cx="6552360" cy="18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Bookman Old Style"/>
              </a:rPr>
              <a:t>С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Bookman Old Style"/>
              </a:rPr>
              <a:t>«Математическое моделирова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3640" y="188640"/>
            <a:ext cx="5976360" cy="1336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r>
              <a:rPr b="0" lang="ru-RU" sz="2400" spc="-1" strike="noStrike">
                <a:solidFill>
                  <a:srgbClr val="595959"/>
                </a:solidFill>
                <a:latin typeface="Bookman Old Style"/>
              </a:rPr>
              <a:t>Семинар ИКИ РАН</a:t>
            </a:r>
            <a:br>
              <a:rPr sz="2400"/>
            </a:br>
            <a:r>
              <a:rPr b="0" lang="ru-RU" sz="2000" spc="-1" strike="noStrike">
                <a:solidFill>
                  <a:srgbClr val="595959"/>
                </a:solidFill>
                <a:latin typeface="Bookman Old Style"/>
              </a:rPr>
              <a:t>Механика, Управление и Информати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Users\Cerdito\Desktop\Фоны\Logo_MIEM.png"/>
          <p:cNvPicPr/>
          <p:nvPr/>
        </p:nvPicPr>
        <p:blipFill>
          <a:blip r:embed="rId1"/>
          <a:stretch/>
        </p:blipFill>
        <p:spPr>
          <a:xfrm>
            <a:off x="7558920" y="6229800"/>
            <a:ext cx="1496880" cy="414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95" name="Прямоугольник 5"/>
          <p:cNvSpPr/>
          <p:nvPr/>
        </p:nvSpPr>
        <p:spPr>
          <a:xfrm>
            <a:off x="971640" y="6138720"/>
            <a:ext cx="5847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241"/>
              </a:spcBef>
            </a:pPr>
            <a:r>
              <a:rPr b="0" i="1" lang="ru-RU" sz="1800" spc="-1" strike="noStrike">
                <a:solidFill>
                  <a:srgbClr val="595959"/>
                </a:solidFill>
                <a:latin typeface="Bookman Old Style"/>
              </a:rPr>
              <a:t>Ноздрин Дмитрий, аспирант </a:t>
            </a:r>
            <a:r>
              <a:rPr b="0" i="1" lang="en-US" sz="1800" spc="-1" strike="noStrike">
                <a:solidFill>
                  <a:srgbClr val="595959"/>
                </a:solidFill>
                <a:latin typeface="Bookman Old Style"/>
              </a:rPr>
              <a:t>2</a:t>
            </a:r>
            <a:r>
              <a:rPr b="0" i="1" lang="ru-RU" sz="1800" spc="-1" strike="noStrike">
                <a:solidFill>
                  <a:srgbClr val="595959"/>
                </a:solidFill>
                <a:latin typeface="Bookman Old Style"/>
              </a:rPr>
              <a:t> г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41"/>
              </a:spcBef>
            </a:pPr>
            <a:r>
              <a:rPr b="0" i="1" lang="ru-RU" sz="1800" spc="-1" strike="noStrike">
                <a:solidFill>
                  <a:srgbClr val="595959"/>
                </a:solidFill>
                <a:latin typeface="Bookman Old Style"/>
              </a:rPr>
              <a:t>МИЭМ НИУ ВШ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6948360" y="333360"/>
            <a:ext cx="2195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  <a:ea typeface="Adobe Heiti Std R"/>
              </a:rPr>
              <a:t>01.10.201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  <a:ea typeface="Adobe Heiti Std R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D:\ЛыSS\Аспирантура\1 год\Конференции\МИЭМ\Презентация\HSEd.jpeg"/>
          <p:cNvPicPr/>
          <p:nvPr/>
        </p:nvPicPr>
        <p:blipFill>
          <a:blip r:embed="rId2"/>
          <a:stretch/>
        </p:blipFill>
        <p:spPr>
          <a:xfrm>
            <a:off x="7038000" y="6229800"/>
            <a:ext cx="421920" cy="426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7038000" y="5208120"/>
            <a:ext cx="2018160" cy="9244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>
            <a:bevelT w="0" h="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0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640" y="359640"/>
            <a:ext cx="7992360" cy="57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лючени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710731585"/>
              </p:ext>
            </p:extLst>
          </p:nvPr>
        </p:nvGraphicFramePr>
        <p:xfrm>
          <a:off x="251640" y="1340640"/>
          <a:ext cx="8510400" cy="4815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" r:lo="rId5" r:qs="rId6" r:cs="rId7"/>
          </a:graphicData>
        </a:graphic>
      </p:graphicFrame>
      <p:sp>
        <p:nvSpPr>
          <p:cNvPr id="268" name="PlaceHolder 2"/>
          <p:cNvSpPr>
            <a:spLocks noGrp="1"/>
          </p:cNvSpPr>
          <p:nvPr>
            <p:ph type="sldNum" idx="17"/>
          </p:nvPr>
        </p:nvSpPr>
        <p:spPr>
          <a:xfrm>
            <a:off x="8559360" y="0"/>
            <a:ext cx="6822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080" y="1484280"/>
            <a:ext cx="8667360" cy="302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800" spc="-1" strike="noStrike">
                <a:solidFill>
                  <a:srgbClr val="404040"/>
                </a:solidFill>
                <a:latin typeface="Bookman Old Style"/>
              </a:rPr>
              <a:t>Спасибо</a:t>
            </a:r>
            <a:br>
              <a:rPr sz="8800"/>
            </a:br>
            <a:r>
              <a:rPr b="1" lang="ru-RU" sz="8800" spc="-1" strike="noStrike">
                <a:solidFill>
                  <a:srgbClr val="404040"/>
                </a:solidFill>
                <a:latin typeface="Bookman Old Style"/>
              </a:rPr>
              <a:t>за внимание!</a:t>
            </a:r>
            <a:endParaRPr b="0" lang="ru-RU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2" descr="D:\ДИПЛОМ\!основная папка\img_present\1.png"/>
          <p:cNvPicPr/>
          <p:nvPr/>
        </p:nvPicPr>
        <p:blipFill>
          <a:blip r:embed="rId1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D:\ЛыSS\Аспирантура\1 год\Конференции\МИЭМ\Презентация\HSEd.jpeg"/>
          <p:cNvPicPr/>
          <p:nvPr/>
        </p:nvPicPr>
        <p:blipFill>
          <a:blip r:embed="rId2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72" name="PlaceHolder 2"/>
          <p:cNvSpPr>
            <a:spLocks noGrp="1"/>
          </p:cNvSpPr>
          <p:nvPr>
            <p:ph type="sldNum" idx="18"/>
          </p:nvPr>
        </p:nvSpPr>
        <p:spPr>
          <a:xfrm>
            <a:off x="8559360" y="0"/>
            <a:ext cx="6822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0" y="2277000"/>
            <a:ext cx="6984720" cy="201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5b6973"/>
                </a:solidFill>
                <a:latin typeface="Bookman Old Style"/>
              </a:rPr>
              <a:t>«</a:t>
            </a:r>
            <a:r>
              <a:rPr b="0" lang="ru-RU" sz="3200" spc="-1" strike="noStrike">
                <a:solidFill>
                  <a:srgbClr val="5b6973"/>
                </a:solidFill>
                <a:latin typeface="Bookman Old Style"/>
              </a:rPr>
              <a:t>Алгоритм управления распределением потоков мощностей в</a:t>
            </a:r>
            <a:r>
              <a:rPr b="0" lang="en-US" sz="3200" spc="-1" strike="noStrike">
                <a:solidFill>
                  <a:srgbClr val="5b6973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5b6973"/>
                </a:solidFill>
                <a:latin typeface="Bookman Old Style"/>
              </a:rPr>
              <a:t>замкнутой энергосистеме электросети</a:t>
            </a:r>
            <a:r>
              <a:rPr b="1" lang="ru-RU" sz="3200" spc="-1" strike="noStrike">
                <a:solidFill>
                  <a:srgbClr val="5b6973"/>
                </a:solidFill>
                <a:latin typeface="Bookman Old Style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03400" y="1645920"/>
            <a:ext cx="2736000" cy="578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</a:pPr>
            <a:r>
              <a:rPr b="0" lang="ru-RU" sz="2800" spc="-1" strike="noStrike">
                <a:solidFill>
                  <a:srgbClr val="595959"/>
                </a:solidFill>
                <a:latin typeface="Bookman Old Style"/>
              </a:rPr>
              <a:t>Тема доклад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C:\Users\Cerdito\Desktop\Фоны\Logo_MIEM.png"/>
          <p:cNvPicPr/>
          <p:nvPr/>
        </p:nvPicPr>
        <p:blipFill>
          <a:blip r:embed="rId1"/>
          <a:stretch/>
        </p:blipFill>
        <p:spPr>
          <a:xfrm>
            <a:off x="7558920" y="6229800"/>
            <a:ext cx="1496880" cy="414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02" name="Picture 7" descr="D:\ЛыSS\Аспирантура\1 год\Конференции\МИЭМ\Презентация\HSEd.jpeg"/>
          <p:cNvPicPr/>
          <p:nvPr/>
        </p:nvPicPr>
        <p:blipFill>
          <a:blip r:embed="rId2"/>
          <a:stretch/>
        </p:blipFill>
        <p:spPr>
          <a:xfrm>
            <a:off x="7038000" y="6229800"/>
            <a:ext cx="421920" cy="426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03" name="Рисунок 9" descr=""/>
          <p:cNvPicPr/>
          <p:nvPr/>
        </p:nvPicPr>
        <p:blipFill>
          <a:blip r:embed="rId3"/>
          <a:stretch/>
        </p:blipFill>
        <p:spPr>
          <a:xfrm>
            <a:off x="7038000" y="5208120"/>
            <a:ext cx="2018160" cy="9244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>
            <a:bevelT w="0" h="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4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5440" y="260640"/>
            <a:ext cx="7992360" cy="64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словия задачи оптимизации в электросетях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sldNum" idx="10"/>
          </p:nvPr>
        </p:nvSpPr>
        <p:spPr>
          <a:xfrm>
            <a:off x="8820000" y="0"/>
            <a:ext cx="4014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3A826E1-29F9-477D-B3A9-2A77EB3354D1}" type="slidenum">
              <a:rPr b="1" lang="ru-RU" sz="3600" spc="-1" strike="noStrike">
                <a:solidFill>
                  <a:srgbClr val="ffffff"/>
                </a:solidFill>
                <a:latin typeface="Calibri"/>
              </a:rPr>
              <a:t>2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1640" y="1268640"/>
            <a:ext cx="8352720" cy="5040360"/>
          </a:xfrm>
          <a:prstGeom prst="rect">
            <a:avLst/>
          </a:prstGeom>
          <a:solidFill>
            <a:schemeClr val="lt1"/>
          </a:solidFill>
          <a:ln w="15840">
            <a:solidFill>
              <a:srgbClr val="59b0b9"/>
            </a:solidFill>
            <a:round/>
          </a:ln>
        </p:spPr>
        <p:txBody>
          <a:bodyPr numCol="1" spcCol="0" anchor="ctr">
            <a:normAutofit fontScale="73000"/>
          </a:bodyPr>
          <a:p>
            <a:pPr marL="214920" indent="-172080" algn="just">
              <a:lnSpc>
                <a:spcPct val="110000"/>
              </a:lnSpc>
              <a:buClr>
                <a:srgbClr val="7f7f7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chemeClr val="dk1"/>
                </a:solidFill>
                <a:latin typeface="Bookman Old Style"/>
              </a:rPr>
              <a:t>Система отвечает уравнениям баланса (входящий в узел поток равен исходящему потоку). В случае рассмотрения не узлов, а целиком электросетей, мощность потребления не превышает мощность генераторов (без учета динамических толчков системы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14920" indent="-172080" algn="just">
              <a:lnSpc>
                <a:spcPct val="110000"/>
              </a:lnSpc>
              <a:buClr>
                <a:srgbClr val="7f7f7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chemeClr val="dk1"/>
                </a:solidFill>
                <a:latin typeface="Bookman Old Style"/>
              </a:rPr>
              <a:t>Каждая линия электропередачи может быть, как однонаправленной (ток течет от установленного начала линии к концу), так и реверсивной (ток может протекать в любом направлении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14920" indent="-172080" algn="just">
              <a:lnSpc>
                <a:spcPct val="110000"/>
              </a:lnSpc>
              <a:buClr>
                <a:srgbClr val="7f7f7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chemeClr val="dk1"/>
                </a:solidFill>
                <a:latin typeface="Bookman Old Style"/>
              </a:rPr>
              <a:t>В общем случае, в узлах системы может происходить поступление электрического тока в систему, даже если это не тупиковая ветвь (например, установлены аккумуляторные батареи или промежуточная котельная). Для простоты рассмотрения данные источники рассматриваются как установленные на ребре с «нулевой» ценой передачи электроэнерги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14920" indent="-172080" algn="just">
              <a:lnSpc>
                <a:spcPct val="110000"/>
              </a:lnSpc>
              <a:buClr>
                <a:srgbClr val="7f7f7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chemeClr val="dk1"/>
                </a:solidFill>
                <a:latin typeface="Bookman Old Style"/>
              </a:rPr>
              <a:t>Линии электропередач обладают определенной пропускной способностью (допустимой нагрузкой, максимальным значением силы тока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214920" indent="-172080">
              <a:lnSpc>
                <a:spcPct val="100000"/>
              </a:lnSpc>
              <a:spcBef>
                <a:spcPts val="420"/>
              </a:spcBef>
              <a:buClr>
                <a:srgbClr val="7f7f7f"/>
              </a:buClr>
              <a:buFont typeface="Wingdings" charset="2"/>
              <a:buChar char=""/>
            </a:pPr>
            <a:r>
              <a:rPr b="0" lang="ru-RU" sz="2100" spc="-1" strike="noStrike">
                <a:solidFill>
                  <a:schemeClr val="dk1"/>
                </a:solidFill>
                <a:latin typeface="Bookman Old Style"/>
              </a:rPr>
              <a:t>Возможно задание точек с фиксированными значениями потока (границы автономных сетей).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11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640" y="359640"/>
            <a:ext cx="7992360" cy="57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становка задач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Num" idx="11"/>
          </p:nvPr>
        </p:nvSpPr>
        <p:spPr>
          <a:xfrm>
            <a:off x="8820000" y="0"/>
            <a:ext cx="4014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C8CC7E-CD78-475C-AC3D-4366E7FF275F}" type="slidenum">
              <a:rPr b="1" lang="ru-RU" sz="3600" spc="-1" strike="noStrike">
                <a:solidFill>
                  <a:srgbClr val="ffffff"/>
                </a:solidFill>
                <a:latin typeface="Calibri"/>
              </a:rPr>
              <a:t>3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4920" y="1340640"/>
            <a:ext cx="8299440" cy="4931640"/>
          </a:xfrm>
          <a:prstGeom prst="rect">
            <a:avLst/>
          </a:prstGeom>
          <a:solidFill>
            <a:schemeClr val="lt1"/>
          </a:solidFill>
          <a:ln w="15840">
            <a:solidFill>
              <a:srgbClr val="59b0b9"/>
            </a:solidFill>
            <a:round/>
          </a:ln>
        </p:spPr>
        <p:txBody>
          <a:bodyPr numCol="1" spcCol="0" anchor="t">
            <a:norm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Уравнение баланса системы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Целевая функция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 и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j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- вершины входящих в расчетный узел ребер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j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 и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k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- вершины ребер, выходящих из расчетного узла;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p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- величина потока (мощности) на входах входящих в рассчитываемый узел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линий (в левой части формулы) и выходящих из рассчитываемого узла линий(в правой части формулы);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g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- потребление или распределение на входящих линиях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f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– известный приток или распределение на самом узле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c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–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стоимость передачи единицы мощности по участку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i-j;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Стандартный вид задачи линейного программирования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      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целевая функция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: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46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 матричном виде: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  ,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Объект 5"/>
          <p:cNvGraphicFramePr/>
          <p:nvPr/>
        </p:nvGraphicFramePr>
        <p:xfrm>
          <a:off x="3436200" y="1575360"/>
          <a:ext cx="2293560" cy="48240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20" name="Объект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36200" y="1575360"/>
                    <a:ext cx="229356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Объект 12"/>
          <p:cNvGraphicFramePr/>
          <p:nvPr/>
        </p:nvGraphicFramePr>
        <p:xfrm>
          <a:off x="2477160" y="2032200"/>
          <a:ext cx="898200" cy="61308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22" name="Объект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7160" y="2032200"/>
                    <a:ext cx="89820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3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Группа 7167"/>
          <p:cNvGrpSpPr/>
          <p:nvPr/>
        </p:nvGrpSpPr>
        <p:grpSpPr>
          <a:xfrm>
            <a:off x="5943600" y="1628640"/>
            <a:ext cx="2575800" cy="891360"/>
            <a:chOff x="5943600" y="1628640"/>
            <a:chExt cx="2575800" cy="891360"/>
          </a:xfrm>
        </p:grpSpPr>
        <p:sp>
          <p:nvSpPr>
            <p:cNvPr id="125" name="Овал 7"/>
            <p:cNvSpPr/>
            <p:nvPr/>
          </p:nvSpPr>
          <p:spPr>
            <a:xfrm>
              <a:off x="7128720" y="1848960"/>
              <a:ext cx="215640" cy="215640"/>
            </a:xfrm>
            <a:prstGeom prst="ellipse">
              <a:avLst/>
            </a:prstGeom>
            <a:solidFill>
              <a:srgbClr val="98c723"/>
            </a:solidFill>
            <a:ln>
              <a:solidFill>
                <a:srgbClr val="70931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26" name="Прямая со стрелкой 10"/>
            <p:cNvCxnSpPr>
              <a:endCxn id="125" idx="2"/>
            </p:cNvCxnSpPr>
            <p:nvPr/>
          </p:nvCxnSpPr>
          <p:spPr>
            <a:xfrm>
              <a:off x="6095880" y="1676880"/>
              <a:ext cx="1032840" cy="280080"/>
            </a:xfrm>
            <a:prstGeom prst="straightConnector1">
              <a:avLst/>
            </a:prstGeom>
            <a:ln>
              <a:solidFill>
                <a:srgbClr val="ff0000"/>
              </a:solidFill>
              <a:round/>
              <a:tailEnd len="med" type="triangle" w="med"/>
            </a:ln>
          </p:spPr>
        </p:cxnSp>
        <p:cxnSp>
          <p:nvCxnSpPr>
            <p:cNvPr id="127" name="Прямая со стрелкой 14"/>
            <p:cNvCxnSpPr>
              <a:endCxn id="125" idx="2"/>
            </p:cNvCxnSpPr>
            <p:nvPr/>
          </p:nvCxnSpPr>
          <p:spPr>
            <a:xfrm flipV="1">
              <a:off x="6095880" y="1956600"/>
              <a:ext cx="1032840" cy="297720"/>
            </a:xfrm>
            <a:prstGeom prst="straightConnector1">
              <a:avLst/>
            </a:prstGeom>
            <a:ln>
              <a:solidFill>
                <a:srgbClr val="ff0000"/>
              </a:solidFill>
              <a:round/>
              <a:tailEnd len="med" type="triangle" w="med"/>
            </a:ln>
          </p:spPr>
        </p:cxnSp>
        <p:cxnSp>
          <p:nvCxnSpPr>
            <p:cNvPr id="128" name="Прямая со стрелкой 18"/>
            <p:cNvCxnSpPr>
              <a:stCxn id="125" idx="6"/>
            </p:cNvCxnSpPr>
            <p:nvPr/>
          </p:nvCxnSpPr>
          <p:spPr>
            <a:xfrm flipV="1">
              <a:off x="7344360" y="1676880"/>
              <a:ext cx="948240" cy="280080"/>
            </a:xfrm>
            <a:prstGeom prst="straightConnector1">
              <a:avLst/>
            </a:prstGeom>
            <a:ln>
              <a:solidFill>
                <a:srgbClr val="96c61e"/>
              </a:solidFill>
              <a:round/>
              <a:tailEnd len="med" type="triangle" w="med"/>
            </a:ln>
          </p:spPr>
        </p:cxnSp>
        <p:cxnSp>
          <p:nvCxnSpPr>
            <p:cNvPr id="129" name="Прямая со стрелкой 21"/>
            <p:cNvCxnSpPr>
              <a:stCxn id="125" idx="6"/>
            </p:cNvCxnSpPr>
            <p:nvPr/>
          </p:nvCxnSpPr>
          <p:spPr>
            <a:xfrm>
              <a:off x="7344360" y="1956600"/>
              <a:ext cx="960840" cy="297720"/>
            </a:xfrm>
            <a:prstGeom prst="straightConnector1">
              <a:avLst/>
            </a:prstGeom>
            <a:ln>
              <a:solidFill>
                <a:srgbClr val="96c61e"/>
              </a:solidFill>
              <a:round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30" name="TextBox 22"/>
                <p:cNvSpPr txBox="1"/>
                <p:nvPr/>
              </p:nvSpPr>
              <p:spPr>
                <a:xfrm>
                  <a:off x="5943600" y="1628640"/>
                  <a:ext cx="3916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𝑖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TextBox 24"/>
                <p:cNvSpPr txBox="1"/>
                <p:nvPr/>
              </p:nvSpPr>
              <p:spPr>
                <a:xfrm>
                  <a:off x="6028920" y="2169720"/>
                  <a:ext cx="3870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𝑖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TextBox 25"/>
                <p:cNvSpPr txBox="1"/>
                <p:nvPr/>
              </p:nvSpPr>
              <p:spPr>
                <a:xfrm>
                  <a:off x="7096680" y="200052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TextBox 26"/>
                <p:cNvSpPr txBox="1"/>
                <p:nvPr/>
              </p:nvSpPr>
              <p:spPr>
                <a:xfrm>
                  <a:off x="8084520" y="1647720"/>
                  <a:ext cx="4348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𝑘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TextBox 27"/>
                <p:cNvSpPr txBox="1"/>
                <p:nvPr/>
              </p:nvSpPr>
              <p:spPr>
                <a:xfrm>
                  <a:off x="8044920" y="2181960"/>
                  <a:ext cx="4395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𝑘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Rectangle 4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Объект 7171"/>
          <p:cNvGraphicFramePr/>
          <p:nvPr/>
        </p:nvGraphicFramePr>
        <p:xfrm>
          <a:off x="467640" y="5157360"/>
          <a:ext cx="1574640" cy="50364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37" name="Объект 71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7640" y="5157360"/>
                    <a:ext cx="157464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5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Объект 7173"/>
          <p:cNvGraphicFramePr/>
          <p:nvPr/>
        </p:nvGraphicFramePr>
        <p:xfrm>
          <a:off x="4036320" y="5157360"/>
          <a:ext cx="1070640" cy="50364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140" name="Объект 717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036320" y="5157360"/>
                    <a:ext cx="1070640" cy="5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5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Объект 7175"/>
          <p:cNvGraphicFramePr/>
          <p:nvPr/>
        </p:nvGraphicFramePr>
        <p:xfrm>
          <a:off x="5208480" y="5229360"/>
          <a:ext cx="734760" cy="390600"/>
        </p:xfrm>
        <a:graphic>
          <a:graphicData uri="http://schemas.openxmlformats.org/presentationml/2006/ole">
            <p:oleObj progId="Equation.3" r:id="rId12" spid="">
              <p:embed/>
              <p:pic>
                <p:nvPicPr>
                  <p:cNvPr id="143" name="Объект 717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08480" y="5229360"/>
                    <a:ext cx="734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19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Объект 16"/>
          <p:cNvGraphicFramePr/>
          <p:nvPr/>
        </p:nvGraphicFramePr>
        <p:xfrm>
          <a:off x="2483640" y="5733360"/>
          <a:ext cx="1789560" cy="431640"/>
        </p:xfrm>
        <a:graphic>
          <a:graphicData uri="http://schemas.openxmlformats.org/presentationml/2006/ole">
            <p:oleObj progId="Equation.3" r:id="rId14" spid="">
              <p:embed/>
              <p:pic>
                <p:nvPicPr>
                  <p:cNvPr id="146" name="Объект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83640" y="5733360"/>
                    <a:ext cx="17895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9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Объект 20"/>
          <p:cNvGraphicFramePr/>
          <p:nvPr/>
        </p:nvGraphicFramePr>
        <p:xfrm>
          <a:off x="4716000" y="5733360"/>
          <a:ext cx="977040" cy="405720"/>
        </p:xfrm>
        <a:graphic>
          <a:graphicData uri="http://schemas.openxmlformats.org/presentationml/2006/ole">
            <p:oleObj progId="Equation.3" r:id="rId16" spid="">
              <p:embed/>
              <p:pic>
                <p:nvPicPr>
                  <p:cNvPr id="149" name="Объект 2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16000" y="5733360"/>
                    <a:ext cx="977040" cy="4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0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640" y="359640"/>
            <a:ext cx="7992360" cy="57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реход к системе индексов из одного зна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2"/>
          </p:nvPr>
        </p:nvSpPr>
        <p:spPr>
          <a:xfrm>
            <a:off x="8820000" y="0"/>
            <a:ext cx="4014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6E6FAA-F520-4913-BE40-6CE270FB543D}" type="slidenum">
              <a:rPr b="1" lang="ru-RU" sz="36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56" name="Объект 2"/>
          <p:cNvSpPr/>
          <p:nvPr/>
        </p:nvSpPr>
        <p:spPr>
          <a:xfrm>
            <a:off x="304920" y="1340640"/>
            <a:ext cx="8299440" cy="4931640"/>
          </a:xfrm>
          <a:prstGeom prst="rect">
            <a:avLst/>
          </a:prstGeom>
          <a:solidFill>
            <a:srgbClr val="ffffff"/>
          </a:solidFill>
          <a:ln>
            <a:solidFill>
              <a:srgbClr val="59b0b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normAutofit/>
          </a:bodyPr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Переход к системе нумерации с одним индексом посредством отображения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T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Модифицированная матрица смежности 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г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 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где i,j = 1,2,…,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m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;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l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= 1,2,…,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n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С учетом перенумерации задача может быть записана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Учитывая, что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T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- биекция, условие можно записать та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Объект 39"/>
          <p:cNvGraphicFramePr/>
          <p:nvPr/>
        </p:nvGraphicFramePr>
        <p:xfrm>
          <a:off x="683640" y="2458440"/>
          <a:ext cx="1355400" cy="42336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58" name="Объект 3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3640" y="2458440"/>
                    <a:ext cx="1355400" cy="4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Объект 41"/>
          <p:cNvGraphicFramePr/>
          <p:nvPr/>
        </p:nvGraphicFramePr>
        <p:xfrm>
          <a:off x="2201760" y="2458440"/>
          <a:ext cx="1338120" cy="42336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60" name="Объект 4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1760" y="2458440"/>
                    <a:ext cx="1338120" cy="4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Объект 43"/>
          <p:cNvGraphicFramePr/>
          <p:nvPr/>
        </p:nvGraphicFramePr>
        <p:xfrm>
          <a:off x="3703680" y="2458440"/>
          <a:ext cx="1236600" cy="42336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62" name="Объект 4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03680" y="2458440"/>
                    <a:ext cx="1236600" cy="4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Объект 44"/>
          <p:cNvGraphicFramePr/>
          <p:nvPr/>
        </p:nvGraphicFramePr>
        <p:xfrm>
          <a:off x="395640" y="3349800"/>
          <a:ext cx="4045680" cy="48780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164" name="Объект 4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640" y="3349800"/>
                    <a:ext cx="4045680" cy="4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Объект 45"/>
          <p:cNvGraphicFramePr/>
          <p:nvPr/>
        </p:nvGraphicFramePr>
        <p:xfrm>
          <a:off x="395640" y="3927960"/>
          <a:ext cx="2633040" cy="505440"/>
        </p:xfrm>
        <a:graphic>
          <a:graphicData uri="http://schemas.openxmlformats.org/presentationml/2006/ole">
            <p:oleObj progId="Equation.3" r:id="rId12" spid="">
              <p:embed/>
              <p:pic>
                <p:nvPicPr>
                  <p:cNvPr id="166" name="Объект 4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640" y="3927960"/>
                    <a:ext cx="2633040" cy="5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Объект 46"/>
          <p:cNvGraphicFramePr/>
          <p:nvPr/>
        </p:nvGraphicFramePr>
        <p:xfrm>
          <a:off x="395640" y="4394880"/>
          <a:ext cx="1046160" cy="435600"/>
        </p:xfrm>
        <a:graphic>
          <a:graphicData uri="http://schemas.openxmlformats.org/presentationml/2006/ole">
            <p:oleObj progId="Equation.3" r:id="rId14" spid="">
              <p:embed/>
              <p:pic>
                <p:nvPicPr>
                  <p:cNvPr id="168" name="Объект 4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5640" y="4394880"/>
                    <a:ext cx="1046160" cy="4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Объект 52"/>
          <p:cNvGraphicFramePr/>
          <p:nvPr/>
        </p:nvGraphicFramePr>
        <p:xfrm>
          <a:off x="406440" y="5229360"/>
          <a:ext cx="2509560" cy="475920"/>
        </p:xfrm>
        <a:graphic>
          <a:graphicData uri="http://schemas.openxmlformats.org/presentationml/2006/ole">
            <p:oleObj progId="Equation.3" r:id="rId16" spid="">
              <p:embed/>
              <p:pic>
                <p:nvPicPr>
                  <p:cNvPr id="170" name="Объект 5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06440" y="5229360"/>
                    <a:ext cx="25095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0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640" y="359640"/>
            <a:ext cx="7992360" cy="57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ормулировка матриц симплекс-метод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Num" idx="13"/>
          </p:nvPr>
        </p:nvSpPr>
        <p:spPr>
          <a:xfrm>
            <a:off x="8820000" y="0"/>
            <a:ext cx="40140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59A4710-6029-4488-B995-C7C9304673A5}" type="slidenum">
              <a:rPr b="1" lang="ru-RU" sz="3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77" name="Объект 2"/>
          <p:cNvSpPr/>
          <p:nvPr/>
        </p:nvSpPr>
        <p:spPr>
          <a:xfrm>
            <a:off x="304920" y="1223640"/>
            <a:ext cx="8299440" cy="5049000"/>
          </a:xfrm>
          <a:prstGeom prst="rect">
            <a:avLst/>
          </a:prstGeom>
          <a:solidFill>
            <a:srgbClr val="ffffff"/>
          </a:solidFill>
          <a:ln>
            <a:solidFill>
              <a:srgbClr val="59b0b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normAutofit/>
          </a:bodyPr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Для решения задачи линейного программирования составляется матрица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A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вектор ограничений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b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и вектор с коэффициентами линейной формы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c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где  - гипербинарная величина. , если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если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 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0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ина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Чтобы задать вектор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     инициализируем его зна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Из компонент равных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l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ыч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Аналогично строится вектор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Если значение в ячейке равно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l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т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Чтобы перейти от изначально уравнения, зададим           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Новая матрица условий и вектор приобретаю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Чтобы найти минимум </a:t>
            </a: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F(x)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ищем максимум функции  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  произведя замен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95360" y="1774440"/>
          <a:ext cx="914760" cy="35964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360" y="1774440"/>
                    <a:ext cx="914760" cy="3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2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Объект 26"/>
          <p:cNvGraphicFramePr/>
          <p:nvPr/>
        </p:nvGraphicFramePr>
        <p:xfrm>
          <a:off x="2652480" y="2667600"/>
          <a:ext cx="943920" cy="39312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183" name="Объект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52480" y="2667600"/>
                    <a:ext cx="943920" cy="39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2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5" name="Объект 28"/>
          <p:cNvGraphicFramePr/>
          <p:nvPr/>
        </p:nvGraphicFramePr>
        <p:xfrm>
          <a:off x="7012080" y="2651760"/>
          <a:ext cx="1171080" cy="44568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186" name="Объект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12080" y="2651760"/>
                    <a:ext cx="1171080" cy="44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2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Объект 9219"/>
          <p:cNvGraphicFramePr/>
          <p:nvPr/>
        </p:nvGraphicFramePr>
        <p:xfrm>
          <a:off x="3780000" y="2997000"/>
          <a:ext cx="961200" cy="369360"/>
        </p:xfrm>
        <a:graphic>
          <a:graphicData uri="http://schemas.openxmlformats.org/presentationml/2006/ole">
            <p:oleObj progId="Equation.3" r:id="rId10" spid="">
              <p:embed/>
              <p:pic>
                <p:nvPicPr>
                  <p:cNvPr id="190" name="Объект 92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80000" y="2997000"/>
                    <a:ext cx="961200" cy="36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3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Объект 9224"/>
          <p:cNvGraphicFramePr/>
          <p:nvPr/>
        </p:nvGraphicFramePr>
        <p:xfrm>
          <a:off x="3503520" y="3319920"/>
          <a:ext cx="817200" cy="340200"/>
        </p:xfrm>
        <a:graphic>
          <a:graphicData uri="http://schemas.openxmlformats.org/presentationml/2006/ole">
            <p:oleObj progId="Equation.3" r:id="rId12" spid="">
              <p:embed/>
              <p:pic>
                <p:nvPicPr>
                  <p:cNvPr id="193" name="Объект 922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3520" y="3319920"/>
                    <a:ext cx="817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4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Объект 9229"/>
          <p:cNvGraphicFramePr/>
          <p:nvPr/>
        </p:nvGraphicFramePr>
        <p:xfrm>
          <a:off x="4125960" y="3555720"/>
          <a:ext cx="892080" cy="378000"/>
        </p:xfrm>
        <a:graphic>
          <a:graphicData uri="http://schemas.openxmlformats.org/presentationml/2006/ole">
            <p:oleObj progId="Equation.3" r:id="rId14" spid="">
              <p:embed/>
              <p:pic>
                <p:nvPicPr>
                  <p:cNvPr id="196" name="Объект 922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25960" y="3555720"/>
                    <a:ext cx="892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5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Объект 9233"/>
          <p:cNvGraphicFramePr/>
          <p:nvPr/>
        </p:nvGraphicFramePr>
        <p:xfrm>
          <a:off x="5714280" y="4200840"/>
          <a:ext cx="742320" cy="287640"/>
        </p:xfrm>
        <a:graphic>
          <a:graphicData uri="http://schemas.openxmlformats.org/presentationml/2006/ole">
            <p:oleObj progId="Equation.3" r:id="rId16" spid="">
              <p:embed/>
              <p:pic>
                <p:nvPicPr>
                  <p:cNvPr id="199" name="Объект 923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14280" y="4200840"/>
                    <a:ext cx="74232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Объект 9235"/>
          <p:cNvGraphicFramePr/>
          <p:nvPr/>
        </p:nvGraphicFramePr>
        <p:xfrm>
          <a:off x="6636240" y="4170600"/>
          <a:ext cx="929880" cy="281880"/>
        </p:xfrm>
        <a:graphic>
          <a:graphicData uri="http://schemas.openxmlformats.org/presentationml/2006/ole">
            <p:oleObj progId="Equation.3" r:id="rId18" spid="">
              <p:embed/>
              <p:pic>
                <p:nvPicPr>
                  <p:cNvPr id="202" name="Объект 923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636240" y="4170600"/>
                    <a:ext cx="929880" cy="2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Объект 9237"/>
          <p:cNvGraphicFramePr/>
          <p:nvPr/>
        </p:nvGraphicFramePr>
        <p:xfrm>
          <a:off x="420480" y="4861800"/>
          <a:ext cx="914760" cy="655200"/>
        </p:xfrm>
        <a:graphic>
          <a:graphicData uri="http://schemas.openxmlformats.org/presentationml/2006/ole">
            <p:oleObj progId="Equation.3" r:id="rId20" spid="">
              <p:embed/>
              <p:pic>
                <p:nvPicPr>
                  <p:cNvPr id="205" name="Объект 923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0480" y="4861800"/>
                    <a:ext cx="914760" cy="65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59"/>
          <p:cNvSpPr/>
          <p:nvPr/>
        </p:nvSpPr>
        <p:spPr>
          <a:xfrm>
            <a:off x="1488960" y="5517360"/>
            <a:ext cx="1225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Объект 9239"/>
          <p:cNvGraphicFramePr/>
          <p:nvPr/>
        </p:nvGraphicFramePr>
        <p:xfrm>
          <a:off x="1487520" y="4859280"/>
          <a:ext cx="923760" cy="657000"/>
        </p:xfrm>
        <a:graphic>
          <a:graphicData uri="http://schemas.openxmlformats.org/presentationml/2006/ole">
            <p:oleObj progId="Equation.3" r:id="rId22" spid="">
              <p:embed/>
              <p:pic>
                <p:nvPicPr>
                  <p:cNvPr id="208" name="Объект 9239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487520" y="4859280"/>
                    <a:ext cx="9237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61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Объект 9241"/>
          <p:cNvGraphicFramePr/>
          <p:nvPr/>
        </p:nvGraphicFramePr>
        <p:xfrm>
          <a:off x="5993280" y="5616000"/>
          <a:ext cx="994680" cy="392040"/>
        </p:xfrm>
        <a:graphic>
          <a:graphicData uri="http://schemas.openxmlformats.org/presentationml/2006/ole">
            <p:oleObj progId="Equation.3" r:id="rId24" spid="">
              <p:embed/>
              <p:pic>
                <p:nvPicPr>
                  <p:cNvPr id="211" name="Объект 924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993280" y="5616000"/>
                    <a:ext cx="9946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6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Объект 9243"/>
          <p:cNvGraphicFramePr/>
          <p:nvPr/>
        </p:nvGraphicFramePr>
        <p:xfrm>
          <a:off x="1212480" y="5909400"/>
          <a:ext cx="682560" cy="254160"/>
        </p:xfrm>
        <a:graphic>
          <a:graphicData uri="http://schemas.openxmlformats.org/presentationml/2006/ole">
            <p:oleObj progId="Equation.3" r:id="rId26" spid="">
              <p:embed/>
              <p:pic>
                <p:nvPicPr>
                  <p:cNvPr id="214" name="Объект 9243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12480" y="5909400"/>
                    <a:ext cx="68256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84040"/>
            <a:ext cx="7992360" cy="81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т требований контрактов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 максимального то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14"/>
          </p:nvPr>
        </p:nvSpPr>
        <p:spPr>
          <a:xfrm>
            <a:off x="8763120" y="0"/>
            <a:ext cx="52344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1" name="Объект 2"/>
          <p:cNvSpPr/>
          <p:nvPr/>
        </p:nvSpPr>
        <p:spPr>
          <a:xfrm>
            <a:off x="304920" y="1223640"/>
            <a:ext cx="8299440" cy="5049000"/>
          </a:xfrm>
          <a:prstGeom prst="rect">
            <a:avLst/>
          </a:prstGeom>
          <a:solidFill>
            <a:srgbClr val="ffffff"/>
          </a:solidFill>
          <a:ln>
            <a:solidFill>
              <a:srgbClr val="59b0b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normAutofit/>
          </a:bodyPr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Требование удовлетворения контрактов означает, что полностью должны удовлетворяться условия распределения на линии, и поток должен оставаться в конце линии неотрица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Используя описанное выше соответствие индексов </a:t>
            </a:r>
            <a:r>
              <a:rPr b="0" i="1" lang="ru-RU" sz="1600" spc="-1" strike="noStrike">
                <a:solidFill>
                  <a:schemeClr val="dk1"/>
                </a:solidFill>
                <a:latin typeface="Bookman Old Style"/>
              </a:rPr>
              <a:t>T</a:t>
            </a: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 матричном вид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Ограничения мощности(тока) на ли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Финальные матрица и вектора для симплекс-мет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;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805680" y="2287080"/>
            <a:ext cx="225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D:\ДИПЛОМ\!основная папка\img_present\1.png"/>
          <p:cNvPicPr/>
          <p:nvPr/>
        </p:nvPicPr>
        <p:blipFill>
          <a:blip r:embed="rId1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:\ЛыSS\Аспирантура\1 год\Конференции\МИЭМ\Презентация\HSEd.jpeg"/>
          <p:cNvPicPr/>
          <p:nvPr/>
        </p:nvPicPr>
        <p:blipFill>
          <a:blip r:embed="rId2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25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7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8280" y="489240"/>
            <a:ext cx="7992360" cy="40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Реверсивные лин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Num" idx="15"/>
          </p:nvPr>
        </p:nvSpPr>
        <p:spPr>
          <a:xfrm>
            <a:off x="8763120" y="0"/>
            <a:ext cx="52344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Объект 2"/>
          <p:cNvSpPr/>
          <p:nvPr/>
        </p:nvSpPr>
        <p:spPr>
          <a:xfrm>
            <a:off x="304920" y="1223640"/>
            <a:ext cx="8299440" cy="5491080"/>
          </a:xfrm>
          <a:prstGeom prst="rect">
            <a:avLst/>
          </a:prstGeom>
          <a:solidFill>
            <a:srgbClr val="ffffff"/>
          </a:solidFill>
          <a:ln>
            <a:solidFill>
              <a:srgbClr val="59b0b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normAutofit/>
          </a:bodyPr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 случае реверсивных линий без потреб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Реверсивную линию можно моделировать как две линии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:  -</a:t>
            </a:r>
            <a:r>
              <a:rPr b="0" lang="en-US" sz="16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 случае потребления на реверсивных ли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–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число реверсивных линий в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Для каждой реверсивной линии добавляется фиктивная вершина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	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k = k(ij), k = m+1, … , m+M,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где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m –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число узлов в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После чего линия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ij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заменяется на две линии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ik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и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jk.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Будем считать, что потребление на линии переходи в потребление на узле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k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Также новые линии будем моделировать каждую как две. Используем важное допущение, что новый узел находится посередине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805680" y="2287080"/>
            <a:ext cx="225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4"/>
          <a:stretch/>
        </p:blipFill>
        <p:spPr>
          <a:xfrm>
            <a:off x="1187640" y="4777200"/>
            <a:ext cx="1872000" cy="40284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2"/>
          <p:cNvSpPr/>
          <p:nvPr/>
        </p:nvSpPr>
        <p:spPr>
          <a:xfrm>
            <a:off x="6228360" y="174132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Овал 11"/>
          <p:cNvSpPr/>
          <p:nvPr/>
        </p:nvSpPr>
        <p:spPr>
          <a:xfrm>
            <a:off x="7812360" y="174132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34" name="Скругленная соединительная линия 6"/>
          <p:cNvCxnSpPr>
            <a:stCxn id="232" idx="7"/>
            <a:endCxn id="233" idx="1"/>
          </p:cNvCxnSpPr>
          <p:nvPr/>
        </p:nvCxnSpPr>
        <p:spPr>
          <a:xfrm flipV="1">
            <a:off x="6480360" y="1776960"/>
            <a:ext cx="1380600" cy="1332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5" name="TextBox 8"/>
              <p:cNvSpPr txBox="1"/>
              <p:nvPr/>
            </p:nvSpPr>
            <p:spPr>
              <a:xfrm>
                <a:off x="6932520" y="1223640"/>
                <a:ext cx="4755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𝑥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36" name="Скругленная соединительная линия 13"/>
          <p:cNvCxnSpPr>
            <a:stCxn id="233" idx="3"/>
            <a:endCxn id="232" idx="5"/>
          </p:cNvCxnSpPr>
          <p:nvPr/>
        </p:nvCxnSpPr>
        <p:spPr>
          <a:xfrm flipV="1" rot="10800000">
            <a:off x="6480360" y="1980360"/>
            <a:ext cx="1380600" cy="1296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7" name="TextBox 17"/>
              <p:cNvSpPr txBox="1"/>
              <p:nvPr/>
            </p:nvSpPr>
            <p:spPr>
              <a:xfrm>
                <a:off x="6938640" y="1885320"/>
                <a:ext cx="48060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𝑥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Овал 18"/>
          <p:cNvSpPr/>
          <p:nvPr/>
        </p:nvSpPr>
        <p:spPr>
          <a:xfrm>
            <a:off x="6671160" y="610560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Овал 19"/>
          <p:cNvSpPr/>
          <p:nvPr/>
        </p:nvSpPr>
        <p:spPr>
          <a:xfrm>
            <a:off x="8255520" y="610560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0" name="Скругленная соединительная линия 20"/>
          <p:cNvCxnSpPr>
            <a:stCxn id="238" idx="7"/>
            <a:endCxn id="239" idx="1"/>
          </p:cNvCxnSpPr>
          <p:nvPr/>
        </p:nvCxnSpPr>
        <p:spPr>
          <a:xfrm flipV="1">
            <a:off x="6923160" y="6141240"/>
            <a:ext cx="1380960" cy="1332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1" name="TextBox 22"/>
              <p:cNvSpPr txBox="1"/>
              <p:nvPr/>
            </p:nvSpPr>
            <p:spPr>
              <a:xfrm>
                <a:off x="7352640" y="5524200"/>
                <a:ext cx="672120" cy="4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/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sub>
                        <m:r>
                          <m:t xml:space="preserve">𝑘𝑗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42" name="Скругленная соединительная линия 23"/>
          <p:cNvCxnSpPr>
            <a:stCxn id="239" idx="3"/>
            <a:endCxn id="238" idx="5"/>
          </p:cNvCxnSpPr>
          <p:nvPr/>
        </p:nvCxnSpPr>
        <p:spPr>
          <a:xfrm flipV="1" rot="10800000">
            <a:off x="6922800" y="6344640"/>
            <a:ext cx="1380960" cy="1296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3" name="TextBox 24"/>
              <p:cNvSpPr txBox="1"/>
              <p:nvPr/>
            </p:nvSpPr>
            <p:spPr>
              <a:xfrm>
                <a:off x="7371720" y="6189840"/>
                <a:ext cx="6760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sub>
                        <m:r>
                          <m:t xml:space="preserve">𝑗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Овал 25"/>
          <p:cNvSpPr/>
          <p:nvPr/>
        </p:nvSpPr>
        <p:spPr>
          <a:xfrm>
            <a:off x="5087160" y="610560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Овал 26"/>
          <p:cNvSpPr/>
          <p:nvPr/>
        </p:nvSpPr>
        <p:spPr>
          <a:xfrm>
            <a:off x="6671160" y="6105600"/>
            <a:ext cx="287640" cy="287640"/>
          </a:xfrm>
          <a:prstGeom prst="ellipse">
            <a:avLst/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6" name="Скругленная соединительная линия 27"/>
          <p:cNvCxnSpPr>
            <a:stCxn id="244" idx="7"/>
            <a:endCxn id="245" idx="1"/>
          </p:cNvCxnSpPr>
          <p:nvPr/>
        </p:nvCxnSpPr>
        <p:spPr>
          <a:xfrm flipV="1">
            <a:off x="5339160" y="6141240"/>
            <a:ext cx="1380960" cy="1332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7" name="TextBox 28"/>
              <p:cNvSpPr txBox="1"/>
              <p:nvPr/>
            </p:nvSpPr>
            <p:spPr>
              <a:xfrm>
                <a:off x="5735880" y="5555520"/>
                <a:ext cx="651960" cy="40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/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sub>
                        <m:r>
                          <m:t xml:space="preserve">𝑖</m:t>
                        </m:r>
                        <m:r>
                          <m:t xml:space="preserve">𝑘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48" name="Скругленная соединительная линия 29"/>
          <p:cNvCxnSpPr>
            <a:stCxn id="245" idx="3"/>
            <a:endCxn id="244" idx="5"/>
          </p:cNvCxnSpPr>
          <p:nvPr/>
        </p:nvCxnSpPr>
        <p:spPr>
          <a:xfrm flipV="1" rot="10800000">
            <a:off x="5338800" y="6344640"/>
            <a:ext cx="1380960" cy="12960"/>
          </a:xfrm>
          <a:prstGeom prst="curvedConnector2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9" name="TextBox 30"/>
              <p:cNvSpPr txBox="1"/>
              <p:nvPr/>
            </p:nvSpPr>
            <p:spPr>
              <a:xfrm>
                <a:off x="5797440" y="6189840"/>
                <a:ext cx="6577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r>
                              <m:t xml:space="preserve">𝑥</m:t>
                            </m:r>
                          </m:e>
                          <m:sub/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sub>
                        <m:r>
                          <m:t xml:space="preserve">𝑘𝑖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TextBox 31"/>
              <p:cNvSpPr txBox="1"/>
              <p:nvPr/>
            </p:nvSpPr>
            <p:spPr>
              <a:xfrm>
                <a:off x="4888800" y="5814000"/>
                <a:ext cx="3182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𝑖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TextBox 32"/>
              <p:cNvSpPr txBox="1"/>
              <p:nvPr/>
            </p:nvSpPr>
            <p:spPr>
              <a:xfrm>
                <a:off x="6629760" y="5778720"/>
                <a:ext cx="37044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TextBox 33"/>
              <p:cNvSpPr txBox="1"/>
              <p:nvPr/>
            </p:nvSpPr>
            <p:spPr>
              <a:xfrm>
                <a:off x="8255520" y="5772240"/>
                <a:ext cx="324360" cy="36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𝑗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Picture 3" descr=""/>
          <p:cNvPicPr/>
          <p:nvPr/>
        </p:nvPicPr>
        <p:blipFill>
          <a:blip r:embed="rId5"/>
          <a:stretch/>
        </p:blipFill>
        <p:spPr>
          <a:xfrm>
            <a:off x="766080" y="5825520"/>
            <a:ext cx="271512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icture 6"/>
          <p:cNvSpPr/>
          <p:nvPr/>
        </p:nvSpPr>
        <p:spPr>
          <a:xfrm>
            <a:off x="1503360" y="-960840"/>
            <a:ext cx="5848920" cy="7711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7"/>
          <p:cNvSpPr/>
          <p:nvPr/>
        </p:nvSpPr>
        <p:spPr>
          <a:xfrm>
            <a:off x="251640" y="260640"/>
            <a:ext cx="8352720" cy="86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d0d5"/>
              </a:gs>
              <a:gs pos="100000">
                <a:srgbClr val="f2f2f2"/>
              </a:gs>
            </a:gsLst>
            <a:lin ang="2700000"/>
          </a:gradFill>
          <a:ln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640" y="476640"/>
            <a:ext cx="7992360" cy="43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лгоритм вычислений для реверсивных лини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Num" idx="16"/>
          </p:nvPr>
        </p:nvSpPr>
        <p:spPr>
          <a:xfrm>
            <a:off x="8763120" y="0"/>
            <a:ext cx="523440" cy="620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3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D:\ДИПЛОМ\!основная папка\img_present\1.png"/>
          <p:cNvPicPr/>
          <p:nvPr/>
        </p:nvPicPr>
        <p:blipFill>
          <a:blip r:embed="rId2"/>
          <a:stretch/>
        </p:blipFill>
        <p:spPr>
          <a:xfrm>
            <a:off x="7012080" y="6345360"/>
            <a:ext cx="1275840" cy="369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D:\ЛыSS\Аспирантура\1 год\Конференции\МИЭМ\Презентация\HSEd.jpeg"/>
          <p:cNvPicPr/>
          <p:nvPr/>
        </p:nvPicPr>
        <p:blipFill>
          <a:blip r:embed="rId3"/>
          <a:stretch/>
        </p:blipFill>
        <p:spPr>
          <a:xfrm>
            <a:off x="8324640" y="6309360"/>
            <a:ext cx="437400" cy="4420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60" name="Объект 2"/>
          <p:cNvSpPr/>
          <p:nvPr/>
        </p:nvSpPr>
        <p:spPr>
          <a:xfrm>
            <a:off x="304920" y="1340640"/>
            <a:ext cx="8299440" cy="4931640"/>
          </a:xfrm>
          <a:prstGeom prst="rect">
            <a:avLst/>
          </a:prstGeom>
          <a:solidFill>
            <a:srgbClr val="ffffff"/>
          </a:solidFill>
          <a:ln>
            <a:solidFill>
              <a:srgbClr val="59b0b9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numCol="1" spcCol="0" anchor="t">
            <a:normAutofit/>
          </a:bodyPr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Расширяем матрицу смежности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M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ключая новые линии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Проводим новую сквозную нумерацию для линий, общее число которых теперь </a:t>
            </a:r>
            <a:r>
              <a:rPr b="1" i="1" lang="en-US" sz="1600" spc="-1" strike="noStrike">
                <a:solidFill>
                  <a:schemeClr val="dk1"/>
                </a:solidFill>
                <a:latin typeface="Calibri"/>
              </a:rPr>
              <a:t>n </a:t>
            </a:r>
            <a:r>
              <a:rPr b="1" lang="en-US" sz="1600" spc="-1" strike="noStrike">
                <a:solidFill>
                  <a:schemeClr val="dk1"/>
                </a:solidFill>
                <a:latin typeface="Calibri"/>
              </a:rPr>
              <a:t>+ 3*</a:t>
            </a:r>
            <a:r>
              <a:rPr b="1" i="1" lang="en-US" sz="1600" spc="-1" strike="noStrike">
                <a:solidFill>
                  <a:schemeClr val="dk1"/>
                </a:solidFill>
                <a:latin typeface="Calibri"/>
              </a:rPr>
              <a:t>M</a:t>
            </a:r>
            <a:r>
              <a:rPr b="0" i="1" lang="ru-RU" sz="1600" spc="-1" strike="noStrike">
                <a:solidFill>
                  <a:schemeClr val="dk1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Обозначим новый номер </a:t>
            </a:r>
            <a:r>
              <a:rPr b="1" i="1" lang="en-US" sz="1600" spc="-1" strike="noStrike">
                <a:solidFill>
                  <a:schemeClr val="dk1"/>
                </a:solidFill>
                <a:latin typeface="Calibri"/>
              </a:rPr>
              <a:t>r </a:t>
            </a:r>
            <a:r>
              <a:rPr b="1" lang="en-US" sz="1600" spc="-1" strike="noStrike">
                <a:solidFill>
                  <a:schemeClr val="dk1"/>
                </a:solidFill>
                <a:latin typeface="Calibri"/>
              </a:rPr>
              <a:t>= 1,..., </a:t>
            </a:r>
            <a:r>
              <a:rPr b="1" i="1" lang="en-US" sz="1600" spc="-1" strike="noStrike">
                <a:solidFill>
                  <a:schemeClr val="dk1"/>
                </a:solidFill>
                <a:latin typeface="Calibri"/>
              </a:rPr>
              <a:t>n </a:t>
            </a:r>
            <a:r>
              <a:rPr b="1" lang="en-US" sz="1600" spc="-1" strike="noStrike">
                <a:solidFill>
                  <a:schemeClr val="dk1"/>
                </a:solidFill>
                <a:latin typeface="Calibri"/>
              </a:rPr>
              <a:t>+ 3*</a:t>
            </a:r>
            <a:r>
              <a:rPr b="1" i="1" lang="en-US" sz="1600" spc="-1" strike="noStrike">
                <a:solidFill>
                  <a:schemeClr val="dk1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Таким образом, задается новая бие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ектор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для старых координат, для новых – вычислен ра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ектор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для старых координат, для новых бер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Вектор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для стары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координат, у новых нет потребления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i="1" lang="en-US" sz="1600" spc="-1" strike="noStrike">
                <a:solidFill>
                  <a:schemeClr val="dk1"/>
                </a:solidFill>
                <a:latin typeface="Bookman Old Style"/>
              </a:rPr>
              <a:t>g = 0</a:t>
            </a: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, т.к. мы перенесли потребление в фиктивные уз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Результатом является новая постановка задачи в нужном ви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Решение принима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chemeClr val="dk1"/>
                </a:solidFill>
                <a:latin typeface="Bookman Old Style"/>
              </a:rPr>
              <a:t>, n+3*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"/>
          <p:cNvSpPr/>
          <p:nvPr/>
        </p:nvSpPr>
        <p:spPr>
          <a:xfrm>
            <a:off x="805680" y="2287080"/>
            <a:ext cx="225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4"/>
          <a:stretch/>
        </p:blipFill>
        <p:spPr>
          <a:xfrm>
            <a:off x="396000" y="2771640"/>
            <a:ext cx="1221120" cy="3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ставная">
  <a:themeElements>
    <a:clrScheme name="Составная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ставная">
  <a:themeElements>
    <a:clrScheme name="Составная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mposite</Template>
  <TotalTime>3083</TotalTime>
  <Application>LibreOffice/7.4.7.2$Linux_X86_64 LibreOffice_project/40$Build-2</Application>
  <AppVersion>15.0000</AppVersion>
  <Words>588</Words>
  <Paragraphs>1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8:57:17Z</dcterms:created>
  <dc:creator>Dmitry</dc:creator>
  <dc:description/>
  <dc:language>en-US</dc:language>
  <cp:lastModifiedBy>Dmitry A Nozdrin</cp:lastModifiedBy>
  <dcterms:modified xsi:type="dcterms:W3CDTF">2014-10-01T13:12:12Z</dcterms:modified>
  <cp:revision>23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Экран (4:3)</vt:lpwstr>
  </property>
  <property fmtid="{D5CDD505-2E9C-101B-9397-08002B2CF9AE}" pid="4" name="Slides">
    <vt:r8>11</vt:r8>
  </property>
</Properties>
</file>