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78480" cy="34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088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6880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DejaVu Serif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dt" idx="10"/>
          </p:nvPr>
        </p:nvSpPr>
        <p:spPr>
          <a:xfrm>
            <a:off x="4279680" y="-360"/>
            <a:ext cx="326844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0" y="10156680"/>
            <a:ext cx="326880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427968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FF023-EBF9-4056-98FA-B9A979F109E1}" type="slidenum">
              <a:rPr b="0" lang="ru-RU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9640" cy="3441960"/>
          </a:xfrm>
          <a:prstGeom prst="rect">
            <a:avLst/>
          </a:prstGeom>
          <a:ln w="0">
            <a:noFill/>
          </a:ln>
        </p:spPr>
      </p:sp>
      <p:sp>
        <p:nvSpPr>
          <p:cNvPr id="185" name=""/>
          <p:cNvSpPr/>
          <p:nvPr/>
        </p:nvSpPr>
        <p:spPr>
          <a:xfrm>
            <a:off x="720720" y="4680000"/>
            <a:ext cx="6119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6400" cy="3438720"/>
          </a:xfrm>
          <a:prstGeom prst="rect">
            <a:avLst/>
          </a:prstGeom>
          <a:ln w="0">
            <a:noFill/>
          </a:ln>
        </p:spPr>
      </p:sp>
      <p:sp>
        <p:nvSpPr>
          <p:cNvPr id="203" name=""/>
          <p:cNvSpPr/>
          <p:nvPr/>
        </p:nvSpPr>
        <p:spPr>
          <a:xfrm>
            <a:off x="720720" y="4680000"/>
            <a:ext cx="611676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6400" cy="3438720"/>
          </a:xfrm>
          <a:prstGeom prst="rect">
            <a:avLst/>
          </a:prstGeom>
          <a:ln w="0">
            <a:noFill/>
          </a:ln>
        </p:spPr>
      </p:sp>
      <p:sp>
        <p:nvSpPr>
          <p:cNvPr id="205" name=""/>
          <p:cNvSpPr/>
          <p:nvPr/>
        </p:nvSpPr>
        <p:spPr>
          <a:xfrm>
            <a:off x="720720" y="4680000"/>
            <a:ext cx="611676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6400" cy="3438720"/>
          </a:xfrm>
          <a:prstGeom prst="rect">
            <a:avLst/>
          </a:prstGeom>
          <a:ln w="0">
            <a:noFill/>
          </a:ln>
        </p:spPr>
      </p:sp>
      <p:sp>
        <p:nvSpPr>
          <p:cNvPr id="207" name=""/>
          <p:cNvSpPr/>
          <p:nvPr/>
        </p:nvSpPr>
        <p:spPr>
          <a:xfrm>
            <a:off x="720720" y="4680000"/>
            <a:ext cx="611676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6400" cy="3438720"/>
          </a:xfrm>
          <a:prstGeom prst="rect">
            <a:avLst/>
          </a:prstGeom>
          <a:ln w="0">
            <a:noFill/>
          </a:ln>
        </p:spPr>
      </p:sp>
      <p:sp>
        <p:nvSpPr>
          <p:cNvPr id="209" name=""/>
          <p:cNvSpPr/>
          <p:nvPr/>
        </p:nvSpPr>
        <p:spPr>
          <a:xfrm>
            <a:off x="720720" y="4680000"/>
            <a:ext cx="611676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6400" cy="3438720"/>
          </a:xfrm>
          <a:prstGeom prst="rect">
            <a:avLst/>
          </a:prstGeom>
          <a:ln w="0">
            <a:noFill/>
          </a:ln>
        </p:spPr>
      </p:sp>
      <p:sp>
        <p:nvSpPr>
          <p:cNvPr id="211" name=""/>
          <p:cNvSpPr/>
          <p:nvPr/>
        </p:nvSpPr>
        <p:spPr>
          <a:xfrm>
            <a:off x="720720" y="4680000"/>
            <a:ext cx="611676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4600" cy="3436920"/>
          </a:xfrm>
          <a:prstGeom prst="rect">
            <a:avLst/>
          </a:prstGeom>
          <a:ln w="0">
            <a:noFill/>
          </a:ln>
        </p:spPr>
      </p:sp>
      <p:sp>
        <p:nvSpPr>
          <p:cNvPr id="213" name=""/>
          <p:cNvSpPr/>
          <p:nvPr/>
        </p:nvSpPr>
        <p:spPr>
          <a:xfrm>
            <a:off x="720720" y="4680000"/>
            <a:ext cx="611496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6400" cy="3438720"/>
          </a:xfrm>
          <a:prstGeom prst="rect">
            <a:avLst/>
          </a:prstGeom>
          <a:ln w="0">
            <a:noFill/>
          </a:ln>
        </p:spPr>
      </p:sp>
      <p:sp>
        <p:nvSpPr>
          <p:cNvPr id="215" name=""/>
          <p:cNvSpPr/>
          <p:nvPr/>
        </p:nvSpPr>
        <p:spPr>
          <a:xfrm>
            <a:off x="720720" y="4680000"/>
            <a:ext cx="611676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6400" cy="3438720"/>
          </a:xfrm>
          <a:prstGeom prst="rect">
            <a:avLst/>
          </a:prstGeom>
          <a:ln w="0">
            <a:noFill/>
          </a:ln>
        </p:spPr>
      </p:sp>
      <p:sp>
        <p:nvSpPr>
          <p:cNvPr id="217" name=""/>
          <p:cNvSpPr/>
          <p:nvPr/>
        </p:nvSpPr>
        <p:spPr>
          <a:xfrm>
            <a:off x="720720" y="4680000"/>
            <a:ext cx="611676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6400" cy="3438720"/>
          </a:xfrm>
          <a:prstGeom prst="rect">
            <a:avLst/>
          </a:prstGeom>
          <a:ln w="0">
            <a:noFill/>
          </a:ln>
        </p:spPr>
      </p:sp>
      <p:sp>
        <p:nvSpPr>
          <p:cNvPr id="219" name=""/>
          <p:cNvSpPr/>
          <p:nvPr/>
        </p:nvSpPr>
        <p:spPr>
          <a:xfrm>
            <a:off x="720720" y="4680000"/>
            <a:ext cx="611676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4600" cy="3436920"/>
          </a:xfrm>
          <a:prstGeom prst="rect">
            <a:avLst/>
          </a:prstGeom>
          <a:ln w="0">
            <a:noFill/>
          </a:ln>
        </p:spPr>
      </p:sp>
      <p:sp>
        <p:nvSpPr>
          <p:cNvPr id="221" name=""/>
          <p:cNvSpPr/>
          <p:nvPr/>
        </p:nvSpPr>
        <p:spPr>
          <a:xfrm>
            <a:off x="720720" y="4680000"/>
            <a:ext cx="611496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9640" cy="3441960"/>
          </a:xfrm>
          <a:prstGeom prst="rect">
            <a:avLst/>
          </a:prstGeom>
          <a:ln w="0">
            <a:noFill/>
          </a:ln>
        </p:spPr>
      </p:sp>
      <p:sp>
        <p:nvSpPr>
          <p:cNvPr id="187" name=""/>
          <p:cNvSpPr/>
          <p:nvPr/>
        </p:nvSpPr>
        <p:spPr>
          <a:xfrm>
            <a:off x="720720" y="4680000"/>
            <a:ext cx="6119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1720" cy="3434040"/>
          </a:xfrm>
          <a:prstGeom prst="rect">
            <a:avLst/>
          </a:prstGeom>
          <a:ln w="0">
            <a:noFill/>
          </a:ln>
        </p:spPr>
      </p:sp>
      <p:sp>
        <p:nvSpPr>
          <p:cNvPr id="223" name=""/>
          <p:cNvSpPr/>
          <p:nvPr/>
        </p:nvSpPr>
        <p:spPr>
          <a:xfrm>
            <a:off x="720720" y="4680000"/>
            <a:ext cx="6111720" cy="50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3160" cy="3435480"/>
          </a:xfrm>
          <a:prstGeom prst="rect">
            <a:avLst/>
          </a:prstGeom>
          <a:ln w="0">
            <a:noFill/>
          </a:ln>
        </p:spPr>
      </p:sp>
      <p:sp>
        <p:nvSpPr>
          <p:cNvPr id="225" name=""/>
          <p:cNvSpPr/>
          <p:nvPr/>
        </p:nvSpPr>
        <p:spPr>
          <a:xfrm>
            <a:off x="720720" y="4680000"/>
            <a:ext cx="6113520" cy="50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6400" cy="3438720"/>
          </a:xfrm>
          <a:prstGeom prst="rect">
            <a:avLst/>
          </a:prstGeom>
          <a:ln w="0">
            <a:noFill/>
          </a:ln>
        </p:spPr>
      </p:sp>
      <p:sp>
        <p:nvSpPr>
          <p:cNvPr id="227" name=""/>
          <p:cNvSpPr/>
          <p:nvPr/>
        </p:nvSpPr>
        <p:spPr>
          <a:xfrm>
            <a:off x="720720" y="4680000"/>
            <a:ext cx="611676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9640" cy="3441960"/>
          </a:xfrm>
          <a:prstGeom prst="rect">
            <a:avLst/>
          </a:prstGeom>
          <a:ln w="0">
            <a:noFill/>
          </a:ln>
        </p:spPr>
      </p:sp>
      <p:sp>
        <p:nvSpPr>
          <p:cNvPr id="189" name=""/>
          <p:cNvSpPr/>
          <p:nvPr/>
        </p:nvSpPr>
        <p:spPr>
          <a:xfrm>
            <a:off x="720720" y="4680000"/>
            <a:ext cx="6119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6400" cy="3438720"/>
          </a:xfrm>
          <a:prstGeom prst="rect">
            <a:avLst/>
          </a:prstGeom>
          <a:ln w="0">
            <a:noFill/>
          </a:ln>
        </p:spPr>
      </p:sp>
      <p:sp>
        <p:nvSpPr>
          <p:cNvPr id="191" name=""/>
          <p:cNvSpPr/>
          <p:nvPr/>
        </p:nvSpPr>
        <p:spPr>
          <a:xfrm>
            <a:off x="720720" y="4680000"/>
            <a:ext cx="611676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6400" cy="3438720"/>
          </a:xfrm>
          <a:prstGeom prst="rect">
            <a:avLst/>
          </a:prstGeom>
          <a:ln w="0">
            <a:noFill/>
          </a:ln>
        </p:spPr>
      </p:sp>
      <p:sp>
        <p:nvSpPr>
          <p:cNvPr id="193" name=""/>
          <p:cNvSpPr/>
          <p:nvPr/>
        </p:nvSpPr>
        <p:spPr>
          <a:xfrm>
            <a:off x="720720" y="4680000"/>
            <a:ext cx="611676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4600" cy="3436920"/>
          </a:xfrm>
          <a:prstGeom prst="rect">
            <a:avLst/>
          </a:prstGeom>
          <a:ln w="0">
            <a:noFill/>
          </a:ln>
        </p:spPr>
      </p:sp>
      <p:sp>
        <p:nvSpPr>
          <p:cNvPr id="195" name=""/>
          <p:cNvSpPr/>
          <p:nvPr/>
        </p:nvSpPr>
        <p:spPr>
          <a:xfrm>
            <a:off x="720720" y="4680000"/>
            <a:ext cx="611496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6400" cy="3438720"/>
          </a:xfrm>
          <a:prstGeom prst="rect">
            <a:avLst/>
          </a:prstGeom>
          <a:ln w="0">
            <a:noFill/>
          </a:ln>
        </p:spPr>
      </p:sp>
      <p:sp>
        <p:nvSpPr>
          <p:cNvPr id="197" name=""/>
          <p:cNvSpPr/>
          <p:nvPr/>
        </p:nvSpPr>
        <p:spPr>
          <a:xfrm>
            <a:off x="720720" y="4680000"/>
            <a:ext cx="611676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4600" cy="3436920"/>
          </a:xfrm>
          <a:prstGeom prst="rect">
            <a:avLst/>
          </a:prstGeom>
          <a:ln w="0">
            <a:noFill/>
          </a:ln>
        </p:spPr>
      </p:sp>
      <p:sp>
        <p:nvSpPr>
          <p:cNvPr id="199" name=""/>
          <p:cNvSpPr/>
          <p:nvPr/>
        </p:nvSpPr>
        <p:spPr>
          <a:xfrm>
            <a:off x="720720" y="4680000"/>
            <a:ext cx="611496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6400" cy="3438720"/>
          </a:xfrm>
          <a:prstGeom prst="rect">
            <a:avLst/>
          </a:prstGeom>
          <a:ln w="0">
            <a:noFill/>
          </a:ln>
        </p:spPr>
      </p:sp>
      <p:sp>
        <p:nvSpPr>
          <p:cNvPr id="201" name=""/>
          <p:cNvSpPr/>
          <p:nvPr/>
        </p:nvSpPr>
        <p:spPr>
          <a:xfrm>
            <a:off x="720720" y="4680000"/>
            <a:ext cx="611676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0006-6FDD-4937-9B13-FFD2B104A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8812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800360"/>
            <a:ext cx="906156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84920"/>
            <a:ext cx="906156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D223-9972-4A99-8017-6AD80F58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8812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800360"/>
            <a:ext cx="44218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200" y="1800360"/>
            <a:ext cx="44218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84920"/>
            <a:ext cx="44218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200" y="4084920"/>
            <a:ext cx="44218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97F5-1531-40E3-9FD4-F7C821448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8812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800360"/>
            <a:ext cx="29174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800360"/>
            <a:ext cx="29174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0480" y="1800360"/>
            <a:ext cx="29174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84920"/>
            <a:ext cx="29174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084920"/>
            <a:ext cx="29174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0480" y="4084920"/>
            <a:ext cx="29174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259A-0F94-4588-917A-318767BDE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6764-5EA4-4F81-AD2E-00CDC5CAE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8812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800360"/>
            <a:ext cx="906156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D09B-6EEE-4BC9-9389-0FC31905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8812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800360"/>
            <a:ext cx="906156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56BD-7FCD-4172-8908-071DE5F6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8812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800360"/>
            <a:ext cx="44218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6200" y="1800360"/>
            <a:ext cx="44218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C031-0047-4442-B9EE-068291C6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8812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0273-A33E-4D9A-A428-EF3B3B57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2920" y="576000"/>
            <a:ext cx="718812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0CF1-359C-46F7-BA01-B2D2EC44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8812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800360"/>
            <a:ext cx="44218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6200" y="1800360"/>
            <a:ext cx="44218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20" y="4084920"/>
            <a:ext cx="44218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279A-0571-483F-8859-548E82B0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8812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800360"/>
            <a:ext cx="906156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F2AB-BD6A-4876-B322-E8B4748C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8812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800360"/>
            <a:ext cx="44218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6200" y="1800360"/>
            <a:ext cx="44218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6200" y="4084920"/>
            <a:ext cx="44218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2B29-0D42-43A0-8BC8-867DAA8C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8812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800360"/>
            <a:ext cx="44218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6200" y="1800360"/>
            <a:ext cx="44218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920" y="4084920"/>
            <a:ext cx="906156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1003-C00A-4FB6-8762-21A51FE3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8812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800360"/>
            <a:ext cx="906156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" y="4084920"/>
            <a:ext cx="906156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6C7E-98B5-49BC-8CA0-97CEC97D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8812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800360"/>
            <a:ext cx="44218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6200" y="1800360"/>
            <a:ext cx="44218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4084920"/>
            <a:ext cx="44218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46200" y="4084920"/>
            <a:ext cx="44218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CBA2-8B70-4C70-A51F-8F5825919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8812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800360"/>
            <a:ext cx="29174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66520" y="1800360"/>
            <a:ext cx="29174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0480" y="1800360"/>
            <a:ext cx="29174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920" y="4084920"/>
            <a:ext cx="29174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66520" y="4084920"/>
            <a:ext cx="29174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0480" y="4084920"/>
            <a:ext cx="29174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B5EC-1397-4BB2-9953-0DA46CE09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49A06-D1D5-4BB4-9254-A46157184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8812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2920" y="1800360"/>
            <a:ext cx="906156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06371-183E-4330-8CCF-899B1D23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8812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800360"/>
            <a:ext cx="906156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AFA79-2CF1-42EF-A4EC-18817C30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8812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800360"/>
            <a:ext cx="44218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46200" y="1800360"/>
            <a:ext cx="44218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C25D7-196A-43A7-9745-E6F0B77A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8812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07DB8-594D-4B36-B30C-86A9D1A1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8812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800360"/>
            <a:ext cx="906156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CAB8-55B7-4A91-9B5C-D7339BCC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02920" y="576000"/>
            <a:ext cx="718812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29EEF-7E98-436D-862F-332A5F21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8812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800360"/>
            <a:ext cx="44218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46200" y="1800360"/>
            <a:ext cx="44218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2920" y="4084920"/>
            <a:ext cx="44218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3FD1F-4617-4A7A-AA3A-4AC0F374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8812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800360"/>
            <a:ext cx="44218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46200" y="1800360"/>
            <a:ext cx="44218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46200" y="4084920"/>
            <a:ext cx="44218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4712F-61B3-41BD-B0F2-947C2A40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8812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800360"/>
            <a:ext cx="44218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46200" y="1800360"/>
            <a:ext cx="44218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2920" y="4084920"/>
            <a:ext cx="906156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11F69-7770-4E78-A992-FC09EA40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8812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800360"/>
            <a:ext cx="906156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2920" y="4084920"/>
            <a:ext cx="906156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335BB-2ADB-443F-8182-A81FDCB8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8812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2920" y="1800360"/>
            <a:ext cx="44218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46200" y="1800360"/>
            <a:ext cx="44218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2920" y="4084920"/>
            <a:ext cx="44218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46200" y="4084920"/>
            <a:ext cx="44218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DA541-8649-4BCF-8F64-BFD088A72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8812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920" y="1800360"/>
            <a:ext cx="29174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66520" y="1800360"/>
            <a:ext cx="29174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630480" y="1800360"/>
            <a:ext cx="29174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2920" y="4084920"/>
            <a:ext cx="29174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66520" y="4084920"/>
            <a:ext cx="29174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630480" y="4084920"/>
            <a:ext cx="29174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43159-4A6A-4CC1-96E9-72A038652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8812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800360"/>
            <a:ext cx="44218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200" y="1800360"/>
            <a:ext cx="44218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EBA8-FC31-4970-9109-40BFC8C8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8812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8A47-8807-4B6E-9DDD-3D5B803B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576000"/>
            <a:ext cx="718812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2665-DA62-47EA-B6ED-0DF333B9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8812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00360"/>
            <a:ext cx="44218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200" y="1800360"/>
            <a:ext cx="44218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84920"/>
            <a:ext cx="44218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DF29-3711-49CB-97E8-C4627C0A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8812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00360"/>
            <a:ext cx="44218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200" y="1800360"/>
            <a:ext cx="44218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200" y="4084920"/>
            <a:ext cx="44218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CE97-F1E4-4A58-A207-76A3D94E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8812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00360"/>
            <a:ext cx="44218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200" y="1800360"/>
            <a:ext cx="44218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84920"/>
            <a:ext cx="906156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3EA6-1CC3-45D7-9D9F-928E1F0B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31480"/>
            <a:ext cx="9048600" cy="13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4860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2560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7340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2596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E58B6-C72C-4501-897D-EA5217F0740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365040"/>
            <a:ext cx="717696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3280" y="1800360"/>
            <a:ext cx="9050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3280" y="6886080"/>
            <a:ext cx="232560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7340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080"/>
            <a:ext cx="232560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3D4A4-735A-4324-866A-CFC6370ED4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8812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02920" y="1800360"/>
            <a:ext cx="906156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367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845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225920" y="6886440"/>
            <a:ext cx="23367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28E7B-98B0-4E49-8D9D-A07853323C9B}" type="slidenum">
              <a:rPr b="0" lang="ru-RU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499680"/>
            <a:ext cx="7199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68000" y="22032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ибридный подход к моделированию средств обеспечения информационной безопасности Grid/Cloud-сист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сенин В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ганов В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нзинов А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И механики М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ы суперкомпьютерного моделир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руса, 2 октября 201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604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дактор конфигура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 fontScale="97000"/>
          </a:bodyPr>
          <a:p>
            <a:pPr marL="54180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Редактор конфигураций — это плагин SimGrid для среды разработки Eclip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180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Позволяеет работать с такими объектами, к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180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7120" indent="-53712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Автономные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7120" indent="-53712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Хо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7120" indent="-53712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Класт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7120" indent="-53712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Сетевые 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7120" indent="-53712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WenQuanYi Zen Hei"/>
              </a:rPr>
              <a:t>Сетевые маршру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E2B08-FFA2-48C3-B389-46B628F4818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 октября, 2014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4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дактор конфигура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866960" y="1800360"/>
            <a:ext cx="6548400" cy="475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8F89A-FCD5-4ADE-AB50-83B9F3336A2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 октября, 2014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604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дактор сценари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95280" y="1803240"/>
            <a:ext cx="7373880" cy="470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E3B8A-92E0-45AB-8EBC-7156D1E56605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 октября, 2014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604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ктивности и действ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2920" y="1800360"/>
            <a:ext cx="9069480" cy="438120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 fontScale="99000"/>
          </a:bodyPr>
          <a:p>
            <a:pPr marL="3394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ктивност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— набор взаимодействующих процессов, состоящих из действи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ейств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— Задание, Вирус, Flood-отправка пакетов, Запрос ВМ, и т.п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мер: активность «Insecure» состоит из действий вида «Bind» и «Virus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D3566-5EF6-4B72-9F63-8D11BEDC02D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 октября, 2014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4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рвер визуал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74800" y="1800360"/>
            <a:ext cx="6524640" cy="4379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518D3-2A60-49C2-AB13-522B664FE9AB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 октября, 2014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4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здание отчё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3280" y="1800000"/>
            <a:ext cx="906768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065320" y="1990800"/>
          <a:ext cx="6224400" cy="4493880"/>
        </p:xfrm>
        <a:graphic>
          <a:graphicData uri="http://schemas.openxmlformats.org/drawingml/2006/table">
            <a:tbl>
              <a:tblPr/>
              <a:tblGrid>
                <a:gridCol w="1036800"/>
                <a:gridCol w="1036800"/>
                <a:gridCol w="981360"/>
                <a:gridCol w="1092600"/>
                <a:gridCol w="1037160"/>
                <a:gridCol w="1039680"/>
              </a:tblGrid>
              <a:tr h="4474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фигур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a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ьц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ез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6224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выполненных зада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474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невыполненных зада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474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я успешных задач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.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474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«упавших» уз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BFA3E-6ECE-4095-87C1-C065464024B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 октября, 2014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604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ование A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2920" y="2087280"/>
            <a:ext cx="9069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овое действие = новый C-файл, состоящий из 3 функций: (init, mesg, tick) + новый Java-класс, описывающий необходимые параметры действ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овая активность = новое json-описание, состоящее из действ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0B9A2-ED47-4854-8D53-A7B89EE45F3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 октября, 2014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604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кспери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55872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872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ирус-атак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49536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истема обнаружения вторжений (СОВ) выключе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495360">
              <a:lnSpc>
                <a:spcPct val="98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В включе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FF2CA-5398-4A58-BD0F-FB001892BB8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 октября, 2014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604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кспери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636560" y="1800360"/>
            <a:ext cx="6801120" cy="489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0E217-689B-4EE8-9D95-5EBB5ED98C85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 октября, 2014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4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кспери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600200" y="1800360"/>
            <a:ext cx="6799320" cy="489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8B36F-4FE0-46DF-A1B8-81D1F534DA31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 октября, 2014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2920" y="1584000"/>
            <a:ext cx="9072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marL="21924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Цель: программная среда для моделирования Grid/Cloud-систе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ребовани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4240" indent="-136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оделирование Grid/Cloud-систем в различных режимах: штатная работа, работа в условиях атаки на систем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4240" indent="-136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оделирование средств защи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4240" indent="-136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пользование Натурного, Имитационного, Виртуального и Аналитического подходов к моделировани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4240" indent="-136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нтерактивное управление моделирование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4240" indent="-136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интерактивное проведение серий эксперимен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4240" indent="-136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здание отчё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4240" indent="-136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крытый исходный ко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4240" indent="-136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стота использова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13363-345F-4F0F-B56F-A582972D47B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 октября, 2014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1360" cy="7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нферен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6444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 fontScale="93000"/>
          </a:bodyPr>
          <a:p>
            <a:pPr marL="31896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Environment for Hybrid Simulation of Information Security Solutions for Grid and Cloud-system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4th International Conference on Simulation and Modeling Methodologies, Technologies and Applications (SIMULTECH 2014), Vienna, Austri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истема Натурного, Имитационного, Виртуального и Аналитического моделирования "НИВА" для исследования средств защиты информации в Grid/Cloud- системах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ЛОМОНОСОВСКИЕ ЧТЕНИЯ 2014, МГУ, Моск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BFF2F-EC54-47A0-BC7B-FFBB0F027E2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 октября, 2014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28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90662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 fontScale="95000"/>
          </a:bodyPr>
          <a:p>
            <a:pPr marL="32580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27400" indent="-527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здан прототип программной среды для моделирования Grid/Cloud-систе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27400" indent="-527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гко расширяемое AP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27400" indent="-527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ибридный подход моделирова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альнейшие исследова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27400" indent="-527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лучшение взаимодействия симулятор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27400" indent="-527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иск и изучение эффектов, связанных с взаимодействием симулятор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51E8F-5338-4577-A548-631A3F2E131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 октября, 2014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719460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503280" y="1800360"/>
            <a:ext cx="906768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6D6DD-B20E-44A4-83A4-A19FD6D781E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 октября, 2014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576360"/>
            <a:ext cx="71992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лан докл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47560" indent="-2062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7560"/>
                <a:tab algn="l" pos="652320"/>
                <a:tab algn="l" pos="1101600"/>
                <a:tab algn="l" pos="1550880"/>
                <a:tab algn="l" pos="2000160"/>
                <a:tab algn="l" pos="2449440"/>
                <a:tab algn="l" pos="2898720"/>
                <a:tab algn="l" pos="3348000"/>
                <a:tab algn="l" pos="3797280"/>
                <a:tab algn="l" pos="4246560"/>
                <a:tab algn="l" pos="4695840"/>
                <a:tab algn="l" pos="5145120"/>
                <a:tab algn="l" pos="5594400"/>
                <a:tab algn="l" pos="6043680"/>
                <a:tab algn="l" pos="6492960"/>
                <a:tab algn="l" pos="6942240"/>
                <a:tab algn="l" pos="7391520"/>
                <a:tab algn="l" pos="7840800"/>
                <a:tab algn="l" pos="8290080"/>
                <a:tab algn="l" pos="8739360"/>
                <a:tab algn="l" pos="9188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ующие системы модел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2062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7560"/>
                <a:tab algn="l" pos="652320"/>
                <a:tab algn="l" pos="1101600"/>
                <a:tab algn="l" pos="1550880"/>
                <a:tab algn="l" pos="2000160"/>
                <a:tab algn="l" pos="2449440"/>
                <a:tab algn="l" pos="2898720"/>
                <a:tab algn="l" pos="3348000"/>
                <a:tab algn="l" pos="3797280"/>
                <a:tab algn="l" pos="4246560"/>
                <a:tab algn="l" pos="4695840"/>
                <a:tab algn="l" pos="5145120"/>
                <a:tab algn="l" pos="5594400"/>
                <a:tab algn="l" pos="6043680"/>
                <a:tab algn="l" pos="6492960"/>
                <a:tab algn="l" pos="6942240"/>
                <a:tab algn="l" pos="7391520"/>
                <a:tab algn="l" pos="7840800"/>
                <a:tab algn="l" pos="8290080"/>
                <a:tab algn="l" pos="8739360"/>
                <a:tab algn="l" pos="9188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ходы к моделиров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2062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7560"/>
                <a:tab algn="l" pos="652320"/>
                <a:tab algn="l" pos="1101600"/>
                <a:tab algn="l" pos="1550880"/>
                <a:tab algn="l" pos="2000160"/>
                <a:tab algn="l" pos="2449440"/>
                <a:tab algn="l" pos="2898720"/>
                <a:tab algn="l" pos="3348000"/>
                <a:tab algn="l" pos="3797280"/>
                <a:tab algn="l" pos="4246560"/>
                <a:tab algn="l" pos="4695840"/>
                <a:tab algn="l" pos="5145120"/>
                <a:tab algn="l" pos="5594400"/>
                <a:tab algn="l" pos="6043680"/>
                <a:tab algn="l" pos="6492960"/>
                <a:tab algn="l" pos="6942240"/>
                <a:tab algn="l" pos="7391520"/>
                <a:tab algn="l" pos="7840800"/>
                <a:tab algn="l" pos="8290080"/>
                <a:tab algn="l" pos="8739360"/>
                <a:tab algn="l" pos="9188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ртуальное модел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2062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7560"/>
                <a:tab algn="l" pos="652320"/>
                <a:tab algn="l" pos="1101600"/>
                <a:tab algn="l" pos="1550880"/>
                <a:tab algn="l" pos="2000160"/>
                <a:tab algn="l" pos="2449440"/>
                <a:tab algn="l" pos="2898720"/>
                <a:tab algn="l" pos="3348000"/>
                <a:tab algn="l" pos="3797280"/>
                <a:tab algn="l" pos="4246560"/>
                <a:tab algn="l" pos="4695840"/>
                <a:tab algn="l" pos="5145120"/>
                <a:tab algn="l" pos="5594400"/>
                <a:tab algn="l" pos="6043680"/>
                <a:tab algn="l" pos="6492960"/>
                <a:tab algn="l" pos="6942240"/>
                <a:tab algn="l" pos="7391520"/>
                <a:tab algn="l" pos="7840800"/>
                <a:tab algn="l" pos="8290080"/>
                <a:tab algn="l" pos="8739360"/>
                <a:tab algn="l" pos="9188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бридное модел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2062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7560"/>
                <a:tab algn="l" pos="652320"/>
                <a:tab algn="l" pos="1101600"/>
                <a:tab algn="l" pos="1550880"/>
                <a:tab algn="l" pos="2000160"/>
                <a:tab algn="l" pos="2449440"/>
                <a:tab algn="l" pos="2898720"/>
                <a:tab algn="l" pos="3348000"/>
                <a:tab algn="l" pos="3797280"/>
                <a:tab algn="l" pos="4246560"/>
                <a:tab algn="l" pos="4695840"/>
                <a:tab algn="l" pos="5145120"/>
                <a:tab algn="l" pos="5594400"/>
                <a:tab algn="l" pos="6043680"/>
                <a:tab algn="l" pos="6492960"/>
                <a:tab algn="l" pos="6942240"/>
                <a:tab algn="l" pos="7391520"/>
                <a:tab algn="l" pos="7840800"/>
                <a:tab algn="l" pos="8290080"/>
                <a:tab algn="l" pos="8739360"/>
                <a:tab algn="l" pos="9188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оненты программной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2062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7560"/>
                <a:tab algn="l" pos="652320"/>
                <a:tab algn="l" pos="1101600"/>
                <a:tab algn="l" pos="1550880"/>
                <a:tab algn="l" pos="2000160"/>
                <a:tab algn="l" pos="2449440"/>
                <a:tab algn="l" pos="2898720"/>
                <a:tab algn="l" pos="3348000"/>
                <a:tab algn="l" pos="3797280"/>
                <a:tab algn="l" pos="4246560"/>
                <a:tab algn="l" pos="4695840"/>
                <a:tab algn="l" pos="5145120"/>
                <a:tab algn="l" pos="5594400"/>
                <a:tab algn="l" pos="6043680"/>
                <a:tab algn="l" pos="6492960"/>
                <a:tab algn="l" pos="6942240"/>
                <a:tab algn="l" pos="7391520"/>
                <a:tab algn="l" pos="7840800"/>
                <a:tab algn="l" pos="8290080"/>
                <a:tab algn="l" pos="8739360"/>
                <a:tab algn="l" pos="9188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ери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9043B-ABED-4C32-9C5B-6C728D08F81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 октября, 2014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604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уществующие подх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2920" y="2160720"/>
            <a:ext cx="9069480" cy="438120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инство существующих систем моделирования основаны на дискретно-событийном подход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8720" indent="0" algn="ctr">
              <a:lnSpc>
                <a:spcPct val="98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im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GridS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loudS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7280" indent="0">
              <a:lnSpc>
                <a:spcPct val="98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бридное моделирование широко используется в научных исследованиях: космическая индустрия, промышленность, и 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02712-4D0D-4438-8A8F-AA9817190D3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 октября, 2014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604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дел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2920" y="1979280"/>
            <a:ext cx="9069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тур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позволяет оценивать вычислительную эффективность реальных узлов и взаимодействие устрой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алитическ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позволяет моделировать большие системы с использованием вероятностных мод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55806-BB55-4D88-9BC0-96EE9F73DCE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 октября, 2014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4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дел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906768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скретно-событий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позволяет оценивать поведение значительного числа Grid/Cloud-узлов, а также последствия возможных атак и динамику распространения виру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ртуаль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позволяет проводить эксперименты с дистрибутивами ОС, оценивать совместимость ПО, и проводить эффективное тестирование известных уязвим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24787-6C41-4EA8-9392-A0D53760171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 октября, 2014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604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иртуальное модел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2920" y="1800360"/>
            <a:ext cx="9069480" cy="438120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 fontScale="94000"/>
          </a:bodyPr>
          <a:p>
            <a:pPr marL="32220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ртуальный симулятор основан на кросс-платформенной библиотеке libvirt, написан на языке Pyth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 шага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20560" indent="-52056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вёртывание виртуальных машин в соответствии с конфигурацией систе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20560" indent="-52056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пуск ВМ с сетевым сервисом для выполнения коман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20560" indent="-52056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цесс моделирова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20560" indent="-52056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тановка ВМ и удаление временных файлов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4A9F0-E4DC-4F23-A649-F5770E6FF5C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 октября, 2014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4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ибридное модел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3280" y="1800360"/>
            <a:ext cx="906768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55872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 indent="-5540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WenQuanYi Zen Hei"/>
              </a:rPr>
              <a:t>SimGrid используется в качестве базового симулято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040" indent="-5540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WenQuanYi Zen Hei"/>
              </a:rPr>
              <a:t>Время SimGrid = реальное врем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040" indent="-5540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WenQuanYi Zen Hei"/>
              </a:rPr>
              <a:t>Каждый узел имеет своё имитационное представление в SimGr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F44FE-13D3-4AAF-B554-4E4DCBD939B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 октября, 2014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2920" y="576000"/>
            <a:ext cx="7194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ибридное модел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309680" y="2303640"/>
            <a:ext cx="6595920" cy="38764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огика взаимодействия симулятор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A6E71-6191-446A-86CD-CFC0A2FA96E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2 октября, 2014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13:48:31Z</dcterms:created>
  <dc:creator/>
  <dc:description/>
  <dc:language>en-US</dc:language>
  <cp:lastModifiedBy/>
  <dcterms:modified xsi:type="dcterms:W3CDTF">2014-08-30T10:54:47Z</dcterms:modified>
  <cp:revision>6</cp:revision>
  <dc:subject/>
  <dc:title/>
</cp:coreProperties>
</file>