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wmf" ContentType="image/x-wmf"/>
  <Override PartName="/ppt/media/image98.png" ContentType="image/png"/>
  <Override PartName="/ppt/media/image54.wmf" ContentType="image/x-wmf"/>
  <Override PartName="/ppt/media/image53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0.wmf" ContentType="image/x-wmf"/>
  <Override PartName="/ppt/media/image18.png" ContentType="image/png"/>
  <Override PartName="/ppt/media/image6.png" ContentType="image/png"/>
  <Override PartName="/ppt/media/image41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0.png" ContentType="image/png"/>
  <Override PartName="/ppt/media/image44.png" ContentType="image/png"/>
  <Override PartName="/ppt/media/image13.jpeg" ContentType="image/jpe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48.png" ContentType="image/png"/>
  <Override PartName="/ppt/media/image11.png" ContentType="image/png"/>
  <Override PartName="/ppt/media/image79.wmf" ContentType="image/x-wmf"/>
  <Override PartName="/ppt/media/image57.png" ContentType="image/png"/>
  <Override PartName="/ppt/media/image20.png" ContentType="image/png"/>
  <Override PartName="/ppt/media/image88.wmf" ContentType="image/x-wmf"/>
  <Override PartName="/ppt/media/image32.wmf" ContentType="image/x-wmf"/>
  <Override PartName="/ppt/media/image101.jpeg" ContentType="image/jpeg"/>
  <Override PartName="/ppt/media/image29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69.png" ContentType="image/png"/>
  <Override PartName="/ppt/media/image2.png" ContentType="image/png"/>
  <Override PartName="/ppt/media/image71.png" ContentType="image/png"/>
  <Override PartName="/ppt/media/image72.png" ContentType="image/png"/>
  <Override PartName="/ppt/media/image97.jpeg" ContentType="image/jpeg"/>
  <Override PartName="/ppt/media/image73.png" ContentType="image/png"/>
  <Override PartName="/ppt/media/image75.wmf" ContentType="image/x-wmf"/>
  <Override PartName="/ppt/media/image76.wmf" ContentType="image/x-wmf"/>
  <Override PartName="/ppt/media/image77.wmf" ContentType="image/x-wmf"/>
  <Override PartName="/ppt/media/image102.png" ContentType="image/png"/>
  <Override PartName="/ppt/media/image7.jpeg" ContentType="image/jpeg"/>
  <Override PartName="/ppt/media/image16.png" ContentType="image/png"/>
  <Override PartName="/ppt/media/image67.png" ContentType="image/png"/>
  <Override PartName="/ppt/media/image87.wmf" ContentType="image/x-wmf"/>
  <Override PartName="/ppt/media/image100.wmf" ContentType="image/x-wmf"/>
  <Override PartName="/ppt/media/image64.png" ContentType="image/png"/>
  <Override PartName="/ppt/media/image15.jpeg" ContentType="image/jpeg"/>
  <Override PartName="/ppt/media/image99.png" ContentType="image/png"/>
  <Override PartName="/ppt/media/image62.png" ContentType="image/png"/>
  <Override PartName="/ppt/media/image86.wmf" ContentType="image/x-wmf"/>
  <Override PartName="/ppt/media/image96.wmf" ContentType="image/x-wmf"/>
  <Override PartName="/ppt/media/image95.wmf" ContentType="image/x-wmf"/>
  <Override PartName="/ppt/media/image93.jpeg" ContentType="image/jpeg"/>
  <Override PartName="/ppt/media/image63.png" ContentType="image/png"/>
  <Override PartName="/ppt/media/image83.wmf" ContentType="image/x-wmf"/>
  <Override PartName="/ppt/media/image74.wmf" ContentType="image/x-wmf"/>
  <Override PartName="/ppt/media/image89.png" ContentType="image/png"/>
  <Override PartName="/ppt/media/image65.png" ContentType="image/png"/>
  <Override PartName="/ppt/media/image85.wmf" ContentType="image/x-wmf"/>
  <Override PartName="/ppt/media/image82.wmf" ContentType="image/x-wmf"/>
  <Override PartName="/ppt/media/image81.wmf" ContentType="image/x-wmf"/>
  <Override PartName="/ppt/media/image61.wmf" ContentType="image/x-wmf"/>
  <Override PartName="/ppt/media/image21.png" ContentType="image/png"/>
  <Override PartName="/ppt/media/image60.wmf" ContentType="image/x-wmf"/>
  <Override PartName="/ppt/media/image92.png" ContentType="image/png"/>
  <Override PartName="/ppt/media/image27.png" ContentType="image/png"/>
  <Override PartName="/ppt/media/image23.wmf" ContentType="image/x-wmf"/>
  <Override PartName="/ppt/media/image66.png" ContentType="image/png"/>
  <Override PartName="/ppt/media/image22.png" ContentType="image/png"/>
  <Override PartName="/ppt/media/image58.png" ContentType="image/png"/>
  <Override PartName="/ppt/media/image80.wmf" ContentType="image/x-wmf"/>
  <Override PartName="/ppt/media/image38.wmf" ContentType="image/x-wmf"/>
  <Override PartName="/ppt/media/image84.png" ContentType="image/png"/>
  <Override PartName="/ppt/media/image19.png" ContentType="image/png"/>
  <Override PartName="/ppt/media/image59.wmf" ContentType="image/x-wmf"/>
  <Override PartName="/ppt/media/image17.png" ContentType="image/png"/>
  <Override PartName="/ppt/media/image24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90.png" ContentType="image/png"/>
  <Override PartName="/ppt/media/image25.png" ContentType="image/png"/>
  <Override PartName="/ppt/media/image5.jpeg" ContentType="image/jpe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37472-FDA9-4521-BF12-941C9406E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24E81F-CA18-4972-8B95-55E9892D35B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561CA4-5B14-487F-B22C-09AD122125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66A4E7-7E1E-496C-BD03-D74D790CAA6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9E76FC-F095-4509-948F-745FB42FA9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F116D0-2E9F-4231-845E-8775E60C254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B0175F-8611-4D6B-BBEA-2EA9C8F203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AB8068-EE0D-40BB-9F28-BFEDC3B5CE5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1F4C9E-DA5A-4F93-9C50-8A397514120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5DE5F7-8AA5-4919-BBC4-91928CB16B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DDC4EA-BD96-428D-A7C1-FB26C9159FC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C98452-BC30-4DD3-B691-11738A9B63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3D452-2714-4547-B90F-9963E71D00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EA4CE-DD36-4F8A-AA78-D03348E3677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87E8FB-80DC-4945-BA44-805E84D14BE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837F20-4ECB-466F-85AD-9E557E8C031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3163B1-B400-454B-A096-7BFB112749B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3FF139-0833-4B92-AD7A-504BC12734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349-3B57-4D53-AD5E-B424B521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4B3-DDF6-4F29-A3B6-4A6397B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575-B0E8-4FDB-A9B6-F28C208C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61352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54088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161352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254088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847-84AE-4174-9BAB-92260985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3743-7008-46DD-B4ED-58955F62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36C-E3C1-44D8-B329-62A202B5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739-0E27-4D45-AE53-51B72251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78CE-10A0-4181-B13F-AC2F003A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488A-DCCD-405D-8125-666FB584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274284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6B66-F4C0-4E99-9CB1-D691ED55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348-ECA9-40E2-85EE-A220A44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CAB-4D90-4819-BFDF-0DF6178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5485-4434-4415-8B86-F1C37B7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C6E-4DFF-4B4C-891D-3D4D9EC0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187-B1E5-4B7E-BA00-4DE644FE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0A9A-A8D2-4618-82EF-B59B0518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1352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4088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161352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254088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0BD-3B73-400D-8A79-7545BF12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6189-90A6-4D30-A828-7C04A88F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B47B2-FA8F-41B8-9642-DC3BF83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CB48-8587-434B-9F90-C4615C4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CD36-229E-4853-995E-4FB3FB2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4C36-5B3B-4F8D-AF02-E023E76B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DB7-40B5-460B-9FD6-AC1D78E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274284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E1A5-9F41-4947-AF2E-BBAE745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D55F-0761-4045-91C3-03F0555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2758-847B-4465-8D5C-DAAAE0B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2C2D-CADC-4F37-87E2-80A7290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BAFC-8F50-4825-BE02-7A80E25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B5B8-E2F4-4BE7-8D34-3E00B3F8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61352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40880" y="167652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61352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540880" y="4064760"/>
            <a:ext cx="8830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0FEF-45E7-44D5-847C-881B376B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5FE-3CBC-4F0A-BBC0-A991B0F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C56-E82E-4225-9BEC-69143231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14440"/>
            <a:ext cx="274284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95F-1A2E-463A-8360-D4D6A041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C70-D169-4DF8-9454-365913D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91600" y="406476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16B5-A8A0-419B-B541-B773610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6280"/>
            <a:ext cx="2742840" cy="14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91600" y="1676520"/>
            <a:ext cx="13384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2742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EA4-4146-4867-A43A-B6364315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13C656-35E5-403C-97CE-92BC3E5E5DAF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284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6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274284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3575160" y="1676520"/>
            <a:ext cx="511128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6240">
              <a:lnSpc>
                <a:spcPct val="100000"/>
              </a:lnSpc>
              <a:spcBef>
                <a:spcPts val="51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79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869D4A-3887-406B-9FF5-95F1586340B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олилиния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Полилиния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Группа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96" name="Полилиния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Полилиния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62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B663C2-98F1-4D52-AEEE-5F79E071DC1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6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7.wmf"/><Relationship Id="rId1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wmf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wmf"/><Relationship Id="rId7" Type="http://schemas.openxmlformats.org/officeDocument/2006/relationships/image" Target="../media/image55.wmf"/><Relationship Id="rId8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66.png"/><Relationship Id="rId11" Type="http://schemas.openxmlformats.org/officeDocument/2006/relationships/image" Target="../media/image67.png"/><Relationship Id="rId1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84.png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89.png"/><Relationship Id="rId5" Type="http://schemas.openxmlformats.org/officeDocument/2006/relationships/image" Target="../media/image90.png"/><Relationship Id="rId6" Type="http://schemas.openxmlformats.org/officeDocument/2006/relationships/image" Target="../media/image91.png"/><Relationship Id="rId7" Type="http://schemas.openxmlformats.org/officeDocument/2006/relationships/image" Target="../media/image9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96.wmf"/><Relationship Id="rId5" Type="http://schemas.openxmlformats.org/officeDocument/2006/relationships/image" Target="../media/image97.jpe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00.wmf"/><Relationship Id="rId5" Type="http://schemas.openxmlformats.org/officeDocument/2006/relationships/image" Target="../media/image101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ftr" idx="13"/>
          </p:nvPr>
        </p:nvSpPr>
        <p:spPr>
          <a:xfrm>
            <a:off x="4140000" y="6597360"/>
            <a:ext cx="858600" cy="2602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Москва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1280" y="1857240"/>
            <a:ext cx="8786520" cy="566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ffffff"/>
                </a:solidFill>
                <a:latin typeface="Constantia"/>
              </a:rPr>
              <a:t>Методика оценки долговременной эволюции техногенного засорения низких околоземных орбит при реализации активного удаления космического мус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2357280" y="714240"/>
            <a:ext cx="785448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одзаголовок 2"/>
          <p:cNvSpPr/>
          <p:nvPr/>
        </p:nvSpPr>
        <p:spPr>
          <a:xfrm>
            <a:off x="3636000" y="6021360"/>
            <a:ext cx="1923840" cy="52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совик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1643040" y="685800"/>
            <a:ext cx="6786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осковский авиационный инсти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Прямая соединительная линия 13"/>
          <p:cNvCxnSpPr/>
          <p:nvPr/>
        </p:nvCxnSpPr>
        <p:spPr>
          <a:xfrm>
            <a:off x="1643040" y="1125360"/>
            <a:ext cx="678672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51" name="Text Box 14"/>
          <p:cNvSpPr/>
          <p:nvPr/>
        </p:nvSpPr>
        <p:spPr>
          <a:xfrm>
            <a:off x="1571760" y="1143000"/>
            <a:ext cx="69289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(национальный исследовательский университе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F:\шкоьники\1269194280_mai80_inside.png"/>
          <p:cNvPicPr/>
          <p:nvPr/>
        </p:nvPicPr>
        <p:blipFill>
          <a:blip r:embed="rId1"/>
          <a:stretch/>
        </p:blipFill>
        <p:spPr>
          <a:xfrm>
            <a:off x="142920" y="357120"/>
            <a:ext cx="1428480" cy="137592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2699640" y="3285000"/>
            <a:ext cx="3839760" cy="2831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28648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Num" idx="2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8B969-B2AF-4657-9124-6B968D45C29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62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64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65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Прогноз без учета активного уда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4"/>
          <a:stretch/>
        </p:blipFill>
        <p:spPr>
          <a:xfrm>
            <a:off x="214200" y="1714320"/>
            <a:ext cx="3718800" cy="242856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5"/>
          <a:stretch/>
        </p:blipFill>
        <p:spPr>
          <a:xfrm>
            <a:off x="214200" y="4110120"/>
            <a:ext cx="3754800" cy="2747520"/>
          </a:xfrm>
          <a:prstGeom prst="rect">
            <a:avLst/>
          </a:prstGeom>
          <a:ln w="9525">
            <a:noFill/>
          </a:ln>
        </p:spPr>
      </p:pic>
      <p:pic>
        <p:nvPicPr>
          <p:cNvPr id="268" name="Рисунок 136" descr="PHD_0_200"/>
          <p:cNvPicPr/>
          <p:nvPr/>
        </p:nvPicPr>
        <p:blipFill>
          <a:blip r:embed="rId6"/>
          <a:stretch/>
        </p:blipFill>
        <p:spPr>
          <a:xfrm>
            <a:off x="4500720" y="2714760"/>
            <a:ext cx="4098240" cy="30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Num" idx="2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5AD9A5-CBF4-4617-A632-83E9565001D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71" name="Заголовок 5"/>
          <p:cNvSpPr/>
          <p:nvPr/>
        </p:nvSpPr>
        <p:spPr>
          <a:xfrm>
            <a:off x="78588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73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1676520"/>
            <a:ext cx="5214600" cy="3109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перспективных методов стыковки в настоящее время выделяют: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роботизированного манипулятора,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хват сетью,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хват гарпуном,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танционное воздействие пучком ионов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оздания управляющих сил предлагается использовать различные активные (ДУ) и пассивные устройства (надувные баллоны, солнечные паруса и т. п.)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Рисунок 10" descr=""/>
          <p:cNvPicPr/>
          <p:nvPr/>
        </p:nvPicPr>
        <p:blipFill>
          <a:blip r:embed="rId4"/>
          <a:stretch/>
        </p:blipFill>
        <p:spPr>
          <a:xfrm>
            <a:off x="6000840" y="3857760"/>
            <a:ext cx="2888280" cy="1928520"/>
          </a:xfrm>
          <a:prstGeom prst="rect">
            <a:avLst/>
          </a:prstGeom>
          <a:ln w="9525">
            <a:noFill/>
          </a:ln>
        </p:spPr>
      </p:pic>
      <p:pic>
        <p:nvPicPr>
          <p:cNvPr id="276" name="Рисунок 11" descr=""/>
          <p:cNvPicPr/>
          <p:nvPr/>
        </p:nvPicPr>
        <p:blipFill>
          <a:blip r:embed="rId5"/>
          <a:stretch/>
        </p:blipFill>
        <p:spPr>
          <a:xfrm>
            <a:off x="6143760" y="1857240"/>
            <a:ext cx="1499760" cy="1999800"/>
          </a:xfrm>
          <a:prstGeom prst="rect">
            <a:avLst/>
          </a:prstGeom>
          <a:ln w="9525">
            <a:noFill/>
          </a:ln>
        </p:spPr>
      </p:pic>
      <p:pic>
        <p:nvPicPr>
          <p:cNvPr id="277" name="Рисунок 12" descr=""/>
          <p:cNvPicPr/>
          <p:nvPr/>
        </p:nvPicPr>
        <p:blipFill>
          <a:blip r:embed="rId6"/>
          <a:srcRect l="63074" t="0" r="0" b="0"/>
          <a:stretch/>
        </p:blipFill>
        <p:spPr>
          <a:xfrm>
            <a:off x="7643880" y="1714320"/>
            <a:ext cx="1044720" cy="2171520"/>
          </a:xfrm>
          <a:prstGeom prst="rect">
            <a:avLst/>
          </a:prstGeom>
          <a:ln w="9525">
            <a:noFill/>
          </a:ln>
        </p:spPr>
      </p:pic>
      <p:pic>
        <p:nvPicPr>
          <p:cNvPr id="278" name="Рисунок 13" descr=""/>
          <p:cNvPicPr/>
          <p:nvPr/>
        </p:nvPicPr>
        <p:blipFill>
          <a:blip r:embed="rId7"/>
          <a:stretch/>
        </p:blipFill>
        <p:spPr>
          <a:xfrm>
            <a:off x="1214280" y="4786200"/>
            <a:ext cx="3423240" cy="1782000"/>
          </a:xfrm>
          <a:prstGeom prst="rect">
            <a:avLst/>
          </a:prstGeom>
          <a:ln w="9525">
            <a:noFill/>
          </a:ln>
        </p:spPr>
      </p:pic>
      <p:sp>
        <p:nvSpPr>
          <p:cNvPr id="279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Перспективные методы активного удаления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5869800" y="5857920"/>
            <a:ext cx="3035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спективные методы удаления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57120" y="157176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остижения поставленной цели необходимо решить следующие взаимосвязанные задачи исследований в работе: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разработать методику оценки долговременной эволюции техногенного засорения низких околоземных орбит при реализации активного удаления космического мусора на основе раздельного моделирования и статистической модели КМ;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формировать набор частных математических моделей космического мусора и модифицировать для использования в методике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разработать программно-математическое обеспечение для оценки долговременной эволюции техногенного засорения низких околоземных орбит при реализации активного удаления космического мусора для объектов размером более 10 см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провести оценку долговременной эволюции техногенного засорения низких околоземных орбит объектами размером более 10 см для различных сценариев, сравнительный анализ результатов для подтверждения работоспособности методики и программно-математического обеспечения. Выявить области низких околоземных орбит, для которых активное удаление космического мусора наиболее актуально в будущем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Num" idx="24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8C8A52-F280-40CA-BF94-3DAC556E1C5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8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8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86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настоящее врем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решения задачи оценки эволюции техногенного засорения с учетом взаимных столкновений и активного удаления космического мусора и используется методика, основанная на применении «поштучного» описания космических объектов и моделирования с использованием метода Монте-Карло.   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учетом современных вычислительных мощностей использование данной методики позволяет решать данную задачу, однако для набора статистики одно вычисление долгосрочного прогноза может занимать до 2-х суток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честве альтернативы, предлагается разработать методику оценки эволюции техногенного засорения с учетом активного удаления космического мусора на основе отечественной статистической модели космического мусор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P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разработанной А.И.Назаренко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Num" idx="2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99D789-6BB6-4B80-AB46-B0FB37641EE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90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91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92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Возможные методы решения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Содержимое 5" descr="G:\Диссертация\Картинки\2013 г. обработка каталога\emf\Мусор.png"/>
          <p:cNvPicPr/>
          <p:nvPr/>
        </p:nvPicPr>
        <p:blipFill>
          <a:blip r:embed="rId4"/>
          <a:srcRect l="0" t="0" r="0" b="1696"/>
          <a:stretch/>
        </p:blipFill>
        <p:spPr>
          <a:xfrm>
            <a:off x="1143000" y="4429080"/>
            <a:ext cx="2857320" cy="235692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pic>
        <p:nvPicPr>
          <p:cNvPr id="294" name="Picture 1" descr="HighShir2012"/>
          <p:cNvPicPr/>
          <p:nvPr/>
        </p:nvPicPr>
        <p:blipFill>
          <a:blip r:embed="rId5"/>
          <a:srcRect l="3696" t="0" r="2589" b="2709"/>
          <a:stretch/>
        </p:blipFill>
        <p:spPr>
          <a:xfrm>
            <a:off x="4714920" y="4572000"/>
            <a:ext cx="353736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Модель космического мусор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писания техногенного засорения будем использовать следующие распределения: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P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P(U)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ределения объектов по долготе восходящего узла, аргументу перицентра и аргументу широты с достаточной точностью можно считать равномерно распределенными на интервале от 0 до 360 град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h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), P(h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b)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мерны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ределения объектов по высоте перигея, эксцентриситету, наклонениям и значениям баллистического коэффициента. Исследования показали, что для области НО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данных распределений достаточно для решения различных прикладных задач, связанных с оценкой и прогнозом техногенного засорения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80496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,S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ость концентрации объектов от высоты и широты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804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(Vr), P(Vt), P(Az,h,Sh)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диальной, тангенциальной скорости и азимутальное распределение направления тангенциальной скорости в зависимости от высоты и широты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691955-F35C-4E71-ADD4-DD79B7E6F6D1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99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0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Эволюционное уравнение прогноза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распределения КМ по высоте периге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Num" idx="2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22E422-F48B-40B1-A1DB-393A5213CE6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0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6378480" y="3857760"/>
            <a:ext cx="2503440" cy="285480"/>
          </a:xfrm>
          <a:prstGeom prst="rect">
            <a:avLst/>
          </a:prstGeom>
          <a:ln w="9525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5"/>
          <a:stretch/>
        </p:blipFill>
        <p:spPr>
          <a:xfrm>
            <a:off x="6048360" y="1928880"/>
            <a:ext cx="3095280" cy="1856880"/>
          </a:xfrm>
          <a:prstGeom prst="rect">
            <a:avLst/>
          </a:prstGeom>
          <a:ln w="9525">
            <a:noFill/>
          </a:ln>
        </p:spPr>
      </p:pic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1935000"/>
            <a:ext cx="561456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рисунке  представлены значения распределения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и двух значениях аргумен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Δ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Количество объектов в этом интервале высот перигея равно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им, что произойдет с распределением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t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через некоторое время, а именно в момент времен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Δ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ь объектов в окрестности высот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низится настолько, что их высота перигея станет меньше высот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ь объектов в окрестности высоты 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Δ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низится настолько, что их высота перигея станет меньше высот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+Δ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запусков и последствий разрушений добавляются КО. Количество этих объектов равно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оличество объектов в рассматриваемом интервале высот перигея в момент времени 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i="1" lang="ru-RU" sz="1400" spc="-1" strike="noStrike">
                <a:solidFill>
                  <a:srgbClr val="000000"/>
                </a:solidFill>
                <a:latin typeface="Constantia"/>
              </a:rPr>
              <a:t>+Δ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3286080" y="2500200"/>
          <a:ext cx="1928520" cy="32976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86080" y="2500200"/>
                    <a:ext cx="1928520" cy="32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3"/>
          <p:cNvGraphicFramePr/>
          <p:nvPr/>
        </p:nvGraphicFramePr>
        <p:xfrm>
          <a:off x="2928960" y="3786120"/>
          <a:ext cx="3053520" cy="35676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28960" y="3786120"/>
                    <a:ext cx="305352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"/>
          <p:cNvGraphicFramePr/>
          <p:nvPr/>
        </p:nvGraphicFramePr>
        <p:xfrm>
          <a:off x="2928960" y="4500720"/>
          <a:ext cx="3928680" cy="35676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28960" y="4500720"/>
                    <a:ext cx="392868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3000240" y="5286240"/>
          <a:ext cx="2857320" cy="339840"/>
        </p:xfrm>
        <a:graphic>
          <a:graphicData uri="http://schemas.openxmlformats.org/presentationml/2006/ole">
            <p:oleObj progId="Equation.3" r:id="rId12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00240" y="5286240"/>
                    <a:ext cx="28573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714240" y="6072120"/>
          <a:ext cx="6071760" cy="348840"/>
        </p:xfrm>
        <a:graphic>
          <a:graphicData uri="http://schemas.openxmlformats.org/presentationml/2006/ole">
            <p:oleObj progId="Equation.3" r:id="rId14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4240" y="6072120"/>
                    <a:ext cx="6071760" cy="34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7"/>
          <p:cNvGraphicFramePr/>
          <p:nvPr/>
        </p:nvGraphicFramePr>
        <p:xfrm>
          <a:off x="6500880" y="5072040"/>
          <a:ext cx="2406960" cy="571320"/>
        </p:xfrm>
        <a:graphic>
          <a:graphicData uri="http://schemas.openxmlformats.org/presentationml/2006/ole">
            <p:oleObj progId="Equation.3" r:id="rId16" spid="">
              <p:embed/>
              <p:pic>
                <p:nvPicPr>
                  <p:cNvPr id="320" name="Object 7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500880" y="5072040"/>
                    <a:ext cx="2406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Определение скорости снижения высоты периге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Num" idx="2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0F13B-8A51-49A1-AFD1-26BD42739AD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2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2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1935000"/>
            <a:ext cx="840060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792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расчета плотности верхней атмосферы используем модель из ГОСТ Р 25645.166-2004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792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792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792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описания циклов солнечной активности используется модель из ГОСТ 25645.302-83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7" name="Object 8"/>
          <p:cNvGraphicFramePr/>
          <p:nvPr/>
        </p:nvGraphicFramePr>
        <p:xfrm>
          <a:off x="571320" y="2000160"/>
          <a:ext cx="7786440" cy="72648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320" y="2000160"/>
                    <a:ext cx="7786440" cy="7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11"/>
          <p:cNvGraphicFramePr/>
          <p:nvPr/>
        </p:nvGraphicFramePr>
        <p:xfrm>
          <a:off x="571320" y="2786040"/>
          <a:ext cx="7885080" cy="64260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330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320" y="2786040"/>
                    <a:ext cx="788508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12"/>
          <p:cNvGraphicFramePr/>
          <p:nvPr/>
        </p:nvGraphicFramePr>
        <p:xfrm>
          <a:off x="571320" y="3500280"/>
          <a:ext cx="5070240" cy="92844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320" y="3500280"/>
                    <a:ext cx="507024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14" descr=""/>
          <p:cNvPicPr/>
          <p:nvPr/>
        </p:nvPicPr>
        <p:blipFill>
          <a:blip r:embed="rId10"/>
          <a:stretch/>
        </p:blipFill>
        <p:spPr>
          <a:xfrm>
            <a:off x="3357720" y="4857840"/>
            <a:ext cx="2561760" cy="237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"/>
          <p:cNvPicPr/>
          <p:nvPr/>
        </p:nvPicPr>
        <p:blipFill>
          <a:blip r:embed="rId11"/>
          <a:stretch/>
        </p:blipFill>
        <p:spPr>
          <a:xfrm>
            <a:off x="2214720" y="5143680"/>
            <a:ext cx="4590720" cy="2473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0" y="6951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7" descr=""/>
          <p:cNvPicPr/>
          <p:nvPr/>
        </p:nvPicPr>
        <p:blipFill>
          <a:blip r:embed="rId12"/>
          <a:stretch/>
        </p:blipFill>
        <p:spPr>
          <a:xfrm>
            <a:off x="3929040" y="5857920"/>
            <a:ext cx="144756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Модель космического мусор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2A0FB-74D4-456C-A8CB-A952A2C2A0D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43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44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345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одержимое 9"/>
          <p:cNvSpPr/>
          <p:nvPr/>
        </p:nvSpPr>
        <p:spPr>
          <a:xfrm>
            <a:off x="285840" y="192888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чет концентрации КО по высоте и широ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оятность попадания 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ласть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Δ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φ, φ + Δ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just"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571320" y="2357280"/>
            <a:ext cx="2676240" cy="475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4447080" y="314280"/>
            <a:ext cx="24948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Newton-Regular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Newton-Regular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" descr=""/>
          <p:cNvPicPr/>
          <p:nvPr/>
        </p:nvPicPr>
        <p:blipFill>
          <a:blip r:embed="rId5"/>
          <a:stretch/>
        </p:blipFill>
        <p:spPr>
          <a:xfrm>
            <a:off x="3500280" y="2214720"/>
            <a:ext cx="5381280" cy="73296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6"/>
          <a:stretch/>
        </p:blipFill>
        <p:spPr>
          <a:xfrm>
            <a:off x="785880" y="4143240"/>
            <a:ext cx="1828440" cy="2376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7"/>
          <a:stretch/>
        </p:blipFill>
        <p:spPr>
          <a:xfrm>
            <a:off x="785880" y="4429080"/>
            <a:ext cx="2580840" cy="523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8"/>
          <a:stretch/>
        </p:blipFill>
        <p:spPr>
          <a:xfrm>
            <a:off x="785880" y="4929120"/>
            <a:ext cx="2504880" cy="5522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1" descr=""/>
          <p:cNvPicPr/>
          <p:nvPr/>
        </p:nvPicPr>
        <p:blipFill>
          <a:blip r:embed="rId9"/>
          <a:stretch/>
        </p:blipFill>
        <p:spPr>
          <a:xfrm>
            <a:off x="785880" y="3786120"/>
            <a:ext cx="2723760" cy="2376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3" descr=""/>
          <p:cNvPicPr/>
          <p:nvPr/>
        </p:nvPicPr>
        <p:blipFill>
          <a:blip r:embed="rId10"/>
          <a:stretch/>
        </p:blipFill>
        <p:spPr>
          <a:xfrm>
            <a:off x="785880" y="5572080"/>
            <a:ext cx="2304720" cy="237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11"/>
          <a:stretch/>
        </p:blipFill>
        <p:spPr>
          <a:xfrm>
            <a:off x="4509360" y="3455640"/>
            <a:ext cx="3962160" cy="3344040"/>
          </a:xfrm>
          <a:prstGeom prst="rect">
            <a:avLst/>
          </a:prstGeom>
          <a:ln w="9525">
            <a:noFill/>
          </a:ln>
        </p:spPr>
      </p:pic>
      <p:sp>
        <p:nvSpPr>
          <p:cNvPr id="368" name="TextBox 30"/>
          <p:cNvSpPr/>
          <p:nvPr/>
        </p:nvSpPr>
        <p:spPr>
          <a:xfrm>
            <a:off x="5154840" y="3071880"/>
            <a:ext cx="2806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жение заданной точки в О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Описание техногенного засор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Num" idx="30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3C5BF6-4224-4AE9-9588-C9D0861F6A4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72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73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4"/>
          <a:srcRect l="0" t="0" r="0" b="11762"/>
          <a:stretch/>
        </p:blipFill>
        <p:spPr>
          <a:xfrm>
            <a:off x="571320" y="4071960"/>
            <a:ext cx="3224880" cy="2356920"/>
          </a:xfrm>
          <a:prstGeom prst="rect">
            <a:avLst/>
          </a:prstGeom>
          <a:ln w="9525">
            <a:noFill/>
          </a:ln>
        </p:spPr>
      </p:pic>
      <p:pic>
        <p:nvPicPr>
          <p:cNvPr id="375" name="Picture 6" descr="H:\ \Работа\Космонит\2013\Каталоги 2013\Pconc2013.jpg"/>
          <p:cNvPicPr/>
          <p:nvPr/>
        </p:nvPicPr>
        <p:blipFill>
          <a:blip r:embed="rId5"/>
          <a:stretch/>
        </p:blipFill>
        <p:spPr>
          <a:xfrm>
            <a:off x="642960" y="1857240"/>
            <a:ext cx="3025080" cy="1928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" descr="F:\Игорь\Усовик РКС\Программы\SDPA2011\Vr2011.emf"/>
          <p:cNvPicPr/>
          <p:nvPr/>
        </p:nvPicPr>
        <p:blipFill>
          <a:blip r:embed="rId6"/>
          <a:stretch/>
        </p:blipFill>
        <p:spPr>
          <a:xfrm>
            <a:off x="5214960" y="4357800"/>
            <a:ext cx="3142800" cy="1916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F:\Игорь\Усовик РКС\Программы\SDPA2011\Vt2011e2.emf"/>
          <p:cNvPicPr/>
          <p:nvPr/>
        </p:nvPicPr>
        <p:blipFill>
          <a:blip r:embed="rId7"/>
          <a:stretch/>
        </p:blipFill>
        <p:spPr>
          <a:xfrm>
            <a:off x="5286240" y="1857240"/>
            <a:ext cx="3110760" cy="2071440"/>
          </a:xfrm>
          <a:prstGeom prst="rect">
            <a:avLst/>
          </a:prstGeom>
          <a:ln w="0">
            <a:noFill/>
          </a:ln>
        </p:spPr>
      </p:pic>
      <p:sp>
        <p:nvSpPr>
          <p:cNvPr id="378" name="TextBox 11"/>
          <p:cNvSpPr/>
          <p:nvPr/>
        </p:nvSpPr>
        <p:spPr>
          <a:xfrm>
            <a:off x="214200" y="3786120"/>
            <a:ext cx="4000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исимость концентрации от высоты и шир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2"/>
          <p:cNvSpPr/>
          <p:nvPr/>
        </p:nvSpPr>
        <p:spPr>
          <a:xfrm>
            <a:off x="513720" y="6334920"/>
            <a:ext cx="352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исимость азимутального распреде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аданной высоты и разных шир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4714920" y="4000680"/>
            <a:ext cx="4214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ределения тангенциальной скорости от выс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5"/>
          <p:cNvSpPr/>
          <p:nvPr/>
        </p:nvSpPr>
        <p:spPr>
          <a:xfrm>
            <a:off x="4857840" y="6215040"/>
            <a:ext cx="39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ределения радиальной скорости от выс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Модель расчета количества столкновени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500040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34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 использованием представленных выше распределений для КО, располагающегося на определенной орбите в области НОО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можно рассчитать значение потока К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Q [1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– количество столкновений сферического КА на заданной орбите с площадью сечения 1 м</a:t>
            </a:r>
            <a:r>
              <a:rPr b="0" lang="ru-RU" sz="17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с другими объектами .                              </a:t>
            </a: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4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Если среднее значение потока определено, то достаточно точную оценку числа столкновений КО с КМ на большом интервале времени можно вычислить по формуле.</a:t>
            </a: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4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спользованием данной характеристики для множества возможных объектов можно рассчитать ожидаемое количество столкновений в единицу времени как отдельно, так и для групп объектов с определенными параметрами .</a:t>
            </a: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31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ED7D93-23B1-49E5-8990-69B2E47C14F1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86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387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388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895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4"/>
          <a:stretch/>
        </p:blipFill>
        <p:spPr>
          <a:xfrm>
            <a:off x="5572080" y="4312440"/>
            <a:ext cx="2999880" cy="616320"/>
          </a:xfrm>
          <a:prstGeom prst="rect">
            <a:avLst/>
          </a:prstGeom>
          <a:ln w="9525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5"/>
          <a:stretch/>
        </p:blipFill>
        <p:spPr>
          <a:xfrm>
            <a:off x="5572080" y="5072040"/>
            <a:ext cx="1304640" cy="313920"/>
          </a:xfrm>
          <a:prstGeom prst="rect">
            <a:avLst/>
          </a:prstGeom>
          <a:ln w="9525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6"/>
          <a:stretch/>
        </p:blipFill>
        <p:spPr>
          <a:xfrm>
            <a:off x="5572080" y="5429160"/>
            <a:ext cx="1644120" cy="6426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0"/>
          <p:cNvSpPr/>
          <p:nvPr/>
        </p:nvSpPr>
        <p:spPr>
          <a:xfrm>
            <a:off x="0" y="9525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0" y="97164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24" descr="H:\12.2013 Расчеты КМ ЦНИИмаш\Рисунки+статья\Синтезированные\Q2.emf"/>
          <p:cNvPicPr/>
          <p:nvPr/>
        </p:nvPicPr>
        <p:blipFill>
          <a:blip r:embed="rId7"/>
          <a:stretch/>
        </p:blipFill>
        <p:spPr>
          <a:xfrm>
            <a:off x="6000840" y="1857240"/>
            <a:ext cx="2857320" cy="1928520"/>
          </a:xfrm>
          <a:prstGeom prst="rect">
            <a:avLst/>
          </a:prstGeom>
          <a:ln w="9525">
            <a:noFill/>
          </a:ln>
        </p:spPr>
      </p:pic>
      <p:sp>
        <p:nvSpPr>
          <p:cNvPr id="400" name="TextBox 20"/>
          <p:cNvSpPr/>
          <p:nvPr/>
        </p:nvSpPr>
        <p:spPr>
          <a:xfrm>
            <a:off x="5500800" y="3786120"/>
            <a:ext cx="3428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исимость значений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околокруговых ор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Области околоземного космического пространств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Num" idx="14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827C8-72B6-49C2-94D7-DF23B908C51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7" name="Заголовок 5"/>
          <p:cNvSpPr/>
          <p:nvPr/>
        </p:nvSpPr>
        <p:spPr>
          <a:xfrm>
            <a:off x="1643040" y="450072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58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9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7120" y="1676520"/>
            <a:ext cx="378576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 настоящее время принято разделять ОКП на три области: область Низких Околоземных Орбит (НОО), область Средневысотных Орбит (СВО) и область Геостационарной Орбиты (ГСО). Области НОО и СВО представляют собой шаровые слои. НОО ограничивается высотой 2000 км над Землей, СВО от 2000 до     ~35000 км. Область ГСО представляет собой торообразную фигуру, ограниченную по высоте 35786±200 км и наклонениям 0±15 град.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266760"/>
              </a:tabLst>
            </a:pP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13" descr="G:\Диссертация\Картинки\Концентрация ОКП.jpg"/>
          <p:cNvPicPr/>
          <p:nvPr/>
        </p:nvPicPr>
        <p:blipFill>
          <a:blip r:embed="rId4"/>
          <a:stretch/>
        </p:blipFill>
        <p:spPr>
          <a:xfrm>
            <a:off x="4500720" y="4214880"/>
            <a:ext cx="4285800" cy="2214360"/>
          </a:xfrm>
          <a:prstGeom prst="rect">
            <a:avLst/>
          </a:prstGeom>
          <a:ln w="9525">
            <a:noFill/>
          </a:ln>
        </p:spPr>
      </p:pic>
      <p:sp>
        <p:nvSpPr>
          <p:cNvPr id="162" name="TextBox 15"/>
          <p:cNvSpPr/>
          <p:nvPr/>
        </p:nvSpPr>
        <p:spPr>
          <a:xfrm>
            <a:off x="4444920" y="6357960"/>
            <a:ext cx="4465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исимость концентрации наблюдаемых КО от выс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5581800" y="4000680"/>
            <a:ext cx="219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храняемые области ОК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2" descr=""/>
          <p:cNvPicPr/>
          <p:nvPr/>
        </p:nvPicPr>
        <p:blipFill>
          <a:blip r:embed="rId5"/>
          <a:stretch/>
        </p:blipFill>
        <p:spPr>
          <a:xfrm>
            <a:off x="4714920" y="1928880"/>
            <a:ext cx="3827880" cy="1928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Модель расчета последствий столкновений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Num" idx="3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07CAF1-6A5B-4386-9D73-0754B12C675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0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0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406" name="Picture 12" descr="Gabbard"/>
          <p:cNvPicPr/>
          <p:nvPr/>
        </p:nvPicPr>
        <p:blipFill>
          <a:blip r:embed="rId4"/>
          <a:stretch/>
        </p:blipFill>
        <p:spPr>
          <a:xfrm>
            <a:off x="571320" y="4017240"/>
            <a:ext cx="3581640" cy="2478240"/>
          </a:xfrm>
          <a:prstGeom prst="rect">
            <a:avLst/>
          </a:prstGeom>
          <a:ln w="9525">
            <a:noFill/>
          </a:ln>
        </p:spPr>
      </p:pic>
      <p:pic>
        <p:nvPicPr>
          <p:cNvPr id="407" name="Picture 13" descr="Gabbard2012"/>
          <p:cNvPicPr/>
          <p:nvPr/>
        </p:nvPicPr>
        <p:blipFill>
          <a:blip r:embed="rId5"/>
          <a:stretch/>
        </p:blipFill>
        <p:spPr>
          <a:xfrm>
            <a:off x="4643280" y="4000680"/>
            <a:ext cx="3431160" cy="2571480"/>
          </a:xfrm>
          <a:prstGeom prst="rect">
            <a:avLst/>
          </a:prstGeom>
          <a:ln w="9525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6"/>
          <a:stretch/>
        </p:blipFill>
        <p:spPr>
          <a:xfrm>
            <a:off x="3857760" y="2000160"/>
            <a:ext cx="1542600" cy="628200"/>
          </a:xfrm>
          <a:prstGeom prst="rect">
            <a:avLst/>
          </a:prstGeom>
          <a:ln w="9525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7"/>
          <a:stretch/>
        </p:blipFill>
        <p:spPr>
          <a:xfrm>
            <a:off x="596520" y="2071800"/>
            <a:ext cx="1928520" cy="750240"/>
          </a:xfrm>
          <a:prstGeom prst="rect">
            <a:avLst/>
          </a:prstGeom>
          <a:ln w="9525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8"/>
          <a:stretch/>
        </p:blipFill>
        <p:spPr>
          <a:xfrm>
            <a:off x="596520" y="2786040"/>
            <a:ext cx="2189160" cy="428400"/>
          </a:xfrm>
          <a:prstGeom prst="rect">
            <a:avLst/>
          </a:prstGeom>
          <a:ln w="9525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9"/>
          <a:stretch/>
        </p:blipFill>
        <p:spPr>
          <a:xfrm>
            <a:off x="571320" y="3571920"/>
            <a:ext cx="1161720" cy="3045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7"/>
          <p:cNvSpPr/>
          <p:nvPr/>
        </p:nvSpPr>
        <p:spPr>
          <a:xfrm>
            <a:off x="0" y="7621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3922560" y="2643120"/>
            <a:ext cx="2625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=0.4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-0.68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 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" descr=""/>
          <p:cNvPicPr/>
          <p:nvPr/>
        </p:nvPicPr>
        <p:blipFill>
          <a:blip r:embed="rId10"/>
          <a:stretch/>
        </p:blipFill>
        <p:spPr>
          <a:xfrm>
            <a:off x="3929040" y="3143160"/>
            <a:ext cx="1142640" cy="645840"/>
          </a:xfrm>
          <a:prstGeom prst="rect">
            <a:avLst/>
          </a:prstGeom>
          <a:ln w="9525">
            <a:noFill/>
          </a:ln>
        </p:spPr>
      </p:pic>
      <p:sp>
        <p:nvSpPr>
          <p:cNvPr id="417" name="TextBox 17"/>
          <p:cNvSpPr/>
          <p:nvPr/>
        </p:nvSpPr>
        <p:spPr>
          <a:xfrm flipH="1">
            <a:off x="5214960" y="3304800"/>
            <a:ext cx="3071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ащение высоты периг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9"/>
          <p:cNvSpPr/>
          <p:nvPr/>
        </p:nvSpPr>
        <p:spPr>
          <a:xfrm flipH="1">
            <a:off x="5500800" y="2071800"/>
            <a:ext cx="307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ичество объектов после столкнов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" descr=""/>
          <p:cNvPicPr/>
          <p:nvPr/>
        </p:nvPicPr>
        <p:blipFill>
          <a:blip r:embed="rId11"/>
          <a:stretch/>
        </p:blipFill>
        <p:spPr>
          <a:xfrm>
            <a:off x="571320" y="3224160"/>
            <a:ext cx="1209240" cy="275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0" y="7333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Основы методики оценки эволюци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ldNum" idx="3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23816-93F0-455A-B917-EF87A30D572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25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26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193500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 множество объектов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стоит из 3-х подмножеств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космический мусор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объекты, к которым может быть применена операция активного уда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новые запущенные объекты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жеств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множеств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ем описывать с использованием статистической модели КМ и предусмотренных в ней распределений для решения задач оценки количества взаимных столкновений и последствий столкновений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множест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DR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м описывать дополнительно с использованием полной информации о каждом объекте, аналогично подходу с «поштучным» описанием объектов, для того чтобы учитывать активное удаление объектов КМ и меры по ограничению техногенного засорения в процессе моделирования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" descr=""/>
          <p:cNvPicPr/>
          <p:nvPr/>
        </p:nvPicPr>
        <p:blipFill>
          <a:blip r:embed="rId4"/>
          <a:stretch/>
        </p:blipFill>
        <p:spPr>
          <a:xfrm>
            <a:off x="3429000" y="2857320"/>
            <a:ext cx="2499840" cy="36504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0" y="695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Num" idx="34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76391D-8779-407C-AA74-D4FF5E2B65D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33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34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6688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2728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ходными данными о популяции космических объектов выступают следующие параметры каждого объекта размером более 10 см с высотой перигея менее 2000 км: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п объекта: РБ, КА, крупный операционный мусор, КМ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а объект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аметр объекта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актерная площадь объекта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льшая полуось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центриситет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2602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клонение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Исходные данные так же могут быть заданы в виде требуемых распределений для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иска с параметра каждого объекта из подмножеств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сновании исходных данных о популяции космических объектов с учетом критерия удаления все объекты разделяются на два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объектов из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ятся соответствующие распределения трех элементов орбиты, характеризующих ее высоту, эллиптичность и наклонение, а также распределение баллистических коэффициентов объектов, масс объектов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ждый объект подмножеств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исывается отдельно с использованием 7 параметров, описанных выше. На основании данных 7 параметров всегда можно построить соответствующие распределения, аналогичные распределениям подмнож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0" y="695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Заголовок 8"/>
          <p:cNvSpPr/>
          <p:nvPr/>
        </p:nvSpPr>
        <p:spPr>
          <a:xfrm>
            <a:off x="457200" y="3438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2. Последовательность шагов 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438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2.Последовательность шагов методики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Num" idx="3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8C71E-EC56-415A-8DEF-F2290C46E1B1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42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43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20" y="1568880"/>
            <a:ext cx="8472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нозирование ведется с шагом один год по времени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даются объект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аналогично объектам группы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ри этом каждому объекту присваивается дополнительный параметр с годом запуска, для учета мер по ограничению техногенного засорени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ная распределения для объектов из 3 подмножеств, путем их суммирования строятся распределения общего множества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использованием распределений множества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татистической модели КМ рассчитываются оценки количества и последствий столкновений на интервале 1 год, которые описываются аналогичными распределениями и добавляются в распределения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водится прогноз орбитальной эволюции объектов из подмножеств  на один год. Для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используется подход статистической модели КМ, в которой прогнозируется распределение высот перигея объектов. Для подмножеств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рогнозируются орбитальные параметры большой полуоси и эксцентриситета каждого объекта отдельно, с учетом допущения, что наклонение не имеет вековых возмущений и его значение сильно не изменяется под действием возмущающих ускорений, а угловые распределения имеют равномерное распределение и их прогнозировать для решения данной задачи не нужно. По окончании шага мы имеем перестроенные распределения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и параметры объектов подмножест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на данном шаге учитывается активное удаление КМ, согласно критерию удаления из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удаляется заданное количество объектов, после чего перестраиваются распределения объектов данного подмножества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на данном шаге учитываются меры по ограничению техногенного засорения для объектов из под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запущенных в заданном году ранее, согласно учитываем мерам каждый объект из множества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бо удаляется из него, либо ему задаются требуемые согласно мерам ограничения орбитальные параметры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ходим к следующему шагу по времени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0" y="695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3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9E1D01-A90F-4BB5-A277-9FBB40E1E24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49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0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grpSp>
        <p:nvGrpSpPr>
          <p:cNvPr id="451" name="Group 24"/>
          <p:cNvGrpSpPr/>
          <p:nvPr/>
        </p:nvGrpSpPr>
        <p:grpSpPr>
          <a:xfrm>
            <a:off x="1231200" y="1717560"/>
            <a:ext cx="6570360" cy="5038200"/>
            <a:chOff x="1231200" y="1717560"/>
            <a:chExt cx="6570360" cy="5038200"/>
          </a:xfrm>
        </p:grpSpPr>
        <p:sp>
          <p:nvSpPr>
            <p:cNvPr id="452" name="Rectangle 25"/>
            <p:cNvSpPr/>
            <p:nvPr/>
          </p:nvSpPr>
          <p:spPr>
            <a:xfrm>
              <a:off x="1231200" y="1717560"/>
              <a:ext cx="1967760" cy="5038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нтерфей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6"/>
            <p:cNvSpPr/>
            <p:nvPr/>
          </p:nvSpPr>
          <p:spPr>
            <a:xfrm>
              <a:off x="3351600" y="1717560"/>
              <a:ext cx="1967760" cy="5038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5459040" y="1717560"/>
              <a:ext cx="2342520" cy="50382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атематическая мод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8"/>
            <p:cNvSpPr/>
            <p:nvPr/>
          </p:nvSpPr>
          <p:spPr>
            <a:xfrm>
              <a:off x="1330200" y="2045160"/>
              <a:ext cx="1788840" cy="227736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вод исходных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Symbol"/>
                <a:buChar char="-"/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раницы распределений по</a:t>
              </a:r>
              <a:br>
                <a:rPr sz="1200"/>
              </a:b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Symbol"/>
                <a:buChar char="-"/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вод файла с исходной информацией об объект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Symbol"/>
                <a:buChar char="-"/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вод сценар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9"/>
            <p:cNvSpPr/>
            <p:nvPr/>
          </p:nvSpPr>
          <p:spPr>
            <a:xfrm>
              <a:off x="1330200" y="4401360"/>
              <a:ext cx="1788840" cy="227736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вод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Symbol"/>
                <a:buChar char="-"/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ормирование выходных файлов с результатами расче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Symbol"/>
                <a:buChar char="-"/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рафическое изображение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0"/>
            <p:cNvSpPr/>
            <p:nvPr/>
          </p:nvSpPr>
          <p:spPr>
            <a:xfrm>
              <a:off x="3440520" y="2045160"/>
              <a:ext cx="1788840" cy="227736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 исходных данных в распредел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(h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e,i), P(h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k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, P(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ля подмножества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ормирования списков для объектов подмножеств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1"/>
            <p:cNvSpPr/>
            <p:nvPr/>
          </p:nvSpPr>
          <p:spPr>
            <a:xfrm>
              <a:off x="3440520" y="4401360"/>
              <a:ext cx="1788840" cy="227736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дготовка результатов расче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2"/>
            <p:cNvSpPr/>
            <p:nvPr/>
          </p:nvSpPr>
          <p:spPr>
            <a:xfrm>
              <a:off x="5554800" y="2045160"/>
              <a:ext cx="1789200" cy="97380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дуль расчета распределений концентрации, скорости в инерциальном пространств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AutoShape 33"/>
            <p:cNvCxnSpPr/>
            <p:nvPr/>
          </p:nvCxnSpPr>
          <p:spPr>
            <a:xfrm>
              <a:off x="3119040" y="3128400"/>
              <a:ext cx="32184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61" name="AutoShape 34"/>
            <p:cNvCxnSpPr/>
            <p:nvPr/>
          </p:nvCxnSpPr>
          <p:spPr>
            <a:xfrm flipH="1">
              <a:off x="3119040" y="5595480"/>
              <a:ext cx="32184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62" name="AutoShape 35"/>
            <p:cNvCxnSpPr/>
            <p:nvPr/>
          </p:nvCxnSpPr>
          <p:spPr>
            <a:xfrm flipH="1">
              <a:off x="5229360" y="6149160"/>
              <a:ext cx="32580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63" name="AutoShape 36"/>
            <p:cNvCxnSpPr/>
            <p:nvPr/>
          </p:nvCxnSpPr>
          <p:spPr>
            <a:xfrm>
              <a:off x="5229360" y="2522520"/>
              <a:ext cx="32580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64" name="AutoShape 37"/>
            <p:cNvCxnSpPr/>
            <p:nvPr/>
          </p:nvCxnSpPr>
          <p:spPr>
            <a:xfrm>
              <a:off x="6450120" y="3019320"/>
              <a:ext cx="360" cy="2206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465" name="Rectangle 38"/>
            <p:cNvSpPr/>
            <p:nvPr/>
          </p:nvSpPr>
          <p:spPr>
            <a:xfrm>
              <a:off x="5554800" y="3239640"/>
              <a:ext cx="1789200" cy="97380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дуль расчета распределения относительной скорости столкновений и количества столкнов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9"/>
            <p:cNvSpPr/>
            <p:nvPr/>
          </p:nvSpPr>
          <p:spPr>
            <a:xfrm>
              <a:off x="5554800" y="4431600"/>
              <a:ext cx="1789200" cy="97380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дуль расчета последствий столкновен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40"/>
            <p:cNvSpPr/>
            <p:nvPr/>
          </p:nvSpPr>
          <p:spPr>
            <a:xfrm>
              <a:off x="5554800" y="5616000"/>
              <a:ext cx="1789200" cy="973800"/>
            </a:xfrm>
            <a:prstGeom prst="rect">
              <a:avLst/>
            </a:prstGeom>
            <a:solidFill>
              <a:srgbClr val="ffffff"/>
            </a:solidFill>
            <a:ln w="2857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Модуль прогноза орбитальной эволюции по времен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AutoShape 41"/>
            <p:cNvCxnSpPr/>
            <p:nvPr/>
          </p:nvCxnSpPr>
          <p:spPr>
            <a:xfrm>
              <a:off x="6450120" y="4221360"/>
              <a:ext cx="360" cy="22068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69" name="AutoShape 42"/>
            <p:cNvCxnSpPr/>
            <p:nvPr/>
          </p:nvCxnSpPr>
          <p:spPr>
            <a:xfrm>
              <a:off x="6450120" y="5405400"/>
              <a:ext cx="360" cy="22104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70" name="AutoShape 43"/>
            <p:cNvCxnSpPr/>
            <p:nvPr/>
          </p:nvCxnSpPr>
          <p:spPr>
            <a:xfrm>
              <a:off x="7344360" y="6149160"/>
              <a:ext cx="21888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471" name="AutoShape 44"/>
            <p:cNvCxnSpPr/>
            <p:nvPr/>
          </p:nvCxnSpPr>
          <p:spPr>
            <a:xfrm flipV="1">
              <a:off x="7562880" y="2522520"/>
              <a:ext cx="360" cy="362700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</a:ln>
          </p:spPr>
        </p:cxnSp>
        <p:cxnSp>
          <p:nvCxnSpPr>
            <p:cNvPr id="472" name="AutoShape 45"/>
            <p:cNvCxnSpPr/>
            <p:nvPr/>
          </p:nvCxnSpPr>
          <p:spPr>
            <a:xfrm flipH="1">
              <a:off x="7344360" y="2522520"/>
              <a:ext cx="218880" cy="360"/>
            </a:xfrm>
            <a:prstGeom prst="straightConnector1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457200" y="57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3. Программный комплекс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Num" idx="3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2C842F-69C8-4165-82D3-F9EFEB343A02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76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77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57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3. Программный комплекс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8" descr=""/>
          <p:cNvPicPr/>
          <p:nvPr/>
        </p:nvPicPr>
        <p:blipFill>
          <a:blip r:embed="rId4"/>
          <a:stretch/>
        </p:blipFill>
        <p:spPr>
          <a:xfrm>
            <a:off x="571320" y="1785960"/>
            <a:ext cx="3521880" cy="2808360"/>
          </a:xfrm>
          <a:prstGeom prst="rect">
            <a:avLst/>
          </a:prstGeom>
          <a:ln w="9525">
            <a:noFill/>
          </a:ln>
        </p:spPr>
      </p:pic>
      <p:pic>
        <p:nvPicPr>
          <p:cNvPr id="480" name="Рисунок 12" descr=""/>
          <p:cNvPicPr/>
          <p:nvPr/>
        </p:nvPicPr>
        <p:blipFill>
          <a:blip r:embed="rId5"/>
          <a:srcRect l="0" t="0" r="3398" b="0"/>
          <a:stretch/>
        </p:blipFill>
        <p:spPr>
          <a:xfrm>
            <a:off x="4429080" y="4270680"/>
            <a:ext cx="4041000" cy="2515680"/>
          </a:xfrm>
          <a:prstGeom prst="rect">
            <a:avLst/>
          </a:prstGeom>
          <a:ln w="9525">
            <a:noFill/>
          </a:ln>
        </p:spPr>
      </p:pic>
      <p:pic>
        <p:nvPicPr>
          <p:cNvPr id="481" name="Рисунок 13" descr=""/>
          <p:cNvPicPr/>
          <p:nvPr/>
        </p:nvPicPr>
        <p:blipFill>
          <a:blip r:embed="rId6"/>
          <a:stretch/>
        </p:blipFill>
        <p:spPr>
          <a:xfrm>
            <a:off x="1357200" y="4643280"/>
            <a:ext cx="1928520" cy="1933920"/>
          </a:xfrm>
          <a:prstGeom prst="rect">
            <a:avLst/>
          </a:prstGeom>
          <a:ln w="9525">
            <a:noFill/>
          </a:ln>
        </p:spPr>
      </p:pic>
      <p:pic>
        <p:nvPicPr>
          <p:cNvPr id="482" name="Рисунок 14" descr=""/>
          <p:cNvPicPr/>
          <p:nvPr/>
        </p:nvPicPr>
        <p:blipFill>
          <a:blip r:embed="rId7"/>
          <a:stretch/>
        </p:blipFill>
        <p:spPr>
          <a:xfrm>
            <a:off x="4429080" y="1785960"/>
            <a:ext cx="4031640" cy="2407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4. Сценари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Num" idx="3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DD4AD1-ABD1-4AD3-81A9-FA89D06D528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86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87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57120" y="178596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ходные данные о количестве объектов и запускаемых объектах представле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ы для удаления выбираются по критери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счетах критерий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вал прогноз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лет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зовые сценарии: 30%, 60%, 90% из новых запускаемых объектов соответствуют правилу 25 лет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ное удаление КМ начинается с 2025 г. в количестве 2,5,8 объектов. 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3240" algn="just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го рассматривается 12 сценариев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40"/>
              </a:spcBef>
              <a:buNone/>
            </a:pP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9" name="Рисунок 10" descr=""/>
          <p:cNvPicPr/>
          <p:nvPr/>
        </p:nvPicPr>
        <p:blipFill>
          <a:blip r:embed="rId4"/>
          <a:stretch/>
        </p:blipFill>
        <p:spPr>
          <a:xfrm>
            <a:off x="4786200" y="4357800"/>
            <a:ext cx="3853440" cy="2142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623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4. Исходные данные об объектах размером </a:t>
            </a:r>
            <a:r>
              <a:rPr b="0" lang="en-US" sz="2400" spc="-1" strike="noStrike">
                <a:solidFill>
                  <a:srgbClr val="04617b"/>
                </a:solidFill>
                <a:latin typeface="Times New Roman"/>
              </a:rPr>
              <a:t>&gt; 10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см, предоставленные </a:t>
            </a:r>
            <a:r>
              <a:rPr b="0" lang="en-US" sz="2400" spc="-1" strike="noStrike">
                <a:solidFill>
                  <a:srgbClr val="04617b"/>
                </a:solidFill>
                <a:latin typeface="Times New Roman"/>
              </a:rPr>
              <a:t>ESA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Num" idx="3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2A8AAE-0CD8-40DD-A932-00D9ACF59CC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93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9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496" name="Picture 3" descr="I:\ \Работа\IADC\AI 31.5\Рисунки\Pi.emf"/>
          <p:cNvPicPr/>
          <p:nvPr/>
        </p:nvPicPr>
        <p:blipFill>
          <a:blip r:embed="rId4"/>
          <a:srcRect l="0" t="2778" r="5672" b="0"/>
          <a:stretch/>
        </p:blipFill>
        <p:spPr>
          <a:xfrm>
            <a:off x="4714920" y="4143240"/>
            <a:ext cx="4126680" cy="2330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I:\ \Работа\IADC\AI 31.5\Рисунки\Ph.emf"/>
          <p:cNvPicPr/>
          <p:nvPr/>
        </p:nvPicPr>
        <p:blipFill>
          <a:blip r:embed="rId5"/>
          <a:stretch/>
        </p:blipFill>
        <p:spPr>
          <a:xfrm>
            <a:off x="4714920" y="1714320"/>
            <a:ext cx="4120920" cy="22856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5" descr="I:\ \Работа\IADC\AI 31.5\Рисунки\Pe.emf"/>
          <p:cNvPicPr/>
          <p:nvPr/>
        </p:nvPicPr>
        <p:blipFill>
          <a:blip r:embed="rId6"/>
          <a:srcRect l="0" t="0" r="6557" b="0"/>
          <a:stretch/>
        </p:blipFill>
        <p:spPr>
          <a:xfrm>
            <a:off x="714240" y="1714320"/>
            <a:ext cx="3331800" cy="1856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I:\ \Работа\IADC\AI 31.5\Рисунки\Psh.emf"/>
          <p:cNvPicPr/>
          <p:nvPr/>
        </p:nvPicPr>
        <p:blipFill>
          <a:blip r:embed="rId7"/>
          <a:stretch/>
        </p:blipFill>
        <p:spPr>
          <a:xfrm>
            <a:off x="785880" y="4407840"/>
            <a:ext cx="3357360" cy="20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Таблица 11"/>
          <p:cNvGraphicFramePr/>
          <p:nvPr/>
        </p:nvGraphicFramePr>
        <p:xfrm>
          <a:off x="357120" y="3643200"/>
          <a:ext cx="4214520" cy="531360"/>
        </p:xfrm>
        <a:graphic>
          <a:graphicData uri="http://schemas.openxmlformats.org/drawingml/2006/table">
            <a:tbl>
              <a:tblPr/>
              <a:tblGrid>
                <a:gridCol w="720720"/>
                <a:gridCol w="498960"/>
                <a:gridCol w="465840"/>
                <a:gridCol w="491400"/>
                <a:gridCol w="421200"/>
                <a:gridCol w="421200"/>
                <a:gridCol w="476640"/>
                <a:gridCol w="358560"/>
                <a:gridCol w="358560"/>
              </a:tblGrid>
              <a:tr h="81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паз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це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сит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0-0.00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5-0.00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75-0.0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5-0.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-0.0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-0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0-0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4. Формирование подмножест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4617b"/>
                </a:solidFill>
                <a:latin typeface="Times New Roman"/>
              </a:rPr>
              <a:t>ADR</a:t>
            </a:r>
            <a:r>
              <a:rPr b="0" lang="en-US" sz="2400" spc="-1" strike="noStrike">
                <a:solidFill>
                  <a:srgbClr val="04617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4617b"/>
                </a:solidFill>
                <a:latin typeface="Times New Roman"/>
              </a:rPr>
              <a:t>NEW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Num" idx="40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797926-737F-4BF7-B11B-08AF5E8ED8F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04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5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06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507" name="Рисунок 12" descr="H:\ \Работа\IADC\AI 31.5\Подготовка исходных данных\ADR.emf"/>
          <p:cNvPicPr/>
          <p:nvPr/>
        </p:nvPicPr>
        <p:blipFill>
          <a:blip r:embed="rId4"/>
          <a:srcRect l="3398" t="5649" r="3848" b="0"/>
          <a:stretch/>
        </p:blipFill>
        <p:spPr>
          <a:xfrm>
            <a:off x="214200" y="1928880"/>
            <a:ext cx="4428720" cy="3071520"/>
          </a:xfrm>
          <a:prstGeom prst="rect">
            <a:avLst/>
          </a:prstGeom>
          <a:ln w="9525">
            <a:noFill/>
          </a:ln>
        </p:spPr>
      </p:pic>
      <p:pic>
        <p:nvPicPr>
          <p:cNvPr id="508" name="Рисунок 13" descr="H:\ \Работа\IADC\AI 31.5\Подготовка исходных данных\Launch.emf"/>
          <p:cNvPicPr/>
          <p:nvPr/>
        </p:nvPicPr>
        <p:blipFill>
          <a:blip r:embed="rId5"/>
          <a:srcRect l="3537" t="5604" r="4779" b="0"/>
          <a:stretch/>
        </p:blipFill>
        <p:spPr>
          <a:xfrm>
            <a:off x="4714920" y="19288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509" name="Rectangle 1"/>
          <p:cNvSpPr/>
          <p:nvPr/>
        </p:nvSpPr>
        <p:spPr>
          <a:xfrm>
            <a:off x="4572000" y="5193000"/>
            <a:ext cx="4571640" cy="63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аемые объекты по исходным данным 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5"/>
          <p:cNvSpPr/>
          <p:nvPr/>
        </p:nvSpPr>
        <p:spPr>
          <a:xfrm>
            <a:off x="214200" y="5143680"/>
            <a:ext cx="457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ы удовлетворяющие требованиям активного удаления по сценарию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Num" idx="41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1A7520-9782-4ABD-821D-A3BF7DEC916A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13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1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16" name="Содержимое 9"/>
          <p:cNvSpPr/>
          <p:nvPr/>
        </p:nvSpPr>
        <p:spPr>
          <a:xfrm>
            <a:off x="509400" y="193824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Заголовок 17"/>
          <p:cNvSpPr/>
          <p:nvPr/>
        </p:nvSpPr>
        <p:spPr>
          <a:xfrm>
            <a:off x="214200" y="514440"/>
            <a:ext cx="607176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449280">
              <a:lnSpc>
                <a:spcPct val="100000"/>
              </a:lnSpc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4.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Рисунок 13" descr="H:\ \Диссертация\Результаты\30\Ndif.emf"/>
          <p:cNvPicPr/>
          <p:nvPr/>
        </p:nvPicPr>
        <p:blipFill>
          <a:blip r:embed="rId4"/>
          <a:srcRect l="0" t="4223" r="7314" b="0"/>
          <a:stretch/>
        </p:blipFill>
        <p:spPr>
          <a:xfrm>
            <a:off x="214200" y="1857240"/>
            <a:ext cx="4425480" cy="2274120"/>
          </a:xfrm>
          <a:prstGeom prst="rect">
            <a:avLst/>
          </a:prstGeom>
          <a:ln w="9525">
            <a:noFill/>
          </a:ln>
        </p:spPr>
      </p:pic>
      <p:pic>
        <p:nvPicPr>
          <p:cNvPr id="519" name="Рисунок 14" descr="H:\!Рабочий ЖД\2. Учеба\!Диссертация\Картинки\Результаты\PMD 30%\ConcPMD30.emf"/>
          <p:cNvPicPr/>
          <p:nvPr/>
        </p:nvPicPr>
        <p:blipFill>
          <a:blip r:embed="rId5"/>
          <a:srcRect l="0" t="0" r="7680" b="0"/>
          <a:stretch/>
        </p:blipFill>
        <p:spPr>
          <a:xfrm>
            <a:off x="4683600" y="1857240"/>
            <a:ext cx="4460040" cy="2475360"/>
          </a:xfrm>
          <a:prstGeom prst="rect">
            <a:avLst/>
          </a:prstGeom>
          <a:ln w="9525">
            <a:noFill/>
          </a:ln>
        </p:spPr>
      </p:pic>
      <p:pic>
        <p:nvPicPr>
          <p:cNvPr id="520" name="Рисунок 15" descr="H:\ \Диссертация\Картинки\Результаты\PMD 30%\CollisionPMD30.emf"/>
          <p:cNvPicPr/>
          <p:nvPr/>
        </p:nvPicPr>
        <p:blipFill>
          <a:blip r:embed="rId6"/>
          <a:srcRect l="0" t="0" r="7653" b="0"/>
          <a:stretch/>
        </p:blipFill>
        <p:spPr>
          <a:xfrm>
            <a:off x="203400" y="4404960"/>
            <a:ext cx="4368240" cy="2095560"/>
          </a:xfrm>
          <a:prstGeom prst="rect">
            <a:avLst/>
          </a:prstGeom>
          <a:ln w="9525">
            <a:noFill/>
          </a:ln>
        </p:spPr>
      </p:pic>
      <p:pic>
        <p:nvPicPr>
          <p:cNvPr id="521" name="Рисунок 16" descr="H:\ \Диссертация\Картинки\Результаты\PMD 30%\ColHPMD30.emf"/>
          <p:cNvPicPr/>
          <p:nvPr/>
        </p:nvPicPr>
        <p:blipFill>
          <a:blip r:embed="rId7"/>
          <a:stretch/>
        </p:blipFill>
        <p:spPr>
          <a:xfrm>
            <a:off x="4497840" y="4500720"/>
            <a:ext cx="460404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552888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История запусков РН и 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засорения ОКП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1640" y="1628640"/>
            <a:ext cx="453600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начало 2015 г. В каталогах космических объектах содержится информация об около 17000 объектов.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ая масса объектов в ОКП оценивается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000 тонн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765 пусков ракет-носителей (РН)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51 событие разрушения на орбите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ластям: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О 77%,  ГСО 6% ~10% в области высокоэллиптических орбит (ВЭО) 7% – на других орбитах, в том числе, в области навигационных спутниковых систем. 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воему составу каталогизированные объекты включают 20% КА, из которых активно функционируют только 6%; 11% составляют ступени РН и разгонные блоки (РБ); 5% операционные элементы, образовавшиеся в процессе выведения КА на рабочие орбиты. 64% является продуктами разрушения КА, РН, РБ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FEEBEE-CCDA-4F69-936B-8CB5F1F8F88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9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70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1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172" name="TextBox 10"/>
          <p:cNvSpPr/>
          <p:nvPr/>
        </p:nvSpPr>
        <p:spPr>
          <a:xfrm>
            <a:off x="5311440" y="3835440"/>
            <a:ext cx="260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ичество пусков РН по го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278320" y="6336000"/>
            <a:ext cx="3139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ичество КО разных типов по го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2" descr=""/>
          <p:cNvPicPr/>
          <p:nvPr/>
        </p:nvPicPr>
        <p:blipFill>
          <a:blip r:embed="rId4"/>
          <a:stretch/>
        </p:blipFill>
        <p:spPr>
          <a:xfrm>
            <a:off x="4857840" y="4071960"/>
            <a:ext cx="3642840" cy="2362320"/>
          </a:xfrm>
          <a:prstGeom prst="rect">
            <a:avLst/>
          </a:prstGeom>
          <a:ln w="9525">
            <a:noFill/>
          </a:ln>
        </p:spPr>
      </p:pic>
      <p:pic>
        <p:nvPicPr>
          <p:cNvPr id="175" name="Рисунок 13" descr=""/>
          <p:cNvPicPr/>
          <p:nvPr/>
        </p:nvPicPr>
        <p:blipFill>
          <a:blip r:embed="rId5"/>
          <a:stretch/>
        </p:blipFill>
        <p:spPr>
          <a:xfrm>
            <a:off x="5072040" y="1714320"/>
            <a:ext cx="3300480" cy="218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Num" idx="4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77A692-CC5B-4F7D-916C-3620DB1B3ABE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24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26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27" name="Содержимое 9"/>
          <p:cNvSpPr/>
          <p:nvPr/>
        </p:nvSpPr>
        <p:spPr>
          <a:xfrm>
            <a:off x="509400" y="193824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Заголовок 17"/>
          <p:cNvSpPr/>
          <p:nvPr/>
        </p:nvSpPr>
        <p:spPr>
          <a:xfrm>
            <a:off x="214200" y="514440"/>
            <a:ext cx="607176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449280">
              <a:lnSpc>
                <a:spcPct val="100000"/>
              </a:lnSpc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4.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12" descr="H:\ \Диссертация\Результаты\90\Ndif.png"/>
          <p:cNvPicPr/>
          <p:nvPr/>
        </p:nvPicPr>
        <p:blipFill>
          <a:blip r:embed="rId4"/>
          <a:srcRect l="0" t="3558" r="7569" b="0"/>
          <a:stretch/>
        </p:blipFill>
        <p:spPr>
          <a:xfrm>
            <a:off x="214200" y="1857240"/>
            <a:ext cx="4215960" cy="2192040"/>
          </a:xfrm>
          <a:prstGeom prst="rect">
            <a:avLst/>
          </a:prstGeom>
          <a:ln w="9525">
            <a:noFill/>
          </a:ln>
        </p:spPr>
      </p:pic>
      <p:pic>
        <p:nvPicPr>
          <p:cNvPr id="530" name="Рисунок 17" descr="H:\!Рабочий ЖД\2. Учеба\!Диссертация\Картинки\Результаты\PMD 30%\ConcPMD90_ADR8.emf"/>
          <p:cNvPicPr/>
          <p:nvPr/>
        </p:nvPicPr>
        <p:blipFill>
          <a:blip r:embed="rId5"/>
          <a:srcRect l="5042" t="0" r="6446" b="0"/>
          <a:stretch/>
        </p:blipFill>
        <p:spPr>
          <a:xfrm>
            <a:off x="4786200" y="1857240"/>
            <a:ext cx="3968640" cy="2186640"/>
          </a:xfrm>
          <a:prstGeom prst="rect">
            <a:avLst/>
          </a:prstGeom>
          <a:ln w="9525">
            <a:noFill/>
          </a:ln>
        </p:spPr>
      </p:pic>
      <p:pic>
        <p:nvPicPr>
          <p:cNvPr id="531" name="Рисунок 18" descr="H:\ \Диссертация\Картинки\Результаты\PMD 30%\CollisionPMD90ADR8.emf"/>
          <p:cNvPicPr/>
          <p:nvPr/>
        </p:nvPicPr>
        <p:blipFill>
          <a:blip r:embed="rId6"/>
          <a:srcRect l="4768" t="0" r="8227" b="0"/>
          <a:stretch/>
        </p:blipFill>
        <p:spPr>
          <a:xfrm>
            <a:off x="214200" y="4143240"/>
            <a:ext cx="4498200" cy="1928520"/>
          </a:xfrm>
          <a:prstGeom prst="rect">
            <a:avLst/>
          </a:prstGeom>
          <a:ln w="9525">
            <a:noFill/>
          </a:ln>
        </p:spPr>
      </p:pic>
      <p:pic>
        <p:nvPicPr>
          <p:cNvPr id="532" name="Рисунок 19" descr="H:\ \Диссертация\Картинки\Результаты\PMD 30%\ColHPMD90_ADR8.emf"/>
          <p:cNvPicPr/>
          <p:nvPr/>
        </p:nvPicPr>
        <p:blipFill>
          <a:blip r:embed="rId7"/>
          <a:srcRect l="4411" t="0" r="6348" b="0"/>
          <a:stretch/>
        </p:blipFill>
        <p:spPr>
          <a:xfrm>
            <a:off x="4643280" y="4000680"/>
            <a:ext cx="4317480" cy="2313720"/>
          </a:xfrm>
          <a:prstGeom prst="rect">
            <a:avLst/>
          </a:prstGeom>
          <a:ln w="9525">
            <a:noFill/>
          </a:ln>
        </p:spPr>
      </p:pic>
      <p:pic>
        <p:nvPicPr>
          <p:cNvPr id="533" name="Рисунок 20" descr="H:\ \Диссертация\Результаты\90\Рисунки\Nhi8.emf"/>
          <p:cNvPicPr/>
          <p:nvPr/>
        </p:nvPicPr>
        <p:blipFill>
          <a:blip r:embed="rId8"/>
          <a:srcRect l="0" t="3070" r="4756" b="0"/>
          <a:stretch/>
        </p:blipFill>
        <p:spPr>
          <a:xfrm>
            <a:off x="285840" y="1643040"/>
            <a:ext cx="8672400" cy="4928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Times New Roman"/>
              </a:rPr>
              <a:t>4. Результаты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Num" idx="4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55CF47-E892-4879-8400-6DA973EF4EF2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37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8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39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540" name="Рисунок 4" descr=""/>
          <p:cNvPicPr/>
          <p:nvPr/>
        </p:nvPicPr>
        <p:blipFill>
          <a:blip r:embed="rId4"/>
          <a:stretch/>
        </p:blipFill>
        <p:spPr>
          <a:xfrm>
            <a:off x="428760" y="1928880"/>
            <a:ext cx="4142880" cy="2071440"/>
          </a:xfrm>
          <a:prstGeom prst="rect">
            <a:avLst/>
          </a:prstGeom>
          <a:ln w="9525">
            <a:noFill/>
          </a:ln>
        </p:spPr>
      </p:pic>
      <p:pic>
        <p:nvPicPr>
          <p:cNvPr id="541" name="Рисунок 5" descr=""/>
          <p:cNvPicPr/>
          <p:nvPr/>
        </p:nvPicPr>
        <p:blipFill>
          <a:blip r:embed="rId5"/>
          <a:stretch/>
        </p:blipFill>
        <p:spPr>
          <a:xfrm>
            <a:off x="500040" y="4357800"/>
            <a:ext cx="4154760" cy="1856880"/>
          </a:xfrm>
          <a:prstGeom prst="rect">
            <a:avLst/>
          </a:prstGeom>
          <a:ln w="9525">
            <a:noFill/>
          </a:ln>
        </p:spPr>
      </p:pic>
      <p:pic>
        <p:nvPicPr>
          <p:cNvPr id="542" name="Рисунок 6" descr=""/>
          <p:cNvPicPr/>
          <p:nvPr/>
        </p:nvPicPr>
        <p:blipFill>
          <a:blip r:embed="rId6"/>
          <a:stretch/>
        </p:blipFill>
        <p:spPr>
          <a:xfrm>
            <a:off x="4643280" y="1857240"/>
            <a:ext cx="4071600" cy="2426760"/>
          </a:xfrm>
          <a:prstGeom prst="rect">
            <a:avLst/>
          </a:prstGeom>
          <a:ln w="9525">
            <a:noFill/>
          </a:ln>
        </p:spPr>
      </p:pic>
      <p:pic>
        <p:nvPicPr>
          <p:cNvPr id="543" name="Рисунок 7" descr=""/>
          <p:cNvPicPr/>
          <p:nvPr/>
        </p:nvPicPr>
        <p:blipFill>
          <a:blip r:embed="rId7"/>
          <a:stretch/>
        </p:blipFill>
        <p:spPr>
          <a:xfrm>
            <a:off x="4643280" y="4286160"/>
            <a:ext cx="4071600" cy="2197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Num" idx="44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3F9A68-25A4-4E61-92F1-9DFC9315BCFD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46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7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48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49" name="Содержимое 9"/>
          <p:cNvSpPr/>
          <p:nvPr/>
        </p:nvSpPr>
        <p:spPr>
          <a:xfrm>
            <a:off x="509400" y="193824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Заголовок 17"/>
          <p:cNvSpPr/>
          <p:nvPr/>
        </p:nvSpPr>
        <p:spPr>
          <a:xfrm>
            <a:off x="214200" y="514440"/>
            <a:ext cx="607176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449280">
              <a:lnSpc>
                <a:spcPct val="100000"/>
              </a:lnSpc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4. Сравнительный анализ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H:\!Статья\Рисунки\5.jpg"/>
          <p:cNvPicPr/>
          <p:nvPr/>
        </p:nvPicPr>
        <p:blipFill>
          <a:blip r:embed="rId4"/>
          <a:srcRect l="0" t="3031" r="0" b="0"/>
          <a:stretch/>
        </p:blipFill>
        <p:spPr>
          <a:xfrm>
            <a:off x="5500800" y="1714320"/>
            <a:ext cx="3175200" cy="2285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" descr="H:\!Статья\Рисунки\6.jpg"/>
          <p:cNvPicPr/>
          <p:nvPr/>
        </p:nvPicPr>
        <p:blipFill>
          <a:blip r:embed="rId5"/>
          <a:stretch/>
        </p:blipFill>
        <p:spPr>
          <a:xfrm>
            <a:off x="5429160" y="4000680"/>
            <a:ext cx="3357360" cy="25246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H:\ \Работа\IADC\AI 31.5\Рисунки\ResultFig\ALL\NALLcorrect.emf"/>
          <p:cNvPicPr/>
          <p:nvPr/>
        </p:nvPicPr>
        <p:blipFill>
          <a:blip r:embed="rId6"/>
          <a:stretch/>
        </p:blipFill>
        <p:spPr>
          <a:xfrm>
            <a:off x="285840" y="2857320"/>
            <a:ext cx="4978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600048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4492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4. Сравнение результатов с аналогичными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ldNum" idx="45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9CF98C-580D-4CBD-BF7E-2349A2ABEBD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57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58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59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560" name="Picture 11" descr=""/>
          <p:cNvPicPr/>
          <p:nvPr/>
        </p:nvPicPr>
        <p:blipFill>
          <a:blip r:embed="rId4"/>
          <a:stretch/>
        </p:blipFill>
        <p:spPr>
          <a:xfrm>
            <a:off x="4929120" y="1643040"/>
            <a:ext cx="4000320" cy="2499840"/>
          </a:xfrm>
          <a:prstGeom prst="rect">
            <a:avLst/>
          </a:prstGeom>
          <a:ln w="9525">
            <a:noFill/>
          </a:ln>
        </p:spPr>
      </p:pic>
      <p:pic>
        <p:nvPicPr>
          <p:cNvPr id="561" name="Рисунок 11" descr="H:\ \Работа\Статьи\2015.01 Прогноз КМ МАИ\Рисунки\2в.jpg"/>
          <p:cNvPicPr/>
          <p:nvPr/>
        </p:nvPicPr>
        <p:blipFill>
          <a:blip r:embed="rId5"/>
          <a:stretch/>
        </p:blipFill>
        <p:spPr>
          <a:xfrm>
            <a:off x="857160" y="4071960"/>
            <a:ext cx="3912480" cy="2714400"/>
          </a:xfrm>
          <a:prstGeom prst="rect">
            <a:avLst/>
          </a:prstGeom>
          <a:ln w="9525">
            <a:noFill/>
          </a:ln>
        </p:spPr>
      </p:pic>
      <p:pic>
        <p:nvPicPr>
          <p:cNvPr id="562" name="Рисунок 12" descr=""/>
          <p:cNvPicPr/>
          <p:nvPr/>
        </p:nvPicPr>
        <p:blipFill>
          <a:blip r:embed="rId6"/>
          <a:stretch/>
        </p:blipFill>
        <p:spPr>
          <a:xfrm>
            <a:off x="5188680" y="4143240"/>
            <a:ext cx="3597840" cy="2642760"/>
          </a:xfrm>
          <a:prstGeom prst="rect">
            <a:avLst/>
          </a:prstGeom>
          <a:ln w="9525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7"/>
          <a:stretch/>
        </p:blipFill>
        <p:spPr>
          <a:xfrm>
            <a:off x="214200" y="1654920"/>
            <a:ext cx="4571640" cy="2454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Num" idx="4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F9A71D-20B3-4720-8D66-CD71CE8ED100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66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7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68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69" name="Содержимое 9"/>
          <p:cNvSpPr/>
          <p:nvPr/>
        </p:nvSpPr>
        <p:spPr>
          <a:xfrm>
            <a:off x="509400" y="193824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Заголовок 17"/>
          <p:cNvSpPr/>
          <p:nvPr/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4. Рекомендации по областям для активного удаления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"/>
          <p:cNvSpPr/>
          <p:nvPr/>
        </p:nvSpPr>
        <p:spPr>
          <a:xfrm>
            <a:off x="357120" y="4509360"/>
            <a:ext cx="842940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езультатов расчета по исследуемым сценариям можно выделить 3 области по высотам и наклонениям, для которых активное удаление наиболее актуально 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2160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800-85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1,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2160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650-8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8,7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216000"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00-950 к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8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H:\ \Диссертация\Результаты\SumNorm2.emf"/>
          <p:cNvPicPr/>
          <p:nvPr/>
        </p:nvPicPr>
        <p:blipFill>
          <a:blip r:embed="rId4"/>
          <a:stretch/>
        </p:blipFill>
        <p:spPr>
          <a:xfrm>
            <a:off x="642960" y="1857240"/>
            <a:ext cx="3945960" cy="242856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13" descr="H:\!Статья\Рисунки\8.jpg"/>
          <p:cNvPicPr/>
          <p:nvPr/>
        </p:nvPicPr>
        <p:blipFill>
          <a:blip r:embed="rId5"/>
          <a:stretch/>
        </p:blipFill>
        <p:spPr>
          <a:xfrm>
            <a:off x="5072040" y="1928880"/>
            <a:ext cx="3428640" cy="2356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Заключение и вывод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ldNum" idx="4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B3841-81E9-43DC-8AE0-5AC528B615E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77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78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79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7120" y="164304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2728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ны: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етодика оценки долговременной эволюции техногенного засорения низких околоземных орбит при реализации операций активного удаления космического мусора, основанная на раздельном моделировании и статистической модели КМ;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частные математические модели космического мусора для решения задачи оценки долгосрочной эволюции техногенного засорения низких околоземных орбит объектами размером более 10 см при реализации активного удаления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зработано программно-математическое обеспечение для оценки эволюции техногенного засорения низких околоземных орбит при реализации активного удаления КМ для объектов размером более 10 см.;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нализ результатов оценки влияния активного удаления космического мусора на долгосрочную эволюцию техногенного засорения области низких околоземных орбит при различных сценариях показал, что для стабилизации и снижения техногенного засорения области низких околоземных орбит необходимо помимо соблюдения мер по ограничению техногенного засорения удалять более 5 крупных объектов в год с наибольшим значением произведения массы на вероятность столкновения в будущем. Были выделены 3 области по высоте и наклонению, для которых активное удаление наиболее актуально в ближайшем будущем: 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00-850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м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 71,25</a:t>
            </a:r>
            <a:r>
              <a:rPr b="0" lang="ru-RU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50-800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км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 98,75</a:t>
            </a:r>
            <a:r>
              <a:rPr b="0" lang="ru-RU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 900-950 км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= 83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ru-RU" sz="15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5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80496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804960"/>
              </a:tabLst>
            </a:pP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Содержимое 9"/>
          <p:cNvSpPr/>
          <p:nvPr/>
        </p:nvSpPr>
        <p:spPr>
          <a:xfrm>
            <a:off x="571320" y="192888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9874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писок работ, опубликованных автором по теме диссертации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ldNum" idx="4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4DCEBD-4DD4-46C7-82AE-0EA2FC3F0B70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85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6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87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7120" y="1643040"/>
            <a:ext cx="822924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писок работ, опубликованных автором по теме диссертации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татьи в журналах Перечня ВАК РФ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овик И.В., Малышев В.В., Дарнопых В.В. Методика оценки эволюции техногенного засорения низких околоземных орбит с учетом взаимных столкновений и активного удаления космического мусора // Вестник Московского авиационного института. – 2015. – Том 22, №3. – С. 54-62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овик И.В. Анализ характеристик потока космического мусора на низких околоземных орбитах с использованием уточненной модели // Космонавтика и ракетостроение . – 2014. – Выпуск № 3(76). – С. 97-102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овик И.В., Дарнопых В.В. Автоматизированный программный комплекс для параметрического анализа и оптимизации планирования целевого функционирования космических систем ДЗЗ [Электронный ресурс] // Труды МАИ. – 2014. – Выпуск № 65. – Режим доступа: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:/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ai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rudy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=35841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татьи в зарубежном издании, индексируемом в базе данных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copus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Nazarenko A.I., Usovik I.V., Gravitation effect on a flux of sporadic micrometeoroids in the vicinity of near-Earth orbits // Acta Astronautica. – 2013 – Vol. 84(2013). – P. 153-160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ругие публикации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смический мусор. В 2 кн. Кн. 1. Методы наблюдения и модели космического мусора / Под науч. ред. д.т.н., проф. Г.Г. Райкунова. Агапов В.М., Головко А.В., Усовик И.В. и др. – М.: ФИЗМАТЛИТ, 2014.  – 248 с. 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овик И.В. Методика прогнозирования техногенного засорения низких околоземных орбит с учетом взаимных столкновений и активного удаления космического мусора // Сборник тезисов «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XIII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еждународная конференция Авиация и космонавтика». – М.: МАИ, 2014. – С. 194. 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овик И.В. Системный анализ проблемы активного удаления космического мусора // Сборник тезисов «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Международная конференция Системный анализ, управление и навигация». – Евпатория, 2015. – С.43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Usovik I.V., Loginov S.S., Mikhailov M.A., Yakovlev M.V. The last results of activity Russian Federation in the field of modeling space debris and space debris mitigation measures in the near-earth space // 65-th International Astronautical Congress. – Toronto, Canada, 2014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Nazarenko A.I., Usovik I.V. The Analysis of Pollution of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Space in the Field of LEO at Various Scenarios of its Further Development // Proceedings of the Six European Conference on Space Debris. – Darmstadt , Germany, 2013. 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21"/>
              </a:spcBef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Nazarenko A.I., Usovik I.V. Space Debris Evolution Modeling with Allowance for Mutual Collisions of Objects Larger than 1 cm in Size. // Proceedings of the Six European Conference on Space Debris. – Darmstadt , Germany, 2013.</a:t>
            </a:r>
            <a:endParaRPr b="0" lang="ru-RU" sz="1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Содержимое 9"/>
          <p:cNvSpPr/>
          <p:nvPr/>
        </p:nvSpPr>
        <p:spPr>
          <a:xfrm>
            <a:off x="509400" y="1938240"/>
            <a:ext cx="8229240" cy="438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0"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tabLst>
                <a:tab algn="l" pos="80496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Num" idx="4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07949A-DEF5-43A0-9FEF-49C8803367C3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2357280" y="714240"/>
            <a:ext cx="7854480" cy="175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0" y="6093000"/>
            <a:ext cx="785448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18360" anchor="t">
            <a:noAutofit/>
          </a:bodyPr>
          <a:p>
            <a:pPr algn="r">
              <a:lnSpc>
                <a:spcPct val="100000"/>
              </a:lnSpc>
              <a:spcBef>
                <a:spcPts val="519"/>
              </a:spcBef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пасибо за внимание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F:\шкоьники\1269194280_mai80_inside.png"/>
          <p:cNvPicPr/>
          <p:nvPr/>
        </p:nvPicPr>
        <p:blipFill>
          <a:blip r:embed="rId1"/>
          <a:stretch/>
        </p:blipFill>
        <p:spPr>
          <a:xfrm>
            <a:off x="142920" y="357120"/>
            <a:ext cx="1428480" cy="1375920"/>
          </a:xfrm>
          <a:prstGeom prst="rect">
            <a:avLst/>
          </a:prstGeom>
          <a:ln w="9525">
            <a:noFill/>
          </a:ln>
        </p:spPr>
      </p:pic>
      <p:sp>
        <p:nvSpPr>
          <p:cNvPr id="594" name="PlaceHolder 3"/>
          <p:cNvSpPr>
            <a:spLocks noGrp="1"/>
          </p:cNvSpPr>
          <p:nvPr>
            <p:ph type="ftr" idx="50"/>
          </p:nvPr>
        </p:nvSpPr>
        <p:spPr>
          <a:xfrm>
            <a:off x="3719520" y="636264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Москва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оугольник 19"/>
          <p:cNvSpPr/>
          <p:nvPr/>
        </p:nvSpPr>
        <p:spPr>
          <a:xfrm>
            <a:off x="1643040" y="549360"/>
            <a:ext cx="6786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осковский авиационный инсти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Прямая соединительная линия 16"/>
          <p:cNvCxnSpPr/>
          <p:nvPr/>
        </p:nvCxnSpPr>
        <p:spPr>
          <a:xfrm>
            <a:off x="1643040" y="1125360"/>
            <a:ext cx="678672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597" name="Text Box 14"/>
          <p:cNvSpPr/>
          <p:nvPr/>
        </p:nvSpPr>
        <p:spPr>
          <a:xfrm>
            <a:off x="1571760" y="1285920"/>
            <a:ext cx="6928920" cy="42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39"/>
              </a:spcBef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(национальный исследовательский университе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Рисунок 12" descr="G:\Диссертация\Картинки\2013 г. обработка каталога\emf\Мусор.png"/>
          <p:cNvPicPr/>
          <p:nvPr/>
        </p:nvPicPr>
        <p:blipFill>
          <a:blip r:embed="rId2"/>
          <a:srcRect l="0" t="0" r="0" b="1694"/>
          <a:stretch/>
        </p:blipFill>
        <p:spPr>
          <a:xfrm>
            <a:off x="2071800" y="1785960"/>
            <a:ext cx="5143320" cy="4285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buNone/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ldNum" idx="51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28D91-0E42-4443-8D56-4ACAAFC87D07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02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03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604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7120" y="171432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272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оложения, выносимые на защиту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ика оценки долговременной эволюции техногенного засорения низких околоземных орбит при реализации активного удаления КМ, основанная на раздельном моделировании и статистической модели КМ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ные компоненты статистической модели КМ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счета статистических распределений К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ценки частоты столкновен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ценки последствий столкновен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бходимые для оценки долговременной эволюции техногенного засорения низких околоземных орбит объектами размером более 10 см при реализации активного удалени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раммно-математическое обеспечение для оценки долговременной эволюции техногенного засорения низких околоземных орбит объектами размером более 10 см при реализации активного удаления КМ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зультаты сравнительного анализа и рекомендации по областям низких околоземных орбит для активного удаления КМ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buNone/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ldNum" idx="5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465561-697D-44E3-9876-B0C00E7228C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09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0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611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7120" y="171432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272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учная новизна результатов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боте получены следующие результаты, обладающие новизной и научной значимостью: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ика оценки долговременной эволюции техногенного засорения области низких околоземных орбит при реализации активного удаления космического мусора, основанная на раздельном моделировании и статистической модели КМ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ные компоненты статистической модели космического мусора для оценки долговременной эволюции техногенного засорения области низких околоземных орбит объектами размером более 10 см при реализации активного удаления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граммно-математическое обеспечение для оценки долговременной эволюции техногенного засорения области низких околоземных орбит объектами размером более 10 см при реализации активного удаления космического мусора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marL="812880"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Катастрофические события и их причин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Num" idx="1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14B090-80DA-498F-8749-7FC262A1126F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9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0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81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182" name="Рисунок 10" descr=""/>
          <p:cNvPicPr/>
          <p:nvPr/>
        </p:nvPicPr>
        <p:blipFill>
          <a:blip r:embed="rId4"/>
          <a:stretch/>
        </p:blipFill>
        <p:spPr>
          <a:xfrm>
            <a:off x="5500800" y="1571760"/>
            <a:ext cx="2571480" cy="2071440"/>
          </a:xfrm>
          <a:prstGeom prst="rect">
            <a:avLst/>
          </a:prstGeom>
          <a:ln w="9525">
            <a:noFill/>
          </a:ln>
        </p:spPr>
      </p:pic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120" y="1676520"/>
            <a:ext cx="4428720" cy="457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настоящее время событием, в результате которого образовалось наибольшее количество наблюдаемых фрагментов КМ, является преднамеренное разрушение Китайского спутника Fengyun-1C в 2007 г. Вторым по количеству образовавшихся фрагментов является столкновение КА Космос-2251 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ridium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33 в 2009 г. До разрушения спутника Fengyun-1C среди событий, порождающих долгоживущий мусор, доминировали непреднамеренные взрывы. </a:t>
            </a: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  <a:p>
            <a:pPr indent="177840" algn="just">
              <a:lnSpc>
                <a:spcPct val="100000"/>
              </a:lnSpc>
              <a:spcBef>
                <a:spcPts val="34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2667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лучаем непреднамеренного взрыва, создавшего большое количество объектов, до сих пор находящихся на орбите, был взрыв советского космического аппарата Космос-1275. Взрыв батареи спутника привёл к возникновению 259 объектов, которые отслеживаются до сих пор.</a:t>
            </a:r>
            <a:endParaRPr b="0" lang="ru-RU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5155200" y="3643200"/>
            <a:ext cx="3287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пределение событий разрушения 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причинам их возникнов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5248080" y="6357960"/>
            <a:ext cx="3026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личество разрушений КО по год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5" descr=""/>
          <p:cNvPicPr/>
          <p:nvPr/>
        </p:nvPicPr>
        <p:blipFill>
          <a:blip r:embed="rId5"/>
          <a:stretch/>
        </p:blipFill>
        <p:spPr>
          <a:xfrm>
            <a:off x="5143680" y="4143240"/>
            <a:ext cx="3253320" cy="222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bIns="0" anchor="b">
            <a:noAutofit/>
          </a:bodyPr>
          <a:p>
            <a:pPr indent="0">
              <a:buNone/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ldNum" idx="5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D1CC5E-1CA0-4968-ACA3-7BB496453A2C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16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7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618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7120" y="1714320"/>
            <a:ext cx="8229240" cy="438912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2728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ческая значимость результатов исследования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анные методика и программно-математическое обеспечение обладают практической значимостью для принятия административных решений  в области ограничения и снижения техногенного засорения.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учены оценки влияния активного удаления космического мусора на долгосрочную эволюцию техногенного засорения области низких околоземных орбит при различных сценариях;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явлены области низких околоземных орбит, для которых в первую очередь необходимо проводить операции активного удаления космического мусора для стабилизации и снижения техногенного засорения в долгосрочной перспективе. </a:t>
            </a: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Num" idx="17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15D2E3-B125-4195-A375-A6B525A17A98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89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0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pic>
        <p:nvPicPr>
          <p:cNvPr id="191" name="Рисунок 12" descr="Collision"/>
          <p:cNvPicPr/>
          <p:nvPr/>
        </p:nvPicPr>
        <p:blipFill>
          <a:blip r:embed="rId4"/>
          <a:stretch/>
        </p:blipFill>
        <p:spPr>
          <a:xfrm>
            <a:off x="4429080" y="3214800"/>
            <a:ext cx="1604160" cy="1243080"/>
          </a:xfrm>
          <a:prstGeom prst="rect">
            <a:avLst/>
          </a:prstGeom>
          <a:ln w="9525">
            <a:noFill/>
          </a:ln>
        </p:spPr>
      </p:pic>
      <p:pic>
        <p:nvPicPr>
          <p:cNvPr id="192" name="Рисунок 13" descr="cosmos2251"/>
          <p:cNvPicPr/>
          <p:nvPr/>
        </p:nvPicPr>
        <p:blipFill>
          <a:blip r:embed="rId5"/>
          <a:stretch/>
        </p:blipFill>
        <p:spPr>
          <a:xfrm>
            <a:off x="5214960" y="4572000"/>
            <a:ext cx="1214640" cy="1214640"/>
          </a:xfrm>
          <a:prstGeom prst="rect">
            <a:avLst/>
          </a:prstGeom>
          <a:ln w="9525">
            <a:noFill/>
          </a:ln>
        </p:spPr>
      </p:pic>
      <p:pic>
        <p:nvPicPr>
          <p:cNvPr id="193" name="Рисунок 14" descr="Iridium"/>
          <p:cNvPicPr/>
          <p:nvPr/>
        </p:nvPicPr>
        <p:blipFill>
          <a:blip r:embed="rId6"/>
          <a:srcRect l="20081" t="0" r="12998" b="0"/>
          <a:stretch/>
        </p:blipFill>
        <p:spPr>
          <a:xfrm>
            <a:off x="6572160" y="4572000"/>
            <a:ext cx="1224000" cy="1213920"/>
          </a:xfrm>
          <a:prstGeom prst="rect">
            <a:avLst/>
          </a:prstGeom>
          <a:ln w="9525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7"/>
          <a:stretch/>
        </p:blipFill>
        <p:spPr>
          <a:xfrm>
            <a:off x="7072200" y="3214800"/>
            <a:ext cx="1652760" cy="1231920"/>
          </a:xfrm>
          <a:prstGeom prst="rect">
            <a:avLst/>
          </a:prstGeom>
          <a:ln w="9525">
            <a:noFill/>
          </a:ln>
        </p:spPr>
      </p:pic>
      <p:cxnSp>
        <p:nvCxnSpPr>
          <p:cNvPr id="195" name="Прямая со стрелкой 14"/>
          <p:cNvCxnSpPr/>
          <p:nvPr/>
        </p:nvCxnSpPr>
        <p:spPr>
          <a:xfrm>
            <a:off x="6286320" y="3857400"/>
            <a:ext cx="607680" cy="180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196" name="Рисунок 20" descr=""/>
          <p:cNvPicPr/>
          <p:nvPr/>
        </p:nvPicPr>
        <p:blipFill>
          <a:blip r:embed="rId8"/>
          <a:stretch/>
        </p:blipFill>
        <p:spPr>
          <a:xfrm>
            <a:off x="4429080" y="1643040"/>
            <a:ext cx="4068000" cy="1407960"/>
          </a:xfrm>
          <a:prstGeom prst="rect">
            <a:avLst/>
          </a:prstGeom>
          <a:ln w="9525">
            <a:noFill/>
          </a:ln>
        </p:spPr>
      </p:pic>
      <p:sp>
        <p:nvSpPr>
          <p:cNvPr id="197" name="Текст 19"/>
          <p:cNvSpPr/>
          <p:nvPr/>
        </p:nvSpPr>
        <p:spPr>
          <a:xfrm>
            <a:off x="285840" y="1643040"/>
            <a:ext cx="39258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264960" algn="just">
              <a:lnSpc>
                <a:spcPct val="100000"/>
              </a:lnSpc>
              <a:spcBef>
                <a:spcPts val="24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0"/>
                <a:tab algn="l" pos="357120"/>
                <a:tab algn="l" pos="447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преднамеренного разрушения китайского спутника 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un-1C 11.01.2007 в ОКП каталогизировано около 200 фрагментов К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264960" algn="just">
              <a:lnSpc>
                <a:spcPct val="100000"/>
              </a:lnSpc>
              <a:spcBef>
                <a:spcPts val="24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0"/>
                <a:tab algn="l" pos="357120"/>
                <a:tab algn="l" pos="447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февраля 2009 г. на высоте около 780 км произошло столкновение американского действующего спутника связи Iridium 33 и Российского неактивного 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мос-225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олее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ов отслеживают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264960" algn="just">
              <a:lnSpc>
                <a:spcPct val="100000"/>
              </a:lnSpc>
              <a:spcBef>
                <a:spcPts val="24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0"/>
                <a:tab algn="l" pos="357120"/>
                <a:tab algn="l" pos="4478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этих двух событий техногенная засоренность ОКП в области НОО увеличилась на ~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357120"/>
                <a:tab algn="l" pos="4478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Заголовок 17"/>
          <p:cNvSpPr/>
          <p:nvPr/>
        </p:nvSpPr>
        <p:spPr>
          <a:xfrm>
            <a:off x="214200" y="514440"/>
            <a:ext cx="592884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Крупнейшие катастрофические со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4608360" y="5786280"/>
            <a:ext cx="3847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ствия катастрофических разрушений 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18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87EB6A-D6FF-41AB-83B3-29125C643D64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02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03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4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grpSp>
        <p:nvGrpSpPr>
          <p:cNvPr id="205" name="Group 30"/>
          <p:cNvGrpSpPr/>
          <p:nvPr/>
        </p:nvGrpSpPr>
        <p:grpSpPr>
          <a:xfrm>
            <a:off x="1071360" y="2071800"/>
            <a:ext cx="7429320" cy="2928600"/>
            <a:chOff x="1071360" y="2071800"/>
            <a:chExt cx="7429320" cy="2928600"/>
          </a:xfrm>
        </p:grpSpPr>
        <p:sp>
          <p:nvSpPr>
            <p:cNvPr id="206" name="Text Box 31"/>
            <p:cNvSpPr/>
            <p:nvPr/>
          </p:nvSpPr>
          <p:spPr>
            <a:xfrm>
              <a:off x="3368520" y="2071800"/>
              <a:ext cx="2340360" cy="6544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блемы,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здаваемые К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7" name="AutoShape 32"/>
            <p:cNvCxnSpPr/>
            <p:nvPr/>
          </p:nvCxnSpPr>
          <p:spPr>
            <a:xfrm flipH="1">
              <a:off x="1996200" y="2726640"/>
              <a:ext cx="1701000" cy="11210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08" name="AutoShape 33"/>
            <p:cNvCxnSpPr/>
            <p:nvPr/>
          </p:nvCxnSpPr>
          <p:spPr>
            <a:xfrm>
              <a:off x="4541400" y="2726640"/>
              <a:ext cx="12600" cy="11210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09" name="AutoShape 34"/>
            <p:cNvCxnSpPr/>
            <p:nvPr/>
          </p:nvCxnSpPr>
          <p:spPr>
            <a:xfrm>
              <a:off x="5385240" y="2726640"/>
              <a:ext cx="1776240" cy="11210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10" name="Text Box 35"/>
            <p:cNvSpPr/>
            <p:nvPr/>
          </p:nvSpPr>
          <p:spPr>
            <a:xfrm>
              <a:off x="1071360" y="3847680"/>
              <a:ext cx="1845360" cy="1152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адение КО на Земл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3629520" y="3847680"/>
              <a:ext cx="1845360" cy="1152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олкновения действующих КА с КМ и взаимные столкновения объектов К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6239160" y="3847680"/>
              <a:ext cx="2261520" cy="1152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здание помех средствам наблю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ложные цели, искажение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Проблемы, создаваемые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Num" idx="1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F23292-BF41-48D8-8B73-670FFAA04E09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16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17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8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grpSp>
        <p:nvGrpSpPr>
          <p:cNvPr id="219" name="Group 2"/>
          <p:cNvGrpSpPr/>
          <p:nvPr/>
        </p:nvGrpSpPr>
        <p:grpSpPr>
          <a:xfrm>
            <a:off x="785880" y="2143080"/>
            <a:ext cx="7626240" cy="3500280"/>
            <a:chOff x="785880" y="2143080"/>
            <a:chExt cx="7626240" cy="3500280"/>
          </a:xfrm>
        </p:grpSpPr>
        <p:sp>
          <p:nvSpPr>
            <p:cNvPr id="220" name="Text Box 3"/>
            <p:cNvSpPr/>
            <p:nvPr/>
          </p:nvSpPr>
          <p:spPr>
            <a:xfrm>
              <a:off x="5952960" y="4192200"/>
              <a:ext cx="1107000" cy="1436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Требования по ограничению техногенного засорения к создаваемым КА, РН, Р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"/>
            <p:cNvSpPr/>
            <p:nvPr/>
          </p:nvSpPr>
          <p:spPr>
            <a:xfrm>
              <a:off x="7137720" y="4203720"/>
              <a:ext cx="1110960" cy="14396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Активное удаление К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"/>
            <p:cNvSpPr/>
            <p:nvPr/>
          </p:nvSpPr>
          <p:spPr>
            <a:xfrm>
              <a:off x="3258360" y="4160520"/>
              <a:ext cx="1347120" cy="14288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Активная защи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(маневры уклонения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6"/>
            <p:cNvSpPr/>
            <p:nvPr/>
          </p:nvSpPr>
          <p:spPr>
            <a:xfrm>
              <a:off x="4672080" y="4181760"/>
              <a:ext cx="1113120" cy="14248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ассивная защит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(экраны и конструкция 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6203160" y="2738160"/>
              <a:ext cx="1736280" cy="101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Ограничение и снижение техногенного засор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3811320" y="2727720"/>
              <a:ext cx="1736280" cy="101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Защита функционирующих 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9"/>
            <p:cNvCxnSpPr/>
            <p:nvPr/>
          </p:nvCxnSpPr>
          <p:spPr>
            <a:xfrm flipH="1">
              <a:off x="4057560" y="3745440"/>
              <a:ext cx="240480" cy="4316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27" name="AutoShape 10"/>
            <p:cNvCxnSpPr/>
            <p:nvPr/>
          </p:nvCxnSpPr>
          <p:spPr>
            <a:xfrm>
              <a:off x="4973760" y="3772440"/>
              <a:ext cx="212400" cy="4046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28" name="AutoShape 11"/>
            <p:cNvCxnSpPr/>
            <p:nvPr/>
          </p:nvCxnSpPr>
          <p:spPr>
            <a:xfrm flipH="1">
              <a:off x="6581160" y="3750480"/>
              <a:ext cx="138960" cy="4312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29" name="AutoShape 12"/>
            <p:cNvCxnSpPr/>
            <p:nvPr/>
          </p:nvCxnSpPr>
          <p:spPr>
            <a:xfrm>
              <a:off x="7517160" y="3755880"/>
              <a:ext cx="212400" cy="4478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30" name="Text Box 13"/>
            <p:cNvSpPr/>
            <p:nvPr/>
          </p:nvSpPr>
          <p:spPr>
            <a:xfrm>
              <a:off x="3604320" y="2143080"/>
              <a:ext cx="2160720" cy="4172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Решение проб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AutoShape 14"/>
            <p:cNvCxnSpPr/>
            <p:nvPr/>
          </p:nvCxnSpPr>
          <p:spPr>
            <a:xfrm>
              <a:off x="1108440" y="2557800"/>
              <a:ext cx="7304040" cy="360"/>
            </a:xfrm>
            <a:prstGeom prst="straightConnector1">
              <a:avLst/>
            </a:prstGeom>
            <a:ln w="38100">
              <a:solidFill>
                <a:srgbClr val="000000"/>
              </a:solidFill>
              <a:round/>
            </a:ln>
          </p:spPr>
        </p:cxnSp>
        <p:sp>
          <p:nvSpPr>
            <p:cNvPr id="232" name="Text Box 15"/>
            <p:cNvSpPr/>
            <p:nvPr/>
          </p:nvSpPr>
          <p:spPr>
            <a:xfrm>
              <a:off x="1341360" y="2738160"/>
              <a:ext cx="1736280" cy="101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Предупреждение об опасных ситуация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6"/>
            <p:cNvSpPr/>
            <p:nvPr/>
          </p:nvSpPr>
          <p:spPr>
            <a:xfrm>
              <a:off x="785880" y="4134960"/>
              <a:ext cx="1167480" cy="1436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Наблюдение и каталогизация К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2031120" y="4146480"/>
              <a:ext cx="1110960" cy="14396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Совершенствование  и повышение точности  моделей движения К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18"/>
            <p:cNvCxnSpPr/>
            <p:nvPr/>
          </p:nvCxnSpPr>
          <p:spPr>
            <a:xfrm flipH="1">
              <a:off x="1585080" y="3729240"/>
              <a:ext cx="240480" cy="4316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36" name="AutoShape 19"/>
            <p:cNvCxnSpPr/>
            <p:nvPr/>
          </p:nvCxnSpPr>
          <p:spPr>
            <a:xfrm>
              <a:off x="2501280" y="3755880"/>
              <a:ext cx="212400" cy="4050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37" name="AutoShape 20"/>
            <p:cNvCxnSpPr/>
            <p:nvPr/>
          </p:nvCxnSpPr>
          <p:spPr>
            <a:xfrm>
              <a:off x="3078000" y="3255480"/>
              <a:ext cx="73368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238" name="AutoShape 21"/>
            <p:cNvCxnSpPr/>
            <p:nvPr/>
          </p:nvCxnSpPr>
          <p:spPr>
            <a:xfrm>
              <a:off x="5522400" y="3192120"/>
              <a:ext cx="681120" cy="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</p:grpSp>
      <p:sp>
        <p:nvSpPr>
          <p:cNvPr id="239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Методы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28648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жно выявить всег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а фундаментальных средства управления будущим состоянием техногенного засорения: предотвращение образования и удаление КМ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нятием международных руководящих принципов предотвращения образования КМ, таких как принципы МККМ и Комитета по космосу Организации Объединенных Наций, с реализацией мер по снижению образования КМ, были сокращены темпы роста количества нового КМ из многих ключевых источников. Национальным механизмом решения задачи ограничения техногенного засорения является введенный в действие 1 января 2009 г. Национальный стандарт Российской Федерации ГОСТ Р 52925-2008 «Изделия космической техники. Общие требования к космическим средствам по ограничению техногенного засорения околоземного космического пространства». Требования этого стандарта гармонизированы с требованиями «Руководящих принципов ООН по предупреждению образования космического мусора». Однако последние исследования говорят о недостаточности применения данных мер в долгосрочном периоде, поэтому многие специалисты во всем мире приходят к выводу о необходимости «очистки» ОКП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Num" idx="20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819221-5536-4537-8AB6-B1EADCF31CF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3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4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45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46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Методы управления будущей космическо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286480" cy="45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8360" rIns="183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Num" idx="21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8A3B10-C630-4BDC-9A50-88D715624A2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F:\шкоьники\normal_MKS.jpg"/>
          <p:cNvPicPr/>
          <p:nvPr/>
        </p:nvPicPr>
        <p:blipFill>
          <a:blip r:embed="rId1"/>
          <a:stretch/>
        </p:blipFill>
        <p:spPr>
          <a:xfrm>
            <a:off x="6072120" y="428760"/>
            <a:ext cx="1642680" cy="114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50" name="Заголовок 5"/>
          <p:cNvSpPr/>
          <p:nvPr/>
        </p:nvSpPr>
        <p:spPr>
          <a:xfrm>
            <a:off x="928800" y="71424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0" anchor="b">
            <a:normAutofit/>
            <a:scene3d>
              <a:camera prst="orthographicFront"/>
              <a:lightRig dir="t" rig="freezing">
                <a:rot lat="0" lon="0" rev="5640000"/>
              </a:lightRig>
            </a:scene3d>
            <a:sp3d prstMaterial="flat">
              <a:contourClr>
                <a:schemeClr val="tx2"/>
              </a:contourClr>
            </a:sp3d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1" name="Picture 2" descr="F:\шкоьники\default.jpeg"/>
          <p:cNvPicPr/>
          <p:nvPr/>
        </p:nvPicPr>
        <p:blipFill>
          <a:blip r:embed="rId2"/>
          <a:stretch/>
        </p:blipFill>
        <p:spPr>
          <a:xfrm>
            <a:off x="7542360" y="0"/>
            <a:ext cx="1601280" cy="1071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52" name="Picture 2" descr="F:\шкоьники\1269194280_mai80_inside.png"/>
          <p:cNvPicPr/>
          <p:nvPr/>
        </p:nvPicPr>
        <p:blipFill>
          <a:blip r:embed="rId3"/>
          <a:stretch/>
        </p:blipFill>
        <p:spPr>
          <a:xfrm>
            <a:off x="142920" y="214200"/>
            <a:ext cx="815760" cy="785520"/>
          </a:xfrm>
          <a:prstGeom prst="rect">
            <a:avLst/>
          </a:prstGeom>
          <a:ln w="9525">
            <a:noFill/>
          </a:ln>
        </p:spPr>
      </p:pic>
      <p:sp>
        <p:nvSpPr>
          <p:cNvPr id="253" name="Заголовок 17"/>
          <p:cNvSpPr/>
          <p:nvPr/>
        </p:nvSpPr>
        <p:spPr>
          <a:xfrm>
            <a:off x="214200" y="509040"/>
            <a:ext cx="5786280" cy="1056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bIns="0" anchor="b">
            <a:noAutofit/>
          </a:bodyPr>
          <a:p>
            <a:pPr marL="812880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Выполнение мер по ограни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2217960" y="3857760"/>
            <a:ext cx="46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3"/>
          <p:cNvSpPr/>
          <p:nvPr/>
        </p:nvSpPr>
        <p:spPr>
          <a:xfrm>
            <a:off x="6077880" y="3929040"/>
            <a:ext cx="111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Б и Р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4142880" cy="2328120"/>
          </a:xfrm>
          <a:prstGeom prst="rect">
            <a:avLst/>
          </a:prstGeom>
          <a:ln w="9525">
            <a:noFill/>
          </a:ln>
        </p:spPr>
      </p:pic>
      <p:pic>
        <p:nvPicPr>
          <p:cNvPr id="257" name="Рисунок 15" descr=""/>
          <p:cNvPicPr/>
          <p:nvPr/>
        </p:nvPicPr>
        <p:blipFill>
          <a:blip r:embed="rId5"/>
          <a:stretch/>
        </p:blipFill>
        <p:spPr>
          <a:xfrm>
            <a:off x="500040" y="1714320"/>
            <a:ext cx="3710160" cy="2159640"/>
          </a:xfrm>
          <a:prstGeom prst="rect">
            <a:avLst/>
          </a:prstGeom>
          <a:ln w="9525">
            <a:noFill/>
          </a:ln>
        </p:spPr>
      </p:pic>
      <p:pic>
        <p:nvPicPr>
          <p:cNvPr id="258" name="Рисунок 16" descr=""/>
          <p:cNvPicPr/>
          <p:nvPr/>
        </p:nvPicPr>
        <p:blipFill>
          <a:blip r:embed="rId6"/>
          <a:stretch/>
        </p:blipFill>
        <p:spPr>
          <a:xfrm>
            <a:off x="4714920" y="1714320"/>
            <a:ext cx="3579840" cy="2159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5323</TotalTime>
  <Application>LibreOffice/7.4.7.2$Linux_X86_64 LibreOffice_project/40$Build-2</Application>
  <AppVersion>15.0000</AppVersion>
  <Words>2956</Words>
  <Paragraphs>3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2:30:03Z</dcterms:created>
  <dc:creator>ASG</dc:creator>
  <dc:description/>
  <dc:language>en-US</dc:language>
  <cp:lastModifiedBy>Igor</cp:lastModifiedBy>
  <dcterms:modified xsi:type="dcterms:W3CDTF">2015-10-20T19:37:30Z</dcterms:modified>
  <cp:revision>3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Экран (4:3)</vt:lpwstr>
  </property>
  <property fmtid="{D5CDD505-2E9C-101B-9397-08002B2CF9AE}" pid="4" name="Slides">
    <vt:r8>40</vt:r8>
  </property>
</Properties>
</file>