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4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69.jpeg" ContentType="image/jpeg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59.jpeg" ContentType="image/jpeg"/>
  <Override PartName="/ppt/media/image18.png" ContentType="image/png"/>
  <Override PartName="/ppt/media/image34.jpeg" ContentType="image/jpeg"/>
  <Override PartName="/ppt/media/image58.wmf" ContentType="image/x-wmf"/>
  <Override PartName="/ppt/media/image57.wmf" ContentType="image/x-wmf"/>
  <Override PartName="/ppt/media/image14.jpeg" ContentType="image/jpeg"/>
  <Override PartName="/ppt/media/image55.wmf" ContentType="image/x-wmf"/>
  <Override PartName="/ppt/media/image21.wmf" ContentType="image/x-wmf"/>
  <Override PartName="/ppt/media/image22.wmf" ContentType="image/x-wmf"/>
  <Override PartName="/ppt/media/image27.wmf" ContentType="image/x-wmf"/>
  <Override PartName="/ppt/media/image29.wmf" ContentType="image/x-wmf"/>
  <Override PartName="/ppt/media/image66.png" ContentType="image/png"/>
  <Override PartName="/ppt/media/image23.wmf" ContentType="image/x-wmf"/>
  <Override PartName="/ppt/media/image60.wmf" ContentType="image/x-wmf"/>
  <Override PartName="/ppt/media/image2.jpeg" ContentType="image/jpeg"/>
  <Override PartName="/ppt/media/image1.wmf" ContentType="image/x-wmf"/>
  <Override PartName="/ppt/media/image24.wmf" ContentType="image/x-wmf"/>
  <Override PartName="/ppt/media/image64.jpeg" ContentType="image/jpeg"/>
  <Override PartName="/ppt/media/image61.wmf" ContentType="image/x-wmf"/>
  <Override PartName="/ppt/media/image79.wmf" ContentType="image/x-wmf"/>
  <Override PartName="/ppt/media/image67.wmf" ContentType="image/x-wmf"/>
  <Override PartName="/ppt/media/image30.wmf" ContentType="image/x-wmf"/>
  <Override PartName="/ppt/media/image76.wmf" ContentType="image/x-wmf"/>
  <Override PartName="/ppt/media/image75.wmf" ContentType="image/x-wmf"/>
  <Override PartName="/ppt/media/image5.png" ContentType="image/png"/>
  <Override PartName="/ppt/media/image26.wmf" ContentType="image/x-wmf"/>
  <Override PartName="/ppt/media/image63.wmf" ContentType="image/x-wmf"/>
  <Override PartName="/ppt/media/image74.wmf" ContentType="image/x-wmf"/>
  <Override PartName="/ppt/media/image71.wmf" ContentType="image/x-wmf"/>
  <Override PartName="/ppt/media/image65.jpeg" ContentType="image/jpeg"/>
  <Override PartName="/ppt/media/image25.wmf" ContentType="image/x-wmf"/>
  <Override PartName="/ppt/media/image62.wmf" ContentType="image/x-wmf"/>
  <Override PartName="/ppt/media/image77.wmf" ContentType="image/x-wmf"/>
  <Override PartName="/ppt/media/image16.jpeg" ContentType="image/jpeg"/>
  <Override PartName="/ppt/media/image73.wmf" ContentType="image/x-wmf"/>
  <Override PartName="/ppt/media/image15.png" ContentType="image/png"/>
  <Override PartName="/ppt/media/image3.png" ContentType="image/png"/>
  <Override PartName="/ppt/media/image72.wmf" ContentType="image/x-wmf"/>
  <Override PartName="/ppt/media/image70.wmf" ContentType="image/x-wmf"/>
  <Override PartName="/ppt/media/image4.jpeg" ContentType="image/jpeg"/>
  <Override PartName="/ppt/media/image8.wmf" ContentType="image/x-wmf"/>
  <Override PartName="/ppt/media/image32.jpeg" ContentType="image/jpeg"/>
  <Override PartName="/ppt/media/image38.wmf" ContentType="image/x-wmf"/>
  <Override PartName="/ppt/media/image36.jpeg" ContentType="image/jpeg"/>
  <Override PartName="/ppt/media/image78.wmf" ContentType="image/x-wmf"/>
  <Override PartName="/ppt/media/image10.png" ContentType="image/png"/>
  <Override PartName="/ppt/media/image68.wmf" ContentType="image/x-wmf"/>
  <Override PartName="/ppt/media/image35.jpeg" ContentType="image/jpeg"/>
  <Override PartName="/ppt/media/image50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17.jpeg" ContentType="image/jpeg"/>
  <Override PartName="/ppt/media/image45.wmf" ContentType="image/x-wmf"/>
  <Override PartName="/ppt/media/image11.wmf" ContentType="image/x-wmf"/>
  <Override PartName="/ppt/media/image33.jpeg" ContentType="image/jpeg"/>
  <Override PartName="/ppt/media/image48.wmf" ContentType="image/x-wmf"/>
  <Override PartName="/ppt/media/image20.gif" ContentType="image/gif"/>
  <Override PartName="/ppt/media/image53.wmf" ContentType="image/x-wmf"/>
  <Override PartName="/ppt/media/image28.wmf" ContentType="image/x-wmf"/>
  <Override PartName="/ppt/media/image31.jpeg" ContentType="image/jpeg"/>
  <Override PartName="/ppt/media/image47.wmf" ContentType="image/x-wmf"/>
  <Override PartName="/ppt/media/image13.jpeg" ContentType="image/jpeg"/>
  <Override PartName="/ppt/charts/chart1.xml" ContentType="application/vnd.openxmlformats-officedocument.drawingml.chart+xml"/>
  <Override PartName="/ppt/charts/_rels/chart2.xml.rels" ContentType="application/vnd.openxmlformats-package.relationships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charts/_rels/chart2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79" spc="-1" strike="noStrike">
                <a:solidFill>
                  <a:srgbClr val="000000"/>
                </a:solidFill>
                <a:latin typeface="Calibri"/>
              </a:defRPr>
            </a:pPr>
            <a:r>
              <a:rPr b="1" sz="1679" spc="-1" strike="noStrike">
                <a:solidFill>
                  <a:srgbClr val="000000"/>
                </a:solidFill>
                <a:latin typeface="Calibri"/>
              </a:rPr>
              <a:t>W среднегодовые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W среднегодовые</c:v>
                </c:pt>
              </c:strCache>
            </c:strRef>
          </c:tx>
          <c:spPr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16"/>
                <c:pt idx="0">
                  <c:v>1700.5</c:v>
                </c:pt>
                <c:pt idx="1">
                  <c:v>1701.5</c:v>
                </c:pt>
                <c:pt idx="2">
                  <c:v>1702.5</c:v>
                </c:pt>
                <c:pt idx="3">
                  <c:v>1703.5</c:v>
                </c:pt>
                <c:pt idx="4">
                  <c:v>1704.5</c:v>
                </c:pt>
                <c:pt idx="5">
                  <c:v>1705.5</c:v>
                </c:pt>
                <c:pt idx="6">
                  <c:v>1706.5</c:v>
                </c:pt>
                <c:pt idx="7">
                  <c:v>1707.5</c:v>
                </c:pt>
                <c:pt idx="8">
                  <c:v>1708.5</c:v>
                </c:pt>
                <c:pt idx="9">
                  <c:v>1709.5</c:v>
                </c:pt>
                <c:pt idx="10">
                  <c:v>1710.5</c:v>
                </c:pt>
                <c:pt idx="11">
                  <c:v>1711.5</c:v>
                </c:pt>
                <c:pt idx="12">
                  <c:v>1712.5</c:v>
                </c:pt>
                <c:pt idx="13">
                  <c:v>1713.5</c:v>
                </c:pt>
                <c:pt idx="14">
                  <c:v>1714.5</c:v>
                </c:pt>
                <c:pt idx="15">
                  <c:v>1715.5</c:v>
                </c:pt>
                <c:pt idx="16">
                  <c:v>1716.5</c:v>
                </c:pt>
                <c:pt idx="17">
                  <c:v>1717.5</c:v>
                </c:pt>
                <c:pt idx="18">
                  <c:v>1718.5</c:v>
                </c:pt>
                <c:pt idx="19">
                  <c:v>1719.5</c:v>
                </c:pt>
                <c:pt idx="20">
                  <c:v>1720.5</c:v>
                </c:pt>
                <c:pt idx="21">
                  <c:v>1721.5</c:v>
                </c:pt>
                <c:pt idx="22">
                  <c:v>1722.5</c:v>
                </c:pt>
                <c:pt idx="23">
                  <c:v>1723.5</c:v>
                </c:pt>
                <c:pt idx="24">
                  <c:v>1724.5</c:v>
                </c:pt>
                <c:pt idx="25">
                  <c:v>1725.5</c:v>
                </c:pt>
                <c:pt idx="26">
                  <c:v>1726.5</c:v>
                </c:pt>
                <c:pt idx="27">
                  <c:v>1727.5</c:v>
                </c:pt>
                <c:pt idx="28">
                  <c:v>1728.5</c:v>
                </c:pt>
                <c:pt idx="29">
                  <c:v>1729.5</c:v>
                </c:pt>
                <c:pt idx="30">
                  <c:v>1730.5</c:v>
                </c:pt>
                <c:pt idx="31">
                  <c:v>1731.5</c:v>
                </c:pt>
                <c:pt idx="32">
                  <c:v>1732.5</c:v>
                </c:pt>
                <c:pt idx="33">
                  <c:v>1733.5</c:v>
                </c:pt>
                <c:pt idx="34">
                  <c:v>1734.5</c:v>
                </c:pt>
                <c:pt idx="35">
                  <c:v>1735.5</c:v>
                </c:pt>
                <c:pt idx="36">
                  <c:v>1736.5</c:v>
                </c:pt>
                <c:pt idx="37">
                  <c:v>1737.5</c:v>
                </c:pt>
                <c:pt idx="38">
                  <c:v>1738.5</c:v>
                </c:pt>
                <c:pt idx="39">
                  <c:v>1739.5</c:v>
                </c:pt>
                <c:pt idx="40">
                  <c:v>1740.5</c:v>
                </c:pt>
                <c:pt idx="41">
                  <c:v>1741.5</c:v>
                </c:pt>
                <c:pt idx="42">
                  <c:v>1742.5</c:v>
                </c:pt>
                <c:pt idx="43">
                  <c:v>1743.5</c:v>
                </c:pt>
                <c:pt idx="44">
                  <c:v>1744.5</c:v>
                </c:pt>
                <c:pt idx="45">
                  <c:v>1745.5</c:v>
                </c:pt>
                <c:pt idx="46">
                  <c:v>1746.5</c:v>
                </c:pt>
                <c:pt idx="47">
                  <c:v>1747.5</c:v>
                </c:pt>
                <c:pt idx="48">
                  <c:v>1748.5</c:v>
                </c:pt>
                <c:pt idx="49">
                  <c:v>1749.5</c:v>
                </c:pt>
                <c:pt idx="50">
                  <c:v>1750.5</c:v>
                </c:pt>
                <c:pt idx="51">
                  <c:v>1751.5</c:v>
                </c:pt>
                <c:pt idx="52">
                  <c:v>1752.5</c:v>
                </c:pt>
                <c:pt idx="53">
                  <c:v>1753.5</c:v>
                </c:pt>
                <c:pt idx="54">
                  <c:v>1754.5</c:v>
                </c:pt>
                <c:pt idx="55">
                  <c:v>1755.5</c:v>
                </c:pt>
                <c:pt idx="56">
                  <c:v>1756.5</c:v>
                </c:pt>
                <c:pt idx="57">
                  <c:v>1757.5</c:v>
                </c:pt>
                <c:pt idx="58">
                  <c:v>1758.5</c:v>
                </c:pt>
                <c:pt idx="59">
                  <c:v>1759.5</c:v>
                </c:pt>
                <c:pt idx="60">
                  <c:v>1760.5</c:v>
                </c:pt>
                <c:pt idx="61">
                  <c:v>1761.5</c:v>
                </c:pt>
                <c:pt idx="62">
                  <c:v>1762.5</c:v>
                </c:pt>
                <c:pt idx="63">
                  <c:v>1763.5</c:v>
                </c:pt>
                <c:pt idx="64">
                  <c:v>1764.5</c:v>
                </c:pt>
                <c:pt idx="65">
                  <c:v>1765.5</c:v>
                </c:pt>
                <c:pt idx="66">
                  <c:v>1766.5</c:v>
                </c:pt>
                <c:pt idx="67">
                  <c:v>1767.5</c:v>
                </c:pt>
                <c:pt idx="68">
                  <c:v>1768.5</c:v>
                </c:pt>
                <c:pt idx="69">
                  <c:v>1769.5</c:v>
                </c:pt>
                <c:pt idx="70">
                  <c:v>1770.5</c:v>
                </c:pt>
                <c:pt idx="71">
                  <c:v>1771.5</c:v>
                </c:pt>
                <c:pt idx="72">
                  <c:v>1772.5</c:v>
                </c:pt>
                <c:pt idx="73">
                  <c:v>1773.5</c:v>
                </c:pt>
                <c:pt idx="74">
                  <c:v>1774.5</c:v>
                </c:pt>
                <c:pt idx="75">
                  <c:v>1775.5</c:v>
                </c:pt>
                <c:pt idx="76">
                  <c:v>1776.5</c:v>
                </c:pt>
                <c:pt idx="77">
                  <c:v>1777.5</c:v>
                </c:pt>
                <c:pt idx="78">
                  <c:v>1778.5</c:v>
                </c:pt>
                <c:pt idx="79">
                  <c:v>1779.5</c:v>
                </c:pt>
                <c:pt idx="80">
                  <c:v>1780.5</c:v>
                </c:pt>
                <c:pt idx="81">
                  <c:v>1781.5</c:v>
                </c:pt>
                <c:pt idx="82">
                  <c:v>1782.5</c:v>
                </c:pt>
                <c:pt idx="83">
                  <c:v>1783.5</c:v>
                </c:pt>
                <c:pt idx="84">
                  <c:v>1784.5</c:v>
                </c:pt>
                <c:pt idx="85">
                  <c:v>1785.5</c:v>
                </c:pt>
                <c:pt idx="86">
                  <c:v>1786.5</c:v>
                </c:pt>
                <c:pt idx="87">
                  <c:v>1787.5</c:v>
                </c:pt>
                <c:pt idx="88">
                  <c:v>1788.5</c:v>
                </c:pt>
                <c:pt idx="89">
                  <c:v>1789.5</c:v>
                </c:pt>
                <c:pt idx="90">
                  <c:v>1790.5</c:v>
                </c:pt>
                <c:pt idx="91">
                  <c:v>1791.5</c:v>
                </c:pt>
                <c:pt idx="92">
                  <c:v>1792.5</c:v>
                </c:pt>
                <c:pt idx="93">
                  <c:v>1793.5</c:v>
                </c:pt>
                <c:pt idx="94">
                  <c:v>1794.5</c:v>
                </c:pt>
                <c:pt idx="95">
                  <c:v>1795.5</c:v>
                </c:pt>
                <c:pt idx="96">
                  <c:v>1796.5</c:v>
                </c:pt>
                <c:pt idx="97">
                  <c:v>1797.5</c:v>
                </c:pt>
                <c:pt idx="98">
                  <c:v>1798.5</c:v>
                </c:pt>
                <c:pt idx="99">
                  <c:v>1799.5</c:v>
                </c:pt>
                <c:pt idx="100">
                  <c:v>1800.5</c:v>
                </c:pt>
                <c:pt idx="101">
                  <c:v>1801.5</c:v>
                </c:pt>
                <c:pt idx="102">
                  <c:v>1802.5</c:v>
                </c:pt>
                <c:pt idx="103">
                  <c:v>1803.5</c:v>
                </c:pt>
                <c:pt idx="104">
                  <c:v>1804.5</c:v>
                </c:pt>
                <c:pt idx="105">
                  <c:v>1805.5</c:v>
                </c:pt>
                <c:pt idx="106">
                  <c:v>1806.5</c:v>
                </c:pt>
                <c:pt idx="107">
                  <c:v>1807.5</c:v>
                </c:pt>
                <c:pt idx="108">
                  <c:v>1808.5</c:v>
                </c:pt>
                <c:pt idx="109">
                  <c:v>1809.5</c:v>
                </c:pt>
                <c:pt idx="110">
                  <c:v>1810.5</c:v>
                </c:pt>
                <c:pt idx="111">
                  <c:v>1811.5</c:v>
                </c:pt>
                <c:pt idx="112">
                  <c:v>1812.5</c:v>
                </c:pt>
                <c:pt idx="113">
                  <c:v>1813.5</c:v>
                </c:pt>
                <c:pt idx="114">
                  <c:v>1814.5</c:v>
                </c:pt>
                <c:pt idx="115">
                  <c:v>1815.5</c:v>
                </c:pt>
                <c:pt idx="116">
                  <c:v>1816.5</c:v>
                </c:pt>
                <c:pt idx="117">
                  <c:v>1817.5</c:v>
                </c:pt>
                <c:pt idx="118">
                  <c:v>1818.5</c:v>
                </c:pt>
                <c:pt idx="119">
                  <c:v>1819.5</c:v>
                </c:pt>
                <c:pt idx="120">
                  <c:v>1820.5</c:v>
                </c:pt>
                <c:pt idx="121">
                  <c:v>1821.5</c:v>
                </c:pt>
                <c:pt idx="122">
                  <c:v>1822.5</c:v>
                </c:pt>
                <c:pt idx="123">
                  <c:v>1823.5</c:v>
                </c:pt>
                <c:pt idx="124">
                  <c:v>1824.5</c:v>
                </c:pt>
                <c:pt idx="125">
                  <c:v>1825.5</c:v>
                </c:pt>
                <c:pt idx="126">
                  <c:v>1826.5</c:v>
                </c:pt>
                <c:pt idx="127">
                  <c:v>1827.5</c:v>
                </c:pt>
                <c:pt idx="128">
                  <c:v>1828.5</c:v>
                </c:pt>
                <c:pt idx="129">
                  <c:v>1829.5</c:v>
                </c:pt>
                <c:pt idx="130">
                  <c:v>1830.5</c:v>
                </c:pt>
                <c:pt idx="131">
                  <c:v>1831.5</c:v>
                </c:pt>
                <c:pt idx="132">
                  <c:v>1832.5</c:v>
                </c:pt>
                <c:pt idx="133">
                  <c:v>1833.5</c:v>
                </c:pt>
                <c:pt idx="134">
                  <c:v>1834.5</c:v>
                </c:pt>
                <c:pt idx="135">
                  <c:v>1835.5</c:v>
                </c:pt>
                <c:pt idx="136">
                  <c:v>1836.5</c:v>
                </c:pt>
                <c:pt idx="137">
                  <c:v>1837.5</c:v>
                </c:pt>
                <c:pt idx="138">
                  <c:v>1838.5</c:v>
                </c:pt>
                <c:pt idx="139">
                  <c:v>1839.5</c:v>
                </c:pt>
                <c:pt idx="140">
                  <c:v>1840.5</c:v>
                </c:pt>
                <c:pt idx="141">
                  <c:v>1841.5</c:v>
                </c:pt>
                <c:pt idx="142">
                  <c:v>1842.5</c:v>
                </c:pt>
                <c:pt idx="143">
                  <c:v>1843.5</c:v>
                </c:pt>
                <c:pt idx="144">
                  <c:v>1844.5</c:v>
                </c:pt>
                <c:pt idx="145">
                  <c:v>1845.5</c:v>
                </c:pt>
                <c:pt idx="146">
                  <c:v>1846.5</c:v>
                </c:pt>
                <c:pt idx="147">
                  <c:v>1847.5</c:v>
                </c:pt>
                <c:pt idx="148">
                  <c:v>1848.5</c:v>
                </c:pt>
                <c:pt idx="149">
                  <c:v>1849.5</c:v>
                </c:pt>
                <c:pt idx="150">
                  <c:v>1850.5</c:v>
                </c:pt>
                <c:pt idx="151">
                  <c:v>1851.5</c:v>
                </c:pt>
                <c:pt idx="152">
                  <c:v>1852.5</c:v>
                </c:pt>
                <c:pt idx="153">
                  <c:v>1853.5</c:v>
                </c:pt>
                <c:pt idx="154">
                  <c:v>1854.5</c:v>
                </c:pt>
                <c:pt idx="155">
                  <c:v>1855.5</c:v>
                </c:pt>
                <c:pt idx="156">
                  <c:v>1856.5</c:v>
                </c:pt>
                <c:pt idx="157">
                  <c:v>1857.5</c:v>
                </c:pt>
                <c:pt idx="158">
                  <c:v>1858.5</c:v>
                </c:pt>
                <c:pt idx="159">
                  <c:v>1859.5</c:v>
                </c:pt>
                <c:pt idx="160">
                  <c:v>1860.5</c:v>
                </c:pt>
                <c:pt idx="161">
                  <c:v>1861.5</c:v>
                </c:pt>
                <c:pt idx="162">
                  <c:v>1862.5</c:v>
                </c:pt>
                <c:pt idx="163">
                  <c:v>1863.5</c:v>
                </c:pt>
                <c:pt idx="164">
                  <c:v>1864.5</c:v>
                </c:pt>
                <c:pt idx="165">
                  <c:v>1865.5</c:v>
                </c:pt>
                <c:pt idx="166">
                  <c:v>1866.5</c:v>
                </c:pt>
                <c:pt idx="167">
                  <c:v>1867.5</c:v>
                </c:pt>
                <c:pt idx="168">
                  <c:v>1868.5</c:v>
                </c:pt>
                <c:pt idx="169">
                  <c:v>1869.5</c:v>
                </c:pt>
                <c:pt idx="170">
                  <c:v>1870.5</c:v>
                </c:pt>
                <c:pt idx="171">
                  <c:v>1871.5</c:v>
                </c:pt>
                <c:pt idx="172">
                  <c:v>1872.5</c:v>
                </c:pt>
                <c:pt idx="173">
                  <c:v>1873.5</c:v>
                </c:pt>
                <c:pt idx="174">
                  <c:v>1874.5</c:v>
                </c:pt>
                <c:pt idx="175">
                  <c:v>1875.5</c:v>
                </c:pt>
                <c:pt idx="176">
                  <c:v>1876.5</c:v>
                </c:pt>
                <c:pt idx="177">
                  <c:v>1877.5</c:v>
                </c:pt>
                <c:pt idx="178">
                  <c:v>1878.5</c:v>
                </c:pt>
                <c:pt idx="179">
                  <c:v>1879.5</c:v>
                </c:pt>
                <c:pt idx="180">
                  <c:v>1880.5</c:v>
                </c:pt>
                <c:pt idx="181">
                  <c:v>1881.5</c:v>
                </c:pt>
                <c:pt idx="182">
                  <c:v>1882.5</c:v>
                </c:pt>
                <c:pt idx="183">
                  <c:v>1883.5</c:v>
                </c:pt>
                <c:pt idx="184">
                  <c:v>1884.5</c:v>
                </c:pt>
                <c:pt idx="185">
                  <c:v>1885.5</c:v>
                </c:pt>
                <c:pt idx="186">
                  <c:v>1886.5</c:v>
                </c:pt>
                <c:pt idx="187">
                  <c:v>1887.5</c:v>
                </c:pt>
                <c:pt idx="188">
                  <c:v>1888.5</c:v>
                </c:pt>
                <c:pt idx="189">
                  <c:v>1889.5</c:v>
                </c:pt>
                <c:pt idx="190">
                  <c:v>1890.5</c:v>
                </c:pt>
                <c:pt idx="191">
                  <c:v>1891.5</c:v>
                </c:pt>
                <c:pt idx="192">
                  <c:v>1892.5</c:v>
                </c:pt>
                <c:pt idx="193">
                  <c:v>1893.5</c:v>
                </c:pt>
                <c:pt idx="194">
                  <c:v>1894.5</c:v>
                </c:pt>
                <c:pt idx="195">
                  <c:v>1895.5</c:v>
                </c:pt>
                <c:pt idx="196">
                  <c:v>1896.5</c:v>
                </c:pt>
                <c:pt idx="197">
                  <c:v>1897.5</c:v>
                </c:pt>
                <c:pt idx="198">
                  <c:v>1898.5</c:v>
                </c:pt>
                <c:pt idx="199">
                  <c:v>1899.5</c:v>
                </c:pt>
                <c:pt idx="200">
                  <c:v>1900.5</c:v>
                </c:pt>
                <c:pt idx="201">
                  <c:v>1901.5</c:v>
                </c:pt>
                <c:pt idx="202">
                  <c:v>1902.5</c:v>
                </c:pt>
                <c:pt idx="203">
                  <c:v>1903.5</c:v>
                </c:pt>
                <c:pt idx="204">
                  <c:v>1904.5</c:v>
                </c:pt>
                <c:pt idx="205">
                  <c:v>1905.5</c:v>
                </c:pt>
                <c:pt idx="206">
                  <c:v>1906.5</c:v>
                </c:pt>
                <c:pt idx="207">
                  <c:v>1907.5</c:v>
                </c:pt>
                <c:pt idx="208">
                  <c:v>1908.5</c:v>
                </c:pt>
                <c:pt idx="209">
                  <c:v>1909.5</c:v>
                </c:pt>
                <c:pt idx="210">
                  <c:v>1910.5</c:v>
                </c:pt>
                <c:pt idx="211">
                  <c:v>1911.5</c:v>
                </c:pt>
                <c:pt idx="212">
                  <c:v>1912.5</c:v>
                </c:pt>
                <c:pt idx="213">
                  <c:v>1913.5</c:v>
                </c:pt>
                <c:pt idx="214">
                  <c:v>1914.5</c:v>
                </c:pt>
                <c:pt idx="215">
                  <c:v>1915.5</c:v>
                </c:pt>
                <c:pt idx="216">
                  <c:v>1916.5</c:v>
                </c:pt>
                <c:pt idx="217">
                  <c:v>1917.5</c:v>
                </c:pt>
                <c:pt idx="218">
                  <c:v>1918.5</c:v>
                </c:pt>
                <c:pt idx="219">
                  <c:v>1919.5</c:v>
                </c:pt>
                <c:pt idx="220">
                  <c:v>1920.5</c:v>
                </c:pt>
                <c:pt idx="221">
                  <c:v>1921.5</c:v>
                </c:pt>
                <c:pt idx="222">
                  <c:v>1922.5</c:v>
                </c:pt>
                <c:pt idx="223">
                  <c:v>1923.5</c:v>
                </c:pt>
                <c:pt idx="224">
                  <c:v>1924.5</c:v>
                </c:pt>
                <c:pt idx="225">
                  <c:v>1925.5</c:v>
                </c:pt>
                <c:pt idx="226">
                  <c:v>1926.5</c:v>
                </c:pt>
                <c:pt idx="227">
                  <c:v>1927.5</c:v>
                </c:pt>
                <c:pt idx="228">
                  <c:v>1928.5</c:v>
                </c:pt>
                <c:pt idx="229">
                  <c:v>1929.5</c:v>
                </c:pt>
                <c:pt idx="230">
                  <c:v>1930.5</c:v>
                </c:pt>
                <c:pt idx="231">
                  <c:v>1931.5</c:v>
                </c:pt>
                <c:pt idx="232">
                  <c:v>1932.5</c:v>
                </c:pt>
                <c:pt idx="233">
                  <c:v>1933.5</c:v>
                </c:pt>
                <c:pt idx="234">
                  <c:v>1934.5</c:v>
                </c:pt>
                <c:pt idx="235">
                  <c:v>1935.5</c:v>
                </c:pt>
                <c:pt idx="236">
                  <c:v>1936.5</c:v>
                </c:pt>
                <c:pt idx="237">
                  <c:v>1937.5</c:v>
                </c:pt>
                <c:pt idx="238">
                  <c:v>1938.5</c:v>
                </c:pt>
                <c:pt idx="239">
                  <c:v>1939.5</c:v>
                </c:pt>
                <c:pt idx="240">
                  <c:v>1940.5</c:v>
                </c:pt>
                <c:pt idx="241">
                  <c:v>1941.5</c:v>
                </c:pt>
                <c:pt idx="242">
                  <c:v>1942.5</c:v>
                </c:pt>
                <c:pt idx="243">
                  <c:v>1943.5</c:v>
                </c:pt>
                <c:pt idx="244">
                  <c:v>1944.5</c:v>
                </c:pt>
                <c:pt idx="245">
                  <c:v>1945.5</c:v>
                </c:pt>
                <c:pt idx="246">
                  <c:v>1946.5</c:v>
                </c:pt>
                <c:pt idx="247">
                  <c:v>1947.5</c:v>
                </c:pt>
                <c:pt idx="248">
                  <c:v>1948.5</c:v>
                </c:pt>
                <c:pt idx="249">
                  <c:v>1949.5</c:v>
                </c:pt>
                <c:pt idx="250">
                  <c:v>1950.5</c:v>
                </c:pt>
                <c:pt idx="251">
                  <c:v>1951.5</c:v>
                </c:pt>
                <c:pt idx="252">
                  <c:v>1952.5</c:v>
                </c:pt>
                <c:pt idx="253">
                  <c:v>1953.5</c:v>
                </c:pt>
                <c:pt idx="254">
                  <c:v>1954.5</c:v>
                </c:pt>
                <c:pt idx="255">
                  <c:v>1955.5</c:v>
                </c:pt>
                <c:pt idx="256">
                  <c:v>1956.5</c:v>
                </c:pt>
                <c:pt idx="257">
                  <c:v>1957.5</c:v>
                </c:pt>
                <c:pt idx="258">
                  <c:v>1958.5</c:v>
                </c:pt>
                <c:pt idx="259">
                  <c:v>1959.5</c:v>
                </c:pt>
                <c:pt idx="260">
                  <c:v>1960.5</c:v>
                </c:pt>
                <c:pt idx="261">
                  <c:v>1961.5</c:v>
                </c:pt>
                <c:pt idx="262">
                  <c:v>1962.5</c:v>
                </c:pt>
                <c:pt idx="263">
                  <c:v>1963.5</c:v>
                </c:pt>
                <c:pt idx="264">
                  <c:v>1964.5</c:v>
                </c:pt>
                <c:pt idx="265">
                  <c:v>1965.5</c:v>
                </c:pt>
                <c:pt idx="266">
                  <c:v>1966.5</c:v>
                </c:pt>
                <c:pt idx="267">
                  <c:v>1967.5</c:v>
                </c:pt>
                <c:pt idx="268">
                  <c:v>1968.5</c:v>
                </c:pt>
                <c:pt idx="269">
                  <c:v>1969.5</c:v>
                </c:pt>
                <c:pt idx="270">
                  <c:v>1970.5</c:v>
                </c:pt>
                <c:pt idx="271">
                  <c:v>1971.5</c:v>
                </c:pt>
                <c:pt idx="272">
                  <c:v>1972.5</c:v>
                </c:pt>
                <c:pt idx="273">
                  <c:v>1973.5</c:v>
                </c:pt>
                <c:pt idx="274">
                  <c:v>1974.5</c:v>
                </c:pt>
                <c:pt idx="275">
                  <c:v>1975.5</c:v>
                </c:pt>
                <c:pt idx="276">
                  <c:v>1976.5</c:v>
                </c:pt>
                <c:pt idx="277">
                  <c:v>1977.5</c:v>
                </c:pt>
                <c:pt idx="278">
                  <c:v>1978.5</c:v>
                </c:pt>
                <c:pt idx="279">
                  <c:v>1979.5</c:v>
                </c:pt>
                <c:pt idx="280">
                  <c:v>1980.5</c:v>
                </c:pt>
                <c:pt idx="281">
                  <c:v>1981.5</c:v>
                </c:pt>
                <c:pt idx="282">
                  <c:v>1982.5</c:v>
                </c:pt>
                <c:pt idx="283">
                  <c:v>1983.5</c:v>
                </c:pt>
                <c:pt idx="284">
                  <c:v>1984.5</c:v>
                </c:pt>
                <c:pt idx="285">
                  <c:v>1985.5</c:v>
                </c:pt>
                <c:pt idx="286">
                  <c:v>1986.5</c:v>
                </c:pt>
                <c:pt idx="287">
                  <c:v>1987.5</c:v>
                </c:pt>
                <c:pt idx="288">
                  <c:v>1988.5</c:v>
                </c:pt>
                <c:pt idx="289">
                  <c:v>1989.5</c:v>
                </c:pt>
                <c:pt idx="290">
                  <c:v>1990.5</c:v>
                </c:pt>
                <c:pt idx="291">
                  <c:v>1991.5</c:v>
                </c:pt>
                <c:pt idx="292">
                  <c:v>1992.5</c:v>
                </c:pt>
                <c:pt idx="293">
                  <c:v>1993.5</c:v>
                </c:pt>
                <c:pt idx="294">
                  <c:v>1994.5</c:v>
                </c:pt>
                <c:pt idx="295">
                  <c:v>1995.5</c:v>
                </c:pt>
                <c:pt idx="296">
                  <c:v>1996.5</c:v>
                </c:pt>
                <c:pt idx="297">
                  <c:v>1997.5</c:v>
                </c:pt>
                <c:pt idx="298">
                  <c:v>1998.5</c:v>
                </c:pt>
                <c:pt idx="299">
                  <c:v>1999.5</c:v>
                </c:pt>
                <c:pt idx="300">
                  <c:v>2000.5</c:v>
                </c:pt>
                <c:pt idx="301">
                  <c:v>2001.5</c:v>
                </c:pt>
                <c:pt idx="302">
                  <c:v>2002.5</c:v>
                </c:pt>
                <c:pt idx="303">
                  <c:v>2003.5</c:v>
                </c:pt>
                <c:pt idx="304">
                  <c:v>2004.5</c:v>
                </c:pt>
                <c:pt idx="305">
                  <c:v>2005.5</c:v>
                </c:pt>
                <c:pt idx="306">
                  <c:v>2006.5</c:v>
                </c:pt>
                <c:pt idx="307">
                  <c:v>2007.5</c:v>
                </c:pt>
                <c:pt idx="308">
                  <c:v>2008.5</c:v>
                </c:pt>
                <c:pt idx="309">
                  <c:v>2009.5</c:v>
                </c:pt>
                <c:pt idx="310">
                  <c:v>2010.5</c:v>
                </c:pt>
                <c:pt idx="311">
                  <c:v>2011.5</c:v>
                </c:pt>
                <c:pt idx="312">
                  <c:v>2012.5</c:v>
                </c:pt>
                <c:pt idx="313">
                  <c:v>2013.5</c:v>
                </c:pt>
                <c:pt idx="314">
                  <c:v>2014.5</c:v>
                </c:pt>
                <c:pt idx="315">
                  <c:v>2015.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16"/>
                <c:pt idx="0">
                  <c:v>8.3</c:v>
                </c:pt>
                <c:pt idx="1">
                  <c:v>18.3</c:v>
                </c:pt>
                <c:pt idx="2">
                  <c:v>26.7</c:v>
                </c:pt>
                <c:pt idx="3">
                  <c:v>38.3</c:v>
                </c:pt>
                <c:pt idx="4">
                  <c:v>60</c:v>
                </c:pt>
                <c:pt idx="5">
                  <c:v>96.7</c:v>
                </c:pt>
                <c:pt idx="6">
                  <c:v>48.3</c:v>
                </c:pt>
                <c:pt idx="7">
                  <c:v>33.3</c:v>
                </c:pt>
                <c:pt idx="8">
                  <c:v>16.7</c:v>
                </c:pt>
                <c:pt idx="9">
                  <c:v>13.3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3.3</c:v>
                </c:pt>
                <c:pt idx="14">
                  <c:v>18.3</c:v>
                </c:pt>
                <c:pt idx="15">
                  <c:v>45</c:v>
                </c:pt>
                <c:pt idx="16">
                  <c:v>78.3</c:v>
                </c:pt>
                <c:pt idx="17">
                  <c:v>105</c:v>
                </c:pt>
                <c:pt idx="18">
                  <c:v>100</c:v>
                </c:pt>
                <c:pt idx="19">
                  <c:v>65</c:v>
                </c:pt>
                <c:pt idx="20">
                  <c:v>46.7</c:v>
                </c:pt>
                <c:pt idx="21">
                  <c:v>43.3</c:v>
                </c:pt>
                <c:pt idx="22">
                  <c:v>36.7</c:v>
                </c:pt>
                <c:pt idx="23">
                  <c:v>18.3</c:v>
                </c:pt>
                <c:pt idx="24">
                  <c:v>35</c:v>
                </c:pt>
                <c:pt idx="25">
                  <c:v>66.7</c:v>
                </c:pt>
                <c:pt idx="26">
                  <c:v>130</c:v>
                </c:pt>
                <c:pt idx="27">
                  <c:v>203.3</c:v>
                </c:pt>
                <c:pt idx="28">
                  <c:v>171.7</c:v>
                </c:pt>
                <c:pt idx="29">
                  <c:v>121.7</c:v>
                </c:pt>
                <c:pt idx="30">
                  <c:v>78.3</c:v>
                </c:pt>
                <c:pt idx="31">
                  <c:v>58.3</c:v>
                </c:pt>
                <c:pt idx="32">
                  <c:v>18.3</c:v>
                </c:pt>
                <c:pt idx="33">
                  <c:v>8.3</c:v>
                </c:pt>
                <c:pt idx="34">
                  <c:v>26.7</c:v>
                </c:pt>
                <c:pt idx="35">
                  <c:v>56.7</c:v>
                </c:pt>
                <c:pt idx="36">
                  <c:v>116.7</c:v>
                </c:pt>
                <c:pt idx="37">
                  <c:v>135</c:v>
                </c:pt>
                <c:pt idx="38">
                  <c:v>185</c:v>
                </c:pt>
                <c:pt idx="39">
                  <c:v>168.3</c:v>
                </c:pt>
                <c:pt idx="40">
                  <c:v>121.7</c:v>
                </c:pt>
                <c:pt idx="41">
                  <c:v>66.7</c:v>
                </c:pt>
                <c:pt idx="42">
                  <c:v>33.3</c:v>
                </c:pt>
                <c:pt idx="43">
                  <c:v>26.7</c:v>
                </c:pt>
                <c:pt idx="44">
                  <c:v>8.3</c:v>
                </c:pt>
                <c:pt idx="45">
                  <c:v>18.3</c:v>
                </c:pt>
                <c:pt idx="46">
                  <c:v>36.7</c:v>
                </c:pt>
                <c:pt idx="47">
                  <c:v>66.7</c:v>
                </c:pt>
                <c:pt idx="48">
                  <c:v>100</c:v>
                </c:pt>
                <c:pt idx="49">
                  <c:v>134.8</c:v>
                </c:pt>
                <c:pt idx="50">
                  <c:v>139</c:v>
                </c:pt>
                <c:pt idx="51">
                  <c:v>79.5</c:v>
                </c:pt>
                <c:pt idx="52">
                  <c:v>79.7</c:v>
                </c:pt>
                <c:pt idx="53">
                  <c:v>51.2</c:v>
                </c:pt>
                <c:pt idx="54">
                  <c:v>20.3</c:v>
                </c:pt>
                <c:pt idx="55">
                  <c:v>16</c:v>
                </c:pt>
                <c:pt idx="56">
                  <c:v>17</c:v>
                </c:pt>
                <c:pt idx="57">
                  <c:v>54</c:v>
                </c:pt>
                <c:pt idx="58">
                  <c:v>79.3</c:v>
                </c:pt>
                <c:pt idx="59">
                  <c:v>90</c:v>
                </c:pt>
                <c:pt idx="60">
                  <c:v>104.8</c:v>
                </c:pt>
                <c:pt idx="61">
                  <c:v>143.2</c:v>
                </c:pt>
                <c:pt idx="62">
                  <c:v>102</c:v>
                </c:pt>
                <c:pt idx="63">
                  <c:v>75.2</c:v>
                </c:pt>
                <c:pt idx="64">
                  <c:v>60.7</c:v>
                </c:pt>
                <c:pt idx="65">
                  <c:v>34.8</c:v>
                </c:pt>
                <c:pt idx="66">
                  <c:v>19</c:v>
                </c:pt>
                <c:pt idx="67">
                  <c:v>63</c:v>
                </c:pt>
                <c:pt idx="68">
                  <c:v>116.3</c:v>
                </c:pt>
                <c:pt idx="69">
                  <c:v>176.8</c:v>
                </c:pt>
                <c:pt idx="70">
                  <c:v>168</c:v>
                </c:pt>
                <c:pt idx="71">
                  <c:v>136</c:v>
                </c:pt>
                <c:pt idx="72">
                  <c:v>110.8</c:v>
                </c:pt>
                <c:pt idx="73">
                  <c:v>58</c:v>
                </c:pt>
                <c:pt idx="74">
                  <c:v>51</c:v>
                </c:pt>
                <c:pt idx="75">
                  <c:v>11.7</c:v>
                </c:pt>
                <c:pt idx="76">
                  <c:v>33</c:v>
                </c:pt>
                <c:pt idx="77">
                  <c:v>154.2</c:v>
                </c:pt>
                <c:pt idx="78">
                  <c:v>257.3</c:v>
                </c:pt>
                <c:pt idx="79">
                  <c:v>209.8</c:v>
                </c:pt>
                <c:pt idx="80">
                  <c:v>141.3</c:v>
                </c:pt>
                <c:pt idx="81">
                  <c:v>113.5</c:v>
                </c:pt>
                <c:pt idx="82">
                  <c:v>64.2</c:v>
                </c:pt>
                <c:pt idx="83">
                  <c:v>38</c:v>
                </c:pt>
                <c:pt idx="84">
                  <c:v>17</c:v>
                </c:pt>
                <c:pt idx="85">
                  <c:v>40.2</c:v>
                </c:pt>
                <c:pt idx="86">
                  <c:v>138.2</c:v>
                </c:pt>
                <c:pt idx="87">
                  <c:v>220</c:v>
                </c:pt>
                <c:pt idx="88">
                  <c:v>218.2</c:v>
                </c:pt>
                <c:pt idx="89">
                  <c:v>196.8</c:v>
                </c:pt>
                <c:pt idx="90">
                  <c:v>149.8</c:v>
                </c:pt>
                <c:pt idx="91">
                  <c:v>111</c:v>
                </c:pt>
                <c:pt idx="92">
                  <c:v>100</c:v>
                </c:pt>
                <c:pt idx="93">
                  <c:v>78.2</c:v>
                </c:pt>
                <c:pt idx="94">
                  <c:v>68.3</c:v>
                </c:pt>
                <c:pt idx="95">
                  <c:v>35.5</c:v>
                </c:pt>
                <c:pt idx="96">
                  <c:v>26.7</c:v>
                </c:pt>
                <c:pt idx="97">
                  <c:v>10.7</c:v>
                </c:pt>
                <c:pt idx="98">
                  <c:v>6.8</c:v>
                </c:pt>
                <c:pt idx="99">
                  <c:v>11.3</c:v>
                </c:pt>
                <c:pt idx="100">
                  <c:v>24.2</c:v>
                </c:pt>
                <c:pt idx="101">
                  <c:v>56.7</c:v>
                </c:pt>
                <c:pt idx="102">
                  <c:v>75</c:v>
                </c:pt>
                <c:pt idx="103">
                  <c:v>71.8</c:v>
                </c:pt>
                <c:pt idx="104">
                  <c:v>79.2</c:v>
                </c:pt>
                <c:pt idx="105">
                  <c:v>70.3</c:v>
                </c:pt>
                <c:pt idx="106">
                  <c:v>46.8</c:v>
                </c:pt>
                <c:pt idx="107">
                  <c:v>16.8</c:v>
                </c:pt>
                <c:pt idx="108">
                  <c:v>13.5</c:v>
                </c:pt>
                <c:pt idx="109">
                  <c:v>4.2</c:v>
                </c:pt>
                <c:pt idx="110">
                  <c:v>0</c:v>
                </c:pt>
                <c:pt idx="111">
                  <c:v>2.3</c:v>
                </c:pt>
                <c:pt idx="112">
                  <c:v>8.3</c:v>
                </c:pt>
                <c:pt idx="113">
                  <c:v>20.3</c:v>
                </c:pt>
                <c:pt idx="114">
                  <c:v>23.2</c:v>
                </c:pt>
                <c:pt idx="115">
                  <c:v>59</c:v>
                </c:pt>
                <c:pt idx="116">
                  <c:v>76.3</c:v>
                </c:pt>
                <c:pt idx="117">
                  <c:v>68.3</c:v>
                </c:pt>
                <c:pt idx="118">
                  <c:v>52.9</c:v>
                </c:pt>
                <c:pt idx="119">
                  <c:v>38.5</c:v>
                </c:pt>
                <c:pt idx="120">
                  <c:v>24.2</c:v>
                </c:pt>
                <c:pt idx="121">
                  <c:v>9.2</c:v>
                </c:pt>
                <c:pt idx="122">
                  <c:v>6.3</c:v>
                </c:pt>
                <c:pt idx="123">
                  <c:v>2.2</c:v>
                </c:pt>
                <c:pt idx="124">
                  <c:v>11.4</c:v>
                </c:pt>
                <c:pt idx="125">
                  <c:v>28.2</c:v>
                </c:pt>
                <c:pt idx="126">
                  <c:v>59.9</c:v>
                </c:pt>
                <c:pt idx="127">
                  <c:v>83</c:v>
                </c:pt>
                <c:pt idx="128">
                  <c:v>108.5</c:v>
                </c:pt>
                <c:pt idx="129">
                  <c:v>115.2</c:v>
                </c:pt>
                <c:pt idx="130">
                  <c:v>117.4</c:v>
                </c:pt>
                <c:pt idx="131">
                  <c:v>80.8</c:v>
                </c:pt>
                <c:pt idx="132">
                  <c:v>44.3</c:v>
                </c:pt>
                <c:pt idx="133">
                  <c:v>13.4</c:v>
                </c:pt>
                <c:pt idx="134">
                  <c:v>19.5</c:v>
                </c:pt>
                <c:pt idx="135">
                  <c:v>85.8</c:v>
                </c:pt>
                <c:pt idx="136">
                  <c:v>192.7</c:v>
                </c:pt>
                <c:pt idx="137">
                  <c:v>227.3</c:v>
                </c:pt>
                <c:pt idx="138">
                  <c:v>168.7</c:v>
                </c:pt>
                <c:pt idx="139">
                  <c:v>143</c:v>
                </c:pt>
                <c:pt idx="140">
                  <c:v>105.5</c:v>
                </c:pt>
                <c:pt idx="141">
                  <c:v>63.3</c:v>
                </c:pt>
                <c:pt idx="142">
                  <c:v>40.3</c:v>
                </c:pt>
                <c:pt idx="143">
                  <c:v>18.1</c:v>
                </c:pt>
                <c:pt idx="144">
                  <c:v>25.1</c:v>
                </c:pt>
                <c:pt idx="145">
                  <c:v>65.8</c:v>
                </c:pt>
                <c:pt idx="146">
                  <c:v>102.7</c:v>
                </c:pt>
                <c:pt idx="147">
                  <c:v>166.3</c:v>
                </c:pt>
                <c:pt idx="148">
                  <c:v>208.3</c:v>
                </c:pt>
                <c:pt idx="149">
                  <c:v>182.5</c:v>
                </c:pt>
                <c:pt idx="150">
                  <c:v>126.3</c:v>
                </c:pt>
                <c:pt idx="151">
                  <c:v>122</c:v>
                </c:pt>
                <c:pt idx="152">
                  <c:v>102.7</c:v>
                </c:pt>
                <c:pt idx="153">
                  <c:v>74.1</c:v>
                </c:pt>
                <c:pt idx="154">
                  <c:v>39</c:v>
                </c:pt>
                <c:pt idx="155">
                  <c:v>12.7</c:v>
                </c:pt>
                <c:pt idx="156">
                  <c:v>8.2</c:v>
                </c:pt>
                <c:pt idx="157">
                  <c:v>43.4</c:v>
                </c:pt>
                <c:pt idx="158">
                  <c:v>104.4</c:v>
                </c:pt>
                <c:pt idx="159">
                  <c:v>178.3</c:v>
                </c:pt>
                <c:pt idx="160">
                  <c:v>182.2</c:v>
                </c:pt>
                <c:pt idx="161">
                  <c:v>146.6</c:v>
                </c:pt>
                <c:pt idx="162">
                  <c:v>112.1</c:v>
                </c:pt>
                <c:pt idx="163">
                  <c:v>83.5</c:v>
                </c:pt>
                <c:pt idx="164">
                  <c:v>89.2</c:v>
                </c:pt>
                <c:pt idx="165">
                  <c:v>57.8</c:v>
                </c:pt>
                <c:pt idx="166">
                  <c:v>30.7</c:v>
                </c:pt>
                <c:pt idx="167">
                  <c:v>13.9</c:v>
                </c:pt>
                <c:pt idx="168">
                  <c:v>62.8</c:v>
                </c:pt>
                <c:pt idx="169">
                  <c:v>123.6</c:v>
                </c:pt>
                <c:pt idx="170">
                  <c:v>232</c:v>
                </c:pt>
                <c:pt idx="171">
                  <c:v>185.3</c:v>
                </c:pt>
                <c:pt idx="172">
                  <c:v>169.2</c:v>
                </c:pt>
                <c:pt idx="173">
                  <c:v>110.1</c:v>
                </c:pt>
                <c:pt idx="174">
                  <c:v>74.5</c:v>
                </c:pt>
                <c:pt idx="175">
                  <c:v>28.3</c:v>
                </c:pt>
                <c:pt idx="176">
                  <c:v>18.9</c:v>
                </c:pt>
                <c:pt idx="177">
                  <c:v>20.7</c:v>
                </c:pt>
                <c:pt idx="178">
                  <c:v>5.7</c:v>
                </c:pt>
                <c:pt idx="179">
                  <c:v>10</c:v>
                </c:pt>
                <c:pt idx="180">
                  <c:v>53.7</c:v>
                </c:pt>
                <c:pt idx="181">
                  <c:v>90.5</c:v>
                </c:pt>
                <c:pt idx="182">
                  <c:v>99</c:v>
                </c:pt>
                <c:pt idx="183">
                  <c:v>106.1</c:v>
                </c:pt>
                <c:pt idx="184">
                  <c:v>105.8</c:v>
                </c:pt>
                <c:pt idx="185">
                  <c:v>86.3</c:v>
                </c:pt>
                <c:pt idx="186">
                  <c:v>42.4</c:v>
                </c:pt>
                <c:pt idx="187">
                  <c:v>21.8</c:v>
                </c:pt>
                <c:pt idx="188">
                  <c:v>11.2</c:v>
                </c:pt>
                <c:pt idx="189">
                  <c:v>10.4</c:v>
                </c:pt>
                <c:pt idx="190">
                  <c:v>11.8</c:v>
                </c:pt>
                <c:pt idx="191">
                  <c:v>59.5</c:v>
                </c:pt>
                <c:pt idx="192">
                  <c:v>121.7</c:v>
                </c:pt>
                <c:pt idx="193">
                  <c:v>142</c:v>
                </c:pt>
                <c:pt idx="194">
                  <c:v>130</c:v>
                </c:pt>
                <c:pt idx="195">
                  <c:v>106.6</c:v>
                </c:pt>
                <c:pt idx="196">
                  <c:v>69.4</c:v>
                </c:pt>
                <c:pt idx="197">
                  <c:v>43.8</c:v>
                </c:pt>
                <c:pt idx="198">
                  <c:v>44.4</c:v>
                </c:pt>
                <c:pt idx="199">
                  <c:v>20.2</c:v>
                </c:pt>
                <c:pt idx="200">
                  <c:v>15.7</c:v>
                </c:pt>
                <c:pt idx="201">
                  <c:v>4.6</c:v>
                </c:pt>
                <c:pt idx="202">
                  <c:v>8.5</c:v>
                </c:pt>
                <c:pt idx="203">
                  <c:v>40.8</c:v>
                </c:pt>
                <c:pt idx="204">
                  <c:v>70.1</c:v>
                </c:pt>
                <c:pt idx="205">
                  <c:v>105.5</c:v>
                </c:pt>
                <c:pt idx="206">
                  <c:v>90.1</c:v>
                </c:pt>
                <c:pt idx="207">
                  <c:v>102.8</c:v>
                </c:pt>
                <c:pt idx="208">
                  <c:v>80.9</c:v>
                </c:pt>
                <c:pt idx="209">
                  <c:v>73.2</c:v>
                </c:pt>
                <c:pt idx="210">
                  <c:v>30.9</c:v>
                </c:pt>
                <c:pt idx="211">
                  <c:v>9.5</c:v>
                </c:pt>
                <c:pt idx="212">
                  <c:v>6</c:v>
                </c:pt>
                <c:pt idx="213">
                  <c:v>2.4</c:v>
                </c:pt>
                <c:pt idx="214">
                  <c:v>16.1</c:v>
                </c:pt>
                <c:pt idx="215">
                  <c:v>79</c:v>
                </c:pt>
                <c:pt idx="216">
                  <c:v>95</c:v>
                </c:pt>
                <c:pt idx="217">
                  <c:v>173.6</c:v>
                </c:pt>
                <c:pt idx="218">
                  <c:v>134.6</c:v>
                </c:pt>
                <c:pt idx="219">
                  <c:v>105.7</c:v>
                </c:pt>
                <c:pt idx="220">
                  <c:v>62.7</c:v>
                </c:pt>
                <c:pt idx="221">
                  <c:v>43.5</c:v>
                </c:pt>
                <c:pt idx="222">
                  <c:v>23.7</c:v>
                </c:pt>
                <c:pt idx="223">
                  <c:v>9.7</c:v>
                </c:pt>
                <c:pt idx="224">
                  <c:v>27.9</c:v>
                </c:pt>
                <c:pt idx="225">
                  <c:v>74</c:v>
                </c:pt>
                <c:pt idx="226">
                  <c:v>106.5</c:v>
                </c:pt>
                <c:pt idx="227">
                  <c:v>114.7</c:v>
                </c:pt>
                <c:pt idx="228">
                  <c:v>129.7</c:v>
                </c:pt>
                <c:pt idx="229">
                  <c:v>108.2</c:v>
                </c:pt>
                <c:pt idx="230">
                  <c:v>59.4</c:v>
                </c:pt>
                <c:pt idx="231">
                  <c:v>35.1</c:v>
                </c:pt>
                <c:pt idx="232">
                  <c:v>18.6</c:v>
                </c:pt>
                <c:pt idx="233">
                  <c:v>9.2</c:v>
                </c:pt>
                <c:pt idx="234">
                  <c:v>14.6</c:v>
                </c:pt>
                <c:pt idx="235">
                  <c:v>60.2</c:v>
                </c:pt>
                <c:pt idx="236">
                  <c:v>132.8</c:v>
                </c:pt>
                <c:pt idx="237">
                  <c:v>190.6</c:v>
                </c:pt>
                <c:pt idx="238">
                  <c:v>182.6</c:v>
                </c:pt>
                <c:pt idx="239">
                  <c:v>148</c:v>
                </c:pt>
                <c:pt idx="240">
                  <c:v>113</c:v>
                </c:pt>
                <c:pt idx="241">
                  <c:v>79.2</c:v>
                </c:pt>
                <c:pt idx="242">
                  <c:v>50.8</c:v>
                </c:pt>
                <c:pt idx="243">
                  <c:v>27.1</c:v>
                </c:pt>
                <c:pt idx="244">
                  <c:v>16.1</c:v>
                </c:pt>
                <c:pt idx="245">
                  <c:v>55.3</c:v>
                </c:pt>
                <c:pt idx="246">
                  <c:v>154.3</c:v>
                </c:pt>
                <c:pt idx="247">
                  <c:v>214.7</c:v>
                </c:pt>
                <c:pt idx="248">
                  <c:v>193</c:v>
                </c:pt>
                <c:pt idx="249">
                  <c:v>190.7</c:v>
                </c:pt>
                <c:pt idx="250">
                  <c:v>118.9</c:v>
                </c:pt>
                <c:pt idx="251">
                  <c:v>98.3</c:v>
                </c:pt>
                <c:pt idx="252">
                  <c:v>45</c:v>
                </c:pt>
                <c:pt idx="253">
                  <c:v>20.1</c:v>
                </c:pt>
                <c:pt idx="254">
                  <c:v>6.6</c:v>
                </c:pt>
                <c:pt idx="255">
                  <c:v>54.2</c:v>
                </c:pt>
                <c:pt idx="256">
                  <c:v>200.7</c:v>
                </c:pt>
                <c:pt idx="257">
                  <c:v>269.3</c:v>
                </c:pt>
                <c:pt idx="258">
                  <c:v>261.7</c:v>
                </c:pt>
                <c:pt idx="259">
                  <c:v>225.1</c:v>
                </c:pt>
                <c:pt idx="260">
                  <c:v>159</c:v>
                </c:pt>
                <c:pt idx="261">
                  <c:v>76.4</c:v>
                </c:pt>
                <c:pt idx="262">
                  <c:v>53.4</c:v>
                </c:pt>
                <c:pt idx="263">
                  <c:v>39.9</c:v>
                </c:pt>
                <c:pt idx="264">
                  <c:v>15</c:v>
                </c:pt>
                <c:pt idx="265">
                  <c:v>22</c:v>
                </c:pt>
                <c:pt idx="266">
                  <c:v>66.8</c:v>
                </c:pt>
                <c:pt idx="267">
                  <c:v>132.9</c:v>
                </c:pt>
                <c:pt idx="268">
                  <c:v>150</c:v>
                </c:pt>
                <c:pt idx="269">
                  <c:v>149.4</c:v>
                </c:pt>
                <c:pt idx="270">
                  <c:v>148</c:v>
                </c:pt>
                <c:pt idx="271">
                  <c:v>94.4</c:v>
                </c:pt>
                <c:pt idx="272">
                  <c:v>97.6</c:v>
                </c:pt>
                <c:pt idx="273">
                  <c:v>54.1</c:v>
                </c:pt>
                <c:pt idx="274">
                  <c:v>49.2</c:v>
                </c:pt>
                <c:pt idx="275">
                  <c:v>22.5</c:v>
                </c:pt>
                <c:pt idx="276">
                  <c:v>18.4</c:v>
                </c:pt>
                <c:pt idx="277">
                  <c:v>39.3</c:v>
                </c:pt>
                <c:pt idx="278">
                  <c:v>131</c:v>
                </c:pt>
                <c:pt idx="279">
                  <c:v>220.1</c:v>
                </c:pt>
                <c:pt idx="280">
                  <c:v>218.9</c:v>
                </c:pt>
                <c:pt idx="281">
                  <c:v>198.9</c:v>
                </c:pt>
                <c:pt idx="282">
                  <c:v>162.4</c:v>
                </c:pt>
                <c:pt idx="283">
                  <c:v>91</c:v>
                </c:pt>
                <c:pt idx="284">
                  <c:v>60.5</c:v>
                </c:pt>
                <c:pt idx="285">
                  <c:v>20.6</c:v>
                </c:pt>
                <c:pt idx="286">
                  <c:v>14.8</c:v>
                </c:pt>
                <c:pt idx="287">
                  <c:v>33.9</c:v>
                </c:pt>
                <c:pt idx="288">
                  <c:v>123</c:v>
                </c:pt>
                <c:pt idx="289">
                  <c:v>211.1</c:v>
                </c:pt>
                <c:pt idx="290">
                  <c:v>191.8</c:v>
                </c:pt>
                <c:pt idx="291">
                  <c:v>203.3</c:v>
                </c:pt>
                <c:pt idx="292">
                  <c:v>133</c:v>
                </c:pt>
                <c:pt idx="293">
                  <c:v>76.1</c:v>
                </c:pt>
                <c:pt idx="294">
                  <c:v>44.9</c:v>
                </c:pt>
                <c:pt idx="295">
                  <c:v>25.1</c:v>
                </c:pt>
                <c:pt idx="296">
                  <c:v>11.6</c:v>
                </c:pt>
                <c:pt idx="297">
                  <c:v>28.9</c:v>
                </c:pt>
                <c:pt idx="298">
                  <c:v>88.3</c:v>
                </c:pt>
                <c:pt idx="299">
                  <c:v>136.3</c:v>
                </c:pt>
                <c:pt idx="300">
                  <c:v>173.9</c:v>
                </c:pt>
                <c:pt idx="301">
                  <c:v>170.4</c:v>
                </c:pt>
                <c:pt idx="302">
                  <c:v>163.6</c:v>
                </c:pt>
                <c:pt idx="303">
                  <c:v>99.3</c:v>
                </c:pt>
                <c:pt idx="304">
                  <c:v>65.3</c:v>
                </c:pt>
                <c:pt idx="305">
                  <c:v>45.8</c:v>
                </c:pt>
                <c:pt idx="306">
                  <c:v>24.7</c:v>
                </c:pt>
                <c:pt idx="307">
                  <c:v>12.6</c:v>
                </c:pt>
                <c:pt idx="308">
                  <c:v>4.2</c:v>
                </c:pt>
                <c:pt idx="309">
                  <c:v>4.8</c:v>
                </c:pt>
                <c:pt idx="310">
                  <c:v>24.9</c:v>
                </c:pt>
                <c:pt idx="311">
                  <c:v>80.8</c:v>
                </c:pt>
                <c:pt idx="312">
                  <c:v>84.5</c:v>
                </c:pt>
                <c:pt idx="313">
                  <c:v>94</c:v>
                </c:pt>
                <c:pt idx="314">
                  <c:v>113.3</c:v>
                </c:pt>
                <c:pt idx="315">
                  <c:v>69.7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73146133"/>
        <c:axId val="69567812"/>
      </c:lineChart>
      <c:catAx>
        <c:axId val="7314613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567812"/>
        <c:crosses val="autoZero"/>
        <c:auto val="1"/>
        <c:lblAlgn val="ctr"/>
        <c:lblOffset val="100"/>
        <c:noMultiLvlLbl val="0"/>
      </c:catAx>
      <c:valAx>
        <c:axId val="6956781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14613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W max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  <c:pt idx="16">
                  <c:v>17</c:v>
                </c:pt>
                <c:pt idx="17">
                  <c:v>18</c:v>
                </c:pt>
                <c:pt idx="18">
                  <c:v>19</c:v>
                </c:pt>
                <c:pt idx="19">
                  <c:v>20</c:v>
                </c:pt>
                <c:pt idx="20">
                  <c:v>2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2"/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W^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  <c:pt idx="14">
                  <c:v>15</c:v>
                </c:pt>
                <c:pt idx="15">
                  <c:v>16</c:v>
                </c:pt>
                <c:pt idx="16">
                  <c:v>17</c:v>
                </c:pt>
                <c:pt idx="17">
                  <c:v>18</c:v>
                </c:pt>
                <c:pt idx="18">
                  <c:v>19</c:v>
                </c:pt>
                <c:pt idx="19">
                  <c:v>20</c:v>
                </c:pt>
                <c:pt idx="20">
                  <c:v>2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2"/>
                <c:pt idx="0">
                  <c:v>111.691689046621</c:v>
                </c:pt>
                <c:pt idx="1">
                  <c:v>128.427857855756</c:v>
                </c:pt>
                <c:pt idx="2">
                  <c:v>114.749724143188</c:v>
                </c:pt>
                <c:pt idx="3">
                  <c:v>84.0850485629672</c:v>
                </c:pt>
                <c:pt idx="4">
                  <c:v>92.1413608911986</c:v>
                </c:pt>
                <c:pt idx="5">
                  <c:v>102.100232414849</c:v>
                </c:pt>
                <c:pt idx="6">
                  <c:v>125.787933513756</c:v>
                </c:pt>
                <c:pt idx="7">
                  <c:v>113.546890492657</c:v>
                </c:pt>
                <c:pt idx="8">
                  <c:v>103.677887201516</c:v>
                </c:pt>
                <c:pt idx="9">
                  <c:v>123.481178581722</c:v>
                </c:pt>
                <c:pt idx="10">
                  <c:v>89.6738547189812</c:v>
                </c:pt>
                <c:pt idx="11">
                  <c:v>105.788384701612</c:v>
                </c:pt>
                <c:pt idx="12">
                  <c:v>95.1537290229067</c:v>
                </c:pt>
                <c:pt idx="13">
                  <c:v>113.13775048138</c:v>
                </c:pt>
                <c:pt idx="14">
                  <c:v>98.8056491342614</c:v>
                </c:pt>
                <c:pt idx="15">
                  <c:v>115.759108042275</c:v>
                </c:pt>
                <c:pt idx="16">
                  <c:v>126.45847083187</c:v>
                </c:pt>
                <c:pt idx="17">
                  <c:v>137.58631645881</c:v>
                </c:pt>
                <c:pt idx="18">
                  <c:v>100.909978829431</c:v>
                </c:pt>
                <c:pt idx="19">
                  <c:v>128.802545274938</c:v>
                </c:pt>
                <c:pt idx="20">
                  <c:v>124.70107646597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47334226"/>
        <c:axId val="35321548"/>
      </c:lineChart>
      <c:catAx>
        <c:axId val="47334226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321548"/>
        <c:crosses val="autoZero"/>
        <c:auto val="1"/>
        <c:lblAlgn val="ctr"/>
        <c:lblOffset val="100"/>
        <c:noMultiLvlLbl val="0"/>
      </c:catAx>
      <c:valAx>
        <c:axId val="3532154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334226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192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en-US" sz="1920" spc="-1" strike="noStrike">
                <a:solidFill>
                  <a:srgbClr val="000000"/>
                </a:solidFill>
                <a:latin typeface="Calibri"/>
              </a:rPr>
              <a:t>f(AWmax24)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L1</c:v>
                </c:pt>
              </c:strCache>
            </c:strRef>
          </c:tx>
          <c:spPr>
            <a:solidFill>
              <a:srgbClr val="3d679a"/>
            </a:solidFill>
            <a:ln w="28440">
              <a:solidFill>
                <a:srgbClr val="3d67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5"/>
                <c:pt idx="0">
                  <c:v>0.000190727056117187</c:v>
                </c:pt>
                <c:pt idx="1">
                  <c:v>0.00179156242358743</c:v>
                </c:pt>
                <c:pt idx="2">
                  <c:v>0.00887366677435644</c:v>
                </c:pt>
                <c:pt idx="3">
                  <c:v>0.0231753242209186</c:v>
                </c:pt>
                <c:pt idx="4">
                  <c:v>0.0319153824321146</c:v>
                </c:pt>
                <c:pt idx="5">
                  <c:v>0.0231753242209186</c:v>
                </c:pt>
                <c:pt idx="6">
                  <c:v>0.00887366677435644</c:v>
                </c:pt>
                <c:pt idx="7">
                  <c:v>0.00179156242358743</c:v>
                </c:pt>
                <c:pt idx="8">
                  <c:v>0.000190727056117187</c:v>
                </c:pt>
                <c:pt idx="9">
                  <c:v>1.07064180611908E-005</c:v>
                </c:pt>
                <c:pt idx="10">
                  <c:v>3.16903927282566E-007</c:v>
                </c:pt>
                <c:pt idx="11">
                  <c:v>4.94609640013269E-009</c:v>
                </c:pt>
                <c:pt idx="12">
                  <c:v>4.07051222531603E-011</c:v>
                </c:pt>
                <c:pt idx="13">
                  <c:v>1.76639197050971E-013</c:v>
                </c:pt>
                <c:pt idx="14">
                  <c:v>4.04181686682951E-01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L2</c:v>
                </c:pt>
              </c:strCache>
            </c:strRef>
          </c:tx>
          <c:spPr>
            <a:solidFill>
              <a:srgbClr val="9d3e3b"/>
            </a:solidFill>
            <a:ln w="28440">
              <a:solidFill>
                <a:srgbClr val="9d3e3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5"/>
                <c:pt idx="0">
                  <c:v>3.01478451204913E-005</c:v>
                </c:pt>
                <c:pt idx="1">
                  <c:v>0.00214904774848653</c:v>
                </c:pt>
                <c:pt idx="2">
                  <c:v>0.0258914739977617</c:v>
                </c:pt>
                <c:pt idx="3">
                  <c:v>0.0527215787847757</c:v>
                </c:pt>
                <c:pt idx="4">
                  <c:v>0.0181443309883037</c:v>
                </c:pt>
                <c:pt idx="5">
                  <c:v>0.00105539354439733</c:v>
                </c:pt>
                <c:pt idx="6">
                  <c:v>1.0375495064049E-005</c:v>
                </c:pt>
                <c:pt idx="7">
                  <c:v>1.72394792864509E-008</c:v>
                </c:pt>
                <c:pt idx="8">
                  <c:v>4.84128200238907E-012</c:v>
                </c:pt>
                <c:pt idx="9">
                  <c:v>2.29782811413439E-016</c:v>
                </c:pt>
                <c:pt idx="10">
                  <c:v>1.8432982796842E-021</c:v>
                </c:pt>
                <c:pt idx="11">
                  <c:v>2.4991632031224E-027</c:v>
                </c:pt>
                <c:pt idx="12">
                  <c:v>5.7268332651175E-034</c:v>
                </c:pt>
                <c:pt idx="13">
                  <c:v>2.21796853684005E-041</c:v>
                </c:pt>
                <c:pt idx="14">
                  <c:v>1.45183460710363E-049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L3</c:v>
                </c:pt>
              </c:strCache>
            </c:strRef>
          </c:tx>
          <c:spPr>
            <a:solidFill>
              <a:srgbClr val="7e9945"/>
            </a:solidFill>
            <a:ln w="28440">
              <a:solidFill>
                <a:srgbClr val="7e9945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5"/>
                <c:pt idx="0">
                  <c:v>2.36327597047571E-018</c:v>
                </c:pt>
                <c:pt idx="1">
                  <c:v>3.28500454538971E-010</c:v>
                </c:pt>
                <c:pt idx="2">
                  <c:v>8.81489205918614E-005</c:v>
                </c:pt>
                <c:pt idx="3">
                  <c:v>0.0456622713472555</c:v>
                </c:pt>
                <c:pt idx="4">
                  <c:v>0.0456622713472555</c:v>
                </c:pt>
                <c:pt idx="5">
                  <c:v>8.81489205918614E-005</c:v>
                </c:pt>
                <c:pt idx="6">
                  <c:v>3.28500454538971E-010</c:v>
                </c:pt>
                <c:pt idx="7">
                  <c:v>2.36327597047571E-018</c:v>
                </c:pt>
                <c:pt idx="8">
                  <c:v>3.28210440153851E-029</c:v>
                </c:pt>
                <c:pt idx="9">
                  <c:v>8.79933459498842E-043</c:v>
                </c:pt>
                <c:pt idx="10">
                  <c:v>4.55414402108179E-059</c:v>
                </c:pt>
                <c:pt idx="11">
                  <c:v>4.55012342610308E-078</c:v>
                </c:pt>
                <c:pt idx="12">
                  <c:v>8.77604986631337E-100</c:v>
                </c:pt>
                <c:pt idx="13">
                  <c:v>3.26764204268747E-124</c:v>
                </c:pt>
                <c:pt idx="14">
                  <c:v>2.3487097804217E-151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L4</c:v>
                </c:pt>
              </c:strCache>
            </c:strRef>
          </c:tx>
          <c:spPr>
            <a:solidFill>
              <a:srgbClr val="674f84"/>
            </a:solidFill>
            <a:ln w="28440">
              <a:solidFill>
                <a:srgbClr val="674f8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5"/>
                <c:pt idx="0">
                  <c:v>0.000759732401586496</c:v>
                </c:pt>
                <c:pt idx="1">
                  <c:v>0.00359939776754587</c:v>
                </c:pt>
                <c:pt idx="2">
                  <c:v>0.0109340049783996</c:v>
                </c:pt>
                <c:pt idx="3">
                  <c:v>0.0212965337014902</c:v>
                </c:pt>
                <c:pt idx="4">
                  <c:v>0.0265961520267622</c:v>
                </c:pt>
                <c:pt idx="5">
                  <c:v>0.0212965337014902</c:v>
                </c:pt>
                <c:pt idx="6">
                  <c:v>0.0109340049783996</c:v>
                </c:pt>
                <c:pt idx="7">
                  <c:v>0.00359939776754587</c:v>
                </c:pt>
                <c:pt idx="8">
                  <c:v>0.000759732401586496</c:v>
                </c:pt>
                <c:pt idx="9">
                  <c:v>0.00010281859975274</c:v>
                </c:pt>
                <c:pt idx="10">
                  <c:v>8.92201505099236E-006</c:v>
                </c:pt>
                <c:pt idx="11">
                  <c:v>4.96403058041999E-007</c:v>
                </c:pt>
                <c:pt idx="12">
                  <c:v>1.77086793901461E-008</c:v>
                </c:pt>
                <c:pt idx="13">
                  <c:v>4.05058856654886E-010</c:v>
                </c:pt>
                <c:pt idx="14">
                  <c:v>5.94060012490144E-012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L5</c:v>
                </c:pt>
              </c:strCache>
            </c:strRef>
          </c:tx>
          <c:spPr>
            <a:solidFill>
              <a:srgbClr val="398ba2"/>
            </a:solidFill>
            <a:ln w="28440">
              <a:solidFill>
                <a:srgbClr val="398ba2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5"/>
                <c:pt idx="0">
                  <c:v>3.17134921671598E-008</c:v>
                </c:pt>
                <c:pt idx="1">
                  <c:v>3.85351967420871E-006</c:v>
                </c:pt>
                <c:pt idx="2">
                  <c:v>0.000172256893905368</c:v>
                </c:pt>
                <c:pt idx="3">
                  <c:v>0.00283270377416012</c:v>
                </c:pt>
                <c:pt idx="4">
                  <c:v>0.0171368592047807</c:v>
                </c:pt>
                <c:pt idx="5">
                  <c:v>0.0381387815460524</c:v>
                </c:pt>
                <c:pt idx="6">
                  <c:v>0.0312253933366761</c:v>
                </c:pt>
                <c:pt idx="7">
                  <c:v>0.00940490773768869</c:v>
                </c:pt>
                <c:pt idx="8">
                  <c:v>0.00104209348144226</c:v>
                </c:pt>
                <c:pt idx="9">
                  <c:v>4.24780270550751E-005</c:v>
                </c:pt>
                <c:pt idx="10">
                  <c:v>6.36982517886709E-007</c:v>
                </c:pt>
                <c:pt idx="11">
                  <c:v>3.51395509482043E-009</c:v>
                </c:pt>
                <c:pt idx="12">
                  <c:v>7.13132812399608E-012</c:v>
                </c:pt>
                <c:pt idx="13">
                  <c:v>5.32414837225294E-015</c:v>
                </c:pt>
                <c:pt idx="14">
                  <c:v>1.46229635750066E-018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L6</c:v>
                </c:pt>
              </c:strCache>
            </c:strRef>
          </c:tx>
          <c:spPr>
            <a:solidFill>
              <a:srgbClr val="cb7934"/>
            </a:solidFill>
            <a:ln w="28440">
              <a:solidFill>
                <a:srgbClr val="cb793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5"/>
                <c:pt idx="0">
                  <c:v>8.35966134363235E-131</c:v>
                </c:pt>
                <c:pt idx="1">
                  <c:v>6.83871118321124E-092</c:v>
                </c:pt>
                <c:pt idx="2">
                  <c:v>6.29575951910658E-060</c:v>
                </c:pt>
                <c:pt idx="3">
                  <c:v>6.52244293935858E-035</c:v>
                </c:pt>
                <c:pt idx="4">
                  <c:v>7.60432615163186E-017</c:v>
                </c:pt>
                <c:pt idx="5">
                  <c:v>9.97698851602141E-006</c:v>
                </c:pt>
                <c:pt idx="6">
                  <c:v>0.147308056121329</c:v>
                </c:pt>
                <c:pt idx="7">
                  <c:v>0.000244760772045509</c:v>
                </c:pt>
                <c:pt idx="8">
                  <c:v>4.57662596072055E-014</c:v>
                </c:pt>
                <c:pt idx="9">
                  <c:v>9.63024452735721E-031</c:v>
                </c:pt>
                <c:pt idx="10">
                  <c:v>2.28043395637652E-054</c:v>
                </c:pt>
                <c:pt idx="11">
                  <c:v>6.07695433918448E-085</c:v>
                </c:pt>
                <c:pt idx="12">
                  <c:v>1.82239592964489E-122</c:v>
                </c:pt>
                <c:pt idx="13">
                  <c:v>6.15017947873505E-167</c:v>
                </c:pt>
                <c:pt idx="14">
                  <c:v>2.33572189860237E-218</c:v>
                </c:pt>
              </c:numCache>
            </c:numRef>
          </c:val>
          <c:smooth val="0"/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L7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5"/>
                <c:pt idx="0">
                  <c:v>9.74377357621496E-007</c:v>
                </c:pt>
                <c:pt idx="1">
                  <c:v>2.71680969986924E-005</c:v>
                </c:pt>
                <c:pt idx="2">
                  <c:v>0.00039943193708899</c:v>
                </c:pt>
                <c:pt idx="3">
                  <c:v>0.00309654849179645</c:v>
                </c:pt>
                <c:pt idx="4">
                  <c:v>0.0126579832296306</c:v>
                </c:pt>
                <c:pt idx="5">
                  <c:v>0.0272836630904282</c:v>
                </c:pt>
                <c:pt idx="6">
                  <c:v>0.0310093292100011</c:v>
                </c:pt>
                <c:pt idx="7">
                  <c:v>0.0185837603794693</c:v>
                </c:pt>
                <c:pt idx="8">
                  <c:v>0.00587254500653255</c:v>
                </c:pt>
                <c:pt idx="9">
                  <c:v>0.000978522108102238</c:v>
                </c:pt>
                <c:pt idx="10">
                  <c:v>8.59738672122989E-005</c:v>
                </c:pt>
                <c:pt idx="11">
                  <c:v>3.98303216784097E-006</c:v>
                </c:pt>
                <c:pt idx="12">
                  <c:v>9.72999679145055E-008</c:v>
                </c:pt>
                <c:pt idx="13">
                  <c:v>1.25332329505061E-009</c:v>
                </c:pt>
                <c:pt idx="14">
                  <c:v>8.51265549874691E-012</c:v>
                </c:pt>
              </c:numCache>
            </c:numRef>
          </c:val>
          <c:smooth val="0"/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L8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5"/>
                <c:pt idx="0">
                  <c:v>6.81295312701311E-015</c:v>
                </c:pt>
                <c:pt idx="1">
                  <c:v>1.50065279013776E-010</c:v>
                </c:pt>
                <c:pt idx="2">
                  <c:v>4.29447194466963E-007</c:v>
                </c:pt>
                <c:pt idx="3">
                  <c:v>0.000159670266640263</c:v>
                </c:pt>
                <c:pt idx="4">
                  <c:v>0.00771299521616972</c:v>
                </c:pt>
                <c:pt idx="5">
                  <c:v>0.0484068479652554</c:v>
                </c:pt>
                <c:pt idx="6">
                  <c:v>0.039470740790643</c:v>
                </c:pt>
                <c:pt idx="7">
                  <c:v>0.00418146514702297</c:v>
                </c:pt>
                <c:pt idx="8">
                  <c:v>5.75527945153073E-005</c:v>
                </c:pt>
                <c:pt idx="9">
                  <c:v>1.0291746525102E-007</c:v>
                </c:pt>
                <c:pt idx="10">
                  <c:v>2.39109305356385E-011</c:v>
                </c:pt>
                <c:pt idx="11">
                  <c:v>7.21753011933842E-016</c:v>
                </c:pt>
                <c:pt idx="12">
                  <c:v>2.83051501381471E-021</c:v>
                </c:pt>
                <c:pt idx="13">
                  <c:v>1.44220518165311E-027</c:v>
                </c:pt>
                <c:pt idx="14">
                  <c:v>9.54714175885774E-035</c:v>
                </c:pt>
              </c:numCache>
            </c:numRef>
          </c:val>
          <c:smooth val="0"/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L9</c:v>
                </c:pt>
              </c:strCache>
            </c:strRef>
          </c:tx>
          <c:spPr>
            <a:solidFill>
              <a:srgbClr val="98b855"/>
            </a:solidFill>
            <a:ln w="28440">
              <a:solidFill>
                <a:srgbClr val="98b855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5"/>
                <c:pt idx="0">
                  <c:v>3.10367435032636E-005</c:v>
                </c:pt>
                <c:pt idx="1">
                  <c:v>6.60066680593521E-012</c:v>
                </c:pt>
                <c:pt idx="2">
                  <c:v>6.60066820526739E-012</c:v>
                </c:pt>
                <c:pt idx="3">
                  <c:v>6.60118728487611E-012</c:v>
                </c:pt>
                <c:pt idx="4">
                  <c:v>6.62585485571615E-012</c:v>
                </c:pt>
                <c:pt idx="5">
                  <c:v>6.7603107825037E-012</c:v>
                </c:pt>
                <c:pt idx="6">
                  <c:v>6.73055848574411E-012</c:v>
                </c:pt>
                <c:pt idx="7">
                  <c:v>6.61431042604272E-012</c:v>
                </c:pt>
                <c:pt idx="8">
                  <c:v>6.60085440648177E-012</c:v>
                </c:pt>
                <c:pt idx="9">
                  <c:v>6.60066714091465E-012</c:v>
                </c:pt>
                <c:pt idx="10">
                  <c:v>6.60066680552401E-012</c:v>
                </c:pt>
                <c:pt idx="11">
                  <c:v>6.60066680544604E-012</c:v>
                </c:pt>
                <c:pt idx="12">
                  <c:v>6.60066680544604E-012</c:v>
                </c:pt>
                <c:pt idx="13">
                  <c:v>6.60066680544604E-012</c:v>
                </c:pt>
                <c:pt idx="14">
                  <c:v>6.60066680544604E-012</c:v>
                </c:pt>
              </c:numCache>
            </c:numRef>
          </c:val>
          <c:smooth val="0"/>
        </c:ser>
        <c:ser>
          <c:idx val="9"/>
          <c:order val="9"/>
          <c:tx>
            <c:strRef>
              <c:f>label 9</c:f>
              <c:strCache>
                <c:ptCount val="1"/>
                <c:pt idx="0">
                  <c:v>L10</c:v>
                </c:pt>
              </c:strCache>
            </c:strRef>
          </c:tx>
          <c:spPr>
            <a:solidFill>
              <a:srgbClr val="7d5fa0"/>
            </a:solidFill>
            <a:ln w="28440">
              <a:solidFill>
                <a:srgbClr val="7d5fa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9</c:f>
              <c:numCache>
                <c:formatCode>General</c:formatCode>
                <c:ptCount val="15"/>
                <c:pt idx="0">
                  <c:v>6.3494301351171E-107</c:v>
                </c:pt>
                <c:pt idx="1">
                  <c:v>6.34856310583457E-107</c:v>
                </c:pt>
                <c:pt idx="2">
                  <c:v>6.34856310583457E-107</c:v>
                </c:pt>
                <c:pt idx="3">
                  <c:v>6.34856310583511E-107</c:v>
                </c:pt>
                <c:pt idx="4">
                  <c:v>6.34856310583565E-107</c:v>
                </c:pt>
                <c:pt idx="5">
                  <c:v>6.34856310583962E-107</c:v>
                </c:pt>
                <c:pt idx="6">
                  <c:v>6.34856310583854E-107</c:v>
                </c:pt>
                <c:pt idx="7">
                  <c:v>6.34856310583511E-107</c:v>
                </c:pt>
                <c:pt idx="8">
                  <c:v>6.34856310583457E-107</c:v>
                </c:pt>
                <c:pt idx="9">
                  <c:v>6.34856310583457E-107</c:v>
                </c:pt>
                <c:pt idx="10">
                  <c:v>6.34856310583457E-107</c:v>
                </c:pt>
                <c:pt idx="11">
                  <c:v>6.34856310583457E-107</c:v>
                </c:pt>
                <c:pt idx="12">
                  <c:v>6.34856310583457E-107</c:v>
                </c:pt>
                <c:pt idx="13">
                  <c:v>6.34856310583457E-107</c:v>
                </c:pt>
                <c:pt idx="14">
                  <c:v>6.34856310583457E-107</c:v>
                </c:pt>
              </c:numCache>
            </c:numRef>
          </c:val>
          <c:smooth val="0"/>
        </c:ser>
        <c:ser>
          <c:idx val="10"/>
          <c:order val="10"/>
          <c:tx>
            <c:strRef>
              <c:f>label 10</c:f>
              <c:strCache>
                <c:ptCount val="1"/>
                <c:pt idx="0">
                  <c:v>L11</c:v>
                </c:pt>
              </c:strCache>
            </c:strRef>
          </c:tx>
          <c:spPr>
            <a:solidFill>
              <a:srgbClr val="46aac4"/>
            </a:solidFill>
            <a:ln w="28440">
              <a:solidFill>
                <a:srgbClr val="46aac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10</c:f>
              <c:numCache>
                <c:formatCode>General</c:formatCode>
                <c:ptCount val="15"/>
                <c:pt idx="0">
                  <c:v>8.21285972392155E-020</c:v>
                </c:pt>
                <c:pt idx="1">
                  <c:v>2.37177493304172E-013</c:v>
                </c:pt>
                <c:pt idx="2">
                  <c:v>2.51170312941843E-008</c:v>
                </c:pt>
                <c:pt idx="3">
                  <c:v>9.75391352439807E-005</c:v>
                </c:pt>
                <c:pt idx="4">
                  <c:v>0.0138900963245576</c:v>
                </c:pt>
                <c:pt idx="5">
                  <c:v>0.0725349600729878</c:v>
                </c:pt>
                <c:pt idx="6">
                  <c:v>0.0138900963245576</c:v>
                </c:pt>
                <c:pt idx="7">
                  <c:v>9.75391352439807E-005</c:v>
                </c:pt>
                <c:pt idx="8">
                  <c:v>2.51170312941843E-008</c:v>
                </c:pt>
                <c:pt idx="9">
                  <c:v>2.37177493304172E-013</c:v>
                </c:pt>
                <c:pt idx="10">
                  <c:v>8.21285972392155E-020</c:v>
                </c:pt>
                <c:pt idx="11">
                  <c:v>1.04287221735362E-027</c:v>
                </c:pt>
                <c:pt idx="12">
                  <c:v>4.85605450594041E-037</c:v>
                </c:pt>
                <c:pt idx="13">
                  <c:v>8.29185635690016E-048</c:v>
                </c:pt>
                <c:pt idx="14">
                  <c:v>5.19201274189333E-060</c:v>
                </c:pt>
              </c:numCache>
            </c:numRef>
          </c:val>
          <c:smooth val="0"/>
        </c:ser>
        <c:ser>
          <c:idx val="11"/>
          <c:order val="11"/>
          <c:tx>
            <c:strRef>
              <c:f>label 11</c:f>
              <c:strCache>
                <c:ptCount val="1"/>
                <c:pt idx="0">
                  <c:v>L12</c:v>
                </c:pt>
              </c:strCache>
            </c:strRef>
          </c:tx>
          <c:spPr>
            <a:solidFill>
              <a:srgbClr val="f59240"/>
            </a:solidFill>
            <a:ln w="28440">
              <a:solidFill>
                <a:srgbClr val="f5924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11</c:f>
              <c:numCache>
                <c:formatCode>General</c:formatCode>
                <c:ptCount val="15"/>
                <c:pt idx="0">
                  <c:v>0.000377782254399845</c:v>
                </c:pt>
                <c:pt idx="1">
                  <c:v>0.00859828447833649</c:v>
                </c:pt>
                <c:pt idx="2">
                  <c:v>0.0410201210687969</c:v>
                </c:pt>
                <c:pt idx="3">
                  <c:v>0.0410201210687969</c:v>
                </c:pt>
                <c:pt idx="4">
                  <c:v>0.00859828447833649</c:v>
                </c:pt>
                <c:pt idx="5">
                  <c:v>0.000377782254399845</c:v>
                </c:pt>
                <c:pt idx="6">
                  <c:v>3.47925427865186E-006</c:v>
                </c:pt>
                <c:pt idx="7">
                  <c:v>6.71654081321144E-009</c:v>
                </c:pt>
                <c:pt idx="8">
                  <c:v>2.71781579464871E-012</c:v>
                </c:pt>
                <c:pt idx="9">
                  <c:v>2.30520339427084E-016</c:v>
                </c:pt>
                <c:pt idx="10">
                  <c:v>4.0983906734768E-021</c:v>
                </c:pt>
                <c:pt idx="11">
                  <c:v>1.52732806037299E-026</c:v>
                </c:pt>
                <c:pt idx="12">
                  <c:v>1.19307069666099E-032</c:v>
                </c:pt>
                <c:pt idx="13">
                  <c:v>1.95350667389075E-039</c:v>
                </c:pt>
                <c:pt idx="14">
                  <c:v>6.70468674369675E-047</c:v>
                </c:pt>
              </c:numCache>
            </c:numRef>
          </c:val>
          <c:smooth val="0"/>
        </c:ser>
        <c:ser>
          <c:idx val="12"/>
          <c:order val="12"/>
          <c:tx>
            <c:strRef>
              <c:f>label 12</c:f>
              <c:strCache>
                <c:ptCount val="1"/>
                <c:pt idx="0">
                  <c:v>L13</c:v>
                </c:pt>
              </c:strCache>
            </c:strRef>
          </c:tx>
          <c:spPr>
            <a:solidFill>
              <a:srgbClr val="a5b5d3"/>
            </a:solidFill>
            <a:ln w="28440">
              <a:solidFill>
                <a:srgbClr val="a5b5d3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12</c:f>
              <c:numCache>
                <c:formatCode>General</c:formatCode>
                <c:ptCount val="15"/>
                <c:pt idx="0">
                  <c:v>4.21041752822442E-197</c:v>
                </c:pt>
                <c:pt idx="1">
                  <c:v>1.19381197962037E-161</c:v>
                </c:pt>
                <c:pt idx="2">
                  <c:v>9.64463115808982E-130</c:v>
                </c:pt>
                <c:pt idx="3">
                  <c:v>2.22010869412839E-101</c:v>
                </c:pt>
                <c:pt idx="4">
                  <c:v>1.4561354495878E-076</c:v>
                </c:pt>
                <c:pt idx="5">
                  <c:v>2.72124870551207E-055</c:v>
                </c:pt>
                <c:pt idx="6">
                  <c:v>1.44901746236836E-037</c:v>
                </c:pt>
                <c:pt idx="7">
                  <c:v>2.19845675048755E-023</c:v>
                </c:pt>
                <c:pt idx="8">
                  <c:v>9.50388465036317E-013</c:v>
                </c:pt>
                <c:pt idx="9">
                  <c:v>1.17063986664117E-005</c:v>
                </c:pt>
                <c:pt idx="10">
                  <c:v>0.0410851036425338</c:v>
                </c:pt>
                <c:pt idx="11">
                  <c:v>0.0410851036425338</c:v>
                </c:pt>
                <c:pt idx="12">
                  <c:v>1.17063986664117E-005</c:v>
                </c:pt>
                <c:pt idx="13">
                  <c:v>9.50388465036317E-013</c:v>
                </c:pt>
                <c:pt idx="14">
                  <c:v>2.19845675048755E-023</c:v>
                </c:pt>
              </c:numCache>
            </c:numRef>
          </c:val>
          <c:smooth val="0"/>
        </c:ser>
        <c:ser>
          <c:idx val="13"/>
          <c:order val="13"/>
          <c:tx>
            <c:strRef>
              <c:f>label 13</c:f>
              <c:strCache>
                <c:ptCount val="1"/>
                <c:pt idx="0">
                  <c:v>L14</c:v>
                </c:pt>
              </c:strCache>
            </c:strRef>
          </c:tx>
          <c:spPr>
            <a:solidFill>
              <a:srgbClr val="d4a5a4"/>
            </a:solidFill>
            <a:ln w="28440">
              <a:solidFill>
                <a:srgbClr val="d4a5a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13</c:f>
              <c:numCache>
                <c:formatCode>General</c:formatCode>
                <c:ptCount val="15"/>
                <c:pt idx="0">
                  <c:v>5.82677449195133E-074</c:v>
                </c:pt>
                <c:pt idx="1">
                  <c:v>1.57513379437175E-056</c:v>
                </c:pt>
                <c:pt idx="2">
                  <c:v>1.67806265616091E-041</c:v>
                </c:pt>
                <c:pt idx="3">
                  <c:v>7.0453144288284E-029</c:v>
                </c:pt>
                <c:pt idx="4">
                  <c:v>1.16571952875072E-018</c:v>
                </c:pt>
                <c:pt idx="5">
                  <c:v>7.60132406677361E-011</c:v>
                </c:pt>
                <c:pt idx="6">
                  <c:v>1.9533762746926E-005</c:v>
                </c:pt>
                <c:pt idx="7">
                  <c:v>0.0197826311333727</c:v>
                </c:pt>
                <c:pt idx="8">
                  <c:v>0.0789557352560459</c:v>
                </c:pt>
                <c:pt idx="9">
                  <c:v>0.00124189476204737</c:v>
                </c:pt>
                <c:pt idx="10">
                  <c:v>7.69816814540125E-008</c:v>
                </c:pt>
                <c:pt idx="11">
                  <c:v>1.88057853430584E-014</c:v>
                </c:pt>
                <c:pt idx="12">
                  <c:v>1.81049379451916E-023</c:v>
                </c:pt>
                <c:pt idx="13">
                  <c:v>6.86916725358324E-035</c:v>
                </c:pt>
                <c:pt idx="14">
                  <c:v>1.02709975463635E-048</c:v>
                </c:pt>
              </c:numCache>
            </c:numRef>
          </c:val>
          <c:smooth val="0"/>
        </c:ser>
        <c:ser>
          <c:idx val="14"/>
          <c:order val="14"/>
          <c:tx>
            <c:strRef>
              <c:f>label 14</c:f>
              <c:strCache>
                <c:ptCount val="1"/>
                <c:pt idx="0">
                  <c:v>L15</c:v>
                </c:pt>
              </c:strCache>
            </c:strRef>
          </c:tx>
          <c:spPr>
            <a:solidFill>
              <a:srgbClr val="c0d2a7"/>
            </a:solidFill>
            <a:ln w="28440">
              <a:solidFill>
                <a:srgbClr val="c0d2a7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40</c:v>
                </c:pt>
                <c:pt idx="1">
                  <c:v>50</c:v>
                </c:pt>
                <c:pt idx="2">
                  <c:v>60</c:v>
                </c:pt>
                <c:pt idx="3">
                  <c:v>70</c:v>
                </c:pt>
                <c:pt idx="4">
                  <c:v>80</c:v>
                </c:pt>
                <c:pt idx="5">
                  <c:v>90</c:v>
                </c:pt>
                <c:pt idx="6">
                  <c:v>100</c:v>
                </c:pt>
                <c:pt idx="7">
                  <c:v>110</c:v>
                </c:pt>
                <c:pt idx="8">
                  <c:v>120</c:v>
                </c:pt>
                <c:pt idx="9">
                  <c:v>130</c:v>
                </c:pt>
                <c:pt idx="10">
                  <c:v>140</c:v>
                </c:pt>
                <c:pt idx="11">
                  <c:v>150</c:v>
                </c:pt>
                <c:pt idx="12">
                  <c:v>160</c:v>
                </c:pt>
                <c:pt idx="13">
                  <c:v>170</c:v>
                </c:pt>
                <c:pt idx="14">
                  <c:v>180</c:v>
                </c:pt>
              </c:strCache>
            </c:strRef>
          </c:cat>
          <c:val>
            <c:numRef>
              <c:f>14</c:f>
              <c:numCache>
                <c:formatCode>General</c:formatCode>
                <c:ptCount val="15"/>
                <c:pt idx="0">
                  <c:v>3.42580785881865E-099</c:v>
                </c:pt>
                <c:pt idx="1">
                  <c:v>1.78862972344711E-084</c:v>
                </c:pt>
                <c:pt idx="2">
                  <c:v>5.80636489332846E-071</c:v>
                </c:pt>
                <c:pt idx="3">
                  <c:v>1.17196500988984E-058</c:v>
                </c:pt>
                <c:pt idx="4">
                  <c:v>1.4707924957658E-047</c:v>
                </c:pt>
                <c:pt idx="5">
                  <c:v>1.14766359142503E-037</c:v>
                </c:pt>
                <c:pt idx="6">
                  <c:v>5.56806430598433E-029</c:v>
                </c:pt>
                <c:pt idx="7">
                  <c:v>1.67965589905E-021</c:v>
                </c:pt>
                <c:pt idx="8">
                  <c:v>3.15037923269365E-015</c:v>
                </c:pt>
                <c:pt idx="9">
                  <c:v>3.67393773293604E-010</c:v>
                </c:pt>
                <c:pt idx="10">
                  <c:v>2.66395685115091E-006</c:v>
                </c:pt>
                <c:pt idx="11">
                  <c:v>0.00120101662743487</c:v>
                </c:pt>
                <c:pt idx="12">
                  <c:v>0.0336664475923432</c:v>
                </c:pt>
                <c:pt idx="13">
                  <c:v>0.0586775544607166</c:v>
                </c:pt>
                <c:pt idx="14">
                  <c:v>0.00635877058440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50254180"/>
        <c:axId val="92721585"/>
      </c:lineChart>
      <c:catAx>
        <c:axId val="502541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721585"/>
        <c:crosses val="autoZero"/>
        <c:auto val="1"/>
        <c:lblAlgn val="ctr"/>
        <c:lblOffset val="100"/>
        <c:noMultiLvlLbl val="0"/>
      </c:catAx>
      <c:valAx>
        <c:axId val="9272158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254180"/>
        <c:crosses val="autoZero"/>
        <c:crossBetween val="midCat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79" spc="-1" strike="noStrike">
                <a:solidFill>
                  <a:srgbClr val="000000"/>
                </a:solidFill>
                <a:latin typeface="Calibri"/>
              </a:defRPr>
            </a:pPr>
            <a:r>
              <a:rPr b="1" sz="1679" spc="-1" strike="noStrike">
                <a:solidFill>
                  <a:srgbClr val="000000"/>
                </a:solidFill>
                <a:latin typeface="Calibri"/>
              </a:rPr>
              <a:t>CKO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scatterChart>
        <c:scatterStyle val="lineMarker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KO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28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"/>
                <c:pt idx="0">
                  <c:v>24.0509158736289</c:v>
                </c:pt>
                <c:pt idx="1">
                  <c:v>17.3691689585762</c:v>
                </c:pt>
                <c:pt idx="2">
                  <c:v>17.1894147623067</c:v>
                </c:pt>
                <c:pt idx="3">
                  <c:v>17.2022025909008</c:v>
                </c:pt>
                <c:pt idx="4">
                  <c:v>17.234505661745</c:v>
                </c:pt>
                <c:pt idx="5">
                  <c:v>16.945299269492</c:v>
                </c:pt>
                <c:pt idx="6">
                  <c:v>16.5752547961006</c:v>
                </c:pt>
                <c:pt idx="7">
                  <c:v>15.1423358209878</c:v>
                </c:pt>
              </c:numCache>
            </c:numRef>
          </c:yVal>
          <c:smooth val="0"/>
        </c:ser>
        <c:axId val="73438859"/>
        <c:axId val="73079920"/>
      </c:scatterChart>
      <c:valAx>
        <c:axId val="73438859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n-US" sz="1400" spc="-1" strike="noStrike">
                    <a:solidFill>
                      <a:srgbClr val="000000"/>
                    </a:solidFill>
                    <a:latin typeface="Calibri"/>
                  </a:defRPr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k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  <a:ea typeface="Calibri"/>
              </a:defRPr>
            </a:pPr>
          </a:p>
        </c:txPr>
        <c:crossAx val="73079920"/>
        <c:crosses val="autoZero"/>
        <c:crossBetween val="midCat"/>
      </c:valAx>
      <c:valAx>
        <c:axId val="73079920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438859"/>
        <c:crosses val="autoZero"/>
        <c:crossBetween val="midCat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US" sz="1829" spc="-1" strike="noStrike">
                <a:solidFill>
                  <a:srgbClr val="000000"/>
                </a:solidFill>
                <a:latin typeface="Arial Cyr"/>
                <a:ea typeface="Arial Cyr"/>
              </a:defRPr>
            </a:pPr>
            <a:r>
              <a:rPr b="0" lang="en-US" sz="1829" spc="-1" strike="noStrike">
                <a:solidFill>
                  <a:srgbClr val="000000"/>
                </a:solidFill>
                <a:latin typeface="Arial Cyr"/>
                <a:ea typeface="Arial Cyr"/>
              </a:rPr>
              <a:t>AR2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06606423250702"/>
          <c:y val="0.135960491836323"/>
          <c:w val="0.870680180730248"/>
          <c:h val="0.688772424914332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реднегодвая солнечная активность</c:v>
                </c:pt>
              </c:strCache>
            </c:strRef>
          </c:tx>
          <c:spPr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525" spc="-1" strike="noStrike">
                    <a:solidFill>
                      <a:srgbClr val="000000"/>
                    </a:solidFill>
                    <a:latin typeface="Arial Cyr"/>
                    <a:ea typeface="Arial Cyr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50"/>
                <c:pt idx="0">
                  <c:v>1757</c:v>
                </c:pt>
                <c:pt idx="1">
                  <c:v>1758</c:v>
                </c:pt>
                <c:pt idx="2">
                  <c:v>1759</c:v>
                </c:pt>
                <c:pt idx="3">
                  <c:v>1760</c:v>
                </c:pt>
                <c:pt idx="4">
                  <c:v>1761</c:v>
                </c:pt>
                <c:pt idx="5">
                  <c:v>1762</c:v>
                </c:pt>
                <c:pt idx="6">
                  <c:v>1763</c:v>
                </c:pt>
                <c:pt idx="7">
                  <c:v>1764</c:v>
                </c:pt>
                <c:pt idx="8">
                  <c:v>1765</c:v>
                </c:pt>
                <c:pt idx="9">
                  <c:v>1766</c:v>
                </c:pt>
                <c:pt idx="10">
                  <c:v>1767</c:v>
                </c:pt>
                <c:pt idx="11">
                  <c:v>1768</c:v>
                </c:pt>
                <c:pt idx="12">
                  <c:v>1769</c:v>
                </c:pt>
                <c:pt idx="13">
                  <c:v>1770</c:v>
                </c:pt>
                <c:pt idx="14">
                  <c:v>1771</c:v>
                </c:pt>
                <c:pt idx="15">
                  <c:v>1772</c:v>
                </c:pt>
                <c:pt idx="16">
                  <c:v>1773</c:v>
                </c:pt>
                <c:pt idx="17">
                  <c:v>1774</c:v>
                </c:pt>
                <c:pt idx="18">
                  <c:v>1775</c:v>
                </c:pt>
                <c:pt idx="19">
                  <c:v>1776</c:v>
                </c:pt>
                <c:pt idx="20">
                  <c:v>1777</c:v>
                </c:pt>
                <c:pt idx="21">
                  <c:v>1778</c:v>
                </c:pt>
                <c:pt idx="22">
                  <c:v>1779</c:v>
                </c:pt>
                <c:pt idx="23">
                  <c:v>1780</c:v>
                </c:pt>
                <c:pt idx="24">
                  <c:v>1781</c:v>
                </c:pt>
                <c:pt idx="25">
                  <c:v>1782</c:v>
                </c:pt>
                <c:pt idx="26">
                  <c:v>1783</c:v>
                </c:pt>
                <c:pt idx="27">
                  <c:v>1784</c:v>
                </c:pt>
                <c:pt idx="28">
                  <c:v>1785</c:v>
                </c:pt>
                <c:pt idx="29">
                  <c:v>1786</c:v>
                </c:pt>
                <c:pt idx="30">
                  <c:v>1787</c:v>
                </c:pt>
                <c:pt idx="31">
                  <c:v>1788</c:v>
                </c:pt>
                <c:pt idx="32">
                  <c:v>1789</c:v>
                </c:pt>
                <c:pt idx="33">
                  <c:v>1790</c:v>
                </c:pt>
                <c:pt idx="34">
                  <c:v>1791</c:v>
                </c:pt>
                <c:pt idx="35">
                  <c:v>1792</c:v>
                </c:pt>
                <c:pt idx="36">
                  <c:v>1793</c:v>
                </c:pt>
                <c:pt idx="37">
                  <c:v>1794</c:v>
                </c:pt>
                <c:pt idx="38">
                  <c:v>1795</c:v>
                </c:pt>
                <c:pt idx="39">
                  <c:v>1796</c:v>
                </c:pt>
                <c:pt idx="40">
                  <c:v>1797</c:v>
                </c:pt>
                <c:pt idx="41">
                  <c:v>1798</c:v>
                </c:pt>
                <c:pt idx="42">
                  <c:v>1799</c:v>
                </c:pt>
                <c:pt idx="43">
                  <c:v>1800</c:v>
                </c:pt>
                <c:pt idx="44">
                  <c:v>1801</c:v>
                </c:pt>
                <c:pt idx="45">
                  <c:v>1802</c:v>
                </c:pt>
                <c:pt idx="46">
                  <c:v>1803</c:v>
                </c:pt>
                <c:pt idx="47">
                  <c:v>1804</c:v>
                </c:pt>
                <c:pt idx="48">
                  <c:v>1805</c:v>
                </c:pt>
                <c:pt idx="49">
                  <c:v>1806</c:v>
                </c:pt>
                <c:pt idx="50">
                  <c:v>1807</c:v>
                </c:pt>
                <c:pt idx="51">
                  <c:v>1808</c:v>
                </c:pt>
                <c:pt idx="52">
                  <c:v>1809</c:v>
                </c:pt>
                <c:pt idx="53">
                  <c:v>1810</c:v>
                </c:pt>
                <c:pt idx="54">
                  <c:v>1811</c:v>
                </c:pt>
                <c:pt idx="55">
                  <c:v>1812</c:v>
                </c:pt>
                <c:pt idx="56">
                  <c:v>1813</c:v>
                </c:pt>
                <c:pt idx="57">
                  <c:v>1814</c:v>
                </c:pt>
                <c:pt idx="58">
                  <c:v>1815</c:v>
                </c:pt>
                <c:pt idx="59">
                  <c:v>1816</c:v>
                </c:pt>
                <c:pt idx="60">
                  <c:v>1817</c:v>
                </c:pt>
                <c:pt idx="61">
                  <c:v>1818</c:v>
                </c:pt>
                <c:pt idx="62">
                  <c:v>1819</c:v>
                </c:pt>
                <c:pt idx="63">
                  <c:v>1820</c:v>
                </c:pt>
                <c:pt idx="64">
                  <c:v>1821</c:v>
                </c:pt>
                <c:pt idx="65">
                  <c:v>1822</c:v>
                </c:pt>
                <c:pt idx="66">
                  <c:v>1823</c:v>
                </c:pt>
                <c:pt idx="67">
                  <c:v>1824</c:v>
                </c:pt>
                <c:pt idx="68">
                  <c:v>1825</c:v>
                </c:pt>
                <c:pt idx="69">
                  <c:v>1826</c:v>
                </c:pt>
                <c:pt idx="70">
                  <c:v>1827</c:v>
                </c:pt>
                <c:pt idx="71">
                  <c:v>1828</c:v>
                </c:pt>
                <c:pt idx="72">
                  <c:v>1829</c:v>
                </c:pt>
                <c:pt idx="73">
                  <c:v>1830</c:v>
                </c:pt>
                <c:pt idx="74">
                  <c:v>1831</c:v>
                </c:pt>
                <c:pt idx="75">
                  <c:v>1832</c:v>
                </c:pt>
                <c:pt idx="76">
                  <c:v>1833</c:v>
                </c:pt>
                <c:pt idx="77">
                  <c:v>1834</c:v>
                </c:pt>
                <c:pt idx="78">
                  <c:v>1835</c:v>
                </c:pt>
                <c:pt idx="79">
                  <c:v>1836</c:v>
                </c:pt>
                <c:pt idx="80">
                  <c:v>1837</c:v>
                </c:pt>
                <c:pt idx="81">
                  <c:v>1838</c:v>
                </c:pt>
                <c:pt idx="82">
                  <c:v>1839</c:v>
                </c:pt>
                <c:pt idx="83">
                  <c:v>1840</c:v>
                </c:pt>
                <c:pt idx="84">
                  <c:v>1841</c:v>
                </c:pt>
                <c:pt idx="85">
                  <c:v>1842</c:v>
                </c:pt>
                <c:pt idx="86">
                  <c:v>1843</c:v>
                </c:pt>
                <c:pt idx="87">
                  <c:v>1844</c:v>
                </c:pt>
                <c:pt idx="88">
                  <c:v>1845</c:v>
                </c:pt>
                <c:pt idx="89">
                  <c:v>1846</c:v>
                </c:pt>
                <c:pt idx="90">
                  <c:v>1847</c:v>
                </c:pt>
                <c:pt idx="91">
                  <c:v>1848</c:v>
                </c:pt>
                <c:pt idx="92">
                  <c:v>1849</c:v>
                </c:pt>
                <c:pt idx="93">
                  <c:v>1850</c:v>
                </c:pt>
                <c:pt idx="94">
                  <c:v>1851</c:v>
                </c:pt>
                <c:pt idx="95">
                  <c:v>1852</c:v>
                </c:pt>
                <c:pt idx="96">
                  <c:v>1853</c:v>
                </c:pt>
                <c:pt idx="97">
                  <c:v>1854</c:v>
                </c:pt>
                <c:pt idx="98">
                  <c:v>1855</c:v>
                </c:pt>
                <c:pt idx="99">
                  <c:v>1856</c:v>
                </c:pt>
                <c:pt idx="100">
                  <c:v>1857</c:v>
                </c:pt>
                <c:pt idx="101">
                  <c:v>1858</c:v>
                </c:pt>
                <c:pt idx="102">
                  <c:v>1859</c:v>
                </c:pt>
                <c:pt idx="103">
                  <c:v>1860</c:v>
                </c:pt>
                <c:pt idx="104">
                  <c:v>1861</c:v>
                </c:pt>
                <c:pt idx="105">
                  <c:v>1862</c:v>
                </c:pt>
                <c:pt idx="106">
                  <c:v>1863</c:v>
                </c:pt>
                <c:pt idx="107">
                  <c:v>1864</c:v>
                </c:pt>
                <c:pt idx="108">
                  <c:v>1865</c:v>
                </c:pt>
                <c:pt idx="109">
                  <c:v>1866</c:v>
                </c:pt>
                <c:pt idx="110">
                  <c:v>1867</c:v>
                </c:pt>
                <c:pt idx="111">
                  <c:v>1868</c:v>
                </c:pt>
                <c:pt idx="112">
                  <c:v>1869</c:v>
                </c:pt>
                <c:pt idx="113">
                  <c:v>1870</c:v>
                </c:pt>
                <c:pt idx="114">
                  <c:v>1871</c:v>
                </c:pt>
                <c:pt idx="115">
                  <c:v>1872</c:v>
                </c:pt>
                <c:pt idx="116">
                  <c:v>1873</c:v>
                </c:pt>
                <c:pt idx="117">
                  <c:v>1874</c:v>
                </c:pt>
                <c:pt idx="118">
                  <c:v>1875</c:v>
                </c:pt>
                <c:pt idx="119">
                  <c:v>1876</c:v>
                </c:pt>
                <c:pt idx="120">
                  <c:v>1877</c:v>
                </c:pt>
                <c:pt idx="121">
                  <c:v>1878</c:v>
                </c:pt>
                <c:pt idx="122">
                  <c:v>1879</c:v>
                </c:pt>
                <c:pt idx="123">
                  <c:v>1880</c:v>
                </c:pt>
                <c:pt idx="124">
                  <c:v>1881</c:v>
                </c:pt>
                <c:pt idx="125">
                  <c:v>1882</c:v>
                </c:pt>
                <c:pt idx="126">
                  <c:v>1883</c:v>
                </c:pt>
                <c:pt idx="127">
                  <c:v>1884</c:v>
                </c:pt>
                <c:pt idx="128">
                  <c:v>1885</c:v>
                </c:pt>
                <c:pt idx="129">
                  <c:v>1886</c:v>
                </c:pt>
                <c:pt idx="130">
                  <c:v>1887</c:v>
                </c:pt>
                <c:pt idx="131">
                  <c:v>1888</c:v>
                </c:pt>
                <c:pt idx="132">
                  <c:v>1889</c:v>
                </c:pt>
                <c:pt idx="133">
                  <c:v>1890</c:v>
                </c:pt>
                <c:pt idx="134">
                  <c:v>1891</c:v>
                </c:pt>
                <c:pt idx="135">
                  <c:v>1892</c:v>
                </c:pt>
                <c:pt idx="136">
                  <c:v>1893</c:v>
                </c:pt>
                <c:pt idx="137">
                  <c:v>1894</c:v>
                </c:pt>
                <c:pt idx="138">
                  <c:v>1895</c:v>
                </c:pt>
                <c:pt idx="139">
                  <c:v>1896</c:v>
                </c:pt>
                <c:pt idx="140">
                  <c:v>1897</c:v>
                </c:pt>
                <c:pt idx="141">
                  <c:v>1898</c:v>
                </c:pt>
                <c:pt idx="142">
                  <c:v>1899</c:v>
                </c:pt>
                <c:pt idx="143">
                  <c:v>1900</c:v>
                </c:pt>
                <c:pt idx="144">
                  <c:v>1901</c:v>
                </c:pt>
                <c:pt idx="145">
                  <c:v>1902</c:v>
                </c:pt>
                <c:pt idx="146">
                  <c:v>1903</c:v>
                </c:pt>
                <c:pt idx="147">
                  <c:v>1904</c:v>
                </c:pt>
                <c:pt idx="148">
                  <c:v>1905</c:v>
                </c:pt>
                <c:pt idx="149">
                  <c:v>1906</c:v>
                </c:pt>
                <c:pt idx="150">
                  <c:v>1907</c:v>
                </c:pt>
                <c:pt idx="151">
                  <c:v>1908</c:v>
                </c:pt>
                <c:pt idx="152">
                  <c:v>1909</c:v>
                </c:pt>
                <c:pt idx="153">
                  <c:v>1910</c:v>
                </c:pt>
                <c:pt idx="154">
                  <c:v>1911</c:v>
                </c:pt>
                <c:pt idx="155">
                  <c:v>1912</c:v>
                </c:pt>
                <c:pt idx="156">
                  <c:v>1913</c:v>
                </c:pt>
                <c:pt idx="157">
                  <c:v>1914</c:v>
                </c:pt>
                <c:pt idx="158">
                  <c:v>1915</c:v>
                </c:pt>
                <c:pt idx="159">
                  <c:v>1916</c:v>
                </c:pt>
                <c:pt idx="160">
                  <c:v>1917</c:v>
                </c:pt>
                <c:pt idx="161">
                  <c:v>1918</c:v>
                </c:pt>
                <c:pt idx="162">
                  <c:v>1919</c:v>
                </c:pt>
                <c:pt idx="163">
                  <c:v>1920</c:v>
                </c:pt>
                <c:pt idx="164">
                  <c:v>1921</c:v>
                </c:pt>
                <c:pt idx="165">
                  <c:v>1922</c:v>
                </c:pt>
                <c:pt idx="166">
                  <c:v>1923</c:v>
                </c:pt>
                <c:pt idx="167">
                  <c:v>1924</c:v>
                </c:pt>
                <c:pt idx="168">
                  <c:v>1925</c:v>
                </c:pt>
                <c:pt idx="169">
                  <c:v>1926</c:v>
                </c:pt>
                <c:pt idx="170">
                  <c:v>1927</c:v>
                </c:pt>
                <c:pt idx="171">
                  <c:v>1928</c:v>
                </c:pt>
                <c:pt idx="172">
                  <c:v>1929</c:v>
                </c:pt>
                <c:pt idx="173">
                  <c:v>1930</c:v>
                </c:pt>
                <c:pt idx="174">
                  <c:v>1931</c:v>
                </c:pt>
                <c:pt idx="175">
                  <c:v>1932</c:v>
                </c:pt>
                <c:pt idx="176">
                  <c:v>1933</c:v>
                </c:pt>
                <c:pt idx="177">
                  <c:v>1934</c:v>
                </c:pt>
                <c:pt idx="178">
                  <c:v>1935</c:v>
                </c:pt>
                <c:pt idx="179">
                  <c:v>1936</c:v>
                </c:pt>
                <c:pt idx="180">
                  <c:v>1937</c:v>
                </c:pt>
                <c:pt idx="181">
                  <c:v>1938</c:v>
                </c:pt>
                <c:pt idx="182">
                  <c:v>1939</c:v>
                </c:pt>
                <c:pt idx="183">
                  <c:v>1940</c:v>
                </c:pt>
                <c:pt idx="184">
                  <c:v>1941</c:v>
                </c:pt>
                <c:pt idx="185">
                  <c:v>1942</c:v>
                </c:pt>
                <c:pt idx="186">
                  <c:v>1943</c:v>
                </c:pt>
                <c:pt idx="187">
                  <c:v>1944</c:v>
                </c:pt>
                <c:pt idx="188">
                  <c:v>1945</c:v>
                </c:pt>
                <c:pt idx="189">
                  <c:v>1946</c:v>
                </c:pt>
                <c:pt idx="190">
                  <c:v>1947</c:v>
                </c:pt>
                <c:pt idx="191">
                  <c:v>1948</c:v>
                </c:pt>
                <c:pt idx="192">
                  <c:v>1949</c:v>
                </c:pt>
                <c:pt idx="193">
                  <c:v>1950</c:v>
                </c:pt>
                <c:pt idx="194">
                  <c:v>1951</c:v>
                </c:pt>
                <c:pt idx="195">
                  <c:v>1952</c:v>
                </c:pt>
                <c:pt idx="196">
                  <c:v>1953</c:v>
                </c:pt>
                <c:pt idx="197">
                  <c:v>1954</c:v>
                </c:pt>
                <c:pt idx="198">
                  <c:v>1955</c:v>
                </c:pt>
                <c:pt idx="199">
                  <c:v>1956</c:v>
                </c:pt>
                <c:pt idx="200">
                  <c:v>1957</c:v>
                </c:pt>
                <c:pt idx="201">
                  <c:v>1958</c:v>
                </c:pt>
                <c:pt idx="202">
                  <c:v>1959</c:v>
                </c:pt>
                <c:pt idx="203">
                  <c:v>1960</c:v>
                </c:pt>
                <c:pt idx="204">
                  <c:v>1961</c:v>
                </c:pt>
                <c:pt idx="205">
                  <c:v>1962</c:v>
                </c:pt>
                <c:pt idx="206">
                  <c:v>1963</c:v>
                </c:pt>
                <c:pt idx="207">
                  <c:v>1964</c:v>
                </c:pt>
                <c:pt idx="208">
                  <c:v>1965</c:v>
                </c:pt>
                <c:pt idx="209">
                  <c:v>1966</c:v>
                </c:pt>
                <c:pt idx="210">
                  <c:v>1967</c:v>
                </c:pt>
                <c:pt idx="211">
                  <c:v>1968</c:v>
                </c:pt>
                <c:pt idx="212">
                  <c:v>1969</c:v>
                </c:pt>
                <c:pt idx="213">
                  <c:v>1970</c:v>
                </c:pt>
                <c:pt idx="214">
                  <c:v>1971</c:v>
                </c:pt>
                <c:pt idx="215">
                  <c:v>1972</c:v>
                </c:pt>
                <c:pt idx="216">
                  <c:v>1973</c:v>
                </c:pt>
                <c:pt idx="217">
                  <c:v>1974</c:v>
                </c:pt>
                <c:pt idx="218">
                  <c:v>1975</c:v>
                </c:pt>
                <c:pt idx="219">
                  <c:v>1976</c:v>
                </c:pt>
                <c:pt idx="220">
                  <c:v>1977</c:v>
                </c:pt>
                <c:pt idx="221">
                  <c:v>1978</c:v>
                </c:pt>
                <c:pt idx="222">
                  <c:v>1979</c:v>
                </c:pt>
                <c:pt idx="223">
                  <c:v>1980</c:v>
                </c:pt>
                <c:pt idx="224">
                  <c:v>1981</c:v>
                </c:pt>
                <c:pt idx="225">
                  <c:v>1982</c:v>
                </c:pt>
                <c:pt idx="226">
                  <c:v>1983</c:v>
                </c:pt>
                <c:pt idx="227">
                  <c:v>1984</c:v>
                </c:pt>
                <c:pt idx="228">
                  <c:v>1985</c:v>
                </c:pt>
                <c:pt idx="229">
                  <c:v>1986</c:v>
                </c:pt>
                <c:pt idx="230">
                  <c:v>1987</c:v>
                </c:pt>
                <c:pt idx="231">
                  <c:v>1988</c:v>
                </c:pt>
                <c:pt idx="232">
                  <c:v>1989</c:v>
                </c:pt>
                <c:pt idx="233">
                  <c:v>1990</c:v>
                </c:pt>
                <c:pt idx="234">
                  <c:v>1991</c:v>
                </c:pt>
                <c:pt idx="235">
                  <c:v>1992</c:v>
                </c:pt>
                <c:pt idx="236">
                  <c:v>1993</c:v>
                </c:pt>
                <c:pt idx="237">
                  <c:v>1994</c:v>
                </c:pt>
                <c:pt idx="238">
                  <c:v>1995</c:v>
                </c:pt>
                <c:pt idx="239">
                  <c:v>1996</c:v>
                </c:pt>
                <c:pt idx="240">
                  <c:v>1997</c:v>
                </c:pt>
                <c:pt idx="241">
                  <c:v>1998</c:v>
                </c:pt>
                <c:pt idx="242">
                  <c:v>1999</c:v>
                </c:pt>
                <c:pt idx="243">
                  <c:v>2000</c:v>
                </c:pt>
                <c:pt idx="244">
                  <c:v>2001</c:v>
                </c:pt>
                <c:pt idx="245">
                  <c:v>2002</c:v>
                </c:pt>
                <c:pt idx="246">
                  <c:v>2003</c:v>
                </c:pt>
                <c:pt idx="247">
                  <c:v>2004</c:v>
                </c:pt>
                <c:pt idx="248">
                  <c:v>2005</c:v>
                </c:pt>
                <c:pt idx="249">
                  <c:v>2006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50"/>
                <c:pt idx="0">
                  <c:v>32.425</c:v>
                </c:pt>
                <c:pt idx="1">
                  <c:v>47.6</c:v>
                </c:pt>
                <c:pt idx="2">
                  <c:v>53.9666666666667</c:v>
                </c:pt>
                <c:pt idx="3">
                  <c:v>62.8583333333333</c:v>
                </c:pt>
                <c:pt idx="4">
                  <c:v>85.85</c:v>
                </c:pt>
                <c:pt idx="5">
                  <c:v>61.15</c:v>
                </c:pt>
                <c:pt idx="6">
                  <c:v>45.1166666666667</c:v>
                </c:pt>
                <c:pt idx="7">
                  <c:v>36.35</c:v>
                </c:pt>
                <c:pt idx="8">
                  <c:v>20.9083333333333</c:v>
                </c:pt>
                <c:pt idx="9">
                  <c:v>11.4083333333333</c:v>
                </c:pt>
                <c:pt idx="10">
                  <c:v>37.825</c:v>
                </c:pt>
                <c:pt idx="11">
                  <c:v>69.8416666666667</c:v>
                </c:pt>
                <c:pt idx="12">
                  <c:v>106.091666666667</c:v>
                </c:pt>
                <c:pt idx="13">
                  <c:v>100.8</c:v>
                </c:pt>
                <c:pt idx="14">
                  <c:v>81.5833333333333</c:v>
                </c:pt>
                <c:pt idx="15">
                  <c:v>66.4916666666667</c:v>
                </c:pt>
                <c:pt idx="16">
                  <c:v>34.775</c:v>
                </c:pt>
                <c:pt idx="17">
                  <c:v>30.6166666666667</c:v>
                </c:pt>
                <c:pt idx="18">
                  <c:v>7.00833333333333</c:v>
                </c:pt>
                <c:pt idx="19">
                  <c:v>19.8166666666667</c:v>
                </c:pt>
                <c:pt idx="20">
                  <c:v>92.5</c:v>
                </c:pt>
                <c:pt idx="21">
                  <c:v>154.366666666667</c:v>
                </c:pt>
                <c:pt idx="22">
                  <c:v>125.925</c:v>
                </c:pt>
                <c:pt idx="23">
                  <c:v>84.8</c:v>
                </c:pt>
                <c:pt idx="24">
                  <c:v>68.0916666666667</c:v>
                </c:pt>
                <c:pt idx="25">
                  <c:v>38.4583333333333</c:v>
                </c:pt>
                <c:pt idx="26">
                  <c:v>22.8</c:v>
                </c:pt>
                <c:pt idx="27">
                  <c:v>10.1666666666667</c:v>
                </c:pt>
                <c:pt idx="28">
                  <c:v>24.1</c:v>
                </c:pt>
                <c:pt idx="29">
                  <c:v>82.8666666666667</c:v>
                </c:pt>
                <c:pt idx="30">
                  <c:v>132.025</c:v>
                </c:pt>
                <c:pt idx="31">
                  <c:v>130.908333333333</c:v>
                </c:pt>
                <c:pt idx="32">
                  <c:v>118.108333333333</c:v>
                </c:pt>
                <c:pt idx="33">
                  <c:v>89.8916666666667</c:v>
                </c:pt>
                <c:pt idx="34">
                  <c:v>66.5833333333333</c:v>
                </c:pt>
                <c:pt idx="35">
                  <c:v>60.0416666666667</c:v>
                </c:pt>
                <c:pt idx="36">
                  <c:v>46.9</c:v>
                </c:pt>
                <c:pt idx="37">
                  <c:v>41</c:v>
                </c:pt>
                <c:pt idx="38">
                  <c:v>21.2666666666667</c:v>
                </c:pt>
                <c:pt idx="39">
                  <c:v>16.0166666666667</c:v>
                </c:pt>
                <c:pt idx="40">
                  <c:v>6.39166666666667</c:v>
                </c:pt>
                <c:pt idx="41">
                  <c:v>4.06666666666667</c:v>
                </c:pt>
                <c:pt idx="42">
                  <c:v>6.75833333333333</c:v>
                </c:pt>
                <c:pt idx="43">
                  <c:v>14.475</c:v>
                </c:pt>
                <c:pt idx="44">
                  <c:v>34</c:v>
                </c:pt>
                <c:pt idx="45">
                  <c:v>45.0333333333333</c:v>
                </c:pt>
                <c:pt idx="46">
                  <c:v>43.05</c:v>
                </c:pt>
                <c:pt idx="47">
                  <c:v>47.4666666666667</c:v>
                </c:pt>
                <c:pt idx="48">
                  <c:v>42.2416666666667</c:v>
                </c:pt>
                <c:pt idx="49">
                  <c:v>28.1083333333333</c:v>
                </c:pt>
                <c:pt idx="50">
                  <c:v>10.05</c:v>
                </c:pt>
                <c:pt idx="51">
                  <c:v>8.14166666666667</c:v>
                </c:pt>
                <c:pt idx="52">
                  <c:v>2.53333333333333</c:v>
                </c:pt>
                <c:pt idx="53">
                  <c:v>0</c:v>
                </c:pt>
                <c:pt idx="54">
                  <c:v>1.41666666666667</c:v>
                </c:pt>
                <c:pt idx="55">
                  <c:v>4.95</c:v>
                </c:pt>
                <c:pt idx="56">
                  <c:v>12.1916666666667</c:v>
                </c:pt>
                <c:pt idx="57">
                  <c:v>13.9333333333333</c:v>
                </c:pt>
                <c:pt idx="58">
                  <c:v>35.4</c:v>
                </c:pt>
                <c:pt idx="59">
                  <c:v>45.8083333333333</c:v>
                </c:pt>
                <c:pt idx="60">
                  <c:v>41.0583333333333</c:v>
                </c:pt>
                <c:pt idx="61">
                  <c:v>30.05</c:v>
                </c:pt>
                <c:pt idx="62">
                  <c:v>23.9666666666667</c:v>
                </c:pt>
                <c:pt idx="63">
                  <c:v>15.6166666666667</c:v>
                </c:pt>
                <c:pt idx="64">
                  <c:v>6.6</c:v>
                </c:pt>
                <c:pt idx="65">
                  <c:v>4</c:v>
                </c:pt>
                <c:pt idx="66">
                  <c:v>1.79166666666667</c:v>
                </c:pt>
                <c:pt idx="67">
                  <c:v>8.55</c:v>
                </c:pt>
                <c:pt idx="68">
                  <c:v>16.6</c:v>
                </c:pt>
                <c:pt idx="69">
                  <c:v>36.275</c:v>
                </c:pt>
                <c:pt idx="70">
                  <c:v>49.5666666666667</c:v>
                </c:pt>
                <c:pt idx="71">
                  <c:v>64.1666666666667</c:v>
                </c:pt>
                <c:pt idx="72">
                  <c:v>66.9583333333333</c:v>
                </c:pt>
                <c:pt idx="73">
                  <c:v>70.9166666666667</c:v>
                </c:pt>
                <c:pt idx="74">
                  <c:v>47.8166666666667</c:v>
                </c:pt>
                <c:pt idx="75">
                  <c:v>27.5416666666667</c:v>
                </c:pt>
                <c:pt idx="76">
                  <c:v>8.525</c:v>
                </c:pt>
                <c:pt idx="77">
                  <c:v>13.2416666666667</c:v>
                </c:pt>
                <c:pt idx="78">
                  <c:v>56.8583333333333</c:v>
                </c:pt>
                <c:pt idx="79">
                  <c:v>121.458333333333</c:v>
                </c:pt>
                <c:pt idx="80">
                  <c:v>138.308333333333</c:v>
                </c:pt>
                <c:pt idx="81">
                  <c:v>103.15</c:v>
                </c:pt>
                <c:pt idx="82">
                  <c:v>85.675</c:v>
                </c:pt>
                <c:pt idx="83">
                  <c:v>64.65</c:v>
                </c:pt>
                <c:pt idx="84">
                  <c:v>36.7333333333333</c:v>
                </c:pt>
                <c:pt idx="85">
                  <c:v>24.1916666666667</c:v>
                </c:pt>
                <c:pt idx="86">
                  <c:v>10.7333333333333</c:v>
                </c:pt>
                <c:pt idx="87">
                  <c:v>14.975</c:v>
                </c:pt>
                <c:pt idx="88">
                  <c:v>40.0666666666667</c:v>
                </c:pt>
                <c:pt idx="89">
                  <c:v>61.5083333333333</c:v>
                </c:pt>
                <c:pt idx="90">
                  <c:v>98.4333333333333</c:v>
                </c:pt>
                <c:pt idx="91">
                  <c:v>124.7</c:v>
                </c:pt>
                <c:pt idx="92">
                  <c:v>96.3333333333333</c:v>
                </c:pt>
                <c:pt idx="93">
                  <c:v>66.6166666666667</c:v>
                </c:pt>
                <c:pt idx="94">
                  <c:v>64.5083333333333</c:v>
                </c:pt>
                <c:pt idx="95">
                  <c:v>54.125</c:v>
                </c:pt>
                <c:pt idx="96">
                  <c:v>39.025</c:v>
                </c:pt>
                <c:pt idx="97">
                  <c:v>20.5833333333333</c:v>
                </c:pt>
                <c:pt idx="98">
                  <c:v>6.69166666666667</c:v>
                </c:pt>
                <c:pt idx="99">
                  <c:v>4.31666666666667</c:v>
                </c:pt>
                <c:pt idx="100">
                  <c:v>22.725</c:v>
                </c:pt>
                <c:pt idx="101">
                  <c:v>54.8083333333333</c:v>
                </c:pt>
                <c:pt idx="102">
                  <c:v>93.8333333333333</c:v>
                </c:pt>
                <c:pt idx="103">
                  <c:v>95.7916666666667</c:v>
                </c:pt>
                <c:pt idx="104">
                  <c:v>77.1833333333333</c:v>
                </c:pt>
                <c:pt idx="105">
                  <c:v>59.1</c:v>
                </c:pt>
                <c:pt idx="106">
                  <c:v>44.0166666666667</c:v>
                </c:pt>
                <c:pt idx="107">
                  <c:v>46.95</c:v>
                </c:pt>
                <c:pt idx="108">
                  <c:v>30.475</c:v>
                </c:pt>
                <c:pt idx="109">
                  <c:v>16.2916666666667</c:v>
                </c:pt>
                <c:pt idx="110">
                  <c:v>7.275</c:v>
                </c:pt>
                <c:pt idx="111">
                  <c:v>37.5916666666667</c:v>
                </c:pt>
                <c:pt idx="112">
                  <c:v>73.9916666666667</c:v>
                </c:pt>
                <c:pt idx="113">
                  <c:v>138.958333333333</c:v>
                </c:pt>
                <c:pt idx="114">
                  <c:v>111.216666666667</c:v>
                </c:pt>
                <c:pt idx="115">
                  <c:v>101.591666666667</c:v>
                </c:pt>
                <c:pt idx="116">
                  <c:v>66.2333333333333</c:v>
                </c:pt>
                <c:pt idx="117">
                  <c:v>44.65</c:v>
                </c:pt>
                <c:pt idx="118">
                  <c:v>17.0166666666667</c:v>
                </c:pt>
                <c:pt idx="119">
                  <c:v>11.2666666666667</c:v>
                </c:pt>
                <c:pt idx="120">
                  <c:v>12.4083333333333</c:v>
                </c:pt>
                <c:pt idx="121">
                  <c:v>3.43333333333333</c:v>
                </c:pt>
                <c:pt idx="122">
                  <c:v>6</c:v>
                </c:pt>
                <c:pt idx="123">
                  <c:v>32.2416666666667</c:v>
                </c:pt>
                <c:pt idx="124">
                  <c:v>54.3083333333333</c:v>
                </c:pt>
                <c:pt idx="125">
                  <c:v>59.6083333333333</c:v>
                </c:pt>
                <c:pt idx="126">
                  <c:v>63.6333333333333</c:v>
                </c:pt>
                <c:pt idx="127">
                  <c:v>63.5083333333333</c:v>
                </c:pt>
                <c:pt idx="128">
                  <c:v>51.9583333333333</c:v>
                </c:pt>
                <c:pt idx="129">
                  <c:v>25.425</c:v>
                </c:pt>
                <c:pt idx="130">
                  <c:v>13.05</c:v>
                </c:pt>
                <c:pt idx="131">
                  <c:v>6.75</c:v>
                </c:pt>
                <c:pt idx="132">
                  <c:v>6.21666666666667</c:v>
                </c:pt>
                <c:pt idx="133">
                  <c:v>7.05</c:v>
                </c:pt>
                <c:pt idx="134">
                  <c:v>35.625</c:v>
                </c:pt>
                <c:pt idx="135">
                  <c:v>72.9416666666667</c:v>
                </c:pt>
                <c:pt idx="136">
                  <c:v>85.0833333333333</c:v>
                </c:pt>
                <c:pt idx="137">
                  <c:v>78.0083333333333</c:v>
                </c:pt>
                <c:pt idx="138">
                  <c:v>63.9666666666667</c:v>
                </c:pt>
                <c:pt idx="139">
                  <c:v>41.8083333333333</c:v>
                </c:pt>
                <c:pt idx="140">
                  <c:v>26.2416666666667</c:v>
                </c:pt>
                <c:pt idx="141">
                  <c:v>26.7166666666667</c:v>
                </c:pt>
                <c:pt idx="142">
                  <c:v>12.1083333333333</c:v>
                </c:pt>
                <c:pt idx="143">
                  <c:v>9.45833333333333</c:v>
                </c:pt>
                <c:pt idx="144">
                  <c:v>2.74166666666667</c:v>
                </c:pt>
                <c:pt idx="145">
                  <c:v>5.05</c:v>
                </c:pt>
                <c:pt idx="146">
                  <c:v>24.3833333333333</c:v>
                </c:pt>
                <c:pt idx="147">
                  <c:v>41.95</c:v>
                </c:pt>
                <c:pt idx="148">
                  <c:v>63.4666666666667</c:v>
                </c:pt>
                <c:pt idx="149">
                  <c:v>53.8583333333333</c:v>
                </c:pt>
                <c:pt idx="150">
                  <c:v>62.0333333333333</c:v>
                </c:pt>
                <c:pt idx="151">
                  <c:v>48.5416666666667</c:v>
                </c:pt>
                <c:pt idx="152">
                  <c:v>43.8833333333334</c:v>
                </c:pt>
                <c:pt idx="153">
                  <c:v>18.5833333333333</c:v>
                </c:pt>
                <c:pt idx="154">
                  <c:v>5.7</c:v>
                </c:pt>
                <c:pt idx="155">
                  <c:v>3.59166666666667</c:v>
                </c:pt>
                <c:pt idx="156">
                  <c:v>1.44166666666667</c:v>
                </c:pt>
                <c:pt idx="157">
                  <c:v>9.59166666666667</c:v>
                </c:pt>
                <c:pt idx="158">
                  <c:v>47.3666666666667</c:v>
                </c:pt>
                <c:pt idx="159">
                  <c:v>57.0666666666667</c:v>
                </c:pt>
                <c:pt idx="160">
                  <c:v>103.891666666667</c:v>
                </c:pt>
                <c:pt idx="161">
                  <c:v>80.575</c:v>
                </c:pt>
                <c:pt idx="162">
                  <c:v>63.6083333333333</c:v>
                </c:pt>
                <c:pt idx="163">
                  <c:v>37.6416666666667</c:v>
                </c:pt>
                <c:pt idx="164">
                  <c:v>26.1333333333333</c:v>
                </c:pt>
                <c:pt idx="165">
                  <c:v>14.2416666666667</c:v>
                </c:pt>
                <c:pt idx="166">
                  <c:v>5.775</c:v>
                </c:pt>
                <c:pt idx="167">
                  <c:v>16.7166666666667</c:v>
                </c:pt>
                <c:pt idx="168">
                  <c:v>44.3083333333333</c:v>
                </c:pt>
                <c:pt idx="169">
                  <c:v>63.8833333333333</c:v>
                </c:pt>
                <c:pt idx="170">
                  <c:v>69.0416666666667</c:v>
                </c:pt>
                <c:pt idx="171">
                  <c:v>77.8</c:v>
                </c:pt>
                <c:pt idx="172">
                  <c:v>64.8583333333333</c:v>
                </c:pt>
                <c:pt idx="173">
                  <c:v>35.725</c:v>
                </c:pt>
                <c:pt idx="174">
                  <c:v>21.225</c:v>
                </c:pt>
                <c:pt idx="175">
                  <c:v>11.1416666666667</c:v>
                </c:pt>
                <c:pt idx="176">
                  <c:v>5.65833333333333</c:v>
                </c:pt>
                <c:pt idx="177">
                  <c:v>8.71666666666667</c:v>
                </c:pt>
                <c:pt idx="178">
                  <c:v>36.0333333333333</c:v>
                </c:pt>
                <c:pt idx="179">
                  <c:v>79.7333333333333</c:v>
                </c:pt>
                <c:pt idx="180">
                  <c:v>114.4</c:v>
                </c:pt>
                <c:pt idx="181">
                  <c:v>109.55</c:v>
                </c:pt>
                <c:pt idx="182">
                  <c:v>88.75</c:v>
                </c:pt>
                <c:pt idx="183">
                  <c:v>67.7833333333333</c:v>
                </c:pt>
                <c:pt idx="184">
                  <c:v>47.4833333333333</c:v>
                </c:pt>
                <c:pt idx="185">
                  <c:v>30.6</c:v>
                </c:pt>
                <c:pt idx="186">
                  <c:v>16.325</c:v>
                </c:pt>
                <c:pt idx="187">
                  <c:v>9.59166666666667</c:v>
                </c:pt>
                <c:pt idx="188">
                  <c:v>33.0916666666667</c:v>
                </c:pt>
                <c:pt idx="189">
                  <c:v>92.5083333333333</c:v>
                </c:pt>
                <c:pt idx="190">
                  <c:v>151.508333333333</c:v>
                </c:pt>
                <c:pt idx="191">
                  <c:v>136.2</c:v>
                </c:pt>
                <c:pt idx="192">
                  <c:v>135.116666666667</c:v>
                </c:pt>
                <c:pt idx="193">
                  <c:v>83.925</c:v>
                </c:pt>
                <c:pt idx="194">
                  <c:v>69.425</c:v>
                </c:pt>
                <c:pt idx="195">
                  <c:v>31.4083333333333</c:v>
                </c:pt>
                <c:pt idx="196">
                  <c:v>13.85</c:v>
                </c:pt>
                <c:pt idx="197">
                  <c:v>4.40833333333333</c:v>
                </c:pt>
                <c:pt idx="198">
                  <c:v>37.95</c:v>
                </c:pt>
                <c:pt idx="199">
                  <c:v>141.708333333333</c:v>
                </c:pt>
                <c:pt idx="200">
                  <c:v>189.85</c:v>
                </c:pt>
                <c:pt idx="201">
                  <c:v>184.591666666667</c:v>
                </c:pt>
                <c:pt idx="202">
                  <c:v>158.75</c:v>
                </c:pt>
                <c:pt idx="203">
                  <c:v>112.275</c:v>
                </c:pt>
                <c:pt idx="204">
                  <c:v>53.8833333333333</c:v>
                </c:pt>
                <c:pt idx="205">
                  <c:v>37.6</c:v>
                </c:pt>
                <c:pt idx="206">
                  <c:v>27.8916666666667</c:v>
                </c:pt>
                <c:pt idx="207">
                  <c:v>10.2</c:v>
                </c:pt>
                <c:pt idx="208">
                  <c:v>15.0583333333333</c:v>
                </c:pt>
                <c:pt idx="209">
                  <c:v>46.875</c:v>
                </c:pt>
                <c:pt idx="210">
                  <c:v>93.6666666666667</c:v>
                </c:pt>
                <c:pt idx="211">
                  <c:v>105.891666666667</c:v>
                </c:pt>
                <c:pt idx="212">
                  <c:v>105.558333333333</c:v>
                </c:pt>
                <c:pt idx="213">
                  <c:v>104.691666666667</c:v>
                </c:pt>
                <c:pt idx="214">
                  <c:v>66.65</c:v>
                </c:pt>
                <c:pt idx="215">
                  <c:v>68.9333333333333</c:v>
                </c:pt>
                <c:pt idx="216">
                  <c:v>37.9833333333333</c:v>
                </c:pt>
                <c:pt idx="217">
                  <c:v>34.4083333333333</c:v>
                </c:pt>
                <c:pt idx="218">
                  <c:v>15.4583333333333</c:v>
                </c:pt>
                <c:pt idx="219">
                  <c:v>12.55</c:v>
                </c:pt>
                <c:pt idx="220">
                  <c:v>27.4833333333333</c:v>
                </c:pt>
                <c:pt idx="221">
                  <c:v>92.6583333333334</c:v>
                </c:pt>
                <c:pt idx="222">
                  <c:v>155.275</c:v>
                </c:pt>
                <c:pt idx="223">
                  <c:v>154.65</c:v>
                </c:pt>
                <c:pt idx="224">
                  <c:v>140.45</c:v>
                </c:pt>
                <c:pt idx="225">
                  <c:v>116.291666666667</c:v>
                </c:pt>
                <c:pt idx="226">
                  <c:v>66.6333333333333</c:v>
                </c:pt>
                <c:pt idx="227">
                  <c:v>45.85</c:v>
                </c:pt>
                <c:pt idx="228">
                  <c:v>17.9416666666667</c:v>
                </c:pt>
                <c:pt idx="229">
                  <c:v>13.4</c:v>
                </c:pt>
                <c:pt idx="230">
                  <c:v>29.225</c:v>
                </c:pt>
                <c:pt idx="231">
                  <c:v>100</c:v>
                </c:pt>
                <c:pt idx="232">
                  <c:v>157.791666666667</c:v>
                </c:pt>
                <c:pt idx="233">
                  <c:v>142.291666666667</c:v>
                </c:pt>
                <c:pt idx="234">
                  <c:v>145.775</c:v>
                </c:pt>
                <c:pt idx="235">
                  <c:v>94.4833333333333</c:v>
                </c:pt>
                <c:pt idx="236">
                  <c:v>54.7333333333333</c:v>
                </c:pt>
                <c:pt idx="237">
                  <c:v>29.8666666666667</c:v>
                </c:pt>
                <c:pt idx="238">
                  <c:v>17.5</c:v>
                </c:pt>
                <c:pt idx="239">
                  <c:v>8.625</c:v>
                </c:pt>
                <c:pt idx="240">
                  <c:v>21.5666666666667</c:v>
                </c:pt>
                <c:pt idx="241">
                  <c:v>64.2083333333333</c:v>
                </c:pt>
                <c:pt idx="242">
                  <c:v>93.175</c:v>
                </c:pt>
                <c:pt idx="243">
                  <c:v>119.533333333333</c:v>
                </c:pt>
                <c:pt idx="244">
                  <c:v>110.925</c:v>
                </c:pt>
                <c:pt idx="245">
                  <c:v>104.091666666667</c:v>
                </c:pt>
                <c:pt idx="246">
                  <c:v>63.5666666666667</c:v>
                </c:pt>
                <c:pt idx="247">
                  <c:v>40.4416666666667</c:v>
                </c:pt>
                <c:pt idx="248">
                  <c:v>29.7833333333333</c:v>
                </c:pt>
                <c:pt idx="249">
                  <c:v>15.1833333333333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рогноз</c:v>
                </c:pt>
              </c:strCache>
            </c:strRef>
          </c:tx>
          <c:spPr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525" spc="-1" strike="noStrike">
                    <a:solidFill>
                      <a:srgbClr val="000000"/>
                    </a:solidFill>
                    <a:latin typeface="Arial Cyr"/>
                    <a:ea typeface="Arial Cyr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50"/>
                <c:pt idx="0">
                  <c:v>1757</c:v>
                </c:pt>
                <c:pt idx="1">
                  <c:v>1758</c:v>
                </c:pt>
                <c:pt idx="2">
                  <c:v>1759</c:v>
                </c:pt>
                <c:pt idx="3">
                  <c:v>1760</c:v>
                </c:pt>
                <c:pt idx="4">
                  <c:v>1761</c:v>
                </c:pt>
                <c:pt idx="5">
                  <c:v>1762</c:v>
                </c:pt>
                <c:pt idx="6">
                  <c:v>1763</c:v>
                </c:pt>
                <c:pt idx="7">
                  <c:v>1764</c:v>
                </c:pt>
                <c:pt idx="8">
                  <c:v>1765</c:v>
                </c:pt>
                <c:pt idx="9">
                  <c:v>1766</c:v>
                </c:pt>
                <c:pt idx="10">
                  <c:v>1767</c:v>
                </c:pt>
                <c:pt idx="11">
                  <c:v>1768</c:v>
                </c:pt>
                <c:pt idx="12">
                  <c:v>1769</c:v>
                </c:pt>
                <c:pt idx="13">
                  <c:v>1770</c:v>
                </c:pt>
                <c:pt idx="14">
                  <c:v>1771</c:v>
                </c:pt>
                <c:pt idx="15">
                  <c:v>1772</c:v>
                </c:pt>
                <c:pt idx="16">
                  <c:v>1773</c:v>
                </c:pt>
                <c:pt idx="17">
                  <c:v>1774</c:v>
                </c:pt>
                <c:pt idx="18">
                  <c:v>1775</c:v>
                </c:pt>
                <c:pt idx="19">
                  <c:v>1776</c:v>
                </c:pt>
                <c:pt idx="20">
                  <c:v>1777</c:v>
                </c:pt>
                <c:pt idx="21">
                  <c:v>1778</c:v>
                </c:pt>
                <c:pt idx="22">
                  <c:v>1779</c:v>
                </c:pt>
                <c:pt idx="23">
                  <c:v>1780</c:v>
                </c:pt>
                <c:pt idx="24">
                  <c:v>1781</c:v>
                </c:pt>
                <c:pt idx="25">
                  <c:v>1782</c:v>
                </c:pt>
                <c:pt idx="26">
                  <c:v>1783</c:v>
                </c:pt>
                <c:pt idx="27">
                  <c:v>1784</c:v>
                </c:pt>
                <c:pt idx="28">
                  <c:v>1785</c:v>
                </c:pt>
                <c:pt idx="29">
                  <c:v>1786</c:v>
                </c:pt>
                <c:pt idx="30">
                  <c:v>1787</c:v>
                </c:pt>
                <c:pt idx="31">
                  <c:v>1788</c:v>
                </c:pt>
                <c:pt idx="32">
                  <c:v>1789</c:v>
                </c:pt>
                <c:pt idx="33">
                  <c:v>1790</c:v>
                </c:pt>
                <c:pt idx="34">
                  <c:v>1791</c:v>
                </c:pt>
                <c:pt idx="35">
                  <c:v>1792</c:v>
                </c:pt>
                <c:pt idx="36">
                  <c:v>1793</c:v>
                </c:pt>
                <c:pt idx="37">
                  <c:v>1794</c:v>
                </c:pt>
                <c:pt idx="38">
                  <c:v>1795</c:v>
                </c:pt>
                <c:pt idx="39">
                  <c:v>1796</c:v>
                </c:pt>
                <c:pt idx="40">
                  <c:v>1797</c:v>
                </c:pt>
                <c:pt idx="41">
                  <c:v>1798</c:v>
                </c:pt>
                <c:pt idx="42">
                  <c:v>1799</c:v>
                </c:pt>
                <c:pt idx="43">
                  <c:v>1800</c:v>
                </c:pt>
                <c:pt idx="44">
                  <c:v>1801</c:v>
                </c:pt>
                <c:pt idx="45">
                  <c:v>1802</c:v>
                </c:pt>
                <c:pt idx="46">
                  <c:v>1803</c:v>
                </c:pt>
                <c:pt idx="47">
                  <c:v>1804</c:v>
                </c:pt>
                <c:pt idx="48">
                  <c:v>1805</c:v>
                </c:pt>
                <c:pt idx="49">
                  <c:v>1806</c:v>
                </c:pt>
                <c:pt idx="50">
                  <c:v>1807</c:v>
                </c:pt>
                <c:pt idx="51">
                  <c:v>1808</c:v>
                </c:pt>
                <c:pt idx="52">
                  <c:v>1809</c:v>
                </c:pt>
                <c:pt idx="53">
                  <c:v>1810</c:v>
                </c:pt>
                <c:pt idx="54">
                  <c:v>1811</c:v>
                </c:pt>
                <c:pt idx="55">
                  <c:v>1812</c:v>
                </c:pt>
                <c:pt idx="56">
                  <c:v>1813</c:v>
                </c:pt>
                <c:pt idx="57">
                  <c:v>1814</c:v>
                </c:pt>
                <c:pt idx="58">
                  <c:v>1815</c:v>
                </c:pt>
                <c:pt idx="59">
                  <c:v>1816</c:v>
                </c:pt>
                <c:pt idx="60">
                  <c:v>1817</c:v>
                </c:pt>
                <c:pt idx="61">
                  <c:v>1818</c:v>
                </c:pt>
                <c:pt idx="62">
                  <c:v>1819</c:v>
                </c:pt>
                <c:pt idx="63">
                  <c:v>1820</c:v>
                </c:pt>
                <c:pt idx="64">
                  <c:v>1821</c:v>
                </c:pt>
                <c:pt idx="65">
                  <c:v>1822</c:v>
                </c:pt>
                <c:pt idx="66">
                  <c:v>1823</c:v>
                </c:pt>
                <c:pt idx="67">
                  <c:v>1824</c:v>
                </c:pt>
                <c:pt idx="68">
                  <c:v>1825</c:v>
                </c:pt>
                <c:pt idx="69">
                  <c:v>1826</c:v>
                </c:pt>
                <c:pt idx="70">
                  <c:v>1827</c:v>
                </c:pt>
                <c:pt idx="71">
                  <c:v>1828</c:v>
                </c:pt>
                <c:pt idx="72">
                  <c:v>1829</c:v>
                </c:pt>
                <c:pt idx="73">
                  <c:v>1830</c:v>
                </c:pt>
                <c:pt idx="74">
                  <c:v>1831</c:v>
                </c:pt>
                <c:pt idx="75">
                  <c:v>1832</c:v>
                </c:pt>
                <c:pt idx="76">
                  <c:v>1833</c:v>
                </c:pt>
                <c:pt idx="77">
                  <c:v>1834</c:v>
                </c:pt>
                <c:pt idx="78">
                  <c:v>1835</c:v>
                </c:pt>
                <c:pt idx="79">
                  <c:v>1836</c:v>
                </c:pt>
                <c:pt idx="80">
                  <c:v>1837</c:v>
                </c:pt>
                <c:pt idx="81">
                  <c:v>1838</c:v>
                </c:pt>
                <c:pt idx="82">
                  <c:v>1839</c:v>
                </c:pt>
                <c:pt idx="83">
                  <c:v>1840</c:v>
                </c:pt>
                <c:pt idx="84">
                  <c:v>1841</c:v>
                </c:pt>
                <c:pt idx="85">
                  <c:v>1842</c:v>
                </c:pt>
                <c:pt idx="86">
                  <c:v>1843</c:v>
                </c:pt>
                <c:pt idx="87">
                  <c:v>1844</c:v>
                </c:pt>
                <c:pt idx="88">
                  <c:v>1845</c:v>
                </c:pt>
                <c:pt idx="89">
                  <c:v>1846</c:v>
                </c:pt>
                <c:pt idx="90">
                  <c:v>1847</c:v>
                </c:pt>
                <c:pt idx="91">
                  <c:v>1848</c:v>
                </c:pt>
                <c:pt idx="92">
                  <c:v>1849</c:v>
                </c:pt>
                <c:pt idx="93">
                  <c:v>1850</c:v>
                </c:pt>
                <c:pt idx="94">
                  <c:v>1851</c:v>
                </c:pt>
                <c:pt idx="95">
                  <c:v>1852</c:v>
                </c:pt>
                <c:pt idx="96">
                  <c:v>1853</c:v>
                </c:pt>
                <c:pt idx="97">
                  <c:v>1854</c:v>
                </c:pt>
                <c:pt idx="98">
                  <c:v>1855</c:v>
                </c:pt>
                <c:pt idx="99">
                  <c:v>1856</c:v>
                </c:pt>
                <c:pt idx="100">
                  <c:v>1857</c:v>
                </c:pt>
                <c:pt idx="101">
                  <c:v>1858</c:v>
                </c:pt>
                <c:pt idx="102">
                  <c:v>1859</c:v>
                </c:pt>
                <c:pt idx="103">
                  <c:v>1860</c:v>
                </c:pt>
                <c:pt idx="104">
                  <c:v>1861</c:v>
                </c:pt>
                <c:pt idx="105">
                  <c:v>1862</c:v>
                </c:pt>
                <c:pt idx="106">
                  <c:v>1863</c:v>
                </c:pt>
                <c:pt idx="107">
                  <c:v>1864</c:v>
                </c:pt>
                <c:pt idx="108">
                  <c:v>1865</c:v>
                </c:pt>
                <c:pt idx="109">
                  <c:v>1866</c:v>
                </c:pt>
                <c:pt idx="110">
                  <c:v>1867</c:v>
                </c:pt>
                <c:pt idx="111">
                  <c:v>1868</c:v>
                </c:pt>
                <c:pt idx="112">
                  <c:v>1869</c:v>
                </c:pt>
                <c:pt idx="113">
                  <c:v>1870</c:v>
                </c:pt>
                <c:pt idx="114">
                  <c:v>1871</c:v>
                </c:pt>
                <c:pt idx="115">
                  <c:v>1872</c:v>
                </c:pt>
                <c:pt idx="116">
                  <c:v>1873</c:v>
                </c:pt>
                <c:pt idx="117">
                  <c:v>1874</c:v>
                </c:pt>
                <c:pt idx="118">
                  <c:v>1875</c:v>
                </c:pt>
                <c:pt idx="119">
                  <c:v>1876</c:v>
                </c:pt>
                <c:pt idx="120">
                  <c:v>1877</c:v>
                </c:pt>
                <c:pt idx="121">
                  <c:v>1878</c:v>
                </c:pt>
                <c:pt idx="122">
                  <c:v>1879</c:v>
                </c:pt>
                <c:pt idx="123">
                  <c:v>1880</c:v>
                </c:pt>
                <c:pt idx="124">
                  <c:v>1881</c:v>
                </c:pt>
                <c:pt idx="125">
                  <c:v>1882</c:v>
                </c:pt>
                <c:pt idx="126">
                  <c:v>1883</c:v>
                </c:pt>
                <c:pt idx="127">
                  <c:v>1884</c:v>
                </c:pt>
                <c:pt idx="128">
                  <c:v>1885</c:v>
                </c:pt>
                <c:pt idx="129">
                  <c:v>1886</c:v>
                </c:pt>
                <c:pt idx="130">
                  <c:v>1887</c:v>
                </c:pt>
                <c:pt idx="131">
                  <c:v>1888</c:v>
                </c:pt>
                <c:pt idx="132">
                  <c:v>1889</c:v>
                </c:pt>
                <c:pt idx="133">
                  <c:v>1890</c:v>
                </c:pt>
                <c:pt idx="134">
                  <c:v>1891</c:v>
                </c:pt>
                <c:pt idx="135">
                  <c:v>1892</c:v>
                </c:pt>
                <c:pt idx="136">
                  <c:v>1893</c:v>
                </c:pt>
                <c:pt idx="137">
                  <c:v>1894</c:v>
                </c:pt>
                <c:pt idx="138">
                  <c:v>1895</c:v>
                </c:pt>
                <c:pt idx="139">
                  <c:v>1896</c:v>
                </c:pt>
                <c:pt idx="140">
                  <c:v>1897</c:v>
                </c:pt>
                <c:pt idx="141">
                  <c:v>1898</c:v>
                </c:pt>
                <c:pt idx="142">
                  <c:v>1899</c:v>
                </c:pt>
                <c:pt idx="143">
                  <c:v>1900</c:v>
                </c:pt>
                <c:pt idx="144">
                  <c:v>1901</c:v>
                </c:pt>
                <c:pt idx="145">
                  <c:v>1902</c:v>
                </c:pt>
                <c:pt idx="146">
                  <c:v>1903</c:v>
                </c:pt>
                <c:pt idx="147">
                  <c:v>1904</c:v>
                </c:pt>
                <c:pt idx="148">
                  <c:v>1905</c:v>
                </c:pt>
                <c:pt idx="149">
                  <c:v>1906</c:v>
                </c:pt>
                <c:pt idx="150">
                  <c:v>1907</c:v>
                </c:pt>
                <c:pt idx="151">
                  <c:v>1908</c:v>
                </c:pt>
                <c:pt idx="152">
                  <c:v>1909</c:v>
                </c:pt>
                <c:pt idx="153">
                  <c:v>1910</c:v>
                </c:pt>
                <c:pt idx="154">
                  <c:v>1911</c:v>
                </c:pt>
                <c:pt idx="155">
                  <c:v>1912</c:v>
                </c:pt>
                <c:pt idx="156">
                  <c:v>1913</c:v>
                </c:pt>
                <c:pt idx="157">
                  <c:v>1914</c:v>
                </c:pt>
                <c:pt idx="158">
                  <c:v>1915</c:v>
                </c:pt>
                <c:pt idx="159">
                  <c:v>1916</c:v>
                </c:pt>
                <c:pt idx="160">
                  <c:v>1917</c:v>
                </c:pt>
                <c:pt idx="161">
                  <c:v>1918</c:v>
                </c:pt>
                <c:pt idx="162">
                  <c:v>1919</c:v>
                </c:pt>
                <c:pt idx="163">
                  <c:v>1920</c:v>
                </c:pt>
                <c:pt idx="164">
                  <c:v>1921</c:v>
                </c:pt>
                <c:pt idx="165">
                  <c:v>1922</c:v>
                </c:pt>
                <c:pt idx="166">
                  <c:v>1923</c:v>
                </c:pt>
                <c:pt idx="167">
                  <c:v>1924</c:v>
                </c:pt>
                <c:pt idx="168">
                  <c:v>1925</c:v>
                </c:pt>
                <c:pt idx="169">
                  <c:v>1926</c:v>
                </c:pt>
                <c:pt idx="170">
                  <c:v>1927</c:v>
                </c:pt>
                <c:pt idx="171">
                  <c:v>1928</c:v>
                </c:pt>
                <c:pt idx="172">
                  <c:v>1929</c:v>
                </c:pt>
                <c:pt idx="173">
                  <c:v>1930</c:v>
                </c:pt>
                <c:pt idx="174">
                  <c:v>1931</c:v>
                </c:pt>
                <c:pt idx="175">
                  <c:v>1932</c:v>
                </c:pt>
                <c:pt idx="176">
                  <c:v>1933</c:v>
                </c:pt>
                <c:pt idx="177">
                  <c:v>1934</c:v>
                </c:pt>
                <c:pt idx="178">
                  <c:v>1935</c:v>
                </c:pt>
                <c:pt idx="179">
                  <c:v>1936</c:v>
                </c:pt>
                <c:pt idx="180">
                  <c:v>1937</c:v>
                </c:pt>
                <c:pt idx="181">
                  <c:v>1938</c:v>
                </c:pt>
                <c:pt idx="182">
                  <c:v>1939</c:v>
                </c:pt>
                <c:pt idx="183">
                  <c:v>1940</c:v>
                </c:pt>
                <c:pt idx="184">
                  <c:v>1941</c:v>
                </c:pt>
                <c:pt idx="185">
                  <c:v>1942</c:v>
                </c:pt>
                <c:pt idx="186">
                  <c:v>1943</c:v>
                </c:pt>
                <c:pt idx="187">
                  <c:v>1944</c:v>
                </c:pt>
                <c:pt idx="188">
                  <c:v>1945</c:v>
                </c:pt>
                <c:pt idx="189">
                  <c:v>1946</c:v>
                </c:pt>
                <c:pt idx="190">
                  <c:v>1947</c:v>
                </c:pt>
                <c:pt idx="191">
                  <c:v>1948</c:v>
                </c:pt>
                <c:pt idx="192">
                  <c:v>1949</c:v>
                </c:pt>
                <c:pt idx="193">
                  <c:v>1950</c:v>
                </c:pt>
                <c:pt idx="194">
                  <c:v>1951</c:v>
                </c:pt>
                <c:pt idx="195">
                  <c:v>1952</c:v>
                </c:pt>
                <c:pt idx="196">
                  <c:v>1953</c:v>
                </c:pt>
                <c:pt idx="197">
                  <c:v>1954</c:v>
                </c:pt>
                <c:pt idx="198">
                  <c:v>1955</c:v>
                </c:pt>
                <c:pt idx="199">
                  <c:v>1956</c:v>
                </c:pt>
                <c:pt idx="200">
                  <c:v>1957</c:v>
                </c:pt>
                <c:pt idx="201">
                  <c:v>1958</c:v>
                </c:pt>
                <c:pt idx="202">
                  <c:v>1959</c:v>
                </c:pt>
                <c:pt idx="203">
                  <c:v>1960</c:v>
                </c:pt>
                <c:pt idx="204">
                  <c:v>1961</c:v>
                </c:pt>
                <c:pt idx="205">
                  <c:v>1962</c:v>
                </c:pt>
                <c:pt idx="206">
                  <c:v>1963</c:v>
                </c:pt>
                <c:pt idx="207">
                  <c:v>1964</c:v>
                </c:pt>
                <c:pt idx="208">
                  <c:v>1965</c:v>
                </c:pt>
                <c:pt idx="209">
                  <c:v>1966</c:v>
                </c:pt>
                <c:pt idx="210">
                  <c:v>1967</c:v>
                </c:pt>
                <c:pt idx="211">
                  <c:v>1968</c:v>
                </c:pt>
                <c:pt idx="212">
                  <c:v>1969</c:v>
                </c:pt>
                <c:pt idx="213">
                  <c:v>1970</c:v>
                </c:pt>
                <c:pt idx="214">
                  <c:v>1971</c:v>
                </c:pt>
                <c:pt idx="215">
                  <c:v>1972</c:v>
                </c:pt>
                <c:pt idx="216">
                  <c:v>1973</c:v>
                </c:pt>
                <c:pt idx="217">
                  <c:v>1974</c:v>
                </c:pt>
                <c:pt idx="218">
                  <c:v>1975</c:v>
                </c:pt>
                <c:pt idx="219">
                  <c:v>1976</c:v>
                </c:pt>
                <c:pt idx="220">
                  <c:v>1977</c:v>
                </c:pt>
                <c:pt idx="221">
                  <c:v>1978</c:v>
                </c:pt>
                <c:pt idx="222">
                  <c:v>1979</c:v>
                </c:pt>
                <c:pt idx="223">
                  <c:v>1980</c:v>
                </c:pt>
                <c:pt idx="224">
                  <c:v>1981</c:v>
                </c:pt>
                <c:pt idx="225">
                  <c:v>1982</c:v>
                </c:pt>
                <c:pt idx="226">
                  <c:v>1983</c:v>
                </c:pt>
                <c:pt idx="227">
                  <c:v>1984</c:v>
                </c:pt>
                <c:pt idx="228">
                  <c:v>1985</c:v>
                </c:pt>
                <c:pt idx="229">
                  <c:v>1986</c:v>
                </c:pt>
                <c:pt idx="230">
                  <c:v>1987</c:v>
                </c:pt>
                <c:pt idx="231">
                  <c:v>1988</c:v>
                </c:pt>
                <c:pt idx="232">
                  <c:v>1989</c:v>
                </c:pt>
                <c:pt idx="233">
                  <c:v>1990</c:v>
                </c:pt>
                <c:pt idx="234">
                  <c:v>1991</c:v>
                </c:pt>
                <c:pt idx="235">
                  <c:v>1992</c:v>
                </c:pt>
                <c:pt idx="236">
                  <c:v>1993</c:v>
                </c:pt>
                <c:pt idx="237">
                  <c:v>1994</c:v>
                </c:pt>
                <c:pt idx="238">
                  <c:v>1995</c:v>
                </c:pt>
                <c:pt idx="239">
                  <c:v>1996</c:v>
                </c:pt>
                <c:pt idx="240">
                  <c:v>1997</c:v>
                </c:pt>
                <c:pt idx="241">
                  <c:v>1998</c:v>
                </c:pt>
                <c:pt idx="242">
                  <c:v>1999</c:v>
                </c:pt>
                <c:pt idx="243">
                  <c:v>2000</c:v>
                </c:pt>
                <c:pt idx="244">
                  <c:v>2001</c:v>
                </c:pt>
                <c:pt idx="245">
                  <c:v>2002</c:v>
                </c:pt>
                <c:pt idx="246">
                  <c:v>2003</c:v>
                </c:pt>
                <c:pt idx="247">
                  <c:v>2004</c:v>
                </c:pt>
                <c:pt idx="248">
                  <c:v>2005</c:v>
                </c:pt>
                <c:pt idx="249">
                  <c:v>2006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50"/>
                <c:pt idx="0">
                  <c:v>24.4780764979959</c:v>
                </c:pt>
                <c:pt idx="1">
                  <c:v>53.0482808320413</c:v>
                </c:pt>
                <c:pt idx="2">
                  <c:v>58.8697081817917</c:v>
                </c:pt>
                <c:pt idx="3">
                  <c:v>57.6444363360559</c:v>
                </c:pt>
                <c:pt idx="4">
                  <c:v>65.233550828665</c:v>
                </c:pt>
                <c:pt idx="5">
                  <c:v>89.6061731582892</c:v>
                </c:pt>
                <c:pt idx="6">
                  <c:v>43.0087600746497</c:v>
                </c:pt>
                <c:pt idx="7">
                  <c:v>37.616488813342</c:v>
                </c:pt>
                <c:pt idx="8">
                  <c:v>36.2538071051007</c:v>
                </c:pt>
                <c:pt idx="9">
                  <c:v>21.6377822326998</c:v>
                </c:pt>
                <c:pt idx="10">
                  <c:v>18.9486897606976</c:v>
                </c:pt>
                <c:pt idx="11">
                  <c:v>59.3194123919056</c:v>
                </c:pt>
                <c:pt idx="12">
                  <c:v>84.4555578512213</c:v>
                </c:pt>
                <c:pt idx="13">
                  <c:v>111.593547081906</c:v>
                </c:pt>
                <c:pt idx="14">
                  <c:v>81.9618526402517</c:v>
                </c:pt>
                <c:pt idx="15">
                  <c:v>60.2485645037287</c:v>
                </c:pt>
                <c:pt idx="16">
                  <c:v>52.6434294397885</c:v>
                </c:pt>
                <c:pt idx="17">
                  <c:v>20.7942560654995</c:v>
                </c:pt>
                <c:pt idx="18">
                  <c:v>35.2722897211112</c:v>
                </c:pt>
                <c:pt idx="19">
                  <c:v>7.12729280653656</c:v>
                </c:pt>
                <c:pt idx="20">
                  <c:v>38.6208444764166</c:v>
                </c:pt>
                <c:pt idx="21">
                  <c:v>125.267503082855</c:v>
                </c:pt>
                <c:pt idx="22">
                  <c:v>160.266093906552</c:v>
                </c:pt>
                <c:pt idx="23">
                  <c:v>84.4095121359963</c:v>
                </c:pt>
                <c:pt idx="24">
                  <c:v>48.6786179327822</c:v>
                </c:pt>
                <c:pt idx="25">
                  <c:v>52.7099534519759</c:v>
                </c:pt>
                <c:pt idx="26">
                  <c:v>24.588718945581</c:v>
                </c:pt>
                <c:pt idx="27">
                  <c:v>22.7794690560942</c:v>
                </c:pt>
                <c:pt idx="28">
                  <c:v>16.1446488100216</c:v>
                </c:pt>
                <c:pt idx="29">
                  <c:v>42.2194028560616</c:v>
                </c:pt>
                <c:pt idx="30">
                  <c:v>110.03184044585</c:v>
                </c:pt>
                <c:pt idx="31">
                  <c:v>137.205418558493</c:v>
                </c:pt>
                <c:pt idx="32">
                  <c:v>104.915288115135</c:v>
                </c:pt>
                <c:pt idx="33">
                  <c:v>88.9418210166983</c:v>
                </c:pt>
                <c:pt idx="34">
                  <c:v>60.2144302439366</c:v>
                </c:pt>
                <c:pt idx="35">
                  <c:v>47.5512780122159</c:v>
                </c:pt>
                <c:pt idx="36">
                  <c:v>53.6503750371686</c:v>
                </c:pt>
                <c:pt idx="37">
                  <c:v>40.6347709308974</c:v>
                </c:pt>
                <c:pt idx="38">
                  <c:v>41.1924987991317</c:v>
                </c:pt>
                <c:pt idx="39">
                  <c:v>19.1877636439239</c:v>
                </c:pt>
                <c:pt idx="40">
                  <c:v>24.726962884603</c:v>
                </c:pt>
                <c:pt idx="41">
                  <c:v>15.4821213367438</c:v>
                </c:pt>
                <c:pt idx="42">
                  <c:v>18.4909258624374</c:v>
                </c:pt>
                <c:pt idx="43">
                  <c:v>23.4556256654121</c:v>
                </c:pt>
                <c:pt idx="44">
                  <c:v>31.8193406666292</c:v>
                </c:pt>
                <c:pt idx="45">
                  <c:v>52.4131515304483</c:v>
                </c:pt>
                <c:pt idx="46">
                  <c:v>54.5382914505905</c:v>
                </c:pt>
                <c:pt idx="47">
                  <c:v>45.0338332882103</c:v>
                </c:pt>
                <c:pt idx="48">
                  <c:v>52.0312870692688</c:v>
                </c:pt>
                <c:pt idx="49">
                  <c:v>42.4545031468028</c:v>
                </c:pt>
                <c:pt idx="50">
                  <c:v>27.321200291255</c:v>
                </c:pt>
                <c:pt idx="51">
                  <c:v>12.6629193844056</c:v>
                </c:pt>
                <c:pt idx="52">
                  <c:v>21.5044643007777</c:v>
                </c:pt>
                <c:pt idx="53">
                  <c:v>15.3958085088619</c:v>
                </c:pt>
                <c:pt idx="54">
                  <c:v>15.6136966645455</c:v>
                </c:pt>
                <c:pt idx="55">
                  <c:v>19.0481990223239</c:v>
                </c:pt>
                <c:pt idx="56">
                  <c:v>22.7622637701437</c:v>
                </c:pt>
                <c:pt idx="57">
                  <c:v>29.9792685946356</c:v>
                </c:pt>
                <c:pt idx="58">
                  <c:v>27.7055764290999</c:v>
                </c:pt>
                <c:pt idx="59">
                  <c:v>54.5766320474181</c:v>
                </c:pt>
                <c:pt idx="60">
                  <c:v>54.6696682793776</c:v>
                </c:pt>
                <c:pt idx="61">
                  <c:v>41.9532555015552</c:v>
                </c:pt>
                <c:pt idx="62">
                  <c:v>30.5927804805749</c:v>
                </c:pt>
                <c:pt idx="63">
                  <c:v>29.5735150793404</c:v>
                </c:pt>
                <c:pt idx="64">
                  <c:v>22.5122763169338</c:v>
                </c:pt>
                <c:pt idx="65">
                  <c:v>16.0044143653838</c:v>
                </c:pt>
                <c:pt idx="66">
                  <c:v>18.273401473432</c:v>
                </c:pt>
                <c:pt idx="67">
                  <c:v>17.0276161961065</c:v>
                </c:pt>
                <c:pt idx="68">
                  <c:v>27.216577179174</c:v>
                </c:pt>
                <c:pt idx="69">
                  <c:v>33.4636143368009</c:v>
                </c:pt>
                <c:pt idx="70">
                  <c:v>54.0437329638847</c:v>
                </c:pt>
                <c:pt idx="71">
                  <c:v>59.0166000123508</c:v>
                </c:pt>
                <c:pt idx="72">
                  <c:v>69.6978351596324</c:v>
                </c:pt>
                <c:pt idx="73">
                  <c:v>64.1762699755533</c:v>
                </c:pt>
                <c:pt idx="74">
                  <c:v>67.5814658453173</c:v>
                </c:pt>
                <c:pt idx="75">
                  <c:v>35.0073148417404</c:v>
                </c:pt>
                <c:pt idx="76">
                  <c:v>23.0860066820931</c:v>
                </c:pt>
                <c:pt idx="77">
                  <c:v>11.0318309226795</c:v>
                </c:pt>
                <c:pt idx="78">
                  <c:v>29.1045637719032</c:v>
                </c:pt>
                <c:pt idx="79">
                  <c:v>82.9631871254559</c:v>
                </c:pt>
                <c:pt idx="80">
                  <c:v>139.754976722785</c:v>
                </c:pt>
                <c:pt idx="81">
                  <c:v>121.183040512602</c:v>
                </c:pt>
                <c:pt idx="82">
                  <c:v>64.8145593404365</c:v>
                </c:pt>
                <c:pt idx="83">
                  <c:v>64.1044908796695</c:v>
                </c:pt>
                <c:pt idx="84">
                  <c:v>47.6778065219041</c:v>
                </c:pt>
                <c:pt idx="85">
                  <c:v>24.5004992601</c:v>
                </c:pt>
                <c:pt idx="86">
                  <c:v>25.6743626244759</c:v>
                </c:pt>
                <c:pt idx="87">
                  <c:v>16.0098675035491</c:v>
                </c:pt>
                <c:pt idx="88">
                  <c:v>29.9772707953669</c:v>
                </c:pt>
                <c:pt idx="89">
                  <c:v>60.0022591739502</c:v>
                </c:pt>
                <c:pt idx="90">
                  <c:v>72.1940144397246</c:v>
                </c:pt>
                <c:pt idx="91">
                  <c:v>106.844663309352</c:v>
                </c:pt>
                <c:pt idx="92">
                  <c:v>117.899019263869</c:v>
                </c:pt>
                <c:pt idx="93">
                  <c:v>64.4709171379865</c:v>
                </c:pt>
                <c:pt idx="94">
                  <c:v>43.5540410485478</c:v>
                </c:pt>
                <c:pt idx="95">
                  <c:v>59.4479685702065</c:v>
                </c:pt>
                <c:pt idx="96">
                  <c:v>47.2446137402811</c:v>
                </c:pt>
                <c:pt idx="97">
                  <c:v>34.0877459758479</c:v>
                </c:pt>
                <c:pt idx="98">
                  <c:v>19.5364761292702</c:v>
                </c:pt>
                <c:pt idx="99">
                  <c:v>13.0083872693535</c:v>
                </c:pt>
                <c:pt idx="100">
                  <c:v>18.6284075780215</c:v>
                </c:pt>
                <c:pt idx="101">
                  <c:v>44.0977837522625</c:v>
                </c:pt>
                <c:pt idx="102">
                  <c:v>74.344152788423</c:v>
                </c:pt>
                <c:pt idx="103">
                  <c:v>105.055177312046</c:v>
                </c:pt>
                <c:pt idx="104">
                  <c:v>83.12702219771</c:v>
                </c:pt>
                <c:pt idx="105">
                  <c:v>57.6584781967092</c:v>
                </c:pt>
                <c:pt idx="106">
                  <c:v>45.7746603862432</c:v>
                </c:pt>
                <c:pt idx="107">
                  <c:v>37.4694757272235</c:v>
                </c:pt>
                <c:pt idx="108">
                  <c:v>50.7518911761165</c:v>
                </c:pt>
                <c:pt idx="109">
                  <c:v>27.4507460471676</c:v>
                </c:pt>
                <c:pt idx="110">
                  <c:v>19.3090883756727</c:v>
                </c:pt>
                <c:pt idx="111">
                  <c:v>16.4602963295582</c:v>
                </c:pt>
                <c:pt idx="112">
                  <c:v>61.6081731587033</c:v>
                </c:pt>
                <c:pt idx="113">
                  <c:v>90.0079173768327</c:v>
                </c:pt>
                <c:pt idx="114">
                  <c:v>151.804137436706</c:v>
                </c:pt>
                <c:pt idx="115">
                  <c:v>74.9148762435652</c:v>
                </c:pt>
                <c:pt idx="116">
                  <c:v>79.7783628025208</c:v>
                </c:pt>
                <c:pt idx="117">
                  <c:v>39.7563017954476</c:v>
                </c:pt>
                <c:pt idx="118">
                  <c:v>33.8199675062122</c:v>
                </c:pt>
                <c:pt idx="119">
                  <c:v>11.3619696208405</c:v>
                </c:pt>
                <c:pt idx="120">
                  <c:v>21.2052700548677</c:v>
                </c:pt>
                <c:pt idx="121">
                  <c:v>26.299259404422</c:v>
                </c:pt>
                <c:pt idx="122">
                  <c:v>13.8918450680526</c:v>
                </c:pt>
                <c:pt idx="123">
                  <c:v>22.8650533364349</c:v>
                </c:pt>
                <c:pt idx="124">
                  <c:v>55.4387647886089</c:v>
                </c:pt>
                <c:pt idx="125">
                  <c:v>67.7233166926852</c:v>
                </c:pt>
                <c:pt idx="126">
                  <c:v>60.7856219805475</c:v>
                </c:pt>
                <c:pt idx="127">
                  <c:v>62.7042611119283</c:v>
                </c:pt>
                <c:pt idx="128">
                  <c:v>60.0166716503888</c:v>
                </c:pt>
                <c:pt idx="129">
                  <c:v>45.0494749359182</c:v>
                </c:pt>
                <c:pt idx="130">
                  <c:v>17.7307916089405</c:v>
                </c:pt>
                <c:pt idx="131">
                  <c:v>18.2540409838413</c:v>
                </c:pt>
                <c:pt idx="132">
                  <c:v>17.8098025959222</c:v>
                </c:pt>
                <c:pt idx="133">
                  <c:v>21.0668515261596</c:v>
                </c:pt>
                <c:pt idx="134">
                  <c:v>22.4869365722973</c:v>
                </c:pt>
                <c:pt idx="135">
                  <c:v>59.1874307440522</c:v>
                </c:pt>
                <c:pt idx="136">
                  <c:v>89.8737643542093</c:v>
                </c:pt>
                <c:pt idx="137">
                  <c:v>82.2825112736355</c:v>
                </c:pt>
                <c:pt idx="138">
                  <c:v>65.4501711913516</c:v>
                </c:pt>
                <c:pt idx="139">
                  <c:v>51.596725786411</c:v>
                </c:pt>
                <c:pt idx="140">
                  <c:v>31.5400809709406</c:v>
                </c:pt>
                <c:pt idx="141">
                  <c:v>25.1614039260863</c:v>
                </c:pt>
                <c:pt idx="142">
                  <c:v>35.5446519926751</c:v>
                </c:pt>
                <c:pt idx="143">
                  <c:v>16.2171564534465</c:v>
                </c:pt>
                <c:pt idx="144">
                  <c:v>21.9284909372751</c:v>
                </c:pt>
                <c:pt idx="145">
                  <c:v>14.8412895367596</c:v>
                </c:pt>
                <c:pt idx="146">
                  <c:v>22.0613971587688</c:v>
                </c:pt>
                <c:pt idx="147">
                  <c:v>45.7980140014558</c:v>
                </c:pt>
                <c:pt idx="148">
                  <c:v>56.5540259577089</c:v>
                </c:pt>
                <c:pt idx="149">
                  <c:v>73.5636801375684</c:v>
                </c:pt>
                <c:pt idx="150">
                  <c:v>47.5506457967209</c:v>
                </c:pt>
                <c:pt idx="151">
                  <c:v>64.2268188872444</c:v>
                </c:pt>
                <c:pt idx="152">
                  <c:v>41.5239766988225</c:v>
                </c:pt>
                <c:pt idx="153">
                  <c:v>43.9187056141535</c:v>
                </c:pt>
                <c:pt idx="154">
                  <c:v>13.883693993691</c:v>
                </c:pt>
                <c:pt idx="155">
                  <c:v>12.9711311234531</c:v>
                </c:pt>
                <c:pt idx="156">
                  <c:v>18.3060283465695</c:v>
                </c:pt>
                <c:pt idx="157">
                  <c:v>16.8278236544779</c:v>
                </c:pt>
                <c:pt idx="158">
                  <c:v>28.7930482634082</c:v>
                </c:pt>
                <c:pt idx="159">
                  <c:v>72.8884016168712</c:v>
                </c:pt>
                <c:pt idx="160">
                  <c:v>61.8290135566399</c:v>
                </c:pt>
                <c:pt idx="161">
                  <c:v>116.741080583323</c:v>
                </c:pt>
                <c:pt idx="162">
                  <c:v>56.9957522244168</c:v>
                </c:pt>
                <c:pt idx="163">
                  <c:v>49.519952177891</c:v>
                </c:pt>
                <c:pt idx="164">
                  <c:v>26.3371448483562</c:v>
                </c:pt>
                <c:pt idx="165">
                  <c:v>27.6339048905612</c:v>
                </c:pt>
                <c:pt idx="166">
                  <c:v>19.3620497145219</c:v>
                </c:pt>
                <c:pt idx="167">
                  <c:v>15.7922233177149</c:v>
                </c:pt>
                <c:pt idx="168">
                  <c:v>35.3562619749135</c:v>
                </c:pt>
                <c:pt idx="169">
                  <c:v>64.4351717407476</c:v>
                </c:pt>
                <c:pt idx="170">
                  <c:v>72.6271412031913</c:v>
                </c:pt>
                <c:pt idx="171">
                  <c:v>67.0678500079193</c:v>
                </c:pt>
                <c:pt idx="172">
                  <c:v>75.2412280533175</c:v>
                </c:pt>
                <c:pt idx="173">
                  <c:v>52.8889362722236</c:v>
                </c:pt>
                <c:pt idx="174">
                  <c:v>23.0563129626177</c:v>
                </c:pt>
                <c:pt idx="175">
                  <c:v>22.4423312113857</c:v>
                </c:pt>
                <c:pt idx="176">
                  <c:v>18.4026812534432</c:v>
                </c:pt>
                <c:pt idx="177">
                  <c:v>17.5847817986481</c:v>
                </c:pt>
                <c:pt idx="178">
                  <c:v>25.0082448585277</c:v>
                </c:pt>
                <c:pt idx="179">
                  <c:v>58.673897540486</c:v>
                </c:pt>
                <c:pt idx="180">
                  <c:v>98.4647927830298</c:v>
                </c:pt>
                <c:pt idx="181">
                  <c:v>116.211658844739</c:v>
                </c:pt>
                <c:pt idx="182">
                  <c:v>88.1484775215955</c:v>
                </c:pt>
                <c:pt idx="183">
                  <c:v>64.0956166481434</c:v>
                </c:pt>
                <c:pt idx="184">
                  <c:v>49.830590042311</c:v>
                </c:pt>
                <c:pt idx="185">
                  <c:v>36.5385415004609</c:v>
                </c:pt>
                <c:pt idx="186">
                  <c:v>27.2790337397454</c:v>
                </c:pt>
                <c:pt idx="187">
                  <c:v>19.274101395319</c:v>
                </c:pt>
                <c:pt idx="188">
                  <c:v>19.4571927618257</c:v>
                </c:pt>
                <c:pt idx="189">
                  <c:v>54.2930755175701</c:v>
                </c:pt>
                <c:pt idx="190">
                  <c:v>116.951360841747</c:v>
                </c:pt>
                <c:pt idx="191">
                  <c:v>156.537459277922</c:v>
                </c:pt>
                <c:pt idx="192">
                  <c:v>99.5871832317134</c:v>
                </c:pt>
                <c:pt idx="193">
                  <c:v>107.778424146616</c:v>
                </c:pt>
                <c:pt idx="194">
                  <c:v>41.7731506228374</c:v>
                </c:pt>
                <c:pt idx="195">
                  <c:v>54.9956803568736</c:v>
                </c:pt>
                <c:pt idx="196">
                  <c:v>14.5686789191546</c:v>
                </c:pt>
                <c:pt idx="197">
                  <c:v>15.5430005608584</c:v>
                </c:pt>
                <c:pt idx="198">
                  <c:v>14.2576156460919</c:v>
                </c:pt>
                <c:pt idx="199">
                  <c:v>63.8731275052172</c:v>
                </c:pt>
                <c:pt idx="200">
                  <c:v>177.994249198932</c:v>
                </c:pt>
                <c:pt idx="201">
                  <c:v>175.621583210674</c:v>
                </c:pt>
                <c:pt idx="202">
                  <c:v>138.57403506513</c:v>
                </c:pt>
                <c:pt idx="203">
                  <c:v>108.209782937903</c:v>
                </c:pt>
                <c:pt idx="204">
                  <c:v>63.8788124988414</c:v>
                </c:pt>
                <c:pt idx="205">
                  <c:v>16.9672514190278</c:v>
                </c:pt>
                <c:pt idx="206">
                  <c:v>32.3830600293931</c:v>
                </c:pt>
                <c:pt idx="207">
                  <c:v>29.9505336943363</c:v>
                </c:pt>
                <c:pt idx="208">
                  <c:v>12.9942251673257</c:v>
                </c:pt>
                <c:pt idx="209">
                  <c:v>30.4203684807708</c:v>
                </c:pt>
                <c:pt idx="210">
                  <c:v>68.8188608991693</c:v>
                </c:pt>
                <c:pt idx="211">
                  <c:v>109.814404081053</c:v>
                </c:pt>
                <c:pt idx="212">
                  <c:v>96.3883301767002</c:v>
                </c:pt>
                <c:pt idx="213">
                  <c:v>88.2857484986813</c:v>
                </c:pt>
                <c:pt idx="214">
                  <c:v>87.3658750351598</c:v>
                </c:pt>
                <c:pt idx="215">
                  <c:v>38.354538258808</c:v>
                </c:pt>
                <c:pt idx="216">
                  <c:v>65.191285027648</c:v>
                </c:pt>
                <c:pt idx="217">
                  <c:v>23.4420087688557</c:v>
                </c:pt>
                <c:pt idx="218">
                  <c:v>38.1990151523873</c:v>
                </c:pt>
                <c:pt idx="219">
                  <c:v>15.7562882989383</c:v>
                </c:pt>
                <c:pt idx="220">
                  <c:v>23.8544983722581</c:v>
                </c:pt>
                <c:pt idx="221">
                  <c:v>45.1317099759767</c:v>
                </c:pt>
                <c:pt idx="222">
                  <c:v>120.664692665834</c:v>
                </c:pt>
                <c:pt idx="223">
                  <c:v>161.350016542833</c:v>
                </c:pt>
                <c:pt idx="224">
                  <c:v>121.258358595399</c:v>
                </c:pt>
                <c:pt idx="225">
                  <c:v>103.152774436325</c:v>
                </c:pt>
                <c:pt idx="226">
                  <c:v>80.5901476039505</c:v>
                </c:pt>
                <c:pt idx="227">
                  <c:v>31.0565055594749</c:v>
                </c:pt>
                <c:pt idx="228">
                  <c:v>35.1322396327279</c:v>
                </c:pt>
                <c:pt idx="229">
                  <c:v>11.8141977471037</c:v>
                </c:pt>
                <c:pt idx="230">
                  <c:v>23.404032383252</c:v>
                </c:pt>
                <c:pt idx="231">
                  <c:v>46.867312978254</c:v>
                </c:pt>
                <c:pt idx="232">
                  <c:v>129.135819656998</c:v>
                </c:pt>
                <c:pt idx="233">
                  <c:v>160.023151070725</c:v>
                </c:pt>
                <c:pt idx="234">
                  <c:v>103.58115067147</c:v>
                </c:pt>
                <c:pt idx="235">
                  <c:v>117.841385654337</c:v>
                </c:pt>
                <c:pt idx="236">
                  <c:v>48.8413181374434</c:v>
                </c:pt>
                <c:pt idx="237">
                  <c:v>29.2346669727711</c:v>
                </c:pt>
                <c:pt idx="238">
                  <c:v>21.7760560410659</c:v>
                </c:pt>
                <c:pt idx="239">
                  <c:v>21.2647122866758</c:v>
                </c:pt>
                <c:pt idx="240">
                  <c:v>17.4609233841818</c:v>
                </c:pt>
                <c:pt idx="241">
                  <c:v>39.8863965633844</c:v>
                </c:pt>
                <c:pt idx="242">
                  <c:v>87.315647781319</c:v>
                </c:pt>
                <c:pt idx="243">
                  <c:v>98.301269727151</c:v>
                </c:pt>
                <c:pt idx="244">
                  <c:v>114.467052047538</c:v>
                </c:pt>
                <c:pt idx="245">
                  <c:v>86.719639499491</c:v>
                </c:pt>
                <c:pt idx="246">
                  <c:v>83.217940833572</c:v>
                </c:pt>
                <c:pt idx="247">
                  <c:v>34.7143961406676</c:v>
                </c:pt>
                <c:pt idx="248">
                  <c:v>30.0107005420396</c:v>
                </c:pt>
                <c:pt idx="249">
                  <c:v>30.6322231581902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26340056"/>
        <c:axId val="60643887"/>
      </c:lineChart>
      <c:catAx>
        <c:axId val="2634005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 rot="-5400000"/>
          <a:lstStyle/>
          <a:p>
            <a:pPr>
              <a:defRPr b="0" sz="1525" spc="-1" strike="noStrike">
                <a:solidFill>
                  <a:srgbClr val="000000"/>
                </a:solidFill>
                <a:latin typeface="Arial Cyr"/>
                <a:ea typeface="Arial Cyr"/>
              </a:defRPr>
            </a:pPr>
          </a:p>
        </c:txPr>
        <c:crossAx val="60643887"/>
        <c:crossesAt val="0"/>
        <c:auto val="1"/>
        <c:lblAlgn val="ctr"/>
        <c:lblOffset val="100"/>
        <c:noMultiLvlLbl val="0"/>
      </c:catAx>
      <c:valAx>
        <c:axId val="60643887"/>
        <c:scaling>
          <c:orientation val="minMax"/>
          <c:max val="200"/>
          <c:min val="0"/>
        </c:scaling>
        <c:delete val="0"/>
        <c:axPos val="l"/>
        <c:majorGridlines>
          <c:spPr>
            <a:ln w="3240">
              <a:solidFill>
                <a:srgbClr val="000000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1525" spc="-1" strike="noStrike">
                <a:solidFill>
                  <a:srgbClr val="000000"/>
                </a:solidFill>
                <a:latin typeface="Arial Cyr"/>
                <a:ea typeface="Arial Cyr"/>
              </a:defRPr>
            </a:pPr>
          </a:p>
        </c:txPr>
        <c:crossAx val="26340056"/>
        <c:crosses val="autoZero"/>
        <c:crossBetween val="between"/>
        <c:majorUnit val="20"/>
      </c:valAx>
      <c:spPr>
        <a:noFill/>
        <a:ln w="12600">
          <a:solidFill>
            <a:srgbClr val="808080"/>
          </a:solidFill>
          <a:round/>
        </a:ln>
      </c:spPr>
    </c:plotArea>
    <c:plotVisOnly val="1"/>
    <c:dispBlanksAs val="gap"/>
  </c:chart>
  <c:spPr>
    <a:solidFill>
      <a:srgbClr val="ffffff"/>
    </a:solidFill>
    <a:ln w="3240">
      <a:solidFill>
        <a:srgbClr val="000000"/>
      </a:solidFill>
      <a:round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</a:rPr>
              <a:t>СКО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КО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  <c:pt idx="13">
                  <c:v>1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4"/>
                <c:pt idx="0">
                  <c:v>17.4</c:v>
                </c:pt>
                <c:pt idx="1">
                  <c:v>28.5795145662063</c:v>
                </c:pt>
                <c:pt idx="2">
                  <c:v>34.1166078511371</c:v>
                </c:pt>
                <c:pt idx="3">
                  <c:v>35.5694998440386</c:v>
                </c:pt>
                <c:pt idx="4">
                  <c:v>35.5981787124542</c:v>
                </c:pt>
                <c:pt idx="5">
                  <c:v>35.8749219371005</c:v>
                </c:pt>
                <c:pt idx="6">
                  <c:v>36.4935115628237</c:v>
                </c:pt>
                <c:pt idx="7">
                  <c:v>36.9720930993732</c:v>
                </c:pt>
                <c:pt idx="8">
                  <c:v>37.1403293759067</c:v>
                </c:pt>
                <c:pt idx="9">
                  <c:v>37.1508282395347</c:v>
                </c:pt>
                <c:pt idx="10">
                  <c:v>37.1660392062146</c:v>
                </c:pt>
                <c:pt idx="11">
                  <c:v>37.2165908399499</c:v>
                </c:pt>
                <c:pt idx="12">
                  <c:v>37.2630425362672</c:v>
                </c:pt>
                <c:pt idx="13">
                  <c:v>37.2826112473399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617945"/>
        <c:axId val="47655626"/>
      </c:lineChart>
      <c:catAx>
        <c:axId val="3617945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ru-RU" sz="1800" spc="-1" strike="noStrike">
                    <a:solidFill>
                      <a:srgbClr val="000000"/>
                    </a:solidFill>
                    <a:latin typeface="Calibri"/>
                  </a:defRPr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Calibri"/>
                  </a:rPr>
                  <a:t>Год прогноза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655626"/>
        <c:crosses val="autoZero"/>
        <c:auto val="1"/>
        <c:lblAlgn val="ctr"/>
        <c:lblOffset val="100"/>
        <c:noMultiLvlLbl val="0"/>
      </c:catAx>
      <c:valAx>
        <c:axId val="4765562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1794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23-й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11.6</c:v>
                </c:pt>
                <c:pt idx="1">
                  <c:v>28.9</c:v>
                </c:pt>
                <c:pt idx="2">
                  <c:v>88.3</c:v>
                </c:pt>
                <c:pt idx="3">
                  <c:v>136.3</c:v>
                </c:pt>
                <c:pt idx="4">
                  <c:v>173.9</c:v>
                </c:pt>
                <c:pt idx="5">
                  <c:v>170.4</c:v>
                </c:pt>
                <c:pt idx="6">
                  <c:v>163.6</c:v>
                </c:pt>
                <c:pt idx="7">
                  <c:v>99.3</c:v>
                </c:pt>
                <c:pt idx="8">
                  <c:v>65.3</c:v>
                </c:pt>
                <c:pt idx="9">
                  <c:v>45.8</c:v>
                </c:pt>
                <c:pt idx="10">
                  <c:v>24.7</c:v>
                </c:pt>
                <c:pt idx="11">
                  <c:v>12.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24-й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4.2</c:v>
                </c:pt>
                <c:pt idx="1">
                  <c:v>4.8</c:v>
                </c:pt>
                <c:pt idx="2">
                  <c:v>24.9</c:v>
                </c:pt>
                <c:pt idx="3">
                  <c:v>80.8</c:v>
                </c:pt>
                <c:pt idx="4">
                  <c:v>84.5</c:v>
                </c:pt>
                <c:pt idx="5">
                  <c:v>94</c:v>
                </c:pt>
                <c:pt idx="6">
                  <c:v>113.3</c:v>
                </c:pt>
                <c:pt idx="7">
                  <c:v>69.7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7544808"/>
        <c:axId val="21394544"/>
      </c:lineChart>
      <c:catAx>
        <c:axId val="754480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394544"/>
        <c:crosses val="autoZero"/>
        <c:auto val="1"/>
        <c:lblAlgn val="ctr"/>
        <c:lblOffset val="100"/>
        <c:noMultiLvlLbl val="0"/>
      </c:catAx>
      <c:valAx>
        <c:axId val="2139454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44808"/>
        <c:crosses val="autoZero"/>
        <c:crossBetween val="midCat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79" spc="-1" strike="noStrike">
                <a:solidFill>
                  <a:srgbClr val="000000"/>
                </a:solidFill>
                <a:latin typeface="Calibri"/>
              </a:defRPr>
            </a:pPr>
            <a:r>
              <a:rPr b="1" sz="1679" spc="-1" strike="noStrike">
                <a:solidFill>
                  <a:srgbClr val="000000"/>
                </a:solidFill>
                <a:latin typeface="Calibri"/>
              </a:rPr>
              <a:t>СКО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КО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  <c:pt idx="12">
                  <c:v>1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3.5684608787933</c:v>
                </c:pt>
                <c:pt idx="1">
                  <c:v>11.8610699448723</c:v>
                </c:pt>
                <c:pt idx="2">
                  <c:v>33.0820031558901</c:v>
                </c:pt>
                <c:pt idx="3">
                  <c:v>49.8585964931703</c:v>
                </c:pt>
                <c:pt idx="4">
                  <c:v>41.3694193064749</c:v>
                </c:pt>
                <c:pt idx="5">
                  <c:v>34.1958362581076</c:v>
                </c:pt>
                <c:pt idx="6">
                  <c:v>20.693240384929</c:v>
                </c:pt>
                <c:pt idx="7">
                  <c:v>13.7055368056284</c:v>
                </c:pt>
                <c:pt idx="8">
                  <c:v>16.1076737659476</c:v>
                </c:pt>
                <c:pt idx="9">
                  <c:v>13.3361877896911</c:v>
                </c:pt>
                <c:pt idx="10">
                  <c:v>11.5634204415343</c:v>
                </c:pt>
                <c:pt idx="11">
                  <c:v>7.30684610485263</c:v>
                </c:pt>
                <c:pt idx="12">
                  <c:v>6.57609306503489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7010527"/>
        <c:axId val="72512372"/>
      </c:lineChart>
      <c:catAx>
        <c:axId val="7010527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512372"/>
        <c:crosses val="autoZero"/>
        <c:auto val="1"/>
        <c:lblAlgn val="ctr"/>
        <c:lblOffset val="100"/>
        <c:noMultiLvlLbl val="0"/>
      </c:catAx>
      <c:valAx>
        <c:axId val="7251237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.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1052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1679" spc="-1" strike="noStrike">
                <a:solidFill>
                  <a:srgbClr val="000000"/>
                </a:solidFill>
                <a:latin typeface="Calibri"/>
              </a:defRPr>
            </a:pPr>
            <a:r>
              <a:rPr b="1" lang="en-US" sz="1679" spc="-1" strike="noStrike">
                <a:solidFill>
                  <a:srgbClr val="000000"/>
                </a:solidFill>
                <a:latin typeface="Calibri"/>
              </a:rPr>
              <a:t>W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N1</c:v>
                </c:pt>
              </c:strCache>
            </c:strRef>
          </c:tx>
          <c:spPr>
            <a:solidFill>
              <a:srgbClr val="385f8d"/>
            </a:solidFill>
            <a:ln w="28440">
              <a:solidFill>
                <a:srgbClr val="385f8d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4"/>
                <c:pt idx="0">
                  <c:v>9.6</c:v>
                </c:pt>
                <c:pt idx="1">
                  <c:v>10.2</c:v>
                </c:pt>
                <c:pt idx="2">
                  <c:v>32.4</c:v>
                </c:pt>
                <c:pt idx="3">
                  <c:v>47.6</c:v>
                </c:pt>
                <c:pt idx="4">
                  <c:v>54</c:v>
                </c:pt>
                <c:pt idx="5">
                  <c:v>62.9</c:v>
                </c:pt>
                <c:pt idx="6">
                  <c:v>85.9</c:v>
                </c:pt>
                <c:pt idx="7">
                  <c:v>61.2</c:v>
                </c:pt>
                <c:pt idx="8">
                  <c:v>45.1</c:v>
                </c:pt>
                <c:pt idx="9">
                  <c:v>36.4</c:v>
                </c:pt>
                <c:pt idx="10">
                  <c:v>20.9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2</c:v>
                </c:pt>
              </c:strCache>
            </c:strRef>
          </c:tx>
          <c:spPr>
            <a:solidFill>
              <a:srgbClr val="903836"/>
            </a:solidFill>
            <a:ln w="28440">
              <a:solidFill>
                <a:srgbClr val="90383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4"/>
                <c:pt idx="0">
                  <c:v>11.4</c:v>
                </c:pt>
                <c:pt idx="1">
                  <c:v>37.8</c:v>
                </c:pt>
                <c:pt idx="2">
                  <c:v>69.8</c:v>
                </c:pt>
                <c:pt idx="3">
                  <c:v>106.1</c:v>
                </c:pt>
                <c:pt idx="4">
                  <c:v>100.8</c:v>
                </c:pt>
                <c:pt idx="5">
                  <c:v>81.6</c:v>
                </c:pt>
                <c:pt idx="6">
                  <c:v>66.5</c:v>
                </c:pt>
                <c:pt idx="7">
                  <c:v>34.8</c:v>
                </c:pt>
                <c:pt idx="8">
                  <c:v>30.6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N3</c:v>
                </c:pt>
              </c:strCache>
            </c:strRef>
          </c:tx>
          <c:spPr>
            <a:solidFill>
              <a:srgbClr val="738c3f"/>
            </a:solidFill>
            <a:ln w="28440">
              <a:solidFill>
                <a:srgbClr val="738c3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4"/>
                <c:pt idx="0">
                  <c:v>7</c:v>
                </c:pt>
                <c:pt idx="1">
                  <c:v>19.8</c:v>
                </c:pt>
                <c:pt idx="2">
                  <c:v>92.5</c:v>
                </c:pt>
                <c:pt idx="3">
                  <c:v>154.4</c:v>
                </c:pt>
                <c:pt idx="4">
                  <c:v>125.9</c:v>
                </c:pt>
                <c:pt idx="5">
                  <c:v>84.8</c:v>
                </c:pt>
                <c:pt idx="6">
                  <c:v>68.1</c:v>
                </c:pt>
                <c:pt idx="7">
                  <c:v>38.5</c:v>
                </c:pt>
                <c:pt idx="8">
                  <c:v>22.8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N4</c:v>
                </c:pt>
              </c:strCache>
            </c:strRef>
          </c:tx>
          <c:spPr>
            <a:solidFill>
              <a:srgbClr val="5e4979"/>
            </a:solidFill>
            <a:ln w="28440">
              <a:solidFill>
                <a:srgbClr val="5e4979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4"/>
                <c:pt idx="0">
                  <c:v>10.2</c:v>
                </c:pt>
                <c:pt idx="1">
                  <c:v>24.1</c:v>
                </c:pt>
                <c:pt idx="2">
                  <c:v>82.9</c:v>
                </c:pt>
                <c:pt idx="3">
                  <c:v>132</c:v>
                </c:pt>
                <c:pt idx="4">
                  <c:v>130.9</c:v>
                </c:pt>
                <c:pt idx="5">
                  <c:v>118.1</c:v>
                </c:pt>
                <c:pt idx="6">
                  <c:v>89.9</c:v>
                </c:pt>
                <c:pt idx="7">
                  <c:v>66.6</c:v>
                </c:pt>
                <c:pt idx="8">
                  <c:v>60</c:v>
                </c:pt>
                <c:pt idx="9">
                  <c:v>46.9</c:v>
                </c:pt>
                <c:pt idx="10">
                  <c:v>41</c:v>
                </c:pt>
                <c:pt idx="11">
                  <c:v>21.3</c:v>
                </c:pt>
                <c:pt idx="12">
                  <c:v>16</c:v>
                </c:pt>
                <c:pt idx="13">
                  <c:v>6.4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N5</c:v>
                </c:pt>
              </c:strCache>
            </c:strRef>
          </c:tx>
          <c:spPr>
            <a:solidFill>
              <a:srgbClr val="358094"/>
            </a:solidFill>
            <a:ln w="28440">
              <a:solidFill>
                <a:srgbClr val="35809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4"/>
                <c:pt idx="0">
                  <c:v>4.1</c:v>
                </c:pt>
                <c:pt idx="1">
                  <c:v>6.8</c:v>
                </c:pt>
                <c:pt idx="2">
                  <c:v>14.5</c:v>
                </c:pt>
                <c:pt idx="3">
                  <c:v>34</c:v>
                </c:pt>
                <c:pt idx="4">
                  <c:v>45</c:v>
                </c:pt>
                <c:pt idx="5">
                  <c:v>43.1</c:v>
                </c:pt>
                <c:pt idx="6">
                  <c:v>47.5</c:v>
                </c:pt>
                <c:pt idx="7">
                  <c:v>42.2</c:v>
                </c:pt>
                <c:pt idx="8">
                  <c:v>28.1</c:v>
                </c:pt>
                <c:pt idx="9">
                  <c:v>10.1</c:v>
                </c:pt>
                <c:pt idx="10">
                  <c:v>8.1</c:v>
                </c:pt>
                <c:pt idx="11">
                  <c:v>2.5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N6</c:v>
                </c:pt>
              </c:strCache>
            </c:strRef>
          </c:tx>
          <c:spPr>
            <a:solidFill>
              <a:srgbClr val="b96f30"/>
            </a:solidFill>
            <a:ln w="28440">
              <a:solidFill>
                <a:srgbClr val="b96f3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4"/>
                <c:pt idx="0">
                  <c:v>0</c:v>
                </c:pt>
                <c:pt idx="1">
                  <c:v>1.4</c:v>
                </c:pt>
                <c:pt idx="2">
                  <c:v>5</c:v>
                </c:pt>
                <c:pt idx="3">
                  <c:v>12.2</c:v>
                </c:pt>
                <c:pt idx="4">
                  <c:v>13.9</c:v>
                </c:pt>
                <c:pt idx="5">
                  <c:v>35.4</c:v>
                </c:pt>
                <c:pt idx="6">
                  <c:v>45.8</c:v>
                </c:pt>
                <c:pt idx="7">
                  <c:v>41</c:v>
                </c:pt>
                <c:pt idx="8">
                  <c:v>30.1</c:v>
                </c:pt>
                <c:pt idx="9">
                  <c:v>23.9</c:v>
                </c:pt>
                <c:pt idx="10">
                  <c:v>15.6</c:v>
                </c:pt>
                <c:pt idx="11">
                  <c:v>6.6</c:v>
                </c:pt>
              </c:numCache>
            </c:numRef>
          </c:val>
          <c:smooth val="0"/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N7</c:v>
                </c:pt>
              </c:strCache>
            </c:strRef>
          </c:tx>
          <c:spPr>
            <a:solidFill>
              <a:srgbClr val="426fa6"/>
            </a:solidFill>
            <a:ln w="28440">
              <a:solidFill>
                <a:srgbClr val="426fa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4"/>
                <c:pt idx="0">
                  <c:v>4</c:v>
                </c:pt>
                <c:pt idx="1">
                  <c:v>1.8</c:v>
                </c:pt>
                <c:pt idx="2">
                  <c:v>8.5</c:v>
                </c:pt>
                <c:pt idx="3">
                  <c:v>16.6</c:v>
                </c:pt>
                <c:pt idx="4">
                  <c:v>36.3</c:v>
                </c:pt>
                <c:pt idx="5">
                  <c:v>49.6</c:v>
                </c:pt>
                <c:pt idx="6">
                  <c:v>64.2</c:v>
                </c:pt>
                <c:pt idx="7">
                  <c:v>67</c:v>
                </c:pt>
                <c:pt idx="8">
                  <c:v>70.9</c:v>
                </c:pt>
                <c:pt idx="9">
                  <c:v>47.8</c:v>
                </c:pt>
                <c:pt idx="10">
                  <c:v>27.5</c:v>
                </c:pt>
              </c:numCache>
            </c:numRef>
          </c:val>
          <c:smooth val="0"/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N8</c:v>
                </c:pt>
              </c:strCache>
            </c:strRef>
          </c:tx>
          <c:spPr>
            <a:solidFill>
              <a:srgbClr val="aa433f"/>
            </a:solidFill>
            <a:ln w="28440">
              <a:solidFill>
                <a:srgbClr val="aa433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4"/>
                <c:pt idx="0">
                  <c:v>8.5</c:v>
                </c:pt>
                <c:pt idx="1">
                  <c:v>13.2</c:v>
                </c:pt>
                <c:pt idx="2">
                  <c:v>56.9</c:v>
                </c:pt>
                <c:pt idx="3">
                  <c:v>121.5</c:v>
                </c:pt>
                <c:pt idx="4">
                  <c:v>138.3</c:v>
                </c:pt>
                <c:pt idx="5">
                  <c:v>103.2</c:v>
                </c:pt>
                <c:pt idx="6">
                  <c:v>85.7</c:v>
                </c:pt>
                <c:pt idx="7">
                  <c:v>64.6</c:v>
                </c:pt>
                <c:pt idx="8">
                  <c:v>36.7</c:v>
                </c:pt>
                <c:pt idx="9">
                  <c:v>24.2</c:v>
                </c:pt>
              </c:numCache>
            </c:numRef>
          </c:val>
          <c:smooth val="0"/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N9</c:v>
                </c:pt>
              </c:strCache>
            </c:strRef>
          </c:tx>
          <c:spPr>
            <a:solidFill>
              <a:srgbClr val="87a44b"/>
            </a:solidFill>
            <a:ln w="28440">
              <a:solidFill>
                <a:srgbClr val="87a44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4"/>
                <c:pt idx="0">
                  <c:v>10.7</c:v>
                </c:pt>
                <c:pt idx="1">
                  <c:v>15</c:v>
                </c:pt>
                <c:pt idx="2">
                  <c:v>40.1</c:v>
                </c:pt>
                <c:pt idx="3">
                  <c:v>61.5</c:v>
                </c:pt>
                <c:pt idx="4">
                  <c:v>98.5</c:v>
                </c:pt>
                <c:pt idx="5">
                  <c:v>124.7</c:v>
                </c:pt>
                <c:pt idx="6">
                  <c:v>96.1</c:v>
                </c:pt>
                <c:pt idx="7">
                  <c:v>66.5</c:v>
                </c:pt>
                <c:pt idx="8">
                  <c:v>64.2</c:v>
                </c:pt>
                <c:pt idx="9">
                  <c:v>54.1</c:v>
                </c:pt>
                <c:pt idx="10">
                  <c:v>39</c:v>
                </c:pt>
                <c:pt idx="11">
                  <c:v>20.5</c:v>
                </c:pt>
                <c:pt idx="12">
                  <c:v>6.7</c:v>
                </c:pt>
              </c:numCache>
            </c:numRef>
          </c:val>
          <c:smooth val="0"/>
        </c:ser>
        <c:ser>
          <c:idx val="9"/>
          <c:order val="9"/>
          <c:tx>
            <c:strRef>
              <c:f>label 9</c:f>
              <c:strCache>
                <c:ptCount val="1"/>
                <c:pt idx="0">
                  <c:v>N10</c:v>
                </c:pt>
              </c:strCache>
            </c:strRef>
          </c:tx>
          <c:spPr>
            <a:solidFill>
              <a:srgbClr val="6f568d"/>
            </a:solidFill>
            <a:ln w="28440">
              <a:solidFill>
                <a:srgbClr val="6f568d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9</c:f>
              <c:numCache>
                <c:formatCode>General</c:formatCode>
                <c:ptCount val="14"/>
                <c:pt idx="0">
                  <c:v>4.3</c:v>
                </c:pt>
                <c:pt idx="1">
                  <c:v>22.8</c:v>
                </c:pt>
                <c:pt idx="2">
                  <c:v>55</c:v>
                </c:pt>
                <c:pt idx="3">
                  <c:v>93.9</c:v>
                </c:pt>
                <c:pt idx="4">
                  <c:v>95.9</c:v>
                </c:pt>
                <c:pt idx="5">
                  <c:v>77.2</c:v>
                </c:pt>
                <c:pt idx="6">
                  <c:v>59</c:v>
                </c:pt>
                <c:pt idx="7">
                  <c:v>44</c:v>
                </c:pt>
                <c:pt idx="8">
                  <c:v>47</c:v>
                </c:pt>
                <c:pt idx="9">
                  <c:v>30.4</c:v>
                </c:pt>
                <c:pt idx="10">
                  <c:v>16.2</c:v>
                </c:pt>
              </c:numCache>
            </c:numRef>
          </c:val>
          <c:smooth val="0"/>
        </c:ser>
        <c:ser>
          <c:idx val="10"/>
          <c:order val="10"/>
          <c:tx>
            <c:strRef>
              <c:f>label 10</c:f>
              <c:strCache>
                <c:ptCount val="1"/>
                <c:pt idx="0">
                  <c:v>N11</c:v>
                </c:pt>
              </c:strCache>
            </c:strRef>
          </c:tx>
          <c:spPr>
            <a:solidFill>
              <a:srgbClr val="3d97af"/>
            </a:solidFill>
            <a:ln w="28440">
              <a:solidFill>
                <a:srgbClr val="3d97a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0</c:f>
              <c:numCache>
                <c:formatCode>General</c:formatCode>
                <c:ptCount val="14"/>
                <c:pt idx="0">
                  <c:v>7.3</c:v>
                </c:pt>
                <c:pt idx="1">
                  <c:v>37.6</c:v>
                </c:pt>
                <c:pt idx="2">
                  <c:v>74.1</c:v>
                </c:pt>
                <c:pt idx="3">
                  <c:v>139.1</c:v>
                </c:pt>
                <c:pt idx="4">
                  <c:v>111.1</c:v>
                </c:pt>
                <c:pt idx="5">
                  <c:v>101.4</c:v>
                </c:pt>
                <c:pt idx="6">
                  <c:v>66</c:v>
                </c:pt>
                <c:pt idx="7">
                  <c:v>44.6</c:v>
                </c:pt>
                <c:pt idx="8">
                  <c:v>17</c:v>
                </c:pt>
                <c:pt idx="9">
                  <c:v>11.3</c:v>
                </c:pt>
                <c:pt idx="10">
                  <c:v>12.4</c:v>
                </c:pt>
                <c:pt idx="11">
                  <c:v>3.4</c:v>
                </c:pt>
              </c:numCache>
            </c:numRef>
          </c:val>
          <c:smooth val="0"/>
        </c:ser>
        <c:ser>
          <c:idx val="11"/>
          <c:order val="11"/>
          <c:tx>
            <c:strRef>
              <c:f>label 11</c:f>
              <c:strCache>
                <c:ptCount val="1"/>
                <c:pt idx="0">
                  <c:v>N12</c:v>
                </c:pt>
              </c:strCache>
            </c:strRef>
          </c:tx>
          <c:spPr>
            <a:solidFill>
              <a:srgbClr val="db8238"/>
            </a:solidFill>
            <a:ln w="28440">
              <a:solidFill>
                <a:srgbClr val="db823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1</c:f>
              <c:numCache>
                <c:formatCode>General</c:formatCode>
                <c:ptCount val="14"/>
                <c:pt idx="0">
                  <c:v>6</c:v>
                </c:pt>
                <c:pt idx="1">
                  <c:v>32.2</c:v>
                </c:pt>
                <c:pt idx="2">
                  <c:v>54.3</c:v>
                </c:pt>
                <c:pt idx="3">
                  <c:v>59.4</c:v>
                </c:pt>
                <c:pt idx="4">
                  <c:v>63.7</c:v>
                </c:pt>
                <c:pt idx="5">
                  <c:v>63.5</c:v>
                </c:pt>
                <c:pt idx="6">
                  <c:v>51.8</c:v>
                </c:pt>
                <c:pt idx="7">
                  <c:v>25.5</c:v>
                </c:pt>
                <c:pt idx="8">
                  <c:v>13.1</c:v>
                </c:pt>
                <c:pt idx="9">
                  <c:v>6.7</c:v>
                </c:pt>
              </c:numCache>
            </c:numRef>
          </c:val>
          <c:smooth val="0"/>
        </c:ser>
        <c:ser>
          <c:idx val="12"/>
          <c:order val="12"/>
          <c:tx>
            <c:strRef>
              <c:f>label 12</c:f>
              <c:strCache>
                <c:ptCount val="1"/>
                <c:pt idx="0">
                  <c:v>N13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2</c:f>
              <c:numCache>
                <c:formatCode>General</c:formatCode>
                <c:ptCount val="14"/>
                <c:pt idx="0">
                  <c:v>6.2</c:v>
                </c:pt>
                <c:pt idx="1">
                  <c:v>7.1</c:v>
                </c:pt>
                <c:pt idx="2">
                  <c:v>35.7</c:v>
                </c:pt>
                <c:pt idx="3">
                  <c:v>73</c:v>
                </c:pt>
                <c:pt idx="4">
                  <c:v>85.2</c:v>
                </c:pt>
                <c:pt idx="5">
                  <c:v>78</c:v>
                </c:pt>
                <c:pt idx="6">
                  <c:v>63.9</c:v>
                </c:pt>
                <c:pt idx="7">
                  <c:v>41.7</c:v>
                </c:pt>
                <c:pt idx="8">
                  <c:v>26.2</c:v>
                </c:pt>
                <c:pt idx="9">
                  <c:v>26.7</c:v>
                </c:pt>
                <c:pt idx="10">
                  <c:v>12.1</c:v>
                </c:pt>
                <c:pt idx="11">
                  <c:v>9.4</c:v>
                </c:pt>
              </c:numCache>
            </c:numRef>
          </c:val>
          <c:smooth val="0"/>
        </c:ser>
        <c:ser>
          <c:idx val="13"/>
          <c:order val="13"/>
          <c:tx>
            <c:strRef>
              <c:f>label 13</c:f>
              <c:strCache>
                <c:ptCount val="1"/>
                <c:pt idx="0">
                  <c:v>N14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3</c:f>
              <c:numCache>
                <c:formatCode>General</c:formatCode>
                <c:ptCount val="14"/>
                <c:pt idx="0">
                  <c:v>2.7</c:v>
                </c:pt>
                <c:pt idx="1">
                  <c:v>5.1</c:v>
                </c:pt>
                <c:pt idx="2">
                  <c:v>24.4</c:v>
                </c:pt>
                <c:pt idx="3">
                  <c:v>42.1</c:v>
                </c:pt>
                <c:pt idx="4">
                  <c:v>63.3</c:v>
                </c:pt>
                <c:pt idx="5">
                  <c:v>54.1</c:v>
                </c:pt>
                <c:pt idx="6">
                  <c:v>61.7</c:v>
                </c:pt>
                <c:pt idx="7">
                  <c:v>48.5</c:v>
                </c:pt>
                <c:pt idx="8">
                  <c:v>43.9</c:v>
                </c:pt>
                <c:pt idx="9">
                  <c:v>18.5</c:v>
                </c:pt>
                <c:pt idx="10">
                  <c:v>5.7</c:v>
                </c:pt>
                <c:pt idx="11">
                  <c:v>3.6</c:v>
                </c:pt>
              </c:numCache>
            </c:numRef>
          </c:val>
          <c:smooth val="0"/>
        </c:ser>
        <c:ser>
          <c:idx val="14"/>
          <c:order val="14"/>
          <c:tx>
            <c:strRef>
              <c:f>label 14</c:f>
              <c:strCache>
                <c:ptCount val="1"/>
                <c:pt idx="0">
                  <c:v>N15</c:v>
                </c:pt>
              </c:strCache>
            </c:strRef>
          </c:tx>
          <c:spPr>
            <a:solidFill>
              <a:srgbClr val="98b855"/>
            </a:solidFill>
            <a:ln w="28440">
              <a:solidFill>
                <a:srgbClr val="98b855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4</c:f>
              <c:numCache>
                <c:formatCode>General</c:formatCode>
                <c:ptCount val="14"/>
                <c:pt idx="0">
                  <c:v>1.4</c:v>
                </c:pt>
                <c:pt idx="1">
                  <c:v>9.6</c:v>
                </c:pt>
                <c:pt idx="2">
                  <c:v>47.4</c:v>
                </c:pt>
                <c:pt idx="3">
                  <c:v>57</c:v>
                </c:pt>
                <c:pt idx="4">
                  <c:v>104.2</c:v>
                </c:pt>
                <c:pt idx="5">
                  <c:v>80.8</c:v>
                </c:pt>
                <c:pt idx="6">
                  <c:v>63.5</c:v>
                </c:pt>
                <c:pt idx="7">
                  <c:v>37.6</c:v>
                </c:pt>
                <c:pt idx="8">
                  <c:v>26.1</c:v>
                </c:pt>
                <c:pt idx="9">
                  <c:v>14.2</c:v>
                </c:pt>
              </c:numCache>
            </c:numRef>
          </c:val>
          <c:smooth val="0"/>
        </c:ser>
        <c:ser>
          <c:idx val="15"/>
          <c:order val="15"/>
          <c:tx>
            <c:strRef>
              <c:f>label 15</c:f>
              <c:strCache>
                <c:ptCount val="1"/>
                <c:pt idx="0">
                  <c:v>N16</c:v>
                </c:pt>
              </c:strCache>
            </c:strRef>
          </c:tx>
          <c:spPr>
            <a:solidFill>
              <a:srgbClr val="7d5fa0"/>
            </a:solidFill>
            <a:ln w="28440">
              <a:solidFill>
                <a:srgbClr val="7d5fa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5</c:f>
              <c:numCache>
                <c:formatCode>General</c:formatCode>
                <c:ptCount val="14"/>
                <c:pt idx="0">
                  <c:v>5.8</c:v>
                </c:pt>
                <c:pt idx="1">
                  <c:v>16.7</c:v>
                </c:pt>
                <c:pt idx="2">
                  <c:v>44.4</c:v>
                </c:pt>
                <c:pt idx="3">
                  <c:v>63.9</c:v>
                </c:pt>
                <c:pt idx="4">
                  <c:v>68.8</c:v>
                </c:pt>
                <c:pt idx="5">
                  <c:v>77.8</c:v>
                </c:pt>
                <c:pt idx="6">
                  <c:v>64.9</c:v>
                </c:pt>
                <c:pt idx="7">
                  <c:v>35.6</c:v>
                </c:pt>
                <c:pt idx="8">
                  <c:v>21.1</c:v>
                </c:pt>
                <c:pt idx="9">
                  <c:v>11.1</c:v>
                </c:pt>
              </c:numCache>
            </c:numRef>
          </c:val>
          <c:smooth val="0"/>
        </c:ser>
        <c:ser>
          <c:idx val="16"/>
          <c:order val="16"/>
          <c:tx>
            <c:strRef>
              <c:f>label 16</c:f>
              <c:strCache>
                <c:ptCount val="1"/>
                <c:pt idx="0">
                  <c:v>N17</c:v>
                </c:pt>
              </c:strCache>
            </c:strRef>
          </c:tx>
          <c:spPr>
            <a:solidFill>
              <a:srgbClr val="46aac4"/>
            </a:solidFill>
            <a:ln w="28440">
              <a:solidFill>
                <a:srgbClr val="46aac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6</c:f>
              <c:numCache>
                <c:formatCode>General</c:formatCode>
                <c:ptCount val="14"/>
                <c:pt idx="0">
                  <c:v>5.5</c:v>
                </c:pt>
                <c:pt idx="1">
                  <c:v>8.7</c:v>
                </c:pt>
                <c:pt idx="2">
                  <c:v>36.1</c:v>
                </c:pt>
                <c:pt idx="3">
                  <c:v>79.7</c:v>
                </c:pt>
                <c:pt idx="4">
                  <c:v>114.4</c:v>
                </c:pt>
                <c:pt idx="5">
                  <c:v>109.6</c:v>
                </c:pt>
                <c:pt idx="6">
                  <c:v>88.8</c:v>
                </c:pt>
                <c:pt idx="7">
                  <c:v>67.8</c:v>
                </c:pt>
                <c:pt idx="8">
                  <c:v>47.5</c:v>
                </c:pt>
                <c:pt idx="9">
                  <c:v>30.4</c:v>
                </c:pt>
                <c:pt idx="10">
                  <c:v>16.3</c:v>
                </c:pt>
              </c:numCache>
            </c:numRef>
          </c:val>
          <c:smooth val="0"/>
        </c:ser>
        <c:ser>
          <c:idx val="17"/>
          <c:order val="17"/>
          <c:tx>
            <c:strRef>
              <c:f>label 17</c:f>
              <c:strCache>
                <c:ptCount val="1"/>
                <c:pt idx="0">
                  <c:v>N18</c:v>
                </c:pt>
              </c:strCache>
            </c:strRef>
          </c:tx>
          <c:spPr>
            <a:solidFill>
              <a:srgbClr val="f59240"/>
            </a:solidFill>
            <a:ln w="28440">
              <a:solidFill>
                <a:srgbClr val="f5924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7</c:f>
              <c:numCache>
                <c:formatCode>General</c:formatCode>
                <c:ptCount val="14"/>
                <c:pt idx="0">
                  <c:v>9.7</c:v>
                </c:pt>
                <c:pt idx="1">
                  <c:v>33.2</c:v>
                </c:pt>
                <c:pt idx="2">
                  <c:v>92.6</c:v>
                </c:pt>
                <c:pt idx="3">
                  <c:v>151.6</c:v>
                </c:pt>
                <c:pt idx="4">
                  <c:v>136.3</c:v>
                </c:pt>
                <c:pt idx="5">
                  <c:v>134.7</c:v>
                </c:pt>
                <c:pt idx="6">
                  <c:v>83.9</c:v>
                </c:pt>
                <c:pt idx="7">
                  <c:v>69.4</c:v>
                </c:pt>
                <c:pt idx="8">
                  <c:v>31.5</c:v>
                </c:pt>
                <c:pt idx="9">
                  <c:v>13.9</c:v>
                </c:pt>
              </c:numCache>
            </c:numRef>
          </c:val>
          <c:smooth val="0"/>
        </c:ser>
        <c:ser>
          <c:idx val="18"/>
          <c:order val="18"/>
          <c:tx>
            <c:strRef>
              <c:f>label 18</c:f>
              <c:strCache>
                <c:ptCount val="1"/>
                <c:pt idx="0">
                  <c:v>N19</c:v>
                </c:pt>
              </c:strCache>
            </c:strRef>
          </c:tx>
          <c:spPr>
            <a:solidFill>
              <a:srgbClr val="8ea5ca"/>
            </a:solidFill>
            <a:ln w="28440">
              <a:solidFill>
                <a:srgbClr val="8ea5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8</c:f>
              <c:numCache>
                <c:formatCode>General</c:formatCode>
                <c:ptCount val="14"/>
                <c:pt idx="0">
                  <c:v>4.4</c:v>
                </c:pt>
                <c:pt idx="1">
                  <c:v>38</c:v>
                </c:pt>
                <c:pt idx="2">
                  <c:v>141.7</c:v>
                </c:pt>
                <c:pt idx="3">
                  <c:v>190.2</c:v>
                </c:pt>
                <c:pt idx="4">
                  <c:v>184.8</c:v>
                </c:pt>
                <c:pt idx="5">
                  <c:v>159</c:v>
                </c:pt>
                <c:pt idx="6">
                  <c:v>112.3</c:v>
                </c:pt>
                <c:pt idx="7">
                  <c:v>53.9</c:v>
                </c:pt>
                <c:pt idx="8">
                  <c:v>37.5</c:v>
                </c:pt>
                <c:pt idx="9">
                  <c:v>27.9</c:v>
                </c:pt>
              </c:numCache>
            </c:numRef>
          </c:val>
          <c:smooth val="0"/>
        </c:ser>
        <c:ser>
          <c:idx val="19"/>
          <c:order val="19"/>
          <c:tx>
            <c:strRef>
              <c:f>label 19</c:f>
              <c:strCache>
                <c:ptCount val="1"/>
                <c:pt idx="0">
                  <c:v>N20</c:v>
                </c:pt>
              </c:strCache>
            </c:strRef>
          </c:tx>
          <c:spPr>
            <a:solidFill>
              <a:srgbClr val="cc8f8e"/>
            </a:solidFill>
            <a:ln w="28440">
              <a:solidFill>
                <a:srgbClr val="cc8f8e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19</c:f>
              <c:numCache>
                <c:formatCode>General</c:formatCode>
                <c:ptCount val="14"/>
                <c:pt idx="0">
                  <c:v>10.2</c:v>
                </c:pt>
                <c:pt idx="1">
                  <c:v>15.1</c:v>
                </c:pt>
                <c:pt idx="2">
                  <c:v>47</c:v>
                </c:pt>
                <c:pt idx="3">
                  <c:v>93.8</c:v>
                </c:pt>
                <c:pt idx="4">
                  <c:v>105.9</c:v>
                </c:pt>
                <c:pt idx="5">
                  <c:v>105.5</c:v>
                </c:pt>
                <c:pt idx="6">
                  <c:v>104.5</c:v>
                </c:pt>
                <c:pt idx="7">
                  <c:v>66.6</c:v>
                </c:pt>
                <c:pt idx="8">
                  <c:v>68.9</c:v>
                </c:pt>
                <c:pt idx="9">
                  <c:v>38</c:v>
                </c:pt>
                <c:pt idx="10">
                  <c:v>34.5</c:v>
                </c:pt>
                <c:pt idx="11">
                  <c:v>15.5</c:v>
                </c:pt>
              </c:numCache>
            </c:numRef>
          </c:val>
          <c:smooth val="0"/>
        </c:ser>
        <c:ser>
          <c:idx val="20"/>
          <c:order val="20"/>
          <c:tx>
            <c:strRef>
              <c:f>label 20</c:f>
              <c:strCache>
                <c:ptCount val="1"/>
                <c:pt idx="0">
                  <c:v>N21</c:v>
                </c:pt>
              </c:strCache>
            </c:strRef>
          </c:tx>
          <c:spPr>
            <a:solidFill>
              <a:srgbClr val="b3c992"/>
            </a:solidFill>
            <a:ln w="28440">
              <a:solidFill>
                <a:srgbClr val="b3c992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20</c:f>
              <c:numCache>
                <c:formatCode>General</c:formatCode>
                <c:ptCount val="14"/>
                <c:pt idx="0">
                  <c:v>12.6</c:v>
                </c:pt>
                <c:pt idx="1">
                  <c:v>27.5</c:v>
                </c:pt>
                <c:pt idx="2">
                  <c:v>92.5</c:v>
                </c:pt>
                <c:pt idx="3">
                  <c:v>155.4</c:v>
                </c:pt>
                <c:pt idx="4">
                  <c:v>154.6</c:v>
                </c:pt>
                <c:pt idx="5">
                  <c:v>140.5</c:v>
                </c:pt>
                <c:pt idx="6">
                  <c:v>115.9</c:v>
                </c:pt>
                <c:pt idx="7">
                  <c:v>66.8</c:v>
                </c:pt>
                <c:pt idx="8">
                  <c:v>45.7</c:v>
                </c:pt>
                <c:pt idx="9">
                  <c:v>18</c:v>
                </c:pt>
              </c:numCache>
            </c:numRef>
          </c:val>
          <c:smooth val="0"/>
        </c:ser>
        <c:ser>
          <c:idx val="21"/>
          <c:order val="21"/>
          <c:tx>
            <c:strRef>
              <c:f>label 21</c:f>
              <c:strCache>
                <c:ptCount val="1"/>
                <c:pt idx="0">
                  <c:v>N22</c:v>
                </c:pt>
              </c:strCache>
            </c:strRef>
          </c:tx>
          <c:spPr>
            <a:solidFill>
              <a:srgbClr val="a596b9"/>
            </a:solidFill>
            <a:ln w="28440">
              <a:solidFill>
                <a:srgbClr val="a596b9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21</c:f>
              <c:numCache>
                <c:formatCode>General</c:formatCode>
                <c:ptCount val="14"/>
                <c:pt idx="0">
                  <c:v>13.4</c:v>
                </c:pt>
                <c:pt idx="1">
                  <c:v>29.4</c:v>
                </c:pt>
                <c:pt idx="2">
                  <c:v>100.2</c:v>
                </c:pt>
                <c:pt idx="3">
                  <c:v>157.6</c:v>
                </c:pt>
                <c:pt idx="4">
                  <c:v>142.6</c:v>
                </c:pt>
                <c:pt idx="5">
                  <c:v>145.7</c:v>
                </c:pt>
                <c:pt idx="6">
                  <c:v>94.3</c:v>
                </c:pt>
                <c:pt idx="7">
                  <c:v>54.6</c:v>
                </c:pt>
                <c:pt idx="8">
                  <c:v>29.9</c:v>
                </c:pt>
                <c:pt idx="9">
                  <c:v>17.5</c:v>
                </c:pt>
              </c:numCache>
            </c:numRef>
          </c:val>
          <c:smooth val="0"/>
        </c:ser>
        <c:ser>
          <c:idx val="22"/>
          <c:order val="22"/>
          <c:tx>
            <c:strRef>
              <c:f>label 22</c:f>
              <c:strCache>
                <c:ptCount val="1"/>
                <c:pt idx="0">
                  <c:v>N23</c:v>
                </c:pt>
              </c:strCache>
            </c:strRef>
          </c:tx>
          <c:spPr>
            <a:solidFill>
              <a:srgbClr val="8cbfd2"/>
            </a:solidFill>
            <a:ln w="28440">
              <a:solidFill>
                <a:srgbClr val="8cbfd2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22</c:f>
              <c:numCache>
                <c:formatCode>General</c:formatCode>
                <c:ptCount val="14"/>
                <c:pt idx="0">
                  <c:v>8.6</c:v>
                </c:pt>
                <c:pt idx="1">
                  <c:v>21.5</c:v>
                </c:pt>
                <c:pt idx="2">
                  <c:v>64.3</c:v>
                </c:pt>
                <c:pt idx="3">
                  <c:v>93.3</c:v>
                </c:pt>
                <c:pt idx="4">
                  <c:v>119.6</c:v>
                </c:pt>
                <c:pt idx="5">
                  <c:v>111</c:v>
                </c:pt>
                <c:pt idx="6">
                  <c:v>104</c:v>
                </c:pt>
                <c:pt idx="7">
                  <c:v>63.7</c:v>
                </c:pt>
                <c:pt idx="8">
                  <c:v>40.4</c:v>
                </c:pt>
                <c:pt idx="9">
                  <c:v>29.8</c:v>
                </c:pt>
                <c:pt idx="10">
                  <c:v>15.2</c:v>
                </c:pt>
                <c:pt idx="11">
                  <c:v>7.5</c:v>
                </c:pt>
              </c:numCache>
            </c:numRef>
          </c:val>
          <c:smooth val="0"/>
        </c:ser>
        <c:ser>
          <c:idx val="23"/>
          <c:order val="23"/>
          <c:tx>
            <c:strRef>
              <c:f>label 23</c:f>
              <c:strCache>
                <c:ptCount val="1"/>
                <c:pt idx="0">
                  <c:v>N24</c:v>
                </c:pt>
              </c:strCache>
            </c:strRef>
          </c:tx>
          <c:spPr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c:spPr>
          <c:marker>
            <c:symbol val="circle"/>
            <c:size val="8"/>
            <c:spPr>
              <a:solidFill>
                <a:srgbClr val="000000"/>
              </a:solidFill>
            </c:spPr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23</c:f>
              <c:numCache>
                <c:formatCode>General</c:formatCode>
                <c:ptCount val="14"/>
                <c:pt idx="0">
                  <c:v>4.2</c:v>
                </c:pt>
                <c:pt idx="1">
                  <c:v>4.8</c:v>
                </c:pt>
                <c:pt idx="2">
                  <c:v>24.9</c:v>
                </c:pt>
                <c:pt idx="3">
                  <c:v>80.8</c:v>
                </c:pt>
                <c:pt idx="4">
                  <c:v>84.5</c:v>
                </c:pt>
                <c:pt idx="5">
                  <c:v>94</c:v>
                </c:pt>
                <c:pt idx="6">
                  <c:v>113.3</c:v>
                </c:pt>
                <c:pt idx="7">
                  <c:v>69.7</c:v>
                </c:pt>
              </c:numCache>
            </c:numRef>
          </c:val>
          <c:smooth val="0"/>
        </c:ser>
        <c:ser>
          <c:idx val="24"/>
          <c:order val="24"/>
          <c:tx>
            <c:strRef>
              <c:f>label 24</c:f>
              <c:strCache>
                <c:ptCount val="1"/>
                <c:pt idx="0">
                  <c:v>Среднее</c:v>
                </c:pt>
              </c:strCache>
            </c:strRef>
          </c:tx>
          <c:spPr>
            <a:solidFill>
              <a:srgbClr val="c00000"/>
            </a:solidFill>
            <a:ln w="44280">
              <a:solidFill>
                <a:srgbClr val="c00000"/>
              </a:solidFill>
              <a:round/>
            </a:ln>
          </c:spPr>
          <c:marker>
            <c:symbol val="circle"/>
            <c:size val="7"/>
            <c:spPr>
              <a:solidFill>
                <a:srgbClr val="c00000"/>
              </a:solidFill>
            </c:spPr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24</c:f>
              <c:numCache>
                <c:formatCode>General</c:formatCode>
                <c:ptCount val="14"/>
                <c:pt idx="0">
                  <c:v>7.11304347826087</c:v>
                </c:pt>
                <c:pt idx="1">
                  <c:v>18.895652173913</c:v>
                </c:pt>
                <c:pt idx="2">
                  <c:v>57.0565217391304</c:v>
                </c:pt>
                <c:pt idx="3">
                  <c:v>92.8652173913044</c:v>
                </c:pt>
                <c:pt idx="4">
                  <c:v>99.7391304347826</c:v>
                </c:pt>
                <c:pt idx="5">
                  <c:v>93.1391304347826</c:v>
                </c:pt>
                <c:pt idx="6">
                  <c:v>77.5739130434783</c:v>
                </c:pt>
                <c:pt idx="7">
                  <c:v>52.2913043478261</c:v>
                </c:pt>
                <c:pt idx="8">
                  <c:v>38.4478260869565</c:v>
                </c:pt>
                <c:pt idx="9">
                  <c:v>23.3826086956522</c:v>
                </c:pt>
                <c:pt idx="10">
                  <c:v>11.5</c:v>
                </c:pt>
                <c:pt idx="11">
                  <c:v>3.92608695652174</c:v>
                </c:pt>
                <c:pt idx="12">
                  <c:v>0.98695652173913</c:v>
                </c:pt>
                <c:pt idx="13">
                  <c:v>0.278260869565217</c:v>
                </c:pt>
              </c:numCache>
            </c:numRef>
          </c:val>
          <c:smooth val="0"/>
        </c:ser>
        <c:ser>
          <c:idx val="25"/>
          <c:order val="25"/>
          <c:tx>
            <c:strRef>
              <c:f>label 25</c:f>
              <c:strCache>
                <c:ptCount val="1"/>
                <c:pt idx="0">
                  <c:v>W-t*s</c:v>
                </c:pt>
              </c:strCache>
            </c:strRef>
          </c:tx>
          <c:spPr>
            <a:solidFill>
              <a:srgbClr val="000000"/>
            </a:solidFill>
            <a:ln w="38160">
              <a:solidFill>
                <a:srgbClr val="000000"/>
              </a:solidFill>
              <a:prstDash val="dash"/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25</c:f>
              <c:numCache>
                <c:formatCode>General</c:formatCode>
                <c:ptCount val="14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13.9442059002554</c:v>
                </c:pt>
                <c:pt idx="5">
                  <c:v>22.2213065846373</c:v>
                </c:pt>
                <c:pt idx="6">
                  <c:v>34.65875912151</c:v>
                </c:pt>
                <c:pt idx="7">
                  <c:v>23.867760685466</c:v>
                </c:pt>
                <c:pt idx="8">
                  <c:v>5.04255527717353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</c:numCache>
            </c:numRef>
          </c:val>
          <c:smooth val="0"/>
        </c:ser>
        <c:ser>
          <c:idx val="26"/>
          <c:order val="26"/>
          <c:tx>
            <c:strRef>
              <c:f>label 26</c:f>
              <c:strCache>
                <c:ptCount val="1"/>
                <c:pt idx="0">
                  <c:v>W+t*s</c:v>
                </c:pt>
              </c:strCache>
            </c:strRef>
          </c:tx>
          <c:spPr>
            <a:solidFill>
              <a:srgbClr val="000000"/>
            </a:solidFill>
            <a:ln w="38160">
              <a:solidFill>
                <a:srgbClr val="000000"/>
              </a:solidFill>
              <a:prstDash val="dash"/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1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</c:strCache>
            </c:strRef>
          </c:cat>
          <c:val>
            <c:numRef>
              <c:f>26</c:f>
              <c:numCache>
                <c:formatCode>General</c:formatCode>
                <c:ptCount val="14"/>
                <c:pt idx="0">
                  <c:v>14.5135783886594</c:v>
                </c:pt>
                <c:pt idx="1">
                  <c:v>43.4940056891097</c:v>
                </c:pt>
                <c:pt idx="2">
                  <c:v>125.664397116447</c:v>
                </c:pt>
                <c:pt idx="3">
                  <c:v>196.265617861984</c:v>
                </c:pt>
                <c:pt idx="4">
                  <c:v>185.53405496931</c:v>
                </c:pt>
                <c:pt idx="5">
                  <c:v>164.056954284928</c:v>
                </c:pt>
                <c:pt idx="6">
                  <c:v>120.489066965447</c:v>
                </c:pt>
                <c:pt idx="7">
                  <c:v>80.7148480101862</c:v>
                </c:pt>
                <c:pt idx="8">
                  <c:v>71.8530968967395</c:v>
                </c:pt>
                <c:pt idx="9">
                  <c:v>53.4283240646927</c:v>
                </c:pt>
                <c:pt idx="10">
                  <c:v>45.540682659005</c:v>
                </c:pt>
                <c:pt idx="11">
                  <c:v>26.882950666424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33046598"/>
        <c:axId val="35087001"/>
      </c:lineChart>
      <c:catAx>
        <c:axId val="33046598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087001"/>
        <c:crosses val="autoZero"/>
        <c:auto val="1"/>
        <c:lblAlgn val="ctr"/>
        <c:lblOffset val="100"/>
        <c:noMultiLvlLbl val="0"/>
      </c:catAx>
      <c:valAx>
        <c:axId val="3508700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046598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1679" spc="-1" strike="noStrike">
                <a:solidFill>
                  <a:srgbClr val="000000"/>
                </a:solidFill>
                <a:latin typeface="Calibri"/>
              </a:defRPr>
            </a:pPr>
            <a:r>
              <a:rPr b="1" lang="en-US" sz="1679" spc="-1" strike="noStrike">
                <a:solidFill>
                  <a:srgbClr val="000000"/>
                </a:solidFill>
                <a:latin typeface="Calibri"/>
              </a:rPr>
              <a:t>W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редние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W-t*s</c:v>
                </c:pt>
              </c:strCache>
            </c:strRef>
          </c:tx>
          <c:spPr>
            <a:solidFill>
              <a:srgbClr val="1f497d"/>
            </a:solidFill>
            <a:ln w="28440">
              <a:solidFill>
                <a:srgbClr val="1f497d"/>
              </a:solidFill>
              <a:prstDash val="sysDash"/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3"/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W+t*s</c:v>
                </c:pt>
              </c:strCache>
            </c:strRef>
          </c:tx>
          <c:spPr>
            <a:solidFill>
              <a:srgbClr val="1f497d"/>
            </a:solidFill>
            <a:ln w="28440">
              <a:solidFill>
                <a:srgbClr val="1f497d"/>
              </a:solidFill>
              <a:prstDash val="sysDash"/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3"/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N24</c:v>
                </c:pt>
              </c:strCache>
            </c:strRef>
          </c:tx>
          <c:spPr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  <c:pt idx="9">
                  <c:v>10</c:v>
                </c:pt>
                <c:pt idx="10">
                  <c:v>11</c:v>
                </c:pt>
                <c:pt idx="11">
                  <c:v>12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3"/>
                <c:pt idx="0">
                  <c:v>4.2</c:v>
                </c:pt>
                <c:pt idx="1">
                  <c:v>4.8</c:v>
                </c:pt>
                <c:pt idx="2">
                  <c:v>24.9</c:v>
                </c:pt>
                <c:pt idx="3">
                  <c:v>80.8</c:v>
                </c:pt>
                <c:pt idx="4">
                  <c:v>84.5</c:v>
                </c:pt>
                <c:pt idx="5">
                  <c:v>94</c:v>
                </c:pt>
                <c:pt idx="6">
                  <c:v>113.3</c:v>
                </c:pt>
                <c:pt idx="7">
                  <c:v>69.7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75890417"/>
        <c:axId val="41457331"/>
      </c:lineChart>
      <c:catAx>
        <c:axId val="758904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457331"/>
        <c:crosses val="autoZero"/>
        <c:auto val="1"/>
        <c:lblAlgn val="ctr"/>
        <c:lblOffset val="100"/>
        <c:noMultiLvlLbl val="0"/>
      </c:catAx>
      <c:valAx>
        <c:axId val="4145733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890417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484091663899037</cdr:x>
      <cdr:y>0.178371046303718</cdr:y>
    </cdr:from>
    <cdr:to>
      <cdr:x>0.484091663899037</cdr:x>
      <cdr:y>0.925026203835008</cdr:y>
    </cdr:to>
    <cdr:cxnSp>
      <cdr:nvCxnSpPr>
        <cdr:cNvPr id="116" name="Прямая соединительная линия 2"/>
        <cdr:cNvCxnSpPr/>
        <cdr:nvPr/>
      </cdr:nvCxnSpPr>
      <cdr:spPr>
        <a:xfrm flipV="1">
          <a:off x="2623680" y="1041480"/>
          <a:ext cx="360" cy="4359960"/>
        </a:xfrm>
        <a:prstGeom prst="straightConnector1">
          <a:avLst/>
        </a:prstGeom>
        <a:ln w="38100">
          <a:solidFill>
            <a:srgbClr val="000000"/>
          </a:solidFill>
          <a:round/>
        </a:ln>
      </cdr:spPr>
    </cdr:cxnSp>
  </cdr:relSizeAnchor>
  <cdr:relSizeAnchor>
    <cdr:from>
      <cdr:x>0.599402191962803</cdr:x>
      <cdr:y>0.411862630248474</cdr:y>
    </cdr:from>
    <cdr:to>
      <cdr:x>0.74918631683826</cdr:x>
      <cdr:y>0.49620815093409</cdr:y>
    </cdr:to>
    <cdr:sp>
      <cdr:nvSpPr>
        <cdr:cNvPr id="117" name="Скругленная прямоугольная выноска 1"/>
        <cdr:cNvSpPr/>
      </cdr:nvSpPr>
      <cdr:spPr>
        <a:xfrm>
          <a:off x="3248640" y="2404800"/>
          <a:ext cx="811800" cy="492480"/>
        </a:xfrm>
        <a:prstGeom prst="wedgeRoundRectCallout">
          <a:avLst>
            <a:gd name="adj1" fmla="val -82371"/>
            <a:gd name="adj2" fmla="val 284316"/>
            <a:gd name="adj3" fmla="val 16667"/>
          </a:avLst>
        </a:prstGeom>
        <a:solidFill>
          <a:srgbClr val="ffffff"/>
        </a:solidFill>
        <a:ln>
          <a:solidFill>
            <a:srgbClr val="000000"/>
          </a:solidFill>
          <a:round/>
        </a:ln>
      </cdr:spPr>
      <cdr:style>
        <a:lnRef idx="2">
          <a:schemeClr val="accent6"/>
        </a:lnRef>
        <a:fillRef idx="1">
          <a:schemeClr val="lt1"/>
        </a:fillRef>
        <a:effectRef idx="0">
          <a:schemeClr val="accent6"/>
        </a:effectRef>
        <a:fontRef idx="minor"/>
      </cdr:style>
      <cdr:txBody>
        <a:bodyPr vertOverflow="clip"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en-US" sz="1400" spc="-1" strike="noStrike">
              <a:solidFill>
                <a:schemeClr val="dk1"/>
              </a:solidFill>
              <a:latin typeface="Calibri"/>
            </a:rPr>
            <a:t>2009 (L14)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AF7B44-6275-487C-A7D6-3D6047F2A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E2693F-D1CB-403E-AC4A-C7C4ED36187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4398FF-E86B-4597-9980-B72E8F48D0A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315A2E-18CC-4D79-B314-B64A8F5034F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70A-9869-48FB-B4F3-4FAB9DF9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FC2-E36F-4750-A89D-2D3A143B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FCF-140E-44C4-A59D-C063C215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60A-4231-4DA4-BD31-10CB1D55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E7C-A15A-4014-A9AB-D1180636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4AA-C9F3-4068-97FE-B31566D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CDE-933B-4CF9-8E23-2B667A8A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D52-21E7-4EB9-B005-620C0510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A81-68CA-4F35-8D66-689AD221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249-7907-4FE1-9AA0-5C453E08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73A-4BCE-431D-81E7-5124A3F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FB2-AA62-45BB-B543-71F63F37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6F0ED4-664B-45E1-A7F5-C33113A15E5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vseneprostotak.ru/wp-content/uploads/2013/01/Grafik-solnechnoj-aktivnosti..gif" TargetMode="External"/><Relationship Id="rId2" Type="http://schemas.openxmlformats.org/officeDocument/2006/relationships/image" Target="../media/image20.gif"/><Relationship Id="rId3" Type="http://schemas.openxmlformats.org/officeDocument/2006/relationships/hyperlink" Target="http://www.vseneprostotak.ru/author/aik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solarwind.cosmos.ru/" TargetMode="External"/><Relationship Id="rId3" Type="http://schemas.openxmlformats.org/officeDocument/2006/relationships/hyperlink" Target="http://solarwind.cosmos.ru/txt/2011/conf2011thesis.pdf" TargetMode="External"/><Relationship Id="rId4" Type="http://schemas.openxmlformats.org/officeDocument/2006/relationships/hyperlink" Target="http://solarwind.cosmos.ru/txt/2011/conf2011thesis.pdf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image" Target="../media/image44.wm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image" Target="../media/image5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4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chart" Target="../charts/chart5.xml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chart" Target="../charts/chart8.xml"/><Relationship Id="rId3" Type="http://schemas.openxmlformats.org/officeDocument/2006/relationships/chart" Target="../charts/chart9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chart" Target="../charts/chart10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hyperlink" Target="http://www.vseneprostotak.ru/author/aik/" TargetMode="External"/><Relationship Id="rId3" Type="http://schemas.openxmlformats.org/officeDocument/2006/relationships/hyperlink" Target="http://www.vseneprostotak.ru/author/aik/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sidc.oma.be/html/sunspot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Объект 2"/>
          <p:cNvGraphicFramePr/>
          <p:nvPr/>
        </p:nvGraphicFramePr>
        <p:xfrm>
          <a:off x="683640" y="3167280"/>
          <a:ext cx="7768080" cy="5230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48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640" y="3167280"/>
                    <a:ext cx="7768080" cy="5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Прямоугольник 4"/>
          <p:cNvSpPr/>
          <p:nvPr/>
        </p:nvSpPr>
        <p:spPr>
          <a:xfrm>
            <a:off x="683640" y="2459520"/>
            <a:ext cx="7388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ются одномерные модели среднегодовых рядов чисел Воль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683640" y="3861000"/>
            <a:ext cx="7388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одятся результаты идентификации линейных моделей методом наименьших квадратов, процедурой Юла-Уокера, фильтром Кал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683640" y="5517360"/>
            <a:ext cx="705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одятся результаты прогнозов максимального числа Вольфа в 24-м цик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683640" y="4797000"/>
            <a:ext cx="676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ются модели Оля-Гневышева, циклы Гляйсберга, эффекты миграции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539640" y="404640"/>
            <a:ext cx="8208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мерные модели среднегодовых рядов чисел Воль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1285920" y="71280"/>
            <a:ext cx="678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инар ИКИ РАН по механике, управлению и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2801880" y="1924200"/>
            <a:ext cx="2819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атриваются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3383640" y="1481760"/>
            <a:ext cx="1368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А.Гор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rcRect l="0" t="10884" r="0" b="63139"/>
          <a:stretch/>
        </p:blipFill>
        <p:spPr>
          <a:xfrm>
            <a:off x="1403640" y="37440"/>
            <a:ext cx="5513760" cy="4849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/>
          <a:srcRect l="9058" t="17657" r="32746" b="0"/>
          <a:stretch/>
        </p:blipFill>
        <p:spPr>
          <a:xfrm>
            <a:off x="2242440" y="522360"/>
            <a:ext cx="6543360" cy="5858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261720" y="280080"/>
            <a:ext cx="172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Н.Храм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.А.Красотки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.В.Кан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2237040" y="6381360"/>
            <a:ext cx="444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kosmofizika.ru/pdf/chramova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280800" y="1917000"/>
            <a:ext cx="22611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ax 23=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23=173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23=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rcRect l="0" t="10884" r="0" b="63139"/>
          <a:stretch/>
        </p:blipFill>
        <p:spPr>
          <a:xfrm>
            <a:off x="1403640" y="37440"/>
            <a:ext cx="5513760" cy="4849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"/>
          <p:cNvSpPr/>
          <p:nvPr/>
        </p:nvSpPr>
        <p:spPr>
          <a:xfrm>
            <a:off x="261720" y="280080"/>
            <a:ext cx="1721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Н.Храм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.А.Красоткин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.В.Кан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237040" y="6381360"/>
            <a:ext cx="444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kosmofizika.ru/pdf/chramova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467640" y="5117040"/>
            <a:ext cx="8432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1996; 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ax 23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23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3,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2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2008; 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ax 24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24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3,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rcRect l="11509" t="17350" r="14000" b="18087"/>
          <a:stretch/>
        </p:blipFill>
        <p:spPr>
          <a:xfrm>
            <a:off x="1878840" y="640440"/>
            <a:ext cx="7264800" cy="4476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6372360" y="3069000"/>
            <a:ext cx="2527560" cy="2156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7227720" y="271080"/>
            <a:ext cx="77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3193920" y="2565000"/>
            <a:ext cx="2527560" cy="2516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http://www.vseneprostotak.ru/wp-content/uploads/2013/01/Grafik-solnechnoj-aktivnosti.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1028880"/>
            <a:ext cx="6286320" cy="4800240"/>
          </a:xfrm>
          <a:prstGeom prst="rect">
            <a:avLst/>
          </a:prstGeom>
          <a:ln w="9525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2486880" y="633960"/>
            <a:ext cx="41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shed 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н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st, 2013 by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лекс Кр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Таблица 2"/>
          <p:cNvGraphicFramePr/>
          <p:nvPr/>
        </p:nvGraphicFramePr>
        <p:xfrm>
          <a:off x="467640" y="1340640"/>
          <a:ext cx="2736000" cy="4840560"/>
        </p:xfrm>
        <a:graphic>
          <a:graphicData uri="http://schemas.openxmlformats.org/drawingml/2006/table">
            <a:tbl>
              <a:tblPr/>
              <a:tblGrid>
                <a:gridCol w="2736000"/>
              </a:tblGrid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-Minimax 80 ± 25 Eq. 10 Brown (1976); Brajˇsa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9)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-Minimax3 69 ± 15 Eq. 11 Cameron and Sch¨ussler (2007)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-Polar field 75 ± 8 Sect. 2.2 Svalgaard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4-Polar field 80 ± 30 Sect. 2.2 Schatten (200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Geomagnetic (Feynman) 150 Sect. 2.3 Hathaway and Wilson (200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5-Geomagnetic (Ohl) 93 ± 20 Sect. 2.3 Bhatt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6-Geomagnetric (Ohl) 101 ± 5 Sect. 2.3 Ahluwalia and Ygbuhay (20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7-Geomagnetic (interpl.) 97 ± 25 Sect. 2.3 Wang and Sheeley Jr (20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8-Field reversal 94 ± 14 Eq. 12 Tlatov (2009)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xtrapolation metho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9-Linear regression 90 ± 27 Sect. 3.1 Brajˇsa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0-Linear regression 110 ± 10 Sect. 3.1 Hiremath (200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1-Spectral (MEM) 90 ± 11 Sect. 3.2 Kane (20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pectral (SSA) 117 Sect. 3.2 Loskutov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Spectral (SSA) 106 Sect. 3.2 Kuzanyan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ttractor analysis 87 Sect. 3.3.1 Kilcik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-Attractor analysis 65 ± 16 Sect. 3.3.1 Aguirre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3-Attractor analysis 145 ± 7 Sect. 3.3.1 Crosson and Binder (20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Neural network 145 Sect. 3.3.4 Maris and Oncica (200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4-Neural network 117.5 ± 8.5 Sect. 3.3.4 Uwamahoro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Model based metho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5-Explicit models 167 ± 12 Sect. 4.3 Dikpati and Gilman (200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xplicit models _ 80 Sect. 4.3 Choudhuri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xplicit models _ 85 Sect. 4.3 Jiang et al. </a:t>
                      </a: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(20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runcated models _ 80 Sect. 4.4 Kitiashvili and Kosovichev (200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556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ferences marked with * are to the basic principle used in the given prediction method while the actual numeric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556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US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valuation for cycle 24 was done by the author. The application for forecast purposes does not necessari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тод фазовых сред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27800">
                <a:tc>
                  <a:txBody>
                    <a:bodyPr lIns="39240" rIns="39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26± 30 первая половина 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Диаграмма 3"/>
          <p:cNvGraphicFramePr/>
          <p:nvPr/>
        </p:nvGraphicFramePr>
        <p:xfrm>
          <a:off x="3691800" y="836640"/>
          <a:ext cx="5419440" cy="5838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8" name="TextBox 1"/>
          <p:cNvSpPr/>
          <p:nvPr/>
        </p:nvSpPr>
        <p:spPr>
          <a:xfrm>
            <a:off x="1203840" y="-51480"/>
            <a:ext cx="5670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нозы максимального зна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 24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кла в  2006-2008 год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733320" y="-10800"/>
            <a:ext cx="8618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ь авторегрессии-скользящего среднего (АР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Объект 3"/>
          <p:cNvGraphicFramePr/>
          <p:nvPr/>
        </p:nvGraphicFramePr>
        <p:xfrm>
          <a:off x="467640" y="548640"/>
          <a:ext cx="8424720" cy="57816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2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640" y="548640"/>
                    <a:ext cx="842472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Прямоугольник 4"/>
          <p:cNvSpPr/>
          <p:nvPr/>
        </p:nvSpPr>
        <p:spPr>
          <a:xfrm>
            <a:off x="301680" y="6197400"/>
            <a:ext cx="8496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кущая и предыдущие ошибки прогноз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763560" y="3501000"/>
            <a:ext cx="756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Объект 6"/>
          <p:cNvGraphicFramePr/>
          <p:nvPr/>
        </p:nvGraphicFramePr>
        <p:xfrm>
          <a:off x="530280" y="5085360"/>
          <a:ext cx="8027640" cy="63936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26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5085360"/>
                    <a:ext cx="8027640" cy="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Прямоугольник 7"/>
          <p:cNvSpPr/>
          <p:nvPr/>
        </p:nvSpPr>
        <p:spPr>
          <a:xfrm>
            <a:off x="539640" y="1744560"/>
            <a:ext cx="756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дент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1919160" y="2152800"/>
            <a:ext cx="5520600" cy="1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85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авнение Юла – Уокера (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од максимального правдопод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ьтр Кал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Объект 9"/>
          <p:cNvGraphicFramePr/>
          <p:nvPr/>
        </p:nvGraphicFramePr>
        <p:xfrm>
          <a:off x="633240" y="3933000"/>
          <a:ext cx="7875360" cy="63936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30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240" y="3933000"/>
                    <a:ext cx="7875360" cy="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Объект 10"/>
          <p:cNvGraphicFramePr/>
          <p:nvPr/>
        </p:nvGraphicFramePr>
        <p:xfrm>
          <a:off x="3378240" y="5657760"/>
          <a:ext cx="1885680" cy="5792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32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8240" y="5657760"/>
                    <a:ext cx="1885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Box 11"/>
          <p:cNvSpPr/>
          <p:nvPr/>
        </p:nvSpPr>
        <p:spPr>
          <a:xfrm>
            <a:off x="2057400" y="4644000"/>
            <a:ext cx="1801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 прогноз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Объект 12"/>
          <p:cNvGraphicFramePr/>
          <p:nvPr/>
        </p:nvGraphicFramePr>
        <p:xfrm>
          <a:off x="4054320" y="4581000"/>
          <a:ext cx="1337760" cy="54900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35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54320" y="4581000"/>
                    <a:ext cx="13377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Прямоугольник 13"/>
          <p:cNvSpPr/>
          <p:nvPr/>
        </p:nvSpPr>
        <p:spPr>
          <a:xfrm>
            <a:off x="343440" y="1082520"/>
            <a:ext cx="8496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t-1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,…,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t-k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чения  случайного центрированного и нормированного импульса типа «белый шум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Объект 2"/>
          <p:cNvGraphicFramePr/>
          <p:nvPr/>
        </p:nvGraphicFramePr>
        <p:xfrm>
          <a:off x="25200" y="476640"/>
          <a:ext cx="8759520" cy="4536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39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00" y="476640"/>
                    <a:ext cx="8759520" cy="45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Объект 4"/>
          <p:cNvGraphicFramePr/>
          <p:nvPr/>
        </p:nvGraphicFramePr>
        <p:xfrm>
          <a:off x="1089720" y="4725000"/>
          <a:ext cx="6753240" cy="209160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42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9720" y="4725000"/>
                    <a:ext cx="6753240" cy="209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Объект 6"/>
          <p:cNvGraphicFramePr/>
          <p:nvPr/>
        </p:nvGraphicFramePr>
        <p:xfrm>
          <a:off x="179640" y="923040"/>
          <a:ext cx="3672000" cy="25362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45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640" y="923040"/>
                    <a:ext cx="3672000" cy="253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Объект 7"/>
          <p:cNvGraphicFramePr/>
          <p:nvPr/>
        </p:nvGraphicFramePr>
        <p:xfrm>
          <a:off x="251640" y="3357000"/>
          <a:ext cx="6908040" cy="52560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47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640" y="3357000"/>
                    <a:ext cx="69080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Прямоугольник 8"/>
          <p:cNvSpPr/>
          <p:nvPr/>
        </p:nvSpPr>
        <p:spPr>
          <a:xfrm>
            <a:off x="483840" y="-7560"/>
            <a:ext cx="8175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ие модели АР в пространстве со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1364040" y="4310280"/>
            <a:ext cx="6735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k+1)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k+1)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Объект 11"/>
          <p:cNvGraphicFramePr/>
          <p:nvPr/>
        </p:nvGraphicFramePr>
        <p:xfrm>
          <a:off x="4581360" y="1340640"/>
          <a:ext cx="4120920" cy="122328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52" name="Объект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81360" y="1340640"/>
                    <a:ext cx="4120920" cy="1223280"/>
                  </a:xfrm>
                  <a:prstGeom prst="rect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</p:pic>
            </p:oleObj>
          </a:graphicData>
        </a:graphic>
      </p:graphicFrame>
      <p:sp>
        <p:nvSpPr>
          <p:cNvPr id="153" name="Прямоугольник 12"/>
          <p:cNvSpPr/>
          <p:nvPr/>
        </p:nvSpPr>
        <p:spPr>
          <a:xfrm>
            <a:off x="702000" y="3763080"/>
            <a:ext cx="228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тор перем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3"/>
          <p:cNvSpPr/>
          <p:nvPr/>
        </p:nvSpPr>
        <p:spPr>
          <a:xfrm>
            <a:off x="3216600" y="3901680"/>
            <a:ext cx="192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рица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6229440" y="3763080"/>
            <a:ext cx="139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http://dok.opredelim.com/pars_docs/refs/53/52394/img3.jpg"/>
          <p:cNvPicPr/>
          <p:nvPr/>
        </p:nvPicPr>
        <p:blipFill>
          <a:blip r:embed="rId1"/>
          <a:stretch/>
        </p:blipFill>
        <p:spPr>
          <a:xfrm>
            <a:off x="763560" y="1049400"/>
            <a:ext cx="7619760" cy="571464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179640" y="30240"/>
            <a:ext cx="885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даптивный фильтр Калмана для среднесрочного прогнозирования чисел Воль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дладчик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ональд Ван дер Лин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olarwind.cosmos.r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›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xt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2011/conf2011thesi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http://dok.opredelim.com/pars_docs/refs/53/52394/img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rcRect l="4840" t="0" r="0" b="0"/>
          <a:stretch/>
        </p:blipFill>
        <p:spPr>
          <a:xfrm>
            <a:off x="107640" y="764640"/>
            <a:ext cx="2828880" cy="26456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107640" y="-11160"/>
            <a:ext cx="885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ТУПЛЕНИЕ (перл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0" t="12807" r="0" b="15146"/>
          <a:stretch/>
        </p:blipFill>
        <p:spPr>
          <a:xfrm>
            <a:off x="336960" y="4198680"/>
            <a:ext cx="8397360" cy="1119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730080" y="5584680"/>
            <a:ext cx="7611840" cy="127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4"/>
          <a:stretch/>
        </p:blipFill>
        <p:spPr>
          <a:xfrm>
            <a:off x="2843640" y="476640"/>
            <a:ext cx="6160320" cy="357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0" y="-10800"/>
            <a:ext cx="9352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много о теории моделей авторегрессии-скользящего среднего (АР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Объект 3"/>
          <p:cNvGraphicFramePr/>
          <p:nvPr/>
        </p:nvGraphicFramePr>
        <p:xfrm>
          <a:off x="251640" y="943560"/>
          <a:ext cx="8645040" cy="54108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6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40" y="943560"/>
                    <a:ext cx="864504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Объект 5"/>
          <p:cNvGraphicFramePr/>
          <p:nvPr/>
        </p:nvGraphicFramePr>
        <p:xfrm>
          <a:off x="794160" y="1772640"/>
          <a:ext cx="3129480" cy="935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70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4160" y="1772640"/>
                    <a:ext cx="3129480" cy="9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Объект 7"/>
          <p:cNvGraphicFramePr/>
          <p:nvPr/>
        </p:nvGraphicFramePr>
        <p:xfrm>
          <a:off x="4572000" y="1859040"/>
          <a:ext cx="1431720" cy="54900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73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859040"/>
                    <a:ext cx="14317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Прямоугольник 10"/>
          <p:cNvSpPr/>
          <p:nvPr/>
        </p:nvSpPr>
        <p:spPr>
          <a:xfrm>
            <a:off x="2073600" y="1412640"/>
            <a:ext cx="3859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скретное преобразование Лапл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Объект 12"/>
          <p:cNvGraphicFramePr/>
          <p:nvPr/>
        </p:nvGraphicFramePr>
        <p:xfrm>
          <a:off x="185760" y="2925000"/>
          <a:ext cx="8562240" cy="154908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77" name="Объект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760" y="2925000"/>
                    <a:ext cx="8562240" cy="15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2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Объект 14"/>
          <p:cNvGraphicFramePr/>
          <p:nvPr/>
        </p:nvGraphicFramePr>
        <p:xfrm>
          <a:off x="152280" y="5360040"/>
          <a:ext cx="8468640" cy="130896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180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5360040"/>
                    <a:ext cx="8468640" cy="130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Объект 16"/>
          <p:cNvGraphicFramePr/>
          <p:nvPr/>
        </p:nvGraphicFramePr>
        <p:xfrm>
          <a:off x="6540120" y="1681560"/>
          <a:ext cx="2208240" cy="451080"/>
        </p:xfrm>
        <a:graphic>
          <a:graphicData uri="http://schemas.openxmlformats.org/presentationml/2006/ole">
            <p:oleObj progId="Equation.3" r:id="rId11" spid="">
              <p:embed/>
              <p:pic>
                <p:nvPicPr>
                  <p:cNvPr id="183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40120" y="1681560"/>
                    <a:ext cx="220824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2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Объект 18"/>
          <p:cNvGraphicFramePr/>
          <p:nvPr/>
        </p:nvGraphicFramePr>
        <p:xfrm>
          <a:off x="6622200" y="2061000"/>
          <a:ext cx="2197800" cy="57564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186" name="Объект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2200" y="2061000"/>
                    <a:ext cx="219780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Picture 25" descr=""/>
          <p:cNvPicPr/>
          <p:nvPr/>
        </p:nvPicPr>
        <p:blipFill>
          <a:blip r:embed="rId15"/>
          <a:stretch/>
        </p:blipFill>
        <p:spPr>
          <a:xfrm>
            <a:off x="2687760" y="4472640"/>
            <a:ext cx="332388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rcRect l="0" t="0" r="4817" b="2649"/>
          <a:stretch/>
        </p:blipFill>
        <p:spPr>
          <a:xfrm>
            <a:off x="359640" y="620640"/>
            <a:ext cx="8019000" cy="5257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2734560" y="260640"/>
            <a:ext cx="311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месячные показ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42720" y="5904720"/>
            <a:ext cx="5245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Зеле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цвет – отсутствуют от 1 до 10 наблю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желтый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11 – 2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расный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более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5875560" y="5949360"/>
            <a:ext cx="2471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ежедне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людн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0" y="-10800"/>
            <a:ext cx="9352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имость модели скользящего средн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Объект 3"/>
          <p:cNvGraphicFramePr/>
          <p:nvPr/>
        </p:nvGraphicFramePr>
        <p:xfrm>
          <a:off x="1003680" y="2205000"/>
          <a:ext cx="7344360" cy="7538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19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680" y="2205000"/>
                    <a:ext cx="734436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Объект 4"/>
          <p:cNvGraphicFramePr/>
          <p:nvPr/>
        </p:nvGraphicFramePr>
        <p:xfrm>
          <a:off x="0" y="692640"/>
          <a:ext cx="8469000" cy="13093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19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92640"/>
                    <a:ext cx="8469000" cy="13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Объект 6"/>
          <p:cNvGraphicFramePr/>
          <p:nvPr/>
        </p:nvGraphicFramePr>
        <p:xfrm>
          <a:off x="3636000" y="3789000"/>
          <a:ext cx="1583640" cy="83664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196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6000" y="3789000"/>
                    <a:ext cx="15836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Прямоугольник 7"/>
          <p:cNvSpPr/>
          <p:nvPr/>
        </p:nvSpPr>
        <p:spPr>
          <a:xfrm>
            <a:off x="186840" y="3193920"/>
            <a:ext cx="9352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ловие обрат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Объект 8"/>
          <p:cNvGraphicFramePr/>
          <p:nvPr/>
        </p:nvGraphicFramePr>
        <p:xfrm>
          <a:off x="851040" y="4653000"/>
          <a:ext cx="7441920" cy="9475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199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4653000"/>
                    <a:ext cx="744192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Объект 9"/>
          <p:cNvGraphicFramePr/>
          <p:nvPr/>
        </p:nvGraphicFramePr>
        <p:xfrm>
          <a:off x="1436760" y="5830920"/>
          <a:ext cx="4633560" cy="637920"/>
        </p:xfrm>
        <a:graphic>
          <a:graphicData uri="http://schemas.openxmlformats.org/presentationml/2006/ole">
            <p:oleObj progId="Equation.3" r:id="rId9" spid="">
              <p:embed/>
              <p:pic>
                <p:nvPicPr>
                  <p:cNvPr id="201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36760" y="5830920"/>
                    <a:ext cx="463356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Box 10"/>
          <p:cNvSpPr/>
          <p:nvPr/>
        </p:nvSpPr>
        <p:spPr>
          <a:xfrm>
            <a:off x="0" y="648864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нтез управления предполагает наличие всех корн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(z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утри ед..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Объект 2"/>
          <p:cNvGraphicFramePr/>
          <p:nvPr/>
        </p:nvGraphicFramePr>
        <p:xfrm>
          <a:off x="1511640" y="512640"/>
          <a:ext cx="5723280" cy="719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0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640" y="512640"/>
                    <a:ext cx="5723280" cy="7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35"/>
          <p:cNvSpPr/>
          <p:nvPr/>
        </p:nvSpPr>
        <p:spPr>
          <a:xfrm>
            <a:off x="152280" y="15228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5746680" y="1427040"/>
            <a:ext cx="2855160" cy="2459520"/>
            <a:chOff x="5746680" y="1427040"/>
            <a:chExt cx="2855160" cy="2459520"/>
          </a:xfrm>
        </p:grpSpPr>
        <p:sp>
          <p:nvSpPr>
            <p:cNvPr id="208" name="AutoShape 34"/>
            <p:cNvSpPr/>
            <p:nvPr/>
          </p:nvSpPr>
          <p:spPr>
            <a:xfrm>
              <a:off x="5746680" y="1427040"/>
              <a:ext cx="2855160" cy="24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33"/>
            <p:cNvSpPr/>
            <p:nvPr/>
          </p:nvSpPr>
          <p:spPr>
            <a:xfrm>
              <a:off x="6857280" y="1427040"/>
              <a:ext cx="3171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2"/>
            <p:cNvSpPr/>
            <p:nvPr/>
          </p:nvSpPr>
          <p:spPr>
            <a:xfrm>
              <a:off x="6063480" y="1823760"/>
              <a:ext cx="1905840" cy="1745640"/>
            </a:xfrm>
            <a:prstGeom prst="ellipse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31"/>
            <p:cNvSpPr/>
            <p:nvPr/>
          </p:nvSpPr>
          <p:spPr>
            <a:xfrm>
              <a:off x="5825880" y="2696760"/>
              <a:ext cx="23803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30"/>
            <p:cNvSpPr/>
            <p:nvPr/>
          </p:nvSpPr>
          <p:spPr>
            <a:xfrm>
              <a:off x="7016040" y="1665000"/>
              <a:ext cx="360" cy="20631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29"/>
            <p:cNvSpPr/>
            <p:nvPr/>
          </p:nvSpPr>
          <p:spPr>
            <a:xfrm>
              <a:off x="8206200" y="2538000"/>
              <a:ext cx="31608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8"/>
            <p:cNvSpPr/>
            <p:nvPr/>
          </p:nvSpPr>
          <p:spPr>
            <a:xfrm>
              <a:off x="7016040" y="1585800"/>
              <a:ext cx="21168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7016040" y="3569760"/>
              <a:ext cx="3168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5746680" y="2458800"/>
              <a:ext cx="290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7967880" y="2458800"/>
              <a:ext cx="21168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7016040" y="2140920"/>
              <a:ext cx="555120" cy="574560"/>
              <a:chOff x="7016040" y="2140920"/>
              <a:chExt cx="555120" cy="574560"/>
            </a:xfrm>
          </p:grpSpPr>
          <p:grpSp>
            <p:nvGrpSpPr>
              <p:cNvPr id="219" name="Group 22"/>
              <p:cNvGrpSpPr/>
              <p:nvPr/>
            </p:nvGrpSpPr>
            <p:grpSpPr>
              <a:xfrm>
                <a:off x="7491960" y="2140920"/>
                <a:ext cx="79200" cy="79560"/>
                <a:chOff x="7491960" y="2140920"/>
                <a:chExt cx="79200" cy="79560"/>
              </a:xfrm>
            </p:grpSpPr>
            <p:sp>
              <p:nvSpPr>
                <p:cNvPr id="220" name="Line 24"/>
                <p:cNvSpPr/>
                <p:nvPr/>
              </p:nvSpPr>
              <p:spPr>
                <a:xfrm>
                  <a:off x="7491960" y="2141280"/>
                  <a:ext cx="79200" cy="79200"/>
                </a:xfrm>
                <a:prstGeom prst="line">
                  <a:avLst/>
                </a:prstGeom>
                <a:ln w="285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0" bIns="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Line 23"/>
                <p:cNvSpPr/>
                <p:nvPr/>
              </p:nvSpPr>
              <p:spPr>
                <a:xfrm flipV="1">
                  <a:off x="7491960" y="2140920"/>
                  <a:ext cx="79200" cy="79560"/>
                </a:xfrm>
                <a:prstGeom prst="line">
                  <a:avLst/>
                </a:prstGeom>
                <a:ln w="285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0" bIns="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2" name="Line 21"/>
              <p:cNvSpPr/>
              <p:nvPr/>
            </p:nvSpPr>
            <p:spPr>
              <a:xfrm flipH="1">
                <a:off x="7016040" y="2220480"/>
                <a:ext cx="475920" cy="46512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Line 20"/>
              <p:cNvSpPr/>
              <p:nvPr/>
            </p:nvSpPr>
            <p:spPr>
              <a:xfrm flipH="1">
                <a:off x="7018200" y="2175840"/>
                <a:ext cx="509400" cy="6840"/>
              </a:xfrm>
              <a:prstGeom prst="line">
                <a:avLst/>
              </a:prstGeom>
              <a:ln w="9525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Line 19"/>
              <p:cNvSpPr/>
              <p:nvPr/>
            </p:nvSpPr>
            <p:spPr>
              <a:xfrm>
                <a:off x="7527600" y="2182680"/>
                <a:ext cx="3240" cy="532800"/>
              </a:xfrm>
              <a:prstGeom prst="line">
                <a:avLst/>
              </a:prstGeom>
              <a:ln w="9525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5" name="Group 11"/>
            <p:cNvGrpSpPr/>
            <p:nvPr/>
          </p:nvGrpSpPr>
          <p:grpSpPr>
            <a:xfrm>
              <a:off x="7007760" y="2667960"/>
              <a:ext cx="555480" cy="573480"/>
              <a:chOff x="7007760" y="2667960"/>
              <a:chExt cx="555480" cy="573480"/>
            </a:xfrm>
          </p:grpSpPr>
          <p:grpSp>
            <p:nvGrpSpPr>
              <p:cNvPr id="226" name="Group 15"/>
              <p:cNvGrpSpPr/>
              <p:nvPr/>
            </p:nvGrpSpPr>
            <p:grpSpPr>
              <a:xfrm>
                <a:off x="7483680" y="3162240"/>
                <a:ext cx="79560" cy="79200"/>
                <a:chOff x="7483680" y="3162240"/>
                <a:chExt cx="79560" cy="79200"/>
              </a:xfrm>
            </p:grpSpPr>
            <p:sp>
              <p:nvSpPr>
                <p:cNvPr id="227" name="Line 17"/>
                <p:cNvSpPr/>
                <p:nvPr/>
              </p:nvSpPr>
              <p:spPr>
                <a:xfrm flipV="1">
                  <a:off x="7483680" y="3162240"/>
                  <a:ext cx="79560" cy="79200"/>
                </a:xfrm>
                <a:prstGeom prst="line">
                  <a:avLst/>
                </a:prstGeom>
                <a:ln w="285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0" bIns="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Line 16"/>
                <p:cNvSpPr/>
                <p:nvPr/>
              </p:nvSpPr>
              <p:spPr>
                <a:xfrm>
                  <a:off x="7483680" y="3162240"/>
                  <a:ext cx="79200" cy="79200"/>
                </a:xfrm>
                <a:prstGeom prst="line">
                  <a:avLst/>
                </a:prstGeom>
                <a:ln w="2857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0" bIns="0" anchor="t" anchorCtr="1">
                  <a:noAutofit/>
                </a:bodyPr>
                <a:p>
                  <a:endParaRPr b="0" lang="ru-RU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9" name="Line 14"/>
              <p:cNvSpPr/>
              <p:nvPr/>
            </p:nvSpPr>
            <p:spPr>
              <a:xfrm flipH="1" flipV="1">
                <a:off x="7007760" y="2697840"/>
                <a:ext cx="475920" cy="464400"/>
              </a:xfrm>
              <a:prstGeom prst="line">
                <a:avLst/>
              </a:prstGeom>
              <a:ln w="285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3"/>
              <p:cNvSpPr/>
              <p:nvPr/>
            </p:nvSpPr>
            <p:spPr>
              <a:xfrm flipH="1" flipV="1">
                <a:off x="7009920" y="3199680"/>
                <a:ext cx="509400" cy="7200"/>
              </a:xfrm>
              <a:prstGeom prst="line">
                <a:avLst/>
              </a:prstGeom>
              <a:ln w="9525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2"/>
              <p:cNvSpPr/>
              <p:nvPr/>
            </p:nvSpPr>
            <p:spPr>
              <a:xfrm flipV="1">
                <a:off x="7519320" y="2667960"/>
                <a:ext cx="3600" cy="531720"/>
              </a:xfrm>
              <a:prstGeom prst="line">
                <a:avLst/>
              </a:prstGeom>
              <a:ln w="9525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2" name="Text Box 10"/>
            <p:cNvSpPr/>
            <p:nvPr/>
          </p:nvSpPr>
          <p:spPr>
            <a:xfrm>
              <a:off x="7174800" y="2458800"/>
              <a:ext cx="2898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Symbol"/>
                  <a:ea typeface="Times New Roman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7333200" y="1982520"/>
              <a:ext cx="263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</a:t>
              </a:r>
              <a:r>
                <a:rPr b="0" lang="ru-RU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"/>
            <p:cNvSpPr/>
            <p:nvPr/>
          </p:nvSpPr>
          <p:spPr>
            <a:xfrm>
              <a:off x="7328520" y="3237480"/>
              <a:ext cx="2624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</a:t>
              </a:r>
              <a:r>
                <a:rPr b="0" lang="ru-RU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7296480" y="2414160"/>
              <a:ext cx="129240" cy="282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10" h="540">
                  <a:moveTo>
                    <a:pt x="180" y="540"/>
                  </a:moveTo>
                  <a:cubicBezTo>
                    <a:pt x="195" y="405"/>
                    <a:pt x="210" y="270"/>
                    <a:pt x="180" y="180"/>
                  </a:cubicBezTo>
                  <a:cubicBezTo>
                    <a:pt x="150" y="90"/>
                    <a:pt x="30" y="30"/>
                    <a:pt x="0" y="0"/>
                  </a:cubicBezTo>
                </a:path>
              </a:pathLst>
            </a:custGeom>
            <a:noFill/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 Box 6"/>
            <p:cNvSpPr/>
            <p:nvPr/>
          </p:nvSpPr>
          <p:spPr>
            <a:xfrm>
              <a:off x="6619680" y="3093480"/>
              <a:ext cx="3171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</a:t>
              </a:r>
              <a:r>
                <a:rPr b="0" lang="ru-RU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"/>
            <p:cNvSpPr/>
            <p:nvPr/>
          </p:nvSpPr>
          <p:spPr>
            <a:xfrm>
              <a:off x="6619680" y="2062080"/>
              <a:ext cx="31608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</a:t>
              </a:r>
              <a:r>
                <a:rPr b="0" lang="ru-RU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"/>
            <p:cNvSpPr/>
            <p:nvPr/>
          </p:nvSpPr>
          <p:spPr>
            <a:xfrm>
              <a:off x="7491960" y="2458800"/>
              <a:ext cx="3967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</a:t>
              </a:r>
              <a:r>
                <a:rPr b="0" lang="ru-RU" sz="1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5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Объект 37"/>
          <p:cNvGraphicFramePr/>
          <p:nvPr/>
        </p:nvGraphicFramePr>
        <p:xfrm>
          <a:off x="539640" y="1865160"/>
          <a:ext cx="3246120" cy="9568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41" name="Объект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865160"/>
                    <a:ext cx="3246120" cy="95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Прямоугольник 39"/>
          <p:cNvSpPr/>
          <p:nvPr/>
        </p:nvSpPr>
        <p:spPr>
          <a:xfrm>
            <a:off x="0" y="-10800"/>
            <a:ext cx="9352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истическ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40"/>
          <p:cNvSpPr/>
          <p:nvPr/>
        </p:nvSpPr>
        <p:spPr>
          <a:xfrm>
            <a:off x="48240" y="1340640"/>
            <a:ext cx="9352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Объект 41"/>
          <p:cNvGraphicFramePr/>
          <p:nvPr/>
        </p:nvGraphicFramePr>
        <p:xfrm>
          <a:off x="323640" y="4452840"/>
          <a:ext cx="5088600" cy="92088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46" name="Объект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640" y="4452840"/>
                    <a:ext cx="50886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5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Объект 43"/>
          <p:cNvGraphicFramePr/>
          <p:nvPr/>
        </p:nvGraphicFramePr>
        <p:xfrm>
          <a:off x="539640" y="2997000"/>
          <a:ext cx="3686040" cy="136764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49" name="Объект 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2997000"/>
                    <a:ext cx="3686040" cy="13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Picture 65" descr=""/>
          <p:cNvPicPr/>
          <p:nvPr/>
        </p:nvPicPr>
        <p:blipFill>
          <a:blip r:embed="rId9"/>
          <a:stretch/>
        </p:blipFill>
        <p:spPr>
          <a:xfrm>
            <a:off x="5674320" y="4216680"/>
            <a:ext cx="2999880" cy="2314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9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Объект 45"/>
          <p:cNvGraphicFramePr/>
          <p:nvPr/>
        </p:nvGraphicFramePr>
        <p:xfrm>
          <a:off x="1569960" y="5459400"/>
          <a:ext cx="2258640" cy="1107720"/>
        </p:xfrm>
        <a:graphic>
          <a:graphicData uri="http://schemas.openxmlformats.org/presentationml/2006/ole">
            <p:oleObj progId="Equation.3" r:id="rId10" spid="">
              <p:embed/>
              <p:pic>
                <p:nvPicPr>
                  <p:cNvPr id="253" name="Объект 4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69960" y="5459400"/>
                    <a:ext cx="2258640" cy="11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0" y="-10800"/>
            <a:ext cx="9352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и Бокса и Дженкинса (1770-1869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??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Объект 3"/>
          <p:cNvGraphicFramePr/>
          <p:nvPr/>
        </p:nvGraphicFramePr>
        <p:xfrm>
          <a:off x="323640" y="775440"/>
          <a:ext cx="5938920" cy="63720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5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640" y="775440"/>
                    <a:ext cx="5938920" cy="6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Объект 5"/>
          <p:cNvGraphicFramePr/>
          <p:nvPr/>
        </p:nvGraphicFramePr>
        <p:xfrm>
          <a:off x="323640" y="1412640"/>
          <a:ext cx="6867360" cy="56232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60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640" y="1412640"/>
                    <a:ext cx="6867360" cy="5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Объект 7"/>
          <p:cNvGraphicFramePr/>
          <p:nvPr/>
        </p:nvGraphicFramePr>
        <p:xfrm>
          <a:off x="7443360" y="981360"/>
          <a:ext cx="1677600" cy="515520"/>
        </p:xfrm>
        <a:graphic>
          <a:graphicData uri="http://schemas.openxmlformats.org/presentationml/2006/ole">
            <p:oleObj progId="Equation.3" r:id="rId5" spid="">
              <p:embed/>
              <p:pic>
                <p:nvPicPr>
                  <p:cNvPr id="262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43360" y="981360"/>
                    <a:ext cx="1677600" cy="51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Объект 8"/>
          <p:cNvGraphicFramePr/>
          <p:nvPr/>
        </p:nvGraphicFramePr>
        <p:xfrm>
          <a:off x="7491240" y="1629000"/>
          <a:ext cx="1677600" cy="515520"/>
        </p:xfrm>
        <a:graphic>
          <a:graphicData uri="http://schemas.openxmlformats.org/presentationml/2006/ole">
            <p:oleObj progId="Equation.3" r:id="rId7" spid="">
              <p:embed/>
              <p:pic>
                <p:nvPicPr>
                  <p:cNvPr id="264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91240" y="1629000"/>
                    <a:ext cx="1677600" cy="51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Таблица 6"/>
          <p:cNvGraphicFramePr/>
          <p:nvPr/>
        </p:nvGraphicFramePr>
        <p:xfrm>
          <a:off x="323640" y="2349000"/>
          <a:ext cx="6840360" cy="4248000"/>
        </p:xfrm>
        <a:graphic>
          <a:graphicData uri="http://schemas.openxmlformats.org/drawingml/2006/table">
            <a:tbl>
              <a:tblPr/>
              <a:tblGrid>
                <a:gridCol w="709560"/>
                <a:gridCol w="875520"/>
                <a:gridCol w="875520"/>
                <a:gridCol w="875520"/>
                <a:gridCol w="875520"/>
                <a:gridCol w="875520"/>
                <a:gridCol w="875520"/>
                <a:gridCol w="875520"/>
              </a:tblGrid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(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(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8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3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2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6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4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4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4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4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1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0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3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2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71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K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266" name="Прямоугольник 9"/>
          <p:cNvSpPr/>
          <p:nvPr/>
        </p:nvSpPr>
        <p:spPr>
          <a:xfrm>
            <a:off x="3431880" y="476640"/>
            <a:ext cx="180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ноз на 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Таблица 1"/>
          <p:cNvGraphicFramePr/>
          <p:nvPr/>
        </p:nvGraphicFramePr>
        <p:xfrm>
          <a:off x="1475640" y="512640"/>
          <a:ext cx="5951880" cy="3096000"/>
        </p:xfrm>
        <a:graphic>
          <a:graphicData uri="http://schemas.openxmlformats.org/drawingml/2006/table">
            <a:tbl>
              <a:tblPr/>
              <a:tblGrid>
                <a:gridCol w="2003760"/>
                <a:gridCol w="904680"/>
                <a:gridCol w="1015200"/>
                <a:gridCol w="1014120"/>
                <a:gridCol w="1014120"/>
              </a:tblGrid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P(2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1,a8,a15,a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0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2,a9,a16,a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0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3,a10,a17,a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0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4,a11,a18,a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5,a12,a19,a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3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1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6,a13,a20,a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7,a14,a21,a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1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.1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K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8" name="Прямоугольник 3"/>
          <p:cNvSpPr/>
          <p:nvPr/>
        </p:nvSpPr>
        <p:spPr>
          <a:xfrm>
            <a:off x="0" y="-10800"/>
            <a:ext cx="9352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ноз на 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Диаграмма 4"/>
          <p:cNvGraphicFramePr/>
          <p:nvPr/>
        </p:nvGraphicFramePr>
        <p:xfrm>
          <a:off x="1547640" y="3833640"/>
          <a:ext cx="4968360" cy="30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Диаграмма 2"/>
          <p:cNvGraphicFramePr/>
          <p:nvPr/>
        </p:nvGraphicFramePr>
        <p:xfrm>
          <a:off x="179640" y="1849680"/>
          <a:ext cx="5895720" cy="3571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228360" y="1845000"/>
            <a:ext cx="2773080" cy="3573000"/>
          </a:xfrm>
          <a:prstGeom prst="rect">
            <a:avLst/>
          </a:prstGeom>
          <a:ln w="0">
            <a:noFill/>
          </a:ln>
        </p:spPr>
      </p:pic>
      <p:cxnSp>
        <p:nvCxnSpPr>
          <p:cNvPr id="272" name="Прямая соединительная линия 4"/>
          <p:cNvCxnSpPr/>
          <p:nvPr/>
        </p:nvCxnSpPr>
        <p:spPr>
          <a:xfrm>
            <a:off x="2267640" y="6589800"/>
            <a:ext cx="576360" cy="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273" name="Прямая соединительная линия 6"/>
          <p:cNvCxnSpPr/>
          <p:nvPr/>
        </p:nvCxnSpPr>
        <p:spPr>
          <a:xfrm>
            <a:off x="4355640" y="6597000"/>
            <a:ext cx="576720" cy="3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274" name="Прямоугольник 7"/>
          <p:cNvSpPr/>
          <p:nvPr/>
        </p:nvSpPr>
        <p:spPr>
          <a:xfrm>
            <a:off x="5076360" y="6359040"/>
            <a:ext cx="1583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ог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2843640" y="6359040"/>
            <a:ext cx="136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ф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9"/>
          <p:cNvSpPr/>
          <p:nvPr/>
        </p:nvSpPr>
        <p:spPr>
          <a:xfrm>
            <a:off x="3506040" y="188640"/>
            <a:ext cx="933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186920" y="1917000"/>
            <a:ext cx="7386120" cy="3600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"/>
          <p:cNvSpPr/>
          <p:nvPr/>
        </p:nvSpPr>
        <p:spPr>
          <a:xfrm>
            <a:off x="2450520" y="188640"/>
            <a:ext cx="3044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 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Объект 2"/>
          <p:cNvGraphicFramePr/>
          <p:nvPr/>
        </p:nvGraphicFramePr>
        <p:xfrm>
          <a:off x="1152360" y="764640"/>
          <a:ext cx="7315920" cy="10796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28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764640"/>
                    <a:ext cx="7315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" name="Объект 4"/>
          <p:cNvGraphicFramePr/>
          <p:nvPr/>
        </p:nvGraphicFramePr>
        <p:xfrm>
          <a:off x="251640" y="2781000"/>
          <a:ext cx="2376000" cy="27316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28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640" y="2781000"/>
                    <a:ext cx="2376000" cy="27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Диаграмма 6"/>
          <p:cNvGraphicFramePr/>
          <p:nvPr/>
        </p:nvGraphicFramePr>
        <p:xfrm>
          <a:off x="3204000" y="2709000"/>
          <a:ext cx="5733000" cy="39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sp>
        <p:nvSpPr>
          <p:cNvPr id="286" name="Прямоугольник 7"/>
          <p:cNvSpPr/>
          <p:nvPr/>
        </p:nvSpPr>
        <p:spPr>
          <a:xfrm>
            <a:off x="2267640" y="9720"/>
            <a:ext cx="5332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 среднесрочного прогноз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8" name="Объект 9"/>
          <p:cNvGraphicFramePr/>
          <p:nvPr/>
        </p:nvGraphicFramePr>
        <p:xfrm>
          <a:off x="3348000" y="1917000"/>
          <a:ext cx="5474160" cy="79380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289" name="Объект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48000" y="1917000"/>
                    <a:ext cx="54741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Таблица 5"/>
          <p:cNvGraphicFramePr/>
          <p:nvPr/>
        </p:nvGraphicFramePr>
        <p:xfrm>
          <a:off x="2627640" y="1989000"/>
          <a:ext cx="480240" cy="4569120"/>
        </p:xfrm>
        <a:graphic>
          <a:graphicData uri="http://schemas.openxmlformats.org/drawingml/2006/table">
            <a:tbl>
              <a:tblPr/>
              <a:tblGrid>
                <a:gridCol w="480600"/>
              </a:tblGrid>
              <a:tr h="159120">
                <a:tc>
                  <a:txBody>
                    <a:bodyPr lIns="54000" rIns="54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δ</a:t>
                      </a:r>
                      <a:r>
                        <a:rPr b="1" lang="en-US" sz="900" spc="-1" strike="noStrike" baseline="-25000">
                          <a:solidFill>
                            <a:schemeClr val="lt1"/>
                          </a:solidFill>
                          <a:latin typeface="Calibri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666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666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,3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08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,0708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08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5782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08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0821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08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-0,25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366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-0,384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366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-0,340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366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-0,202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366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-0,050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08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0611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08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111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08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1068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0880">
                <a:tc>
                  <a:txBody>
                    <a:bodyPr lIns="54000" rIns="54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ru-RU" sz="9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0694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Таблица 1"/>
          <p:cNvGraphicFramePr/>
          <p:nvPr/>
        </p:nvGraphicFramePr>
        <p:xfrm>
          <a:off x="395640" y="1412640"/>
          <a:ext cx="4014360" cy="4067640"/>
        </p:xfrm>
        <a:graphic>
          <a:graphicData uri="http://schemas.openxmlformats.org/drawingml/2006/table">
            <a:tbl>
              <a:tblPr/>
              <a:tblGrid>
                <a:gridCol w="1182600"/>
                <a:gridCol w="860040"/>
                <a:gridCol w="1110960"/>
                <a:gridCol w="860040"/>
              </a:tblGrid>
              <a:tr h="31284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-й ци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-й ци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9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9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9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99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2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2" name="Диаграмма 2"/>
          <p:cNvGraphicFramePr/>
          <p:nvPr/>
        </p:nvGraphicFramePr>
        <p:xfrm>
          <a:off x="4635360" y="1628640"/>
          <a:ext cx="4488120" cy="3699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93" name="Прямоугольник 3"/>
          <p:cNvSpPr/>
          <p:nvPr/>
        </p:nvSpPr>
        <p:spPr>
          <a:xfrm>
            <a:off x="2627640" y="153360"/>
            <a:ext cx="3182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3-й и 24-й цик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1259640" y="44640"/>
            <a:ext cx="6379560" cy="122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251640" y="1127520"/>
            <a:ext cx="7387920" cy="103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3"/>
          <a:srcRect l="15960" t="52783" r="48551" b="31482"/>
          <a:stretch/>
        </p:blipFill>
        <p:spPr>
          <a:xfrm>
            <a:off x="28440" y="2161440"/>
            <a:ext cx="6619320" cy="2075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4"/>
          <a:srcRect l="49994" t="70486" r="13956" b="18591"/>
          <a:stretch/>
        </p:blipFill>
        <p:spPr>
          <a:xfrm>
            <a:off x="251640" y="4827600"/>
            <a:ext cx="7453440" cy="1603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"/>
          <p:cNvPicPr/>
          <p:nvPr/>
        </p:nvPicPr>
        <p:blipFill>
          <a:blip r:embed="rId5"/>
          <a:srcRect l="49994" t="56079" r="13956" b="40764"/>
          <a:stretch/>
        </p:blipFill>
        <p:spPr>
          <a:xfrm>
            <a:off x="377280" y="4385520"/>
            <a:ext cx="6619320" cy="4100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8028000" y="39996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6378480" y="2508480"/>
            <a:ext cx="2765160" cy="1674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199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max 23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23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73,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Диаграмма 6"/>
          <p:cNvGraphicFramePr/>
          <p:nvPr/>
        </p:nvGraphicFramePr>
        <p:xfrm>
          <a:off x="4644000" y="1196640"/>
          <a:ext cx="4104000" cy="2598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302" name="Диаграмма 10"/>
          <p:cNvGraphicFramePr/>
          <p:nvPr/>
        </p:nvGraphicFramePr>
        <p:xfrm>
          <a:off x="179640" y="1196640"/>
          <a:ext cx="4571640" cy="554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03" name="Диаграмма 12"/>
          <p:cNvGraphicFramePr/>
          <p:nvPr/>
        </p:nvGraphicFramePr>
        <p:xfrm>
          <a:off x="4716000" y="3789000"/>
          <a:ext cx="4067280" cy="27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304" name="Прямоугольник 4"/>
          <p:cNvSpPr/>
          <p:nvPr/>
        </p:nvSpPr>
        <p:spPr>
          <a:xfrm>
            <a:off x="2843640" y="153360"/>
            <a:ext cx="2678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ий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http://www.sidc.be/images/wolfaml.png"/>
          <p:cNvPicPr/>
          <p:nvPr/>
        </p:nvPicPr>
        <p:blipFill>
          <a:blip r:embed="rId1"/>
          <a:stretch/>
        </p:blipFill>
        <p:spPr>
          <a:xfrm>
            <a:off x="0" y="260640"/>
            <a:ext cx="5328360" cy="6120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928120" y="950400"/>
            <a:ext cx="1865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4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й цик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932080" y="1687680"/>
            <a:ext cx="23515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113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= 2014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5010120" y="2780640"/>
            <a:ext cx="3954240" cy="36874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3414600" y="6381360"/>
            <a:ext cx="318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d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ls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lyssn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76040" y="1271880"/>
            <a:ext cx="4281120" cy="33094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1"/>
          <p:cNvSpPr/>
          <p:nvPr/>
        </p:nvSpPr>
        <p:spPr>
          <a:xfrm>
            <a:off x="208800" y="846000"/>
            <a:ext cx="620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тный цикл ниже следующего нечетн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2180880" y="153360"/>
            <a:ext cx="627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а Оля-Гневышева и Капец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4716000" y="1307520"/>
            <a:ext cx="4427640" cy="324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Таблица 3"/>
          <p:cNvGraphicFramePr/>
          <p:nvPr/>
        </p:nvGraphicFramePr>
        <p:xfrm>
          <a:off x="614520" y="4941000"/>
          <a:ext cx="4533120" cy="1463760"/>
        </p:xfrm>
        <a:graphic>
          <a:graphicData uri="http://schemas.openxmlformats.org/drawingml/2006/table">
            <a:tbl>
              <a:tblPr/>
              <a:tblGrid>
                <a:gridCol w="995760"/>
                <a:gridCol w="625320"/>
                <a:gridCol w="811440"/>
                <a:gridCol w="811440"/>
                <a:gridCol w="1288440"/>
              </a:tblGrid>
              <a:tr h="623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KO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ровень значи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1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1"/>
          <p:cNvSpPr/>
          <p:nvPr/>
        </p:nvSpPr>
        <p:spPr>
          <a:xfrm>
            <a:off x="3232080" y="-44640"/>
            <a:ext cx="5227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Gleissberg 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2" descr=""/>
          <p:cNvPicPr/>
          <p:nvPr/>
        </p:nvPicPr>
        <p:blipFill>
          <a:blip r:embed="rId1"/>
          <a:stretch/>
        </p:blipFill>
        <p:spPr>
          <a:xfrm>
            <a:off x="0" y="1628640"/>
            <a:ext cx="5097600" cy="23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Диаграмма 4"/>
          <p:cNvGraphicFramePr/>
          <p:nvPr/>
        </p:nvGraphicFramePr>
        <p:xfrm>
          <a:off x="11520" y="4173120"/>
          <a:ext cx="4571640" cy="27237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313" name="Таблица 5"/>
          <p:cNvGraphicFramePr/>
          <p:nvPr/>
        </p:nvGraphicFramePr>
        <p:xfrm>
          <a:off x="4837680" y="908640"/>
          <a:ext cx="3982680" cy="2659680"/>
        </p:xfrm>
        <a:graphic>
          <a:graphicData uri="http://schemas.openxmlformats.org/drawingml/2006/table">
            <a:tbl>
              <a:tblPr/>
              <a:tblGrid>
                <a:gridCol w="1506240"/>
                <a:gridCol w="1236960"/>
                <a:gridCol w="1239480"/>
              </a:tblGrid>
              <a:tr h="4435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a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35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-0,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9,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435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2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,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8480"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9,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48480"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8480"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4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8234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14" name="Прямоугольник 6"/>
          <p:cNvSpPr/>
          <p:nvPr/>
        </p:nvSpPr>
        <p:spPr>
          <a:xfrm>
            <a:off x="5276880" y="3573000"/>
            <a:ext cx="3615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KO Wmax = 38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KO e = 39,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Т=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Н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KO e =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5,8; Т=7 (Ю-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Объект 7"/>
          <p:cNvGraphicFramePr/>
          <p:nvPr/>
        </p:nvGraphicFramePr>
        <p:xfrm>
          <a:off x="5109120" y="4653000"/>
          <a:ext cx="2937240" cy="107928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16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9120" y="4653000"/>
                    <a:ext cx="29372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Таблица 8"/>
          <p:cNvGraphicFramePr/>
          <p:nvPr/>
        </p:nvGraphicFramePr>
        <p:xfrm>
          <a:off x="4819680" y="5760000"/>
          <a:ext cx="4000320" cy="98136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000080"/>
                <a:gridCol w="1000080"/>
              </a:tblGrid>
              <a:tr h="16164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61640"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0,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318" name="Прямоугольник 10"/>
          <p:cNvSpPr/>
          <p:nvPr/>
        </p:nvSpPr>
        <p:spPr>
          <a:xfrm>
            <a:off x="0" y="4788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eissberg (19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cia and Mouradian (199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thaway et al. 199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zelot,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gurtsov et a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1"/>
          <p:cNvSpPr/>
          <p:nvPr/>
        </p:nvSpPr>
        <p:spPr>
          <a:xfrm>
            <a:off x="1963800" y="-27360"/>
            <a:ext cx="3614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з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3960" y="476640"/>
            <a:ext cx="9038520" cy="3493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0" y="3970440"/>
            <a:ext cx="9034560" cy="28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2680" y="577800"/>
            <a:ext cx="4427640" cy="3238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4644000" y="548640"/>
            <a:ext cx="4514040" cy="3273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3"/>
          <a:stretch/>
        </p:blipFill>
        <p:spPr>
          <a:xfrm>
            <a:off x="22680" y="3816360"/>
            <a:ext cx="4427640" cy="2866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4"/>
          <a:stretch/>
        </p:blipFill>
        <p:spPr>
          <a:xfrm>
            <a:off x="4716000" y="3786480"/>
            <a:ext cx="4320000" cy="289512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5"/>
          <p:cNvSpPr/>
          <p:nvPr/>
        </p:nvSpPr>
        <p:spPr>
          <a:xfrm>
            <a:off x="1963800" y="-27360"/>
            <a:ext cx="3614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з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Таблица 1"/>
          <p:cNvGraphicFramePr/>
          <p:nvPr/>
        </p:nvGraphicFramePr>
        <p:xfrm>
          <a:off x="395640" y="1412640"/>
          <a:ext cx="8136720" cy="1933200"/>
        </p:xfrm>
        <a:graphic>
          <a:graphicData uri="http://schemas.openxmlformats.org/drawingml/2006/table">
            <a:tbl>
              <a:tblPr/>
              <a:tblGrid>
                <a:gridCol w="2366640"/>
                <a:gridCol w="917640"/>
                <a:gridCol w="784080"/>
                <a:gridCol w="1175040"/>
                <a:gridCol w="1306800"/>
                <a:gridCol w="1585800"/>
              </a:tblGrid>
              <a:tr h="966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CKO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t-крите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тъюд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ровень значимости, 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</a:t>
                      </a:r>
                      <a:r>
                        <a:rPr b="0" lang="en-US" sz="20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ax</a:t>
                      </a: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F</a:t>
                      </a: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(1-2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8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W</a:t>
                      </a:r>
                      <a:r>
                        <a:rPr b="0" lang="en-US" sz="2000" spc="-1" strike="noStrike" baseline="-25000">
                          <a:solidFill>
                            <a:schemeClr val="dk1"/>
                          </a:solidFill>
                          <a:latin typeface="Calibri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F </a:t>
                      </a: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9-2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-0,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,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328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0" name="Объект 5"/>
          <p:cNvGraphicFramePr/>
          <p:nvPr/>
        </p:nvGraphicFramePr>
        <p:xfrm>
          <a:off x="3060000" y="4365000"/>
          <a:ext cx="1790280" cy="59184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3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000" y="4365000"/>
                    <a:ext cx="179028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3" name="Объект 7"/>
          <p:cNvGraphicFramePr/>
          <p:nvPr/>
        </p:nvGraphicFramePr>
        <p:xfrm>
          <a:off x="2555640" y="3717000"/>
          <a:ext cx="4961160" cy="575640"/>
        </p:xfrm>
        <a:graphic>
          <a:graphicData uri="http://schemas.openxmlformats.org/presentationml/2006/ole">
            <p:oleObj progId="Equation.3" r:id="rId3" spid="">
              <p:embed/>
              <p:pic>
                <p:nvPicPr>
                  <p:cNvPr id="334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5640" y="3717000"/>
                    <a:ext cx="4961160" cy="5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Прямоугольник 8"/>
          <p:cNvSpPr/>
          <p:nvPr/>
        </p:nvSpPr>
        <p:spPr>
          <a:xfrm>
            <a:off x="2028600" y="-27360"/>
            <a:ext cx="5716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мость связ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з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415440" y="692640"/>
            <a:ext cx="6152760" cy="551448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1933560" y="-27360"/>
            <a:ext cx="520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m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ф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ая прямоугольная выноска 4"/>
          <p:cNvSpPr/>
          <p:nvPr/>
        </p:nvSpPr>
        <p:spPr>
          <a:xfrm>
            <a:off x="2577600" y="2205000"/>
            <a:ext cx="914040" cy="612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chemeClr val="bg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Группа 5"/>
          <p:cNvGrpSpPr/>
          <p:nvPr/>
        </p:nvGrpSpPr>
        <p:grpSpPr>
          <a:xfrm>
            <a:off x="2719440" y="2856960"/>
            <a:ext cx="1440000" cy="1944000"/>
            <a:chOff x="2719440" y="2856960"/>
            <a:chExt cx="1440000" cy="1944000"/>
          </a:xfrm>
        </p:grpSpPr>
        <p:cxnSp>
          <p:nvCxnSpPr>
            <p:cNvPr id="340" name="Прямая соединительная линия 6"/>
            <p:cNvCxnSpPr/>
            <p:nvPr/>
          </p:nvCxnSpPr>
          <p:spPr>
            <a:xfrm>
              <a:off x="3021480" y="2964600"/>
              <a:ext cx="1138320" cy="360"/>
            </a:xfrm>
            <a:prstGeom prst="straightConnector1">
              <a:avLst/>
            </a:prstGeom>
            <a:ln w="28575">
              <a:solidFill>
                <a:srgbClr val="4a7ebb"/>
              </a:solidFill>
              <a:prstDash val="dash"/>
              <a:round/>
            </a:ln>
          </p:spPr>
        </p:cxnSp>
        <p:grpSp>
          <p:nvGrpSpPr>
            <p:cNvPr id="341" name="Группа 3"/>
            <p:cNvGrpSpPr/>
            <p:nvPr/>
          </p:nvGrpSpPr>
          <p:grpSpPr>
            <a:xfrm>
              <a:off x="2719440" y="2856960"/>
              <a:ext cx="215640" cy="1944000"/>
              <a:chOff x="2719440" y="2856960"/>
              <a:chExt cx="215640" cy="1944000"/>
            </a:xfrm>
          </p:grpSpPr>
          <p:sp>
            <p:nvSpPr>
              <p:cNvPr id="342" name="Овал 1"/>
              <p:cNvSpPr/>
              <p:nvPr/>
            </p:nvSpPr>
            <p:spPr>
              <a:xfrm>
                <a:off x="2719440" y="2856960"/>
                <a:ext cx="215640" cy="143640"/>
              </a:xfrm>
              <a:prstGeom prst="ellipse">
                <a:avLst/>
              </a:prstGeom>
              <a:solidFill>
                <a:srgbClr val="c00000"/>
              </a:solidFill>
              <a:ln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343" name="Прямая соединительная линия 9"/>
              <p:cNvCxnSpPr/>
              <p:nvPr/>
            </p:nvCxnSpPr>
            <p:spPr>
              <a:xfrm flipV="1">
                <a:off x="2827440" y="3116880"/>
                <a:ext cx="360" cy="1684440"/>
              </a:xfrm>
              <a:prstGeom prst="straightConnector1">
                <a:avLst/>
              </a:prstGeom>
              <a:ln w="28575">
                <a:solidFill>
                  <a:srgbClr val="4a7ebb"/>
                </a:solidFill>
                <a:prstDash val="dash"/>
                <a:round/>
              </a:ln>
            </p:spPr>
          </p:cxnSp>
        </p:grpSp>
      </p:grpSp>
      <p:sp>
        <p:nvSpPr>
          <p:cNvPr id="344" name="TextBox 12"/>
          <p:cNvSpPr/>
          <p:nvPr/>
        </p:nvSpPr>
        <p:spPr>
          <a:xfrm>
            <a:off x="4564440" y="4437000"/>
            <a:ext cx="318312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А (2006)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идько В.Н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8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фазе (2008) –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лекс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рит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(2012) 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.Н.Храм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.А.Красоткин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.В.Канонович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2001)-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4596480" y="4005000"/>
            <a:ext cx="2049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но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0"/>
          <p:cNvSpPr/>
          <p:nvPr/>
        </p:nvSpPr>
        <p:spPr>
          <a:xfrm>
            <a:off x="6657840" y="2016000"/>
            <a:ext cx="2378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ma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17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1"/>
          <p:cNvSpPr/>
          <p:nvPr/>
        </p:nvSpPr>
        <p:spPr>
          <a:xfrm>
            <a:off x="6657840" y="2851920"/>
            <a:ext cx="2473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0,8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3141360" y="96840"/>
            <a:ext cx="174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668880" y="764640"/>
            <a:ext cx="7388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Адекватных  одномерных моделей долгосрочного прогноза среднегодовых чисел Вольфа в литературе не найд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"/>
          <p:cNvSpPr/>
          <p:nvPr/>
        </p:nvSpPr>
        <p:spPr>
          <a:xfrm>
            <a:off x="680400" y="2149560"/>
            <a:ext cx="73886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 Линейные модели авторегрессии – скользящего среднего не позволяют прогнозировать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екватный прогноз,  возможно, может быть синтезирован на основе многомерных моделей, т.е. с учетом других физических характеристик 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251640" y="5021640"/>
            <a:ext cx="87127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СКО прогноза года и значения максимального среднегодового числа Вольфа в начале формирования текущего цикла составляют , соответств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sidc.be/silso/IMAGES/GRAPHICS/prediSCCM2.png"/>
          <p:cNvPicPr/>
          <p:nvPr/>
        </p:nvPicPr>
        <p:blipFill>
          <a:blip r:embed="rId1"/>
          <a:stretch/>
        </p:blipFill>
        <p:spPr>
          <a:xfrm>
            <a:off x="26640" y="2493000"/>
            <a:ext cx="9088920" cy="4131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467640" y="620640"/>
            <a:ext cx="80643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стоящее время работу по вычислению чисел Вольфа ведет Королевская обсерватория Бельгии. Таблицы и графики солнечной активности  с 1749 года (месячные) и с 1818 г. (суточные) по настоящее время регулярно размещаются на сайте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idc.oma.be/html/sunspot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Диаграмма 1" descr=""/>
          <p:cNvPicPr/>
          <p:nvPr/>
        </p:nvPicPr>
        <p:blipFill>
          <a:blip r:embed="rId1"/>
          <a:srcRect l="0" t="0" r="0" b="11044"/>
          <a:stretch/>
        </p:blipFill>
        <p:spPr>
          <a:xfrm>
            <a:off x="0" y="0"/>
            <a:ext cx="5714640" cy="313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107640" y="3285000"/>
            <a:ext cx="6095520" cy="3227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940000" y="315000"/>
            <a:ext cx="2885760" cy="2504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6195600" y="3627360"/>
            <a:ext cx="2838240" cy="25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sidc.be/images/wolfmms.png"/>
          <p:cNvPicPr/>
          <p:nvPr/>
        </p:nvPicPr>
        <p:blipFill>
          <a:blip r:embed="rId1"/>
          <a:stretch/>
        </p:blipFill>
        <p:spPr>
          <a:xfrm>
            <a:off x="0" y="1132200"/>
            <a:ext cx="914364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Диаграмма 4"/>
          <p:cNvGraphicFramePr/>
          <p:nvPr/>
        </p:nvGraphicFramePr>
        <p:xfrm>
          <a:off x="323640" y="1196640"/>
          <a:ext cx="8640720" cy="424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4788000" y="1484640"/>
            <a:ext cx="4248000" cy="40420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4861800" y="5527080"/>
            <a:ext cx="4174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ноз солнечной активности с заблаговременностью 123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у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Начало отсчета времени 20/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143640" y="1340640"/>
            <a:ext cx="4429080" cy="424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72720" y="525024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ноз солнечной активности с заблаговременностью 39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ут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тонкая линия) в сопоставлении с фактической кривой (жирная линия). Начало отсчета времени (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ут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соответствует 21/3/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43640" y="73080"/>
            <a:ext cx="8892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НОЗ СОЛНЕЧНОЙ И ГЕОМАГНИТНОЙ АКТИВНОСТИ НА ОСНО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А МАКРОСКОПИЧЕСКОЙ НЕЛОК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2144880" y="903960"/>
            <a:ext cx="421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О. Сердюк, С.М. Коротаев, Ю.В. Горо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226480" y="2205000"/>
            <a:ext cx="102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=1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689400" y="2277000"/>
            <a:ext cx="90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=5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500400" y="671760"/>
            <a:ext cx="3711240" cy="2963520"/>
          </a:xfrm>
          <a:prstGeom prst="rect">
            <a:avLst/>
          </a:prstGeom>
          <a:ln w="0">
            <a:noFill/>
          </a:ln>
        </p:spPr>
      </p:pic>
      <p:grpSp>
        <p:nvGrpSpPr>
          <p:cNvPr id="85" name="Группа 2"/>
          <p:cNvGrpSpPr/>
          <p:nvPr/>
        </p:nvGrpSpPr>
        <p:grpSpPr>
          <a:xfrm>
            <a:off x="478800" y="3774240"/>
            <a:ext cx="3781080" cy="3028680"/>
            <a:chOff x="478800" y="3774240"/>
            <a:chExt cx="3781080" cy="3028680"/>
          </a:xfrm>
        </p:grpSpPr>
        <p:pic>
          <p:nvPicPr>
            <p:cNvPr id="86" name="Рисунок 1" descr="ppic73"/>
            <p:cNvPicPr/>
            <p:nvPr/>
          </p:nvPicPr>
          <p:blipFill>
            <a:blip r:embed="rId2"/>
            <a:srcRect l="10421" t="66118" r="10019" b="1133"/>
            <a:stretch/>
          </p:blipFill>
          <p:spPr>
            <a:xfrm>
              <a:off x="478800" y="3774240"/>
              <a:ext cx="378108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1"/>
            <p:cNvSpPr/>
            <p:nvPr/>
          </p:nvSpPr>
          <p:spPr>
            <a:xfrm>
              <a:off x="3401280" y="4025520"/>
              <a:ext cx="644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4"/>
          <p:cNvGrpSpPr/>
          <p:nvPr/>
        </p:nvGrpSpPr>
        <p:grpSpPr>
          <a:xfrm>
            <a:off x="4977000" y="3760920"/>
            <a:ext cx="3783240" cy="2836080"/>
            <a:chOff x="4977000" y="3760920"/>
            <a:chExt cx="3783240" cy="2836080"/>
          </a:xfrm>
        </p:grpSpPr>
        <p:pic>
          <p:nvPicPr>
            <p:cNvPr id="89" name="Picture 4" descr="http://solarscience.msfc.nasa.gov/images/ssn_predict_l.gif"/>
            <p:cNvPicPr/>
            <p:nvPr/>
          </p:nvPicPr>
          <p:blipFill>
            <a:blip r:embed="rId3"/>
            <a:stretch/>
          </p:blipFill>
          <p:spPr>
            <a:xfrm>
              <a:off x="4977000" y="3760920"/>
              <a:ext cx="3783240" cy="28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3"/>
            <p:cNvSpPr/>
            <p:nvPr/>
          </p:nvSpPr>
          <p:spPr>
            <a:xfrm>
              <a:off x="7861320" y="3948480"/>
              <a:ext cx="644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Группа 6"/>
          <p:cNvGrpSpPr/>
          <p:nvPr/>
        </p:nvGrpSpPr>
        <p:grpSpPr>
          <a:xfrm>
            <a:off x="4887720" y="583560"/>
            <a:ext cx="3962160" cy="2923920"/>
            <a:chOff x="4887720" y="583560"/>
            <a:chExt cx="3962160" cy="2923920"/>
          </a:xfrm>
        </p:grpSpPr>
        <p:pic>
          <p:nvPicPr>
            <p:cNvPr id="92" name="Рисунок 1" descr="ppic73"/>
            <p:cNvPicPr/>
            <p:nvPr/>
          </p:nvPicPr>
          <p:blipFill>
            <a:blip r:embed="rId4"/>
            <a:srcRect l="9101" t="33676" r="7615" b="34704"/>
            <a:stretch/>
          </p:blipFill>
          <p:spPr>
            <a:xfrm>
              <a:off x="4887720" y="583560"/>
              <a:ext cx="3962160" cy="29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7806600" y="830520"/>
              <a:ext cx="644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7"/>
          <p:cNvSpPr/>
          <p:nvPr/>
        </p:nvSpPr>
        <p:spPr>
          <a:xfrm>
            <a:off x="3451680" y="82620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лилиния 9"/>
          <p:cNvSpPr/>
          <p:nvPr/>
        </p:nvSpPr>
        <p:spPr>
          <a:xfrm>
            <a:off x="2988000" y="1845000"/>
            <a:ext cx="1223640" cy="1236240"/>
          </a:xfrm>
          <a:custGeom>
            <a:avLst/>
            <a:gdLst>
              <a:gd name="textAreaLeft" fmla="*/ 0 w 1223640"/>
              <a:gd name="textAreaRight" fmla="*/ 1224000 w 1223640"/>
              <a:gd name="textAreaTop" fmla="*/ 0 h 1236240"/>
              <a:gd name="textAreaBottom" fmla="*/ 1236600 h 1236240"/>
            </a:gdLst>
            <a:ahLst/>
            <a:rect l="textAreaLeft" t="textAreaTop" r="textAreaRight" b="textAreaBottom"/>
            <a:pathLst>
              <a:path w="962091" h="948093">
                <a:moveTo>
                  <a:pt x="0" y="948093"/>
                </a:moveTo>
                <a:cubicBezTo>
                  <a:pt x="7937" y="943330"/>
                  <a:pt x="15533" y="937945"/>
                  <a:pt x="23812" y="933805"/>
                </a:cubicBezTo>
                <a:cubicBezTo>
                  <a:pt x="28302" y="931560"/>
                  <a:pt x="33610" y="931288"/>
                  <a:pt x="38100" y="929043"/>
                </a:cubicBezTo>
                <a:cubicBezTo>
                  <a:pt x="75037" y="910575"/>
                  <a:pt x="30754" y="926730"/>
                  <a:pt x="66675" y="914755"/>
                </a:cubicBezTo>
                <a:cubicBezTo>
                  <a:pt x="77209" y="904221"/>
                  <a:pt x="81987" y="897575"/>
                  <a:pt x="95250" y="890943"/>
                </a:cubicBezTo>
                <a:cubicBezTo>
                  <a:pt x="99740" y="888698"/>
                  <a:pt x="105149" y="888618"/>
                  <a:pt x="109537" y="886180"/>
                </a:cubicBezTo>
                <a:cubicBezTo>
                  <a:pt x="119544" y="880620"/>
                  <a:pt x="138112" y="867130"/>
                  <a:pt x="138112" y="867130"/>
                </a:cubicBezTo>
                <a:cubicBezTo>
                  <a:pt x="139700" y="862368"/>
                  <a:pt x="140090" y="857020"/>
                  <a:pt x="142875" y="852843"/>
                </a:cubicBezTo>
                <a:cubicBezTo>
                  <a:pt x="153313" y="837187"/>
                  <a:pt x="158269" y="840014"/>
                  <a:pt x="171450" y="829030"/>
                </a:cubicBezTo>
                <a:cubicBezTo>
                  <a:pt x="176624" y="824718"/>
                  <a:pt x="180563" y="819055"/>
                  <a:pt x="185737" y="814743"/>
                </a:cubicBezTo>
                <a:cubicBezTo>
                  <a:pt x="190134" y="811079"/>
                  <a:pt x="195628" y="808882"/>
                  <a:pt x="200025" y="805218"/>
                </a:cubicBezTo>
                <a:cubicBezTo>
                  <a:pt x="246842" y="766203"/>
                  <a:pt x="186370" y="814108"/>
                  <a:pt x="223837" y="776643"/>
                </a:cubicBezTo>
                <a:cubicBezTo>
                  <a:pt x="227885" y="772596"/>
                  <a:pt x="233362" y="770293"/>
                  <a:pt x="238125" y="767118"/>
                </a:cubicBezTo>
                <a:cubicBezTo>
                  <a:pt x="266145" y="725087"/>
                  <a:pt x="223167" y="792270"/>
                  <a:pt x="257175" y="724255"/>
                </a:cubicBezTo>
                <a:cubicBezTo>
                  <a:pt x="262999" y="712607"/>
                  <a:pt x="267809" y="701017"/>
                  <a:pt x="276225" y="690918"/>
                </a:cubicBezTo>
                <a:cubicBezTo>
                  <a:pt x="280537" y="685744"/>
                  <a:pt x="285750" y="681393"/>
                  <a:pt x="290512" y="676630"/>
                </a:cubicBezTo>
                <a:cubicBezTo>
                  <a:pt x="302486" y="640713"/>
                  <a:pt x="286332" y="684991"/>
                  <a:pt x="304800" y="648055"/>
                </a:cubicBezTo>
                <a:cubicBezTo>
                  <a:pt x="309905" y="637845"/>
                  <a:pt x="312152" y="619732"/>
                  <a:pt x="314325" y="609955"/>
                </a:cubicBezTo>
                <a:cubicBezTo>
                  <a:pt x="315745" y="603565"/>
                  <a:pt x="317289" y="597199"/>
                  <a:pt x="319087" y="590905"/>
                </a:cubicBezTo>
                <a:cubicBezTo>
                  <a:pt x="325468" y="568571"/>
                  <a:pt x="322492" y="582963"/>
                  <a:pt x="333375" y="557568"/>
                </a:cubicBezTo>
                <a:cubicBezTo>
                  <a:pt x="339551" y="543157"/>
                  <a:pt x="344026" y="516087"/>
                  <a:pt x="347662" y="505180"/>
                </a:cubicBezTo>
                <a:lnTo>
                  <a:pt x="352425" y="490893"/>
                </a:lnTo>
                <a:cubicBezTo>
                  <a:pt x="354012" y="475018"/>
                  <a:pt x="354761" y="459037"/>
                  <a:pt x="357187" y="443268"/>
                </a:cubicBezTo>
                <a:cubicBezTo>
                  <a:pt x="357950" y="438306"/>
                  <a:pt x="361352" y="433965"/>
                  <a:pt x="361950" y="428980"/>
                </a:cubicBezTo>
                <a:cubicBezTo>
                  <a:pt x="366128" y="394161"/>
                  <a:pt x="360385" y="357474"/>
                  <a:pt x="371475" y="324205"/>
                </a:cubicBezTo>
                <a:cubicBezTo>
                  <a:pt x="374650" y="314680"/>
                  <a:pt x="375431" y="303984"/>
                  <a:pt x="381000" y="295630"/>
                </a:cubicBezTo>
                <a:lnTo>
                  <a:pt x="390525" y="281343"/>
                </a:lnTo>
                <a:cubicBezTo>
                  <a:pt x="392112" y="276580"/>
                  <a:pt x="392502" y="271232"/>
                  <a:pt x="395287" y="267055"/>
                </a:cubicBezTo>
                <a:cubicBezTo>
                  <a:pt x="399023" y="261451"/>
                  <a:pt x="403551" y="255780"/>
                  <a:pt x="409575" y="252768"/>
                </a:cubicBezTo>
                <a:cubicBezTo>
                  <a:pt x="416815" y="249148"/>
                  <a:pt x="425534" y="249968"/>
                  <a:pt x="433387" y="248005"/>
                </a:cubicBezTo>
                <a:cubicBezTo>
                  <a:pt x="438257" y="246787"/>
                  <a:pt x="442912" y="244830"/>
                  <a:pt x="447675" y="243243"/>
                </a:cubicBezTo>
                <a:cubicBezTo>
                  <a:pt x="450850" y="238480"/>
                  <a:pt x="454640" y="234075"/>
                  <a:pt x="457200" y="228955"/>
                </a:cubicBezTo>
                <a:cubicBezTo>
                  <a:pt x="464644" y="214066"/>
                  <a:pt x="459099" y="210484"/>
                  <a:pt x="471487" y="195618"/>
                </a:cubicBezTo>
                <a:cubicBezTo>
                  <a:pt x="475151" y="191221"/>
                  <a:pt x="481012" y="189268"/>
                  <a:pt x="485775" y="186093"/>
                </a:cubicBezTo>
                <a:cubicBezTo>
                  <a:pt x="496887" y="187680"/>
                  <a:pt x="509642" y="184829"/>
                  <a:pt x="519112" y="190855"/>
                </a:cubicBezTo>
                <a:cubicBezTo>
                  <a:pt x="528770" y="197001"/>
                  <a:pt x="534542" y="208570"/>
                  <a:pt x="538162" y="219430"/>
                </a:cubicBezTo>
                <a:cubicBezTo>
                  <a:pt x="541337" y="228955"/>
                  <a:pt x="545252" y="238265"/>
                  <a:pt x="547687" y="248005"/>
                </a:cubicBezTo>
                <a:cubicBezTo>
                  <a:pt x="553668" y="271925"/>
                  <a:pt x="550380" y="260845"/>
                  <a:pt x="557212" y="281343"/>
                </a:cubicBezTo>
                <a:cubicBezTo>
                  <a:pt x="593133" y="269368"/>
                  <a:pt x="548850" y="285523"/>
                  <a:pt x="585787" y="267055"/>
                </a:cubicBezTo>
                <a:cubicBezTo>
                  <a:pt x="590277" y="264810"/>
                  <a:pt x="595312" y="263880"/>
                  <a:pt x="600075" y="262293"/>
                </a:cubicBezTo>
                <a:cubicBezTo>
                  <a:pt x="604837" y="263880"/>
                  <a:pt x="609342" y="267055"/>
                  <a:pt x="614362" y="267055"/>
                </a:cubicBezTo>
                <a:cubicBezTo>
                  <a:pt x="621810" y="267055"/>
                  <a:pt x="643357" y="254629"/>
                  <a:pt x="647700" y="252768"/>
                </a:cubicBezTo>
                <a:cubicBezTo>
                  <a:pt x="662947" y="246233"/>
                  <a:pt x="667899" y="247718"/>
                  <a:pt x="685800" y="243243"/>
                </a:cubicBezTo>
                <a:cubicBezTo>
                  <a:pt x="690670" y="242025"/>
                  <a:pt x="695325" y="240068"/>
                  <a:pt x="700087" y="238480"/>
                </a:cubicBezTo>
                <a:cubicBezTo>
                  <a:pt x="703262" y="225780"/>
                  <a:pt x="702350" y="211272"/>
                  <a:pt x="709612" y="200380"/>
                </a:cubicBezTo>
                <a:cubicBezTo>
                  <a:pt x="712787" y="195618"/>
                  <a:pt x="716577" y="191212"/>
                  <a:pt x="719137" y="186093"/>
                </a:cubicBezTo>
                <a:cubicBezTo>
                  <a:pt x="721382" y="181603"/>
                  <a:pt x="720764" y="175725"/>
                  <a:pt x="723900" y="171805"/>
                </a:cubicBezTo>
                <a:cubicBezTo>
                  <a:pt x="727476" y="167336"/>
                  <a:pt x="733425" y="165455"/>
                  <a:pt x="738187" y="162280"/>
                </a:cubicBezTo>
                <a:lnTo>
                  <a:pt x="747712" y="124180"/>
                </a:lnTo>
                <a:cubicBezTo>
                  <a:pt x="749300" y="117830"/>
                  <a:pt x="750405" y="111340"/>
                  <a:pt x="752475" y="105130"/>
                </a:cubicBezTo>
                <a:cubicBezTo>
                  <a:pt x="754062" y="100368"/>
                  <a:pt x="756019" y="95713"/>
                  <a:pt x="757237" y="90843"/>
                </a:cubicBezTo>
                <a:cubicBezTo>
                  <a:pt x="759200" y="82990"/>
                  <a:pt x="758380" y="74270"/>
                  <a:pt x="762000" y="67030"/>
                </a:cubicBezTo>
                <a:cubicBezTo>
                  <a:pt x="765012" y="61006"/>
                  <a:pt x="771904" y="57857"/>
                  <a:pt x="776287" y="52743"/>
                </a:cubicBezTo>
                <a:cubicBezTo>
                  <a:pt x="781453" y="46716"/>
                  <a:pt x="784962" y="39306"/>
                  <a:pt x="790575" y="33693"/>
                </a:cubicBezTo>
                <a:cubicBezTo>
                  <a:pt x="794622" y="29646"/>
                  <a:pt x="800465" y="27832"/>
                  <a:pt x="804862" y="24168"/>
                </a:cubicBezTo>
                <a:cubicBezTo>
                  <a:pt x="810036" y="19856"/>
                  <a:pt x="814387" y="14643"/>
                  <a:pt x="819150" y="9880"/>
                </a:cubicBezTo>
                <a:lnTo>
                  <a:pt x="847725" y="355"/>
                </a:lnTo>
                <a:cubicBezTo>
                  <a:pt x="852487" y="-1232"/>
                  <a:pt x="857522" y="2873"/>
                  <a:pt x="862012" y="5118"/>
                </a:cubicBezTo>
                <a:cubicBezTo>
                  <a:pt x="898933" y="23579"/>
                  <a:pt x="854684" y="7438"/>
                  <a:pt x="890587" y="19405"/>
                </a:cubicBezTo>
                <a:cubicBezTo>
                  <a:pt x="896937" y="28930"/>
                  <a:pt x="907392" y="36755"/>
                  <a:pt x="909637" y="47980"/>
                </a:cubicBezTo>
                <a:cubicBezTo>
                  <a:pt x="915523" y="77406"/>
                  <a:pt x="909910" y="65058"/>
                  <a:pt x="923925" y="86080"/>
                </a:cubicBezTo>
                <a:cubicBezTo>
                  <a:pt x="925512" y="90843"/>
                  <a:pt x="926442" y="95878"/>
                  <a:pt x="928687" y="100368"/>
                </a:cubicBezTo>
                <a:cubicBezTo>
                  <a:pt x="931247" y="105487"/>
                  <a:pt x="936202" y="109296"/>
                  <a:pt x="938212" y="114655"/>
                </a:cubicBezTo>
                <a:cubicBezTo>
                  <a:pt x="950964" y="148658"/>
                  <a:pt x="931385" y="130741"/>
                  <a:pt x="957262" y="147993"/>
                </a:cubicBezTo>
                <a:cubicBezTo>
                  <a:pt x="963029" y="165292"/>
                  <a:pt x="962025" y="167300"/>
                  <a:pt x="962025" y="152755"/>
                </a:cubicBezTo>
              </a:path>
            </a:pathLst>
          </a:custGeom>
          <a:noFill/>
          <a:ln w="57150">
            <a:solidFill>
              <a:srgbClr val="1f497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Полилиния 15"/>
          <p:cNvSpPr/>
          <p:nvPr/>
        </p:nvSpPr>
        <p:spPr>
          <a:xfrm>
            <a:off x="2627640" y="5013000"/>
            <a:ext cx="863640" cy="1235880"/>
          </a:xfrm>
          <a:custGeom>
            <a:avLst/>
            <a:gdLst>
              <a:gd name="textAreaLeft" fmla="*/ 0 w 863640"/>
              <a:gd name="textAreaRight" fmla="*/ 864000 w 863640"/>
              <a:gd name="textAreaTop" fmla="*/ 0 h 1235880"/>
              <a:gd name="textAreaBottom" fmla="*/ 1236240 h 1235880"/>
            </a:gdLst>
            <a:ahLst/>
            <a:rect l="textAreaLeft" t="textAreaTop" r="textAreaRight" b="textAreaBottom"/>
            <a:pathLst>
              <a:path w="962091" h="948093">
                <a:moveTo>
                  <a:pt x="0" y="948093"/>
                </a:moveTo>
                <a:cubicBezTo>
                  <a:pt x="7937" y="943330"/>
                  <a:pt x="15533" y="937945"/>
                  <a:pt x="23812" y="933805"/>
                </a:cubicBezTo>
                <a:cubicBezTo>
                  <a:pt x="28302" y="931560"/>
                  <a:pt x="33610" y="931288"/>
                  <a:pt x="38100" y="929043"/>
                </a:cubicBezTo>
                <a:cubicBezTo>
                  <a:pt x="75037" y="910575"/>
                  <a:pt x="30754" y="926730"/>
                  <a:pt x="66675" y="914755"/>
                </a:cubicBezTo>
                <a:cubicBezTo>
                  <a:pt x="77209" y="904221"/>
                  <a:pt x="81987" y="897575"/>
                  <a:pt x="95250" y="890943"/>
                </a:cubicBezTo>
                <a:cubicBezTo>
                  <a:pt x="99740" y="888698"/>
                  <a:pt x="105149" y="888618"/>
                  <a:pt x="109537" y="886180"/>
                </a:cubicBezTo>
                <a:cubicBezTo>
                  <a:pt x="119544" y="880620"/>
                  <a:pt x="138112" y="867130"/>
                  <a:pt x="138112" y="867130"/>
                </a:cubicBezTo>
                <a:cubicBezTo>
                  <a:pt x="139700" y="862368"/>
                  <a:pt x="140090" y="857020"/>
                  <a:pt x="142875" y="852843"/>
                </a:cubicBezTo>
                <a:cubicBezTo>
                  <a:pt x="153313" y="837187"/>
                  <a:pt x="158269" y="840014"/>
                  <a:pt x="171450" y="829030"/>
                </a:cubicBezTo>
                <a:cubicBezTo>
                  <a:pt x="176624" y="824718"/>
                  <a:pt x="180563" y="819055"/>
                  <a:pt x="185737" y="814743"/>
                </a:cubicBezTo>
                <a:cubicBezTo>
                  <a:pt x="190134" y="811079"/>
                  <a:pt x="195628" y="808882"/>
                  <a:pt x="200025" y="805218"/>
                </a:cubicBezTo>
                <a:cubicBezTo>
                  <a:pt x="246842" y="766203"/>
                  <a:pt x="186370" y="814108"/>
                  <a:pt x="223837" y="776643"/>
                </a:cubicBezTo>
                <a:cubicBezTo>
                  <a:pt x="227885" y="772596"/>
                  <a:pt x="233362" y="770293"/>
                  <a:pt x="238125" y="767118"/>
                </a:cubicBezTo>
                <a:cubicBezTo>
                  <a:pt x="266145" y="725087"/>
                  <a:pt x="223167" y="792270"/>
                  <a:pt x="257175" y="724255"/>
                </a:cubicBezTo>
                <a:cubicBezTo>
                  <a:pt x="262999" y="712607"/>
                  <a:pt x="267809" y="701017"/>
                  <a:pt x="276225" y="690918"/>
                </a:cubicBezTo>
                <a:cubicBezTo>
                  <a:pt x="280537" y="685744"/>
                  <a:pt x="285750" y="681393"/>
                  <a:pt x="290512" y="676630"/>
                </a:cubicBezTo>
                <a:cubicBezTo>
                  <a:pt x="302486" y="640713"/>
                  <a:pt x="286332" y="684991"/>
                  <a:pt x="304800" y="648055"/>
                </a:cubicBezTo>
                <a:cubicBezTo>
                  <a:pt x="309905" y="637845"/>
                  <a:pt x="312152" y="619732"/>
                  <a:pt x="314325" y="609955"/>
                </a:cubicBezTo>
                <a:cubicBezTo>
                  <a:pt x="315745" y="603565"/>
                  <a:pt x="317289" y="597199"/>
                  <a:pt x="319087" y="590905"/>
                </a:cubicBezTo>
                <a:cubicBezTo>
                  <a:pt x="325468" y="568571"/>
                  <a:pt x="322492" y="582963"/>
                  <a:pt x="333375" y="557568"/>
                </a:cubicBezTo>
                <a:cubicBezTo>
                  <a:pt x="339551" y="543157"/>
                  <a:pt x="344026" y="516087"/>
                  <a:pt x="347662" y="505180"/>
                </a:cubicBezTo>
                <a:lnTo>
                  <a:pt x="352425" y="490893"/>
                </a:lnTo>
                <a:cubicBezTo>
                  <a:pt x="354012" y="475018"/>
                  <a:pt x="354761" y="459037"/>
                  <a:pt x="357187" y="443268"/>
                </a:cubicBezTo>
                <a:cubicBezTo>
                  <a:pt x="357950" y="438306"/>
                  <a:pt x="361352" y="433965"/>
                  <a:pt x="361950" y="428980"/>
                </a:cubicBezTo>
                <a:cubicBezTo>
                  <a:pt x="366128" y="394161"/>
                  <a:pt x="360385" y="357474"/>
                  <a:pt x="371475" y="324205"/>
                </a:cubicBezTo>
                <a:cubicBezTo>
                  <a:pt x="374650" y="314680"/>
                  <a:pt x="375431" y="303984"/>
                  <a:pt x="381000" y="295630"/>
                </a:cubicBezTo>
                <a:lnTo>
                  <a:pt x="390525" y="281343"/>
                </a:lnTo>
                <a:cubicBezTo>
                  <a:pt x="392112" y="276580"/>
                  <a:pt x="392502" y="271232"/>
                  <a:pt x="395287" y="267055"/>
                </a:cubicBezTo>
                <a:cubicBezTo>
                  <a:pt x="399023" y="261451"/>
                  <a:pt x="403551" y="255780"/>
                  <a:pt x="409575" y="252768"/>
                </a:cubicBezTo>
                <a:cubicBezTo>
                  <a:pt x="416815" y="249148"/>
                  <a:pt x="425534" y="249968"/>
                  <a:pt x="433387" y="248005"/>
                </a:cubicBezTo>
                <a:cubicBezTo>
                  <a:pt x="438257" y="246787"/>
                  <a:pt x="442912" y="244830"/>
                  <a:pt x="447675" y="243243"/>
                </a:cubicBezTo>
                <a:cubicBezTo>
                  <a:pt x="450850" y="238480"/>
                  <a:pt x="454640" y="234075"/>
                  <a:pt x="457200" y="228955"/>
                </a:cubicBezTo>
                <a:cubicBezTo>
                  <a:pt x="464644" y="214066"/>
                  <a:pt x="459099" y="210484"/>
                  <a:pt x="471487" y="195618"/>
                </a:cubicBezTo>
                <a:cubicBezTo>
                  <a:pt x="475151" y="191221"/>
                  <a:pt x="481012" y="189268"/>
                  <a:pt x="485775" y="186093"/>
                </a:cubicBezTo>
                <a:cubicBezTo>
                  <a:pt x="496887" y="187680"/>
                  <a:pt x="509642" y="184829"/>
                  <a:pt x="519112" y="190855"/>
                </a:cubicBezTo>
                <a:cubicBezTo>
                  <a:pt x="528770" y="197001"/>
                  <a:pt x="534542" y="208570"/>
                  <a:pt x="538162" y="219430"/>
                </a:cubicBezTo>
                <a:cubicBezTo>
                  <a:pt x="541337" y="228955"/>
                  <a:pt x="545252" y="238265"/>
                  <a:pt x="547687" y="248005"/>
                </a:cubicBezTo>
                <a:cubicBezTo>
                  <a:pt x="553668" y="271925"/>
                  <a:pt x="550380" y="260845"/>
                  <a:pt x="557212" y="281343"/>
                </a:cubicBezTo>
                <a:cubicBezTo>
                  <a:pt x="593133" y="269368"/>
                  <a:pt x="548850" y="285523"/>
                  <a:pt x="585787" y="267055"/>
                </a:cubicBezTo>
                <a:cubicBezTo>
                  <a:pt x="590277" y="264810"/>
                  <a:pt x="595312" y="263880"/>
                  <a:pt x="600075" y="262293"/>
                </a:cubicBezTo>
                <a:cubicBezTo>
                  <a:pt x="604837" y="263880"/>
                  <a:pt x="609342" y="267055"/>
                  <a:pt x="614362" y="267055"/>
                </a:cubicBezTo>
                <a:cubicBezTo>
                  <a:pt x="621810" y="267055"/>
                  <a:pt x="643357" y="254629"/>
                  <a:pt x="647700" y="252768"/>
                </a:cubicBezTo>
                <a:cubicBezTo>
                  <a:pt x="662947" y="246233"/>
                  <a:pt x="667899" y="247718"/>
                  <a:pt x="685800" y="243243"/>
                </a:cubicBezTo>
                <a:cubicBezTo>
                  <a:pt x="690670" y="242025"/>
                  <a:pt x="695325" y="240068"/>
                  <a:pt x="700087" y="238480"/>
                </a:cubicBezTo>
                <a:cubicBezTo>
                  <a:pt x="703262" y="225780"/>
                  <a:pt x="702350" y="211272"/>
                  <a:pt x="709612" y="200380"/>
                </a:cubicBezTo>
                <a:cubicBezTo>
                  <a:pt x="712787" y="195618"/>
                  <a:pt x="716577" y="191212"/>
                  <a:pt x="719137" y="186093"/>
                </a:cubicBezTo>
                <a:cubicBezTo>
                  <a:pt x="721382" y="181603"/>
                  <a:pt x="720764" y="175725"/>
                  <a:pt x="723900" y="171805"/>
                </a:cubicBezTo>
                <a:cubicBezTo>
                  <a:pt x="727476" y="167336"/>
                  <a:pt x="733425" y="165455"/>
                  <a:pt x="738187" y="162280"/>
                </a:cubicBezTo>
                <a:lnTo>
                  <a:pt x="747712" y="124180"/>
                </a:lnTo>
                <a:cubicBezTo>
                  <a:pt x="749300" y="117830"/>
                  <a:pt x="750405" y="111340"/>
                  <a:pt x="752475" y="105130"/>
                </a:cubicBezTo>
                <a:cubicBezTo>
                  <a:pt x="754062" y="100368"/>
                  <a:pt x="756019" y="95713"/>
                  <a:pt x="757237" y="90843"/>
                </a:cubicBezTo>
                <a:cubicBezTo>
                  <a:pt x="759200" y="82990"/>
                  <a:pt x="758380" y="74270"/>
                  <a:pt x="762000" y="67030"/>
                </a:cubicBezTo>
                <a:cubicBezTo>
                  <a:pt x="765012" y="61006"/>
                  <a:pt x="771904" y="57857"/>
                  <a:pt x="776287" y="52743"/>
                </a:cubicBezTo>
                <a:cubicBezTo>
                  <a:pt x="781453" y="46716"/>
                  <a:pt x="784962" y="39306"/>
                  <a:pt x="790575" y="33693"/>
                </a:cubicBezTo>
                <a:cubicBezTo>
                  <a:pt x="794622" y="29646"/>
                  <a:pt x="800465" y="27832"/>
                  <a:pt x="804862" y="24168"/>
                </a:cubicBezTo>
                <a:cubicBezTo>
                  <a:pt x="810036" y="19856"/>
                  <a:pt x="814387" y="14643"/>
                  <a:pt x="819150" y="9880"/>
                </a:cubicBezTo>
                <a:lnTo>
                  <a:pt x="847725" y="355"/>
                </a:lnTo>
                <a:cubicBezTo>
                  <a:pt x="852487" y="-1232"/>
                  <a:pt x="857522" y="2873"/>
                  <a:pt x="862012" y="5118"/>
                </a:cubicBezTo>
                <a:cubicBezTo>
                  <a:pt x="898933" y="23579"/>
                  <a:pt x="854684" y="7438"/>
                  <a:pt x="890587" y="19405"/>
                </a:cubicBezTo>
                <a:cubicBezTo>
                  <a:pt x="896937" y="28930"/>
                  <a:pt x="907392" y="36755"/>
                  <a:pt x="909637" y="47980"/>
                </a:cubicBezTo>
                <a:cubicBezTo>
                  <a:pt x="915523" y="77406"/>
                  <a:pt x="909910" y="65058"/>
                  <a:pt x="923925" y="86080"/>
                </a:cubicBezTo>
                <a:cubicBezTo>
                  <a:pt x="925512" y="90843"/>
                  <a:pt x="926442" y="95878"/>
                  <a:pt x="928687" y="100368"/>
                </a:cubicBezTo>
                <a:cubicBezTo>
                  <a:pt x="931247" y="105487"/>
                  <a:pt x="936202" y="109296"/>
                  <a:pt x="938212" y="114655"/>
                </a:cubicBezTo>
                <a:cubicBezTo>
                  <a:pt x="950964" y="148658"/>
                  <a:pt x="931385" y="130741"/>
                  <a:pt x="957262" y="147993"/>
                </a:cubicBezTo>
                <a:cubicBezTo>
                  <a:pt x="963029" y="165292"/>
                  <a:pt x="962025" y="167300"/>
                  <a:pt x="962025" y="152755"/>
                </a:cubicBezTo>
              </a:path>
            </a:pathLst>
          </a:custGeom>
          <a:noFill/>
          <a:ln w="57150">
            <a:solidFill>
              <a:srgbClr val="1f497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Полилиния 16"/>
          <p:cNvSpPr/>
          <p:nvPr/>
        </p:nvSpPr>
        <p:spPr>
          <a:xfrm>
            <a:off x="7236360" y="5361120"/>
            <a:ext cx="719640" cy="947880"/>
          </a:xfrm>
          <a:custGeom>
            <a:avLst/>
            <a:gdLst>
              <a:gd name="textAreaLeft" fmla="*/ 0 w 719640"/>
              <a:gd name="textAreaRight" fmla="*/ 720000 w 71964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962091" h="948093">
                <a:moveTo>
                  <a:pt x="0" y="948093"/>
                </a:moveTo>
                <a:cubicBezTo>
                  <a:pt x="7937" y="943330"/>
                  <a:pt x="15533" y="937945"/>
                  <a:pt x="23812" y="933805"/>
                </a:cubicBezTo>
                <a:cubicBezTo>
                  <a:pt x="28302" y="931560"/>
                  <a:pt x="33610" y="931288"/>
                  <a:pt x="38100" y="929043"/>
                </a:cubicBezTo>
                <a:cubicBezTo>
                  <a:pt x="75037" y="910575"/>
                  <a:pt x="30754" y="926730"/>
                  <a:pt x="66675" y="914755"/>
                </a:cubicBezTo>
                <a:cubicBezTo>
                  <a:pt x="77209" y="904221"/>
                  <a:pt x="81987" y="897575"/>
                  <a:pt x="95250" y="890943"/>
                </a:cubicBezTo>
                <a:cubicBezTo>
                  <a:pt x="99740" y="888698"/>
                  <a:pt x="105149" y="888618"/>
                  <a:pt x="109537" y="886180"/>
                </a:cubicBezTo>
                <a:cubicBezTo>
                  <a:pt x="119544" y="880620"/>
                  <a:pt x="138112" y="867130"/>
                  <a:pt x="138112" y="867130"/>
                </a:cubicBezTo>
                <a:cubicBezTo>
                  <a:pt x="139700" y="862368"/>
                  <a:pt x="140090" y="857020"/>
                  <a:pt x="142875" y="852843"/>
                </a:cubicBezTo>
                <a:cubicBezTo>
                  <a:pt x="153313" y="837187"/>
                  <a:pt x="158269" y="840014"/>
                  <a:pt x="171450" y="829030"/>
                </a:cubicBezTo>
                <a:cubicBezTo>
                  <a:pt x="176624" y="824718"/>
                  <a:pt x="180563" y="819055"/>
                  <a:pt x="185737" y="814743"/>
                </a:cubicBezTo>
                <a:cubicBezTo>
                  <a:pt x="190134" y="811079"/>
                  <a:pt x="195628" y="808882"/>
                  <a:pt x="200025" y="805218"/>
                </a:cubicBezTo>
                <a:cubicBezTo>
                  <a:pt x="246842" y="766203"/>
                  <a:pt x="186370" y="814108"/>
                  <a:pt x="223837" y="776643"/>
                </a:cubicBezTo>
                <a:cubicBezTo>
                  <a:pt x="227885" y="772596"/>
                  <a:pt x="233362" y="770293"/>
                  <a:pt x="238125" y="767118"/>
                </a:cubicBezTo>
                <a:cubicBezTo>
                  <a:pt x="266145" y="725087"/>
                  <a:pt x="223167" y="792270"/>
                  <a:pt x="257175" y="724255"/>
                </a:cubicBezTo>
                <a:cubicBezTo>
                  <a:pt x="262999" y="712607"/>
                  <a:pt x="267809" y="701017"/>
                  <a:pt x="276225" y="690918"/>
                </a:cubicBezTo>
                <a:cubicBezTo>
                  <a:pt x="280537" y="685744"/>
                  <a:pt x="285750" y="681393"/>
                  <a:pt x="290512" y="676630"/>
                </a:cubicBezTo>
                <a:cubicBezTo>
                  <a:pt x="302486" y="640713"/>
                  <a:pt x="286332" y="684991"/>
                  <a:pt x="304800" y="648055"/>
                </a:cubicBezTo>
                <a:cubicBezTo>
                  <a:pt x="309905" y="637845"/>
                  <a:pt x="312152" y="619732"/>
                  <a:pt x="314325" y="609955"/>
                </a:cubicBezTo>
                <a:cubicBezTo>
                  <a:pt x="315745" y="603565"/>
                  <a:pt x="317289" y="597199"/>
                  <a:pt x="319087" y="590905"/>
                </a:cubicBezTo>
                <a:cubicBezTo>
                  <a:pt x="325468" y="568571"/>
                  <a:pt x="322492" y="582963"/>
                  <a:pt x="333375" y="557568"/>
                </a:cubicBezTo>
                <a:cubicBezTo>
                  <a:pt x="339551" y="543157"/>
                  <a:pt x="344026" y="516087"/>
                  <a:pt x="347662" y="505180"/>
                </a:cubicBezTo>
                <a:lnTo>
                  <a:pt x="352425" y="490893"/>
                </a:lnTo>
                <a:cubicBezTo>
                  <a:pt x="354012" y="475018"/>
                  <a:pt x="354761" y="459037"/>
                  <a:pt x="357187" y="443268"/>
                </a:cubicBezTo>
                <a:cubicBezTo>
                  <a:pt x="357950" y="438306"/>
                  <a:pt x="361352" y="433965"/>
                  <a:pt x="361950" y="428980"/>
                </a:cubicBezTo>
                <a:cubicBezTo>
                  <a:pt x="366128" y="394161"/>
                  <a:pt x="360385" y="357474"/>
                  <a:pt x="371475" y="324205"/>
                </a:cubicBezTo>
                <a:cubicBezTo>
                  <a:pt x="374650" y="314680"/>
                  <a:pt x="375431" y="303984"/>
                  <a:pt x="381000" y="295630"/>
                </a:cubicBezTo>
                <a:lnTo>
                  <a:pt x="390525" y="281343"/>
                </a:lnTo>
                <a:cubicBezTo>
                  <a:pt x="392112" y="276580"/>
                  <a:pt x="392502" y="271232"/>
                  <a:pt x="395287" y="267055"/>
                </a:cubicBezTo>
                <a:cubicBezTo>
                  <a:pt x="399023" y="261451"/>
                  <a:pt x="403551" y="255780"/>
                  <a:pt x="409575" y="252768"/>
                </a:cubicBezTo>
                <a:cubicBezTo>
                  <a:pt x="416815" y="249148"/>
                  <a:pt x="425534" y="249968"/>
                  <a:pt x="433387" y="248005"/>
                </a:cubicBezTo>
                <a:cubicBezTo>
                  <a:pt x="438257" y="246787"/>
                  <a:pt x="442912" y="244830"/>
                  <a:pt x="447675" y="243243"/>
                </a:cubicBezTo>
                <a:cubicBezTo>
                  <a:pt x="450850" y="238480"/>
                  <a:pt x="454640" y="234075"/>
                  <a:pt x="457200" y="228955"/>
                </a:cubicBezTo>
                <a:cubicBezTo>
                  <a:pt x="464644" y="214066"/>
                  <a:pt x="459099" y="210484"/>
                  <a:pt x="471487" y="195618"/>
                </a:cubicBezTo>
                <a:cubicBezTo>
                  <a:pt x="475151" y="191221"/>
                  <a:pt x="481012" y="189268"/>
                  <a:pt x="485775" y="186093"/>
                </a:cubicBezTo>
                <a:cubicBezTo>
                  <a:pt x="496887" y="187680"/>
                  <a:pt x="509642" y="184829"/>
                  <a:pt x="519112" y="190855"/>
                </a:cubicBezTo>
                <a:cubicBezTo>
                  <a:pt x="528770" y="197001"/>
                  <a:pt x="534542" y="208570"/>
                  <a:pt x="538162" y="219430"/>
                </a:cubicBezTo>
                <a:cubicBezTo>
                  <a:pt x="541337" y="228955"/>
                  <a:pt x="545252" y="238265"/>
                  <a:pt x="547687" y="248005"/>
                </a:cubicBezTo>
                <a:cubicBezTo>
                  <a:pt x="553668" y="271925"/>
                  <a:pt x="550380" y="260845"/>
                  <a:pt x="557212" y="281343"/>
                </a:cubicBezTo>
                <a:cubicBezTo>
                  <a:pt x="593133" y="269368"/>
                  <a:pt x="548850" y="285523"/>
                  <a:pt x="585787" y="267055"/>
                </a:cubicBezTo>
                <a:cubicBezTo>
                  <a:pt x="590277" y="264810"/>
                  <a:pt x="595312" y="263880"/>
                  <a:pt x="600075" y="262293"/>
                </a:cubicBezTo>
                <a:cubicBezTo>
                  <a:pt x="604837" y="263880"/>
                  <a:pt x="609342" y="267055"/>
                  <a:pt x="614362" y="267055"/>
                </a:cubicBezTo>
                <a:cubicBezTo>
                  <a:pt x="621810" y="267055"/>
                  <a:pt x="643357" y="254629"/>
                  <a:pt x="647700" y="252768"/>
                </a:cubicBezTo>
                <a:cubicBezTo>
                  <a:pt x="662947" y="246233"/>
                  <a:pt x="667899" y="247718"/>
                  <a:pt x="685800" y="243243"/>
                </a:cubicBezTo>
                <a:cubicBezTo>
                  <a:pt x="690670" y="242025"/>
                  <a:pt x="695325" y="240068"/>
                  <a:pt x="700087" y="238480"/>
                </a:cubicBezTo>
                <a:cubicBezTo>
                  <a:pt x="703262" y="225780"/>
                  <a:pt x="702350" y="211272"/>
                  <a:pt x="709612" y="200380"/>
                </a:cubicBezTo>
                <a:cubicBezTo>
                  <a:pt x="712787" y="195618"/>
                  <a:pt x="716577" y="191212"/>
                  <a:pt x="719137" y="186093"/>
                </a:cubicBezTo>
                <a:cubicBezTo>
                  <a:pt x="721382" y="181603"/>
                  <a:pt x="720764" y="175725"/>
                  <a:pt x="723900" y="171805"/>
                </a:cubicBezTo>
                <a:cubicBezTo>
                  <a:pt x="727476" y="167336"/>
                  <a:pt x="733425" y="165455"/>
                  <a:pt x="738187" y="162280"/>
                </a:cubicBezTo>
                <a:lnTo>
                  <a:pt x="747712" y="124180"/>
                </a:lnTo>
                <a:cubicBezTo>
                  <a:pt x="749300" y="117830"/>
                  <a:pt x="750405" y="111340"/>
                  <a:pt x="752475" y="105130"/>
                </a:cubicBezTo>
                <a:cubicBezTo>
                  <a:pt x="754062" y="100368"/>
                  <a:pt x="756019" y="95713"/>
                  <a:pt x="757237" y="90843"/>
                </a:cubicBezTo>
                <a:cubicBezTo>
                  <a:pt x="759200" y="82990"/>
                  <a:pt x="758380" y="74270"/>
                  <a:pt x="762000" y="67030"/>
                </a:cubicBezTo>
                <a:cubicBezTo>
                  <a:pt x="765012" y="61006"/>
                  <a:pt x="771904" y="57857"/>
                  <a:pt x="776287" y="52743"/>
                </a:cubicBezTo>
                <a:cubicBezTo>
                  <a:pt x="781453" y="46716"/>
                  <a:pt x="784962" y="39306"/>
                  <a:pt x="790575" y="33693"/>
                </a:cubicBezTo>
                <a:cubicBezTo>
                  <a:pt x="794622" y="29646"/>
                  <a:pt x="800465" y="27832"/>
                  <a:pt x="804862" y="24168"/>
                </a:cubicBezTo>
                <a:cubicBezTo>
                  <a:pt x="810036" y="19856"/>
                  <a:pt x="814387" y="14643"/>
                  <a:pt x="819150" y="9880"/>
                </a:cubicBezTo>
                <a:lnTo>
                  <a:pt x="847725" y="355"/>
                </a:lnTo>
                <a:cubicBezTo>
                  <a:pt x="852487" y="-1232"/>
                  <a:pt x="857522" y="2873"/>
                  <a:pt x="862012" y="5118"/>
                </a:cubicBezTo>
                <a:cubicBezTo>
                  <a:pt x="898933" y="23579"/>
                  <a:pt x="854684" y="7438"/>
                  <a:pt x="890587" y="19405"/>
                </a:cubicBezTo>
                <a:cubicBezTo>
                  <a:pt x="896937" y="28930"/>
                  <a:pt x="907392" y="36755"/>
                  <a:pt x="909637" y="47980"/>
                </a:cubicBezTo>
                <a:cubicBezTo>
                  <a:pt x="915523" y="77406"/>
                  <a:pt x="909910" y="65058"/>
                  <a:pt x="923925" y="86080"/>
                </a:cubicBezTo>
                <a:cubicBezTo>
                  <a:pt x="925512" y="90843"/>
                  <a:pt x="926442" y="95878"/>
                  <a:pt x="928687" y="100368"/>
                </a:cubicBezTo>
                <a:cubicBezTo>
                  <a:pt x="931247" y="105487"/>
                  <a:pt x="936202" y="109296"/>
                  <a:pt x="938212" y="114655"/>
                </a:cubicBezTo>
                <a:cubicBezTo>
                  <a:pt x="950964" y="148658"/>
                  <a:pt x="931385" y="130741"/>
                  <a:pt x="957262" y="147993"/>
                </a:cubicBezTo>
                <a:cubicBezTo>
                  <a:pt x="963029" y="165292"/>
                  <a:pt x="962025" y="167300"/>
                  <a:pt x="962025" y="152755"/>
                </a:cubicBezTo>
              </a:path>
            </a:pathLst>
          </a:custGeom>
          <a:noFill/>
          <a:ln w="57150">
            <a:solidFill>
              <a:srgbClr val="1f497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Полилиния 17"/>
          <p:cNvSpPr/>
          <p:nvPr/>
        </p:nvSpPr>
        <p:spPr>
          <a:xfrm>
            <a:off x="7092360" y="1845000"/>
            <a:ext cx="863640" cy="1163880"/>
          </a:xfrm>
          <a:custGeom>
            <a:avLst/>
            <a:gdLst>
              <a:gd name="textAreaLeft" fmla="*/ 0 w 863640"/>
              <a:gd name="textAreaRight" fmla="*/ 864000 w 8636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962091" h="948093">
                <a:moveTo>
                  <a:pt x="0" y="948093"/>
                </a:moveTo>
                <a:cubicBezTo>
                  <a:pt x="7937" y="943330"/>
                  <a:pt x="15533" y="937945"/>
                  <a:pt x="23812" y="933805"/>
                </a:cubicBezTo>
                <a:cubicBezTo>
                  <a:pt x="28302" y="931560"/>
                  <a:pt x="33610" y="931288"/>
                  <a:pt x="38100" y="929043"/>
                </a:cubicBezTo>
                <a:cubicBezTo>
                  <a:pt x="75037" y="910575"/>
                  <a:pt x="30754" y="926730"/>
                  <a:pt x="66675" y="914755"/>
                </a:cubicBezTo>
                <a:cubicBezTo>
                  <a:pt x="77209" y="904221"/>
                  <a:pt x="81987" y="897575"/>
                  <a:pt x="95250" y="890943"/>
                </a:cubicBezTo>
                <a:cubicBezTo>
                  <a:pt x="99740" y="888698"/>
                  <a:pt x="105149" y="888618"/>
                  <a:pt x="109537" y="886180"/>
                </a:cubicBezTo>
                <a:cubicBezTo>
                  <a:pt x="119544" y="880620"/>
                  <a:pt x="138112" y="867130"/>
                  <a:pt x="138112" y="867130"/>
                </a:cubicBezTo>
                <a:cubicBezTo>
                  <a:pt x="139700" y="862368"/>
                  <a:pt x="140090" y="857020"/>
                  <a:pt x="142875" y="852843"/>
                </a:cubicBezTo>
                <a:cubicBezTo>
                  <a:pt x="153313" y="837187"/>
                  <a:pt x="158269" y="840014"/>
                  <a:pt x="171450" y="829030"/>
                </a:cubicBezTo>
                <a:cubicBezTo>
                  <a:pt x="176624" y="824718"/>
                  <a:pt x="180563" y="819055"/>
                  <a:pt x="185737" y="814743"/>
                </a:cubicBezTo>
                <a:cubicBezTo>
                  <a:pt x="190134" y="811079"/>
                  <a:pt x="195628" y="808882"/>
                  <a:pt x="200025" y="805218"/>
                </a:cubicBezTo>
                <a:cubicBezTo>
                  <a:pt x="246842" y="766203"/>
                  <a:pt x="186370" y="814108"/>
                  <a:pt x="223837" y="776643"/>
                </a:cubicBezTo>
                <a:cubicBezTo>
                  <a:pt x="227885" y="772596"/>
                  <a:pt x="233362" y="770293"/>
                  <a:pt x="238125" y="767118"/>
                </a:cubicBezTo>
                <a:cubicBezTo>
                  <a:pt x="266145" y="725087"/>
                  <a:pt x="223167" y="792270"/>
                  <a:pt x="257175" y="724255"/>
                </a:cubicBezTo>
                <a:cubicBezTo>
                  <a:pt x="262999" y="712607"/>
                  <a:pt x="267809" y="701017"/>
                  <a:pt x="276225" y="690918"/>
                </a:cubicBezTo>
                <a:cubicBezTo>
                  <a:pt x="280537" y="685744"/>
                  <a:pt x="285750" y="681393"/>
                  <a:pt x="290512" y="676630"/>
                </a:cubicBezTo>
                <a:cubicBezTo>
                  <a:pt x="302486" y="640713"/>
                  <a:pt x="286332" y="684991"/>
                  <a:pt x="304800" y="648055"/>
                </a:cubicBezTo>
                <a:cubicBezTo>
                  <a:pt x="309905" y="637845"/>
                  <a:pt x="312152" y="619732"/>
                  <a:pt x="314325" y="609955"/>
                </a:cubicBezTo>
                <a:cubicBezTo>
                  <a:pt x="315745" y="603565"/>
                  <a:pt x="317289" y="597199"/>
                  <a:pt x="319087" y="590905"/>
                </a:cubicBezTo>
                <a:cubicBezTo>
                  <a:pt x="325468" y="568571"/>
                  <a:pt x="322492" y="582963"/>
                  <a:pt x="333375" y="557568"/>
                </a:cubicBezTo>
                <a:cubicBezTo>
                  <a:pt x="339551" y="543157"/>
                  <a:pt x="344026" y="516087"/>
                  <a:pt x="347662" y="505180"/>
                </a:cubicBezTo>
                <a:lnTo>
                  <a:pt x="352425" y="490893"/>
                </a:lnTo>
                <a:cubicBezTo>
                  <a:pt x="354012" y="475018"/>
                  <a:pt x="354761" y="459037"/>
                  <a:pt x="357187" y="443268"/>
                </a:cubicBezTo>
                <a:cubicBezTo>
                  <a:pt x="357950" y="438306"/>
                  <a:pt x="361352" y="433965"/>
                  <a:pt x="361950" y="428980"/>
                </a:cubicBezTo>
                <a:cubicBezTo>
                  <a:pt x="366128" y="394161"/>
                  <a:pt x="360385" y="357474"/>
                  <a:pt x="371475" y="324205"/>
                </a:cubicBezTo>
                <a:cubicBezTo>
                  <a:pt x="374650" y="314680"/>
                  <a:pt x="375431" y="303984"/>
                  <a:pt x="381000" y="295630"/>
                </a:cubicBezTo>
                <a:lnTo>
                  <a:pt x="390525" y="281343"/>
                </a:lnTo>
                <a:cubicBezTo>
                  <a:pt x="392112" y="276580"/>
                  <a:pt x="392502" y="271232"/>
                  <a:pt x="395287" y="267055"/>
                </a:cubicBezTo>
                <a:cubicBezTo>
                  <a:pt x="399023" y="261451"/>
                  <a:pt x="403551" y="255780"/>
                  <a:pt x="409575" y="252768"/>
                </a:cubicBezTo>
                <a:cubicBezTo>
                  <a:pt x="416815" y="249148"/>
                  <a:pt x="425534" y="249968"/>
                  <a:pt x="433387" y="248005"/>
                </a:cubicBezTo>
                <a:cubicBezTo>
                  <a:pt x="438257" y="246787"/>
                  <a:pt x="442912" y="244830"/>
                  <a:pt x="447675" y="243243"/>
                </a:cubicBezTo>
                <a:cubicBezTo>
                  <a:pt x="450850" y="238480"/>
                  <a:pt x="454640" y="234075"/>
                  <a:pt x="457200" y="228955"/>
                </a:cubicBezTo>
                <a:cubicBezTo>
                  <a:pt x="464644" y="214066"/>
                  <a:pt x="459099" y="210484"/>
                  <a:pt x="471487" y="195618"/>
                </a:cubicBezTo>
                <a:cubicBezTo>
                  <a:pt x="475151" y="191221"/>
                  <a:pt x="481012" y="189268"/>
                  <a:pt x="485775" y="186093"/>
                </a:cubicBezTo>
                <a:cubicBezTo>
                  <a:pt x="496887" y="187680"/>
                  <a:pt x="509642" y="184829"/>
                  <a:pt x="519112" y="190855"/>
                </a:cubicBezTo>
                <a:cubicBezTo>
                  <a:pt x="528770" y="197001"/>
                  <a:pt x="534542" y="208570"/>
                  <a:pt x="538162" y="219430"/>
                </a:cubicBezTo>
                <a:cubicBezTo>
                  <a:pt x="541337" y="228955"/>
                  <a:pt x="545252" y="238265"/>
                  <a:pt x="547687" y="248005"/>
                </a:cubicBezTo>
                <a:cubicBezTo>
                  <a:pt x="553668" y="271925"/>
                  <a:pt x="550380" y="260845"/>
                  <a:pt x="557212" y="281343"/>
                </a:cubicBezTo>
                <a:cubicBezTo>
                  <a:pt x="593133" y="269368"/>
                  <a:pt x="548850" y="285523"/>
                  <a:pt x="585787" y="267055"/>
                </a:cubicBezTo>
                <a:cubicBezTo>
                  <a:pt x="590277" y="264810"/>
                  <a:pt x="595312" y="263880"/>
                  <a:pt x="600075" y="262293"/>
                </a:cubicBezTo>
                <a:cubicBezTo>
                  <a:pt x="604837" y="263880"/>
                  <a:pt x="609342" y="267055"/>
                  <a:pt x="614362" y="267055"/>
                </a:cubicBezTo>
                <a:cubicBezTo>
                  <a:pt x="621810" y="267055"/>
                  <a:pt x="643357" y="254629"/>
                  <a:pt x="647700" y="252768"/>
                </a:cubicBezTo>
                <a:cubicBezTo>
                  <a:pt x="662947" y="246233"/>
                  <a:pt x="667899" y="247718"/>
                  <a:pt x="685800" y="243243"/>
                </a:cubicBezTo>
                <a:cubicBezTo>
                  <a:pt x="690670" y="242025"/>
                  <a:pt x="695325" y="240068"/>
                  <a:pt x="700087" y="238480"/>
                </a:cubicBezTo>
                <a:cubicBezTo>
                  <a:pt x="703262" y="225780"/>
                  <a:pt x="702350" y="211272"/>
                  <a:pt x="709612" y="200380"/>
                </a:cubicBezTo>
                <a:cubicBezTo>
                  <a:pt x="712787" y="195618"/>
                  <a:pt x="716577" y="191212"/>
                  <a:pt x="719137" y="186093"/>
                </a:cubicBezTo>
                <a:cubicBezTo>
                  <a:pt x="721382" y="181603"/>
                  <a:pt x="720764" y="175725"/>
                  <a:pt x="723900" y="171805"/>
                </a:cubicBezTo>
                <a:cubicBezTo>
                  <a:pt x="727476" y="167336"/>
                  <a:pt x="733425" y="165455"/>
                  <a:pt x="738187" y="162280"/>
                </a:cubicBezTo>
                <a:lnTo>
                  <a:pt x="747712" y="124180"/>
                </a:lnTo>
                <a:cubicBezTo>
                  <a:pt x="749300" y="117830"/>
                  <a:pt x="750405" y="111340"/>
                  <a:pt x="752475" y="105130"/>
                </a:cubicBezTo>
                <a:cubicBezTo>
                  <a:pt x="754062" y="100368"/>
                  <a:pt x="756019" y="95713"/>
                  <a:pt x="757237" y="90843"/>
                </a:cubicBezTo>
                <a:cubicBezTo>
                  <a:pt x="759200" y="82990"/>
                  <a:pt x="758380" y="74270"/>
                  <a:pt x="762000" y="67030"/>
                </a:cubicBezTo>
                <a:cubicBezTo>
                  <a:pt x="765012" y="61006"/>
                  <a:pt x="771904" y="57857"/>
                  <a:pt x="776287" y="52743"/>
                </a:cubicBezTo>
                <a:cubicBezTo>
                  <a:pt x="781453" y="46716"/>
                  <a:pt x="784962" y="39306"/>
                  <a:pt x="790575" y="33693"/>
                </a:cubicBezTo>
                <a:cubicBezTo>
                  <a:pt x="794622" y="29646"/>
                  <a:pt x="800465" y="27832"/>
                  <a:pt x="804862" y="24168"/>
                </a:cubicBezTo>
                <a:cubicBezTo>
                  <a:pt x="810036" y="19856"/>
                  <a:pt x="814387" y="14643"/>
                  <a:pt x="819150" y="9880"/>
                </a:cubicBezTo>
                <a:lnTo>
                  <a:pt x="847725" y="355"/>
                </a:lnTo>
                <a:cubicBezTo>
                  <a:pt x="852487" y="-1232"/>
                  <a:pt x="857522" y="2873"/>
                  <a:pt x="862012" y="5118"/>
                </a:cubicBezTo>
                <a:cubicBezTo>
                  <a:pt x="898933" y="23579"/>
                  <a:pt x="854684" y="7438"/>
                  <a:pt x="890587" y="19405"/>
                </a:cubicBezTo>
                <a:cubicBezTo>
                  <a:pt x="896937" y="28930"/>
                  <a:pt x="907392" y="36755"/>
                  <a:pt x="909637" y="47980"/>
                </a:cubicBezTo>
                <a:cubicBezTo>
                  <a:pt x="915523" y="77406"/>
                  <a:pt x="909910" y="65058"/>
                  <a:pt x="923925" y="86080"/>
                </a:cubicBezTo>
                <a:cubicBezTo>
                  <a:pt x="925512" y="90843"/>
                  <a:pt x="926442" y="95878"/>
                  <a:pt x="928687" y="100368"/>
                </a:cubicBezTo>
                <a:cubicBezTo>
                  <a:pt x="931247" y="105487"/>
                  <a:pt x="936202" y="109296"/>
                  <a:pt x="938212" y="114655"/>
                </a:cubicBezTo>
                <a:cubicBezTo>
                  <a:pt x="950964" y="148658"/>
                  <a:pt x="931385" y="130741"/>
                  <a:pt x="957262" y="147993"/>
                </a:cubicBezTo>
                <a:cubicBezTo>
                  <a:pt x="963029" y="165292"/>
                  <a:pt x="962025" y="167300"/>
                  <a:pt x="962025" y="152755"/>
                </a:cubicBezTo>
              </a:path>
            </a:pathLst>
          </a:custGeom>
          <a:noFill/>
          <a:ln w="57150">
            <a:solidFill>
              <a:srgbClr val="1f497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  <Words>1329</Words>
  <Paragraphs>40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10:51:52Z</dcterms:created>
  <dc:creator>Slava</dc:creator>
  <dc:description/>
  <dc:language>en-US</dc:language>
  <cp:lastModifiedBy>Slava</cp:lastModifiedBy>
  <dcterms:modified xsi:type="dcterms:W3CDTF">2016-03-28T12:38:02Z</dcterms:modified>
  <cp:revision>1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36</vt:r8>
  </property>
</Properties>
</file>