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tif" ContentType="image/tiff"/>
  <Override PartName="/ppt/media/image7.tif" ContentType="image/tif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2B95-C47D-41BF-9539-49FBF8CD5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882540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54880" y="5226840"/>
            <a:ext cx="882540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7E3D-AE22-4E7F-8F5D-069ED398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54880" y="522684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77200" y="522684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3E59-6FAD-43E6-8D55-660A4EB7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138920" y="477756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122600" y="477756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54880" y="522684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138920" y="522684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7122600" y="522684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2BB0-794C-4ACE-8DE2-CF4FB932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7F2C-89E7-4AED-ABCF-C9E9A5DD9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54880" y="4777560"/>
            <a:ext cx="882540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BCD8-8033-46EA-A4CF-BD35BB45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882540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EB84-9DEF-45B7-A9BB-27472829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DF77-B277-4ECC-8CAD-BAA74A8E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C0BE-8F6E-45A2-8DDA-AF292A4C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154880" y="2861640"/>
            <a:ext cx="8825400" cy="88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2D76-C602-475D-AA6D-037E447E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4880" y="522684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BF33-BBF0-4EA8-898E-4E769340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54880" y="4777560"/>
            <a:ext cx="882540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E468-22A7-4DDB-9D31-91AE7593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77200" y="522684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C638-891A-47CB-B1CC-6BE173A4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54880" y="5226840"/>
            <a:ext cx="882540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B888-01A6-4AE1-B9FB-11F218E5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882540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54880" y="5226840"/>
            <a:ext cx="882540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FFA6-2003-4280-8AB3-3B19C37C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54880" y="522684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677200" y="522684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708B-7624-4BEE-B1CD-30371499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138920" y="477756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122600" y="477756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54880" y="522684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138920" y="522684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7122600" y="522684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719F-F24A-4AFA-97B8-0DEE2A74B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76D1E-2E67-4F47-AF04-5ABAFCB48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54880" y="4777560"/>
            <a:ext cx="882540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4D553-0FEC-4506-B332-33E36D47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882540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D9D9B-6DC9-40C8-9941-668A7B6F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18F71-B123-448A-BCBA-97B8711D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311B7-A574-44AA-B260-9D995A71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882540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D7FF-14E3-4829-B449-6E0E94D4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154880" y="2861640"/>
            <a:ext cx="8825400" cy="88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5F6DA-E7EE-4187-BF3F-5FEBCBD4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54880" y="522684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3EC2B-D6A8-4C91-B672-46F2785A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677200" y="522684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E569E-367C-4A7D-BB9E-84E51AF0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154880" y="5226840"/>
            <a:ext cx="882540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6B245-418B-4885-A9A9-78F62986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882540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154880" y="5226840"/>
            <a:ext cx="882540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3C0CC-C162-4431-B141-75FB000E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154880" y="522684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677200" y="522684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FA8A1-6D75-4B06-A9C0-8FA5AFAD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138920" y="477756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122600" y="477756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154880" y="522684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4138920" y="522684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7122600" y="5226840"/>
            <a:ext cx="28414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D2314-6D13-47A8-A6D6-6024B7DA5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DDA6-A72D-4A5A-A2CB-71CE7034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5FD6-139A-4DE9-9604-116BDED0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4880" y="2861640"/>
            <a:ext cx="8825400" cy="88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3282-8661-4374-9C7D-38944065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54880" y="522684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1E6D-8FEE-4A40-BF68-D94B748E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8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77200" y="522684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A0CB-E6B6-4091-B0E2-F7F351F8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5488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77200" y="4777560"/>
            <a:ext cx="430668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54880" y="5226840"/>
            <a:ext cx="8825400" cy="4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0145-1BF6-408F-9932-E5988011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69760"/>
            <a:ext cx="4036680" cy="4187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240"/>
            <a:ext cx="1522080" cy="2365200"/>
          </a:xfrm>
          <a:prstGeom prst="rect">
            <a:avLst/>
          </a:prstGeom>
          <a:ln w="0">
            <a:noFill/>
          </a:ln>
        </p:spPr>
      </p:pic>
      <p:sp>
        <p:nvSpPr>
          <p:cNvPr id="2" name="Oval 15"/>
          <p:cNvSpPr/>
          <p:nvPr/>
        </p:nvSpPr>
        <p:spPr>
          <a:xfrm>
            <a:off x="8609040" y="1676520"/>
            <a:ext cx="2819160" cy="2819160"/>
          </a:xfrm>
          <a:prstGeom prst="ellipse">
            <a:avLst/>
          </a:prstGeom>
          <a:gradFill rotWithShape="0">
            <a:gsLst>
              <a:gs pos="0">
                <a:srgbClr val="448ad7">
                  <a:alpha val="7058"/>
                </a:srgbClr>
              </a:gs>
              <a:gs pos="100000">
                <a:srgbClr val="448ad7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"/>
          <p:cNvPicPr/>
          <p:nvPr/>
        </p:nvPicPr>
        <p:blipFill>
          <a:blip r:embed="rId5"/>
          <a:srcRect l="0" t="28812" r="0" b="0"/>
          <a:stretch/>
        </p:blipFill>
        <p:spPr>
          <a:xfrm>
            <a:off x="7999560" y="0"/>
            <a:ext cx="1603080" cy="1141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"/>
          <p:cNvPicPr/>
          <p:nvPr/>
        </p:nvPicPr>
        <p:blipFill>
          <a:blip r:embed="rId6"/>
          <a:srcRect l="0" t="0" r="0" b="23333"/>
          <a:stretch/>
        </p:blipFill>
        <p:spPr>
          <a:xfrm>
            <a:off x="8605800" y="6095880"/>
            <a:ext cx="993240" cy="761760"/>
          </a:xfrm>
          <a:prstGeom prst="rect">
            <a:avLst/>
          </a:prstGeom>
          <a:ln w="0">
            <a:noFill/>
          </a:ln>
        </p:spPr>
      </p:pic>
      <p:sp>
        <p:nvSpPr>
          <p:cNvPr id="5" name="Rectangle 13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4880" y="1447920"/>
            <a:ext cx="8825400" cy="33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7200" spc="-1" strike="noStrike">
                <a:solidFill>
                  <a:srgbClr val="dbeff9"/>
                </a:solidFill>
                <a:latin typeface="Century Gothic"/>
              </a:rPr>
              <a:t>Образец заголовка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10155600" y="1790640"/>
            <a:ext cx="99036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8951760" y="3225240"/>
            <a:ext cx="3859560" cy="30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10352520" y="295560"/>
            <a:ext cx="83772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6DEDEA5-6EBD-49A3-8C1A-14872ED3099E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69760"/>
            <a:ext cx="4036680" cy="4187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240"/>
            <a:ext cx="1522080" cy="2365200"/>
          </a:xfrm>
          <a:prstGeom prst="rect">
            <a:avLst/>
          </a:prstGeom>
          <a:ln w="0">
            <a:noFill/>
          </a:ln>
        </p:spPr>
      </p:pic>
      <p:sp>
        <p:nvSpPr>
          <p:cNvPr id="49" name="Oval 15"/>
          <p:cNvSpPr/>
          <p:nvPr/>
        </p:nvSpPr>
        <p:spPr>
          <a:xfrm>
            <a:off x="8609040" y="1676520"/>
            <a:ext cx="2819160" cy="2819160"/>
          </a:xfrm>
          <a:prstGeom prst="ellipse">
            <a:avLst/>
          </a:prstGeom>
          <a:gradFill rotWithShape="0">
            <a:gsLst>
              <a:gs pos="0">
                <a:srgbClr val="448ad7">
                  <a:alpha val="7058"/>
                </a:srgbClr>
              </a:gs>
              <a:gs pos="100000">
                <a:srgbClr val="448ad7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5"/>
          <a:srcRect l="0" t="28812" r="0" b="0"/>
          <a:stretch/>
        </p:blipFill>
        <p:spPr>
          <a:xfrm>
            <a:off x="7999560" y="0"/>
            <a:ext cx="1603080" cy="1141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6"/>
          <a:srcRect l="0" t="0" r="0" b="23333"/>
          <a:stretch/>
        </p:blipFill>
        <p:spPr>
          <a:xfrm>
            <a:off x="8605800" y="6095880"/>
            <a:ext cx="993240" cy="7617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3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dbeff9"/>
                </a:solidFill>
                <a:latin typeface="Century Gothic"/>
              </a:rPr>
              <a:t>Образец заголовка</a:t>
            </a:r>
            <a:endParaRPr b="0" lang="en-US" sz="4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2b1e5"/>
              </a:buClr>
              <a:buSzPct val="80000"/>
              <a:buFont typeface="Wingdings 3" charset="2"/>
              <a:buChar char="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82b1e5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торой уровень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82b1e5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Третий уровень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82b1e5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Четвертый уровень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82b1e5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ятый уровень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 rot="5400000">
            <a:off x="10155600" y="1790640"/>
            <a:ext cx="99036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 rot="5400000">
            <a:off x="8951760" y="3225240"/>
            <a:ext cx="3859560" cy="30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10352520" y="295560"/>
            <a:ext cx="83772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A505E51-93E3-4863-AC3A-17196AC77C65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69760"/>
            <a:ext cx="4036680" cy="4187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240"/>
            <a:ext cx="1522080" cy="2365200"/>
          </a:xfrm>
          <a:prstGeom prst="rect">
            <a:avLst/>
          </a:prstGeom>
          <a:ln w="0">
            <a:noFill/>
          </a:ln>
        </p:spPr>
      </p:pic>
      <p:sp>
        <p:nvSpPr>
          <p:cNvPr id="96" name="Oval 15"/>
          <p:cNvSpPr/>
          <p:nvPr/>
        </p:nvSpPr>
        <p:spPr>
          <a:xfrm>
            <a:off x="8609040" y="1676520"/>
            <a:ext cx="2819160" cy="2819160"/>
          </a:xfrm>
          <a:prstGeom prst="ellipse">
            <a:avLst/>
          </a:prstGeom>
          <a:gradFill rotWithShape="0">
            <a:gsLst>
              <a:gs pos="0">
                <a:srgbClr val="448ad7">
                  <a:alpha val="7058"/>
                </a:srgbClr>
              </a:gs>
              <a:gs pos="100000">
                <a:srgbClr val="448ad7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5"/>
          <a:srcRect l="0" t="28812" r="0" b="0"/>
          <a:stretch/>
        </p:blipFill>
        <p:spPr>
          <a:xfrm>
            <a:off x="7999560" y="0"/>
            <a:ext cx="1603080" cy="1141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6"/>
          <a:srcRect l="0" t="0" r="0" b="23333"/>
          <a:stretch/>
        </p:blipFill>
        <p:spPr>
          <a:xfrm>
            <a:off x="8605800" y="6095880"/>
            <a:ext cx="993240" cy="761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3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4880" y="2861640"/>
            <a:ext cx="8825400" cy="191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dbeff9"/>
                </a:solidFill>
                <a:latin typeface="Century Gothic"/>
              </a:rPr>
              <a:t>Образец заголовка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154880" y="4777560"/>
            <a:ext cx="8825400" cy="86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 cap="all">
                <a:solidFill>
                  <a:srgbClr val="82b1e5"/>
                </a:solidFill>
                <a:latin typeface="Century Gothic"/>
              </a:rPr>
              <a:t>Образец текст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 rot="5400000">
            <a:off x="10155600" y="1790640"/>
            <a:ext cx="99036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 rot="5400000">
            <a:off x="8951760" y="3225240"/>
            <a:ext cx="3859560" cy="30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10352520" y="295560"/>
            <a:ext cx="83772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48C048A-22B6-46C6-98B0-EADB61582C55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t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t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t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t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lend4web.com/" TargetMode="External"/><Relationship Id="rId2" Type="http://schemas.openxmlformats.org/officeDocument/2006/relationships/image" Target="../media/image6.ti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920" y="567720"/>
            <a:ext cx="7768080" cy="42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dbeff9"/>
                </a:solidFill>
                <a:latin typeface="Century Gothic"/>
              </a:rPr>
              <a:t>Технологии </a:t>
            </a:r>
            <a:r>
              <a:rPr b="0" lang="en-US" sz="4400" spc="-1" strike="noStrike">
                <a:solidFill>
                  <a:srgbClr val="dbeff9"/>
                </a:solidFill>
                <a:latin typeface="Century Gothic"/>
              </a:rPr>
              <a:t>Blend</a:t>
            </a:r>
            <a:r>
              <a:rPr b="0" lang="ru-RU" sz="4400" spc="-1" strike="noStrike">
                <a:solidFill>
                  <a:srgbClr val="dbeff9"/>
                </a:solidFill>
                <a:latin typeface="Century Gothic"/>
              </a:rPr>
              <a:t>4</a:t>
            </a:r>
            <a:r>
              <a:rPr b="0" lang="en-US" sz="4400" spc="-1" strike="noStrike">
                <a:solidFill>
                  <a:srgbClr val="dbeff9"/>
                </a:solidFill>
                <a:latin typeface="Century Gothic"/>
              </a:rPr>
              <a:t>Web </a:t>
            </a:r>
            <a:r>
              <a:rPr b="0" lang="ru-RU" sz="4400" spc="-1" strike="noStrike">
                <a:solidFill>
                  <a:srgbClr val="dbeff9"/>
                </a:solidFill>
                <a:latin typeface="Century Gothic"/>
              </a:rPr>
              <a:t>для задач интерактивной трехмерной визуализации в науке, промышленности и образовании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763920" y="4777200"/>
            <a:ext cx="8825400" cy="11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600" spc="-1" strike="noStrike" cap="all">
                <a:solidFill>
                  <a:srgbClr val="82b1e5"/>
                </a:solidFill>
                <a:latin typeface="Century Gothic"/>
              </a:rPr>
              <a:t>Быков Андрей Юрье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600" spc="-1" strike="noStrike" cap="all">
                <a:solidFill>
                  <a:srgbClr val="82b1e5"/>
                </a:solidFill>
                <a:latin typeface="Century Gothic"/>
              </a:rPr>
              <a:t>Руководитель программы развития проек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600" spc="-1" strike="noStrike" cap="all">
                <a:solidFill>
                  <a:srgbClr val="82b1e5"/>
                </a:solidFill>
                <a:latin typeface="Century Gothic"/>
              </a:rPr>
              <a:t>Компания «триумф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3" descr=""/>
          <p:cNvPicPr/>
          <p:nvPr/>
        </p:nvPicPr>
        <p:blipFill>
          <a:blip r:embed="rId1"/>
          <a:stretch/>
        </p:blipFill>
        <p:spPr>
          <a:xfrm>
            <a:off x="8303760" y="2885760"/>
            <a:ext cx="3544200" cy="30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dbeff9"/>
                </a:solidFill>
                <a:latin typeface="Century Gothic"/>
              </a:rPr>
              <a:t>Тезисы доклада</a:t>
            </a:r>
            <a:endParaRPr b="0" lang="en-US" sz="4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10220400" cy="41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2b1e5"/>
              </a:buClr>
              <a:buSzPct val="80000"/>
              <a:buFont typeface="Wingdings 3" charset="2"/>
              <a:buChar char="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Современные стандарты трехмерной визуализации для веб-браузеров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ebGL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и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ebVR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позволяют использовать в экономике предприятий и  проектов трехмерную визуализацию для планирования, управления, контроля и анализа ключевых бизнес-процессов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2b1e5"/>
              </a:buClr>
              <a:buSzPct val="80000"/>
              <a:buFont typeface="Wingdings 3" charset="2"/>
              <a:buChar char="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Российская разработка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Blend4Web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редоставляет программный комплекс инструментов полного цикла для разработки встраиваемых и автономных веб-приложений трехмерной визуализации с визуально программируемыми материалами и интерактивными сценариями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2b1e5"/>
              </a:buClr>
              <a:buSzPct val="80000"/>
              <a:buFont typeface="Wingdings 3" charset="2"/>
              <a:buChar char="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Широкая практика разно форматных проектов по всему миру демонстрирует успешное применение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Blend4Web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 промышленности, науке, образовании, электронной коммерции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6" name="Рисунок 3" descr=""/>
          <p:cNvPicPr/>
          <p:nvPr/>
        </p:nvPicPr>
        <p:blipFill>
          <a:blip r:embed="rId1"/>
          <a:stretch/>
        </p:blipFill>
        <p:spPr>
          <a:xfrm>
            <a:off x="4393800" y="5693400"/>
            <a:ext cx="3404160" cy="11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dbeff9"/>
                </a:solidFill>
                <a:latin typeface="Century Gothic"/>
              </a:rPr>
              <a:t>Программа доклада</a:t>
            </a:r>
            <a:endParaRPr b="0" lang="en-US" sz="4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04120" y="18532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2b1e5"/>
              </a:buClr>
              <a:buSzPct val="80000"/>
              <a:buFont typeface="Wingdings 3" charset="2"/>
              <a:buChar char="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Разработка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R/VR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риложений для веб-сайтов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82b1e5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Докладчик Марусин Дмитрий Владимирович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Руководитель команды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Blend4Web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2b1e5"/>
              </a:buClr>
              <a:buSzPct val="80000"/>
              <a:buFont typeface="Wingdings 3" charset="2"/>
              <a:buChar char="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Научно-образовательные перспективы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Blend4Web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82b1e5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Докладчик Горбачев Дмитрий Викторович,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</a:t>
            </a:r>
            <a:br>
              <a:rPr sz="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Д.ф.-м.н., профессор Тульского государственного университета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2b1e5"/>
              </a:buClr>
              <a:buSzPct val="80000"/>
              <a:buFont typeface="Wingdings 3" charset="2"/>
              <a:buChar char="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Демонстрация проектов и виртуальной реальности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82b1e5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опросы и ответы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9" name="Рисунок 3" descr=""/>
          <p:cNvPicPr/>
          <p:nvPr/>
        </p:nvPicPr>
        <p:blipFill>
          <a:blip r:embed="rId1"/>
          <a:stretch/>
        </p:blipFill>
        <p:spPr>
          <a:xfrm>
            <a:off x="4393800" y="5693400"/>
            <a:ext cx="3404160" cy="11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dbeff9"/>
                </a:solidFill>
                <a:latin typeface="Century Gothic"/>
              </a:rPr>
              <a:t>Заключение</a:t>
            </a:r>
            <a:endParaRPr b="0" lang="en-US" sz="4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04120" y="18532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2b1e5"/>
              </a:buClr>
              <a:buSzPct val="80000"/>
              <a:buFont typeface="Wingdings 3" charset="2"/>
              <a:buChar char="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рименение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Blend4Web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 разработке трёхмерных интерактивных веб-приложений эффективно, позволяет визуализаторам без участия программистов быстро получать качественные результаты и рабочие веб-приложения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2b1e5"/>
              </a:buClr>
              <a:buSzPct val="80000"/>
              <a:buFont typeface="Wingdings 3" charset="2"/>
              <a:buChar char="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Инструментальная среда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Blender 3D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редоставляет гибкие возможности для интеграции с научно-расчетными приложениями и последующей визуализации в формате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Blend4Web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еб-приложений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2b1e5"/>
              </a:buClr>
              <a:buSzPct val="80000"/>
              <a:buFont typeface="Wingdings 3" charset="2"/>
              <a:buChar char="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Blend4Web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успешно применяется в коммерческих проектах по всему миру и готов к применению в научных задачах со сложными математическими моделями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52" name="Рисунок 3" descr=""/>
          <p:cNvPicPr/>
          <p:nvPr/>
        </p:nvPicPr>
        <p:blipFill>
          <a:blip r:embed="rId1"/>
          <a:stretch/>
        </p:blipFill>
        <p:spPr>
          <a:xfrm>
            <a:off x="4393800" y="5693400"/>
            <a:ext cx="3404160" cy="11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01960" y="2861640"/>
            <a:ext cx="9874080" cy="191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dbeff9"/>
                </a:solidFill>
                <a:latin typeface="Century Gothic"/>
              </a:rPr>
              <a:t>Спасибо за внимание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6720" y="5027040"/>
            <a:ext cx="9590400" cy="86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000" spc="-1" strike="noStrike" u="sng" cap="all">
                <a:solidFill>
                  <a:srgbClr val="ffd495"/>
                </a:solidFill>
                <a:uFillTx/>
                <a:latin typeface="Century Gothic"/>
                <a:hlinkClick r:id="rId1"/>
              </a:rPr>
              <a:t>www.blend4web.com</a:t>
            </a:r>
            <a:r>
              <a:rPr b="0" lang="en-US" sz="2000" spc="-1" strike="noStrike" cap="all">
                <a:solidFill>
                  <a:srgbClr val="82b1e5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55" name="Рисунок 3" descr=""/>
          <p:cNvPicPr/>
          <p:nvPr/>
        </p:nvPicPr>
        <p:blipFill>
          <a:blip r:embed="rId2"/>
          <a:stretch/>
        </p:blipFill>
        <p:spPr>
          <a:xfrm>
            <a:off x="4320000" y="238680"/>
            <a:ext cx="3544200" cy="30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Ион">
  <a:themeElements>
    <a:clrScheme name="Синий">
      <a:dk1>
        <a:srgbClr val="000000"/>
      </a:dk1>
      <a:lt1>
        <a:srgbClr val="ffffff"/>
      </a:lt1>
      <a:dk2>
        <a:srgbClr val="17406d"/>
      </a:dk2>
      <a:lt2>
        <a:srgbClr val="dbef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f491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Ион">
  <a:themeElements>
    <a:clrScheme name="Синий">
      <a:dk1>
        <a:srgbClr val="000000"/>
      </a:dk1>
      <a:lt1>
        <a:srgbClr val="ffffff"/>
      </a:lt1>
      <a:dk2>
        <a:srgbClr val="17406d"/>
      </a:dk2>
      <a:lt2>
        <a:srgbClr val="dbef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f491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Ион">
  <a:themeElements>
    <a:clrScheme name="Синий">
      <a:dk1>
        <a:srgbClr val="000000"/>
      </a:dk1>
      <a:lt1>
        <a:srgbClr val="ffffff"/>
      </a:lt1>
      <a:dk2>
        <a:srgbClr val="17406d"/>
      </a:dk2>
      <a:lt2>
        <a:srgbClr val="dbef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f491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  <Words>179</Words>
  <Paragraphs>2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ыков Андрей Юрьевич</cp:lastModifiedBy>
  <dcterms:modified xsi:type="dcterms:W3CDTF">2017-10-26T09:23:48Z</dcterms:modified>
  <cp:revision>5</cp:revision>
  <dc:subject/>
  <dc:title>Blend4Web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5</vt:r8>
  </property>
</Properties>
</file>