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5.png" ContentType="image/png"/>
  <Override PartName="/ppt/media/image6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B1A-B1BD-414D-A102-D786C486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A6A-6742-4D52-BB36-ACFCDB01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A9B-A6A8-4971-B743-488CBAD7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77B-F5BA-4DE0-8720-F05C5E5E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7ED1-F5DA-4744-B903-2958DEFC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5A3A-76D5-4A5A-9DDF-E0605A15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1DDD-31C5-4B02-B26B-89C8327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64F7-EC42-4F4F-BE08-FA231F73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B24C-C73A-4ACB-8CB0-EAB29D3A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92F5-398F-40BE-A8FA-ABFB9FB1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A48F-99F8-423D-BCE5-5D09E29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ADC-0CDC-4757-9715-156B6670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1A91-45EF-4EA3-A7AA-07D54998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738C-B1A4-4467-96DF-62F24C49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6999-462A-4CE4-ABB0-167FA65B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2C3B-5D2F-44A5-A374-B43A9E37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69F3-69F2-45D9-BFF9-E29D854E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F6E-E316-4DE8-8F9A-824D71B8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EE8-3ECA-47C4-8048-63699E0D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8E1-48A4-43AB-A945-42B1D1C1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CB6-5897-4FB0-8EC8-198465DA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3DD-3EE9-4352-AE05-87BE1E4F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96432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909-CEC5-44D9-BC9C-C118125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0200"/>
            <a:ext cx="5354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B4B-AE7A-49EA-943D-CADD270B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20A780-F498-4DAB-BA2A-706734F7190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39EF4E-F50A-4534-9C3F-F888AE4B044D}" type="slidenum">
              <a:rPr b="0" lang="ru-RU" sz="20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ea.iki.rssi.ru/SRG/en/index.php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следование методики расчета ограниченных орбит большой амплитуды в окрестности точек L1, L2 системы Солнце-Земл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06800" y="4243680"/>
            <a:ext cx="283752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Сту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2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Корнеев А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7990560" y="4247640"/>
            <a:ext cx="30646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12000"/>
              </a:lnSpc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Бобер С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ы расстоя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088000" y="5759640"/>
            <a:ext cx="766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. 4: Карта расстояний между двумя аппаратами, движущимися по орб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ременной задержкой 60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ток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Alexander\Downloads\min_mix.png"/>
          <p:cNvPicPr/>
          <p:nvPr/>
        </p:nvPicPr>
        <p:blipFill>
          <a:blip r:embed="rId1"/>
          <a:srcRect l="0" t="11798" r="0" b="0"/>
          <a:stretch/>
        </p:blipFill>
        <p:spPr>
          <a:xfrm>
            <a:off x="2715120" y="1519920"/>
            <a:ext cx="6412320" cy="4239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5823000" y="1776960"/>
            <a:ext cx="98280" cy="860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F19F-DE47-437E-AA3E-54027B70F9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ерхности нулевой скор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F:\Защита\zsp.png"/>
          <p:cNvPicPr/>
          <p:nvPr/>
        </p:nvPicPr>
        <p:blipFill>
          <a:blip r:embed="rId1"/>
          <a:stretch/>
        </p:blipFill>
        <p:spPr>
          <a:xfrm>
            <a:off x="5571720" y="1234440"/>
            <a:ext cx="5851080" cy="43891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5724720" y="5592240"/>
            <a:ext cx="529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. 5: Орбита вокруг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ечение соответству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рхности нулевой скорости плоскость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TextBox 5"/>
              <p:cNvSpPr txBox="1"/>
              <p:nvPr/>
            </p:nvSpPr>
            <p:spPr>
              <a:xfrm>
                <a:off x="1460520" y="2018880"/>
                <a:ext cx="2560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𝑈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𝑣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𝐶</m:t>
                        </m:r>
                      </m:e>
                      <m:sub>
                        <m:r>
                          <m:t xml:space="preserve">𝑗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ик 6"/>
          <p:cNvSpPr/>
          <p:nvPr/>
        </p:nvSpPr>
        <p:spPr>
          <a:xfrm>
            <a:off x="1423080" y="2844360"/>
            <a:ext cx="2554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нстанта Як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TextBox 8"/>
              <p:cNvSpPr txBox="1"/>
              <p:nvPr/>
            </p:nvSpPr>
            <p:spPr>
              <a:xfrm>
                <a:off x="376560" y="3429000"/>
                <a:ext cx="50522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𝑥</m:t>
                        </m:r>
                        <m:r>
                          <m:t xml:space="preserve">,</m:t>
                        </m:r>
                        <m:r>
                          <m:t xml:space="preserve">𝑦</m:t>
                        </m:r>
                        <m:r>
                          <m:t xml:space="preserve">,</m:t>
                        </m:r>
                        <m:r>
                          <m:t xml:space="preserve">𝑧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𝑥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𝑦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𝜇</m:t>
                        </m:r>
                      </m:num>
                      <m:den>
                        <m:sSub>
                          <m:e>
                            <m:r>
                              <m:t xml:space="preserve">𝑟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𝜇</m:t>
                        </m:r>
                      </m:num>
                      <m:den>
                        <m:sSub>
                          <m:e>
                            <m:r>
                              <m:t xml:space="preserve">𝑟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TextBox 9"/>
              <p:cNvSpPr txBox="1"/>
              <p:nvPr/>
            </p:nvSpPr>
            <p:spPr>
              <a:xfrm>
                <a:off x="1841040" y="4617360"/>
                <a:ext cx="1800000" cy="49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𝐶</m:t>
                        </m:r>
                      </m:e>
                      <m:sub>
                        <m:r>
                          <m:t xml:space="preserve">𝑗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2DCD-3C6E-4356-88C4-C45B034F91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 расчета орбит большой амплиту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F:\Защита\anim_l.gif"/>
          <p:cNvPicPr/>
          <p:nvPr/>
        </p:nvPicPr>
        <p:blipFill>
          <a:blip r:embed="rId1"/>
          <a:stretch/>
        </p:blipFill>
        <p:spPr>
          <a:xfrm>
            <a:off x="1635840" y="1559880"/>
            <a:ext cx="8481240" cy="424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1EB-0D61-49F7-9953-30A4BA9CAB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биты большой амплиту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Alexander\Downloads\anim1.gif"/>
          <p:cNvPicPr/>
          <p:nvPr/>
        </p:nvPicPr>
        <p:blipFill>
          <a:blip r:embed="rId1"/>
          <a:stretch/>
        </p:blipFill>
        <p:spPr>
          <a:xfrm>
            <a:off x="2743200" y="1451880"/>
            <a:ext cx="6329160" cy="45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331-B3FF-4574-82D0-B5510031CA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иблиографический спис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ев А.П. (1978). Точки либрации в небесной механике и космодинам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1]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сенов С.А., Бобер С.А., Николаева Ю.А., Николаев П.В., Федоренко Ю.В., Компьютерное моделирование движения космического аппарата в окрестности точки либрации L2 системы Солнце-Земл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2] Farquhar Robert. The flight of ISEE-3/ICE - Origins, mission history, and a legacy. — Vol. 49. —1998. — 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3] Roberts C.E. Long term missions at the Sun-Earth libration point L1: Ace, SOHO, and WIND // Advances in the Astronautical Sciences. — 2012. — 01. — Vol. 142. —P. 1263–128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4] Earth observations from DSCOVR epic instrument / Alexander Marshak, Jay Herman, Adam Szabo et al. //Bulletin of the American Meteorological Society. — 2018. — 04. —Vol. 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5] Hechler Martin, Cobos Jordi. Herschel, Planck and GAIA Orbit Design. — 2003. —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6] Space System for Detecting Hazardous Celestial Bodies Approaching Earth from the Daytime Sky (SODA) / A S. Shugarov, B Shustov, S Naroenkov, M Zvereva //Cosmic Research. — 2018. — 07. — Vol. 56. — P. 283–2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7] Spectrum-Roentgen-Gamma - The astrophysical Project at IKI RAN. URL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ea.iki.rssi.ru/SRG/e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3B86-4DC3-4BB9-9725-5BE7EF6BB9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67720" y="277452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F75E-C306-487A-8C3A-41AF464E7F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чки либр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:\Защита\Lib1.png"/>
          <p:cNvPicPr/>
          <p:nvPr/>
        </p:nvPicPr>
        <p:blipFill>
          <a:blip r:embed="rId1"/>
          <a:stretch/>
        </p:blipFill>
        <p:spPr>
          <a:xfrm>
            <a:off x="3221280" y="1368000"/>
            <a:ext cx="5730120" cy="4830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3679560" y="6323040"/>
            <a:ext cx="490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. 1: Точки либрации в системе Солнце-Зем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1184-9323-4F1B-853C-C75728C0C8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орбит вокруг точек либрации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25120" y="2289600"/>
            <a:ext cx="3496320" cy="33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ссии использовавш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биты вокруг 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0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0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Таблица 4"/>
          <p:cNvGraphicFramePr/>
          <p:nvPr/>
        </p:nvGraphicFramePr>
        <p:xfrm>
          <a:off x="1713600" y="3256200"/>
          <a:ext cx="3039120" cy="1805040"/>
        </p:xfrm>
        <a:graphic>
          <a:graphicData uri="http://schemas.openxmlformats.org/drawingml/2006/table">
            <a:tbl>
              <a:tblPr/>
              <a:tblGrid>
                <a:gridCol w="1661760"/>
                <a:gridCol w="1377360"/>
              </a:tblGrid>
              <a:tr h="31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ISEE-3 [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IND [3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CE [3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Herschel [5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HO [3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Planck [5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DSCOVR [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91" name="Content Placeholder 2"/>
          <p:cNvSpPr/>
          <p:nvPr/>
        </p:nvSpPr>
        <p:spPr>
          <a:xfrm>
            <a:off x="6945840" y="2296800"/>
            <a:ext cx="349632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оящие ми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Таблица 6"/>
          <p:cNvGraphicFramePr/>
          <p:nvPr/>
        </p:nvGraphicFramePr>
        <p:xfrm>
          <a:off x="6859080" y="3205440"/>
          <a:ext cx="3047760" cy="1112400"/>
        </p:xfrm>
        <a:graphic>
          <a:graphicData uri="http://schemas.openxmlformats.org/drawingml/2006/table">
            <a:tbl>
              <a:tblPr/>
              <a:tblGrid>
                <a:gridCol w="1213560"/>
                <a:gridCol w="18342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ODA [6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Spectrum-RG [7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Millimet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0F75-08A9-413B-AA8D-A5268F0AF4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892980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следование области применимости метода ограничивающих плоскосте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[1]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крестности точк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истемы Солнце-Зем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роение метода, позволяющего рассчитывать орбиты вне области применимости метода ограничивающих плоск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0AEF-E500-485F-8584-FF9D41340A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:\coordsys2.png"/>
          <p:cNvPicPr/>
          <p:nvPr/>
        </p:nvPicPr>
        <p:blipFill>
          <a:blip r:embed="rId1"/>
          <a:stretch/>
        </p:blipFill>
        <p:spPr>
          <a:xfrm>
            <a:off x="3019320" y="1714680"/>
            <a:ext cx="6295680" cy="4181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3940560" y="5711400"/>
            <a:ext cx="420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. 2: Вращающаяся система коорди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391E-C696-4628-8C14-3A9FEF12CE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6160" y="1524240"/>
            <a:ext cx="5646960" cy="499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Уравнения движения КА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mbria Math"/>
              </a:rPr>
              <a:t> –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  <a:ea typeface="Cambria Math"/>
              </a:rPr>
              <a:t>константа, зависящая от масс Солнца и Земл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  <a:ea typeface="Cambria Math"/>
              </a:rPr>
              <a:t>Решение</a:t>
            </a:r>
            <a:r>
              <a:rPr b="0" lang="ru-RU" sz="3500" spc="-1" strike="noStrike">
                <a:solidFill>
                  <a:srgbClr val="000000"/>
                </a:solidFill>
                <a:latin typeface="Calibri"/>
                <a:ea typeface="Cambria Math"/>
              </a:rPr>
              <a:t>: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368040" y="1524240"/>
            <a:ext cx="533664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Линеаризованная систем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константа, зависящая от масс Солнца, Земли, координат точки л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2575-6A19-4B36-97FB-0DADBC08DE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 ограничивающих плоск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F:\Защита\anim.gif"/>
          <p:cNvPicPr/>
          <p:nvPr/>
        </p:nvPicPr>
        <p:blipFill>
          <a:blip r:embed="rId1"/>
          <a:stretch/>
        </p:blipFill>
        <p:spPr>
          <a:xfrm>
            <a:off x="1810800" y="1516680"/>
            <a:ext cx="8229240" cy="411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305D-2FB8-49E7-832E-3C8FB7EA9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 ограничивающих плоскостей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блемы примен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Alexander\Downloads\smth.gif"/>
          <p:cNvPicPr/>
          <p:nvPr/>
        </p:nvPicPr>
        <p:blipFill>
          <a:blip r:embed="rId1"/>
          <a:stretch/>
        </p:blipFill>
        <p:spPr>
          <a:xfrm>
            <a:off x="3204000" y="1760400"/>
            <a:ext cx="4762080" cy="47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9480-9277-4342-8F99-BD26BD9123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ласть применимости метода плоск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Alexander\Downloads\area.png"/>
          <p:cNvPicPr/>
          <p:nvPr/>
        </p:nvPicPr>
        <p:blipFill>
          <a:blip r:embed="rId1"/>
          <a:stretch/>
        </p:blipFill>
        <p:spPr>
          <a:xfrm>
            <a:off x="2798640" y="1238760"/>
            <a:ext cx="5851080" cy="4389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2529000" y="5616360"/>
            <a:ext cx="660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. 3: Область применимости метода плоскостей вокруг точк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6728760" y="1932480"/>
            <a:ext cx="128880" cy="77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BD0C-FE82-4B21-A28D-DBD4B010E1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9</TotalTime>
  <Application>LibreOffice/7.4.7.2$Linux_X86_64 LibreOffice_project/40$Build-2</Application>
  <AppVersion>15.0000</AppVersion>
  <Words>596</Words>
  <Paragraphs>10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2:02:14Z</dcterms:created>
  <dc:creator>Alexander</dc:creator>
  <dc:description/>
  <dc:language>en-US</dc:language>
  <cp:lastModifiedBy>Stanislav Bober</cp:lastModifiedBy>
  <dcterms:modified xsi:type="dcterms:W3CDTF">2019-06-06T11:54:50Z</dcterms:modified>
  <cp:revision>40</cp:revision>
  <dc:subject/>
  <dc:title>Исследование методики расчета ограниченных орбит большой амплитуды в окрестности точек L1, L2 системы Солнце-Земл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